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5D2-6F3A-4D99-8E32-B9EDEFC5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D4A-12D6-4D28-B2DD-AD103947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29D-3440-423D-874D-BC2672A0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BB7-7F7A-4419-9655-4CD85987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2DF-CD79-481C-897B-B4B6ED22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B25-3D9A-4AC4-8B8E-27FA03F9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F24-23BD-4273-A065-A3BC452D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85B-BA98-4D21-8E34-1D797619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15F-7FB2-4877-A0A9-6F377EDF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E5D-1025-42D2-8D6D-6071B3EE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144-B079-4EC9-9CAC-4513CF96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65C-F563-49A7-84B1-E500E828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6A8E-0EE9-4044-92B5-D4832A26B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3251b1"/>
                </a:gs>
                <a:gs pos="50000">
                  <a:srgbClr val="00279f"/>
                </a:gs>
                <a:gs pos="100000">
                  <a:srgbClr val="3251b1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9760" y="222120"/>
              <a:ext cx="8682120" cy="64072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b66ba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4b66ba"/>
                </a:gs>
                <a:gs pos="5000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pter 16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pitation equilib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olubility of Ag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ith a Ksp of 9.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olubility of Ag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ith a Ksp of 9.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16120" y="554040"/>
            <a:ext cx="339840" cy="214200"/>
          </a:xfrm>
          <a:custGeom>
            <a:avLst/>
            <a:gdLst/>
            <a:ahLst/>
            <a:rect l="l" t="t" r="r" b="b"/>
            <a:pathLst>
              <a:path w="943" h="596">
                <a:moveTo>
                  <a:pt x="7417" y="1687"/>
                </a:moveTo>
                <a:cubicBezTo>
                  <a:pt x="7409" y="1743"/>
                  <a:pt x="7376" y="1834"/>
                  <a:pt x="7342" y="1885"/>
                </a:cubicBezTo>
                <a:cubicBezTo>
                  <a:pt x="7292" y="1960"/>
                  <a:pt x="7268" y="1990"/>
                  <a:pt x="7268" y="2084"/>
                </a:cubicBezTo>
                <a:cubicBezTo>
                  <a:pt x="7268" y="2092"/>
                  <a:pt x="7268" y="2100"/>
                  <a:pt x="7268" y="2108"/>
                </a:cubicBezTo>
                <a:cubicBezTo>
                  <a:pt x="7337" y="2054"/>
                  <a:pt x="7410" y="2006"/>
                  <a:pt x="7466" y="1935"/>
                </a:cubicBezTo>
                <a:cubicBezTo>
                  <a:pt x="7522" y="1864"/>
                  <a:pt x="7575" y="1801"/>
                  <a:pt x="7640" y="1736"/>
                </a:cubicBezTo>
                <a:cubicBezTo>
                  <a:pt x="7630" y="1819"/>
                  <a:pt x="7581" y="1877"/>
                  <a:pt x="7565" y="1960"/>
                </a:cubicBezTo>
                <a:cubicBezTo>
                  <a:pt x="7565" y="2001"/>
                  <a:pt x="7565" y="2009"/>
                  <a:pt x="7565" y="2034"/>
                </a:cubicBezTo>
                <a:cubicBezTo>
                  <a:pt x="7687" y="2034"/>
                  <a:pt x="7723" y="1997"/>
                  <a:pt x="7813" y="1910"/>
                </a:cubicBezTo>
                <a:cubicBezTo>
                  <a:pt x="7925" y="1803"/>
                  <a:pt x="8028" y="1716"/>
                  <a:pt x="8111" y="1588"/>
                </a:cubicBezTo>
                <a:cubicBezTo>
                  <a:pt x="8131" y="1547"/>
                  <a:pt x="8129" y="1531"/>
                  <a:pt x="8161" y="1538"/>
                </a:cubicBezTo>
                <a:cubicBezTo>
                  <a:pt x="8144" y="1621"/>
                  <a:pt x="8126" y="1701"/>
                  <a:pt x="8111" y="1786"/>
                </a:cubicBezTo>
                <a:cubicBezTo>
                  <a:pt x="8088" y="1921"/>
                  <a:pt x="8072" y="1977"/>
                  <a:pt x="8161" y="2084"/>
                </a:cubicBezTo>
                <a:cubicBezTo>
                  <a:pt x="8177" y="2100"/>
                  <a:pt x="8194" y="2117"/>
                  <a:pt x="8210" y="21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59200" y="428760"/>
            <a:ext cx="893880" cy="401400"/>
          </a:xfrm>
          <a:custGeom>
            <a:avLst/>
            <a:gdLst/>
            <a:ahLst/>
            <a:rect l="l" t="t" r="r" b="b"/>
            <a:pathLst>
              <a:path w="2481" h="1117">
                <a:moveTo>
                  <a:pt x="13320" y="1612"/>
                </a:moveTo>
                <a:cubicBezTo>
                  <a:pt x="13312" y="1604"/>
                  <a:pt x="13303" y="1596"/>
                  <a:pt x="13295" y="1588"/>
                </a:cubicBezTo>
                <a:cubicBezTo>
                  <a:pt x="13303" y="1557"/>
                  <a:pt x="13334" y="1519"/>
                  <a:pt x="13370" y="1513"/>
                </a:cubicBezTo>
                <a:cubicBezTo>
                  <a:pt x="13469" y="1497"/>
                  <a:pt x="13577" y="1507"/>
                  <a:pt x="13643" y="1588"/>
                </a:cubicBezTo>
                <a:cubicBezTo>
                  <a:pt x="13720" y="1682"/>
                  <a:pt x="13618" y="1765"/>
                  <a:pt x="13543" y="1811"/>
                </a:cubicBezTo>
                <a:cubicBezTo>
                  <a:pt x="13440" y="1874"/>
                  <a:pt x="13327" y="1926"/>
                  <a:pt x="13221" y="1984"/>
                </a:cubicBezTo>
                <a:cubicBezTo>
                  <a:pt x="13250" y="2028"/>
                  <a:pt x="13351" y="2009"/>
                  <a:pt x="13419" y="2009"/>
                </a:cubicBezTo>
                <a:cubicBezTo>
                  <a:pt x="13524" y="2009"/>
                  <a:pt x="13620" y="1998"/>
                  <a:pt x="13717" y="2034"/>
                </a:cubicBezTo>
              </a:path>
              <a:path w="2481" h="1117">
                <a:moveTo>
                  <a:pt x="14436" y="1414"/>
                </a:moveTo>
                <a:cubicBezTo>
                  <a:pt x="14370" y="1363"/>
                  <a:pt x="14352" y="1395"/>
                  <a:pt x="14288" y="1439"/>
                </a:cubicBezTo>
                <a:cubicBezTo>
                  <a:pt x="14164" y="1524"/>
                  <a:pt x="14078" y="1641"/>
                  <a:pt x="14039" y="1786"/>
                </a:cubicBezTo>
                <a:cubicBezTo>
                  <a:pt x="13992" y="1963"/>
                  <a:pt x="14049" y="2033"/>
                  <a:pt x="14163" y="2158"/>
                </a:cubicBezTo>
              </a:path>
              <a:path w="2481" h="1117">
                <a:moveTo>
                  <a:pt x="14610" y="1712"/>
                </a:moveTo>
                <a:cubicBezTo>
                  <a:pt x="14579" y="1762"/>
                  <a:pt x="14566" y="1825"/>
                  <a:pt x="14536" y="1885"/>
                </a:cubicBezTo>
                <a:cubicBezTo>
                  <a:pt x="14513" y="1931"/>
                  <a:pt x="14487" y="1965"/>
                  <a:pt x="14461" y="2009"/>
                </a:cubicBezTo>
                <a:cubicBezTo>
                  <a:pt x="14515" y="1956"/>
                  <a:pt x="14565" y="1896"/>
                  <a:pt x="14610" y="1836"/>
                </a:cubicBezTo>
                <a:cubicBezTo>
                  <a:pt x="14668" y="1759"/>
                  <a:pt x="14687" y="1720"/>
                  <a:pt x="14759" y="1662"/>
                </a:cubicBezTo>
                <a:cubicBezTo>
                  <a:pt x="14747" y="1724"/>
                  <a:pt x="14698" y="1775"/>
                  <a:pt x="14684" y="1836"/>
                </a:cubicBezTo>
                <a:cubicBezTo>
                  <a:pt x="14670" y="1899"/>
                  <a:pt x="14713" y="1977"/>
                  <a:pt x="14784" y="1960"/>
                </a:cubicBezTo>
                <a:cubicBezTo>
                  <a:pt x="14869" y="1940"/>
                  <a:pt x="14972" y="1818"/>
                  <a:pt x="15032" y="1761"/>
                </a:cubicBezTo>
                <a:cubicBezTo>
                  <a:pt x="15070" y="1724"/>
                  <a:pt x="15150" y="1517"/>
                  <a:pt x="15106" y="1637"/>
                </a:cubicBezTo>
                <a:cubicBezTo>
                  <a:pt x="15069" y="1738"/>
                  <a:pt x="15032" y="1851"/>
                  <a:pt x="15056" y="1960"/>
                </a:cubicBezTo>
                <a:cubicBezTo>
                  <a:pt x="15081" y="2009"/>
                  <a:pt x="15090" y="2026"/>
                  <a:pt x="15106" y="2059"/>
                </a:cubicBezTo>
              </a:path>
              <a:path w="2481" h="1117">
                <a:moveTo>
                  <a:pt x="15553" y="1191"/>
                </a:moveTo>
                <a:cubicBezTo>
                  <a:pt x="15583" y="1343"/>
                  <a:pt x="15623" y="1483"/>
                  <a:pt x="15652" y="1637"/>
                </a:cubicBezTo>
                <a:cubicBezTo>
                  <a:pt x="15684" y="1803"/>
                  <a:pt x="15753" y="2005"/>
                  <a:pt x="15652" y="2158"/>
                </a:cubicBezTo>
                <a:cubicBezTo>
                  <a:pt x="15573" y="2236"/>
                  <a:pt x="15543" y="2265"/>
                  <a:pt x="15478" y="23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633240"/>
            <a:ext cx="358560" cy="216000"/>
          </a:xfrm>
          <a:custGeom>
            <a:avLst/>
            <a:gdLst/>
            <a:ahLst/>
            <a:rect l="l" t="t" r="r" b="b"/>
            <a:pathLst>
              <a:path w="994" h="596">
                <a:moveTo>
                  <a:pt x="18901" y="1836"/>
                </a:moveTo>
                <a:cubicBezTo>
                  <a:pt x="18927" y="1801"/>
                  <a:pt x="18926" y="1805"/>
                  <a:pt x="18926" y="1761"/>
                </a:cubicBezTo>
                <a:cubicBezTo>
                  <a:pt x="18895" y="1782"/>
                  <a:pt x="18841" y="1883"/>
                  <a:pt x="18802" y="1935"/>
                </a:cubicBezTo>
                <a:cubicBezTo>
                  <a:pt x="18750" y="2005"/>
                  <a:pt x="18661" y="2101"/>
                  <a:pt x="18628" y="2183"/>
                </a:cubicBezTo>
                <a:cubicBezTo>
                  <a:pt x="18628" y="2191"/>
                  <a:pt x="18628" y="2200"/>
                  <a:pt x="18628" y="2208"/>
                </a:cubicBezTo>
                <a:cubicBezTo>
                  <a:pt x="18713" y="2196"/>
                  <a:pt x="18776" y="2135"/>
                  <a:pt x="18852" y="2084"/>
                </a:cubicBezTo>
                <a:cubicBezTo>
                  <a:pt x="18956" y="2014"/>
                  <a:pt x="19016" y="1925"/>
                  <a:pt x="19100" y="1836"/>
                </a:cubicBezTo>
                <a:cubicBezTo>
                  <a:pt x="19139" y="1794"/>
                  <a:pt x="19151" y="1773"/>
                  <a:pt x="19199" y="1761"/>
                </a:cubicBezTo>
                <a:cubicBezTo>
                  <a:pt x="19199" y="1835"/>
                  <a:pt x="19182" y="1889"/>
                  <a:pt x="19174" y="1960"/>
                </a:cubicBezTo>
                <a:cubicBezTo>
                  <a:pt x="19165" y="2037"/>
                  <a:pt x="19136" y="2095"/>
                  <a:pt x="19174" y="2158"/>
                </a:cubicBezTo>
                <a:cubicBezTo>
                  <a:pt x="19263" y="2158"/>
                  <a:pt x="19296" y="2134"/>
                  <a:pt x="19372" y="2084"/>
                </a:cubicBezTo>
                <a:cubicBezTo>
                  <a:pt x="19470" y="2020"/>
                  <a:pt x="19520" y="1943"/>
                  <a:pt x="19596" y="1860"/>
                </a:cubicBezTo>
                <a:cubicBezTo>
                  <a:pt x="19604" y="1852"/>
                  <a:pt x="19613" y="1844"/>
                  <a:pt x="19621" y="1836"/>
                </a:cubicBezTo>
                <a:cubicBezTo>
                  <a:pt x="19606" y="1927"/>
                  <a:pt x="19569" y="2018"/>
                  <a:pt x="19546" y="2108"/>
                </a:cubicBezTo>
                <a:cubicBezTo>
                  <a:pt x="19518" y="2217"/>
                  <a:pt x="19530" y="2256"/>
                  <a:pt x="19571" y="23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73160" y="884160"/>
            <a:ext cx="1741680" cy="500040"/>
          </a:xfrm>
          <a:custGeom>
            <a:avLst/>
            <a:gdLst/>
            <a:ahLst/>
            <a:rect l="l" t="t" r="r" b="b"/>
            <a:pathLst>
              <a:path w="4838" h="1390">
                <a:moveTo>
                  <a:pt x="6499" y="2654"/>
                </a:moveTo>
                <a:cubicBezTo>
                  <a:pt x="6477" y="2787"/>
                  <a:pt x="6403" y="2909"/>
                  <a:pt x="6325" y="3026"/>
                </a:cubicBezTo>
                <a:cubicBezTo>
                  <a:pt x="6263" y="3118"/>
                  <a:pt x="6166" y="3221"/>
                  <a:pt x="6127" y="3324"/>
                </a:cubicBezTo>
                <a:cubicBezTo>
                  <a:pt x="6127" y="3332"/>
                  <a:pt x="6127" y="3341"/>
                  <a:pt x="6127" y="3349"/>
                </a:cubicBezTo>
                <a:cubicBezTo>
                  <a:pt x="6144" y="3280"/>
                  <a:pt x="6217" y="3165"/>
                  <a:pt x="6251" y="3101"/>
                </a:cubicBezTo>
                <a:cubicBezTo>
                  <a:pt x="6340" y="2934"/>
                  <a:pt x="6423" y="2766"/>
                  <a:pt x="6524" y="2604"/>
                </a:cubicBezTo>
                <a:cubicBezTo>
                  <a:pt x="6561" y="2545"/>
                  <a:pt x="6599" y="2504"/>
                  <a:pt x="6648" y="2456"/>
                </a:cubicBezTo>
                <a:cubicBezTo>
                  <a:pt x="6712" y="2536"/>
                  <a:pt x="6719" y="2601"/>
                  <a:pt x="6722" y="2704"/>
                </a:cubicBezTo>
                <a:cubicBezTo>
                  <a:pt x="6727" y="2915"/>
                  <a:pt x="6683" y="3142"/>
                  <a:pt x="6648" y="3349"/>
                </a:cubicBezTo>
              </a:path>
              <a:path w="4838" h="1390">
                <a:moveTo>
                  <a:pt x="6251" y="3175"/>
                </a:moveTo>
                <a:cubicBezTo>
                  <a:pt x="6325" y="3160"/>
                  <a:pt x="6397" y="3141"/>
                  <a:pt x="6474" y="3125"/>
                </a:cubicBezTo>
                <a:cubicBezTo>
                  <a:pt x="6589" y="3103"/>
                  <a:pt x="6621" y="3095"/>
                  <a:pt x="6697" y="3101"/>
                </a:cubicBezTo>
              </a:path>
              <a:path w="4838" h="1390">
                <a:moveTo>
                  <a:pt x="7045" y="3125"/>
                </a:moveTo>
                <a:cubicBezTo>
                  <a:pt x="6990" y="3145"/>
                  <a:pt x="6901" y="3155"/>
                  <a:pt x="6896" y="3225"/>
                </a:cubicBezTo>
                <a:cubicBezTo>
                  <a:pt x="6889" y="3325"/>
                  <a:pt x="6907" y="3343"/>
                  <a:pt x="6945" y="3423"/>
                </a:cubicBezTo>
                <a:cubicBezTo>
                  <a:pt x="6975" y="3486"/>
                  <a:pt x="6988" y="3603"/>
                  <a:pt x="6970" y="3671"/>
                </a:cubicBezTo>
                <a:cubicBezTo>
                  <a:pt x="6958" y="3715"/>
                  <a:pt x="6872" y="3790"/>
                  <a:pt x="6821" y="3770"/>
                </a:cubicBezTo>
                <a:cubicBezTo>
                  <a:pt x="6751" y="3743"/>
                  <a:pt x="6775" y="3666"/>
                  <a:pt x="6796" y="3621"/>
                </a:cubicBezTo>
                <a:cubicBezTo>
                  <a:pt x="6823" y="3567"/>
                  <a:pt x="6835" y="3547"/>
                  <a:pt x="6871" y="3522"/>
                </a:cubicBezTo>
              </a:path>
              <a:path w="4838" h="1390">
                <a:moveTo>
                  <a:pt x="7367" y="3299"/>
                </a:moveTo>
                <a:cubicBezTo>
                  <a:pt x="7408" y="3299"/>
                  <a:pt x="7450" y="3299"/>
                  <a:pt x="7491" y="3299"/>
                </a:cubicBezTo>
                <a:cubicBezTo>
                  <a:pt x="7491" y="3359"/>
                  <a:pt x="7481" y="3398"/>
                  <a:pt x="7466" y="3448"/>
                </a:cubicBezTo>
                <a:cubicBezTo>
                  <a:pt x="7457" y="3477"/>
                  <a:pt x="7448" y="3493"/>
                  <a:pt x="7441" y="3522"/>
                </a:cubicBezTo>
                <a:cubicBezTo>
                  <a:pt x="7523" y="3522"/>
                  <a:pt x="7585" y="3517"/>
                  <a:pt x="7665" y="3497"/>
                </a:cubicBezTo>
              </a:path>
              <a:path w="4838" h="1390">
                <a:moveTo>
                  <a:pt x="8409" y="2555"/>
                </a:moveTo>
                <a:cubicBezTo>
                  <a:pt x="8409" y="2504"/>
                  <a:pt x="8399" y="2486"/>
                  <a:pt x="8334" y="2505"/>
                </a:cubicBezTo>
                <a:cubicBezTo>
                  <a:pt x="8232" y="2536"/>
                  <a:pt x="8086" y="2719"/>
                  <a:pt x="8037" y="2803"/>
                </a:cubicBezTo>
                <a:cubicBezTo>
                  <a:pt x="7966" y="2925"/>
                  <a:pt x="7918" y="3135"/>
                  <a:pt x="8037" y="3249"/>
                </a:cubicBezTo>
                <a:cubicBezTo>
                  <a:pt x="8117" y="3326"/>
                  <a:pt x="8235" y="3336"/>
                  <a:pt x="8334" y="3349"/>
                </a:cubicBezTo>
              </a:path>
              <a:path w="4838" h="1390">
                <a:moveTo>
                  <a:pt x="8756" y="3274"/>
                </a:moveTo>
                <a:cubicBezTo>
                  <a:pt x="8741" y="3323"/>
                  <a:pt x="8711" y="3420"/>
                  <a:pt x="8731" y="3373"/>
                </a:cubicBezTo>
                <a:cubicBezTo>
                  <a:pt x="8764" y="3296"/>
                  <a:pt x="8810" y="3191"/>
                  <a:pt x="8855" y="3125"/>
                </a:cubicBezTo>
                <a:cubicBezTo>
                  <a:pt x="8906" y="3051"/>
                  <a:pt x="8944" y="3021"/>
                  <a:pt x="9029" y="3001"/>
                </a:cubicBezTo>
                <a:cubicBezTo>
                  <a:pt x="9037" y="3001"/>
                  <a:pt x="9046" y="3001"/>
                  <a:pt x="9054" y="3001"/>
                </a:cubicBezTo>
              </a:path>
              <a:path w="4838" h="1390">
                <a:moveTo>
                  <a:pt x="9500" y="2704"/>
                </a:moveTo>
                <a:cubicBezTo>
                  <a:pt x="9406" y="2832"/>
                  <a:pt x="9302" y="2940"/>
                  <a:pt x="9277" y="3101"/>
                </a:cubicBezTo>
                <a:cubicBezTo>
                  <a:pt x="9257" y="3231"/>
                  <a:pt x="9309" y="3336"/>
                  <a:pt x="9451" y="3324"/>
                </a:cubicBezTo>
                <a:cubicBezTo>
                  <a:pt x="9622" y="3310"/>
                  <a:pt x="9723" y="3186"/>
                  <a:pt x="9748" y="3026"/>
                </a:cubicBezTo>
                <a:cubicBezTo>
                  <a:pt x="9765" y="2921"/>
                  <a:pt x="9733" y="2773"/>
                  <a:pt x="9649" y="2704"/>
                </a:cubicBezTo>
                <a:cubicBezTo>
                  <a:pt x="9599" y="2679"/>
                  <a:pt x="9583" y="2671"/>
                  <a:pt x="9550" y="2704"/>
                </a:cubicBezTo>
              </a:path>
              <a:path w="4838" h="1390">
                <a:moveTo>
                  <a:pt x="9996" y="3349"/>
                </a:moveTo>
                <a:cubicBezTo>
                  <a:pt x="9969" y="3368"/>
                  <a:pt x="9885" y="3420"/>
                  <a:pt x="9922" y="3473"/>
                </a:cubicBezTo>
                <a:cubicBezTo>
                  <a:pt x="9961" y="3528"/>
                  <a:pt x="10080" y="3547"/>
                  <a:pt x="10145" y="3522"/>
                </a:cubicBezTo>
                <a:cubicBezTo>
                  <a:pt x="10208" y="3498"/>
                  <a:pt x="10293" y="3436"/>
                  <a:pt x="10319" y="3373"/>
                </a:cubicBezTo>
                <a:cubicBezTo>
                  <a:pt x="10319" y="3365"/>
                  <a:pt x="10319" y="3357"/>
                  <a:pt x="10319" y="3349"/>
                </a:cubicBezTo>
                <a:cubicBezTo>
                  <a:pt x="10257" y="3324"/>
                  <a:pt x="10196" y="3361"/>
                  <a:pt x="10145" y="3423"/>
                </a:cubicBezTo>
                <a:cubicBezTo>
                  <a:pt x="10085" y="3496"/>
                  <a:pt x="10017" y="3673"/>
                  <a:pt x="10046" y="3770"/>
                </a:cubicBezTo>
                <a:cubicBezTo>
                  <a:pt x="10063" y="3795"/>
                  <a:pt x="10079" y="3820"/>
                  <a:pt x="10096" y="3845"/>
                </a:cubicBezTo>
              </a:path>
              <a:path w="4838" h="1390">
                <a:moveTo>
                  <a:pt x="5631" y="2828"/>
                </a:moveTo>
                <a:cubicBezTo>
                  <a:pt x="5642" y="2852"/>
                  <a:pt x="5712" y="2768"/>
                  <a:pt x="5755" y="2729"/>
                </a:cubicBezTo>
                <a:cubicBezTo>
                  <a:pt x="5812" y="2677"/>
                  <a:pt x="5873" y="2635"/>
                  <a:pt x="5928" y="2580"/>
                </a:cubicBezTo>
                <a:cubicBezTo>
                  <a:pt x="5885" y="2666"/>
                  <a:pt x="5840" y="2756"/>
                  <a:pt x="5829" y="2853"/>
                </a:cubicBezTo>
                <a:cubicBezTo>
                  <a:pt x="5817" y="2960"/>
                  <a:pt x="5815" y="3069"/>
                  <a:pt x="5804" y="3175"/>
                </a:cubicBezTo>
              </a:path>
              <a:path w="4838" h="1390">
                <a:moveTo>
                  <a:pt x="5482" y="3473"/>
                </a:moveTo>
                <a:cubicBezTo>
                  <a:pt x="5572" y="3427"/>
                  <a:pt x="5656" y="3398"/>
                  <a:pt x="5755" y="3373"/>
                </a:cubicBezTo>
                <a:cubicBezTo>
                  <a:pt x="5873" y="3343"/>
                  <a:pt x="5986" y="3353"/>
                  <a:pt x="6102" y="33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6040" y="1017720"/>
            <a:ext cx="419040" cy="223560"/>
          </a:xfrm>
          <a:custGeom>
            <a:avLst/>
            <a:gdLst/>
            <a:ahLst/>
            <a:rect l="l" t="t" r="r" b="b"/>
            <a:pathLst>
              <a:path w="1167" h="621">
                <a:moveTo>
                  <a:pt x="10988" y="3076"/>
                </a:moveTo>
                <a:cubicBezTo>
                  <a:pt x="11254" y="3076"/>
                  <a:pt x="11522" y="3085"/>
                  <a:pt x="11782" y="3051"/>
                </a:cubicBezTo>
                <a:cubicBezTo>
                  <a:pt x="11834" y="3051"/>
                  <a:pt x="11852" y="3050"/>
                  <a:pt x="11881" y="3026"/>
                </a:cubicBezTo>
                <a:cubicBezTo>
                  <a:pt x="11865" y="2971"/>
                  <a:pt x="11847" y="2936"/>
                  <a:pt x="11782" y="2902"/>
                </a:cubicBezTo>
                <a:cubicBezTo>
                  <a:pt x="11689" y="2853"/>
                  <a:pt x="11579" y="2860"/>
                  <a:pt x="11485" y="2828"/>
                </a:cubicBezTo>
                <a:cubicBezTo>
                  <a:pt x="11410" y="2828"/>
                  <a:pt x="11535" y="2818"/>
                  <a:pt x="11609" y="2828"/>
                </a:cubicBezTo>
                <a:cubicBezTo>
                  <a:pt x="11760" y="2847"/>
                  <a:pt x="11921" y="2878"/>
                  <a:pt x="12055" y="2952"/>
                </a:cubicBezTo>
                <a:cubicBezTo>
                  <a:pt x="12168" y="3014"/>
                  <a:pt x="12186" y="3096"/>
                  <a:pt x="12105" y="3200"/>
                </a:cubicBezTo>
                <a:cubicBezTo>
                  <a:pt x="12022" y="3306"/>
                  <a:pt x="11892" y="3375"/>
                  <a:pt x="11782" y="34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87920" y="847800"/>
            <a:ext cx="876240" cy="509400"/>
          </a:xfrm>
          <a:custGeom>
            <a:avLst/>
            <a:gdLst/>
            <a:ahLst/>
            <a:rect l="l" t="t" r="r" b="b"/>
            <a:pathLst>
              <a:path w="2432" h="1415">
                <a:moveTo>
                  <a:pt x="13345" y="2679"/>
                </a:moveTo>
                <a:cubicBezTo>
                  <a:pt x="13379" y="2658"/>
                  <a:pt x="13474" y="2629"/>
                  <a:pt x="13519" y="2654"/>
                </a:cubicBezTo>
                <a:cubicBezTo>
                  <a:pt x="13608" y="2704"/>
                  <a:pt x="13667" y="2836"/>
                  <a:pt x="13618" y="2927"/>
                </a:cubicBezTo>
                <a:cubicBezTo>
                  <a:pt x="13534" y="3084"/>
                  <a:pt x="13411" y="3168"/>
                  <a:pt x="13246" y="3225"/>
                </a:cubicBezTo>
                <a:cubicBezTo>
                  <a:pt x="13165" y="3253"/>
                  <a:pt x="13092" y="3291"/>
                  <a:pt x="13022" y="3249"/>
                </a:cubicBezTo>
                <a:cubicBezTo>
                  <a:pt x="13064" y="3176"/>
                  <a:pt x="13105" y="3118"/>
                  <a:pt x="13196" y="3101"/>
                </a:cubicBezTo>
                <a:cubicBezTo>
                  <a:pt x="13309" y="3080"/>
                  <a:pt x="13425" y="3094"/>
                  <a:pt x="13519" y="3150"/>
                </a:cubicBezTo>
                <a:cubicBezTo>
                  <a:pt x="13588" y="3196"/>
                  <a:pt x="13608" y="3209"/>
                  <a:pt x="13643" y="3249"/>
                </a:cubicBezTo>
              </a:path>
              <a:path w="2432" h="1415">
                <a:moveTo>
                  <a:pt x="14114" y="2828"/>
                </a:moveTo>
                <a:cubicBezTo>
                  <a:pt x="14167" y="2810"/>
                  <a:pt x="14127" y="2910"/>
                  <a:pt x="14114" y="2977"/>
                </a:cubicBezTo>
                <a:cubicBezTo>
                  <a:pt x="14091" y="3096"/>
                  <a:pt x="14046" y="3204"/>
                  <a:pt x="14039" y="3324"/>
                </a:cubicBezTo>
                <a:cubicBezTo>
                  <a:pt x="14039" y="3332"/>
                  <a:pt x="14039" y="3341"/>
                  <a:pt x="14039" y="3349"/>
                </a:cubicBezTo>
                <a:cubicBezTo>
                  <a:pt x="14087" y="3333"/>
                  <a:pt x="14116" y="3260"/>
                  <a:pt x="14139" y="3200"/>
                </a:cubicBezTo>
                <a:cubicBezTo>
                  <a:pt x="14187" y="3074"/>
                  <a:pt x="14205" y="2934"/>
                  <a:pt x="14238" y="2803"/>
                </a:cubicBezTo>
                <a:cubicBezTo>
                  <a:pt x="14258" y="2723"/>
                  <a:pt x="14265" y="2689"/>
                  <a:pt x="14312" y="2629"/>
                </a:cubicBezTo>
                <a:cubicBezTo>
                  <a:pt x="14378" y="2695"/>
                  <a:pt x="14389" y="2760"/>
                  <a:pt x="14412" y="2853"/>
                </a:cubicBezTo>
                <a:cubicBezTo>
                  <a:pt x="14447" y="2992"/>
                  <a:pt x="14436" y="3132"/>
                  <a:pt x="14436" y="3274"/>
                </a:cubicBezTo>
                <a:cubicBezTo>
                  <a:pt x="14436" y="3291"/>
                  <a:pt x="14436" y="3307"/>
                  <a:pt x="14436" y="3324"/>
                </a:cubicBezTo>
              </a:path>
              <a:path w="2432" h="1415">
                <a:moveTo>
                  <a:pt x="14039" y="3225"/>
                </a:moveTo>
                <a:cubicBezTo>
                  <a:pt x="14069" y="3164"/>
                  <a:pt x="14189" y="3156"/>
                  <a:pt x="14263" y="3150"/>
                </a:cubicBezTo>
                <a:cubicBezTo>
                  <a:pt x="14405" y="3138"/>
                  <a:pt x="14542" y="3105"/>
                  <a:pt x="14684" y="3101"/>
                </a:cubicBezTo>
                <a:cubicBezTo>
                  <a:pt x="14742" y="3099"/>
                  <a:pt x="14800" y="3101"/>
                  <a:pt x="14858" y="3101"/>
                </a:cubicBezTo>
                <a:cubicBezTo>
                  <a:pt x="14845" y="3138"/>
                  <a:pt x="14821" y="3117"/>
                  <a:pt x="14784" y="3150"/>
                </a:cubicBezTo>
                <a:cubicBezTo>
                  <a:pt x="14733" y="3196"/>
                  <a:pt x="14712" y="3229"/>
                  <a:pt x="14709" y="3299"/>
                </a:cubicBezTo>
                <a:cubicBezTo>
                  <a:pt x="14705" y="3396"/>
                  <a:pt x="14754" y="3473"/>
                  <a:pt x="14759" y="3572"/>
                </a:cubicBezTo>
                <a:cubicBezTo>
                  <a:pt x="14762" y="3634"/>
                  <a:pt x="14722" y="3741"/>
                  <a:pt x="14660" y="3770"/>
                </a:cubicBezTo>
                <a:cubicBezTo>
                  <a:pt x="14643" y="3770"/>
                  <a:pt x="14627" y="3770"/>
                  <a:pt x="14610" y="3770"/>
                </a:cubicBezTo>
                <a:cubicBezTo>
                  <a:pt x="14564" y="3755"/>
                  <a:pt x="14578" y="3690"/>
                  <a:pt x="14610" y="3646"/>
                </a:cubicBezTo>
                <a:cubicBezTo>
                  <a:pt x="14655" y="3584"/>
                  <a:pt x="14724" y="3541"/>
                  <a:pt x="14784" y="3497"/>
                </a:cubicBezTo>
              </a:path>
              <a:path w="2432" h="1415">
                <a:moveTo>
                  <a:pt x="15081" y="2555"/>
                </a:moveTo>
                <a:cubicBezTo>
                  <a:pt x="15137" y="2555"/>
                  <a:pt x="15179" y="2537"/>
                  <a:pt x="15230" y="2530"/>
                </a:cubicBezTo>
                <a:cubicBezTo>
                  <a:pt x="15311" y="2519"/>
                  <a:pt x="15372" y="2525"/>
                  <a:pt x="15453" y="2505"/>
                </a:cubicBezTo>
              </a:path>
              <a:path w="2432" h="1415">
                <a:moveTo>
                  <a:pt x="15329" y="2356"/>
                </a:moveTo>
                <a:cubicBezTo>
                  <a:pt x="15238" y="2430"/>
                  <a:pt x="15210" y="2460"/>
                  <a:pt x="15205" y="2580"/>
                </a:cubicBezTo>
                <a:cubicBezTo>
                  <a:pt x="15205" y="2663"/>
                  <a:pt x="15207" y="2697"/>
                  <a:pt x="15230" y="27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03920" y="1009800"/>
            <a:ext cx="162000" cy="187200"/>
          </a:xfrm>
          <a:custGeom>
            <a:avLst/>
            <a:gdLst/>
            <a:ahLst/>
            <a:rect l="l" t="t" r="r" b="b"/>
            <a:pathLst>
              <a:path w="448" h="522">
                <a:moveTo>
                  <a:pt x="16123" y="3051"/>
                </a:moveTo>
                <a:cubicBezTo>
                  <a:pt x="16235" y="3074"/>
                  <a:pt x="16332" y="3076"/>
                  <a:pt x="16446" y="3076"/>
                </a:cubicBezTo>
                <a:cubicBezTo>
                  <a:pt x="16504" y="3076"/>
                  <a:pt x="16529" y="3076"/>
                  <a:pt x="16570" y="3076"/>
                </a:cubicBezTo>
              </a:path>
              <a:path w="448" h="522">
                <a:moveTo>
                  <a:pt x="16495" y="2803"/>
                </a:moveTo>
                <a:cubicBezTo>
                  <a:pt x="16375" y="2872"/>
                  <a:pt x="16306" y="2905"/>
                  <a:pt x="16297" y="3051"/>
                </a:cubicBezTo>
                <a:cubicBezTo>
                  <a:pt x="16290" y="3169"/>
                  <a:pt x="16318" y="3225"/>
                  <a:pt x="16371" y="33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32680" y="946080"/>
            <a:ext cx="1706400" cy="455760"/>
          </a:xfrm>
          <a:custGeom>
            <a:avLst/>
            <a:gdLst/>
            <a:ahLst/>
            <a:rect l="l" t="t" r="r" b="b"/>
            <a:pathLst>
              <a:path w="4738" h="1266">
                <a:moveTo>
                  <a:pt x="17413" y="2853"/>
                </a:moveTo>
                <a:cubicBezTo>
                  <a:pt x="17487" y="2842"/>
                  <a:pt x="17543" y="2795"/>
                  <a:pt x="17611" y="2753"/>
                </a:cubicBezTo>
                <a:cubicBezTo>
                  <a:pt x="17679" y="2711"/>
                  <a:pt x="17700" y="2672"/>
                  <a:pt x="17760" y="2629"/>
                </a:cubicBezTo>
                <a:cubicBezTo>
                  <a:pt x="17699" y="2706"/>
                  <a:pt x="17674" y="2811"/>
                  <a:pt x="17636" y="2902"/>
                </a:cubicBezTo>
                <a:cubicBezTo>
                  <a:pt x="17589" y="3017"/>
                  <a:pt x="17565" y="3129"/>
                  <a:pt x="17537" y="3249"/>
                </a:cubicBezTo>
              </a:path>
              <a:path w="4738" h="1266">
                <a:moveTo>
                  <a:pt x="17314" y="3373"/>
                </a:moveTo>
                <a:cubicBezTo>
                  <a:pt x="17355" y="3291"/>
                  <a:pt x="17451" y="3335"/>
                  <a:pt x="17537" y="3324"/>
                </a:cubicBezTo>
                <a:cubicBezTo>
                  <a:pt x="17697" y="3304"/>
                  <a:pt x="17846" y="3299"/>
                  <a:pt x="18008" y="3299"/>
                </a:cubicBezTo>
              </a:path>
              <a:path w="4738" h="1266">
                <a:moveTo>
                  <a:pt x="18777" y="2853"/>
                </a:moveTo>
                <a:cubicBezTo>
                  <a:pt x="18660" y="2774"/>
                  <a:pt x="18605" y="2812"/>
                  <a:pt x="18479" y="2877"/>
                </a:cubicBezTo>
                <a:cubicBezTo>
                  <a:pt x="18363" y="2937"/>
                  <a:pt x="18217" y="3025"/>
                  <a:pt x="18231" y="3175"/>
                </a:cubicBezTo>
                <a:cubicBezTo>
                  <a:pt x="18246" y="3329"/>
                  <a:pt x="18408" y="3362"/>
                  <a:pt x="18529" y="3423"/>
                </a:cubicBezTo>
              </a:path>
              <a:path w="4738" h="1266">
                <a:moveTo>
                  <a:pt x="18976" y="3398"/>
                </a:moveTo>
                <a:cubicBezTo>
                  <a:pt x="18941" y="3457"/>
                  <a:pt x="18940" y="3484"/>
                  <a:pt x="18901" y="3497"/>
                </a:cubicBezTo>
                <a:cubicBezTo>
                  <a:pt x="18942" y="3484"/>
                  <a:pt x="18941" y="3441"/>
                  <a:pt x="18976" y="3398"/>
                </a:cubicBezTo>
                <a:cubicBezTo>
                  <a:pt x="19030" y="3332"/>
                  <a:pt x="19189" y="3128"/>
                  <a:pt x="19273" y="3101"/>
                </a:cubicBezTo>
                <a:cubicBezTo>
                  <a:pt x="19290" y="3101"/>
                  <a:pt x="19306" y="3101"/>
                  <a:pt x="19323" y="3101"/>
                </a:cubicBezTo>
              </a:path>
              <a:path w="4738" h="1266">
                <a:moveTo>
                  <a:pt x="19844" y="3076"/>
                </a:moveTo>
                <a:cubicBezTo>
                  <a:pt x="19789" y="3027"/>
                  <a:pt x="19706" y="2960"/>
                  <a:pt x="19621" y="3001"/>
                </a:cubicBezTo>
                <a:cubicBezTo>
                  <a:pt x="19524" y="3048"/>
                  <a:pt x="19463" y="3175"/>
                  <a:pt x="19472" y="3274"/>
                </a:cubicBezTo>
                <a:cubicBezTo>
                  <a:pt x="19485" y="3410"/>
                  <a:pt x="19563" y="3478"/>
                  <a:pt x="19695" y="3497"/>
                </a:cubicBezTo>
                <a:cubicBezTo>
                  <a:pt x="19830" y="3516"/>
                  <a:pt x="19949" y="3434"/>
                  <a:pt x="20017" y="3324"/>
                </a:cubicBezTo>
                <a:cubicBezTo>
                  <a:pt x="20087" y="3210"/>
                  <a:pt x="20095" y="3028"/>
                  <a:pt x="20042" y="2902"/>
                </a:cubicBezTo>
                <a:cubicBezTo>
                  <a:pt x="20007" y="2817"/>
                  <a:pt x="19979" y="2804"/>
                  <a:pt x="19918" y="2828"/>
                </a:cubicBezTo>
              </a:path>
              <a:path w="4738" h="1266">
                <a:moveTo>
                  <a:pt x="20166" y="3448"/>
                </a:moveTo>
                <a:cubicBezTo>
                  <a:pt x="20148" y="3463"/>
                  <a:pt x="20074" y="3533"/>
                  <a:pt x="20117" y="3572"/>
                </a:cubicBezTo>
                <a:cubicBezTo>
                  <a:pt x="20168" y="3619"/>
                  <a:pt x="20325" y="3609"/>
                  <a:pt x="20389" y="3597"/>
                </a:cubicBezTo>
                <a:cubicBezTo>
                  <a:pt x="20440" y="3588"/>
                  <a:pt x="20538" y="3552"/>
                  <a:pt x="20563" y="3497"/>
                </a:cubicBezTo>
                <a:cubicBezTo>
                  <a:pt x="20563" y="3489"/>
                  <a:pt x="20563" y="3481"/>
                  <a:pt x="20563" y="3473"/>
                </a:cubicBezTo>
                <a:cubicBezTo>
                  <a:pt x="20517" y="3484"/>
                  <a:pt x="20476" y="3519"/>
                  <a:pt x="20464" y="3572"/>
                </a:cubicBezTo>
                <a:cubicBezTo>
                  <a:pt x="20443" y="3661"/>
                  <a:pt x="20488" y="3790"/>
                  <a:pt x="20563" y="3845"/>
                </a:cubicBezTo>
                <a:cubicBezTo>
                  <a:pt x="20630" y="3867"/>
                  <a:pt x="20648" y="3872"/>
                  <a:pt x="20687" y="3894"/>
                </a:cubicBezTo>
              </a:path>
              <a:path w="4738" h="1266">
                <a:moveTo>
                  <a:pt x="20910" y="2977"/>
                </a:moveTo>
                <a:cubicBezTo>
                  <a:pt x="20930" y="2898"/>
                  <a:pt x="20949" y="2941"/>
                  <a:pt x="21010" y="2952"/>
                </a:cubicBezTo>
                <a:cubicBezTo>
                  <a:pt x="21067" y="2962"/>
                  <a:pt x="21125" y="2970"/>
                  <a:pt x="21183" y="2977"/>
                </a:cubicBezTo>
              </a:path>
              <a:path w="4738" h="1266">
                <a:moveTo>
                  <a:pt x="21605" y="2753"/>
                </a:moveTo>
                <a:cubicBezTo>
                  <a:pt x="21645" y="2776"/>
                  <a:pt x="21696" y="2806"/>
                  <a:pt x="21729" y="2828"/>
                </a:cubicBezTo>
                <a:cubicBezTo>
                  <a:pt x="21778" y="2861"/>
                  <a:pt x="21756" y="2937"/>
                  <a:pt x="21729" y="2977"/>
                </a:cubicBezTo>
                <a:cubicBezTo>
                  <a:pt x="21689" y="3036"/>
                  <a:pt x="21679" y="3053"/>
                  <a:pt x="21679" y="3125"/>
                </a:cubicBezTo>
                <a:cubicBezTo>
                  <a:pt x="21679" y="3212"/>
                  <a:pt x="21871" y="3199"/>
                  <a:pt x="21927" y="3200"/>
                </a:cubicBezTo>
                <a:cubicBezTo>
                  <a:pt x="21968" y="3200"/>
                  <a:pt x="22010" y="3200"/>
                  <a:pt x="22051" y="32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91040" y="2419200"/>
            <a:ext cx="1420920" cy="492120"/>
          </a:xfrm>
          <a:custGeom>
            <a:avLst/>
            <a:gdLst/>
            <a:ahLst/>
            <a:rect l="l" t="t" r="r" b="b"/>
            <a:pathLst>
              <a:path w="3945" h="1365">
                <a:moveTo>
                  <a:pt x="14784" y="7169"/>
                </a:moveTo>
                <a:cubicBezTo>
                  <a:pt x="14784" y="7144"/>
                  <a:pt x="14784" y="7136"/>
                  <a:pt x="14784" y="7119"/>
                </a:cubicBezTo>
                <a:cubicBezTo>
                  <a:pt x="14708" y="7119"/>
                  <a:pt x="14707" y="7149"/>
                  <a:pt x="14660" y="7218"/>
                </a:cubicBezTo>
                <a:cubicBezTo>
                  <a:pt x="14590" y="7322"/>
                  <a:pt x="14525" y="7433"/>
                  <a:pt x="14461" y="7541"/>
                </a:cubicBezTo>
                <a:cubicBezTo>
                  <a:pt x="14453" y="7557"/>
                  <a:pt x="14444" y="7574"/>
                  <a:pt x="14436" y="7590"/>
                </a:cubicBezTo>
                <a:cubicBezTo>
                  <a:pt x="14395" y="7590"/>
                  <a:pt x="14481" y="7529"/>
                  <a:pt x="14511" y="7491"/>
                </a:cubicBezTo>
                <a:cubicBezTo>
                  <a:pt x="14629" y="7340"/>
                  <a:pt x="14745" y="7190"/>
                  <a:pt x="14833" y="7020"/>
                </a:cubicBezTo>
                <a:cubicBezTo>
                  <a:pt x="14866" y="6956"/>
                  <a:pt x="14866" y="6970"/>
                  <a:pt x="14932" y="6970"/>
                </a:cubicBezTo>
                <a:cubicBezTo>
                  <a:pt x="14982" y="7083"/>
                  <a:pt x="15007" y="7195"/>
                  <a:pt x="15032" y="7317"/>
                </a:cubicBezTo>
                <a:cubicBezTo>
                  <a:pt x="15060" y="7457"/>
                  <a:pt x="15065" y="7577"/>
                  <a:pt x="15032" y="7714"/>
                </a:cubicBezTo>
              </a:path>
              <a:path w="3945" h="1365">
                <a:moveTo>
                  <a:pt x="14610" y="7392"/>
                </a:moveTo>
                <a:cubicBezTo>
                  <a:pt x="14679" y="7336"/>
                  <a:pt x="14719" y="7342"/>
                  <a:pt x="14808" y="7342"/>
                </a:cubicBezTo>
                <a:cubicBezTo>
                  <a:pt x="14936" y="7342"/>
                  <a:pt x="15057" y="7356"/>
                  <a:pt x="15180" y="7367"/>
                </a:cubicBezTo>
                <a:cubicBezTo>
                  <a:pt x="15213" y="7367"/>
                  <a:pt x="15247" y="7367"/>
                  <a:pt x="15280" y="7367"/>
                </a:cubicBezTo>
              </a:path>
              <a:path w="3945" h="1365">
                <a:moveTo>
                  <a:pt x="15503" y="7417"/>
                </a:moveTo>
                <a:cubicBezTo>
                  <a:pt x="15423" y="7417"/>
                  <a:pt x="15354" y="7410"/>
                  <a:pt x="15280" y="7441"/>
                </a:cubicBezTo>
                <a:cubicBezTo>
                  <a:pt x="15177" y="7484"/>
                  <a:pt x="15172" y="7522"/>
                  <a:pt x="15205" y="7615"/>
                </a:cubicBezTo>
                <a:cubicBezTo>
                  <a:pt x="15244" y="7727"/>
                  <a:pt x="15315" y="7794"/>
                  <a:pt x="15379" y="7888"/>
                </a:cubicBezTo>
                <a:cubicBezTo>
                  <a:pt x="15436" y="7971"/>
                  <a:pt x="15375" y="7997"/>
                  <a:pt x="15304" y="8037"/>
                </a:cubicBezTo>
                <a:cubicBezTo>
                  <a:pt x="15241" y="8072"/>
                  <a:pt x="15189" y="8104"/>
                  <a:pt x="15131" y="8062"/>
                </a:cubicBezTo>
                <a:cubicBezTo>
                  <a:pt x="15131" y="7964"/>
                  <a:pt x="15170" y="7964"/>
                  <a:pt x="15230" y="7888"/>
                </a:cubicBezTo>
                <a:cubicBezTo>
                  <a:pt x="15280" y="7813"/>
                  <a:pt x="15296" y="7789"/>
                  <a:pt x="15354" y="7764"/>
                </a:cubicBezTo>
              </a:path>
              <a:path w="3945" h="1365">
                <a:moveTo>
                  <a:pt x="15701" y="6945"/>
                </a:moveTo>
                <a:cubicBezTo>
                  <a:pt x="15630" y="6945"/>
                  <a:pt x="15824" y="6945"/>
                  <a:pt x="15825" y="6945"/>
                </a:cubicBezTo>
                <a:cubicBezTo>
                  <a:pt x="15908" y="6945"/>
                  <a:pt x="15973" y="6949"/>
                  <a:pt x="16049" y="6921"/>
                </a:cubicBezTo>
              </a:path>
              <a:path w="3945" h="1365">
                <a:moveTo>
                  <a:pt x="15974" y="6747"/>
                </a:moveTo>
                <a:cubicBezTo>
                  <a:pt x="15919" y="6810"/>
                  <a:pt x="15864" y="6882"/>
                  <a:pt x="15850" y="6970"/>
                </a:cubicBezTo>
                <a:cubicBezTo>
                  <a:pt x="15839" y="7040"/>
                  <a:pt x="15850" y="7122"/>
                  <a:pt x="15850" y="7193"/>
                </a:cubicBezTo>
              </a:path>
              <a:path w="3945" h="1365">
                <a:moveTo>
                  <a:pt x="16495" y="6796"/>
                </a:moveTo>
                <a:cubicBezTo>
                  <a:pt x="16538" y="6791"/>
                  <a:pt x="16579" y="6787"/>
                  <a:pt x="16619" y="6772"/>
                </a:cubicBezTo>
                <a:cubicBezTo>
                  <a:pt x="16646" y="6762"/>
                  <a:pt x="16735" y="6722"/>
                  <a:pt x="16768" y="6747"/>
                </a:cubicBezTo>
                <a:cubicBezTo>
                  <a:pt x="16829" y="6793"/>
                  <a:pt x="16786" y="6948"/>
                  <a:pt x="16768" y="6995"/>
                </a:cubicBezTo>
                <a:cubicBezTo>
                  <a:pt x="16699" y="7178"/>
                  <a:pt x="16613" y="7355"/>
                  <a:pt x="16545" y="7541"/>
                </a:cubicBezTo>
                <a:cubicBezTo>
                  <a:pt x="16498" y="7669"/>
                  <a:pt x="16476" y="7939"/>
                  <a:pt x="16371" y="8037"/>
                </a:cubicBezTo>
                <a:cubicBezTo>
                  <a:pt x="16304" y="8099"/>
                  <a:pt x="16205" y="8086"/>
                  <a:pt x="16123" y="8086"/>
                </a:cubicBezTo>
                <a:cubicBezTo>
                  <a:pt x="16021" y="8086"/>
                  <a:pt x="15920" y="8051"/>
                  <a:pt x="15825" y="8012"/>
                </a:cubicBezTo>
                <a:cubicBezTo>
                  <a:pt x="15809" y="8004"/>
                  <a:pt x="15792" y="7995"/>
                  <a:pt x="15776" y="7987"/>
                </a:cubicBezTo>
              </a:path>
              <a:path w="3945" h="1365">
                <a:moveTo>
                  <a:pt x="14635" y="6747"/>
                </a:moveTo>
                <a:cubicBezTo>
                  <a:pt x="14583" y="6733"/>
                  <a:pt x="14519" y="6706"/>
                  <a:pt x="14461" y="6722"/>
                </a:cubicBezTo>
                <a:cubicBezTo>
                  <a:pt x="14398" y="6740"/>
                  <a:pt x="14338" y="6751"/>
                  <a:pt x="14288" y="6796"/>
                </a:cubicBezTo>
                <a:cubicBezTo>
                  <a:pt x="14260" y="6821"/>
                  <a:pt x="14266" y="6817"/>
                  <a:pt x="14263" y="6871"/>
                </a:cubicBezTo>
                <a:cubicBezTo>
                  <a:pt x="14258" y="6959"/>
                  <a:pt x="14271" y="7032"/>
                  <a:pt x="14238" y="7119"/>
                </a:cubicBezTo>
                <a:cubicBezTo>
                  <a:pt x="14181" y="7266"/>
                  <a:pt x="14087" y="7401"/>
                  <a:pt x="14015" y="7541"/>
                </a:cubicBezTo>
                <a:cubicBezTo>
                  <a:pt x="13975" y="7619"/>
                  <a:pt x="13862" y="7768"/>
                  <a:pt x="13866" y="7863"/>
                </a:cubicBezTo>
                <a:cubicBezTo>
                  <a:pt x="13869" y="7938"/>
                  <a:pt x="13917" y="7975"/>
                  <a:pt x="13990" y="7987"/>
                </a:cubicBezTo>
                <a:cubicBezTo>
                  <a:pt x="14084" y="8002"/>
                  <a:pt x="14193" y="7987"/>
                  <a:pt x="14288" y="7987"/>
                </a:cubicBezTo>
              </a:path>
              <a:path w="3945" h="1365">
                <a:moveTo>
                  <a:pt x="17214" y="7417"/>
                </a:moveTo>
                <a:cubicBezTo>
                  <a:pt x="17324" y="7452"/>
                  <a:pt x="17374" y="7427"/>
                  <a:pt x="17487" y="7417"/>
                </a:cubicBezTo>
                <a:cubicBezTo>
                  <a:pt x="17560" y="7411"/>
                  <a:pt x="17637" y="7417"/>
                  <a:pt x="17711" y="7417"/>
                </a:cubicBezTo>
              </a:path>
              <a:path w="3945" h="1365">
                <a:moveTo>
                  <a:pt x="17289" y="7689"/>
                </a:moveTo>
                <a:cubicBezTo>
                  <a:pt x="17358" y="7793"/>
                  <a:pt x="17402" y="7764"/>
                  <a:pt x="17537" y="7764"/>
                </a:cubicBezTo>
                <a:cubicBezTo>
                  <a:pt x="17628" y="7764"/>
                  <a:pt x="17719" y="7764"/>
                  <a:pt x="17810" y="77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61080" y="2589120"/>
            <a:ext cx="2054160" cy="295200"/>
          </a:xfrm>
          <a:custGeom>
            <a:avLst/>
            <a:gdLst/>
            <a:ahLst/>
            <a:rect l="l" t="t" r="r" b="b"/>
            <a:pathLst>
              <a:path w="5706" h="820">
                <a:moveTo>
                  <a:pt x="18653" y="7293"/>
                </a:moveTo>
                <a:cubicBezTo>
                  <a:pt x="18653" y="7228"/>
                  <a:pt x="18706" y="7225"/>
                  <a:pt x="18777" y="7218"/>
                </a:cubicBezTo>
                <a:cubicBezTo>
                  <a:pt x="18880" y="7208"/>
                  <a:pt x="19046" y="7234"/>
                  <a:pt x="19100" y="7342"/>
                </a:cubicBezTo>
                <a:cubicBezTo>
                  <a:pt x="19188" y="7519"/>
                  <a:pt x="18989" y="7630"/>
                  <a:pt x="18876" y="7714"/>
                </a:cubicBezTo>
                <a:cubicBezTo>
                  <a:pt x="18798" y="7771"/>
                  <a:pt x="18636" y="7869"/>
                  <a:pt x="18529" y="7838"/>
                </a:cubicBezTo>
                <a:cubicBezTo>
                  <a:pt x="18521" y="7830"/>
                  <a:pt x="18512" y="7821"/>
                  <a:pt x="18504" y="7813"/>
                </a:cubicBezTo>
                <a:cubicBezTo>
                  <a:pt x="18570" y="7762"/>
                  <a:pt x="18625" y="7719"/>
                  <a:pt x="18703" y="7689"/>
                </a:cubicBezTo>
                <a:cubicBezTo>
                  <a:pt x="18773" y="7662"/>
                  <a:pt x="18866" y="7641"/>
                  <a:pt x="18926" y="7689"/>
                </a:cubicBezTo>
                <a:cubicBezTo>
                  <a:pt x="18970" y="7724"/>
                  <a:pt x="18990" y="7787"/>
                  <a:pt x="19000" y="7838"/>
                </a:cubicBezTo>
              </a:path>
              <a:path w="5706" h="820">
                <a:moveTo>
                  <a:pt x="19447" y="7789"/>
                </a:moveTo>
                <a:cubicBezTo>
                  <a:pt x="19447" y="7764"/>
                  <a:pt x="19447" y="7756"/>
                  <a:pt x="19472" y="7764"/>
                </a:cubicBezTo>
              </a:path>
              <a:path w="5706" h="820">
                <a:moveTo>
                  <a:pt x="20067" y="7293"/>
                </a:moveTo>
                <a:cubicBezTo>
                  <a:pt x="20051" y="7244"/>
                  <a:pt x="20030" y="7272"/>
                  <a:pt x="19993" y="7293"/>
                </a:cubicBezTo>
                <a:cubicBezTo>
                  <a:pt x="19885" y="7354"/>
                  <a:pt x="19791" y="7439"/>
                  <a:pt x="19769" y="7565"/>
                </a:cubicBezTo>
                <a:cubicBezTo>
                  <a:pt x="19746" y="7698"/>
                  <a:pt x="19812" y="7802"/>
                  <a:pt x="19943" y="7838"/>
                </a:cubicBezTo>
                <a:cubicBezTo>
                  <a:pt x="20022" y="7860"/>
                  <a:pt x="20088" y="7842"/>
                  <a:pt x="20141" y="7789"/>
                </a:cubicBezTo>
                <a:cubicBezTo>
                  <a:pt x="20079" y="7725"/>
                  <a:pt x="20033" y="7739"/>
                  <a:pt x="19943" y="7739"/>
                </a:cubicBezTo>
                <a:cubicBezTo>
                  <a:pt x="19916" y="7739"/>
                  <a:pt x="19763" y="7776"/>
                  <a:pt x="19819" y="7838"/>
                </a:cubicBezTo>
                <a:cubicBezTo>
                  <a:pt x="19836" y="7846"/>
                  <a:pt x="19852" y="7855"/>
                  <a:pt x="19869" y="7863"/>
                </a:cubicBezTo>
              </a:path>
              <a:path w="5706" h="820">
                <a:moveTo>
                  <a:pt x="20687" y="7342"/>
                </a:moveTo>
                <a:cubicBezTo>
                  <a:pt x="20743" y="7342"/>
                  <a:pt x="20813" y="7338"/>
                  <a:pt x="20861" y="7367"/>
                </a:cubicBezTo>
                <a:cubicBezTo>
                  <a:pt x="20916" y="7400"/>
                  <a:pt x="20923" y="7468"/>
                  <a:pt x="20886" y="7516"/>
                </a:cubicBezTo>
                <a:cubicBezTo>
                  <a:pt x="20844" y="7570"/>
                  <a:pt x="20774" y="7607"/>
                  <a:pt x="20737" y="7665"/>
                </a:cubicBezTo>
                <a:cubicBezTo>
                  <a:pt x="20717" y="7705"/>
                  <a:pt x="20708" y="7711"/>
                  <a:pt x="20712" y="7739"/>
                </a:cubicBezTo>
                <a:cubicBezTo>
                  <a:pt x="20781" y="7749"/>
                  <a:pt x="20832" y="7764"/>
                  <a:pt x="20910" y="7764"/>
                </a:cubicBezTo>
                <a:cubicBezTo>
                  <a:pt x="20935" y="7764"/>
                  <a:pt x="20960" y="7764"/>
                  <a:pt x="20985" y="7764"/>
                </a:cubicBezTo>
              </a:path>
              <a:path w="5706" h="820">
                <a:moveTo>
                  <a:pt x="21481" y="7441"/>
                </a:moveTo>
                <a:cubicBezTo>
                  <a:pt x="21417" y="7481"/>
                  <a:pt x="21347" y="7532"/>
                  <a:pt x="21332" y="7615"/>
                </a:cubicBezTo>
                <a:cubicBezTo>
                  <a:pt x="21318" y="7696"/>
                  <a:pt x="21367" y="7789"/>
                  <a:pt x="21431" y="7838"/>
                </a:cubicBezTo>
                <a:cubicBezTo>
                  <a:pt x="21479" y="7862"/>
                  <a:pt x="21493" y="7870"/>
                  <a:pt x="21530" y="7863"/>
                </a:cubicBezTo>
              </a:path>
              <a:path w="5706" h="820">
                <a:moveTo>
                  <a:pt x="21357" y="7615"/>
                </a:moveTo>
                <a:cubicBezTo>
                  <a:pt x="21370" y="7575"/>
                  <a:pt x="21476" y="7549"/>
                  <a:pt x="21530" y="7541"/>
                </a:cubicBezTo>
                <a:cubicBezTo>
                  <a:pt x="21555" y="7541"/>
                  <a:pt x="21580" y="7541"/>
                  <a:pt x="21605" y="7541"/>
                </a:cubicBezTo>
              </a:path>
              <a:path w="5706" h="820">
                <a:moveTo>
                  <a:pt x="21530" y="7243"/>
                </a:moveTo>
                <a:cubicBezTo>
                  <a:pt x="21560" y="7154"/>
                  <a:pt x="21673" y="7193"/>
                  <a:pt x="21779" y="7193"/>
                </a:cubicBezTo>
                <a:cubicBezTo>
                  <a:pt x="21895" y="7193"/>
                  <a:pt x="21928" y="7193"/>
                  <a:pt x="22002" y="7193"/>
                </a:cubicBezTo>
              </a:path>
              <a:path w="5706" h="820">
                <a:moveTo>
                  <a:pt x="22027" y="7615"/>
                </a:moveTo>
                <a:cubicBezTo>
                  <a:pt x="22097" y="7606"/>
                  <a:pt x="22152" y="7590"/>
                  <a:pt x="22225" y="7590"/>
                </a:cubicBezTo>
                <a:cubicBezTo>
                  <a:pt x="22283" y="7590"/>
                  <a:pt x="22305" y="7582"/>
                  <a:pt x="22349" y="7615"/>
                </a:cubicBezTo>
              </a:path>
              <a:path w="5706" h="820">
                <a:moveTo>
                  <a:pt x="22746" y="7441"/>
                </a:moveTo>
                <a:cubicBezTo>
                  <a:pt x="22699" y="7468"/>
                  <a:pt x="22626" y="7501"/>
                  <a:pt x="22696" y="7565"/>
                </a:cubicBezTo>
                <a:cubicBezTo>
                  <a:pt x="22748" y="7612"/>
                  <a:pt x="22857" y="7660"/>
                  <a:pt x="22920" y="7665"/>
                </a:cubicBezTo>
                <a:cubicBezTo>
                  <a:pt x="22945" y="7665"/>
                  <a:pt x="22969" y="7665"/>
                  <a:pt x="22994" y="7665"/>
                </a:cubicBezTo>
              </a:path>
              <a:path w="5706" h="820">
                <a:moveTo>
                  <a:pt x="23217" y="7441"/>
                </a:moveTo>
                <a:cubicBezTo>
                  <a:pt x="23156" y="7441"/>
                  <a:pt x="23107" y="7438"/>
                  <a:pt x="23093" y="7516"/>
                </a:cubicBezTo>
                <a:cubicBezTo>
                  <a:pt x="23074" y="7622"/>
                  <a:pt x="23036" y="7730"/>
                  <a:pt x="23019" y="7838"/>
                </a:cubicBezTo>
                <a:cubicBezTo>
                  <a:pt x="23006" y="7917"/>
                  <a:pt x="23024" y="7927"/>
                  <a:pt x="23068" y="7987"/>
                </a:cubicBezTo>
              </a:path>
              <a:path w="5706" h="820">
                <a:moveTo>
                  <a:pt x="23614" y="7565"/>
                </a:moveTo>
                <a:cubicBezTo>
                  <a:pt x="23614" y="7632"/>
                  <a:pt x="23617" y="7676"/>
                  <a:pt x="23589" y="7739"/>
                </a:cubicBezTo>
                <a:cubicBezTo>
                  <a:pt x="23566" y="7790"/>
                  <a:pt x="23552" y="7839"/>
                  <a:pt x="23540" y="7888"/>
                </a:cubicBezTo>
                <a:cubicBezTo>
                  <a:pt x="23567" y="7870"/>
                  <a:pt x="23585" y="7810"/>
                  <a:pt x="23614" y="7764"/>
                </a:cubicBezTo>
                <a:cubicBezTo>
                  <a:pt x="23663" y="7688"/>
                  <a:pt x="23709" y="7611"/>
                  <a:pt x="23763" y="7541"/>
                </a:cubicBezTo>
                <a:cubicBezTo>
                  <a:pt x="23771" y="7533"/>
                  <a:pt x="23780" y="7524"/>
                  <a:pt x="23788" y="7516"/>
                </a:cubicBezTo>
                <a:cubicBezTo>
                  <a:pt x="23788" y="7588"/>
                  <a:pt x="23800" y="7605"/>
                  <a:pt x="23837" y="7665"/>
                </a:cubicBezTo>
                <a:cubicBezTo>
                  <a:pt x="23860" y="7704"/>
                  <a:pt x="23896" y="7778"/>
                  <a:pt x="23961" y="7739"/>
                </a:cubicBezTo>
                <a:cubicBezTo>
                  <a:pt x="24026" y="7701"/>
                  <a:pt x="24115" y="7627"/>
                  <a:pt x="24160" y="7565"/>
                </a:cubicBezTo>
                <a:cubicBezTo>
                  <a:pt x="24187" y="7528"/>
                  <a:pt x="24201" y="7483"/>
                  <a:pt x="24209" y="7441"/>
                </a:cubicBezTo>
                <a:cubicBezTo>
                  <a:pt x="24164" y="7545"/>
                  <a:pt x="24138" y="7625"/>
                  <a:pt x="24135" y="7739"/>
                </a:cubicBezTo>
                <a:cubicBezTo>
                  <a:pt x="24132" y="7840"/>
                  <a:pt x="24159" y="7915"/>
                  <a:pt x="24185" y="80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55800" y="3027240"/>
            <a:ext cx="2705040" cy="965160"/>
          </a:xfrm>
          <a:custGeom>
            <a:avLst/>
            <a:gdLst/>
            <a:ahLst/>
            <a:rect l="l" t="t" r="r" b="b"/>
            <a:pathLst>
              <a:path w="7517" h="2680">
                <a:moveTo>
                  <a:pt x="3894" y="9103"/>
                </a:moveTo>
                <a:cubicBezTo>
                  <a:pt x="3863" y="9056"/>
                  <a:pt x="3838" y="9034"/>
                  <a:pt x="3770" y="9054"/>
                </a:cubicBezTo>
                <a:cubicBezTo>
                  <a:pt x="3682" y="9080"/>
                  <a:pt x="3603" y="9127"/>
                  <a:pt x="3547" y="9203"/>
                </a:cubicBezTo>
                <a:cubicBezTo>
                  <a:pt x="3506" y="9260"/>
                  <a:pt x="3521" y="9313"/>
                  <a:pt x="3597" y="9327"/>
                </a:cubicBezTo>
                <a:cubicBezTo>
                  <a:pt x="3692" y="9344"/>
                  <a:pt x="3763" y="9318"/>
                  <a:pt x="3845" y="9277"/>
                </a:cubicBezTo>
                <a:cubicBezTo>
                  <a:pt x="3861" y="9269"/>
                  <a:pt x="3878" y="9260"/>
                  <a:pt x="3894" y="9252"/>
                </a:cubicBezTo>
                <a:cubicBezTo>
                  <a:pt x="3882" y="9353"/>
                  <a:pt x="3834" y="9430"/>
                  <a:pt x="3795" y="9525"/>
                </a:cubicBezTo>
                <a:cubicBezTo>
                  <a:pt x="3757" y="9619"/>
                  <a:pt x="3732" y="9724"/>
                  <a:pt x="3721" y="9823"/>
                </a:cubicBezTo>
              </a:path>
              <a:path w="7517" h="2680">
                <a:moveTo>
                  <a:pt x="4341" y="9376"/>
                </a:moveTo>
                <a:cubicBezTo>
                  <a:pt x="4328" y="9439"/>
                  <a:pt x="4290" y="9489"/>
                  <a:pt x="4266" y="9550"/>
                </a:cubicBezTo>
                <a:cubicBezTo>
                  <a:pt x="4230" y="9644"/>
                  <a:pt x="4231" y="9699"/>
                  <a:pt x="4341" y="9723"/>
                </a:cubicBezTo>
                <a:cubicBezTo>
                  <a:pt x="4404" y="9737"/>
                  <a:pt x="4458" y="9717"/>
                  <a:pt x="4514" y="9699"/>
                </a:cubicBezTo>
              </a:path>
              <a:path w="7517" h="2680">
                <a:moveTo>
                  <a:pt x="4266" y="9575"/>
                </a:moveTo>
                <a:cubicBezTo>
                  <a:pt x="4244" y="9552"/>
                  <a:pt x="4236" y="9547"/>
                  <a:pt x="4242" y="9525"/>
                </a:cubicBezTo>
                <a:cubicBezTo>
                  <a:pt x="4333" y="9479"/>
                  <a:pt x="4417" y="9455"/>
                  <a:pt x="4514" y="9426"/>
                </a:cubicBezTo>
                <a:cubicBezTo>
                  <a:pt x="4586" y="9402"/>
                  <a:pt x="4609" y="9396"/>
                  <a:pt x="4638" y="9351"/>
                </a:cubicBezTo>
              </a:path>
              <a:path w="7517" h="2680">
                <a:moveTo>
                  <a:pt x="4440" y="9153"/>
                </a:moveTo>
                <a:cubicBezTo>
                  <a:pt x="4399" y="9133"/>
                  <a:pt x="4383" y="9135"/>
                  <a:pt x="4390" y="9103"/>
                </a:cubicBezTo>
                <a:cubicBezTo>
                  <a:pt x="4472" y="9087"/>
                  <a:pt x="4554" y="9093"/>
                  <a:pt x="4638" y="9079"/>
                </a:cubicBezTo>
                <a:cubicBezTo>
                  <a:pt x="4719" y="9052"/>
                  <a:pt x="4751" y="9044"/>
                  <a:pt x="4812" y="9054"/>
                </a:cubicBezTo>
              </a:path>
              <a:path w="7517" h="2680">
                <a:moveTo>
                  <a:pt x="5184" y="9451"/>
                </a:moveTo>
                <a:cubicBezTo>
                  <a:pt x="5289" y="9451"/>
                  <a:pt x="5391" y="9453"/>
                  <a:pt x="5482" y="9426"/>
                </a:cubicBezTo>
                <a:cubicBezTo>
                  <a:pt x="5490" y="9426"/>
                  <a:pt x="5499" y="9426"/>
                  <a:pt x="5507" y="9426"/>
                </a:cubicBezTo>
              </a:path>
              <a:path w="7517" h="2680">
                <a:moveTo>
                  <a:pt x="5904" y="9227"/>
                </a:moveTo>
                <a:cubicBezTo>
                  <a:pt x="5904" y="9302"/>
                  <a:pt x="5891" y="9356"/>
                  <a:pt x="5879" y="9426"/>
                </a:cubicBezTo>
                <a:cubicBezTo>
                  <a:pt x="5868" y="9492"/>
                  <a:pt x="5854" y="9556"/>
                  <a:pt x="5854" y="9624"/>
                </a:cubicBezTo>
                <a:cubicBezTo>
                  <a:pt x="5854" y="9632"/>
                  <a:pt x="5854" y="9641"/>
                  <a:pt x="5854" y="9649"/>
                </a:cubicBezTo>
              </a:path>
              <a:path w="7517" h="2680">
                <a:moveTo>
                  <a:pt x="6201" y="9203"/>
                </a:moveTo>
                <a:cubicBezTo>
                  <a:pt x="6254" y="9203"/>
                  <a:pt x="6286" y="9193"/>
                  <a:pt x="6325" y="9227"/>
                </a:cubicBezTo>
                <a:cubicBezTo>
                  <a:pt x="6362" y="9259"/>
                  <a:pt x="6419" y="9303"/>
                  <a:pt x="6424" y="9351"/>
                </a:cubicBezTo>
                <a:cubicBezTo>
                  <a:pt x="6431" y="9418"/>
                  <a:pt x="6348" y="9468"/>
                  <a:pt x="6300" y="9500"/>
                </a:cubicBezTo>
                <a:cubicBezTo>
                  <a:pt x="6249" y="9534"/>
                  <a:pt x="6232" y="9586"/>
                  <a:pt x="6176" y="9599"/>
                </a:cubicBezTo>
                <a:cubicBezTo>
                  <a:pt x="6223" y="9634"/>
                  <a:pt x="6263" y="9624"/>
                  <a:pt x="6325" y="9624"/>
                </a:cubicBezTo>
                <a:cubicBezTo>
                  <a:pt x="6416" y="9624"/>
                  <a:pt x="6507" y="9624"/>
                  <a:pt x="6598" y="9624"/>
                </a:cubicBezTo>
              </a:path>
              <a:path w="7517" h="2680">
                <a:moveTo>
                  <a:pt x="7119" y="9277"/>
                </a:moveTo>
                <a:cubicBezTo>
                  <a:pt x="7169" y="9307"/>
                  <a:pt x="7206" y="9302"/>
                  <a:pt x="7268" y="9302"/>
                </a:cubicBezTo>
                <a:cubicBezTo>
                  <a:pt x="7351" y="9302"/>
                  <a:pt x="7347" y="9297"/>
                  <a:pt x="7417" y="9327"/>
                </a:cubicBezTo>
              </a:path>
              <a:path w="7517" h="2680">
                <a:moveTo>
                  <a:pt x="7144" y="9550"/>
                </a:moveTo>
                <a:cubicBezTo>
                  <a:pt x="7144" y="9566"/>
                  <a:pt x="7144" y="9583"/>
                  <a:pt x="7144" y="9599"/>
                </a:cubicBezTo>
                <a:cubicBezTo>
                  <a:pt x="7260" y="9599"/>
                  <a:pt x="7375" y="9599"/>
                  <a:pt x="7491" y="9599"/>
                </a:cubicBezTo>
              </a:path>
              <a:path w="7517" h="2680">
                <a:moveTo>
                  <a:pt x="8334" y="9128"/>
                </a:moveTo>
                <a:cubicBezTo>
                  <a:pt x="8327" y="9177"/>
                  <a:pt x="8295" y="9223"/>
                  <a:pt x="8310" y="9277"/>
                </a:cubicBezTo>
                <a:cubicBezTo>
                  <a:pt x="8335" y="9367"/>
                  <a:pt x="8454" y="9396"/>
                  <a:pt x="8533" y="9401"/>
                </a:cubicBezTo>
                <a:cubicBezTo>
                  <a:pt x="8633" y="9401"/>
                  <a:pt x="8667" y="9401"/>
                  <a:pt x="8731" y="9376"/>
                </a:cubicBezTo>
              </a:path>
              <a:path w="7517" h="2680">
                <a:moveTo>
                  <a:pt x="8905" y="9029"/>
                </a:moveTo>
                <a:cubicBezTo>
                  <a:pt x="8797" y="9107"/>
                  <a:pt x="8747" y="9161"/>
                  <a:pt x="8731" y="9302"/>
                </a:cubicBezTo>
                <a:cubicBezTo>
                  <a:pt x="8718" y="9419"/>
                  <a:pt x="8715" y="9566"/>
                  <a:pt x="8756" y="9674"/>
                </a:cubicBezTo>
              </a:path>
              <a:path w="7517" h="2680">
                <a:moveTo>
                  <a:pt x="9327" y="9401"/>
                </a:moveTo>
                <a:cubicBezTo>
                  <a:pt x="9349" y="9424"/>
                  <a:pt x="9357" y="9429"/>
                  <a:pt x="9351" y="9451"/>
                </a:cubicBezTo>
                <a:cubicBezTo>
                  <a:pt x="9281" y="9501"/>
                  <a:pt x="9226" y="9571"/>
                  <a:pt x="9178" y="9649"/>
                </a:cubicBezTo>
                <a:cubicBezTo>
                  <a:pt x="9145" y="9703"/>
                  <a:pt x="9115" y="9721"/>
                  <a:pt x="9079" y="9773"/>
                </a:cubicBezTo>
              </a:path>
              <a:path w="7517" h="2680">
                <a:moveTo>
                  <a:pt x="9153" y="9327"/>
                </a:moveTo>
                <a:cubicBezTo>
                  <a:pt x="9113" y="9379"/>
                  <a:pt x="9148" y="9409"/>
                  <a:pt x="9178" y="9475"/>
                </a:cubicBezTo>
                <a:cubicBezTo>
                  <a:pt x="9220" y="9569"/>
                  <a:pt x="9269" y="9632"/>
                  <a:pt x="9376" y="9649"/>
                </a:cubicBezTo>
                <a:cubicBezTo>
                  <a:pt x="9401" y="9649"/>
                  <a:pt x="9426" y="9649"/>
                  <a:pt x="9451" y="9649"/>
                </a:cubicBezTo>
              </a:path>
              <a:path w="7517" h="2680">
                <a:moveTo>
                  <a:pt x="9847" y="8954"/>
                </a:moveTo>
                <a:cubicBezTo>
                  <a:pt x="9922" y="8954"/>
                  <a:pt x="10028" y="8949"/>
                  <a:pt x="10096" y="8979"/>
                </a:cubicBezTo>
                <a:cubicBezTo>
                  <a:pt x="10136" y="8997"/>
                  <a:pt x="10165" y="9063"/>
                  <a:pt x="10145" y="9103"/>
                </a:cubicBezTo>
                <a:cubicBezTo>
                  <a:pt x="10118" y="9156"/>
                  <a:pt x="10036" y="9154"/>
                  <a:pt x="9996" y="9178"/>
                </a:cubicBezTo>
                <a:cubicBezTo>
                  <a:pt x="9988" y="9186"/>
                  <a:pt x="9979" y="9195"/>
                  <a:pt x="9971" y="9203"/>
                </a:cubicBezTo>
                <a:cubicBezTo>
                  <a:pt x="9979" y="9235"/>
                  <a:pt x="10010" y="9269"/>
                  <a:pt x="10046" y="9277"/>
                </a:cubicBezTo>
                <a:cubicBezTo>
                  <a:pt x="10106" y="9290"/>
                  <a:pt x="10149" y="9288"/>
                  <a:pt x="10170" y="9351"/>
                </a:cubicBezTo>
                <a:cubicBezTo>
                  <a:pt x="10170" y="9359"/>
                  <a:pt x="10170" y="9368"/>
                  <a:pt x="10170" y="9376"/>
                </a:cubicBezTo>
                <a:cubicBezTo>
                  <a:pt x="10115" y="9421"/>
                  <a:pt x="10059" y="9465"/>
                  <a:pt x="9996" y="9500"/>
                </a:cubicBezTo>
                <a:cubicBezTo>
                  <a:pt x="9947" y="9525"/>
                  <a:pt x="9930" y="9534"/>
                  <a:pt x="9897" y="9550"/>
                </a:cubicBezTo>
              </a:path>
              <a:path w="7517" h="2680">
                <a:moveTo>
                  <a:pt x="2654" y="10616"/>
                </a:moveTo>
                <a:cubicBezTo>
                  <a:pt x="2674" y="10721"/>
                  <a:pt x="2670" y="10894"/>
                  <a:pt x="2729" y="10988"/>
                </a:cubicBezTo>
                <a:cubicBezTo>
                  <a:pt x="2806" y="11111"/>
                  <a:pt x="2852" y="11088"/>
                  <a:pt x="2952" y="11038"/>
                </a:cubicBezTo>
                <a:cubicBezTo>
                  <a:pt x="3103" y="10963"/>
                  <a:pt x="3173" y="10736"/>
                  <a:pt x="3200" y="10592"/>
                </a:cubicBezTo>
                <a:cubicBezTo>
                  <a:pt x="3247" y="10346"/>
                  <a:pt x="3192" y="10125"/>
                  <a:pt x="3101" y="9897"/>
                </a:cubicBezTo>
                <a:cubicBezTo>
                  <a:pt x="3036" y="9733"/>
                  <a:pt x="2937" y="9586"/>
                  <a:pt x="2877" y="9426"/>
                </a:cubicBezTo>
                <a:cubicBezTo>
                  <a:pt x="2841" y="9330"/>
                  <a:pt x="2835" y="9307"/>
                  <a:pt x="2927" y="9227"/>
                </a:cubicBezTo>
                <a:cubicBezTo>
                  <a:pt x="3116" y="9061"/>
                  <a:pt x="3464" y="8972"/>
                  <a:pt x="3696" y="8905"/>
                </a:cubicBezTo>
                <a:cubicBezTo>
                  <a:pt x="4298" y="8732"/>
                  <a:pt x="4923" y="8632"/>
                  <a:pt x="5531" y="8483"/>
                </a:cubicBezTo>
                <a:cubicBezTo>
                  <a:pt x="5688" y="8439"/>
                  <a:pt x="5728" y="8426"/>
                  <a:pt x="5829" y="8409"/>
                </a:cubicBezTo>
              </a:path>
              <a:path w="7517" h="2680">
                <a:moveTo>
                  <a:pt x="2679" y="9947"/>
                </a:moveTo>
                <a:cubicBezTo>
                  <a:pt x="2734" y="9919"/>
                  <a:pt x="2792" y="9878"/>
                  <a:pt x="2853" y="9872"/>
                </a:cubicBezTo>
                <a:cubicBezTo>
                  <a:pt x="2877" y="9872"/>
                  <a:pt x="2886" y="9872"/>
                  <a:pt x="2902" y="9872"/>
                </a:cubicBezTo>
                <a:cubicBezTo>
                  <a:pt x="2891" y="9916"/>
                  <a:pt x="2862" y="9937"/>
                  <a:pt x="2828" y="9971"/>
                </a:cubicBezTo>
                <a:cubicBezTo>
                  <a:pt x="2820" y="9979"/>
                  <a:pt x="2811" y="9988"/>
                  <a:pt x="2803" y="9996"/>
                </a:cubicBezTo>
                <a:cubicBezTo>
                  <a:pt x="2877" y="9996"/>
                  <a:pt x="2952" y="9996"/>
                  <a:pt x="3026" y="9996"/>
                </a:cubicBezTo>
                <a:cubicBezTo>
                  <a:pt x="3013" y="10061"/>
                  <a:pt x="2963" y="10113"/>
                  <a:pt x="2902" y="10145"/>
                </a:cubicBezTo>
                <a:cubicBezTo>
                  <a:pt x="2835" y="10168"/>
                  <a:pt x="2817" y="10173"/>
                  <a:pt x="2778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12920" y="3616200"/>
            <a:ext cx="1152360" cy="357480"/>
          </a:xfrm>
          <a:custGeom>
            <a:avLst/>
            <a:gdLst/>
            <a:ahLst/>
            <a:rect l="l" t="t" r="r" b="b"/>
            <a:pathLst>
              <a:path w="3201" h="993">
                <a:moveTo>
                  <a:pt x="3696" y="10220"/>
                </a:moveTo>
                <a:cubicBezTo>
                  <a:pt x="3669" y="10175"/>
                  <a:pt x="3601" y="10169"/>
                  <a:pt x="3721" y="10145"/>
                </a:cubicBezTo>
                <a:cubicBezTo>
                  <a:pt x="3938" y="10101"/>
                  <a:pt x="4170" y="10132"/>
                  <a:pt x="4390" y="10120"/>
                </a:cubicBezTo>
                <a:cubicBezTo>
                  <a:pt x="4787" y="10099"/>
                  <a:pt x="5184" y="10114"/>
                  <a:pt x="5581" y="10096"/>
                </a:cubicBezTo>
                <a:cubicBezTo>
                  <a:pt x="5906" y="10081"/>
                  <a:pt x="6248" y="10024"/>
                  <a:pt x="6573" y="10046"/>
                </a:cubicBezTo>
                <a:cubicBezTo>
                  <a:pt x="6661" y="10052"/>
                  <a:pt x="6760" y="10079"/>
                  <a:pt x="6846" y="10096"/>
                </a:cubicBezTo>
              </a:path>
              <a:path w="3201" h="993">
                <a:moveTo>
                  <a:pt x="5035" y="10567"/>
                </a:moveTo>
                <a:cubicBezTo>
                  <a:pt x="5052" y="10559"/>
                  <a:pt x="5068" y="10550"/>
                  <a:pt x="5085" y="10542"/>
                </a:cubicBezTo>
                <a:cubicBezTo>
                  <a:pt x="5035" y="10603"/>
                  <a:pt x="5035" y="10638"/>
                  <a:pt x="5035" y="10716"/>
                </a:cubicBezTo>
                <a:cubicBezTo>
                  <a:pt x="5035" y="10816"/>
                  <a:pt x="5133" y="10802"/>
                  <a:pt x="5209" y="10790"/>
                </a:cubicBezTo>
                <a:cubicBezTo>
                  <a:pt x="5308" y="10765"/>
                  <a:pt x="5341" y="10757"/>
                  <a:pt x="5407" y="10740"/>
                </a:cubicBezTo>
              </a:path>
              <a:path w="3201" h="993">
                <a:moveTo>
                  <a:pt x="5755" y="10468"/>
                </a:moveTo>
                <a:cubicBezTo>
                  <a:pt x="5684" y="10513"/>
                  <a:pt x="5574" y="10563"/>
                  <a:pt x="5531" y="10641"/>
                </a:cubicBezTo>
                <a:cubicBezTo>
                  <a:pt x="5473" y="10744"/>
                  <a:pt x="5436" y="10845"/>
                  <a:pt x="5432" y="10964"/>
                </a:cubicBezTo>
                <a:cubicBezTo>
                  <a:pt x="5432" y="10989"/>
                  <a:pt x="5432" y="11013"/>
                  <a:pt x="5432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49800" y="3741840"/>
            <a:ext cx="198360" cy="196920"/>
          </a:xfrm>
          <a:custGeom>
            <a:avLst/>
            <a:gdLst/>
            <a:ahLst/>
            <a:rect l="l" t="t" r="r" b="b"/>
            <a:pathLst>
              <a:path w="547" h="547">
                <a:moveTo>
                  <a:pt x="12179" y="10393"/>
                </a:moveTo>
                <a:cubicBezTo>
                  <a:pt x="12113" y="10410"/>
                  <a:pt x="12065" y="10482"/>
                  <a:pt x="12030" y="10542"/>
                </a:cubicBezTo>
                <a:cubicBezTo>
                  <a:pt x="11962" y="10659"/>
                  <a:pt x="11888" y="10767"/>
                  <a:pt x="11832" y="10889"/>
                </a:cubicBezTo>
                <a:cubicBezTo>
                  <a:pt x="11824" y="10906"/>
                  <a:pt x="11815" y="10922"/>
                  <a:pt x="11807" y="10939"/>
                </a:cubicBezTo>
              </a:path>
              <a:path w="547" h="547">
                <a:moveTo>
                  <a:pt x="11906" y="10443"/>
                </a:moveTo>
                <a:cubicBezTo>
                  <a:pt x="11965" y="10458"/>
                  <a:pt x="11986" y="10521"/>
                  <a:pt x="12030" y="10567"/>
                </a:cubicBezTo>
                <a:cubicBezTo>
                  <a:pt x="12113" y="10654"/>
                  <a:pt x="12199" y="10728"/>
                  <a:pt x="12303" y="10790"/>
                </a:cubicBezTo>
                <a:cubicBezTo>
                  <a:pt x="12320" y="10798"/>
                  <a:pt x="12336" y="10807"/>
                  <a:pt x="12353" y="108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60920" y="3732120"/>
            <a:ext cx="206280" cy="142920"/>
          </a:xfrm>
          <a:custGeom>
            <a:avLst/>
            <a:gdLst/>
            <a:ahLst/>
            <a:rect l="l" t="t" r="r" b="b"/>
            <a:pathLst>
              <a:path w="572" h="398">
                <a:moveTo>
                  <a:pt x="12948" y="10418"/>
                </a:moveTo>
                <a:cubicBezTo>
                  <a:pt x="12997" y="10390"/>
                  <a:pt x="13036" y="10350"/>
                  <a:pt x="13097" y="10368"/>
                </a:cubicBezTo>
                <a:cubicBezTo>
                  <a:pt x="13172" y="10390"/>
                  <a:pt x="13243" y="10408"/>
                  <a:pt x="13320" y="10418"/>
                </a:cubicBezTo>
              </a:path>
              <a:path w="572" h="398">
                <a:moveTo>
                  <a:pt x="13047" y="10716"/>
                </a:moveTo>
                <a:cubicBezTo>
                  <a:pt x="13039" y="10732"/>
                  <a:pt x="13030" y="10749"/>
                  <a:pt x="13022" y="10765"/>
                </a:cubicBezTo>
                <a:cubicBezTo>
                  <a:pt x="13098" y="10765"/>
                  <a:pt x="13173" y="10756"/>
                  <a:pt x="13246" y="10740"/>
                </a:cubicBezTo>
                <a:cubicBezTo>
                  <a:pt x="13338" y="10719"/>
                  <a:pt x="13425" y="10709"/>
                  <a:pt x="13519" y="106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72040" y="3625920"/>
            <a:ext cx="152280" cy="285840"/>
          </a:xfrm>
          <a:custGeom>
            <a:avLst/>
            <a:gdLst/>
            <a:ahLst/>
            <a:rect l="l" t="t" r="r" b="b"/>
            <a:pathLst>
              <a:path w="423" h="794">
                <a:moveTo>
                  <a:pt x="14188" y="10071"/>
                </a:moveTo>
                <a:cubicBezTo>
                  <a:pt x="14156" y="10191"/>
                  <a:pt x="14103" y="10319"/>
                  <a:pt x="14089" y="10443"/>
                </a:cubicBezTo>
                <a:cubicBezTo>
                  <a:pt x="14077" y="10554"/>
                  <a:pt x="14098" y="10662"/>
                  <a:pt x="14114" y="10765"/>
                </a:cubicBezTo>
                <a:cubicBezTo>
                  <a:pt x="14114" y="10782"/>
                  <a:pt x="14114" y="10798"/>
                  <a:pt x="14114" y="10815"/>
                </a:cubicBezTo>
              </a:path>
              <a:path w="423" h="794">
                <a:moveTo>
                  <a:pt x="14486" y="10840"/>
                </a:moveTo>
                <a:cubicBezTo>
                  <a:pt x="14486" y="10882"/>
                  <a:pt x="14492" y="10840"/>
                  <a:pt x="14511" y="108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02160" y="3652920"/>
            <a:ext cx="536760" cy="268200"/>
          </a:xfrm>
          <a:custGeom>
            <a:avLst/>
            <a:gdLst/>
            <a:ahLst/>
            <a:rect l="l" t="t" r="r" b="b"/>
            <a:pathLst>
              <a:path w="1489" h="745">
                <a:moveTo>
                  <a:pt x="15032" y="10195"/>
                </a:moveTo>
                <a:cubicBezTo>
                  <a:pt x="15044" y="10146"/>
                  <a:pt x="15075" y="10126"/>
                  <a:pt x="15131" y="10145"/>
                </a:cubicBezTo>
                <a:cubicBezTo>
                  <a:pt x="15172" y="10159"/>
                  <a:pt x="15285" y="10208"/>
                  <a:pt x="15280" y="10269"/>
                </a:cubicBezTo>
                <a:cubicBezTo>
                  <a:pt x="15275" y="10331"/>
                  <a:pt x="15178" y="10370"/>
                  <a:pt x="15131" y="10393"/>
                </a:cubicBezTo>
                <a:cubicBezTo>
                  <a:pt x="15079" y="10419"/>
                  <a:pt x="15068" y="10419"/>
                  <a:pt x="15056" y="10468"/>
                </a:cubicBezTo>
                <a:cubicBezTo>
                  <a:pt x="15114" y="10513"/>
                  <a:pt x="15176" y="10540"/>
                  <a:pt x="15230" y="10592"/>
                </a:cubicBezTo>
                <a:cubicBezTo>
                  <a:pt x="15296" y="10656"/>
                  <a:pt x="15234" y="10703"/>
                  <a:pt x="15180" y="10740"/>
                </a:cubicBezTo>
                <a:cubicBezTo>
                  <a:pt x="15110" y="10788"/>
                  <a:pt x="15085" y="10805"/>
                  <a:pt x="15007" y="10815"/>
                </a:cubicBezTo>
              </a:path>
              <a:path w="1489" h="745">
                <a:moveTo>
                  <a:pt x="15627" y="10244"/>
                </a:moveTo>
                <a:cubicBezTo>
                  <a:pt x="15666" y="10257"/>
                  <a:pt x="15640" y="10297"/>
                  <a:pt x="15627" y="10344"/>
                </a:cubicBezTo>
                <a:cubicBezTo>
                  <a:pt x="15594" y="10462"/>
                  <a:pt x="15556" y="10564"/>
                  <a:pt x="15577" y="10691"/>
                </a:cubicBezTo>
                <a:cubicBezTo>
                  <a:pt x="15589" y="10763"/>
                  <a:pt x="15633" y="10834"/>
                  <a:pt x="15677" y="10889"/>
                </a:cubicBezTo>
              </a:path>
              <a:path w="1489" h="745">
                <a:moveTo>
                  <a:pt x="16049" y="10517"/>
                </a:moveTo>
                <a:cubicBezTo>
                  <a:pt x="16009" y="10530"/>
                  <a:pt x="16002" y="10538"/>
                  <a:pt x="15999" y="10592"/>
                </a:cubicBezTo>
                <a:cubicBezTo>
                  <a:pt x="15995" y="10662"/>
                  <a:pt x="16041" y="10707"/>
                  <a:pt x="16098" y="10740"/>
                </a:cubicBezTo>
                <a:cubicBezTo>
                  <a:pt x="16156" y="10774"/>
                  <a:pt x="16207" y="10765"/>
                  <a:pt x="16272" y="10765"/>
                </a:cubicBezTo>
              </a:path>
              <a:path w="1489" h="745">
                <a:moveTo>
                  <a:pt x="15974" y="10542"/>
                </a:moveTo>
                <a:cubicBezTo>
                  <a:pt x="15919" y="10542"/>
                  <a:pt x="16100" y="10495"/>
                  <a:pt x="16123" y="10492"/>
                </a:cubicBezTo>
                <a:cubicBezTo>
                  <a:pt x="16221" y="10479"/>
                  <a:pt x="16300" y="10472"/>
                  <a:pt x="16396" y="10443"/>
                </a:cubicBezTo>
              </a:path>
              <a:path w="1489" h="745">
                <a:moveTo>
                  <a:pt x="16173" y="10269"/>
                </a:moveTo>
                <a:cubicBezTo>
                  <a:pt x="16140" y="10261"/>
                  <a:pt x="16106" y="10252"/>
                  <a:pt x="16073" y="10244"/>
                </a:cubicBezTo>
                <a:cubicBezTo>
                  <a:pt x="16152" y="10244"/>
                  <a:pt x="16218" y="10222"/>
                  <a:pt x="16297" y="10220"/>
                </a:cubicBezTo>
                <a:cubicBezTo>
                  <a:pt x="16397" y="10220"/>
                  <a:pt x="16431" y="10220"/>
                  <a:pt x="16495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1840" y="3652920"/>
            <a:ext cx="936360" cy="295200"/>
          </a:xfrm>
          <a:custGeom>
            <a:avLst/>
            <a:gdLst/>
            <a:ahLst/>
            <a:rect l="l" t="t" r="r" b="b"/>
            <a:pathLst>
              <a:path w="2605" h="820">
                <a:moveTo>
                  <a:pt x="16892" y="10443"/>
                </a:moveTo>
                <a:cubicBezTo>
                  <a:pt x="17008" y="10443"/>
                  <a:pt x="17123" y="10443"/>
                  <a:pt x="17239" y="10443"/>
                </a:cubicBezTo>
              </a:path>
              <a:path w="2605" h="820">
                <a:moveTo>
                  <a:pt x="17611" y="10145"/>
                </a:moveTo>
                <a:cubicBezTo>
                  <a:pt x="17562" y="10216"/>
                  <a:pt x="17517" y="10257"/>
                  <a:pt x="17512" y="10344"/>
                </a:cubicBezTo>
                <a:cubicBezTo>
                  <a:pt x="17508" y="10422"/>
                  <a:pt x="17512" y="10458"/>
                  <a:pt x="17587" y="10492"/>
                </a:cubicBezTo>
                <a:cubicBezTo>
                  <a:pt x="17688" y="10537"/>
                  <a:pt x="17776" y="10542"/>
                  <a:pt x="17884" y="10542"/>
                </a:cubicBezTo>
              </a:path>
              <a:path w="2605" h="820">
                <a:moveTo>
                  <a:pt x="18132" y="10170"/>
                </a:moveTo>
                <a:cubicBezTo>
                  <a:pt x="18039" y="10297"/>
                  <a:pt x="17988" y="10396"/>
                  <a:pt x="17934" y="10542"/>
                </a:cubicBezTo>
                <a:cubicBezTo>
                  <a:pt x="17894" y="10651"/>
                  <a:pt x="17863" y="10751"/>
                  <a:pt x="17835" y="10864"/>
                </a:cubicBezTo>
              </a:path>
              <a:path w="2605" h="820">
                <a:moveTo>
                  <a:pt x="18703" y="10294"/>
                </a:moveTo>
                <a:cubicBezTo>
                  <a:pt x="18652" y="10371"/>
                  <a:pt x="18593" y="10455"/>
                  <a:pt x="18554" y="10542"/>
                </a:cubicBezTo>
                <a:cubicBezTo>
                  <a:pt x="18516" y="10625"/>
                  <a:pt x="18495" y="10654"/>
                  <a:pt x="18479" y="10740"/>
                </a:cubicBezTo>
                <a:cubicBezTo>
                  <a:pt x="18502" y="10734"/>
                  <a:pt x="18565" y="10690"/>
                  <a:pt x="18628" y="10641"/>
                </a:cubicBezTo>
                <a:cubicBezTo>
                  <a:pt x="18730" y="10562"/>
                  <a:pt x="18774" y="10471"/>
                  <a:pt x="18852" y="10368"/>
                </a:cubicBezTo>
                <a:cubicBezTo>
                  <a:pt x="18876" y="10344"/>
                  <a:pt x="18885" y="10335"/>
                  <a:pt x="18901" y="10319"/>
                </a:cubicBezTo>
                <a:cubicBezTo>
                  <a:pt x="18894" y="10390"/>
                  <a:pt x="18879" y="10445"/>
                  <a:pt x="18876" y="10517"/>
                </a:cubicBezTo>
                <a:cubicBezTo>
                  <a:pt x="18871" y="10612"/>
                  <a:pt x="18869" y="10667"/>
                  <a:pt x="18976" y="10691"/>
                </a:cubicBezTo>
                <a:cubicBezTo>
                  <a:pt x="19042" y="10706"/>
                  <a:pt x="19173" y="10608"/>
                  <a:pt x="19224" y="10567"/>
                </a:cubicBezTo>
                <a:cubicBezTo>
                  <a:pt x="19296" y="10509"/>
                  <a:pt x="19329" y="10398"/>
                  <a:pt x="19397" y="10344"/>
                </a:cubicBezTo>
                <a:cubicBezTo>
                  <a:pt x="19405" y="10344"/>
                  <a:pt x="19414" y="10344"/>
                  <a:pt x="19422" y="10344"/>
                </a:cubicBezTo>
                <a:cubicBezTo>
                  <a:pt x="19407" y="10440"/>
                  <a:pt x="19361" y="10518"/>
                  <a:pt x="19348" y="10616"/>
                </a:cubicBezTo>
                <a:cubicBezTo>
                  <a:pt x="19327" y="10772"/>
                  <a:pt x="19391" y="10868"/>
                  <a:pt x="19496" y="109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(4 ions), what’s the molarity of 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 saturated solu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sp= 1.8E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9960" y="554040"/>
            <a:ext cx="785880" cy="366840"/>
          </a:xfrm>
          <a:custGeom>
            <a:avLst/>
            <a:gdLst/>
            <a:ahLst/>
            <a:rect l="l" t="t" r="r" b="b"/>
            <a:pathLst>
              <a:path w="2184" h="1018">
                <a:moveTo>
                  <a:pt x="1984" y="1761"/>
                </a:moveTo>
                <a:cubicBezTo>
                  <a:pt x="1967" y="1865"/>
                  <a:pt x="1960" y="1950"/>
                  <a:pt x="1960" y="2059"/>
                </a:cubicBezTo>
                <a:cubicBezTo>
                  <a:pt x="1960" y="2181"/>
                  <a:pt x="1933" y="2351"/>
                  <a:pt x="1984" y="2456"/>
                </a:cubicBezTo>
              </a:path>
              <a:path w="2184" h="1018">
                <a:moveTo>
                  <a:pt x="2480" y="1563"/>
                </a:moveTo>
                <a:cubicBezTo>
                  <a:pt x="2505" y="1555"/>
                  <a:pt x="2530" y="1546"/>
                  <a:pt x="2555" y="1538"/>
                </a:cubicBezTo>
                <a:cubicBezTo>
                  <a:pt x="2595" y="1592"/>
                  <a:pt x="2602" y="1640"/>
                  <a:pt x="2604" y="1712"/>
                </a:cubicBezTo>
                <a:cubicBezTo>
                  <a:pt x="2609" y="1857"/>
                  <a:pt x="2592" y="1990"/>
                  <a:pt x="2580" y="2133"/>
                </a:cubicBezTo>
                <a:cubicBezTo>
                  <a:pt x="2574" y="2198"/>
                  <a:pt x="2580" y="2266"/>
                  <a:pt x="2580" y="2332"/>
                </a:cubicBezTo>
              </a:path>
              <a:path w="2184" h="1018">
                <a:moveTo>
                  <a:pt x="1885" y="1960"/>
                </a:moveTo>
                <a:cubicBezTo>
                  <a:pt x="1866" y="1921"/>
                  <a:pt x="2012" y="1858"/>
                  <a:pt x="2084" y="1836"/>
                </a:cubicBezTo>
                <a:cubicBezTo>
                  <a:pt x="2244" y="1788"/>
                  <a:pt x="2438" y="1755"/>
                  <a:pt x="2604" y="1736"/>
                </a:cubicBezTo>
                <a:cubicBezTo>
                  <a:pt x="2666" y="1736"/>
                  <a:pt x="2681" y="1727"/>
                  <a:pt x="2704" y="1761"/>
                </a:cubicBezTo>
              </a:path>
              <a:path w="2184" h="1018">
                <a:moveTo>
                  <a:pt x="1984" y="2183"/>
                </a:moveTo>
                <a:cubicBezTo>
                  <a:pt x="1968" y="2216"/>
                  <a:pt x="1951" y="2249"/>
                  <a:pt x="1935" y="2282"/>
                </a:cubicBezTo>
                <a:cubicBezTo>
                  <a:pt x="2007" y="2282"/>
                  <a:pt x="2063" y="2272"/>
                  <a:pt x="2133" y="2257"/>
                </a:cubicBezTo>
                <a:cubicBezTo>
                  <a:pt x="2290" y="2223"/>
                  <a:pt x="2450" y="2202"/>
                  <a:pt x="2604" y="2158"/>
                </a:cubicBezTo>
                <a:cubicBezTo>
                  <a:pt x="2679" y="2133"/>
                  <a:pt x="2703" y="2125"/>
                  <a:pt x="2753" y="2108"/>
                </a:cubicBezTo>
              </a:path>
              <a:path w="2184" h="1018">
                <a:moveTo>
                  <a:pt x="3373" y="1712"/>
                </a:moveTo>
                <a:cubicBezTo>
                  <a:pt x="3419" y="1677"/>
                  <a:pt x="3441" y="1677"/>
                  <a:pt x="3497" y="1662"/>
                </a:cubicBezTo>
                <a:cubicBezTo>
                  <a:pt x="3563" y="1644"/>
                  <a:pt x="3642" y="1619"/>
                  <a:pt x="3696" y="1588"/>
                </a:cubicBezTo>
              </a:path>
              <a:path w="2184" h="1018">
                <a:moveTo>
                  <a:pt x="3373" y="1736"/>
                </a:moveTo>
                <a:cubicBezTo>
                  <a:pt x="3286" y="1811"/>
                  <a:pt x="3114" y="1911"/>
                  <a:pt x="3101" y="2034"/>
                </a:cubicBezTo>
                <a:cubicBezTo>
                  <a:pt x="3093" y="2104"/>
                  <a:pt x="3094" y="2164"/>
                  <a:pt x="3175" y="2183"/>
                </a:cubicBezTo>
                <a:cubicBezTo>
                  <a:pt x="3253" y="2201"/>
                  <a:pt x="3383" y="2145"/>
                  <a:pt x="3448" y="2208"/>
                </a:cubicBezTo>
                <a:cubicBezTo>
                  <a:pt x="3494" y="2253"/>
                  <a:pt x="3388" y="2380"/>
                  <a:pt x="3373" y="2406"/>
                </a:cubicBezTo>
                <a:cubicBezTo>
                  <a:pt x="3342" y="2460"/>
                  <a:pt x="3307" y="2502"/>
                  <a:pt x="3274" y="2555"/>
                </a:cubicBezTo>
              </a:path>
              <a:path w="2184" h="1018">
                <a:moveTo>
                  <a:pt x="3845" y="1786"/>
                </a:moveTo>
                <a:cubicBezTo>
                  <a:pt x="3952" y="1766"/>
                  <a:pt x="4020" y="1728"/>
                  <a:pt x="4043" y="1860"/>
                </a:cubicBezTo>
                <a:cubicBezTo>
                  <a:pt x="4064" y="1982"/>
                  <a:pt x="3994" y="2126"/>
                  <a:pt x="3944" y="2232"/>
                </a:cubicBezTo>
                <a:cubicBezTo>
                  <a:pt x="3906" y="2312"/>
                  <a:pt x="3841" y="2429"/>
                  <a:pt x="3746" y="2456"/>
                </a:cubicBezTo>
                <a:cubicBezTo>
                  <a:pt x="3721" y="2463"/>
                  <a:pt x="3674" y="2456"/>
                  <a:pt x="3646" y="2456"/>
                </a:cubicBezTo>
                <a:cubicBezTo>
                  <a:pt x="3646" y="2402"/>
                  <a:pt x="3658" y="2371"/>
                  <a:pt x="3721" y="2356"/>
                </a:cubicBezTo>
                <a:cubicBezTo>
                  <a:pt x="3794" y="2339"/>
                  <a:pt x="3894" y="2356"/>
                  <a:pt x="3969" y="23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4160" y="633240"/>
            <a:ext cx="187560" cy="322560"/>
          </a:xfrm>
          <a:custGeom>
            <a:avLst/>
            <a:gdLst/>
            <a:ahLst/>
            <a:rect l="l" t="t" r="r" b="b"/>
            <a:pathLst>
              <a:path w="522" h="894">
                <a:moveTo>
                  <a:pt x="5705" y="1910"/>
                </a:moveTo>
                <a:cubicBezTo>
                  <a:pt x="5728" y="1887"/>
                  <a:pt x="5732" y="1879"/>
                  <a:pt x="5755" y="1885"/>
                </a:cubicBezTo>
                <a:cubicBezTo>
                  <a:pt x="5755" y="1973"/>
                  <a:pt x="5739" y="2049"/>
                  <a:pt x="5730" y="2133"/>
                </a:cubicBezTo>
                <a:cubicBezTo>
                  <a:pt x="5719" y="2234"/>
                  <a:pt x="5720" y="2285"/>
                  <a:pt x="5829" y="2307"/>
                </a:cubicBezTo>
                <a:cubicBezTo>
                  <a:pt x="5922" y="2326"/>
                  <a:pt x="6028" y="2251"/>
                  <a:pt x="6102" y="2208"/>
                </a:cubicBezTo>
              </a:path>
              <a:path w="522" h="894">
                <a:moveTo>
                  <a:pt x="6226" y="1761"/>
                </a:moveTo>
                <a:cubicBezTo>
                  <a:pt x="6131" y="1837"/>
                  <a:pt x="6113" y="1881"/>
                  <a:pt x="6102" y="2009"/>
                </a:cubicBezTo>
                <a:cubicBezTo>
                  <a:pt x="6089" y="2151"/>
                  <a:pt x="6077" y="2287"/>
                  <a:pt x="6077" y="2431"/>
                </a:cubicBezTo>
                <a:cubicBezTo>
                  <a:pt x="6077" y="2548"/>
                  <a:pt x="6059" y="2588"/>
                  <a:pt x="6152" y="26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19200" y="696960"/>
            <a:ext cx="679680" cy="231840"/>
          </a:xfrm>
          <a:custGeom>
            <a:avLst/>
            <a:gdLst/>
            <a:ahLst/>
            <a:rect l="l" t="t" r="r" b="b"/>
            <a:pathLst>
              <a:path w="1886" h="646">
                <a:moveTo>
                  <a:pt x="6747" y="2183"/>
                </a:moveTo>
                <a:cubicBezTo>
                  <a:pt x="6747" y="2256"/>
                  <a:pt x="6725" y="2308"/>
                  <a:pt x="6722" y="2381"/>
                </a:cubicBezTo>
                <a:cubicBezTo>
                  <a:pt x="6719" y="2444"/>
                  <a:pt x="6725" y="2472"/>
                  <a:pt x="6747" y="2530"/>
                </a:cubicBezTo>
              </a:path>
              <a:path w="1886" h="646">
                <a:moveTo>
                  <a:pt x="7367" y="2208"/>
                </a:moveTo>
                <a:cubicBezTo>
                  <a:pt x="7367" y="2274"/>
                  <a:pt x="7346" y="2317"/>
                  <a:pt x="7342" y="2381"/>
                </a:cubicBezTo>
                <a:cubicBezTo>
                  <a:pt x="7340" y="2411"/>
                  <a:pt x="7343" y="2489"/>
                  <a:pt x="7367" y="2505"/>
                </a:cubicBezTo>
                <a:cubicBezTo>
                  <a:pt x="7375" y="2505"/>
                  <a:pt x="7384" y="2505"/>
                  <a:pt x="7392" y="2505"/>
                </a:cubicBezTo>
                <a:cubicBezTo>
                  <a:pt x="7427" y="2435"/>
                  <a:pt x="7476" y="2360"/>
                  <a:pt x="7491" y="2282"/>
                </a:cubicBezTo>
                <a:cubicBezTo>
                  <a:pt x="7506" y="2205"/>
                  <a:pt x="7483" y="2122"/>
                  <a:pt x="7466" y="2084"/>
                </a:cubicBezTo>
                <a:cubicBezTo>
                  <a:pt x="7466" y="2076"/>
                  <a:pt x="7466" y="2067"/>
                  <a:pt x="7466" y="2059"/>
                </a:cubicBezTo>
                <a:cubicBezTo>
                  <a:pt x="7490" y="2067"/>
                  <a:pt x="7531" y="2107"/>
                  <a:pt x="7565" y="2133"/>
                </a:cubicBezTo>
                <a:cubicBezTo>
                  <a:pt x="7599" y="2158"/>
                  <a:pt x="7671" y="2216"/>
                  <a:pt x="7689" y="2257"/>
                </a:cubicBezTo>
                <a:cubicBezTo>
                  <a:pt x="7689" y="2282"/>
                  <a:pt x="7689" y="2290"/>
                  <a:pt x="7689" y="2307"/>
                </a:cubicBezTo>
                <a:cubicBezTo>
                  <a:pt x="7631" y="2277"/>
                  <a:pt x="7738" y="2282"/>
                  <a:pt x="7764" y="2282"/>
                </a:cubicBezTo>
                <a:cubicBezTo>
                  <a:pt x="7848" y="2282"/>
                  <a:pt x="7887" y="2295"/>
                  <a:pt x="7962" y="2332"/>
                </a:cubicBezTo>
                <a:cubicBezTo>
                  <a:pt x="8009" y="2355"/>
                  <a:pt x="8047" y="2374"/>
                  <a:pt x="8086" y="2406"/>
                </a:cubicBezTo>
              </a:path>
              <a:path w="1886" h="646">
                <a:moveTo>
                  <a:pt x="8607" y="2108"/>
                </a:moveTo>
                <a:cubicBezTo>
                  <a:pt x="8582" y="2114"/>
                  <a:pt x="8477" y="2162"/>
                  <a:pt x="8458" y="2183"/>
                </a:cubicBezTo>
                <a:cubicBezTo>
                  <a:pt x="8417" y="2227"/>
                  <a:pt x="8397" y="2264"/>
                  <a:pt x="8434" y="2307"/>
                </a:cubicBezTo>
                <a:cubicBezTo>
                  <a:pt x="8477" y="2357"/>
                  <a:pt x="8532" y="2368"/>
                  <a:pt x="8558" y="2431"/>
                </a:cubicBezTo>
                <a:cubicBezTo>
                  <a:pt x="8575" y="2473"/>
                  <a:pt x="8559" y="2526"/>
                  <a:pt x="8533" y="2555"/>
                </a:cubicBezTo>
                <a:cubicBezTo>
                  <a:pt x="8525" y="2563"/>
                  <a:pt x="8516" y="2572"/>
                  <a:pt x="8508" y="2580"/>
                </a:cubicBezTo>
              </a:path>
              <a:path w="1886" h="646">
                <a:moveTo>
                  <a:pt x="6821" y="1935"/>
                </a:moveTo>
                <a:cubicBezTo>
                  <a:pt x="6821" y="1977"/>
                  <a:pt x="6811" y="1973"/>
                  <a:pt x="6846" y="1984"/>
                </a:cubicBezTo>
              </a:path>
              <a:path w="1886" h="646">
                <a:moveTo>
                  <a:pt x="7045" y="2009"/>
                </a:moveTo>
                <a:lnTo>
                  <a:pt x="7045" y="2009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3120" y="1152360"/>
            <a:ext cx="357120" cy="428760"/>
          </a:xfrm>
          <a:custGeom>
            <a:avLst/>
            <a:gdLst/>
            <a:ahLst/>
            <a:rect l="l" t="t" r="r" b="b"/>
            <a:pathLst>
              <a:path w="993" h="1191">
                <a:moveTo>
                  <a:pt x="4415" y="3200"/>
                </a:moveTo>
                <a:cubicBezTo>
                  <a:pt x="4361" y="3322"/>
                  <a:pt x="4306" y="3444"/>
                  <a:pt x="4266" y="3572"/>
                </a:cubicBezTo>
                <a:cubicBezTo>
                  <a:pt x="4206" y="3762"/>
                  <a:pt x="4138" y="3968"/>
                  <a:pt x="4118" y="4167"/>
                </a:cubicBezTo>
                <a:cubicBezTo>
                  <a:pt x="4110" y="4241"/>
                  <a:pt x="4110" y="4285"/>
                  <a:pt x="4142" y="4341"/>
                </a:cubicBezTo>
              </a:path>
              <a:path w="993" h="1191">
                <a:moveTo>
                  <a:pt x="4217" y="3349"/>
                </a:moveTo>
                <a:cubicBezTo>
                  <a:pt x="4243" y="3269"/>
                  <a:pt x="4336" y="3274"/>
                  <a:pt x="4440" y="3249"/>
                </a:cubicBezTo>
                <a:cubicBezTo>
                  <a:pt x="4588" y="3213"/>
                  <a:pt x="4737" y="3226"/>
                  <a:pt x="4887" y="3200"/>
                </a:cubicBezTo>
              </a:path>
              <a:path w="993" h="1191">
                <a:moveTo>
                  <a:pt x="4192" y="3547"/>
                </a:moveTo>
                <a:cubicBezTo>
                  <a:pt x="4121" y="3636"/>
                  <a:pt x="4088" y="3633"/>
                  <a:pt x="4093" y="3696"/>
                </a:cubicBezTo>
                <a:cubicBezTo>
                  <a:pt x="4196" y="3727"/>
                  <a:pt x="4328" y="3737"/>
                  <a:pt x="4440" y="3721"/>
                </a:cubicBezTo>
                <a:cubicBezTo>
                  <a:pt x="4539" y="3696"/>
                  <a:pt x="4572" y="3688"/>
                  <a:pt x="4638" y="3671"/>
                </a:cubicBezTo>
              </a:path>
              <a:path w="993" h="1191">
                <a:moveTo>
                  <a:pt x="4713" y="4093"/>
                </a:moveTo>
                <a:cubicBezTo>
                  <a:pt x="4813" y="4174"/>
                  <a:pt x="4823" y="4187"/>
                  <a:pt x="4936" y="4118"/>
                </a:cubicBezTo>
                <a:cubicBezTo>
                  <a:pt x="5027" y="4063"/>
                  <a:pt x="5077" y="3998"/>
                  <a:pt x="5085" y="3894"/>
                </a:cubicBezTo>
                <a:cubicBezTo>
                  <a:pt x="5085" y="3886"/>
                  <a:pt x="5085" y="3878"/>
                  <a:pt x="5085" y="3870"/>
                </a:cubicBezTo>
                <a:cubicBezTo>
                  <a:pt x="4995" y="3887"/>
                  <a:pt x="4922" y="3948"/>
                  <a:pt x="4862" y="4018"/>
                </a:cubicBezTo>
                <a:cubicBezTo>
                  <a:pt x="4797" y="4095"/>
                  <a:pt x="4753" y="4222"/>
                  <a:pt x="4812" y="4316"/>
                </a:cubicBezTo>
                <a:cubicBezTo>
                  <a:pt x="4864" y="4368"/>
                  <a:pt x="4883" y="4385"/>
                  <a:pt x="4936" y="43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1800" y="1054080"/>
            <a:ext cx="642960" cy="687240"/>
          </a:xfrm>
          <a:custGeom>
            <a:avLst/>
            <a:gdLst/>
            <a:ahLst/>
            <a:rect l="l" t="t" r="r" b="b"/>
            <a:pathLst>
              <a:path w="1787" h="1911">
                <a:moveTo>
                  <a:pt x="6028" y="3522"/>
                </a:moveTo>
                <a:cubicBezTo>
                  <a:pt x="5938" y="3668"/>
                  <a:pt x="5862" y="3807"/>
                  <a:pt x="5804" y="3969"/>
                </a:cubicBezTo>
                <a:cubicBezTo>
                  <a:pt x="5747" y="4130"/>
                  <a:pt x="5740" y="4152"/>
                  <a:pt x="5804" y="4291"/>
                </a:cubicBezTo>
                <a:cubicBezTo>
                  <a:pt x="5958" y="4303"/>
                  <a:pt x="6072" y="4226"/>
                  <a:pt x="6176" y="4093"/>
                </a:cubicBezTo>
                <a:cubicBezTo>
                  <a:pt x="6273" y="3968"/>
                  <a:pt x="6343" y="3781"/>
                  <a:pt x="6300" y="3621"/>
                </a:cubicBezTo>
                <a:cubicBezTo>
                  <a:pt x="6261" y="3475"/>
                  <a:pt x="6145" y="3478"/>
                  <a:pt x="6028" y="3497"/>
                </a:cubicBezTo>
              </a:path>
              <a:path w="1787" h="1911">
                <a:moveTo>
                  <a:pt x="6648" y="3473"/>
                </a:moveTo>
                <a:cubicBezTo>
                  <a:pt x="6673" y="3473"/>
                  <a:pt x="6697" y="3473"/>
                  <a:pt x="6722" y="3473"/>
                </a:cubicBezTo>
                <a:cubicBezTo>
                  <a:pt x="6709" y="3573"/>
                  <a:pt x="6656" y="3649"/>
                  <a:pt x="6623" y="3746"/>
                </a:cubicBezTo>
                <a:cubicBezTo>
                  <a:pt x="6590" y="3842"/>
                  <a:pt x="6556" y="3922"/>
                  <a:pt x="6524" y="4018"/>
                </a:cubicBezTo>
              </a:path>
              <a:path w="1787" h="1911">
                <a:moveTo>
                  <a:pt x="6524" y="4043"/>
                </a:moveTo>
                <a:cubicBezTo>
                  <a:pt x="6542" y="3967"/>
                  <a:pt x="6582" y="4013"/>
                  <a:pt x="6648" y="3969"/>
                </a:cubicBezTo>
                <a:cubicBezTo>
                  <a:pt x="6757" y="3897"/>
                  <a:pt x="6851" y="3815"/>
                  <a:pt x="6945" y="3721"/>
                </a:cubicBezTo>
                <a:cubicBezTo>
                  <a:pt x="7043" y="3623"/>
                  <a:pt x="7115" y="3551"/>
                  <a:pt x="7169" y="3423"/>
                </a:cubicBezTo>
                <a:cubicBezTo>
                  <a:pt x="7104" y="3358"/>
                  <a:pt x="7047" y="3547"/>
                  <a:pt x="7020" y="3597"/>
                </a:cubicBezTo>
                <a:cubicBezTo>
                  <a:pt x="6923" y="3774"/>
                  <a:pt x="6842" y="3962"/>
                  <a:pt x="6821" y="4167"/>
                </a:cubicBezTo>
                <a:cubicBezTo>
                  <a:pt x="6821" y="4275"/>
                  <a:pt x="6821" y="4300"/>
                  <a:pt x="6821" y="4366"/>
                </a:cubicBezTo>
              </a:path>
              <a:path w="1787" h="1911">
                <a:moveTo>
                  <a:pt x="7367" y="4142"/>
                </a:moveTo>
                <a:cubicBezTo>
                  <a:pt x="7413" y="4149"/>
                  <a:pt x="7467" y="4164"/>
                  <a:pt x="7491" y="4217"/>
                </a:cubicBezTo>
                <a:cubicBezTo>
                  <a:pt x="7504" y="4246"/>
                  <a:pt x="7436" y="4320"/>
                  <a:pt x="7417" y="4341"/>
                </a:cubicBezTo>
                <a:cubicBezTo>
                  <a:pt x="7371" y="4393"/>
                  <a:pt x="7359" y="4361"/>
                  <a:pt x="7417" y="4341"/>
                </a:cubicBezTo>
                <a:cubicBezTo>
                  <a:pt x="7451" y="4329"/>
                  <a:pt x="7504" y="4341"/>
                  <a:pt x="7541" y="4341"/>
                </a:cubicBezTo>
                <a:cubicBezTo>
                  <a:pt x="7541" y="4426"/>
                  <a:pt x="7510" y="4460"/>
                  <a:pt x="7441" y="4514"/>
                </a:cubicBezTo>
                <a:cubicBezTo>
                  <a:pt x="7379" y="4562"/>
                  <a:pt x="7311" y="4601"/>
                  <a:pt x="7243" y="4638"/>
                </a:cubicBezTo>
              </a:path>
              <a:path w="1787" h="1911">
                <a:moveTo>
                  <a:pt x="7441" y="3026"/>
                </a:moveTo>
                <a:cubicBezTo>
                  <a:pt x="7422" y="2974"/>
                  <a:pt x="7423" y="2975"/>
                  <a:pt x="7417" y="2927"/>
                </a:cubicBezTo>
                <a:cubicBezTo>
                  <a:pt x="7456" y="3049"/>
                  <a:pt x="7459" y="3222"/>
                  <a:pt x="7441" y="3349"/>
                </a:cubicBezTo>
                <a:cubicBezTo>
                  <a:pt x="7398" y="3655"/>
                  <a:pt x="7296" y="3917"/>
                  <a:pt x="7169" y="4192"/>
                </a:cubicBezTo>
                <a:cubicBezTo>
                  <a:pt x="7105" y="4330"/>
                  <a:pt x="7037" y="4528"/>
                  <a:pt x="6921" y="4638"/>
                </a:cubicBezTo>
                <a:cubicBezTo>
                  <a:pt x="6904" y="4646"/>
                  <a:pt x="6888" y="4655"/>
                  <a:pt x="6871" y="4663"/>
                </a:cubicBezTo>
              </a:path>
              <a:path w="1787" h="1911">
                <a:moveTo>
                  <a:pt x="6102" y="3125"/>
                </a:moveTo>
                <a:cubicBezTo>
                  <a:pt x="5933" y="3318"/>
                  <a:pt x="5866" y="3490"/>
                  <a:pt x="5804" y="3746"/>
                </a:cubicBezTo>
                <a:cubicBezTo>
                  <a:pt x="5737" y="4022"/>
                  <a:pt x="5684" y="4442"/>
                  <a:pt x="5804" y="4713"/>
                </a:cubicBezTo>
                <a:cubicBezTo>
                  <a:pt x="5837" y="4754"/>
                  <a:pt x="5871" y="4796"/>
                  <a:pt x="5904" y="48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00240" y="1258920"/>
            <a:ext cx="500040" cy="384120"/>
          </a:xfrm>
          <a:custGeom>
            <a:avLst/>
            <a:gdLst/>
            <a:ahLst/>
            <a:rect l="l" t="t" r="r" b="b"/>
            <a:pathLst>
              <a:path w="1390" h="1068">
                <a:moveTo>
                  <a:pt x="8334" y="3870"/>
                </a:moveTo>
                <a:cubicBezTo>
                  <a:pt x="8476" y="3861"/>
                  <a:pt x="8613" y="3842"/>
                  <a:pt x="8756" y="3820"/>
                </a:cubicBezTo>
                <a:cubicBezTo>
                  <a:pt x="8938" y="3792"/>
                  <a:pt x="9123" y="3782"/>
                  <a:pt x="9302" y="3746"/>
                </a:cubicBezTo>
                <a:cubicBezTo>
                  <a:pt x="9392" y="3728"/>
                  <a:pt x="9481" y="3733"/>
                  <a:pt x="9550" y="3671"/>
                </a:cubicBezTo>
                <a:cubicBezTo>
                  <a:pt x="9575" y="3671"/>
                  <a:pt x="9583" y="3671"/>
                  <a:pt x="9575" y="3646"/>
                </a:cubicBezTo>
                <a:cubicBezTo>
                  <a:pt x="9508" y="3593"/>
                  <a:pt x="9432" y="3574"/>
                  <a:pt x="9351" y="3547"/>
                </a:cubicBezTo>
                <a:cubicBezTo>
                  <a:pt x="9290" y="3526"/>
                  <a:pt x="9179" y="3523"/>
                  <a:pt x="9128" y="3497"/>
                </a:cubicBezTo>
                <a:cubicBezTo>
                  <a:pt x="9145" y="3497"/>
                  <a:pt x="9161" y="3497"/>
                  <a:pt x="9178" y="3497"/>
                </a:cubicBezTo>
                <a:cubicBezTo>
                  <a:pt x="9299" y="3497"/>
                  <a:pt x="9407" y="3495"/>
                  <a:pt x="9525" y="3522"/>
                </a:cubicBezTo>
                <a:cubicBezTo>
                  <a:pt x="9605" y="3540"/>
                  <a:pt x="9724" y="3558"/>
                  <a:pt x="9699" y="3671"/>
                </a:cubicBezTo>
                <a:cubicBezTo>
                  <a:pt x="9676" y="3772"/>
                  <a:pt x="9549" y="3824"/>
                  <a:pt x="9475" y="3870"/>
                </a:cubicBezTo>
                <a:cubicBezTo>
                  <a:pt x="9406" y="3916"/>
                  <a:pt x="9386" y="3928"/>
                  <a:pt x="9351" y="3969"/>
                </a:cubicBezTo>
              </a:path>
              <a:path w="1390" h="1068">
                <a:moveTo>
                  <a:pt x="9699" y="4217"/>
                </a:moveTo>
                <a:cubicBezTo>
                  <a:pt x="9733" y="4146"/>
                  <a:pt x="9663" y="4167"/>
                  <a:pt x="9599" y="4167"/>
                </a:cubicBezTo>
                <a:cubicBezTo>
                  <a:pt x="9431" y="4167"/>
                  <a:pt x="9246" y="4196"/>
                  <a:pt x="9079" y="4217"/>
                </a:cubicBezTo>
                <a:cubicBezTo>
                  <a:pt x="8928" y="4236"/>
                  <a:pt x="8780" y="4295"/>
                  <a:pt x="8632" y="4316"/>
                </a:cubicBezTo>
                <a:cubicBezTo>
                  <a:pt x="8564" y="4316"/>
                  <a:pt x="8545" y="4313"/>
                  <a:pt x="8508" y="4341"/>
                </a:cubicBezTo>
                <a:cubicBezTo>
                  <a:pt x="8563" y="4298"/>
                  <a:pt x="8623" y="4270"/>
                  <a:pt x="8706" y="4242"/>
                </a:cubicBezTo>
                <a:cubicBezTo>
                  <a:pt x="8784" y="4216"/>
                  <a:pt x="8855" y="4178"/>
                  <a:pt x="8930" y="4167"/>
                </a:cubicBezTo>
                <a:cubicBezTo>
                  <a:pt x="8881" y="4153"/>
                  <a:pt x="8916" y="4133"/>
                  <a:pt x="8806" y="4167"/>
                </a:cubicBezTo>
                <a:cubicBezTo>
                  <a:pt x="8692" y="4202"/>
                  <a:pt x="8559" y="4222"/>
                  <a:pt x="8458" y="4291"/>
                </a:cubicBezTo>
                <a:cubicBezTo>
                  <a:pt x="8395" y="4334"/>
                  <a:pt x="8376" y="4355"/>
                  <a:pt x="8359" y="4415"/>
                </a:cubicBezTo>
                <a:cubicBezTo>
                  <a:pt x="8426" y="4508"/>
                  <a:pt x="8511" y="4548"/>
                  <a:pt x="8632" y="4564"/>
                </a:cubicBezTo>
                <a:cubicBezTo>
                  <a:pt x="8665" y="4564"/>
                  <a:pt x="8698" y="4564"/>
                  <a:pt x="8731" y="45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29040" y="1125360"/>
            <a:ext cx="1330200" cy="500400"/>
          </a:xfrm>
          <a:custGeom>
            <a:avLst/>
            <a:gdLst/>
            <a:ahLst/>
            <a:rect l="l" t="t" r="r" b="b"/>
            <a:pathLst>
              <a:path w="3697" h="1390">
                <a:moveTo>
                  <a:pt x="11187" y="3597"/>
                </a:moveTo>
                <a:cubicBezTo>
                  <a:pt x="11195" y="3572"/>
                  <a:pt x="11204" y="3547"/>
                  <a:pt x="11212" y="3522"/>
                </a:cubicBezTo>
                <a:cubicBezTo>
                  <a:pt x="11194" y="3632"/>
                  <a:pt x="11166" y="3762"/>
                  <a:pt x="11137" y="3870"/>
                </a:cubicBezTo>
                <a:cubicBezTo>
                  <a:pt x="11087" y="4057"/>
                  <a:pt x="10995" y="4229"/>
                  <a:pt x="10939" y="4415"/>
                </a:cubicBezTo>
                <a:cubicBezTo>
                  <a:pt x="10920" y="4473"/>
                  <a:pt x="10911" y="4479"/>
                  <a:pt x="10914" y="4514"/>
                </a:cubicBezTo>
                <a:cubicBezTo>
                  <a:pt x="10985" y="4462"/>
                  <a:pt x="11028" y="4309"/>
                  <a:pt x="11063" y="4217"/>
                </a:cubicBezTo>
              </a:path>
              <a:path w="3697" h="1390">
                <a:moveTo>
                  <a:pt x="11112" y="3919"/>
                </a:moveTo>
                <a:cubicBezTo>
                  <a:pt x="11137" y="3779"/>
                  <a:pt x="11127" y="3513"/>
                  <a:pt x="11286" y="3423"/>
                </a:cubicBezTo>
                <a:cubicBezTo>
                  <a:pt x="11392" y="3363"/>
                  <a:pt x="11590" y="3376"/>
                  <a:pt x="11708" y="3373"/>
                </a:cubicBezTo>
                <a:cubicBezTo>
                  <a:pt x="11807" y="3373"/>
                  <a:pt x="11840" y="3373"/>
                  <a:pt x="11906" y="3373"/>
                </a:cubicBezTo>
              </a:path>
              <a:path w="3697" h="1390">
                <a:moveTo>
                  <a:pt x="11112" y="3795"/>
                </a:moveTo>
                <a:cubicBezTo>
                  <a:pt x="11087" y="3812"/>
                  <a:pt x="11063" y="3828"/>
                  <a:pt x="11038" y="3845"/>
                </a:cubicBezTo>
                <a:cubicBezTo>
                  <a:pt x="11137" y="3833"/>
                  <a:pt x="11235" y="3792"/>
                  <a:pt x="11336" y="3770"/>
                </a:cubicBezTo>
                <a:cubicBezTo>
                  <a:pt x="11377" y="3762"/>
                  <a:pt x="11419" y="3754"/>
                  <a:pt x="11460" y="3746"/>
                </a:cubicBezTo>
              </a:path>
              <a:path w="3697" h="1390">
                <a:moveTo>
                  <a:pt x="11361" y="4192"/>
                </a:moveTo>
                <a:cubicBezTo>
                  <a:pt x="11438" y="4184"/>
                  <a:pt x="11487" y="4173"/>
                  <a:pt x="11559" y="4142"/>
                </a:cubicBezTo>
                <a:cubicBezTo>
                  <a:pt x="11611" y="4119"/>
                  <a:pt x="11666" y="4099"/>
                  <a:pt x="11708" y="4068"/>
                </a:cubicBezTo>
              </a:path>
              <a:path w="3697" h="1390">
                <a:moveTo>
                  <a:pt x="11584" y="4192"/>
                </a:moveTo>
                <a:cubicBezTo>
                  <a:pt x="11641" y="4134"/>
                  <a:pt x="11699" y="4076"/>
                  <a:pt x="11757" y="4018"/>
                </a:cubicBezTo>
                <a:cubicBezTo>
                  <a:pt x="11815" y="3961"/>
                  <a:pt x="11822" y="3946"/>
                  <a:pt x="11832" y="3870"/>
                </a:cubicBezTo>
                <a:cubicBezTo>
                  <a:pt x="11726" y="3830"/>
                  <a:pt x="11681" y="3858"/>
                  <a:pt x="11584" y="3919"/>
                </a:cubicBezTo>
                <a:cubicBezTo>
                  <a:pt x="11470" y="3991"/>
                  <a:pt x="11380" y="4124"/>
                  <a:pt x="11385" y="4266"/>
                </a:cubicBezTo>
                <a:cubicBezTo>
                  <a:pt x="11389" y="4403"/>
                  <a:pt x="11540" y="4468"/>
                  <a:pt x="11658" y="4465"/>
                </a:cubicBezTo>
                <a:cubicBezTo>
                  <a:pt x="11699" y="4457"/>
                  <a:pt x="11741" y="4448"/>
                  <a:pt x="11782" y="4440"/>
                </a:cubicBezTo>
              </a:path>
              <a:path w="3697" h="1390">
                <a:moveTo>
                  <a:pt x="12551" y="3349"/>
                </a:moveTo>
                <a:cubicBezTo>
                  <a:pt x="12543" y="3357"/>
                  <a:pt x="12534" y="3365"/>
                  <a:pt x="12526" y="3373"/>
                </a:cubicBezTo>
                <a:cubicBezTo>
                  <a:pt x="12658" y="3373"/>
                  <a:pt x="12791" y="3373"/>
                  <a:pt x="12923" y="3373"/>
                </a:cubicBezTo>
              </a:path>
              <a:path w="3697" h="1390">
                <a:moveTo>
                  <a:pt x="12799" y="3225"/>
                </a:moveTo>
                <a:cubicBezTo>
                  <a:pt x="12680" y="3336"/>
                  <a:pt x="12620" y="3402"/>
                  <a:pt x="12601" y="3572"/>
                </a:cubicBezTo>
                <a:cubicBezTo>
                  <a:pt x="12588" y="3686"/>
                  <a:pt x="12586" y="3756"/>
                  <a:pt x="12675" y="3820"/>
                </a:cubicBezTo>
              </a:path>
              <a:path w="3697" h="1390">
                <a:moveTo>
                  <a:pt x="13370" y="3125"/>
                </a:moveTo>
                <a:cubicBezTo>
                  <a:pt x="13386" y="3125"/>
                  <a:pt x="13403" y="3125"/>
                  <a:pt x="13419" y="3125"/>
                </a:cubicBezTo>
                <a:cubicBezTo>
                  <a:pt x="13419" y="3159"/>
                  <a:pt x="13412" y="3254"/>
                  <a:pt x="13395" y="3274"/>
                </a:cubicBezTo>
                <a:cubicBezTo>
                  <a:pt x="13365" y="3309"/>
                  <a:pt x="13293" y="3323"/>
                  <a:pt x="13271" y="3373"/>
                </a:cubicBezTo>
                <a:cubicBezTo>
                  <a:pt x="13271" y="3381"/>
                  <a:pt x="13271" y="3390"/>
                  <a:pt x="13271" y="3398"/>
                </a:cubicBezTo>
                <a:cubicBezTo>
                  <a:pt x="13327" y="3398"/>
                  <a:pt x="13351" y="3436"/>
                  <a:pt x="13395" y="3448"/>
                </a:cubicBezTo>
                <a:cubicBezTo>
                  <a:pt x="13423" y="3456"/>
                  <a:pt x="13485" y="3464"/>
                  <a:pt x="13469" y="3522"/>
                </a:cubicBezTo>
                <a:cubicBezTo>
                  <a:pt x="13445" y="3607"/>
                  <a:pt x="13355" y="3643"/>
                  <a:pt x="13295" y="3696"/>
                </a:cubicBezTo>
                <a:cubicBezTo>
                  <a:pt x="13229" y="3762"/>
                  <a:pt x="13212" y="3779"/>
                  <a:pt x="13171" y="3820"/>
                </a:cubicBezTo>
              </a:path>
              <a:path w="3697" h="1390">
                <a:moveTo>
                  <a:pt x="14015" y="4142"/>
                </a:moveTo>
                <a:cubicBezTo>
                  <a:pt x="14165" y="4142"/>
                  <a:pt x="14315" y="4155"/>
                  <a:pt x="14461" y="4118"/>
                </a:cubicBezTo>
                <a:cubicBezTo>
                  <a:pt x="14534" y="4094"/>
                  <a:pt x="14558" y="4085"/>
                  <a:pt x="14610" y="4093"/>
                </a:cubicBezTo>
              </a:path>
              <a:path w="3697" h="1390">
                <a:moveTo>
                  <a:pt x="14461" y="3870"/>
                </a:moveTo>
                <a:cubicBezTo>
                  <a:pt x="14398" y="3970"/>
                  <a:pt x="14387" y="4002"/>
                  <a:pt x="14387" y="4118"/>
                </a:cubicBezTo>
                <a:cubicBezTo>
                  <a:pt x="14387" y="4234"/>
                  <a:pt x="14387" y="4349"/>
                  <a:pt x="14387" y="44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54800" y="1268280"/>
            <a:ext cx="1036440" cy="295560"/>
          </a:xfrm>
          <a:custGeom>
            <a:avLst/>
            <a:gdLst/>
            <a:ahLst/>
            <a:rect l="l" t="t" r="r" b="b"/>
            <a:pathLst>
              <a:path w="2878" h="820">
                <a:moveTo>
                  <a:pt x="15453" y="3572"/>
                </a:moveTo>
                <a:cubicBezTo>
                  <a:pt x="15493" y="3512"/>
                  <a:pt x="15543" y="3502"/>
                  <a:pt x="15627" y="3522"/>
                </a:cubicBezTo>
                <a:cubicBezTo>
                  <a:pt x="15702" y="3540"/>
                  <a:pt x="15797" y="3576"/>
                  <a:pt x="15776" y="3671"/>
                </a:cubicBezTo>
                <a:cubicBezTo>
                  <a:pt x="15753" y="3773"/>
                  <a:pt x="15633" y="3808"/>
                  <a:pt x="15553" y="3845"/>
                </a:cubicBezTo>
                <a:cubicBezTo>
                  <a:pt x="15512" y="3865"/>
                  <a:pt x="15506" y="3874"/>
                  <a:pt x="15478" y="3870"/>
                </a:cubicBezTo>
                <a:cubicBezTo>
                  <a:pt x="15572" y="3870"/>
                  <a:pt x="15692" y="3847"/>
                  <a:pt x="15776" y="3894"/>
                </a:cubicBezTo>
                <a:cubicBezTo>
                  <a:pt x="15846" y="3934"/>
                  <a:pt x="15764" y="4064"/>
                  <a:pt x="15726" y="4093"/>
                </a:cubicBezTo>
                <a:cubicBezTo>
                  <a:pt x="15636" y="4163"/>
                  <a:pt x="15531" y="4234"/>
                  <a:pt x="15429" y="4291"/>
                </a:cubicBezTo>
              </a:path>
              <a:path w="2878" h="820">
                <a:moveTo>
                  <a:pt x="16371" y="3696"/>
                </a:moveTo>
                <a:cubicBezTo>
                  <a:pt x="16281" y="3808"/>
                  <a:pt x="16140" y="3925"/>
                  <a:pt x="16098" y="4068"/>
                </a:cubicBezTo>
                <a:cubicBezTo>
                  <a:pt x="16098" y="4144"/>
                  <a:pt x="16099" y="4170"/>
                  <a:pt x="16123" y="4217"/>
                </a:cubicBezTo>
                <a:cubicBezTo>
                  <a:pt x="16279" y="4241"/>
                  <a:pt x="16386" y="4209"/>
                  <a:pt x="16520" y="4118"/>
                </a:cubicBezTo>
                <a:cubicBezTo>
                  <a:pt x="16631" y="4042"/>
                  <a:pt x="16738" y="3912"/>
                  <a:pt x="16669" y="3770"/>
                </a:cubicBezTo>
                <a:cubicBezTo>
                  <a:pt x="16616" y="3661"/>
                  <a:pt x="16470" y="3654"/>
                  <a:pt x="16371" y="3646"/>
                </a:cubicBezTo>
              </a:path>
              <a:path w="2878" h="820">
                <a:moveTo>
                  <a:pt x="17041" y="3597"/>
                </a:moveTo>
                <a:cubicBezTo>
                  <a:pt x="17115" y="3733"/>
                  <a:pt x="17077" y="3713"/>
                  <a:pt x="17016" y="3845"/>
                </a:cubicBezTo>
                <a:cubicBezTo>
                  <a:pt x="16977" y="3929"/>
                  <a:pt x="16961" y="4010"/>
                  <a:pt x="16917" y="4093"/>
                </a:cubicBezTo>
              </a:path>
              <a:path w="2878" h="820">
                <a:moveTo>
                  <a:pt x="16917" y="4093"/>
                </a:moveTo>
                <a:cubicBezTo>
                  <a:pt x="16928" y="4013"/>
                  <a:pt x="16962" y="4000"/>
                  <a:pt x="17041" y="3969"/>
                </a:cubicBezTo>
                <a:cubicBezTo>
                  <a:pt x="17145" y="3928"/>
                  <a:pt x="17241" y="3878"/>
                  <a:pt x="17338" y="3820"/>
                </a:cubicBezTo>
                <a:cubicBezTo>
                  <a:pt x="17446" y="3755"/>
                  <a:pt x="17544" y="3658"/>
                  <a:pt x="17636" y="3572"/>
                </a:cubicBezTo>
                <a:cubicBezTo>
                  <a:pt x="17659" y="3549"/>
                  <a:pt x="17667" y="3545"/>
                  <a:pt x="17661" y="3522"/>
                </a:cubicBezTo>
                <a:cubicBezTo>
                  <a:pt x="17545" y="3580"/>
                  <a:pt x="17464" y="3637"/>
                  <a:pt x="17388" y="3746"/>
                </a:cubicBezTo>
                <a:cubicBezTo>
                  <a:pt x="17286" y="3892"/>
                  <a:pt x="17245" y="4016"/>
                  <a:pt x="17239" y="4192"/>
                </a:cubicBezTo>
                <a:cubicBezTo>
                  <a:pt x="17236" y="4290"/>
                  <a:pt x="17263" y="4293"/>
                  <a:pt x="17338" y="4341"/>
                </a:cubicBezTo>
              </a:path>
              <a:path w="2878" h="820">
                <a:moveTo>
                  <a:pt x="18033" y="3547"/>
                </a:moveTo>
                <a:cubicBezTo>
                  <a:pt x="18044" y="3593"/>
                  <a:pt x="18080" y="3612"/>
                  <a:pt x="18132" y="3621"/>
                </a:cubicBezTo>
                <a:cubicBezTo>
                  <a:pt x="18187" y="3630"/>
                  <a:pt x="18250" y="3621"/>
                  <a:pt x="18306" y="36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87680" y="1874880"/>
            <a:ext cx="6421320" cy="795240"/>
          </a:xfrm>
          <a:custGeom>
            <a:avLst/>
            <a:gdLst/>
            <a:ahLst/>
            <a:rect l="l" t="t" r="r" b="b"/>
            <a:pathLst>
              <a:path w="17836" h="2209">
                <a:moveTo>
                  <a:pt x="4911" y="5631"/>
                </a:moveTo>
                <a:cubicBezTo>
                  <a:pt x="4911" y="5728"/>
                  <a:pt x="4870" y="5806"/>
                  <a:pt x="4862" y="5904"/>
                </a:cubicBezTo>
                <a:cubicBezTo>
                  <a:pt x="4845" y="6110"/>
                  <a:pt x="4827" y="6300"/>
                  <a:pt x="4762" y="6499"/>
                </a:cubicBezTo>
                <a:cubicBezTo>
                  <a:pt x="4724" y="6616"/>
                  <a:pt x="4688" y="6699"/>
                  <a:pt x="4688" y="6821"/>
                </a:cubicBezTo>
              </a:path>
              <a:path w="17836" h="2209">
                <a:moveTo>
                  <a:pt x="5358" y="5953"/>
                </a:moveTo>
                <a:cubicBezTo>
                  <a:pt x="5340" y="5944"/>
                  <a:pt x="5188" y="6055"/>
                  <a:pt x="5135" y="6102"/>
                </a:cubicBezTo>
                <a:cubicBezTo>
                  <a:pt x="5018" y="6205"/>
                  <a:pt x="4847" y="6322"/>
                  <a:pt x="4787" y="6474"/>
                </a:cubicBezTo>
                <a:cubicBezTo>
                  <a:pt x="4749" y="6572"/>
                  <a:pt x="4930" y="6616"/>
                  <a:pt x="4986" y="6623"/>
                </a:cubicBezTo>
                <a:cubicBezTo>
                  <a:pt x="5097" y="6636"/>
                  <a:pt x="5201" y="6617"/>
                  <a:pt x="5308" y="6598"/>
                </a:cubicBezTo>
              </a:path>
              <a:path w="17836" h="2209">
                <a:moveTo>
                  <a:pt x="5755" y="6375"/>
                </a:moveTo>
                <a:cubicBezTo>
                  <a:pt x="5677" y="6384"/>
                  <a:pt x="5598" y="6402"/>
                  <a:pt x="5531" y="6449"/>
                </a:cubicBezTo>
                <a:cubicBezTo>
                  <a:pt x="5496" y="6474"/>
                  <a:pt x="5496" y="6524"/>
                  <a:pt x="5531" y="6548"/>
                </a:cubicBezTo>
                <a:cubicBezTo>
                  <a:pt x="5594" y="6591"/>
                  <a:pt x="5626" y="6591"/>
                  <a:pt x="5631" y="6672"/>
                </a:cubicBezTo>
                <a:cubicBezTo>
                  <a:pt x="5635" y="6740"/>
                  <a:pt x="5573" y="6794"/>
                  <a:pt x="5531" y="6846"/>
                </a:cubicBezTo>
              </a:path>
              <a:path w="17836" h="2209">
                <a:moveTo>
                  <a:pt x="5904" y="6548"/>
                </a:moveTo>
                <a:cubicBezTo>
                  <a:pt x="5934" y="6672"/>
                  <a:pt x="5921" y="6793"/>
                  <a:pt x="5904" y="6921"/>
                </a:cubicBezTo>
                <a:cubicBezTo>
                  <a:pt x="5883" y="7073"/>
                  <a:pt x="5835" y="7214"/>
                  <a:pt x="5829" y="7367"/>
                </a:cubicBezTo>
                <a:cubicBezTo>
                  <a:pt x="5829" y="7384"/>
                  <a:pt x="5829" y="7400"/>
                  <a:pt x="5829" y="7417"/>
                </a:cubicBezTo>
                <a:cubicBezTo>
                  <a:pt x="5877" y="7262"/>
                  <a:pt x="5904" y="7106"/>
                  <a:pt x="5928" y="6945"/>
                </a:cubicBezTo>
                <a:cubicBezTo>
                  <a:pt x="5956" y="6761"/>
                  <a:pt x="5966" y="6566"/>
                  <a:pt x="6102" y="6424"/>
                </a:cubicBezTo>
                <a:cubicBezTo>
                  <a:pt x="6151" y="6373"/>
                  <a:pt x="6277" y="6322"/>
                  <a:pt x="6350" y="6350"/>
                </a:cubicBezTo>
                <a:cubicBezTo>
                  <a:pt x="6375" y="6375"/>
                  <a:pt x="6383" y="6383"/>
                  <a:pt x="6400" y="6400"/>
                </a:cubicBezTo>
                <a:cubicBezTo>
                  <a:pt x="6356" y="6454"/>
                  <a:pt x="6294" y="6529"/>
                  <a:pt x="6226" y="6573"/>
                </a:cubicBezTo>
                <a:cubicBezTo>
                  <a:pt x="6159" y="6616"/>
                  <a:pt x="6095" y="6655"/>
                  <a:pt x="6028" y="6697"/>
                </a:cubicBezTo>
              </a:path>
              <a:path w="17836" h="2209">
                <a:moveTo>
                  <a:pt x="6970" y="5928"/>
                </a:moveTo>
                <a:cubicBezTo>
                  <a:pt x="7032" y="5928"/>
                  <a:pt x="7047" y="5943"/>
                  <a:pt x="7094" y="5953"/>
                </a:cubicBezTo>
                <a:cubicBezTo>
                  <a:pt x="7162" y="5968"/>
                  <a:pt x="7247" y="5953"/>
                  <a:pt x="7317" y="5953"/>
                </a:cubicBezTo>
              </a:path>
              <a:path w="17836" h="2209">
                <a:moveTo>
                  <a:pt x="6896" y="6375"/>
                </a:moveTo>
                <a:cubicBezTo>
                  <a:pt x="6888" y="6391"/>
                  <a:pt x="6879" y="6408"/>
                  <a:pt x="6871" y="6424"/>
                </a:cubicBezTo>
                <a:cubicBezTo>
                  <a:pt x="6959" y="6424"/>
                  <a:pt x="7033" y="6425"/>
                  <a:pt x="7119" y="6400"/>
                </a:cubicBezTo>
                <a:cubicBezTo>
                  <a:pt x="7193" y="6375"/>
                  <a:pt x="7218" y="6366"/>
                  <a:pt x="7268" y="6350"/>
                </a:cubicBezTo>
              </a:path>
              <a:path w="17836" h="2209">
                <a:moveTo>
                  <a:pt x="8483" y="6102"/>
                </a:moveTo>
                <a:cubicBezTo>
                  <a:pt x="8475" y="6094"/>
                  <a:pt x="8466" y="6085"/>
                  <a:pt x="8458" y="6077"/>
                </a:cubicBezTo>
                <a:cubicBezTo>
                  <a:pt x="8399" y="6125"/>
                  <a:pt x="8334" y="6163"/>
                  <a:pt x="8285" y="6226"/>
                </a:cubicBezTo>
                <a:cubicBezTo>
                  <a:pt x="8214" y="6317"/>
                  <a:pt x="8130" y="6386"/>
                  <a:pt x="8062" y="6474"/>
                </a:cubicBezTo>
                <a:cubicBezTo>
                  <a:pt x="8042" y="6514"/>
                  <a:pt x="8033" y="6521"/>
                  <a:pt x="8037" y="6548"/>
                </a:cubicBezTo>
              </a:path>
              <a:path w="17836" h="2209">
                <a:moveTo>
                  <a:pt x="8111" y="6028"/>
                </a:moveTo>
                <a:cubicBezTo>
                  <a:pt x="8160" y="6113"/>
                  <a:pt x="8234" y="6187"/>
                  <a:pt x="8310" y="6251"/>
                </a:cubicBezTo>
                <a:cubicBezTo>
                  <a:pt x="8405" y="6331"/>
                  <a:pt x="8532" y="6427"/>
                  <a:pt x="8657" y="6449"/>
                </a:cubicBezTo>
                <a:cubicBezTo>
                  <a:pt x="8682" y="6449"/>
                  <a:pt x="8706" y="6449"/>
                  <a:pt x="8731" y="6449"/>
                </a:cubicBezTo>
              </a:path>
              <a:path w="17836" h="2209">
                <a:moveTo>
                  <a:pt x="8285" y="5482"/>
                </a:moveTo>
                <a:cubicBezTo>
                  <a:pt x="8195" y="5482"/>
                  <a:pt x="8121" y="5493"/>
                  <a:pt x="8037" y="5507"/>
                </a:cubicBezTo>
                <a:cubicBezTo>
                  <a:pt x="7949" y="5522"/>
                  <a:pt x="7987" y="5507"/>
                  <a:pt x="7938" y="5556"/>
                </a:cubicBezTo>
                <a:cubicBezTo>
                  <a:pt x="7868" y="5626"/>
                  <a:pt x="7823" y="5787"/>
                  <a:pt x="7789" y="5879"/>
                </a:cubicBezTo>
                <a:cubicBezTo>
                  <a:pt x="7717" y="6074"/>
                  <a:pt x="7637" y="6247"/>
                  <a:pt x="7590" y="6449"/>
                </a:cubicBezTo>
                <a:cubicBezTo>
                  <a:pt x="7564" y="6560"/>
                  <a:pt x="7545" y="6666"/>
                  <a:pt x="7590" y="6772"/>
                </a:cubicBezTo>
                <a:cubicBezTo>
                  <a:pt x="7615" y="6831"/>
                  <a:pt x="7673" y="6884"/>
                  <a:pt x="7739" y="6896"/>
                </a:cubicBezTo>
                <a:cubicBezTo>
                  <a:pt x="7839" y="6914"/>
                  <a:pt x="7970" y="6902"/>
                  <a:pt x="8062" y="6871"/>
                </a:cubicBezTo>
                <a:cubicBezTo>
                  <a:pt x="8087" y="6863"/>
                  <a:pt x="8111" y="6854"/>
                  <a:pt x="8136" y="6846"/>
                </a:cubicBezTo>
              </a:path>
              <a:path w="17836" h="2209">
                <a:moveTo>
                  <a:pt x="8979" y="5655"/>
                </a:moveTo>
                <a:cubicBezTo>
                  <a:pt x="8963" y="5647"/>
                  <a:pt x="8946" y="5639"/>
                  <a:pt x="8930" y="5631"/>
                </a:cubicBezTo>
                <a:cubicBezTo>
                  <a:pt x="8971" y="5597"/>
                  <a:pt x="9003" y="5599"/>
                  <a:pt x="9079" y="5581"/>
                </a:cubicBezTo>
                <a:cubicBezTo>
                  <a:pt x="9173" y="5559"/>
                  <a:pt x="9253" y="5556"/>
                  <a:pt x="9351" y="5556"/>
                </a:cubicBezTo>
                <a:cubicBezTo>
                  <a:pt x="9376" y="5556"/>
                  <a:pt x="9384" y="5556"/>
                  <a:pt x="9401" y="5556"/>
                </a:cubicBezTo>
                <a:cubicBezTo>
                  <a:pt x="9401" y="5669"/>
                  <a:pt x="9359" y="5722"/>
                  <a:pt x="9327" y="5829"/>
                </a:cubicBezTo>
                <a:cubicBezTo>
                  <a:pt x="9273" y="6008"/>
                  <a:pt x="9277" y="6190"/>
                  <a:pt x="9277" y="6375"/>
                </a:cubicBezTo>
                <a:cubicBezTo>
                  <a:pt x="9277" y="6475"/>
                  <a:pt x="9315" y="6659"/>
                  <a:pt x="9252" y="6747"/>
                </a:cubicBezTo>
                <a:cubicBezTo>
                  <a:pt x="9186" y="6839"/>
                  <a:pt x="9031" y="6846"/>
                  <a:pt x="8930" y="6871"/>
                </a:cubicBezTo>
                <a:cubicBezTo>
                  <a:pt x="8839" y="6894"/>
                  <a:pt x="8816" y="6902"/>
                  <a:pt x="8756" y="6896"/>
                </a:cubicBezTo>
              </a:path>
              <a:path w="17836" h="2209">
                <a:moveTo>
                  <a:pt x="10244" y="5631"/>
                </a:moveTo>
                <a:cubicBezTo>
                  <a:pt x="10269" y="5590"/>
                  <a:pt x="10262" y="5602"/>
                  <a:pt x="10269" y="5556"/>
                </a:cubicBezTo>
                <a:cubicBezTo>
                  <a:pt x="10209" y="5556"/>
                  <a:pt x="10177" y="5556"/>
                  <a:pt x="10120" y="5581"/>
                </a:cubicBezTo>
                <a:cubicBezTo>
                  <a:pt x="10051" y="5612"/>
                  <a:pt x="9959" y="5645"/>
                  <a:pt x="9897" y="5680"/>
                </a:cubicBezTo>
                <a:cubicBezTo>
                  <a:pt x="9889" y="5688"/>
                  <a:pt x="9880" y="5697"/>
                  <a:pt x="9872" y="5705"/>
                </a:cubicBezTo>
                <a:cubicBezTo>
                  <a:pt x="9896" y="5752"/>
                  <a:pt x="9908" y="5792"/>
                  <a:pt x="9897" y="5854"/>
                </a:cubicBezTo>
                <a:cubicBezTo>
                  <a:pt x="9870" y="6004"/>
                  <a:pt x="9852" y="6151"/>
                  <a:pt x="9823" y="6300"/>
                </a:cubicBezTo>
                <a:cubicBezTo>
                  <a:pt x="9802" y="6408"/>
                  <a:pt x="9773" y="6487"/>
                  <a:pt x="9773" y="6598"/>
                </a:cubicBezTo>
                <a:cubicBezTo>
                  <a:pt x="9773" y="6660"/>
                  <a:pt x="9753" y="6700"/>
                  <a:pt x="9823" y="6722"/>
                </a:cubicBezTo>
                <a:cubicBezTo>
                  <a:pt x="9968" y="6768"/>
                  <a:pt x="10189" y="6722"/>
                  <a:pt x="10344" y="6722"/>
                </a:cubicBezTo>
              </a:path>
              <a:path w="17836" h="2209">
                <a:moveTo>
                  <a:pt x="10542" y="5953"/>
                </a:moveTo>
                <a:cubicBezTo>
                  <a:pt x="10554" y="5882"/>
                  <a:pt x="10565" y="5904"/>
                  <a:pt x="10641" y="5904"/>
                </a:cubicBezTo>
                <a:cubicBezTo>
                  <a:pt x="10742" y="5904"/>
                  <a:pt x="10783" y="5933"/>
                  <a:pt x="10840" y="6003"/>
                </a:cubicBezTo>
                <a:cubicBezTo>
                  <a:pt x="10884" y="6057"/>
                  <a:pt x="10806" y="6091"/>
                  <a:pt x="10765" y="6127"/>
                </a:cubicBezTo>
                <a:cubicBezTo>
                  <a:pt x="10709" y="6177"/>
                  <a:pt x="10666" y="6211"/>
                  <a:pt x="10592" y="6226"/>
                </a:cubicBezTo>
                <a:cubicBezTo>
                  <a:pt x="10662" y="6217"/>
                  <a:pt x="10717" y="6201"/>
                  <a:pt x="10790" y="6201"/>
                </a:cubicBezTo>
                <a:cubicBezTo>
                  <a:pt x="10818" y="6201"/>
                  <a:pt x="10829" y="6203"/>
                  <a:pt x="10840" y="6226"/>
                </a:cubicBezTo>
                <a:cubicBezTo>
                  <a:pt x="10825" y="6298"/>
                  <a:pt x="10775" y="6354"/>
                  <a:pt x="10716" y="6400"/>
                </a:cubicBezTo>
                <a:cubicBezTo>
                  <a:pt x="10641" y="6458"/>
                  <a:pt x="10577" y="6527"/>
                  <a:pt x="10492" y="6548"/>
                </a:cubicBezTo>
              </a:path>
              <a:path w="17836" h="2209">
                <a:moveTo>
                  <a:pt x="11410" y="6102"/>
                </a:moveTo>
                <a:cubicBezTo>
                  <a:pt x="11437" y="6197"/>
                  <a:pt x="11362" y="6224"/>
                  <a:pt x="11286" y="6300"/>
                </a:cubicBezTo>
                <a:cubicBezTo>
                  <a:pt x="11223" y="6363"/>
                  <a:pt x="11175" y="6435"/>
                  <a:pt x="11112" y="6499"/>
                </a:cubicBezTo>
                <a:cubicBezTo>
                  <a:pt x="11104" y="6507"/>
                  <a:pt x="11096" y="6516"/>
                  <a:pt x="11088" y="6524"/>
                </a:cubicBezTo>
              </a:path>
              <a:path w="17836" h="2209">
                <a:moveTo>
                  <a:pt x="11088" y="6201"/>
                </a:moveTo>
                <a:cubicBezTo>
                  <a:pt x="11130" y="6222"/>
                  <a:pt x="11200" y="6303"/>
                  <a:pt x="11237" y="6350"/>
                </a:cubicBezTo>
                <a:cubicBezTo>
                  <a:pt x="11290" y="6417"/>
                  <a:pt x="11344" y="6523"/>
                  <a:pt x="11435" y="6548"/>
                </a:cubicBezTo>
                <a:cubicBezTo>
                  <a:pt x="11452" y="6548"/>
                  <a:pt x="11468" y="6548"/>
                  <a:pt x="11485" y="6548"/>
                </a:cubicBezTo>
              </a:path>
              <a:path w="17836" h="2209">
                <a:moveTo>
                  <a:pt x="11534" y="5606"/>
                </a:moveTo>
                <a:cubicBezTo>
                  <a:pt x="11608" y="5569"/>
                  <a:pt x="11696" y="5572"/>
                  <a:pt x="11782" y="5556"/>
                </a:cubicBezTo>
                <a:cubicBezTo>
                  <a:pt x="11870" y="5539"/>
                  <a:pt x="11988" y="5507"/>
                  <a:pt x="12080" y="5531"/>
                </a:cubicBezTo>
                <a:cubicBezTo>
                  <a:pt x="12147" y="5549"/>
                  <a:pt x="12138" y="5612"/>
                  <a:pt x="12129" y="5680"/>
                </a:cubicBezTo>
                <a:cubicBezTo>
                  <a:pt x="12104" y="5863"/>
                  <a:pt x="12077" y="6044"/>
                  <a:pt x="12055" y="6226"/>
                </a:cubicBezTo>
                <a:cubicBezTo>
                  <a:pt x="12038" y="6367"/>
                  <a:pt x="12039" y="6465"/>
                  <a:pt x="12055" y="6598"/>
                </a:cubicBezTo>
                <a:cubicBezTo>
                  <a:pt x="12063" y="6664"/>
                  <a:pt x="12059" y="6749"/>
                  <a:pt x="12005" y="6796"/>
                </a:cubicBezTo>
                <a:cubicBezTo>
                  <a:pt x="11945" y="6848"/>
                  <a:pt x="11807" y="6864"/>
                  <a:pt x="11733" y="6871"/>
                </a:cubicBezTo>
                <a:cubicBezTo>
                  <a:pt x="11645" y="6879"/>
                  <a:pt x="11507" y="6890"/>
                  <a:pt x="11435" y="6846"/>
                </a:cubicBezTo>
              </a:path>
              <a:path w="17836" h="2209">
                <a:moveTo>
                  <a:pt x="12427" y="5308"/>
                </a:moveTo>
                <a:cubicBezTo>
                  <a:pt x="12400" y="5273"/>
                  <a:pt x="12402" y="5278"/>
                  <a:pt x="12402" y="5234"/>
                </a:cubicBezTo>
                <a:cubicBezTo>
                  <a:pt x="12455" y="5234"/>
                  <a:pt x="12476" y="5218"/>
                  <a:pt x="12526" y="5209"/>
                </a:cubicBezTo>
                <a:cubicBezTo>
                  <a:pt x="12576" y="5200"/>
                  <a:pt x="12648" y="5210"/>
                  <a:pt x="12675" y="5259"/>
                </a:cubicBezTo>
                <a:cubicBezTo>
                  <a:pt x="12696" y="5296"/>
                  <a:pt x="12623" y="5366"/>
                  <a:pt x="12601" y="5383"/>
                </a:cubicBezTo>
                <a:cubicBezTo>
                  <a:pt x="12545" y="5427"/>
                  <a:pt x="12542" y="5383"/>
                  <a:pt x="12526" y="5432"/>
                </a:cubicBezTo>
                <a:cubicBezTo>
                  <a:pt x="12621" y="5432"/>
                  <a:pt x="12741" y="5409"/>
                  <a:pt x="12824" y="5457"/>
                </a:cubicBezTo>
                <a:cubicBezTo>
                  <a:pt x="12880" y="5489"/>
                  <a:pt x="12843" y="5566"/>
                  <a:pt x="12824" y="5606"/>
                </a:cubicBezTo>
                <a:cubicBezTo>
                  <a:pt x="12788" y="5681"/>
                  <a:pt x="12699" y="5717"/>
                  <a:pt x="12626" y="5755"/>
                </a:cubicBezTo>
                <a:cubicBezTo>
                  <a:pt x="12584" y="5777"/>
                  <a:pt x="12546" y="5795"/>
                  <a:pt x="12502" y="5804"/>
                </a:cubicBezTo>
              </a:path>
              <a:path w="17836" h="2209">
                <a:moveTo>
                  <a:pt x="13568" y="6003"/>
                </a:moveTo>
                <a:cubicBezTo>
                  <a:pt x="13712" y="6003"/>
                  <a:pt x="13851" y="5996"/>
                  <a:pt x="13990" y="6028"/>
                </a:cubicBezTo>
              </a:path>
              <a:path w="17836" h="2209">
                <a:moveTo>
                  <a:pt x="13593" y="6300"/>
                </a:moveTo>
                <a:cubicBezTo>
                  <a:pt x="13585" y="6325"/>
                  <a:pt x="13576" y="6350"/>
                  <a:pt x="13568" y="6375"/>
                </a:cubicBezTo>
                <a:cubicBezTo>
                  <a:pt x="13639" y="6375"/>
                  <a:pt x="13722" y="6386"/>
                  <a:pt x="13791" y="6400"/>
                </a:cubicBezTo>
                <a:cubicBezTo>
                  <a:pt x="13872" y="6416"/>
                  <a:pt x="13931" y="6424"/>
                  <a:pt x="14015" y="6424"/>
                </a:cubicBezTo>
              </a:path>
              <a:path w="17836" h="2209">
                <a:moveTo>
                  <a:pt x="15131" y="5680"/>
                </a:moveTo>
                <a:cubicBezTo>
                  <a:pt x="15169" y="5614"/>
                  <a:pt x="15218" y="5571"/>
                  <a:pt x="15304" y="5606"/>
                </a:cubicBezTo>
                <a:cubicBezTo>
                  <a:pt x="15433" y="5659"/>
                  <a:pt x="15467" y="5774"/>
                  <a:pt x="15453" y="5904"/>
                </a:cubicBezTo>
                <a:cubicBezTo>
                  <a:pt x="15435" y="6076"/>
                  <a:pt x="15305" y="6200"/>
                  <a:pt x="15180" y="6300"/>
                </a:cubicBezTo>
                <a:cubicBezTo>
                  <a:pt x="15072" y="6387"/>
                  <a:pt x="14968" y="6416"/>
                  <a:pt x="14833" y="6424"/>
                </a:cubicBezTo>
                <a:cubicBezTo>
                  <a:pt x="14805" y="6424"/>
                  <a:pt x="14795" y="6422"/>
                  <a:pt x="14784" y="6400"/>
                </a:cubicBezTo>
                <a:cubicBezTo>
                  <a:pt x="14798" y="6287"/>
                  <a:pt x="14832" y="6274"/>
                  <a:pt x="14932" y="6226"/>
                </a:cubicBezTo>
                <a:cubicBezTo>
                  <a:pt x="15038" y="6175"/>
                  <a:pt x="15190" y="6136"/>
                  <a:pt x="15304" y="6201"/>
                </a:cubicBezTo>
                <a:cubicBezTo>
                  <a:pt x="15388" y="6249"/>
                  <a:pt x="15439" y="6332"/>
                  <a:pt x="15503" y="6400"/>
                </a:cubicBezTo>
                <a:cubicBezTo>
                  <a:pt x="15511" y="6408"/>
                  <a:pt x="15520" y="6416"/>
                  <a:pt x="15528" y="6424"/>
                </a:cubicBezTo>
              </a:path>
              <a:path w="17836" h="2209">
                <a:moveTo>
                  <a:pt x="15925" y="5755"/>
                </a:moveTo>
                <a:cubicBezTo>
                  <a:pt x="15898" y="5746"/>
                  <a:pt x="15879" y="5737"/>
                  <a:pt x="15875" y="5705"/>
                </a:cubicBezTo>
                <a:cubicBezTo>
                  <a:pt x="15870" y="5664"/>
                  <a:pt x="15837" y="5678"/>
                  <a:pt x="15825" y="5655"/>
                </a:cubicBezTo>
                <a:cubicBezTo>
                  <a:pt x="15825" y="5647"/>
                  <a:pt x="15825" y="5639"/>
                  <a:pt x="15825" y="5631"/>
                </a:cubicBezTo>
                <a:cubicBezTo>
                  <a:pt x="15884" y="5631"/>
                  <a:pt x="15919" y="5622"/>
                  <a:pt x="15974" y="5606"/>
                </a:cubicBezTo>
                <a:cubicBezTo>
                  <a:pt x="16083" y="5575"/>
                  <a:pt x="16185" y="5581"/>
                  <a:pt x="16297" y="5581"/>
                </a:cubicBezTo>
                <a:cubicBezTo>
                  <a:pt x="16376" y="5581"/>
                  <a:pt x="16416" y="5591"/>
                  <a:pt x="16396" y="5680"/>
                </a:cubicBezTo>
                <a:cubicBezTo>
                  <a:pt x="16363" y="5823"/>
                  <a:pt x="16309" y="5962"/>
                  <a:pt x="16272" y="6102"/>
                </a:cubicBezTo>
                <a:cubicBezTo>
                  <a:pt x="16241" y="6220"/>
                  <a:pt x="16196" y="6356"/>
                  <a:pt x="16173" y="6474"/>
                </a:cubicBezTo>
                <a:cubicBezTo>
                  <a:pt x="16173" y="6491"/>
                  <a:pt x="16173" y="6507"/>
                  <a:pt x="16173" y="6524"/>
                </a:cubicBezTo>
              </a:path>
              <a:path w="17836" h="2209">
                <a:moveTo>
                  <a:pt x="17066" y="6102"/>
                </a:moveTo>
                <a:cubicBezTo>
                  <a:pt x="17066" y="6077"/>
                  <a:pt x="17066" y="6069"/>
                  <a:pt x="17066" y="6052"/>
                </a:cubicBezTo>
                <a:cubicBezTo>
                  <a:pt x="17050" y="6116"/>
                  <a:pt x="16984" y="6147"/>
                  <a:pt x="16942" y="6201"/>
                </a:cubicBezTo>
                <a:cubicBezTo>
                  <a:pt x="16872" y="6291"/>
                  <a:pt x="16798" y="6368"/>
                  <a:pt x="16718" y="6449"/>
                </a:cubicBezTo>
                <a:cubicBezTo>
                  <a:pt x="16689" y="6478"/>
                  <a:pt x="16681" y="6490"/>
                  <a:pt x="16644" y="6499"/>
                </a:cubicBezTo>
              </a:path>
              <a:path w="17836" h="2209">
                <a:moveTo>
                  <a:pt x="16694" y="6077"/>
                </a:moveTo>
                <a:cubicBezTo>
                  <a:pt x="16750" y="6134"/>
                  <a:pt x="16756" y="6181"/>
                  <a:pt x="16793" y="6251"/>
                </a:cubicBezTo>
                <a:cubicBezTo>
                  <a:pt x="16844" y="6346"/>
                  <a:pt x="16902" y="6418"/>
                  <a:pt x="16991" y="6474"/>
                </a:cubicBezTo>
              </a:path>
              <a:path w="17836" h="2209">
                <a:moveTo>
                  <a:pt x="17388" y="5457"/>
                </a:moveTo>
                <a:cubicBezTo>
                  <a:pt x="17388" y="5440"/>
                  <a:pt x="17388" y="5424"/>
                  <a:pt x="17388" y="5407"/>
                </a:cubicBezTo>
                <a:cubicBezTo>
                  <a:pt x="17313" y="5444"/>
                  <a:pt x="17336" y="5481"/>
                  <a:pt x="17314" y="5556"/>
                </a:cubicBezTo>
                <a:cubicBezTo>
                  <a:pt x="17298" y="5610"/>
                  <a:pt x="17256" y="5685"/>
                  <a:pt x="17314" y="5730"/>
                </a:cubicBezTo>
                <a:cubicBezTo>
                  <a:pt x="17377" y="5779"/>
                  <a:pt x="17489" y="5755"/>
                  <a:pt x="17562" y="5755"/>
                </a:cubicBezTo>
                <a:cubicBezTo>
                  <a:pt x="17628" y="5755"/>
                  <a:pt x="17645" y="5755"/>
                  <a:pt x="17686" y="5755"/>
                </a:cubicBezTo>
              </a:path>
              <a:path w="17836" h="2209">
                <a:moveTo>
                  <a:pt x="17760" y="5407"/>
                </a:moveTo>
                <a:cubicBezTo>
                  <a:pt x="17718" y="5501"/>
                  <a:pt x="17705" y="5582"/>
                  <a:pt x="17686" y="5680"/>
                </a:cubicBezTo>
                <a:cubicBezTo>
                  <a:pt x="17665" y="5792"/>
                  <a:pt x="17661" y="5889"/>
                  <a:pt x="17661" y="6003"/>
                </a:cubicBezTo>
              </a:path>
              <a:path w="17836" h="2209">
                <a:moveTo>
                  <a:pt x="18430" y="5953"/>
                </a:moveTo>
                <a:cubicBezTo>
                  <a:pt x="18405" y="5953"/>
                  <a:pt x="18397" y="5953"/>
                  <a:pt x="18380" y="5953"/>
                </a:cubicBezTo>
                <a:cubicBezTo>
                  <a:pt x="18407" y="5912"/>
                  <a:pt x="18490" y="5928"/>
                  <a:pt x="18554" y="5928"/>
                </a:cubicBezTo>
                <a:cubicBezTo>
                  <a:pt x="18636" y="5928"/>
                  <a:pt x="18700" y="5943"/>
                  <a:pt x="18777" y="5953"/>
                </a:cubicBezTo>
              </a:path>
              <a:path w="17836" h="2209">
                <a:moveTo>
                  <a:pt x="18430" y="6176"/>
                </a:moveTo>
                <a:cubicBezTo>
                  <a:pt x="18405" y="6201"/>
                  <a:pt x="18380" y="6226"/>
                  <a:pt x="18355" y="6251"/>
                </a:cubicBezTo>
                <a:cubicBezTo>
                  <a:pt x="18428" y="6266"/>
                  <a:pt x="18499" y="6291"/>
                  <a:pt x="18579" y="6276"/>
                </a:cubicBezTo>
                <a:cubicBezTo>
                  <a:pt x="18660" y="6261"/>
                  <a:pt x="18718" y="6251"/>
                  <a:pt x="18802" y="6251"/>
                </a:cubicBezTo>
              </a:path>
              <a:path w="17836" h="2209">
                <a:moveTo>
                  <a:pt x="19571" y="5779"/>
                </a:moveTo>
                <a:cubicBezTo>
                  <a:pt x="19499" y="5779"/>
                  <a:pt x="19518" y="5772"/>
                  <a:pt x="19472" y="5829"/>
                </a:cubicBezTo>
                <a:cubicBezTo>
                  <a:pt x="19430" y="5881"/>
                  <a:pt x="19432" y="5970"/>
                  <a:pt x="19472" y="6028"/>
                </a:cubicBezTo>
                <a:cubicBezTo>
                  <a:pt x="19543" y="6132"/>
                  <a:pt x="19633" y="6142"/>
                  <a:pt x="19745" y="6176"/>
                </a:cubicBezTo>
                <a:cubicBezTo>
                  <a:pt x="19864" y="6212"/>
                  <a:pt x="19926" y="6190"/>
                  <a:pt x="20042" y="6152"/>
                </a:cubicBezTo>
              </a:path>
              <a:path w="17836" h="2209">
                <a:moveTo>
                  <a:pt x="20315" y="5680"/>
                </a:moveTo>
                <a:cubicBezTo>
                  <a:pt x="20250" y="5662"/>
                  <a:pt x="20194" y="5630"/>
                  <a:pt x="20141" y="5680"/>
                </a:cubicBezTo>
                <a:cubicBezTo>
                  <a:pt x="20052" y="5764"/>
                  <a:pt x="20001" y="5937"/>
                  <a:pt x="19968" y="6052"/>
                </a:cubicBezTo>
                <a:cubicBezTo>
                  <a:pt x="19928" y="6190"/>
                  <a:pt x="19895" y="6337"/>
                  <a:pt x="19943" y="6474"/>
                </a:cubicBezTo>
                <a:cubicBezTo>
                  <a:pt x="19969" y="6548"/>
                  <a:pt x="19979" y="6555"/>
                  <a:pt x="20042" y="6573"/>
                </a:cubicBezTo>
              </a:path>
              <a:path w="17836" h="2209">
                <a:moveTo>
                  <a:pt x="20638" y="6201"/>
                </a:moveTo>
                <a:cubicBezTo>
                  <a:pt x="20629" y="6237"/>
                  <a:pt x="20595" y="6268"/>
                  <a:pt x="20588" y="6300"/>
                </a:cubicBezTo>
                <a:cubicBezTo>
                  <a:pt x="20575" y="6358"/>
                  <a:pt x="20563" y="6412"/>
                  <a:pt x="20563" y="6474"/>
                </a:cubicBezTo>
                <a:cubicBezTo>
                  <a:pt x="20563" y="6502"/>
                  <a:pt x="20565" y="6513"/>
                  <a:pt x="20588" y="6524"/>
                </a:cubicBezTo>
              </a:path>
              <a:path w="17836" h="2209">
                <a:moveTo>
                  <a:pt x="21109" y="6300"/>
                </a:moveTo>
                <a:cubicBezTo>
                  <a:pt x="21023" y="6326"/>
                  <a:pt x="21007" y="6314"/>
                  <a:pt x="20985" y="6400"/>
                </a:cubicBezTo>
                <a:cubicBezTo>
                  <a:pt x="20973" y="6447"/>
                  <a:pt x="20981" y="6491"/>
                  <a:pt x="21010" y="6524"/>
                </a:cubicBezTo>
                <a:cubicBezTo>
                  <a:pt x="21036" y="6553"/>
                  <a:pt x="21086" y="6551"/>
                  <a:pt x="21109" y="6524"/>
                </a:cubicBezTo>
                <a:cubicBezTo>
                  <a:pt x="21144" y="6481"/>
                  <a:pt x="21146" y="6374"/>
                  <a:pt x="21134" y="6325"/>
                </a:cubicBezTo>
                <a:cubicBezTo>
                  <a:pt x="21120" y="6268"/>
                  <a:pt x="21084" y="6238"/>
                  <a:pt x="21084" y="6176"/>
                </a:cubicBezTo>
                <a:cubicBezTo>
                  <a:pt x="21143" y="6176"/>
                  <a:pt x="21180" y="6199"/>
                  <a:pt x="21233" y="6226"/>
                </a:cubicBezTo>
                <a:cubicBezTo>
                  <a:pt x="21271" y="6245"/>
                  <a:pt x="21392" y="6309"/>
                  <a:pt x="21406" y="6350"/>
                </a:cubicBezTo>
                <a:cubicBezTo>
                  <a:pt x="21419" y="6389"/>
                  <a:pt x="21346" y="6430"/>
                  <a:pt x="21382" y="6449"/>
                </a:cubicBezTo>
                <a:cubicBezTo>
                  <a:pt x="21391" y="6454"/>
                  <a:pt x="21524" y="6378"/>
                  <a:pt x="21530" y="6375"/>
                </a:cubicBezTo>
                <a:cubicBezTo>
                  <a:pt x="21574" y="6355"/>
                  <a:pt x="21703" y="6285"/>
                  <a:pt x="21754" y="6325"/>
                </a:cubicBezTo>
                <a:cubicBezTo>
                  <a:pt x="21798" y="6359"/>
                  <a:pt x="21825" y="6448"/>
                  <a:pt x="21828" y="6499"/>
                </a:cubicBezTo>
                <a:cubicBezTo>
                  <a:pt x="21831" y="6556"/>
                  <a:pt x="21858" y="6655"/>
                  <a:pt x="21903" y="6697"/>
                </a:cubicBezTo>
                <a:cubicBezTo>
                  <a:pt x="21919" y="6705"/>
                  <a:pt x="21936" y="6714"/>
                  <a:pt x="21952" y="6722"/>
                </a:cubicBezTo>
              </a:path>
              <a:path w="17836" h="2209">
                <a:moveTo>
                  <a:pt x="22523" y="6449"/>
                </a:moveTo>
                <a:cubicBezTo>
                  <a:pt x="22494" y="6377"/>
                  <a:pt x="22486" y="6331"/>
                  <a:pt x="22399" y="6325"/>
                </a:cubicBezTo>
                <a:cubicBezTo>
                  <a:pt x="22363" y="6323"/>
                  <a:pt x="22283" y="6345"/>
                  <a:pt x="22299" y="6400"/>
                </a:cubicBezTo>
                <a:cubicBezTo>
                  <a:pt x="22318" y="6465"/>
                  <a:pt x="22358" y="6519"/>
                  <a:pt x="22399" y="6573"/>
                </a:cubicBezTo>
                <a:cubicBezTo>
                  <a:pt x="22426" y="6608"/>
                  <a:pt x="22445" y="6665"/>
                  <a:pt x="22399" y="6697"/>
                </a:cubicBezTo>
                <a:cubicBezTo>
                  <a:pt x="22351" y="6721"/>
                  <a:pt x="22336" y="6729"/>
                  <a:pt x="22299" y="6722"/>
                </a:cubicBezTo>
              </a:path>
              <a:path w="17836" h="2209">
                <a:moveTo>
                  <a:pt x="20687" y="5755"/>
                </a:moveTo>
                <a:cubicBezTo>
                  <a:pt x="20777" y="5755"/>
                  <a:pt x="20809" y="5759"/>
                  <a:pt x="20886" y="5730"/>
                </a:cubicBezTo>
              </a:path>
              <a:path w="17836" h="2209">
                <a:moveTo>
                  <a:pt x="14734" y="6871"/>
                </a:moveTo>
                <a:cubicBezTo>
                  <a:pt x="14891" y="6860"/>
                  <a:pt x="15046" y="6828"/>
                  <a:pt x="15205" y="6821"/>
                </a:cubicBezTo>
                <a:cubicBezTo>
                  <a:pt x="15535" y="6807"/>
                  <a:pt x="15869" y="6818"/>
                  <a:pt x="16197" y="6846"/>
                </a:cubicBezTo>
                <a:cubicBezTo>
                  <a:pt x="16512" y="6873"/>
                  <a:pt x="16824" y="6917"/>
                  <a:pt x="17140" y="6921"/>
                </a:cubicBezTo>
                <a:cubicBezTo>
                  <a:pt x="17350" y="6924"/>
                  <a:pt x="17552" y="6902"/>
                  <a:pt x="17760" y="6896"/>
                </a:cubicBezTo>
                <a:cubicBezTo>
                  <a:pt x="17793" y="6896"/>
                  <a:pt x="17826" y="6896"/>
                  <a:pt x="17859" y="68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16040" y="2946240"/>
            <a:ext cx="36720" cy="331920"/>
          </a:xfrm>
          <a:custGeom>
            <a:avLst/>
            <a:gdLst/>
            <a:ahLst/>
            <a:rect l="l" t="t" r="r" b="b"/>
            <a:pathLst>
              <a:path w="100" h="918">
                <a:moveTo>
                  <a:pt x="4589" y="8186"/>
                </a:moveTo>
                <a:cubicBezTo>
                  <a:pt x="4558" y="8363"/>
                  <a:pt x="4498" y="8530"/>
                  <a:pt x="4490" y="8706"/>
                </a:cubicBezTo>
                <a:cubicBezTo>
                  <a:pt x="4484" y="8838"/>
                  <a:pt x="4490" y="8971"/>
                  <a:pt x="4490" y="91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03240" y="2955960"/>
            <a:ext cx="1179720" cy="285840"/>
          </a:xfrm>
          <a:custGeom>
            <a:avLst/>
            <a:gdLst/>
            <a:ahLst/>
            <a:rect l="l" t="t" r="r" b="b"/>
            <a:pathLst>
              <a:path w="3275" h="795">
                <a:moveTo>
                  <a:pt x="5011" y="9004"/>
                </a:moveTo>
                <a:cubicBezTo>
                  <a:pt x="5011" y="8976"/>
                  <a:pt x="5013" y="8965"/>
                  <a:pt x="5035" y="8954"/>
                </a:cubicBezTo>
              </a:path>
              <a:path w="3275" h="795">
                <a:moveTo>
                  <a:pt x="5581" y="8210"/>
                </a:moveTo>
                <a:cubicBezTo>
                  <a:pt x="5496" y="8210"/>
                  <a:pt x="5384" y="8188"/>
                  <a:pt x="5308" y="8235"/>
                </a:cubicBezTo>
                <a:cubicBezTo>
                  <a:pt x="5278" y="8265"/>
                  <a:pt x="5267" y="8279"/>
                  <a:pt x="5259" y="8310"/>
                </a:cubicBezTo>
                <a:cubicBezTo>
                  <a:pt x="5301" y="8385"/>
                  <a:pt x="5364" y="8453"/>
                  <a:pt x="5432" y="8508"/>
                </a:cubicBezTo>
                <a:cubicBezTo>
                  <a:pt x="5519" y="8578"/>
                  <a:pt x="5630" y="8665"/>
                  <a:pt x="5655" y="8781"/>
                </a:cubicBezTo>
                <a:cubicBezTo>
                  <a:pt x="5674" y="8869"/>
                  <a:pt x="5652" y="8892"/>
                  <a:pt x="5606" y="8954"/>
                </a:cubicBezTo>
                <a:cubicBezTo>
                  <a:pt x="5510" y="8954"/>
                  <a:pt x="5510" y="8925"/>
                  <a:pt x="5482" y="8830"/>
                </a:cubicBezTo>
                <a:cubicBezTo>
                  <a:pt x="5439" y="8682"/>
                  <a:pt x="5457" y="8569"/>
                  <a:pt x="5531" y="8434"/>
                </a:cubicBezTo>
                <a:cubicBezTo>
                  <a:pt x="5577" y="8365"/>
                  <a:pt x="5589" y="8344"/>
                  <a:pt x="5631" y="8310"/>
                </a:cubicBezTo>
              </a:path>
              <a:path w="3275" h="795">
                <a:moveTo>
                  <a:pt x="6127" y="8434"/>
                </a:moveTo>
                <a:cubicBezTo>
                  <a:pt x="6127" y="8553"/>
                  <a:pt x="6106" y="8696"/>
                  <a:pt x="6152" y="8806"/>
                </a:cubicBezTo>
                <a:cubicBezTo>
                  <a:pt x="6177" y="8865"/>
                  <a:pt x="6256" y="8921"/>
                  <a:pt x="6325" y="8905"/>
                </a:cubicBezTo>
                <a:cubicBezTo>
                  <a:pt x="6342" y="8897"/>
                  <a:pt x="6358" y="8888"/>
                  <a:pt x="6375" y="8880"/>
                </a:cubicBezTo>
              </a:path>
              <a:path w="3275" h="795">
                <a:moveTo>
                  <a:pt x="6152" y="8706"/>
                </a:moveTo>
                <a:cubicBezTo>
                  <a:pt x="6061" y="8706"/>
                  <a:pt x="5998" y="8739"/>
                  <a:pt x="5978" y="8682"/>
                </a:cubicBezTo>
                <a:cubicBezTo>
                  <a:pt x="6101" y="8620"/>
                  <a:pt x="6226" y="8566"/>
                  <a:pt x="6350" y="8508"/>
                </a:cubicBezTo>
                <a:cubicBezTo>
                  <a:pt x="6383" y="8491"/>
                  <a:pt x="6416" y="8475"/>
                  <a:pt x="6449" y="8458"/>
                </a:cubicBezTo>
              </a:path>
              <a:path w="3275" h="795">
                <a:moveTo>
                  <a:pt x="6102" y="8384"/>
                </a:moveTo>
                <a:cubicBezTo>
                  <a:pt x="6077" y="8384"/>
                  <a:pt x="6053" y="8384"/>
                  <a:pt x="6028" y="8384"/>
                </a:cubicBezTo>
                <a:cubicBezTo>
                  <a:pt x="6055" y="8329"/>
                  <a:pt x="6185" y="8284"/>
                  <a:pt x="6251" y="8260"/>
                </a:cubicBezTo>
                <a:cubicBezTo>
                  <a:pt x="6350" y="8235"/>
                  <a:pt x="6383" y="8227"/>
                  <a:pt x="6449" y="8210"/>
                </a:cubicBezTo>
              </a:path>
              <a:path w="3275" h="795">
                <a:moveTo>
                  <a:pt x="6821" y="8632"/>
                </a:moveTo>
                <a:cubicBezTo>
                  <a:pt x="6878" y="8632"/>
                  <a:pt x="6893" y="8609"/>
                  <a:pt x="6945" y="8582"/>
                </a:cubicBezTo>
                <a:cubicBezTo>
                  <a:pt x="7025" y="8540"/>
                  <a:pt x="7108" y="8532"/>
                  <a:pt x="7193" y="8508"/>
                </a:cubicBezTo>
              </a:path>
              <a:path w="3275" h="795">
                <a:moveTo>
                  <a:pt x="7541" y="8310"/>
                </a:moveTo>
                <a:cubicBezTo>
                  <a:pt x="7513" y="8355"/>
                  <a:pt x="7497" y="8450"/>
                  <a:pt x="7491" y="8508"/>
                </a:cubicBezTo>
                <a:cubicBezTo>
                  <a:pt x="7480" y="8618"/>
                  <a:pt x="7489" y="8725"/>
                  <a:pt x="7516" y="8830"/>
                </a:cubicBezTo>
              </a:path>
              <a:path w="3275" h="795">
                <a:moveTo>
                  <a:pt x="8037" y="8434"/>
                </a:moveTo>
                <a:cubicBezTo>
                  <a:pt x="7989" y="8386"/>
                  <a:pt x="7982" y="8384"/>
                  <a:pt x="7913" y="8384"/>
                </a:cubicBezTo>
                <a:cubicBezTo>
                  <a:pt x="7865" y="8384"/>
                  <a:pt x="7825" y="8381"/>
                  <a:pt x="7813" y="8434"/>
                </a:cubicBezTo>
                <a:cubicBezTo>
                  <a:pt x="7802" y="8482"/>
                  <a:pt x="7858" y="8550"/>
                  <a:pt x="7888" y="8582"/>
                </a:cubicBezTo>
                <a:cubicBezTo>
                  <a:pt x="7932" y="8629"/>
                  <a:pt x="7991" y="8693"/>
                  <a:pt x="8012" y="8756"/>
                </a:cubicBezTo>
                <a:cubicBezTo>
                  <a:pt x="8027" y="8802"/>
                  <a:pt x="7915" y="8847"/>
                  <a:pt x="7888" y="8855"/>
                </a:cubicBezTo>
              </a:path>
              <a:path w="3275" h="795">
                <a:moveTo>
                  <a:pt x="7938" y="8384"/>
                </a:moveTo>
                <a:cubicBezTo>
                  <a:pt x="7987" y="8371"/>
                  <a:pt x="8032" y="8371"/>
                  <a:pt x="8086" y="8359"/>
                </a:cubicBezTo>
                <a:cubicBezTo>
                  <a:pt x="8152" y="8345"/>
                  <a:pt x="8221" y="8308"/>
                  <a:pt x="8285" y="82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33800" y="3062160"/>
            <a:ext cx="179280" cy="117720"/>
          </a:xfrm>
          <a:custGeom>
            <a:avLst/>
            <a:gdLst/>
            <a:ahLst/>
            <a:rect l="l" t="t" r="r" b="b"/>
            <a:pathLst>
              <a:path w="498" h="323">
                <a:moveTo>
                  <a:pt x="8706" y="8508"/>
                </a:moveTo>
                <a:cubicBezTo>
                  <a:pt x="8805" y="8508"/>
                  <a:pt x="8905" y="8508"/>
                  <a:pt x="9004" y="8508"/>
                </a:cubicBezTo>
              </a:path>
              <a:path w="498" h="323">
                <a:moveTo>
                  <a:pt x="8806" y="8781"/>
                </a:moveTo>
                <a:cubicBezTo>
                  <a:pt x="8806" y="8797"/>
                  <a:pt x="8806" y="8814"/>
                  <a:pt x="8806" y="8830"/>
                </a:cubicBezTo>
                <a:cubicBezTo>
                  <a:pt x="8886" y="8830"/>
                  <a:pt x="8954" y="8811"/>
                  <a:pt x="9029" y="8781"/>
                </a:cubicBezTo>
                <a:cubicBezTo>
                  <a:pt x="9091" y="8756"/>
                  <a:pt x="9137" y="8738"/>
                  <a:pt x="9203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3000" y="2884320"/>
            <a:ext cx="874800" cy="339840"/>
          </a:xfrm>
          <a:custGeom>
            <a:avLst/>
            <a:gdLst/>
            <a:ahLst/>
            <a:rect l="l" t="t" r="r" b="b"/>
            <a:pathLst>
              <a:path w="2432" h="943">
                <a:moveTo>
                  <a:pt x="9872" y="8210"/>
                </a:moveTo>
                <a:cubicBezTo>
                  <a:pt x="9882" y="8138"/>
                  <a:pt x="9893" y="8116"/>
                  <a:pt x="9971" y="8111"/>
                </a:cubicBezTo>
                <a:cubicBezTo>
                  <a:pt x="10095" y="8104"/>
                  <a:pt x="10107" y="8205"/>
                  <a:pt x="10096" y="8310"/>
                </a:cubicBezTo>
                <a:cubicBezTo>
                  <a:pt x="10076" y="8511"/>
                  <a:pt x="9943" y="8741"/>
                  <a:pt x="9798" y="8880"/>
                </a:cubicBezTo>
                <a:cubicBezTo>
                  <a:pt x="9765" y="8912"/>
                  <a:pt x="9715" y="8944"/>
                  <a:pt x="9674" y="8954"/>
                </a:cubicBezTo>
                <a:cubicBezTo>
                  <a:pt x="9704" y="8896"/>
                  <a:pt x="9778" y="8856"/>
                  <a:pt x="9847" y="8830"/>
                </a:cubicBezTo>
                <a:cubicBezTo>
                  <a:pt x="9915" y="8804"/>
                  <a:pt x="10023" y="8787"/>
                  <a:pt x="10096" y="8806"/>
                </a:cubicBezTo>
                <a:cubicBezTo>
                  <a:pt x="10144" y="8829"/>
                  <a:pt x="10158" y="8837"/>
                  <a:pt x="10195" y="8830"/>
                </a:cubicBezTo>
              </a:path>
              <a:path w="2432" h="943">
                <a:moveTo>
                  <a:pt x="10592" y="8086"/>
                </a:moveTo>
                <a:cubicBezTo>
                  <a:pt x="10705" y="8086"/>
                  <a:pt x="10805" y="8090"/>
                  <a:pt x="10914" y="8111"/>
                </a:cubicBezTo>
                <a:cubicBezTo>
                  <a:pt x="10997" y="8127"/>
                  <a:pt x="11027" y="8170"/>
                  <a:pt x="11013" y="8260"/>
                </a:cubicBezTo>
                <a:cubicBezTo>
                  <a:pt x="10996" y="8371"/>
                  <a:pt x="10891" y="8483"/>
                  <a:pt x="10840" y="8582"/>
                </a:cubicBezTo>
                <a:cubicBezTo>
                  <a:pt x="10786" y="8687"/>
                  <a:pt x="10729" y="8763"/>
                  <a:pt x="10716" y="8880"/>
                </a:cubicBezTo>
              </a:path>
              <a:path w="2432" h="943">
                <a:moveTo>
                  <a:pt x="11460" y="8533"/>
                </a:moveTo>
                <a:cubicBezTo>
                  <a:pt x="11485" y="8533"/>
                  <a:pt x="11445" y="8564"/>
                  <a:pt x="11410" y="8607"/>
                </a:cubicBezTo>
                <a:cubicBezTo>
                  <a:pt x="11345" y="8686"/>
                  <a:pt x="11267" y="8741"/>
                  <a:pt x="11212" y="8830"/>
                </a:cubicBezTo>
                <a:cubicBezTo>
                  <a:pt x="11204" y="8847"/>
                  <a:pt x="11195" y="8863"/>
                  <a:pt x="11187" y="8880"/>
                </a:cubicBezTo>
              </a:path>
              <a:path w="2432" h="943">
                <a:moveTo>
                  <a:pt x="11187" y="8558"/>
                </a:moveTo>
                <a:cubicBezTo>
                  <a:pt x="11161" y="8562"/>
                  <a:pt x="11071" y="8574"/>
                  <a:pt x="11112" y="8632"/>
                </a:cubicBezTo>
                <a:cubicBezTo>
                  <a:pt x="11162" y="8702"/>
                  <a:pt x="11259" y="8792"/>
                  <a:pt x="11336" y="8830"/>
                </a:cubicBezTo>
                <a:cubicBezTo>
                  <a:pt x="11409" y="8855"/>
                  <a:pt x="11433" y="8863"/>
                  <a:pt x="11485" y="8855"/>
                </a:cubicBezTo>
              </a:path>
              <a:path w="2432" h="943">
                <a:moveTo>
                  <a:pt x="11757" y="8037"/>
                </a:moveTo>
                <a:cubicBezTo>
                  <a:pt x="11739" y="8043"/>
                  <a:pt x="11698" y="8075"/>
                  <a:pt x="11708" y="8111"/>
                </a:cubicBezTo>
                <a:cubicBezTo>
                  <a:pt x="11726" y="8172"/>
                  <a:pt x="11796" y="8224"/>
                  <a:pt x="11857" y="8235"/>
                </a:cubicBezTo>
                <a:cubicBezTo>
                  <a:pt x="11923" y="8235"/>
                  <a:pt x="11940" y="8235"/>
                  <a:pt x="11981" y="8235"/>
                </a:cubicBezTo>
              </a:path>
              <a:path w="2432" h="943">
                <a:moveTo>
                  <a:pt x="12080" y="8012"/>
                </a:moveTo>
                <a:cubicBezTo>
                  <a:pt x="12025" y="8097"/>
                  <a:pt x="11963" y="8196"/>
                  <a:pt x="12005" y="8310"/>
                </a:cubicBezTo>
                <a:cubicBezTo>
                  <a:pt x="12025" y="8363"/>
                  <a:pt x="12078" y="8429"/>
                  <a:pt x="12105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3071880"/>
            <a:ext cx="411480" cy="152280"/>
          </a:xfrm>
          <a:custGeom>
            <a:avLst/>
            <a:gdLst/>
            <a:ahLst/>
            <a:rect l="l" t="t" r="r" b="b"/>
            <a:pathLst>
              <a:path w="1142" h="422">
                <a:moveTo>
                  <a:pt x="14759" y="8582"/>
                </a:moveTo>
                <a:cubicBezTo>
                  <a:pt x="14711" y="8630"/>
                  <a:pt x="14659" y="8660"/>
                  <a:pt x="14610" y="8706"/>
                </a:cubicBezTo>
                <a:cubicBezTo>
                  <a:pt x="14544" y="8768"/>
                  <a:pt x="14482" y="8825"/>
                  <a:pt x="14412" y="8880"/>
                </a:cubicBezTo>
                <a:cubicBezTo>
                  <a:pt x="14387" y="8905"/>
                  <a:pt x="14379" y="8913"/>
                  <a:pt x="14362" y="8930"/>
                </a:cubicBezTo>
              </a:path>
              <a:path w="1142" h="422">
                <a:moveTo>
                  <a:pt x="14436" y="8533"/>
                </a:moveTo>
                <a:cubicBezTo>
                  <a:pt x="14444" y="8596"/>
                  <a:pt x="14472" y="8703"/>
                  <a:pt x="14511" y="8756"/>
                </a:cubicBezTo>
                <a:cubicBezTo>
                  <a:pt x="14568" y="8834"/>
                  <a:pt x="14637" y="8895"/>
                  <a:pt x="14709" y="8954"/>
                </a:cubicBezTo>
              </a:path>
              <a:path w="1142" h="422">
                <a:moveTo>
                  <a:pt x="15131" y="8657"/>
                </a:moveTo>
                <a:cubicBezTo>
                  <a:pt x="15214" y="8657"/>
                  <a:pt x="15296" y="8657"/>
                  <a:pt x="15379" y="8657"/>
                </a:cubicBezTo>
              </a:path>
              <a:path w="1142" h="422">
                <a:moveTo>
                  <a:pt x="15205" y="8930"/>
                </a:moveTo>
                <a:cubicBezTo>
                  <a:pt x="15310" y="8952"/>
                  <a:pt x="15396" y="8954"/>
                  <a:pt x="15503" y="89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3044880"/>
            <a:ext cx="179640" cy="304920"/>
          </a:xfrm>
          <a:custGeom>
            <a:avLst/>
            <a:gdLst/>
            <a:ahLst/>
            <a:rect l="l" t="t" r="r" b="b"/>
            <a:pathLst>
              <a:path w="497" h="845">
                <a:moveTo>
                  <a:pt x="16371" y="8483"/>
                </a:moveTo>
                <a:cubicBezTo>
                  <a:pt x="16331" y="8453"/>
                  <a:pt x="16277" y="8446"/>
                  <a:pt x="16222" y="8458"/>
                </a:cubicBezTo>
                <a:cubicBezTo>
                  <a:pt x="16129" y="8478"/>
                  <a:pt x="16034" y="8541"/>
                  <a:pt x="15999" y="8632"/>
                </a:cubicBezTo>
                <a:cubicBezTo>
                  <a:pt x="15977" y="8689"/>
                  <a:pt x="16069" y="8704"/>
                  <a:pt x="16098" y="8706"/>
                </a:cubicBezTo>
                <a:cubicBezTo>
                  <a:pt x="16178" y="8711"/>
                  <a:pt x="16208" y="8658"/>
                  <a:pt x="16272" y="8632"/>
                </a:cubicBezTo>
                <a:cubicBezTo>
                  <a:pt x="16280" y="8632"/>
                  <a:pt x="16289" y="8632"/>
                  <a:pt x="16297" y="8632"/>
                </a:cubicBezTo>
                <a:cubicBezTo>
                  <a:pt x="16297" y="8730"/>
                  <a:pt x="16262" y="8768"/>
                  <a:pt x="16222" y="8855"/>
                </a:cubicBezTo>
                <a:cubicBezTo>
                  <a:pt x="16159" y="8992"/>
                  <a:pt x="16084" y="9114"/>
                  <a:pt x="16024" y="9252"/>
                </a:cubicBezTo>
                <a:cubicBezTo>
                  <a:pt x="16016" y="9269"/>
                  <a:pt x="16007" y="9285"/>
                  <a:pt x="15999" y="9302"/>
                </a:cubicBezTo>
              </a:path>
              <a:path w="497" h="845">
                <a:moveTo>
                  <a:pt x="16495" y="9153"/>
                </a:moveTo>
                <a:cubicBezTo>
                  <a:pt x="16487" y="9153"/>
                  <a:pt x="16478" y="9153"/>
                  <a:pt x="16470" y="91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4040" y="3081240"/>
            <a:ext cx="1743120" cy="320760"/>
          </a:xfrm>
          <a:custGeom>
            <a:avLst/>
            <a:gdLst/>
            <a:ahLst/>
            <a:rect l="l" t="t" r="r" b="b"/>
            <a:pathLst>
              <a:path w="4838" h="894">
                <a:moveTo>
                  <a:pt x="17190" y="8731"/>
                </a:moveTo>
                <a:cubicBezTo>
                  <a:pt x="17221" y="8720"/>
                  <a:pt x="17220" y="8691"/>
                  <a:pt x="17239" y="8682"/>
                </a:cubicBezTo>
                <a:cubicBezTo>
                  <a:pt x="17247" y="8682"/>
                  <a:pt x="17256" y="8682"/>
                  <a:pt x="17264" y="8682"/>
                </a:cubicBezTo>
                <a:cubicBezTo>
                  <a:pt x="17191" y="8711"/>
                  <a:pt x="17133" y="8784"/>
                  <a:pt x="17090" y="8855"/>
                </a:cubicBezTo>
                <a:cubicBezTo>
                  <a:pt x="17059" y="8905"/>
                  <a:pt x="17013" y="9015"/>
                  <a:pt x="17090" y="9054"/>
                </a:cubicBezTo>
                <a:cubicBezTo>
                  <a:pt x="17147" y="9083"/>
                  <a:pt x="17269" y="9037"/>
                  <a:pt x="17314" y="9004"/>
                </a:cubicBezTo>
                <a:cubicBezTo>
                  <a:pt x="17415" y="8929"/>
                  <a:pt x="17413" y="8907"/>
                  <a:pt x="17413" y="8781"/>
                </a:cubicBezTo>
                <a:cubicBezTo>
                  <a:pt x="17413" y="8721"/>
                  <a:pt x="17398" y="8616"/>
                  <a:pt x="17338" y="8582"/>
                </a:cubicBezTo>
                <a:cubicBezTo>
                  <a:pt x="17314" y="8582"/>
                  <a:pt x="17306" y="8582"/>
                  <a:pt x="17314" y="8607"/>
                </a:cubicBezTo>
              </a:path>
              <a:path w="4838" h="894">
                <a:moveTo>
                  <a:pt x="17810" y="8582"/>
                </a:moveTo>
                <a:cubicBezTo>
                  <a:pt x="17800" y="8621"/>
                  <a:pt x="17785" y="8637"/>
                  <a:pt x="17785" y="8682"/>
                </a:cubicBezTo>
                <a:cubicBezTo>
                  <a:pt x="17785" y="8745"/>
                  <a:pt x="17782" y="8788"/>
                  <a:pt x="17859" y="8806"/>
                </a:cubicBezTo>
                <a:cubicBezTo>
                  <a:pt x="17909" y="8806"/>
                  <a:pt x="17926" y="8806"/>
                  <a:pt x="17959" y="8806"/>
                </a:cubicBezTo>
              </a:path>
              <a:path w="4838" h="894">
                <a:moveTo>
                  <a:pt x="18231" y="8558"/>
                </a:moveTo>
                <a:cubicBezTo>
                  <a:pt x="18113" y="8579"/>
                  <a:pt x="18079" y="8627"/>
                  <a:pt x="18008" y="8731"/>
                </a:cubicBezTo>
                <a:cubicBezTo>
                  <a:pt x="17947" y="8821"/>
                  <a:pt x="17877" y="8920"/>
                  <a:pt x="17859" y="9029"/>
                </a:cubicBezTo>
                <a:cubicBezTo>
                  <a:pt x="17859" y="9054"/>
                  <a:pt x="17859" y="9078"/>
                  <a:pt x="17859" y="9103"/>
                </a:cubicBezTo>
              </a:path>
              <a:path w="4838" h="894">
                <a:moveTo>
                  <a:pt x="18430" y="8855"/>
                </a:moveTo>
                <a:cubicBezTo>
                  <a:pt x="18377" y="8885"/>
                  <a:pt x="18330" y="8905"/>
                  <a:pt x="18355" y="8979"/>
                </a:cubicBezTo>
                <a:cubicBezTo>
                  <a:pt x="18367" y="9015"/>
                  <a:pt x="18417" y="9086"/>
                  <a:pt x="18455" y="9103"/>
                </a:cubicBezTo>
                <a:cubicBezTo>
                  <a:pt x="18479" y="9103"/>
                  <a:pt x="18488" y="9103"/>
                  <a:pt x="18504" y="9103"/>
                </a:cubicBezTo>
              </a:path>
              <a:path w="4838" h="894">
                <a:moveTo>
                  <a:pt x="18405" y="8880"/>
                </a:moveTo>
                <a:cubicBezTo>
                  <a:pt x="18380" y="8880"/>
                  <a:pt x="18356" y="8880"/>
                  <a:pt x="18331" y="8880"/>
                </a:cubicBezTo>
                <a:cubicBezTo>
                  <a:pt x="18435" y="8880"/>
                  <a:pt x="18526" y="8865"/>
                  <a:pt x="18628" y="8855"/>
                </a:cubicBezTo>
                <a:cubicBezTo>
                  <a:pt x="18653" y="8855"/>
                  <a:pt x="18678" y="8855"/>
                  <a:pt x="18703" y="8855"/>
                </a:cubicBezTo>
              </a:path>
              <a:path w="4838" h="894">
                <a:moveTo>
                  <a:pt x="18653" y="8582"/>
                </a:moveTo>
                <a:cubicBezTo>
                  <a:pt x="18562" y="8582"/>
                  <a:pt x="18521" y="8615"/>
                  <a:pt x="18529" y="8558"/>
                </a:cubicBezTo>
                <a:cubicBezTo>
                  <a:pt x="18594" y="8558"/>
                  <a:pt x="18665" y="8570"/>
                  <a:pt x="18728" y="8582"/>
                </a:cubicBezTo>
                <a:cubicBezTo>
                  <a:pt x="18819" y="8599"/>
                  <a:pt x="18884" y="8607"/>
                  <a:pt x="18976" y="8607"/>
                </a:cubicBezTo>
              </a:path>
              <a:path w="4838" h="894">
                <a:moveTo>
                  <a:pt x="19149" y="8905"/>
                </a:moveTo>
                <a:cubicBezTo>
                  <a:pt x="19257" y="8905"/>
                  <a:pt x="19364" y="8905"/>
                  <a:pt x="19472" y="8905"/>
                </a:cubicBezTo>
              </a:path>
              <a:path w="4838" h="894">
                <a:moveTo>
                  <a:pt x="20141" y="8607"/>
                </a:moveTo>
                <a:cubicBezTo>
                  <a:pt x="20249" y="8607"/>
                  <a:pt x="20356" y="8607"/>
                  <a:pt x="20464" y="8607"/>
                </a:cubicBezTo>
              </a:path>
              <a:path w="4838" h="894">
                <a:moveTo>
                  <a:pt x="20092" y="8607"/>
                </a:moveTo>
                <a:cubicBezTo>
                  <a:pt x="20004" y="8641"/>
                  <a:pt x="19882" y="8660"/>
                  <a:pt x="19844" y="8756"/>
                </a:cubicBezTo>
                <a:cubicBezTo>
                  <a:pt x="19844" y="8781"/>
                  <a:pt x="19844" y="8789"/>
                  <a:pt x="19844" y="8806"/>
                </a:cubicBezTo>
                <a:cubicBezTo>
                  <a:pt x="19926" y="8819"/>
                  <a:pt x="20010" y="8817"/>
                  <a:pt x="20092" y="8830"/>
                </a:cubicBezTo>
                <a:cubicBezTo>
                  <a:pt x="20141" y="8838"/>
                  <a:pt x="20315" y="8875"/>
                  <a:pt x="20315" y="8954"/>
                </a:cubicBezTo>
                <a:cubicBezTo>
                  <a:pt x="20315" y="9049"/>
                  <a:pt x="20164" y="9143"/>
                  <a:pt x="20092" y="9178"/>
                </a:cubicBezTo>
                <a:cubicBezTo>
                  <a:pt x="20021" y="9212"/>
                  <a:pt x="19922" y="9248"/>
                  <a:pt x="19844" y="9252"/>
                </a:cubicBezTo>
                <a:cubicBezTo>
                  <a:pt x="19802" y="9252"/>
                  <a:pt x="19794" y="9252"/>
                  <a:pt x="19769" y="9252"/>
                </a:cubicBezTo>
              </a:path>
              <a:path w="4838" h="894">
                <a:moveTo>
                  <a:pt x="21233" y="8756"/>
                </a:moveTo>
                <a:cubicBezTo>
                  <a:pt x="21151" y="8777"/>
                  <a:pt x="21063" y="8852"/>
                  <a:pt x="21010" y="8930"/>
                </a:cubicBezTo>
                <a:cubicBezTo>
                  <a:pt x="20939" y="9035"/>
                  <a:pt x="20882" y="9146"/>
                  <a:pt x="20811" y="9252"/>
                </a:cubicBezTo>
                <a:cubicBezTo>
                  <a:pt x="20788" y="9275"/>
                  <a:pt x="20780" y="9279"/>
                  <a:pt x="20786" y="9302"/>
                </a:cubicBezTo>
                <a:cubicBezTo>
                  <a:pt x="20856" y="9246"/>
                  <a:pt x="20927" y="9201"/>
                  <a:pt x="20985" y="9128"/>
                </a:cubicBezTo>
                <a:cubicBezTo>
                  <a:pt x="21068" y="9026"/>
                  <a:pt x="21158" y="8913"/>
                  <a:pt x="21233" y="8806"/>
                </a:cubicBezTo>
                <a:cubicBezTo>
                  <a:pt x="21253" y="8766"/>
                  <a:pt x="21251" y="8749"/>
                  <a:pt x="21282" y="8756"/>
                </a:cubicBezTo>
                <a:cubicBezTo>
                  <a:pt x="21275" y="8830"/>
                  <a:pt x="21244" y="8881"/>
                  <a:pt x="21233" y="8954"/>
                </a:cubicBezTo>
                <a:cubicBezTo>
                  <a:pt x="21221" y="9031"/>
                  <a:pt x="21227" y="9116"/>
                  <a:pt x="21258" y="9178"/>
                </a:cubicBezTo>
                <a:cubicBezTo>
                  <a:pt x="21335" y="9145"/>
                  <a:pt x="21409" y="9106"/>
                  <a:pt x="21481" y="9054"/>
                </a:cubicBezTo>
                <a:cubicBezTo>
                  <a:pt x="21612" y="8960"/>
                  <a:pt x="21711" y="8831"/>
                  <a:pt x="21828" y="8731"/>
                </a:cubicBezTo>
                <a:cubicBezTo>
                  <a:pt x="21845" y="8723"/>
                  <a:pt x="21861" y="8714"/>
                  <a:pt x="21878" y="8706"/>
                </a:cubicBezTo>
                <a:cubicBezTo>
                  <a:pt x="21849" y="8792"/>
                  <a:pt x="21831" y="8891"/>
                  <a:pt x="21803" y="8979"/>
                </a:cubicBezTo>
                <a:cubicBezTo>
                  <a:pt x="21758" y="9119"/>
                  <a:pt x="21727" y="9259"/>
                  <a:pt x="21803" y="9401"/>
                </a:cubicBezTo>
                <a:cubicBezTo>
                  <a:pt x="21820" y="9418"/>
                  <a:pt x="21836" y="9434"/>
                  <a:pt x="21853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00800" y="3884760"/>
            <a:ext cx="44280" cy="27000"/>
          </a:xfrm>
          <a:custGeom>
            <a:avLst/>
            <a:gdLst/>
            <a:ahLst/>
            <a:rect l="l" t="t" r="r" b="b"/>
            <a:pathLst>
              <a:path w="125" h="75">
                <a:moveTo>
                  <a:pt x="15280" y="10840"/>
                </a:moveTo>
                <a:cubicBezTo>
                  <a:pt x="15310" y="10840"/>
                  <a:pt x="15272" y="10860"/>
                  <a:pt x="15329" y="10840"/>
                </a:cubicBezTo>
                <a:cubicBezTo>
                  <a:pt x="15380" y="10822"/>
                  <a:pt x="15393" y="10824"/>
                  <a:pt x="15404" y="10790"/>
                </a:cubicBezTo>
                <a:cubicBezTo>
                  <a:pt x="15370" y="10824"/>
                  <a:pt x="15348" y="10853"/>
                  <a:pt x="15304" y="108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76920" y="3705120"/>
            <a:ext cx="1893960" cy="581040"/>
          </a:xfrm>
          <a:custGeom>
            <a:avLst/>
            <a:gdLst/>
            <a:ahLst/>
            <a:rect l="l" t="t" r="r" b="b"/>
            <a:pathLst>
              <a:path w="5259" h="1613">
                <a:moveTo>
                  <a:pt x="16346" y="10294"/>
                </a:moveTo>
                <a:cubicBezTo>
                  <a:pt x="16248" y="10366"/>
                  <a:pt x="16128" y="10454"/>
                  <a:pt x="16073" y="10567"/>
                </a:cubicBezTo>
                <a:cubicBezTo>
                  <a:pt x="16018" y="10680"/>
                  <a:pt x="16038" y="10793"/>
                  <a:pt x="16173" y="10815"/>
                </a:cubicBezTo>
                <a:cubicBezTo>
                  <a:pt x="16301" y="10836"/>
                  <a:pt x="16450" y="10812"/>
                  <a:pt x="16545" y="10716"/>
                </a:cubicBezTo>
                <a:cubicBezTo>
                  <a:pt x="16636" y="10625"/>
                  <a:pt x="16629" y="10505"/>
                  <a:pt x="16594" y="10393"/>
                </a:cubicBezTo>
                <a:cubicBezTo>
                  <a:pt x="16563" y="10296"/>
                  <a:pt x="16507" y="10294"/>
                  <a:pt x="16421" y="10294"/>
                </a:cubicBezTo>
                <a:cubicBezTo>
                  <a:pt x="16382" y="10294"/>
                  <a:pt x="16396" y="10311"/>
                  <a:pt x="16396" y="10344"/>
                </a:cubicBezTo>
              </a:path>
              <a:path w="5259" h="1613">
                <a:moveTo>
                  <a:pt x="17140" y="10443"/>
                </a:moveTo>
                <a:cubicBezTo>
                  <a:pt x="17118" y="10378"/>
                  <a:pt x="17050" y="10459"/>
                  <a:pt x="17016" y="10492"/>
                </a:cubicBezTo>
                <a:cubicBezTo>
                  <a:pt x="16939" y="10566"/>
                  <a:pt x="16826" y="10701"/>
                  <a:pt x="16842" y="10815"/>
                </a:cubicBezTo>
                <a:cubicBezTo>
                  <a:pt x="16859" y="10937"/>
                  <a:pt x="17048" y="10881"/>
                  <a:pt x="17115" y="10864"/>
                </a:cubicBezTo>
                <a:cubicBezTo>
                  <a:pt x="17216" y="10837"/>
                  <a:pt x="17318" y="10747"/>
                  <a:pt x="17338" y="10641"/>
                </a:cubicBezTo>
                <a:cubicBezTo>
                  <a:pt x="17356" y="10548"/>
                  <a:pt x="17310" y="10445"/>
                  <a:pt x="17214" y="10418"/>
                </a:cubicBezTo>
                <a:cubicBezTo>
                  <a:pt x="17161" y="10403"/>
                  <a:pt x="17085" y="10414"/>
                  <a:pt x="17066" y="10443"/>
                </a:cubicBezTo>
              </a:path>
              <a:path w="5259" h="1613">
                <a:moveTo>
                  <a:pt x="17760" y="10443"/>
                </a:moveTo>
                <a:cubicBezTo>
                  <a:pt x="17693" y="10418"/>
                  <a:pt x="17621" y="10405"/>
                  <a:pt x="17562" y="10468"/>
                </a:cubicBezTo>
                <a:cubicBezTo>
                  <a:pt x="17540" y="10511"/>
                  <a:pt x="17536" y="10523"/>
                  <a:pt x="17512" y="10542"/>
                </a:cubicBezTo>
                <a:cubicBezTo>
                  <a:pt x="17559" y="10577"/>
                  <a:pt x="17599" y="10567"/>
                  <a:pt x="17661" y="10567"/>
                </a:cubicBezTo>
                <a:cubicBezTo>
                  <a:pt x="17735" y="10567"/>
                  <a:pt x="17774" y="10537"/>
                  <a:pt x="17810" y="10492"/>
                </a:cubicBezTo>
                <a:cubicBezTo>
                  <a:pt x="17869" y="10418"/>
                  <a:pt x="17719" y="10602"/>
                  <a:pt x="17711" y="10616"/>
                </a:cubicBezTo>
                <a:cubicBezTo>
                  <a:pt x="17657" y="10709"/>
                  <a:pt x="17584" y="10833"/>
                  <a:pt x="17562" y="10939"/>
                </a:cubicBezTo>
                <a:cubicBezTo>
                  <a:pt x="17562" y="10980"/>
                  <a:pt x="17562" y="10988"/>
                  <a:pt x="17562" y="11013"/>
                </a:cubicBezTo>
              </a:path>
              <a:path w="5259" h="1613">
                <a:moveTo>
                  <a:pt x="18405" y="10443"/>
                </a:moveTo>
                <a:cubicBezTo>
                  <a:pt x="18434" y="10421"/>
                  <a:pt x="18540" y="10418"/>
                  <a:pt x="18504" y="10418"/>
                </a:cubicBezTo>
                <a:cubicBezTo>
                  <a:pt x="18496" y="10418"/>
                  <a:pt x="18487" y="10418"/>
                  <a:pt x="18479" y="10418"/>
                </a:cubicBezTo>
                <a:cubicBezTo>
                  <a:pt x="18425" y="10376"/>
                  <a:pt x="18390" y="10407"/>
                  <a:pt x="18331" y="10443"/>
                </a:cubicBezTo>
                <a:cubicBezTo>
                  <a:pt x="18188" y="10530"/>
                  <a:pt x="18107" y="10605"/>
                  <a:pt x="18058" y="10765"/>
                </a:cubicBezTo>
                <a:cubicBezTo>
                  <a:pt x="18020" y="10889"/>
                  <a:pt x="18042" y="10970"/>
                  <a:pt x="18182" y="10988"/>
                </a:cubicBezTo>
                <a:cubicBezTo>
                  <a:pt x="18281" y="11000"/>
                  <a:pt x="18388" y="10993"/>
                  <a:pt x="18455" y="10914"/>
                </a:cubicBezTo>
                <a:cubicBezTo>
                  <a:pt x="18484" y="10880"/>
                  <a:pt x="18479" y="10853"/>
                  <a:pt x="18479" y="10815"/>
                </a:cubicBezTo>
                <a:cubicBezTo>
                  <a:pt x="18372" y="10779"/>
                  <a:pt x="18318" y="10786"/>
                  <a:pt x="18231" y="10864"/>
                </a:cubicBezTo>
                <a:cubicBezTo>
                  <a:pt x="18145" y="10942"/>
                  <a:pt x="18144" y="10975"/>
                  <a:pt x="18231" y="11038"/>
                </a:cubicBezTo>
              </a:path>
              <a:path w="5259" h="1613">
                <a:moveTo>
                  <a:pt x="19000" y="10567"/>
                </a:moveTo>
                <a:cubicBezTo>
                  <a:pt x="19099" y="10567"/>
                  <a:pt x="19199" y="10567"/>
                  <a:pt x="19298" y="10567"/>
                </a:cubicBezTo>
              </a:path>
              <a:path w="5259" h="1613">
                <a:moveTo>
                  <a:pt x="19025" y="10592"/>
                </a:moveTo>
                <a:cubicBezTo>
                  <a:pt x="18884" y="10648"/>
                  <a:pt x="18851" y="10664"/>
                  <a:pt x="18752" y="10765"/>
                </a:cubicBezTo>
                <a:cubicBezTo>
                  <a:pt x="18744" y="10773"/>
                  <a:pt x="18736" y="10782"/>
                  <a:pt x="18728" y="10790"/>
                </a:cubicBezTo>
                <a:cubicBezTo>
                  <a:pt x="18774" y="10838"/>
                  <a:pt x="18805" y="10853"/>
                  <a:pt x="18876" y="10840"/>
                </a:cubicBezTo>
                <a:cubicBezTo>
                  <a:pt x="18960" y="10825"/>
                  <a:pt x="19052" y="10757"/>
                  <a:pt x="19124" y="10815"/>
                </a:cubicBezTo>
                <a:cubicBezTo>
                  <a:pt x="19172" y="10854"/>
                  <a:pt x="19084" y="10928"/>
                  <a:pt x="19050" y="10964"/>
                </a:cubicBezTo>
                <a:cubicBezTo>
                  <a:pt x="18971" y="11047"/>
                  <a:pt x="18877" y="11089"/>
                  <a:pt x="18777" y="11137"/>
                </a:cubicBezTo>
                <a:cubicBezTo>
                  <a:pt x="18738" y="11156"/>
                  <a:pt x="18659" y="11176"/>
                  <a:pt x="18678" y="11137"/>
                </a:cubicBezTo>
                <a:cubicBezTo>
                  <a:pt x="18686" y="11129"/>
                  <a:pt x="18695" y="11120"/>
                  <a:pt x="18703" y="11112"/>
                </a:cubicBezTo>
              </a:path>
              <a:path w="5259" h="1613">
                <a:moveTo>
                  <a:pt x="19745" y="10964"/>
                </a:moveTo>
                <a:cubicBezTo>
                  <a:pt x="19675" y="10922"/>
                  <a:pt x="19602" y="10935"/>
                  <a:pt x="19521" y="10964"/>
                </a:cubicBezTo>
                <a:cubicBezTo>
                  <a:pt x="19471" y="10982"/>
                  <a:pt x="19441" y="11000"/>
                  <a:pt x="19422" y="11038"/>
                </a:cubicBezTo>
                <a:cubicBezTo>
                  <a:pt x="19517" y="11038"/>
                  <a:pt x="19605" y="11046"/>
                  <a:pt x="19695" y="11013"/>
                </a:cubicBezTo>
                <a:cubicBezTo>
                  <a:pt x="19735" y="10993"/>
                  <a:pt x="19742" y="10984"/>
                  <a:pt x="19769" y="10988"/>
                </a:cubicBezTo>
                <a:cubicBezTo>
                  <a:pt x="19758" y="11081"/>
                  <a:pt x="19708" y="11139"/>
                  <a:pt x="19645" y="11212"/>
                </a:cubicBezTo>
                <a:cubicBezTo>
                  <a:pt x="19579" y="11289"/>
                  <a:pt x="19492" y="11396"/>
                  <a:pt x="19397" y="11410"/>
                </a:cubicBezTo>
                <a:cubicBezTo>
                  <a:pt x="19389" y="11410"/>
                  <a:pt x="19380" y="11410"/>
                  <a:pt x="19372" y="11410"/>
                </a:cubicBezTo>
                <a:cubicBezTo>
                  <a:pt x="19372" y="11350"/>
                  <a:pt x="19389" y="11295"/>
                  <a:pt x="19447" y="11261"/>
                </a:cubicBezTo>
                <a:cubicBezTo>
                  <a:pt x="19526" y="11215"/>
                  <a:pt x="19631" y="11190"/>
                  <a:pt x="19720" y="11187"/>
                </a:cubicBezTo>
                <a:cubicBezTo>
                  <a:pt x="19794" y="11187"/>
                  <a:pt x="19819" y="11187"/>
                  <a:pt x="19869" y="11187"/>
                </a:cubicBezTo>
              </a:path>
              <a:path w="5259" h="1613">
                <a:moveTo>
                  <a:pt x="20737" y="10542"/>
                </a:moveTo>
                <a:cubicBezTo>
                  <a:pt x="20728" y="10644"/>
                  <a:pt x="20698" y="10751"/>
                  <a:pt x="20638" y="10840"/>
                </a:cubicBezTo>
                <a:cubicBezTo>
                  <a:pt x="20501" y="11042"/>
                  <a:pt x="20357" y="11234"/>
                  <a:pt x="20216" y="11435"/>
                </a:cubicBezTo>
                <a:cubicBezTo>
                  <a:pt x="20123" y="11568"/>
                  <a:pt x="19995" y="11726"/>
                  <a:pt x="19943" y="11881"/>
                </a:cubicBezTo>
                <a:cubicBezTo>
                  <a:pt x="19943" y="11889"/>
                  <a:pt x="19943" y="11898"/>
                  <a:pt x="19943" y="11906"/>
                </a:cubicBezTo>
              </a:path>
              <a:path w="5259" h="1613">
                <a:moveTo>
                  <a:pt x="20886" y="11336"/>
                </a:moveTo>
                <a:cubicBezTo>
                  <a:pt x="20872" y="11393"/>
                  <a:pt x="20829" y="11440"/>
                  <a:pt x="20786" y="11485"/>
                </a:cubicBezTo>
                <a:cubicBezTo>
                  <a:pt x="20721" y="11554"/>
                  <a:pt x="20667" y="11612"/>
                  <a:pt x="20662" y="11708"/>
                </a:cubicBezTo>
                <a:cubicBezTo>
                  <a:pt x="20656" y="11818"/>
                  <a:pt x="20765" y="11770"/>
                  <a:pt x="20836" y="11782"/>
                </a:cubicBezTo>
                <a:cubicBezTo>
                  <a:pt x="20964" y="11803"/>
                  <a:pt x="21033" y="11799"/>
                  <a:pt x="21158" y="11782"/>
                </a:cubicBezTo>
                <a:cubicBezTo>
                  <a:pt x="21206" y="11775"/>
                  <a:pt x="21258" y="11782"/>
                  <a:pt x="21307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molarity of the salt and ions in S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sp = 1.0E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8880" y="741240"/>
            <a:ext cx="1036440" cy="411120"/>
          </a:xfrm>
          <a:custGeom>
            <a:avLst/>
            <a:gdLst/>
            <a:ahLst/>
            <a:rect l="l" t="t" r="r" b="b"/>
            <a:pathLst>
              <a:path w="2879" h="1142">
                <a:moveTo>
                  <a:pt x="2282" y="2059"/>
                </a:moveTo>
                <a:cubicBezTo>
                  <a:pt x="2374" y="2180"/>
                  <a:pt x="2273" y="2187"/>
                  <a:pt x="2257" y="2332"/>
                </a:cubicBezTo>
                <a:cubicBezTo>
                  <a:pt x="2234" y="2536"/>
                  <a:pt x="2232" y="2746"/>
                  <a:pt x="2232" y="2952"/>
                </a:cubicBezTo>
                <a:cubicBezTo>
                  <a:pt x="2232" y="3043"/>
                  <a:pt x="2223" y="3158"/>
                  <a:pt x="2307" y="3200"/>
                </a:cubicBezTo>
              </a:path>
              <a:path w="2879" h="1142">
                <a:moveTo>
                  <a:pt x="2753" y="2183"/>
                </a:moveTo>
                <a:cubicBezTo>
                  <a:pt x="2840" y="2168"/>
                  <a:pt x="2796" y="2239"/>
                  <a:pt x="2778" y="2332"/>
                </a:cubicBezTo>
                <a:cubicBezTo>
                  <a:pt x="2746" y="2494"/>
                  <a:pt x="2760" y="2618"/>
                  <a:pt x="2803" y="2778"/>
                </a:cubicBezTo>
                <a:cubicBezTo>
                  <a:pt x="2828" y="2853"/>
                  <a:pt x="2836" y="2877"/>
                  <a:pt x="2853" y="2927"/>
                </a:cubicBezTo>
              </a:path>
              <a:path w="2879" h="1142">
                <a:moveTo>
                  <a:pt x="2257" y="2555"/>
                </a:moveTo>
                <a:cubicBezTo>
                  <a:pt x="2362" y="2497"/>
                  <a:pt x="2462" y="2439"/>
                  <a:pt x="2580" y="2406"/>
                </a:cubicBezTo>
                <a:cubicBezTo>
                  <a:pt x="2696" y="2383"/>
                  <a:pt x="2729" y="2376"/>
                  <a:pt x="2803" y="2356"/>
                </a:cubicBezTo>
              </a:path>
              <a:path w="2879" h="1142">
                <a:moveTo>
                  <a:pt x="2257" y="2629"/>
                </a:moveTo>
                <a:cubicBezTo>
                  <a:pt x="2207" y="2662"/>
                  <a:pt x="2158" y="2696"/>
                  <a:pt x="2108" y="2729"/>
                </a:cubicBezTo>
                <a:cubicBezTo>
                  <a:pt x="2229" y="2709"/>
                  <a:pt x="2359" y="2681"/>
                  <a:pt x="2480" y="2654"/>
                </a:cubicBezTo>
                <a:cubicBezTo>
                  <a:pt x="2655" y="2615"/>
                  <a:pt x="2825" y="2565"/>
                  <a:pt x="3001" y="2530"/>
                </a:cubicBezTo>
              </a:path>
              <a:path w="2879" h="1142">
                <a:moveTo>
                  <a:pt x="3448" y="2232"/>
                </a:moveTo>
                <a:cubicBezTo>
                  <a:pt x="3472" y="2296"/>
                  <a:pt x="3473" y="2337"/>
                  <a:pt x="3473" y="2406"/>
                </a:cubicBezTo>
                <a:cubicBezTo>
                  <a:pt x="3473" y="2512"/>
                  <a:pt x="3529" y="2545"/>
                  <a:pt x="3621" y="2580"/>
                </a:cubicBezTo>
                <a:cubicBezTo>
                  <a:pt x="3750" y="2629"/>
                  <a:pt x="3876" y="2557"/>
                  <a:pt x="3994" y="2505"/>
                </a:cubicBezTo>
              </a:path>
              <a:path w="2879" h="1142">
                <a:moveTo>
                  <a:pt x="4217" y="2232"/>
                </a:moveTo>
                <a:cubicBezTo>
                  <a:pt x="4133" y="2170"/>
                  <a:pt x="4074" y="2164"/>
                  <a:pt x="3994" y="2257"/>
                </a:cubicBezTo>
                <a:cubicBezTo>
                  <a:pt x="3899" y="2368"/>
                  <a:pt x="3894" y="2547"/>
                  <a:pt x="3944" y="2679"/>
                </a:cubicBezTo>
                <a:cubicBezTo>
                  <a:pt x="3981" y="2776"/>
                  <a:pt x="4060" y="2812"/>
                  <a:pt x="4142" y="2853"/>
                </a:cubicBezTo>
              </a:path>
              <a:path w="2879" h="1142">
                <a:moveTo>
                  <a:pt x="4936" y="2282"/>
                </a:moveTo>
                <a:cubicBezTo>
                  <a:pt x="4875" y="2294"/>
                  <a:pt x="4819" y="2328"/>
                  <a:pt x="4762" y="2356"/>
                </a:cubicBezTo>
                <a:cubicBezTo>
                  <a:pt x="4719" y="2378"/>
                  <a:pt x="4707" y="2382"/>
                  <a:pt x="4688" y="2406"/>
                </a:cubicBezTo>
                <a:cubicBezTo>
                  <a:pt x="4707" y="2435"/>
                  <a:pt x="4784" y="2446"/>
                  <a:pt x="4837" y="2431"/>
                </a:cubicBezTo>
                <a:cubicBezTo>
                  <a:pt x="4893" y="2415"/>
                  <a:pt x="4935" y="2369"/>
                  <a:pt x="4986" y="2356"/>
                </a:cubicBezTo>
                <a:cubicBezTo>
                  <a:pt x="4986" y="2453"/>
                  <a:pt x="4983" y="2533"/>
                  <a:pt x="4961" y="2629"/>
                </a:cubicBezTo>
                <a:cubicBezTo>
                  <a:pt x="4931" y="2760"/>
                  <a:pt x="4932" y="2831"/>
                  <a:pt x="4986" y="29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7000" y="866880"/>
            <a:ext cx="588960" cy="473040"/>
          </a:xfrm>
          <a:custGeom>
            <a:avLst/>
            <a:gdLst/>
            <a:ahLst/>
            <a:rect l="l" t="t" r="r" b="b"/>
            <a:pathLst>
              <a:path w="1638" h="1316">
                <a:moveTo>
                  <a:pt x="7069" y="2456"/>
                </a:moveTo>
                <a:cubicBezTo>
                  <a:pt x="6947" y="2415"/>
                  <a:pt x="6830" y="2382"/>
                  <a:pt x="6697" y="2406"/>
                </a:cubicBezTo>
                <a:cubicBezTo>
                  <a:pt x="6630" y="2418"/>
                  <a:pt x="6615" y="2439"/>
                  <a:pt x="6573" y="2480"/>
                </a:cubicBezTo>
                <a:cubicBezTo>
                  <a:pt x="6599" y="2570"/>
                  <a:pt x="6678" y="2604"/>
                  <a:pt x="6772" y="2654"/>
                </a:cubicBezTo>
                <a:cubicBezTo>
                  <a:pt x="6879" y="2711"/>
                  <a:pt x="7010" y="2754"/>
                  <a:pt x="7045" y="2877"/>
                </a:cubicBezTo>
                <a:cubicBezTo>
                  <a:pt x="7075" y="2980"/>
                  <a:pt x="6915" y="3081"/>
                  <a:pt x="6846" y="3125"/>
                </a:cubicBezTo>
                <a:cubicBezTo>
                  <a:pt x="6798" y="3149"/>
                  <a:pt x="6784" y="3157"/>
                  <a:pt x="6747" y="3150"/>
                </a:cubicBezTo>
              </a:path>
              <a:path w="1638" h="1316">
                <a:moveTo>
                  <a:pt x="7293" y="2853"/>
                </a:moveTo>
                <a:cubicBezTo>
                  <a:pt x="7398" y="2923"/>
                  <a:pt x="7421" y="2929"/>
                  <a:pt x="7367" y="3051"/>
                </a:cubicBezTo>
                <a:cubicBezTo>
                  <a:pt x="7346" y="3097"/>
                  <a:pt x="7324" y="3136"/>
                  <a:pt x="7293" y="3175"/>
                </a:cubicBezTo>
                <a:cubicBezTo>
                  <a:pt x="7346" y="3121"/>
                  <a:pt x="7396" y="3061"/>
                  <a:pt x="7441" y="3001"/>
                </a:cubicBezTo>
                <a:cubicBezTo>
                  <a:pt x="7516" y="2902"/>
                  <a:pt x="7573" y="2823"/>
                  <a:pt x="7689" y="2778"/>
                </a:cubicBezTo>
                <a:cubicBezTo>
                  <a:pt x="7762" y="2754"/>
                  <a:pt x="7786" y="2745"/>
                  <a:pt x="7838" y="2753"/>
                </a:cubicBezTo>
              </a:path>
              <a:path w="1638" h="1316">
                <a:moveTo>
                  <a:pt x="7987" y="3324"/>
                </a:moveTo>
                <a:cubicBezTo>
                  <a:pt x="8009" y="3307"/>
                  <a:pt x="8053" y="3280"/>
                  <a:pt x="8086" y="3299"/>
                </a:cubicBezTo>
                <a:cubicBezTo>
                  <a:pt x="8138" y="3328"/>
                  <a:pt x="8110" y="3411"/>
                  <a:pt x="8086" y="3448"/>
                </a:cubicBezTo>
                <a:cubicBezTo>
                  <a:pt x="8064" y="3482"/>
                  <a:pt x="8047" y="3483"/>
                  <a:pt x="8037" y="3522"/>
                </a:cubicBezTo>
                <a:cubicBezTo>
                  <a:pt x="8100" y="3522"/>
                  <a:pt x="8127" y="3502"/>
                  <a:pt x="8186" y="3497"/>
                </a:cubicBezTo>
                <a:cubicBezTo>
                  <a:pt x="8194" y="3497"/>
                  <a:pt x="8202" y="3497"/>
                  <a:pt x="8210" y="3497"/>
                </a:cubicBezTo>
                <a:cubicBezTo>
                  <a:pt x="8210" y="3573"/>
                  <a:pt x="8170" y="3582"/>
                  <a:pt x="8111" y="3621"/>
                </a:cubicBezTo>
                <a:cubicBezTo>
                  <a:pt x="8041" y="3667"/>
                  <a:pt x="7969" y="3705"/>
                  <a:pt x="7888" y="37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60800" y="741240"/>
            <a:ext cx="1268280" cy="642960"/>
          </a:xfrm>
          <a:custGeom>
            <a:avLst/>
            <a:gdLst/>
            <a:ahLst/>
            <a:rect l="l" t="t" r="r" b="b"/>
            <a:pathLst>
              <a:path w="3523" h="1787">
                <a:moveTo>
                  <a:pt x="9227" y="2307"/>
                </a:moveTo>
                <a:cubicBezTo>
                  <a:pt x="9227" y="2279"/>
                  <a:pt x="9225" y="2268"/>
                  <a:pt x="9203" y="2257"/>
                </a:cubicBezTo>
                <a:cubicBezTo>
                  <a:pt x="9125" y="2268"/>
                  <a:pt x="9057" y="2310"/>
                  <a:pt x="9004" y="2381"/>
                </a:cubicBezTo>
                <a:cubicBezTo>
                  <a:pt x="8885" y="2542"/>
                  <a:pt x="8800" y="2726"/>
                  <a:pt x="8781" y="2927"/>
                </a:cubicBezTo>
                <a:cubicBezTo>
                  <a:pt x="8769" y="3059"/>
                  <a:pt x="8801" y="3173"/>
                  <a:pt x="8830" y="3299"/>
                </a:cubicBezTo>
              </a:path>
              <a:path w="3523" h="1787">
                <a:moveTo>
                  <a:pt x="9376" y="2778"/>
                </a:moveTo>
                <a:cubicBezTo>
                  <a:pt x="9376" y="2903"/>
                  <a:pt x="9362" y="3034"/>
                  <a:pt x="9401" y="3150"/>
                </a:cubicBezTo>
                <a:cubicBezTo>
                  <a:pt x="9439" y="3226"/>
                  <a:pt x="9424" y="2993"/>
                  <a:pt x="9426" y="2977"/>
                </a:cubicBezTo>
                <a:cubicBezTo>
                  <a:pt x="9445" y="2841"/>
                  <a:pt x="9435" y="2655"/>
                  <a:pt x="9500" y="2530"/>
                </a:cubicBezTo>
                <a:cubicBezTo>
                  <a:pt x="9551" y="2432"/>
                  <a:pt x="9651" y="2410"/>
                  <a:pt x="9748" y="2406"/>
                </a:cubicBezTo>
                <a:cubicBezTo>
                  <a:pt x="9836" y="2403"/>
                  <a:pt x="9912" y="2418"/>
                  <a:pt x="9947" y="2505"/>
                </a:cubicBezTo>
                <a:cubicBezTo>
                  <a:pt x="9947" y="2513"/>
                  <a:pt x="9947" y="2522"/>
                  <a:pt x="9947" y="2530"/>
                </a:cubicBezTo>
                <a:cubicBezTo>
                  <a:pt x="9858" y="2570"/>
                  <a:pt x="9764" y="2592"/>
                  <a:pt x="9674" y="2629"/>
                </a:cubicBezTo>
                <a:cubicBezTo>
                  <a:pt x="9626" y="2653"/>
                  <a:pt x="9612" y="2661"/>
                  <a:pt x="9575" y="2654"/>
                </a:cubicBezTo>
              </a:path>
              <a:path w="3523" h="1787">
                <a:moveTo>
                  <a:pt x="10344" y="2480"/>
                </a:moveTo>
                <a:cubicBezTo>
                  <a:pt x="10368" y="2530"/>
                  <a:pt x="10292" y="2577"/>
                  <a:pt x="10244" y="2629"/>
                </a:cubicBezTo>
                <a:cubicBezTo>
                  <a:pt x="10153" y="2728"/>
                  <a:pt x="10056" y="2856"/>
                  <a:pt x="10071" y="3001"/>
                </a:cubicBezTo>
                <a:cubicBezTo>
                  <a:pt x="10085" y="3135"/>
                  <a:pt x="10219" y="3149"/>
                  <a:pt x="10319" y="3101"/>
                </a:cubicBezTo>
                <a:cubicBezTo>
                  <a:pt x="10419" y="3053"/>
                  <a:pt x="10495" y="2941"/>
                  <a:pt x="10492" y="2828"/>
                </a:cubicBezTo>
                <a:cubicBezTo>
                  <a:pt x="10488" y="2702"/>
                  <a:pt x="10450" y="2612"/>
                  <a:pt x="10393" y="2505"/>
                </a:cubicBezTo>
                <a:cubicBezTo>
                  <a:pt x="10368" y="2457"/>
                  <a:pt x="10360" y="2433"/>
                  <a:pt x="10344" y="2480"/>
                </a:cubicBezTo>
              </a:path>
              <a:path w="3523" h="1787">
                <a:moveTo>
                  <a:pt x="10716" y="2902"/>
                </a:moveTo>
                <a:cubicBezTo>
                  <a:pt x="10689" y="2968"/>
                  <a:pt x="10645" y="3009"/>
                  <a:pt x="10641" y="3076"/>
                </a:cubicBezTo>
                <a:cubicBezTo>
                  <a:pt x="10636" y="3162"/>
                  <a:pt x="10689" y="3216"/>
                  <a:pt x="10765" y="3249"/>
                </a:cubicBezTo>
                <a:cubicBezTo>
                  <a:pt x="10853" y="3287"/>
                  <a:pt x="10877" y="3273"/>
                  <a:pt x="10964" y="3249"/>
                </a:cubicBezTo>
              </a:path>
              <a:path w="3523" h="1787">
                <a:moveTo>
                  <a:pt x="11112" y="3026"/>
                </a:moveTo>
                <a:cubicBezTo>
                  <a:pt x="11112" y="3010"/>
                  <a:pt x="11112" y="2993"/>
                  <a:pt x="11112" y="2977"/>
                </a:cubicBezTo>
                <a:cubicBezTo>
                  <a:pt x="11016" y="2990"/>
                  <a:pt x="10993" y="3056"/>
                  <a:pt x="10964" y="3150"/>
                </a:cubicBezTo>
                <a:cubicBezTo>
                  <a:pt x="10918" y="3298"/>
                  <a:pt x="10937" y="3409"/>
                  <a:pt x="10988" y="3547"/>
                </a:cubicBezTo>
              </a:path>
              <a:path w="3523" h="1787">
                <a:moveTo>
                  <a:pt x="11509" y="2059"/>
                </a:moveTo>
                <a:cubicBezTo>
                  <a:pt x="11520" y="2173"/>
                  <a:pt x="11555" y="2291"/>
                  <a:pt x="11584" y="2406"/>
                </a:cubicBezTo>
                <a:cubicBezTo>
                  <a:pt x="11646" y="2646"/>
                  <a:pt x="11707" y="2848"/>
                  <a:pt x="11683" y="3101"/>
                </a:cubicBezTo>
                <a:cubicBezTo>
                  <a:pt x="11665" y="3289"/>
                  <a:pt x="11613" y="3369"/>
                  <a:pt x="11485" y="3497"/>
                </a:cubicBezTo>
              </a:path>
              <a:path w="3523" h="1787">
                <a:moveTo>
                  <a:pt x="12030" y="3448"/>
                </a:moveTo>
                <a:cubicBezTo>
                  <a:pt x="12017" y="3395"/>
                  <a:pt x="12079" y="3379"/>
                  <a:pt x="12154" y="3398"/>
                </a:cubicBezTo>
                <a:cubicBezTo>
                  <a:pt x="12240" y="3420"/>
                  <a:pt x="12313" y="3513"/>
                  <a:pt x="12303" y="3597"/>
                </a:cubicBezTo>
                <a:cubicBezTo>
                  <a:pt x="12291" y="3701"/>
                  <a:pt x="12147" y="3798"/>
                  <a:pt x="12055" y="3820"/>
                </a:cubicBezTo>
                <a:cubicBezTo>
                  <a:pt x="11995" y="3835"/>
                  <a:pt x="11856" y="3832"/>
                  <a:pt x="11832" y="3795"/>
                </a:cubicBezTo>
                <a:cubicBezTo>
                  <a:pt x="11891" y="3748"/>
                  <a:pt x="11951" y="3730"/>
                  <a:pt x="12030" y="3746"/>
                </a:cubicBezTo>
                <a:cubicBezTo>
                  <a:pt x="12110" y="3762"/>
                  <a:pt x="12179" y="3814"/>
                  <a:pt x="12254" y="38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22920" y="1035000"/>
            <a:ext cx="222120" cy="108000"/>
          </a:xfrm>
          <a:custGeom>
            <a:avLst/>
            <a:gdLst/>
            <a:ahLst/>
            <a:rect l="l" t="t" r="r" b="b"/>
            <a:pathLst>
              <a:path w="621" h="299">
                <a:moveTo>
                  <a:pt x="13395" y="2977"/>
                </a:moveTo>
                <a:cubicBezTo>
                  <a:pt x="13425" y="2967"/>
                  <a:pt x="13446" y="2941"/>
                  <a:pt x="13494" y="2927"/>
                </a:cubicBezTo>
                <a:cubicBezTo>
                  <a:pt x="13579" y="2901"/>
                  <a:pt x="13655" y="2881"/>
                  <a:pt x="13742" y="2877"/>
                </a:cubicBezTo>
                <a:cubicBezTo>
                  <a:pt x="13796" y="2874"/>
                  <a:pt x="13838" y="2895"/>
                  <a:pt x="13891" y="2902"/>
                </a:cubicBezTo>
              </a:path>
              <a:path w="621" h="299">
                <a:moveTo>
                  <a:pt x="13469" y="3150"/>
                </a:moveTo>
                <a:cubicBezTo>
                  <a:pt x="13513" y="3183"/>
                  <a:pt x="13535" y="3175"/>
                  <a:pt x="13593" y="3175"/>
                </a:cubicBezTo>
                <a:cubicBezTo>
                  <a:pt x="13734" y="3175"/>
                  <a:pt x="13874" y="3175"/>
                  <a:pt x="14015" y="31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5160" y="973080"/>
            <a:ext cx="1162080" cy="322200"/>
          </a:xfrm>
          <a:custGeom>
            <a:avLst/>
            <a:gdLst/>
            <a:ahLst/>
            <a:rect l="l" t="t" r="r" b="b"/>
            <a:pathLst>
              <a:path w="3226" h="894">
                <a:moveTo>
                  <a:pt x="15180" y="2753"/>
                </a:moveTo>
                <a:cubicBezTo>
                  <a:pt x="15262" y="2753"/>
                  <a:pt x="15324" y="2733"/>
                  <a:pt x="15404" y="2729"/>
                </a:cubicBezTo>
                <a:cubicBezTo>
                  <a:pt x="15489" y="2725"/>
                  <a:pt x="15564" y="2704"/>
                  <a:pt x="15652" y="2704"/>
                </a:cubicBezTo>
                <a:cubicBezTo>
                  <a:pt x="15668" y="2704"/>
                  <a:pt x="15685" y="2704"/>
                  <a:pt x="15701" y="2704"/>
                </a:cubicBezTo>
              </a:path>
              <a:path w="3226" h="894">
                <a:moveTo>
                  <a:pt x="15280" y="2729"/>
                </a:moveTo>
                <a:cubicBezTo>
                  <a:pt x="15200" y="2753"/>
                  <a:pt x="15035" y="2780"/>
                  <a:pt x="14957" y="2828"/>
                </a:cubicBezTo>
                <a:cubicBezTo>
                  <a:pt x="14919" y="2852"/>
                  <a:pt x="14922" y="2903"/>
                  <a:pt x="14957" y="2927"/>
                </a:cubicBezTo>
                <a:cubicBezTo>
                  <a:pt x="15030" y="2977"/>
                  <a:pt x="15123" y="2999"/>
                  <a:pt x="15205" y="3026"/>
                </a:cubicBezTo>
                <a:cubicBezTo>
                  <a:pt x="15289" y="3054"/>
                  <a:pt x="15406" y="3070"/>
                  <a:pt x="15429" y="3175"/>
                </a:cubicBezTo>
                <a:cubicBezTo>
                  <a:pt x="15452" y="3279"/>
                  <a:pt x="15381" y="3327"/>
                  <a:pt x="15304" y="3373"/>
                </a:cubicBezTo>
                <a:cubicBezTo>
                  <a:pt x="15249" y="3406"/>
                  <a:pt x="15118" y="3421"/>
                  <a:pt x="15056" y="3398"/>
                </a:cubicBezTo>
                <a:cubicBezTo>
                  <a:pt x="15048" y="3390"/>
                  <a:pt x="15040" y="3381"/>
                  <a:pt x="15032" y="3373"/>
                </a:cubicBezTo>
              </a:path>
              <a:path w="3226" h="894">
                <a:moveTo>
                  <a:pt x="15974" y="3125"/>
                </a:moveTo>
                <a:cubicBezTo>
                  <a:pt x="15950" y="3181"/>
                  <a:pt x="15931" y="3223"/>
                  <a:pt x="15900" y="3274"/>
                </a:cubicBezTo>
                <a:cubicBezTo>
                  <a:pt x="15872" y="3321"/>
                  <a:pt x="15850" y="3374"/>
                  <a:pt x="15825" y="3423"/>
                </a:cubicBezTo>
              </a:path>
              <a:path w="3226" h="894">
                <a:moveTo>
                  <a:pt x="16669" y="3225"/>
                </a:moveTo>
                <a:cubicBezTo>
                  <a:pt x="16614" y="3246"/>
                  <a:pt x="16533" y="3272"/>
                  <a:pt x="16495" y="3324"/>
                </a:cubicBezTo>
                <a:cubicBezTo>
                  <a:pt x="16451" y="3384"/>
                  <a:pt x="16455" y="3457"/>
                  <a:pt x="16520" y="3497"/>
                </a:cubicBezTo>
                <a:cubicBezTo>
                  <a:pt x="16560" y="3522"/>
                  <a:pt x="16638" y="3489"/>
                  <a:pt x="16669" y="3473"/>
                </a:cubicBezTo>
                <a:cubicBezTo>
                  <a:pt x="16732" y="3439"/>
                  <a:pt x="16779" y="3351"/>
                  <a:pt x="16743" y="3274"/>
                </a:cubicBezTo>
                <a:cubicBezTo>
                  <a:pt x="16717" y="3219"/>
                  <a:pt x="16659" y="3185"/>
                  <a:pt x="16644" y="3125"/>
                </a:cubicBezTo>
                <a:cubicBezTo>
                  <a:pt x="16721" y="3125"/>
                  <a:pt x="16769" y="3149"/>
                  <a:pt x="16842" y="3175"/>
                </a:cubicBezTo>
                <a:cubicBezTo>
                  <a:pt x="16919" y="3202"/>
                  <a:pt x="17008" y="3219"/>
                  <a:pt x="17041" y="3299"/>
                </a:cubicBezTo>
                <a:cubicBezTo>
                  <a:pt x="17064" y="3353"/>
                  <a:pt x="17017" y="3356"/>
                  <a:pt x="16991" y="3373"/>
                </a:cubicBezTo>
                <a:cubicBezTo>
                  <a:pt x="16983" y="3381"/>
                  <a:pt x="16974" y="3390"/>
                  <a:pt x="16966" y="3398"/>
                </a:cubicBezTo>
                <a:cubicBezTo>
                  <a:pt x="17046" y="3388"/>
                  <a:pt x="17134" y="3367"/>
                  <a:pt x="17214" y="3349"/>
                </a:cubicBezTo>
                <a:cubicBezTo>
                  <a:pt x="17287" y="3333"/>
                  <a:pt x="17352" y="3296"/>
                  <a:pt x="17413" y="3349"/>
                </a:cubicBezTo>
                <a:cubicBezTo>
                  <a:pt x="17459" y="3389"/>
                  <a:pt x="17437" y="3408"/>
                  <a:pt x="17413" y="3448"/>
                </a:cubicBezTo>
              </a:path>
              <a:path w="3226" h="894">
                <a:moveTo>
                  <a:pt x="18058" y="3448"/>
                </a:moveTo>
                <a:cubicBezTo>
                  <a:pt x="18108" y="3419"/>
                  <a:pt x="18143" y="3404"/>
                  <a:pt x="18157" y="3349"/>
                </a:cubicBezTo>
                <a:cubicBezTo>
                  <a:pt x="18088" y="3339"/>
                  <a:pt x="18036" y="3303"/>
                  <a:pt x="17959" y="3299"/>
                </a:cubicBezTo>
                <a:cubicBezTo>
                  <a:pt x="17898" y="3296"/>
                  <a:pt x="17826" y="3319"/>
                  <a:pt x="17859" y="3398"/>
                </a:cubicBezTo>
                <a:cubicBezTo>
                  <a:pt x="17875" y="3436"/>
                  <a:pt x="17933" y="3489"/>
                  <a:pt x="17959" y="3522"/>
                </a:cubicBezTo>
                <a:cubicBezTo>
                  <a:pt x="17905" y="3576"/>
                  <a:pt x="17838" y="3590"/>
                  <a:pt x="17760" y="3597"/>
                </a:cubicBezTo>
                <a:cubicBezTo>
                  <a:pt x="17669" y="3597"/>
                  <a:pt x="17645" y="3597"/>
                  <a:pt x="17587" y="3597"/>
                </a:cubicBezTo>
              </a:path>
              <a:path w="3226" h="894">
                <a:moveTo>
                  <a:pt x="16173" y="2704"/>
                </a:moveTo>
                <a:cubicBezTo>
                  <a:pt x="16207" y="2755"/>
                  <a:pt x="16280" y="2722"/>
                  <a:pt x="16346" y="27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5760" y="1608120"/>
            <a:ext cx="1581120" cy="633600"/>
          </a:xfrm>
          <a:custGeom>
            <a:avLst/>
            <a:gdLst/>
            <a:ahLst/>
            <a:rect l="l" t="t" r="r" b="b"/>
            <a:pathLst>
              <a:path w="4392" h="1762">
                <a:moveTo>
                  <a:pt x="5035" y="4589"/>
                </a:moveTo>
                <a:cubicBezTo>
                  <a:pt x="5115" y="4529"/>
                  <a:pt x="5148" y="4530"/>
                  <a:pt x="5135" y="4465"/>
                </a:cubicBezTo>
                <a:cubicBezTo>
                  <a:pt x="4989" y="4465"/>
                  <a:pt x="4918" y="4490"/>
                  <a:pt x="4787" y="4564"/>
                </a:cubicBezTo>
                <a:cubicBezTo>
                  <a:pt x="4657" y="4637"/>
                  <a:pt x="4547" y="4691"/>
                  <a:pt x="4514" y="4837"/>
                </a:cubicBezTo>
                <a:cubicBezTo>
                  <a:pt x="4619" y="4919"/>
                  <a:pt x="4707" y="4907"/>
                  <a:pt x="4837" y="4936"/>
                </a:cubicBezTo>
                <a:cubicBezTo>
                  <a:pt x="4931" y="4957"/>
                  <a:pt x="5059" y="4986"/>
                  <a:pt x="4986" y="5110"/>
                </a:cubicBezTo>
                <a:cubicBezTo>
                  <a:pt x="4906" y="5246"/>
                  <a:pt x="4783" y="5314"/>
                  <a:pt x="4663" y="5407"/>
                </a:cubicBezTo>
                <a:cubicBezTo>
                  <a:pt x="4640" y="5430"/>
                  <a:pt x="4629" y="5438"/>
                  <a:pt x="4663" y="5432"/>
                </a:cubicBezTo>
              </a:path>
              <a:path w="4392" h="1762">
                <a:moveTo>
                  <a:pt x="5308" y="5060"/>
                </a:moveTo>
                <a:cubicBezTo>
                  <a:pt x="5278" y="5213"/>
                  <a:pt x="5204" y="5255"/>
                  <a:pt x="5110" y="5383"/>
                </a:cubicBezTo>
                <a:cubicBezTo>
                  <a:pt x="5088" y="5426"/>
                  <a:pt x="5084" y="5438"/>
                  <a:pt x="5060" y="5457"/>
                </a:cubicBezTo>
                <a:cubicBezTo>
                  <a:pt x="5092" y="5378"/>
                  <a:pt x="5198" y="5276"/>
                  <a:pt x="5259" y="5209"/>
                </a:cubicBezTo>
                <a:cubicBezTo>
                  <a:pt x="5344" y="5116"/>
                  <a:pt x="5427" y="4985"/>
                  <a:pt x="5531" y="4911"/>
                </a:cubicBezTo>
                <a:cubicBezTo>
                  <a:pt x="5583" y="4874"/>
                  <a:pt x="5590" y="4882"/>
                  <a:pt x="5631" y="4911"/>
                </a:cubicBezTo>
              </a:path>
              <a:path w="4392" h="1762">
                <a:moveTo>
                  <a:pt x="5581" y="5507"/>
                </a:moveTo>
                <a:cubicBezTo>
                  <a:pt x="5601" y="5565"/>
                  <a:pt x="5630" y="5494"/>
                  <a:pt x="5680" y="5482"/>
                </a:cubicBezTo>
                <a:cubicBezTo>
                  <a:pt x="5717" y="5473"/>
                  <a:pt x="5766" y="5482"/>
                  <a:pt x="5804" y="5482"/>
                </a:cubicBezTo>
                <a:cubicBezTo>
                  <a:pt x="5793" y="5557"/>
                  <a:pt x="5761" y="5596"/>
                  <a:pt x="5705" y="5655"/>
                </a:cubicBezTo>
                <a:cubicBezTo>
                  <a:pt x="5664" y="5698"/>
                  <a:pt x="5643" y="5705"/>
                  <a:pt x="5631" y="5755"/>
                </a:cubicBezTo>
                <a:cubicBezTo>
                  <a:pt x="5659" y="5775"/>
                  <a:pt x="5745" y="5777"/>
                  <a:pt x="5730" y="5829"/>
                </a:cubicBezTo>
                <a:cubicBezTo>
                  <a:pt x="5702" y="5926"/>
                  <a:pt x="5635" y="5954"/>
                  <a:pt x="5556" y="6003"/>
                </a:cubicBezTo>
                <a:cubicBezTo>
                  <a:pt x="5503" y="6036"/>
                  <a:pt x="5458" y="6081"/>
                  <a:pt x="5407" y="6102"/>
                </a:cubicBezTo>
              </a:path>
              <a:path w="4392" h="1762">
                <a:moveTo>
                  <a:pt x="6672" y="4688"/>
                </a:moveTo>
                <a:cubicBezTo>
                  <a:pt x="6672" y="4627"/>
                  <a:pt x="6681" y="4612"/>
                  <a:pt x="6648" y="4589"/>
                </a:cubicBezTo>
                <a:cubicBezTo>
                  <a:pt x="6528" y="4609"/>
                  <a:pt x="6464" y="4706"/>
                  <a:pt x="6400" y="4812"/>
                </a:cubicBezTo>
                <a:cubicBezTo>
                  <a:pt x="6283" y="5005"/>
                  <a:pt x="6212" y="5282"/>
                  <a:pt x="6226" y="5507"/>
                </a:cubicBezTo>
                <a:cubicBezTo>
                  <a:pt x="6234" y="5635"/>
                  <a:pt x="6285" y="5673"/>
                  <a:pt x="6375" y="5730"/>
                </a:cubicBezTo>
              </a:path>
              <a:path w="4392" h="1762">
                <a:moveTo>
                  <a:pt x="6747" y="5159"/>
                </a:moveTo>
                <a:cubicBezTo>
                  <a:pt x="6747" y="5275"/>
                  <a:pt x="6747" y="5391"/>
                  <a:pt x="6747" y="5507"/>
                </a:cubicBezTo>
                <a:cubicBezTo>
                  <a:pt x="6747" y="5363"/>
                  <a:pt x="6743" y="5227"/>
                  <a:pt x="6772" y="5085"/>
                </a:cubicBezTo>
                <a:cubicBezTo>
                  <a:pt x="6800" y="4949"/>
                  <a:pt x="6854" y="4839"/>
                  <a:pt x="6970" y="4762"/>
                </a:cubicBezTo>
                <a:cubicBezTo>
                  <a:pt x="7025" y="4726"/>
                  <a:pt x="7082" y="4720"/>
                  <a:pt x="7144" y="4713"/>
                </a:cubicBezTo>
                <a:cubicBezTo>
                  <a:pt x="7197" y="4801"/>
                  <a:pt x="7172" y="4825"/>
                  <a:pt x="7094" y="4887"/>
                </a:cubicBezTo>
                <a:cubicBezTo>
                  <a:pt x="6989" y="4970"/>
                  <a:pt x="6878" y="5071"/>
                  <a:pt x="6747" y="5110"/>
                </a:cubicBezTo>
                <a:cubicBezTo>
                  <a:pt x="6739" y="5110"/>
                  <a:pt x="6730" y="5110"/>
                  <a:pt x="6722" y="5110"/>
                </a:cubicBezTo>
              </a:path>
              <a:path w="4392" h="1762">
                <a:moveTo>
                  <a:pt x="7466" y="4862"/>
                </a:moveTo>
                <a:cubicBezTo>
                  <a:pt x="7445" y="5033"/>
                  <a:pt x="7351" y="5121"/>
                  <a:pt x="7293" y="5283"/>
                </a:cubicBezTo>
                <a:cubicBezTo>
                  <a:pt x="7258" y="5380"/>
                  <a:pt x="7265" y="5440"/>
                  <a:pt x="7293" y="5531"/>
                </a:cubicBezTo>
                <a:cubicBezTo>
                  <a:pt x="7415" y="5521"/>
                  <a:pt x="7513" y="5492"/>
                  <a:pt x="7590" y="5383"/>
                </a:cubicBezTo>
                <a:cubicBezTo>
                  <a:pt x="7664" y="5279"/>
                  <a:pt x="7692" y="5131"/>
                  <a:pt x="7640" y="5011"/>
                </a:cubicBezTo>
                <a:cubicBezTo>
                  <a:pt x="7614" y="4951"/>
                  <a:pt x="7511" y="4845"/>
                  <a:pt x="7441" y="4911"/>
                </a:cubicBezTo>
                <a:cubicBezTo>
                  <a:pt x="7417" y="4961"/>
                  <a:pt x="7409" y="4978"/>
                  <a:pt x="7392" y="5011"/>
                </a:cubicBezTo>
              </a:path>
              <a:path w="4392" h="1762">
                <a:moveTo>
                  <a:pt x="7863" y="5259"/>
                </a:moveTo>
                <a:cubicBezTo>
                  <a:pt x="7832" y="5343"/>
                  <a:pt x="7813" y="5394"/>
                  <a:pt x="7813" y="5482"/>
                </a:cubicBezTo>
                <a:cubicBezTo>
                  <a:pt x="7813" y="5565"/>
                  <a:pt x="7861" y="5577"/>
                  <a:pt x="7938" y="5581"/>
                </a:cubicBezTo>
                <a:cubicBezTo>
                  <a:pt x="8004" y="5585"/>
                  <a:pt x="8036" y="5572"/>
                  <a:pt x="8062" y="5507"/>
                </a:cubicBezTo>
                <a:cubicBezTo>
                  <a:pt x="8062" y="5482"/>
                  <a:pt x="8062" y="5474"/>
                  <a:pt x="8062" y="5457"/>
                </a:cubicBezTo>
                <a:cubicBezTo>
                  <a:pt x="7993" y="5457"/>
                  <a:pt x="7992" y="5495"/>
                  <a:pt x="7962" y="5556"/>
                </a:cubicBezTo>
                <a:cubicBezTo>
                  <a:pt x="7928" y="5625"/>
                  <a:pt x="7916" y="5736"/>
                  <a:pt x="7962" y="5804"/>
                </a:cubicBezTo>
                <a:cubicBezTo>
                  <a:pt x="7979" y="5821"/>
                  <a:pt x="7995" y="5837"/>
                  <a:pt x="8012" y="5854"/>
                </a:cubicBezTo>
              </a:path>
              <a:path w="4392" h="1762">
                <a:moveTo>
                  <a:pt x="8260" y="4638"/>
                </a:moveTo>
                <a:cubicBezTo>
                  <a:pt x="8271" y="4771"/>
                  <a:pt x="8311" y="4901"/>
                  <a:pt x="8334" y="5035"/>
                </a:cubicBezTo>
                <a:cubicBezTo>
                  <a:pt x="8369" y="5237"/>
                  <a:pt x="8362" y="5431"/>
                  <a:pt x="8310" y="5631"/>
                </a:cubicBezTo>
                <a:cubicBezTo>
                  <a:pt x="8268" y="5794"/>
                  <a:pt x="8193" y="5933"/>
                  <a:pt x="8111" y="6077"/>
                </a:cubicBezTo>
                <a:cubicBezTo>
                  <a:pt x="8103" y="6094"/>
                  <a:pt x="8094" y="6110"/>
                  <a:pt x="8086" y="6127"/>
                </a:cubicBezTo>
              </a:path>
              <a:path w="4392" h="1762">
                <a:moveTo>
                  <a:pt x="8558" y="5928"/>
                </a:moveTo>
                <a:cubicBezTo>
                  <a:pt x="8596" y="5870"/>
                  <a:pt x="8609" y="5860"/>
                  <a:pt x="8682" y="5854"/>
                </a:cubicBezTo>
                <a:cubicBezTo>
                  <a:pt x="8724" y="5850"/>
                  <a:pt x="8791" y="5851"/>
                  <a:pt x="8806" y="5904"/>
                </a:cubicBezTo>
                <a:cubicBezTo>
                  <a:pt x="8823" y="5963"/>
                  <a:pt x="8712" y="6075"/>
                  <a:pt x="8682" y="6127"/>
                </a:cubicBezTo>
                <a:cubicBezTo>
                  <a:pt x="8660" y="6170"/>
                  <a:pt x="8656" y="6182"/>
                  <a:pt x="8632" y="6201"/>
                </a:cubicBezTo>
                <a:cubicBezTo>
                  <a:pt x="8715" y="6251"/>
                  <a:pt x="8808" y="6217"/>
                  <a:pt x="8905" y="62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83000" y="1812960"/>
            <a:ext cx="473040" cy="312840"/>
          </a:xfrm>
          <a:custGeom>
            <a:avLst/>
            <a:gdLst/>
            <a:ahLst/>
            <a:rect l="l" t="t" r="r" b="b"/>
            <a:pathLst>
              <a:path w="1315" h="870">
                <a:moveTo>
                  <a:pt x="9674" y="5234"/>
                </a:moveTo>
                <a:cubicBezTo>
                  <a:pt x="9818" y="5234"/>
                  <a:pt x="9955" y="5247"/>
                  <a:pt x="10096" y="5259"/>
                </a:cubicBezTo>
                <a:cubicBezTo>
                  <a:pt x="10195" y="5267"/>
                  <a:pt x="10296" y="5279"/>
                  <a:pt x="10393" y="5283"/>
                </a:cubicBezTo>
                <a:cubicBezTo>
                  <a:pt x="10448" y="5285"/>
                  <a:pt x="10551" y="5260"/>
                  <a:pt x="10567" y="5308"/>
                </a:cubicBezTo>
              </a:path>
              <a:path w="1315" h="870">
                <a:moveTo>
                  <a:pt x="10468" y="5035"/>
                </a:moveTo>
                <a:cubicBezTo>
                  <a:pt x="10425" y="5057"/>
                  <a:pt x="10529" y="5109"/>
                  <a:pt x="10567" y="5135"/>
                </a:cubicBezTo>
                <a:cubicBezTo>
                  <a:pt x="10633" y="5180"/>
                  <a:pt x="10742" y="5218"/>
                  <a:pt x="10790" y="5283"/>
                </a:cubicBezTo>
                <a:cubicBezTo>
                  <a:pt x="10842" y="5354"/>
                  <a:pt x="10808" y="5369"/>
                  <a:pt x="10740" y="5383"/>
                </a:cubicBezTo>
              </a:path>
              <a:path w="1315" h="870">
                <a:moveTo>
                  <a:pt x="10988" y="5705"/>
                </a:moveTo>
                <a:cubicBezTo>
                  <a:pt x="10868" y="5705"/>
                  <a:pt x="10759" y="5709"/>
                  <a:pt x="10641" y="5730"/>
                </a:cubicBezTo>
                <a:cubicBezTo>
                  <a:pt x="10471" y="5760"/>
                  <a:pt x="10293" y="5775"/>
                  <a:pt x="10120" y="5779"/>
                </a:cubicBezTo>
                <a:cubicBezTo>
                  <a:pt x="10052" y="5781"/>
                  <a:pt x="9908" y="5871"/>
                  <a:pt x="9922" y="5804"/>
                </a:cubicBezTo>
                <a:cubicBezTo>
                  <a:pt x="9930" y="5796"/>
                  <a:pt x="9939" y="5787"/>
                  <a:pt x="9947" y="5779"/>
                </a:cubicBezTo>
              </a:path>
              <a:path w="1315" h="870">
                <a:moveTo>
                  <a:pt x="10244" y="5606"/>
                </a:moveTo>
                <a:cubicBezTo>
                  <a:pt x="10153" y="5629"/>
                  <a:pt x="10083" y="5646"/>
                  <a:pt x="9996" y="5680"/>
                </a:cubicBezTo>
                <a:cubicBezTo>
                  <a:pt x="9929" y="5706"/>
                  <a:pt x="9834" y="5720"/>
                  <a:pt x="9823" y="5804"/>
                </a:cubicBezTo>
                <a:cubicBezTo>
                  <a:pt x="9809" y="5914"/>
                  <a:pt x="9975" y="5902"/>
                  <a:pt x="10046" y="5904"/>
                </a:cubicBezTo>
                <a:cubicBezTo>
                  <a:pt x="10079" y="5904"/>
                  <a:pt x="10112" y="5904"/>
                  <a:pt x="10145" y="59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13160" y="1785960"/>
            <a:ext cx="1116000" cy="357120"/>
          </a:xfrm>
          <a:custGeom>
            <a:avLst/>
            <a:gdLst/>
            <a:ahLst/>
            <a:rect l="l" t="t" r="r" b="b"/>
            <a:pathLst>
              <a:path w="3101" h="993">
                <a:moveTo>
                  <a:pt x="11981" y="5135"/>
                </a:moveTo>
                <a:cubicBezTo>
                  <a:pt x="12074" y="5109"/>
                  <a:pt x="12180" y="5072"/>
                  <a:pt x="12278" y="5085"/>
                </a:cubicBezTo>
                <a:cubicBezTo>
                  <a:pt x="12363" y="5096"/>
                  <a:pt x="12404" y="5128"/>
                  <a:pt x="12452" y="5184"/>
                </a:cubicBezTo>
                <a:cubicBezTo>
                  <a:pt x="12384" y="5306"/>
                  <a:pt x="12295" y="5403"/>
                  <a:pt x="12179" y="5482"/>
                </a:cubicBezTo>
                <a:cubicBezTo>
                  <a:pt x="12139" y="5502"/>
                  <a:pt x="12122" y="5500"/>
                  <a:pt x="12129" y="5531"/>
                </a:cubicBezTo>
                <a:cubicBezTo>
                  <a:pt x="12236" y="5531"/>
                  <a:pt x="12384" y="5498"/>
                  <a:pt x="12477" y="5556"/>
                </a:cubicBezTo>
                <a:cubicBezTo>
                  <a:pt x="12485" y="5564"/>
                  <a:pt x="12494" y="5573"/>
                  <a:pt x="12502" y="5581"/>
                </a:cubicBezTo>
                <a:cubicBezTo>
                  <a:pt x="12473" y="5696"/>
                  <a:pt x="12386" y="5724"/>
                  <a:pt x="12278" y="5779"/>
                </a:cubicBezTo>
                <a:cubicBezTo>
                  <a:pt x="12198" y="5820"/>
                  <a:pt x="12117" y="5887"/>
                  <a:pt x="12030" y="5904"/>
                </a:cubicBezTo>
              </a:path>
              <a:path w="3101" h="993">
                <a:moveTo>
                  <a:pt x="13345" y="5184"/>
                </a:moveTo>
                <a:cubicBezTo>
                  <a:pt x="13384" y="5146"/>
                  <a:pt x="13401" y="5144"/>
                  <a:pt x="13395" y="5110"/>
                </a:cubicBezTo>
                <a:cubicBezTo>
                  <a:pt x="13300" y="5053"/>
                  <a:pt x="13222" y="5096"/>
                  <a:pt x="13122" y="5135"/>
                </a:cubicBezTo>
                <a:cubicBezTo>
                  <a:pt x="13008" y="5179"/>
                  <a:pt x="12835" y="5233"/>
                  <a:pt x="12849" y="5383"/>
                </a:cubicBezTo>
                <a:cubicBezTo>
                  <a:pt x="12860" y="5500"/>
                  <a:pt x="13071" y="5513"/>
                  <a:pt x="13146" y="5531"/>
                </a:cubicBezTo>
                <a:cubicBezTo>
                  <a:pt x="13251" y="5556"/>
                  <a:pt x="13282" y="5542"/>
                  <a:pt x="13345" y="5606"/>
                </a:cubicBezTo>
                <a:cubicBezTo>
                  <a:pt x="13306" y="5700"/>
                  <a:pt x="13274" y="5734"/>
                  <a:pt x="13196" y="5804"/>
                </a:cubicBezTo>
                <a:cubicBezTo>
                  <a:pt x="13181" y="5818"/>
                  <a:pt x="13029" y="5969"/>
                  <a:pt x="13097" y="5904"/>
                </a:cubicBezTo>
                <a:cubicBezTo>
                  <a:pt x="13204" y="5850"/>
                  <a:pt x="13284" y="5759"/>
                  <a:pt x="13395" y="5705"/>
                </a:cubicBezTo>
                <a:cubicBezTo>
                  <a:pt x="13465" y="5671"/>
                  <a:pt x="13476" y="5687"/>
                  <a:pt x="13543" y="5680"/>
                </a:cubicBezTo>
                <a:cubicBezTo>
                  <a:pt x="13533" y="5774"/>
                  <a:pt x="13523" y="5772"/>
                  <a:pt x="13469" y="5854"/>
                </a:cubicBezTo>
                <a:cubicBezTo>
                  <a:pt x="13442" y="5895"/>
                  <a:pt x="13429" y="5918"/>
                  <a:pt x="13395" y="5953"/>
                </a:cubicBezTo>
                <a:cubicBezTo>
                  <a:pt x="13441" y="5872"/>
                  <a:pt x="13486" y="5806"/>
                  <a:pt x="13568" y="5755"/>
                </a:cubicBezTo>
                <a:cubicBezTo>
                  <a:pt x="13673" y="5690"/>
                  <a:pt x="13775" y="5645"/>
                  <a:pt x="13891" y="5606"/>
                </a:cubicBezTo>
                <a:cubicBezTo>
                  <a:pt x="13916" y="5598"/>
                  <a:pt x="13940" y="5589"/>
                  <a:pt x="13965" y="5581"/>
                </a:cubicBezTo>
              </a:path>
              <a:path w="3101" h="993">
                <a:moveTo>
                  <a:pt x="14213" y="5159"/>
                </a:moveTo>
                <a:cubicBezTo>
                  <a:pt x="14321" y="5159"/>
                  <a:pt x="14428" y="5159"/>
                  <a:pt x="14536" y="5159"/>
                </a:cubicBezTo>
              </a:path>
              <a:path w="3101" h="993">
                <a:moveTo>
                  <a:pt x="14461" y="5035"/>
                </a:moveTo>
                <a:cubicBezTo>
                  <a:pt x="14398" y="5081"/>
                  <a:pt x="14375" y="5129"/>
                  <a:pt x="14362" y="5209"/>
                </a:cubicBezTo>
                <a:cubicBezTo>
                  <a:pt x="14351" y="5274"/>
                  <a:pt x="14373" y="5310"/>
                  <a:pt x="14412" y="5358"/>
                </a:cubicBezTo>
              </a:path>
              <a:path w="3101" h="993">
                <a:moveTo>
                  <a:pt x="14858" y="5011"/>
                </a:moveTo>
                <a:cubicBezTo>
                  <a:pt x="14864" y="4993"/>
                  <a:pt x="14896" y="4951"/>
                  <a:pt x="14932" y="4961"/>
                </a:cubicBezTo>
                <a:cubicBezTo>
                  <a:pt x="14978" y="4974"/>
                  <a:pt x="15026" y="4986"/>
                  <a:pt x="15032" y="5035"/>
                </a:cubicBezTo>
                <a:cubicBezTo>
                  <a:pt x="15041" y="5114"/>
                  <a:pt x="14963" y="5131"/>
                  <a:pt x="14908" y="5159"/>
                </a:cubicBezTo>
                <a:cubicBezTo>
                  <a:pt x="14856" y="5185"/>
                  <a:pt x="14822" y="5205"/>
                  <a:pt x="14808" y="5259"/>
                </a:cubicBezTo>
                <a:cubicBezTo>
                  <a:pt x="14886" y="5259"/>
                  <a:pt x="14954" y="5280"/>
                  <a:pt x="15032" y="5283"/>
                </a:cubicBezTo>
                <a:cubicBezTo>
                  <a:pt x="15048" y="5283"/>
                  <a:pt x="15065" y="5283"/>
                  <a:pt x="15081" y="52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4000" y="1901880"/>
            <a:ext cx="152280" cy="142920"/>
          </a:xfrm>
          <a:custGeom>
            <a:avLst/>
            <a:gdLst/>
            <a:ahLst/>
            <a:rect l="l" t="t" r="r" b="b"/>
            <a:pathLst>
              <a:path w="422" h="398">
                <a:moveTo>
                  <a:pt x="15652" y="5507"/>
                </a:moveTo>
                <a:cubicBezTo>
                  <a:pt x="15699" y="5534"/>
                  <a:pt x="15791" y="5549"/>
                  <a:pt x="15850" y="5556"/>
                </a:cubicBezTo>
                <a:cubicBezTo>
                  <a:pt x="15932" y="5565"/>
                  <a:pt x="15996" y="5551"/>
                  <a:pt x="16073" y="5531"/>
                </a:cubicBezTo>
              </a:path>
              <a:path w="422" h="398">
                <a:moveTo>
                  <a:pt x="16024" y="5283"/>
                </a:moveTo>
                <a:cubicBezTo>
                  <a:pt x="15984" y="5353"/>
                  <a:pt x="15974" y="5374"/>
                  <a:pt x="15974" y="5457"/>
                </a:cubicBezTo>
                <a:cubicBezTo>
                  <a:pt x="15974" y="5531"/>
                  <a:pt x="15974" y="5606"/>
                  <a:pt x="15974" y="56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8120" y="1874880"/>
            <a:ext cx="206640" cy="214200"/>
          </a:xfrm>
          <a:custGeom>
            <a:avLst/>
            <a:gdLst/>
            <a:ahLst/>
            <a:rect l="l" t="t" r="r" b="b"/>
            <a:pathLst>
              <a:path w="572" h="596">
                <a:moveTo>
                  <a:pt x="17066" y="5209"/>
                </a:moveTo>
                <a:cubicBezTo>
                  <a:pt x="17111" y="5255"/>
                  <a:pt x="17177" y="5306"/>
                  <a:pt x="17214" y="5358"/>
                </a:cubicBezTo>
                <a:cubicBezTo>
                  <a:pt x="17255" y="5416"/>
                  <a:pt x="17256" y="5523"/>
                  <a:pt x="17214" y="5581"/>
                </a:cubicBezTo>
                <a:cubicBezTo>
                  <a:pt x="17134" y="5693"/>
                  <a:pt x="17016" y="5701"/>
                  <a:pt x="16892" y="5705"/>
                </a:cubicBezTo>
                <a:cubicBezTo>
                  <a:pt x="16833" y="5707"/>
                  <a:pt x="16747" y="5696"/>
                  <a:pt x="16718" y="5631"/>
                </a:cubicBezTo>
                <a:cubicBezTo>
                  <a:pt x="16718" y="5623"/>
                  <a:pt x="16718" y="5614"/>
                  <a:pt x="16718" y="5606"/>
                </a:cubicBezTo>
                <a:cubicBezTo>
                  <a:pt x="16783" y="5567"/>
                  <a:pt x="16867" y="5570"/>
                  <a:pt x="16942" y="5606"/>
                </a:cubicBezTo>
                <a:cubicBezTo>
                  <a:pt x="17038" y="5652"/>
                  <a:pt x="17123" y="5734"/>
                  <a:pt x="17214" y="5779"/>
                </a:cubicBezTo>
                <a:cubicBezTo>
                  <a:pt x="17239" y="5787"/>
                  <a:pt x="17264" y="5796"/>
                  <a:pt x="17289" y="58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83240" y="1731960"/>
            <a:ext cx="1106640" cy="420840"/>
          </a:xfrm>
          <a:custGeom>
            <a:avLst/>
            <a:gdLst/>
            <a:ahLst/>
            <a:rect l="l" t="t" r="r" b="b"/>
            <a:pathLst>
              <a:path w="3077" h="1167">
                <a:moveTo>
                  <a:pt x="18058" y="5308"/>
                </a:moveTo>
                <a:cubicBezTo>
                  <a:pt x="18087" y="5452"/>
                  <a:pt x="18058" y="5494"/>
                  <a:pt x="18033" y="5631"/>
                </a:cubicBezTo>
                <a:cubicBezTo>
                  <a:pt x="18033" y="5675"/>
                  <a:pt x="18036" y="5689"/>
                  <a:pt x="18008" y="5705"/>
                </a:cubicBezTo>
                <a:cubicBezTo>
                  <a:pt x="18008" y="5538"/>
                  <a:pt x="17979" y="5344"/>
                  <a:pt x="18033" y="5184"/>
                </a:cubicBezTo>
                <a:cubicBezTo>
                  <a:pt x="18066" y="5087"/>
                  <a:pt x="18146" y="4959"/>
                  <a:pt x="18256" y="4936"/>
                </a:cubicBezTo>
                <a:cubicBezTo>
                  <a:pt x="18332" y="4920"/>
                  <a:pt x="18457" y="4983"/>
                  <a:pt x="18479" y="5060"/>
                </a:cubicBezTo>
                <a:cubicBezTo>
                  <a:pt x="18505" y="5148"/>
                  <a:pt x="18369" y="5214"/>
                  <a:pt x="18306" y="5234"/>
                </a:cubicBezTo>
                <a:cubicBezTo>
                  <a:pt x="18232" y="5258"/>
                  <a:pt x="18159" y="5275"/>
                  <a:pt x="18083" y="5283"/>
                </a:cubicBezTo>
              </a:path>
              <a:path w="3077" h="1167">
                <a:moveTo>
                  <a:pt x="18752" y="5234"/>
                </a:moveTo>
                <a:cubicBezTo>
                  <a:pt x="18720" y="5306"/>
                  <a:pt x="18574" y="5424"/>
                  <a:pt x="18579" y="5507"/>
                </a:cubicBezTo>
                <a:cubicBezTo>
                  <a:pt x="18586" y="5627"/>
                  <a:pt x="18692" y="5606"/>
                  <a:pt x="18777" y="5606"/>
                </a:cubicBezTo>
                <a:cubicBezTo>
                  <a:pt x="18890" y="5606"/>
                  <a:pt x="18976" y="5582"/>
                  <a:pt x="19000" y="5457"/>
                </a:cubicBezTo>
                <a:cubicBezTo>
                  <a:pt x="19018" y="5362"/>
                  <a:pt x="18957" y="5255"/>
                  <a:pt x="18901" y="5184"/>
                </a:cubicBezTo>
                <a:cubicBezTo>
                  <a:pt x="18862" y="5145"/>
                  <a:pt x="18861" y="5129"/>
                  <a:pt x="18827" y="5135"/>
                </a:cubicBezTo>
              </a:path>
              <a:path w="3077" h="1167">
                <a:moveTo>
                  <a:pt x="19224" y="5581"/>
                </a:moveTo>
                <a:cubicBezTo>
                  <a:pt x="19206" y="5642"/>
                  <a:pt x="19199" y="5652"/>
                  <a:pt x="19199" y="5705"/>
                </a:cubicBezTo>
                <a:cubicBezTo>
                  <a:pt x="19272" y="5705"/>
                  <a:pt x="19330" y="5691"/>
                  <a:pt x="19397" y="5680"/>
                </a:cubicBezTo>
                <a:cubicBezTo>
                  <a:pt x="19455" y="5670"/>
                  <a:pt x="19470" y="5643"/>
                  <a:pt x="19521" y="5631"/>
                </a:cubicBezTo>
                <a:cubicBezTo>
                  <a:pt x="19505" y="5691"/>
                  <a:pt x="19450" y="5693"/>
                  <a:pt x="19422" y="5755"/>
                </a:cubicBezTo>
                <a:cubicBezTo>
                  <a:pt x="19384" y="5838"/>
                  <a:pt x="19392" y="5899"/>
                  <a:pt x="19422" y="5978"/>
                </a:cubicBezTo>
              </a:path>
              <a:path w="3077" h="1167">
                <a:moveTo>
                  <a:pt x="19968" y="5060"/>
                </a:moveTo>
                <a:cubicBezTo>
                  <a:pt x="19927" y="5060"/>
                  <a:pt x="20001" y="5060"/>
                  <a:pt x="20042" y="5060"/>
                </a:cubicBezTo>
                <a:cubicBezTo>
                  <a:pt x="20141" y="5060"/>
                  <a:pt x="20241" y="5060"/>
                  <a:pt x="20340" y="5060"/>
                </a:cubicBezTo>
              </a:path>
              <a:path w="3077" h="1167">
                <a:moveTo>
                  <a:pt x="20910" y="4812"/>
                </a:moveTo>
                <a:cubicBezTo>
                  <a:pt x="20941" y="4830"/>
                  <a:pt x="20998" y="4881"/>
                  <a:pt x="21010" y="4887"/>
                </a:cubicBezTo>
                <a:cubicBezTo>
                  <a:pt x="21043" y="4904"/>
                  <a:pt x="21034" y="4913"/>
                  <a:pt x="21034" y="4961"/>
                </a:cubicBezTo>
                <a:cubicBezTo>
                  <a:pt x="20975" y="4970"/>
                  <a:pt x="20938" y="4995"/>
                  <a:pt x="20886" y="5011"/>
                </a:cubicBezTo>
                <a:cubicBezTo>
                  <a:pt x="20861" y="5011"/>
                  <a:pt x="20853" y="5011"/>
                  <a:pt x="20861" y="5035"/>
                </a:cubicBezTo>
                <a:cubicBezTo>
                  <a:pt x="20878" y="5061"/>
                  <a:pt x="20938" y="5085"/>
                  <a:pt x="20985" y="5110"/>
                </a:cubicBezTo>
                <a:cubicBezTo>
                  <a:pt x="21007" y="5122"/>
                  <a:pt x="21108" y="5197"/>
                  <a:pt x="21084" y="5234"/>
                </a:cubicBezTo>
                <a:cubicBezTo>
                  <a:pt x="21043" y="5296"/>
                  <a:pt x="20955" y="5343"/>
                  <a:pt x="20886" y="5358"/>
                </a:cubicBezTo>
                <a:cubicBezTo>
                  <a:pt x="20869" y="5358"/>
                  <a:pt x="20853" y="5358"/>
                  <a:pt x="20836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35080" y="2536920"/>
            <a:ext cx="635040" cy="598320"/>
          </a:xfrm>
          <a:custGeom>
            <a:avLst/>
            <a:gdLst/>
            <a:ahLst/>
            <a:rect l="l" t="t" r="r" b="b"/>
            <a:pathLst>
              <a:path w="1763" h="1662">
                <a:moveTo>
                  <a:pt x="5928" y="7045"/>
                </a:moveTo>
                <a:cubicBezTo>
                  <a:pt x="5891" y="7197"/>
                  <a:pt x="5847" y="7342"/>
                  <a:pt x="5804" y="7491"/>
                </a:cubicBezTo>
                <a:cubicBezTo>
                  <a:pt x="5752" y="7672"/>
                  <a:pt x="5722" y="7853"/>
                  <a:pt x="5680" y="8037"/>
                </a:cubicBezTo>
                <a:cubicBezTo>
                  <a:pt x="5657" y="8127"/>
                  <a:pt x="5649" y="8151"/>
                  <a:pt x="5655" y="8210"/>
                </a:cubicBezTo>
              </a:path>
              <a:path w="1763" h="1662">
                <a:moveTo>
                  <a:pt x="6276" y="7491"/>
                </a:moveTo>
                <a:cubicBezTo>
                  <a:pt x="6317" y="7474"/>
                  <a:pt x="6359" y="7458"/>
                  <a:pt x="6400" y="7441"/>
                </a:cubicBezTo>
                <a:cubicBezTo>
                  <a:pt x="6309" y="7532"/>
                  <a:pt x="6200" y="7584"/>
                  <a:pt x="6102" y="7665"/>
                </a:cubicBezTo>
                <a:cubicBezTo>
                  <a:pt x="6007" y="7743"/>
                  <a:pt x="5809" y="7872"/>
                  <a:pt x="5755" y="7987"/>
                </a:cubicBezTo>
                <a:cubicBezTo>
                  <a:pt x="5755" y="8004"/>
                  <a:pt x="5755" y="8020"/>
                  <a:pt x="5755" y="8037"/>
                </a:cubicBezTo>
                <a:cubicBezTo>
                  <a:pt x="5922" y="8037"/>
                  <a:pt x="6091" y="8022"/>
                  <a:pt x="6251" y="8062"/>
                </a:cubicBezTo>
              </a:path>
              <a:path w="1763" h="1662">
                <a:moveTo>
                  <a:pt x="6871" y="7764"/>
                </a:moveTo>
                <a:cubicBezTo>
                  <a:pt x="6802" y="7824"/>
                  <a:pt x="6723" y="7887"/>
                  <a:pt x="6648" y="7938"/>
                </a:cubicBezTo>
                <a:cubicBezTo>
                  <a:pt x="6607" y="7958"/>
                  <a:pt x="6590" y="7955"/>
                  <a:pt x="6598" y="7987"/>
                </a:cubicBezTo>
                <a:cubicBezTo>
                  <a:pt x="6663" y="7974"/>
                  <a:pt x="6731" y="7948"/>
                  <a:pt x="6796" y="7938"/>
                </a:cubicBezTo>
                <a:cubicBezTo>
                  <a:pt x="6838" y="7938"/>
                  <a:pt x="6846" y="7938"/>
                  <a:pt x="6871" y="7938"/>
                </a:cubicBezTo>
                <a:cubicBezTo>
                  <a:pt x="6857" y="8052"/>
                  <a:pt x="6794" y="8072"/>
                  <a:pt x="6722" y="8161"/>
                </a:cubicBezTo>
                <a:cubicBezTo>
                  <a:pt x="6685" y="8207"/>
                  <a:pt x="6596" y="8272"/>
                  <a:pt x="6623" y="8285"/>
                </a:cubicBezTo>
              </a:path>
              <a:path w="1763" h="1662">
                <a:moveTo>
                  <a:pt x="7218" y="7962"/>
                </a:moveTo>
                <a:cubicBezTo>
                  <a:pt x="7177" y="8055"/>
                  <a:pt x="7123" y="8164"/>
                  <a:pt x="7094" y="8260"/>
                </a:cubicBezTo>
                <a:cubicBezTo>
                  <a:pt x="7055" y="8389"/>
                  <a:pt x="7069" y="8525"/>
                  <a:pt x="7069" y="8657"/>
                </a:cubicBezTo>
                <a:cubicBezTo>
                  <a:pt x="7069" y="8673"/>
                  <a:pt x="7069" y="8690"/>
                  <a:pt x="7069" y="8706"/>
                </a:cubicBezTo>
                <a:cubicBezTo>
                  <a:pt x="7110" y="8679"/>
                  <a:pt x="7102" y="8547"/>
                  <a:pt x="7094" y="8483"/>
                </a:cubicBezTo>
                <a:cubicBezTo>
                  <a:pt x="7075" y="8335"/>
                  <a:pt x="7023" y="8131"/>
                  <a:pt x="7094" y="7987"/>
                </a:cubicBezTo>
                <a:cubicBezTo>
                  <a:pt x="7148" y="7877"/>
                  <a:pt x="7258" y="7802"/>
                  <a:pt x="7367" y="7789"/>
                </a:cubicBezTo>
                <a:cubicBezTo>
                  <a:pt x="7375" y="7789"/>
                  <a:pt x="7384" y="7789"/>
                  <a:pt x="7392" y="7789"/>
                </a:cubicBezTo>
                <a:cubicBezTo>
                  <a:pt x="7430" y="7889"/>
                  <a:pt x="7411" y="7948"/>
                  <a:pt x="7342" y="8037"/>
                </a:cubicBezTo>
                <a:cubicBezTo>
                  <a:pt x="7294" y="8099"/>
                  <a:pt x="7230" y="8141"/>
                  <a:pt x="7169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11320" y="2714760"/>
            <a:ext cx="160560" cy="13464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8161" y="7590"/>
                </a:moveTo>
                <a:cubicBezTo>
                  <a:pt x="8131" y="7583"/>
                  <a:pt x="8116" y="7572"/>
                  <a:pt x="8086" y="7565"/>
                </a:cubicBezTo>
                <a:cubicBezTo>
                  <a:pt x="8151" y="7527"/>
                  <a:pt x="8230" y="7541"/>
                  <a:pt x="8310" y="7541"/>
                </a:cubicBezTo>
                <a:cubicBezTo>
                  <a:pt x="8404" y="7541"/>
                  <a:pt x="8450" y="7553"/>
                  <a:pt x="8533" y="7590"/>
                </a:cubicBezTo>
              </a:path>
              <a:path w="448" h="373">
                <a:moveTo>
                  <a:pt x="8111" y="7863"/>
                </a:moveTo>
                <a:cubicBezTo>
                  <a:pt x="8124" y="7902"/>
                  <a:pt x="8158" y="7910"/>
                  <a:pt x="8210" y="7913"/>
                </a:cubicBezTo>
                <a:cubicBezTo>
                  <a:pt x="8308" y="7919"/>
                  <a:pt x="8409" y="7913"/>
                  <a:pt x="8508" y="79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7720" y="2446200"/>
            <a:ext cx="4662360" cy="795600"/>
          </a:xfrm>
          <a:custGeom>
            <a:avLst/>
            <a:gdLst/>
            <a:ahLst/>
            <a:rect l="l" t="t" r="r" b="b"/>
            <a:pathLst>
              <a:path w="12949" h="2209">
                <a:moveTo>
                  <a:pt x="10170" y="7417"/>
                </a:moveTo>
                <a:cubicBezTo>
                  <a:pt x="10191" y="7367"/>
                  <a:pt x="10195" y="7365"/>
                  <a:pt x="10195" y="7317"/>
                </a:cubicBezTo>
                <a:cubicBezTo>
                  <a:pt x="10114" y="7317"/>
                  <a:pt x="10050" y="7318"/>
                  <a:pt x="9971" y="7342"/>
                </a:cubicBezTo>
                <a:cubicBezTo>
                  <a:pt x="9873" y="7371"/>
                  <a:pt x="9776" y="7442"/>
                  <a:pt x="9748" y="7541"/>
                </a:cubicBezTo>
                <a:cubicBezTo>
                  <a:pt x="9726" y="7617"/>
                  <a:pt x="9754" y="7683"/>
                  <a:pt x="9823" y="7714"/>
                </a:cubicBezTo>
                <a:cubicBezTo>
                  <a:pt x="9902" y="7750"/>
                  <a:pt x="9997" y="7730"/>
                  <a:pt x="10071" y="7764"/>
                </a:cubicBezTo>
                <a:cubicBezTo>
                  <a:pt x="10079" y="7772"/>
                  <a:pt x="10088" y="7781"/>
                  <a:pt x="10096" y="7789"/>
                </a:cubicBezTo>
                <a:cubicBezTo>
                  <a:pt x="10085" y="7873"/>
                  <a:pt x="10036" y="7952"/>
                  <a:pt x="9971" y="8012"/>
                </a:cubicBezTo>
                <a:cubicBezTo>
                  <a:pt x="9926" y="8053"/>
                  <a:pt x="9840" y="8140"/>
                  <a:pt x="9798" y="8161"/>
                </a:cubicBezTo>
              </a:path>
              <a:path w="12949" h="2209">
                <a:moveTo>
                  <a:pt x="10294" y="7913"/>
                </a:moveTo>
                <a:cubicBezTo>
                  <a:pt x="10286" y="8005"/>
                  <a:pt x="10238" y="8050"/>
                  <a:pt x="10220" y="8136"/>
                </a:cubicBezTo>
                <a:cubicBezTo>
                  <a:pt x="10199" y="8234"/>
                  <a:pt x="10215" y="8198"/>
                  <a:pt x="10244" y="8136"/>
                </a:cubicBezTo>
                <a:cubicBezTo>
                  <a:pt x="10282" y="8054"/>
                  <a:pt x="10295" y="7991"/>
                  <a:pt x="10344" y="7913"/>
                </a:cubicBezTo>
                <a:cubicBezTo>
                  <a:pt x="10384" y="7849"/>
                  <a:pt x="10418" y="7819"/>
                  <a:pt x="10492" y="7813"/>
                </a:cubicBezTo>
                <a:cubicBezTo>
                  <a:pt x="10517" y="7813"/>
                  <a:pt x="10525" y="7813"/>
                  <a:pt x="10542" y="7813"/>
                </a:cubicBezTo>
              </a:path>
              <a:path w="12949" h="2209">
                <a:moveTo>
                  <a:pt x="10716" y="7491"/>
                </a:moveTo>
                <a:cubicBezTo>
                  <a:pt x="10645" y="7491"/>
                  <a:pt x="10759" y="7487"/>
                  <a:pt x="10765" y="7491"/>
                </a:cubicBezTo>
                <a:cubicBezTo>
                  <a:pt x="10821" y="7522"/>
                  <a:pt x="10870" y="7516"/>
                  <a:pt x="10939" y="7516"/>
                </a:cubicBezTo>
                <a:cubicBezTo>
                  <a:pt x="10955" y="7516"/>
                  <a:pt x="10972" y="7516"/>
                  <a:pt x="10988" y="7516"/>
                </a:cubicBezTo>
              </a:path>
              <a:path w="12949" h="2209">
                <a:moveTo>
                  <a:pt x="10988" y="7342"/>
                </a:moveTo>
                <a:cubicBezTo>
                  <a:pt x="10933" y="7342"/>
                  <a:pt x="10934" y="7346"/>
                  <a:pt x="10914" y="7392"/>
                </a:cubicBezTo>
                <a:cubicBezTo>
                  <a:pt x="10884" y="7460"/>
                  <a:pt x="10889" y="7515"/>
                  <a:pt x="10889" y="7590"/>
                </a:cubicBezTo>
                <a:cubicBezTo>
                  <a:pt x="10889" y="7598"/>
                  <a:pt x="10889" y="7607"/>
                  <a:pt x="10889" y="7615"/>
                </a:cubicBezTo>
              </a:path>
              <a:path w="12949" h="2209">
                <a:moveTo>
                  <a:pt x="11311" y="7268"/>
                </a:moveTo>
                <a:cubicBezTo>
                  <a:pt x="11362" y="7268"/>
                  <a:pt x="11369" y="7279"/>
                  <a:pt x="11410" y="7293"/>
                </a:cubicBezTo>
                <a:cubicBezTo>
                  <a:pt x="11446" y="7305"/>
                  <a:pt x="11467" y="7317"/>
                  <a:pt x="11509" y="7317"/>
                </a:cubicBezTo>
                <a:cubicBezTo>
                  <a:pt x="11509" y="7359"/>
                  <a:pt x="11495" y="7411"/>
                  <a:pt x="11460" y="7441"/>
                </a:cubicBezTo>
                <a:cubicBezTo>
                  <a:pt x="11401" y="7491"/>
                  <a:pt x="11348" y="7515"/>
                  <a:pt x="11336" y="7590"/>
                </a:cubicBezTo>
                <a:cubicBezTo>
                  <a:pt x="11336" y="7598"/>
                  <a:pt x="11336" y="7607"/>
                  <a:pt x="11336" y="7615"/>
                </a:cubicBezTo>
                <a:cubicBezTo>
                  <a:pt x="11395" y="7615"/>
                  <a:pt x="11429" y="7611"/>
                  <a:pt x="11485" y="7590"/>
                </a:cubicBezTo>
              </a:path>
              <a:path w="12949" h="2209">
                <a:moveTo>
                  <a:pt x="11782" y="7119"/>
                </a:moveTo>
                <a:cubicBezTo>
                  <a:pt x="11823" y="7105"/>
                  <a:pt x="11814" y="7100"/>
                  <a:pt x="11857" y="7094"/>
                </a:cubicBezTo>
                <a:cubicBezTo>
                  <a:pt x="11907" y="7087"/>
                  <a:pt x="12075" y="7070"/>
                  <a:pt x="12105" y="7119"/>
                </a:cubicBezTo>
                <a:cubicBezTo>
                  <a:pt x="12136" y="7169"/>
                  <a:pt x="12090" y="7325"/>
                  <a:pt x="12080" y="7367"/>
                </a:cubicBezTo>
                <a:cubicBezTo>
                  <a:pt x="12045" y="7516"/>
                  <a:pt x="12004" y="7669"/>
                  <a:pt x="11956" y="7813"/>
                </a:cubicBezTo>
                <a:cubicBezTo>
                  <a:pt x="11915" y="7937"/>
                  <a:pt x="11874" y="8061"/>
                  <a:pt x="11832" y="8186"/>
                </a:cubicBezTo>
                <a:cubicBezTo>
                  <a:pt x="11801" y="8279"/>
                  <a:pt x="11791" y="8365"/>
                  <a:pt x="11757" y="8458"/>
                </a:cubicBezTo>
                <a:cubicBezTo>
                  <a:pt x="11729" y="8535"/>
                  <a:pt x="11712" y="8574"/>
                  <a:pt x="11658" y="8632"/>
                </a:cubicBezTo>
                <a:cubicBezTo>
                  <a:pt x="11610" y="8684"/>
                  <a:pt x="11604" y="8679"/>
                  <a:pt x="11534" y="8682"/>
                </a:cubicBezTo>
                <a:cubicBezTo>
                  <a:pt x="11438" y="8686"/>
                  <a:pt x="11329" y="8675"/>
                  <a:pt x="11237" y="8657"/>
                </a:cubicBezTo>
                <a:cubicBezTo>
                  <a:pt x="11162" y="8632"/>
                  <a:pt x="11138" y="8624"/>
                  <a:pt x="11088" y="8607"/>
                </a:cubicBezTo>
              </a:path>
              <a:path w="12949" h="2209">
                <a:moveTo>
                  <a:pt x="10071" y="7020"/>
                </a:moveTo>
                <a:cubicBezTo>
                  <a:pt x="10079" y="7028"/>
                  <a:pt x="10088" y="7037"/>
                  <a:pt x="10096" y="7045"/>
                </a:cubicBezTo>
                <a:cubicBezTo>
                  <a:pt x="9992" y="7045"/>
                  <a:pt x="9896" y="7054"/>
                  <a:pt x="9798" y="7069"/>
                </a:cubicBezTo>
                <a:cubicBezTo>
                  <a:pt x="9733" y="7079"/>
                  <a:pt x="9678" y="7090"/>
                  <a:pt x="9624" y="7119"/>
                </a:cubicBezTo>
                <a:cubicBezTo>
                  <a:pt x="9532" y="7169"/>
                  <a:pt x="9590" y="7133"/>
                  <a:pt x="9550" y="7193"/>
                </a:cubicBezTo>
                <a:cubicBezTo>
                  <a:pt x="9505" y="7260"/>
                  <a:pt x="9536" y="7335"/>
                  <a:pt x="9525" y="7417"/>
                </a:cubicBezTo>
                <a:cubicBezTo>
                  <a:pt x="9502" y="7589"/>
                  <a:pt x="9438" y="7745"/>
                  <a:pt x="9401" y="7913"/>
                </a:cubicBezTo>
                <a:cubicBezTo>
                  <a:pt x="9372" y="8045"/>
                  <a:pt x="9333" y="8176"/>
                  <a:pt x="9327" y="8310"/>
                </a:cubicBezTo>
                <a:cubicBezTo>
                  <a:pt x="9324" y="8378"/>
                  <a:pt x="9357" y="8434"/>
                  <a:pt x="9401" y="8483"/>
                </a:cubicBezTo>
                <a:cubicBezTo>
                  <a:pt x="9413" y="8497"/>
                  <a:pt x="9483" y="8553"/>
                  <a:pt x="9500" y="8558"/>
                </a:cubicBezTo>
                <a:cubicBezTo>
                  <a:pt x="9571" y="8578"/>
                  <a:pt x="9674" y="8558"/>
                  <a:pt x="9748" y="8558"/>
                </a:cubicBezTo>
              </a:path>
              <a:path w="12949" h="2209">
                <a:moveTo>
                  <a:pt x="12502" y="6846"/>
                </a:moveTo>
                <a:cubicBezTo>
                  <a:pt x="12502" y="6821"/>
                  <a:pt x="12502" y="6813"/>
                  <a:pt x="12502" y="6796"/>
                </a:cubicBezTo>
                <a:cubicBezTo>
                  <a:pt x="12552" y="6796"/>
                  <a:pt x="12560" y="6807"/>
                  <a:pt x="12601" y="6821"/>
                </a:cubicBezTo>
                <a:cubicBezTo>
                  <a:pt x="12630" y="6831"/>
                  <a:pt x="12674" y="6850"/>
                  <a:pt x="12650" y="6896"/>
                </a:cubicBezTo>
                <a:cubicBezTo>
                  <a:pt x="12622" y="6948"/>
                  <a:pt x="12536" y="6951"/>
                  <a:pt x="12502" y="6995"/>
                </a:cubicBezTo>
                <a:cubicBezTo>
                  <a:pt x="12502" y="7003"/>
                  <a:pt x="12502" y="7012"/>
                  <a:pt x="12502" y="7020"/>
                </a:cubicBezTo>
                <a:cubicBezTo>
                  <a:pt x="12548" y="7020"/>
                  <a:pt x="12565" y="7014"/>
                  <a:pt x="12601" y="7045"/>
                </a:cubicBezTo>
                <a:cubicBezTo>
                  <a:pt x="12644" y="7082"/>
                  <a:pt x="12667" y="7098"/>
                  <a:pt x="12626" y="7144"/>
                </a:cubicBezTo>
                <a:cubicBezTo>
                  <a:pt x="12574" y="7204"/>
                  <a:pt x="12551" y="7231"/>
                  <a:pt x="12477" y="7268"/>
                </a:cubicBezTo>
                <a:cubicBezTo>
                  <a:pt x="12434" y="7290"/>
                  <a:pt x="12399" y="7308"/>
                  <a:pt x="12353" y="7317"/>
                </a:cubicBezTo>
              </a:path>
              <a:path w="12949" h="2209">
                <a:moveTo>
                  <a:pt x="13345" y="7243"/>
                </a:moveTo>
                <a:cubicBezTo>
                  <a:pt x="13213" y="7243"/>
                  <a:pt x="13034" y="7212"/>
                  <a:pt x="12923" y="7268"/>
                </a:cubicBezTo>
                <a:cubicBezTo>
                  <a:pt x="12956" y="7284"/>
                  <a:pt x="12963" y="7258"/>
                  <a:pt x="12973" y="7293"/>
                </a:cubicBezTo>
                <a:cubicBezTo>
                  <a:pt x="12990" y="7355"/>
                  <a:pt x="12953" y="7465"/>
                  <a:pt x="12923" y="7516"/>
                </a:cubicBezTo>
                <a:cubicBezTo>
                  <a:pt x="12845" y="7647"/>
                  <a:pt x="12733" y="7831"/>
                  <a:pt x="12626" y="7938"/>
                </a:cubicBezTo>
                <a:cubicBezTo>
                  <a:pt x="12521" y="8043"/>
                  <a:pt x="12430" y="8128"/>
                  <a:pt x="12353" y="8260"/>
                </a:cubicBezTo>
                <a:cubicBezTo>
                  <a:pt x="12310" y="8333"/>
                  <a:pt x="12310" y="8392"/>
                  <a:pt x="12378" y="8434"/>
                </a:cubicBezTo>
                <a:cubicBezTo>
                  <a:pt x="12492" y="8505"/>
                  <a:pt x="12594" y="8508"/>
                  <a:pt x="12725" y="8508"/>
                </a:cubicBezTo>
                <a:cubicBezTo>
                  <a:pt x="12783" y="8508"/>
                  <a:pt x="12840" y="8508"/>
                  <a:pt x="12898" y="8508"/>
                </a:cubicBezTo>
              </a:path>
              <a:path w="12949" h="2209">
                <a:moveTo>
                  <a:pt x="13519" y="7863"/>
                </a:moveTo>
                <a:cubicBezTo>
                  <a:pt x="13482" y="7872"/>
                  <a:pt x="13442" y="7901"/>
                  <a:pt x="13419" y="7938"/>
                </a:cubicBezTo>
                <a:cubicBezTo>
                  <a:pt x="13374" y="8008"/>
                  <a:pt x="13317" y="8067"/>
                  <a:pt x="13271" y="8136"/>
                </a:cubicBezTo>
                <a:cubicBezTo>
                  <a:pt x="13249" y="8180"/>
                  <a:pt x="13246" y="8191"/>
                  <a:pt x="13221" y="8210"/>
                </a:cubicBezTo>
                <a:cubicBezTo>
                  <a:pt x="13274" y="8125"/>
                  <a:pt x="13345" y="8051"/>
                  <a:pt x="13395" y="7962"/>
                </a:cubicBezTo>
                <a:cubicBezTo>
                  <a:pt x="13462" y="7842"/>
                  <a:pt x="13536" y="7723"/>
                  <a:pt x="13643" y="7640"/>
                </a:cubicBezTo>
                <a:cubicBezTo>
                  <a:pt x="13702" y="7595"/>
                  <a:pt x="13810" y="7533"/>
                  <a:pt x="13891" y="7565"/>
                </a:cubicBezTo>
                <a:cubicBezTo>
                  <a:pt x="13980" y="7600"/>
                  <a:pt x="13926" y="7676"/>
                  <a:pt x="13891" y="7714"/>
                </a:cubicBezTo>
                <a:cubicBezTo>
                  <a:pt x="13800" y="7811"/>
                  <a:pt x="13731" y="7831"/>
                  <a:pt x="13618" y="7888"/>
                </a:cubicBezTo>
                <a:cubicBezTo>
                  <a:pt x="13547" y="7935"/>
                  <a:pt x="13528" y="7952"/>
                  <a:pt x="13469" y="7938"/>
                </a:cubicBezTo>
              </a:path>
              <a:path w="12949" h="2209">
                <a:moveTo>
                  <a:pt x="14114" y="7714"/>
                </a:moveTo>
                <a:cubicBezTo>
                  <a:pt x="14072" y="7788"/>
                  <a:pt x="14004" y="7836"/>
                  <a:pt x="13965" y="7913"/>
                </a:cubicBezTo>
                <a:cubicBezTo>
                  <a:pt x="13924" y="7995"/>
                  <a:pt x="13901" y="8097"/>
                  <a:pt x="13891" y="8186"/>
                </a:cubicBezTo>
                <a:cubicBezTo>
                  <a:pt x="13971" y="8233"/>
                  <a:pt x="14016" y="8210"/>
                  <a:pt x="14089" y="8161"/>
                </a:cubicBezTo>
                <a:cubicBezTo>
                  <a:pt x="14178" y="8101"/>
                  <a:pt x="14242" y="8049"/>
                  <a:pt x="14263" y="7938"/>
                </a:cubicBezTo>
                <a:cubicBezTo>
                  <a:pt x="14267" y="7918"/>
                  <a:pt x="14279" y="7734"/>
                  <a:pt x="14238" y="7739"/>
                </a:cubicBezTo>
                <a:cubicBezTo>
                  <a:pt x="14215" y="7762"/>
                  <a:pt x="14207" y="7766"/>
                  <a:pt x="14213" y="7789"/>
                </a:cubicBezTo>
              </a:path>
              <a:path w="12949" h="2209">
                <a:moveTo>
                  <a:pt x="14436" y="8186"/>
                </a:moveTo>
                <a:cubicBezTo>
                  <a:pt x="14428" y="8218"/>
                  <a:pt x="14399" y="8247"/>
                  <a:pt x="14412" y="8285"/>
                </a:cubicBezTo>
                <a:cubicBezTo>
                  <a:pt x="14433" y="8347"/>
                  <a:pt x="14498" y="8351"/>
                  <a:pt x="14560" y="8334"/>
                </a:cubicBezTo>
                <a:cubicBezTo>
                  <a:pt x="14604" y="8322"/>
                  <a:pt x="14711" y="8277"/>
                  <a:pt x="14734" y="8235"/>
                </a:cubicBezTo>
                <a:cubicBezTo>
                  <a:pt x="14734" y="8227"/>
                  <a:pt x="14734" y="8218"/>
                  <a:pt x="14734" y="8210"/>
                </a:cubicBezTo>
                <a:cubicBezTo>
                  <a:pt x="14674" y="8259"/>
                  <a:pt x="14639" y="8301"/>
                  <a:pt x="14585" y="8359"/>
                </a:cubicBezTo>
                <a:cubicBezTo>
                  <a:pt x="14522" y="8426"/>
                  <a:pt x="14488" y="8512"/>
                  <a:pt x="14511" y="8607"/>
                </a:cubicBezTo>
                <a:cubicBezTo>
                  <a:pt x="14519" y="8624"/>
                  <a:pt x="14528" y="8640"/>
                  <a:pt x="14536" y="8657"/>
                </a:cubicBezTo>
              </a:path>
              <a:path w="12949" h="2209">
                <a:moveTo>
                  <a:pt x="15056" y="7714"/>
                </a:moveTo>
                <a:cubicBezTo>
                  <a:pt x="15115" y="7714"/>
                  <a:pt x="15150" y="7735"/>
                  <a:pt x="15205" y="7739"/>
                </a:cubicBezTo>
                <a:cubicBezTo>
                  <a:pt x="15247" y="7739"/>
                  <a:pt x="15255" y="7739"/>
                  <a:pt x="15280" y="7739"/>
                </a:cubicBezTo>
              </a:path>
              <a:path w="12949" h="2209">
                <a:moveTo>
                  <a:pt x="15577" y="7541"/>
                </a:moveTo>
                <a:cubicBezTo>
                  <a:pt x="15585" y="7541"/>
                  <a:pt x="15594" y="7541"/>
                  <a:pt x="15602" y="7541"/>
                </a:cubicBezTo>
                <a:cubicBezTo>
                  <a:pt x="15602" y="7596"/>
                  <a:pt x="15590" y="7648"/>
                  <a:pt x="15627" y="7689"/>
                </a:cubicBezTo>
                <a:cubicBezTo>
                  <a:pt x="15656" y="7721"/>
                  <a:pt x="15706" y="7718"/>
                  <a:pt x="15726" y="7764"/>
                </a:cubicBezTo>
                <a:cubicBezTo>
                  <a:pt x="15751" y="7820"/>
                  <a:pt x="15709" y="7837"/>
                  <a:pt x="15677" y="7863"/>
                </a:cubicBezTo>
                <a:cubicBezTo>
                  <a:pt x="15641" y="7893"/>
                  <a:pt x="15576" y="7908"/>
                  <a:pt x="15528" y="7913"/>
                </a:cubicBezTo>
                <a:cubicBezTo>
                  <a:pt x="15503" y="7913"/>
                  <a:pt x="15495" y="7913"/>
                  <a:pt x="15478" y="7913"/>
                </a:cubicBezTo>
              </a:path>
              <a:path w="12949" h="2209">
                <a:moveTo>
                  <a:pt x="15875" y="7342"/>
                </a:moveTo>
                <a:cubicBezTo>
                  <a:pt x="15965" y="7342"/>
                  <a:pt x="16131" y="7311"/>
                  <a:pt x="16197" y="7367"/>
                </a:cubicBezTo>
                <a:cubicBezTo>
                  <a:pt x="16275" y="7433"/>
                  <a:pt x="16243" y="7506"/>
                  <a:pt x="16222" y="7590"/>
                </a:cubicBezTo>
                <a:cubicBezTo>
                  <a:pt x="16181" y="7751"/>
                  <a:pt x="16132" y="7846"/>
                  <a:pt x="16049" y="7987"/>
                </a:cubicBezTo>
                <a:cubicBezTo>
                  <a:pt x="15984" y="8097"/>
                  <a:pt x="15905" y="8219"/>
                  <a:pt x="15850" y="8334"/>
                </a:cubicBezTo>
                <a:cubicBezTo>
                  <a:pt x="15817" y="8401"/>
                  <a:pt x="15752" y="8466"/>
                  <a:pt x="15726" y="8533"/>
                </a:cubicBezTo>
                <a:cubicBezTo>
                  <a:pt x="15708" y="8581"/>
                  <a:pt x="15717" y="8617"/>
                  <a:pt x="15677" y="8657"/>
                </a:cubicBezTo>
                <a:cubicBezTo>
                  <a:pt x="15641" y="8694"/>
                  <a:pt x="15604" y="8682"/>
                  <a:pt x="15553" y="8682"/>
                </a:cubicBezTo>
                <a:cubicBezTo>
                  <a:pt x="15385" y="8682"/>
                  <a:pt x="15215" y="8692"/>
                  <a:pt x="15056" y="8657"/>
                </a:cubicBezTo>
                <a:cubicBezTo>
                  <a:pt x="15048" y="8657"/>
                  <a:pt x="15040" y="8657"/>
                  <a:pt x="15032" y="8657"/>
                </a:cubicBezTo>
              </a:path>
              <a:path w="12949" h="2209">
                <a:moveTo>
                  <a:pt x="16594" y="7069"/>
                </a:moveTo>
                <a:cubicBezTo>
                  <a:pt x="16652" y="7069"/>
                  <a:pt x="16688" y="7069"/>
                  <a:pt x="16743" y="7094"/>
                </a:cubicBezTo>
                <a:cubicBezTo>
                  <a:pt x="16782" y="7112"/>
                  <a:pt x="16896" y="7164"/>
                  <a:pt x="16892" y="7218"/>
                </a:cubicBezTo>
                <a:cubicBezTo>
                  <a:pt x="16887" y="7295"/>
                  <a:pt x="16772" y="7338"/>
                  <a:pt x="16718" y="7367"/>
                </a:cubicBezTo>
                <a:cubicBezTo>
                  <a:pt x="16663" y="7396"/>
                  <a:pt x="16609" y="7406"/>
                  <a:pt x="16594" y="7466"/>
                </a:cubicBezTo>
                <a:cubicBezTo>
                  <a:pt x="16664" y="7466"/>
                  <a:pt x="16699" y="7481"/>
                  <a:pt x="16768" y="7491"/>
                </a:cubicBezTo>
                <a:cubicBezTo>
                  <a:pt x="16785" y="7491"/>
                  <a:pt x="16801" y="7491"/>
                  <a:pt x="16818" y="7491"/>
                </a:cubicBezTo>
              </a:path>
              <a:path w="12949" h="2209">
                <a:moveTo>
                  <a:pt x="16867" y="7987"/>
                </a:moveTo>
                <a:cubicBezTo>
                  <a:pt x="16804" y="7987"/>
                  <a:pt x="16944" y="8011"/>
                  <a:pt x="16966" y="8012"/>
                </a:cubicBezTo>
                <a:cubicBezTo>
                  <a:pt x="17049" y="8017"/>
                  <a:pt x="17112" y="8011"/>
                  <a:pt x="17190" y="8037"/>
                </a:cubicBezTo>
              </a:path>
              <a:path w="12949" h="2209">
                <a:moveTo>
                  <a:pt x="16842" y="8260"/>
                </a:moveTo>
                <a:cubicBezTo>
                  <a:pt x="16955" y="8260"/>
                  <a:pt x="17056" y="8269"/>
                  <a:pt x="17165" y="8285"/>
                </a:cubicBezTo>
                <a:cubicBezTo>
                  <a:pt x="17214" y="8285"/>
                  <a:pt x="17231" y="8285"/>
                  <a:pt x="17264" y="8285"/>
                </a:cubicBezTo>
              </a:path>
              <a:path w="12949" h="2209">
                <a:moveTo>
                  <a:pt x="18058" y="7913"/>
                </a:moveTo>
                <a:cubicBezTo>
                  <a:pt x="18058" y="7885"/>
                  <a:pt x="18068" y="7842"/>
                  <a:pt x="18083" y="7838"/>
                </a:cubicBezTo>
                <a:cubicBezTo>
                  <a:pt x="18134" y="7824"/>
                  <a:pt x="18174" y="7813"/>
                  <a:pt x="18231" y="7813"/>
                </a:cubicBezTo>
                <a:cubicBezTo>
                  <a:pt x="18286" y="7813"/>
                  <a:pt x="18325" y="7830"/>
                  <a:pt x="18331" y="7888"/>
                </a:cubicBezTo>
                <a:cubicBezTo>
                  <a:pt x="18337" y="7945"/>
                  <a:pt x="18249" y="7989"/>
                  <a:pt x="18207" y="8012"/>
                </a:cubicBezTo>
                <a:cubicBezTo>
                  <a:pt x="18178" y="8027"/>
                  <a:pt x="18072" y="8065"/>
                  <a:pt x="18058" y="8086"/>
                </a:cubicBezTo>
                <a:cubicBezTo>
                  <a:pt x="18058" y="8094"/>
                  <a:pt x="18058" y="8103"/>
                  <a:pt x="18058" y="8111"/>
                </a:cubicBezTo>
                <a:cubicBezTo>
                  <a:pt x="18135" y="8111"/>
                  <a:pt x="18247" y="8089"/>
                  <a:pt x="18306" y="8136"/>
                </a:cubicBezTo>
                <a:cubicBezTo>
                  <a:pt x="18372" y="8189"/>
                  <a:pt x="18311" y="8237"/>
                  <a:pt x="18281" y="8285"/>
                </a:cubicBezTo>
                <a:cubicBezTo>
                  <a:pt x="18239" y="8352"/>
                  <a:pt x="18132" y="8412"/>
                  <a:pt x="18058" y="8458"/>
                </a:cubicBezTo>
                <a:cubicBezTo>
                  <a:pt x="17993" y="8498"/>
                  <a:pt x="17909" y="8527"/>
                  <a:pt x="17835" y="8533"/>
                </a:cubicBezTo>
                <a:cubicBezTo>
                  <a:pt x="17827" y="8533"/>
                  <a:pt x="17818" y="8533"/>
                  <a:pt x="17810" y="8533"/>
                </a:cubicBezTo>
              </a:path>
              <a:path w="12949" h="2209">
                <a:moveTo>
                  <a:pt x="18876" y="8235"/>
                </a:moveTo>
                <a:cubicBezTo>
                  <a:pt x="18821" y="8291"/>
                  <a:pt x="18761" y="8335"/>
                  <a:pt x="18703" y="8384"/>
                </a:cubicBezTo>
                <a:cubicBezTo>
                  <a:pt x="18646" y="8431"/>
                  <a:pt x="18608" y="8484"/>
                  <a:pt x="18554" y="8533"/>
                </a:cubicBezTo>
                <a:cubicBezTo>
                  <a:pt x="18528" y="8556"/>
                  <a:pt x="18504" y="8582"/>
                  <a:pt x="18479" y="8607"/>
                </a:cubicBezTo>
              </a:path>
              <a:path w="12949" h="2209">
                <a:moveTo>
                  <a:pt x="18653" y="8235"/>
                </a:moveTo>
                <a:cubicBezTo>
                  <a:pt x="18653" y="8292"/>
                  <a:pt x="18669" y="8331"/>
                  <a:pt x="18678" y="8384"/>
                </a:cubicBezTo>
                <a:cubicBezTo>
                  <a:pt x="18693" y="8471"/>
                  <a:pt x="18715" y="8515"/>
                  <a:pt x="18777" y="8582"/>
                </a:cubicBezTo>
                <a:cubicBezTo>
                  <a:pt x="18807" y="8612"/>
                  <a:pt x="18821" y="8623"/>
                  <a:pt x="18852" y="8632"/>
                </a:cubicBezTo>
              </a:path>
              <a:path w="12949" h="2209">
                <a:moveTo>
                  <a:pt x="18207" y="7417"/>
                </a:moveTo>
                <a:cubicBezTo>
                  <a:pt x="18207" y="7389"/>
                  <a:pt x="18205" y="7378"/>
                  <a:pt x="18182" y="7367"/>
                </a:cubicBezTo>
                <a:cubicBezTo>
                  <a:pt x="18148" y="7386"/>
                  <a:pt x="18111" y="7402"/>
                  <a:pt x="18083" y="7441"/>
                </a:cubicBezTo>
                <a:cubicBezTo>
                  <a:pt x="18014" y="7540"/>
                  <a:pt x="17967" y="7631"/>
                  <a:pt x="17909" y="7739"/>
                </a:cubicBezTo>
                <a:cubicBezTo>
                  <a:pt x="17809" y="7927"/>
                  <a:pt x="17692" y="8112"/>
                  <a:pt x="17611" y="8310"/>
                </a:cubicBezTo>
                <a:cubicBezTo>
                  <a:pt x="17558" y="8440"/>
                  <a:pt x="17493" y="8637"/>
                  <a:pt x="17512" y="8781"/>
                </a:cubicBezTo>
                <a:cubicBezTo>
                  <a:pt x="17526" y="8889"/>
                  <a:pt x="17574" y="8950"/>
                  <a:pt x="17661" y="9004"/>
                </a:cubicBezTo>
              </a:path>
              <a:path w="12949" h="2209">
                <a:moveTo>
                  <a:pt x="19149" y="7590"/>
                </a:moveTo>
                <a:cubicBezTo>
                  <a:pt x="19205" y="7660"/>
                  <a:pt x="19228" y="7724"/>
                  <a:pt x="19248" y="7813"/>
                </a:cubicBezTo>
                <a:cubicBezTo>
                  <a:pt x="19299" y="8035"/>
                  <a:pt x="19263" y="8258"/>
                  <a:pt x="19149" y="8458"/>
                </a:cubicBezTo>
                <a:cubicBezTo>
                  <a:pt x="19066" y="8604"/>
                  <a:pt x="18938" y="8672"/>
                  <a:pt x="18802" y="8756"/>
                </a:cubicBezTo>
                <a:cubicBezTo>
                  <a:pt x="18735" y="8797"/>
                  <a:pt x="18673" y="8842"/>
                  <a:pt x="18604" y="8880"/>
                </a:cubicBezTo>
              </a:path>
              <a:path w="12949" h="2209">
                <a:moveTo>
                  <a:pt x="19596" y="7342"/>
                </a:moveTo>
                <a:cubicBezTo>
                  <a:pt x="19642" y="7342"/>
                  <a:pt x="19660" y="7336"/>
                  <a:pt x="19695" y="7367"/>
                </a:cubicBezTo>
                <a:cubicBezTo>
                  <a:pt x="19734" y="7402"/>
                  <a:pt x="19726" y="7431"/>
                  <a:pt x="19695" y="7466"/>
                </a:cubicBezTo>
                <a:cubicBezTo>
                  <a:pt x="19656" y="7510"/>
                  <a:pt x="19625" y="7515"/>
                  <a:pt x="19670" y="7565"/>
                </a:cubicBezTo>
                <a:cubicBezTo>
                  <a:pt x="19710" y="7609"/>
                  <a:pt x="19764" y="7568"/>
                  <a:pt x="19769" y="7640"/>
                </a:cubicBezTo>
                <a:cubicBezTo>
                  <a:pt x="19774" y="7711"/>
                  <a:pt x="19758" y="7745"/>
                  <a:pt x="19695" y="7789"/>
                </a:cubicBezTo>
                <a:cubicBezTo>
                  <a:pt x="19647" y="7822"/>
                  <a:pt x="19572" y="7850"/>
                  <a:pt x="19521" y="7863"/>
                </a:cubicBezTo>
              </a:path>
              <a:path w="12949" h="2209">
                <a:moveTo>
                  <a:pt x="20315" y="7689"/>
                </a:moveTo>
                <a:cubicBezTo>
                  <a:pt x="20227" y="7709"/>
                  <a:pt x="20196" y="7720"/>
                  <a:pt x="20117" y="7789"/>
                </a:cubicBezTo>
                <a:cubicBezTo>
                  <a:pt x="19998" y="7894"/>
                  <a:pt x="19897" y="8062"/>
                  <a:pt x="19844" y="8210"/>
                </a:cubicBezTo>
                <a:cubicBezTo>
                  <a:pt x="19802" y="8328"/>
                  <a:pt x="19771" y="8506"/>
                  <a:pt x="19794" y="8632"/>
                </a:cubicBezTo>
                <a:cubicBezTo>
                  <a:pt x="19808" y="8711"/>
                  <a:pt x="19844" y="8749"/>
                  <a:pt x="19893" y="8806"/>
                </a:cubicBezTo>
              </a:path>
              <a:path w="12949" h="2209">
                <a:moveTo>
                  <a:pt x="20464" y="8136"/>
                </a:moveTo>
                <a:cubicBezTo>
                  <a:pt x="20486" y="8119"/>
                  <a:pt x="20529" y="8092"/>
                  <a:pt x="20563" y="8111"/>
                </a:cubicBezTo>
                <a:cubicBezTo>
                  <a:pt x="20641" y="8154"/>
                  <a:pt x="20560" y="8269"/>
                  <a:pt x="20538" y="8310"/>
                </a:cubicBezTo>
                <a:cubicBezTo>
                  <a:pt x="20488" y="8405"/>
                  <a:pt x="20407" y="8419"/>
                  <a:pt x="20315" y="8458"/>
                </a:cubicBezTo>
                <a:cubicBezTo>
                  <a:pt x="20254" y="8484"/>
                  <a:pt x="20206" y="8483"/>
                  <a:pt x="20141" y="8483"/>
                </a:cubicBezTo>
                <a:cubicBezTo>
                  <a:pt x="20230" y="8483"/>
                  <a:pt x="20313" y="8493"/>
                  <a:pt x="20389" y="8508"/>
                </a:cubicBezTo>
                <a:cubicBezTo>
                  <a:pt x="20451" y="8520"/>
                  <a:pt x="20444" y="8513"/>
                  <a:pt x="20489" y="8558"/>
                </a:cubicBezTo>
              </a:path>
              <a:path w="12949" h="2209">
                <a:moveTo>
                  <a:pt x="21010" y="8434"/>
                </a:moveTo>
                <a:cubicBezTo>
                  <a:pt x="20960" y="8434"/>
                  <a:pt x="20932" y="8431"/>
                  <a:pt x="20886" y="8458"/>
                </a:cubicBezTo>
                <a:cubicBezTo>
                  <a:pt x="20800" y="8508"/>
                  <a:pt x="20724" y="8559"/>
                  <a:pt x="20638" y="8607"/>
                </a:cubicBezTo>
                <a:cubicBezTo>
                  <a:pt x="20597" y="8627"/>
                  <a:pt x="20591" y="8636"/>
                  <a:pt x="20563" y="8632"/>
                </a:cubicBezTo>
              </a:path>
              <a:path w="12949" h="2209">
                <a:moveTo>
                  <a:pt x="20786" y="8384"/>
                </a:moveTo>
                <a:cubicBezTo>
                  <a:pt x="20798" y="8432"/>
                  <a:pt x="20834" y="8441"/>
                  <a:pt x="20861" y="8483"/>
                </a:cubicBezTo>
                <a:cubicBezTo>
                  <a:pt x="20887" y="8524"/>
                  <a:pt x="20916" y="8608"/>
                  <a:pt x="20960" y="8632"/>
                </a:cubicBezTo>
                <a:cubicBezTo>
                  <a:pt x="20988" y="8632"/>
                  <a:pt x="20999" y="8634"/>
                  <a:pt x="21010" y="8657"/>
                </a:cubicBezTo>
              </a:path>
              <a:path w="12949" h="2209">
                <a:moveTo>
                  <a:pt x="21431" y="7764"/>
                </a:moveTo>
                <a:cubicBezTo>
                  <a:pt x="21513" y="7836"/>
                  <a:pt x="21541" y="7913"/>
                  <a:pt x="21555" y="8037"/>
                </a:cubicBezTo>
                <a:cubicBezTo>
                  <a:pt x="21573" y="8194"/>
                  <a:pt x="21521" y="8362"/>
                  <a:pt x="21481" y="8508"/>
                </a:cubicBezTo>
                <a:cubicBezTo>
                  <a:pt x="21443" y="8646"/>
                  <a:pt x="21360" y="8714"/>
                  <a:pt x="21258" y="8806"/>
                </a:cubicBezTo>
                <a:cubicBezTo>
                  <a:pt x="21213" y="8850"/>
                  <a:pt x="21203" y="8867"/>
                  <a:pt x="21158" y="8855"/>
                </a:cubicBezTo>
              </a:path>
              <a:path w="12949" h="2209">
                <a:moveTo>
                  <a:pt x="22126" y="7516"/>
                </a:moveTo>
                <a:cubicBezTo>
                  <a:pt x="22178" y="7516"/>
                  <a:pt x="22178" y="7512"/>
                  <a:pt x="22200" y="7541"/>
                </a:cubicBezTo>
                <a:cubicBezTo>
                  <a:pt x="22253" y="7610"/>
                  <a:pt x="22271" y="7651"/>
                  <a:pt x="22275" y="7739"/>
                </a:cubicBezTo>
                <a:cubicBezTo>
                  <a:pt x="22278" y="7799"/>
                  <a:pt x="22237" y="7887"/>
                  <a:pt x="22175" y="7913"/>
                </a:cubicBezTo>
                <a:cubicBezTo>
                  <a:pt x="22110" y="7940"/>
                  <a:pt x="21986" y="7913"/>
                  <a:pt x="21927" y="7888"/>
                </a:cubicBezTo>
                <a:cubicBezTo>
                  <a:pt x="21911" y="7880"/>
                  <a:pt x="21894" y="7871"/>
                  <a:pt x="21878" y="7863"/>
                </a:cubicBezTo>
              </a:path>
              <a:path w="12949" h="2209">
                <a:moveTo>
                  <a:pt x="21977" y="7739"/>
                </a:moveTo>
                <a:cubicBezTo>
                  <a:pt x="22082" y="7777"/>
                  <a:pt x="22103" y="7789"/>
                  <a:pt x="22151" y="7888"/>
                </a:cubicBezTo>
                <a:cubicBezTo>
                  <a:pt x="22159" y="7905"/>
                  <a:pt x="22167" y="7921"/>
                  <a:pt x="22175" y="7938"/>
                </a:cubicBezTo>
              </a:path>
              <a:path w="12949" h="2209">
                <a:moveTo>
                  <a:pt x="22101" y="7838"/>
                </a:moveTo>
                <a:cubicBezTo>
                  <a:pt x="22101" y="7786"/>
                  <a:pt x="22106" y="7786"/>
                  <a:pt x="22076" y="7764"/>
                </a:cubicBezTo>
                <a:cubicBezTo>
                  <a:pt x="22032" y="7731"/>
                  <a:pt x="22034" y="7714"/>
                  <a:pt x="21977" y="7714"/>
                </a:cubicBezTo>
                <a:cubicBezTo>
                  <a:pt x="21951" y="7714"/>
                  <a:pt x="21929" y="7739"/>
                  <a:pt x="21927" y="7764"/>
                </a:cubicBezTo>
                <a:cubicBezTo>
                  <a:pt x="21927" y="7805"/>
                  <a:pt x="21927" y="7813"/>
                  <a:pt x="21927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04960" y="3446640"/>
            <a:ext cx="839880" cy="349200"/>
          </a:xfrm>
          <a:custGeom>
            <a:avLst/>
            <a:gdLst/>
            <a:ahLst/>
            <a:rect l="l" t="t" r="r" b="b"/>
            <a:pathLst>
              <a:path w="2332" h="968">
                <a:moveTo>
                  <a:pt x="4837" y="9674"/>
                </a:moveTo>
                <a:cubicBezTo>
                  <a:pt x="4875" y="9617"/>
                  <a:pt x="4891" y="9614"/>
                  <a:pt x="4887" y="9575"/>
                </a:cubicBezTo>
                <a:cubicBezTo>
                  <a:pt x="4873" y="9699"/>
                  <a:pt x="4835" y="9823"/>
                  <a:pt x="4812" y="9947"/>
                </a:cubicBezTo>
                <a:cubicBezTo>
                  <a:pt x="4782" y="10111"/>
                  <a:pt x="4743" y="10277"/>
                  <a:pt x="4738" y="10443"/>
                </a:cubicBezTo>
                <a:cubicBezTo>
                  <a:pt x="4738" y="10501"/>
                  <a:pt x="4738" y="10509"/>
                  <a:pt x="4738" y="10542"/>
                </a:cubicBezTo>
              </a:path>
              <a:path w="2332" h="968">
                <a:moveTo>
                  <a:pt x="5283" y="10071"/>
                </a:moveTo>
                <a:cubicBezTo>
                  <a:pt x="5274" y="10143"/>
                  <a:pt x="5237" y="10197"/>
                  <a:pt x="5234" y="10269"/>
                </a:cubicBezTo>
                <a:cubicBezTo>
                  <a:pt x="5231" y="10337"/>
                  <a:pt x="5217" y="10434"/>
                  <a:pt x="5259" y="10492"/>
                </a:cubicBezTo>
                <a:cubicBezTo>
                  <a:pt x="5296" y="10544"/>
                  <a:pt x="5393" y="10567"/>
                  <a:pt x="5457" y="10542"/>
                </a:cubicBezTo>
                <a:cubicBezTo>
                  <a:pt x="5465" y="10534"/>
                  <a:pt x="5474" y="10525"/>
                  <a:pt x="5482" y="10517"/>
                </a:cubicBezTo>
              </a:path>
              <a:path w="2332" h="968">
                <a:moveTo>
                  <a:pt x="5209" y="10393"/>
                </a:moveTo>
                <a:cubicBezTo>
                  <a:pt x="5192" y="10401"/>
                  <a:pt x="5176" y="10410"/>
                  <a:pt x="5159" y="10418"/>
                </a:cubicBezTo>
                <a:cubicBezTo>
                  <a:pt x="5218" y="10359"/>
                  <a:pt x="5287" y="10339"/>
                  <a:pt x="5358" y="10294"/>
                </a:cubicBezTo>
                <a:cubicBezTo>
                  <a:pt x="5429" y="10246"/>
                  <a:pt x="5450" y="10230"/>
                  <a:pt x="5507" y="10220"/>
                </a:cubicBezTo>
              </a:path>
              <a:path w="2332" h="968">
                <a:moveTo>
                  <a:pt x="5234" y="10096"/>
                </a:moveTo>
                <a:cubicBezTo>
                  <a:pt x="5289" y="10018"/>
                  <a:pt x="5345" y="9989"/>
                  <a:pt x="5432" y="9947"/>
                </a:cubicBezTo>
                <a:cubicBezTo>
                  <a:pt x="5527" y="9901"/>
                  <a:pt x="5603" y="9874"/>
                  <a:pt x="5705" y="9847"/>
                </a:cubicBezTo>
              </a:path>
              <a:path w="2332" h="968">
                <a:moveTo>
                  <a:pt x="5779" y="10294"/>
                </a:moveTo>
                <a:cubicBezTo>
                  <a:pt x="5787" y="10311"/>
                  <a:pt x="5796" y="10327"/>
                  <a:pt x="5804" y="10344"/>
                </a:cubicBezTo>
                <a:cubicBezTo>
                  <a:pt x="5852" y="10332"/>
                  <a:pt x="5931" y="10294"/>
                  <a:pt x="5978" y="10269"/>
                </a:cubicBezTo>
                <a:cubicBezTo>
                  <a:pt x="6003" y="10253"/>
                  <a:pt x="6027" y="10236"/>
                  <a:pt x="6052" y="10220"/>
                </a:cubicBezTo>
              </a:path>
              <a:path w="2332" h="968">
                <a:moveTo>
                  <a:pt x="6375" y="9847"/>
                </a:moveTo>
                <a:cubicBezTo>
                  <a:pt x="6406" y="9839"/>
                  <a:pt x="6506" y="9815"/>
                  <a:pt x="6524" y="9872"/>
                </a:cubicBezTo>
                <a:cubicBezTo>
                  <a:pt x="6541" y="9928"/>
                  <a:pt x="6512" y="9979"/>
                  <a:pt x="6499" y="10021"/>
                </a:cubicBezTo>
                <a:cubicBezTo>
                  <a:pt x="6493" y="10041"/>
                  <a:pt x="6499" y="10075"/>
                  <a:pt x="6499" y="10096"/>
                </a:cubicBezTo>
                <a:cubicBezTo>
                  <a:pt x="6533" y="10096"/>
                  <a:pt x="6603" y="10062"/>
                  <a:pt x="6623" y="10071"/>
                </a:cubicBezTo>
                <a:cubicBezTo>
                  <a:pt x="6679" y="10096"/>
                  <a:pt x="6683" y="10150"/>
                  <a:pt x="6648" y="10195"/>
                </a:cubicBezTo>
                <a:cubicBezTo>
                  <a:pt x="6588" y="10273"/>
                  <a:pt x="6506" y="10339"/>
                  <a:pt x="6449" y="10418"/>
                </a:cubicBezTo>
                <a:cubicBezTo>
                  <a:pt x="6427" y="10461"/>
                  <a:pt x="6424" y="10473"/>
                  <a:pt x="6400" y="10492"/>
                </a:cubicBezTo>
              </a:path>
              <a:path w="2332" h="968">
                <a:moveTo>
                  <a:pt x="7069" y="9798"/>
                </a:moveTo>
                <a:cubicBezTo>
                  <a:pt x="7069" y="9889"/>
                  <a:pt x="7048" y="9958"/>
                  <a:pt x="7045" y="10046"/>
                </a:cubicBezTo>
                <a:cubicBezTo>
                  <a:pt x="7040" y="10194"/>
                  <a:pt x="7045" y="10344"/>
                  <a:pt x="7045" y="104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32080" y="3394080"/>
            <a:ext cx="982800" cy="633240"/>
          </a:xfrm>
          <a:custGeom>
            <a:avLst/>
            <a:gdLst/>
            <a:ahLst/>
            <a:rect l="l" t="t" r="r" b="b"/>
            <a:pathLst>
              <a:path w="2730" h="1762">
                <a:moveTo>
                  <a:pt x="9550" y="9699"/>
                </a:moveTo>
                <a:cubicBezTo>
                  <a:pt x="9618" y="9699"/>
                  <a:pt x="9683" y="9678"/>
                  <a:pt x="9723" y="9748"/>
                </a:cubicBezTo>
                <a:cubicBezTo>
                  <a:pt x="9783" y="9853"/>
                  <a:pt x="9788" y="9984"/>
                  <a:pt x="9748" y="10096"/>
                </a:cubicBezTo>
                <a:cubicBezTo>
                  <a:pt x="9691" y="10255"/>
                  <a:pt x="9595" y="10356"/>
                  <a:pt x="9451" y="10443"/>
                </a:cubicBezTo>
                <a:cubicBezTo>
                  <a:pt x="9367" y="10494"/>
                  <a:pt x="9284" y="10516"/>
                  <a:pt x="9203" y="10468"/>
                </a:cubicBezTo>
                <a:cubicBezTo>
                  <a:pt x="9257" y="10379"/>
                  <a:pt x="9342" y="10294"/>
                  <a:pt x="9451" y="10269"/>
                </a:cubicBezTo>
                <a:cubicBezTo>
                  <a:pt x="9561" y="10244"/>
                  <a:pt x="9707" y="10285"/>
                  <a:pt x="9798" y="10344"/>
                </a:cubicBezTo>
                <a:cubicBezTo>
                  <a:pt x="9844" y="10390"/>
                  <a:pt x="9856" y="10404"/>
                  <a:pt x="9897" y="10418"/>
                </a:cubicBezTo>
              </a:path>
              <a:path w="2730" h="1762">
                <a:moveTo>
                  <a:pt x="10195" y="9823"/>
                </a:moveTo>
                <a:cubicBezTo>
                  <a:pt x="10249" y="9809"/>
                  <a:pt x="10255" y="9777"/>
                  <a:pt x="10319" y="9773"/>
                </a:cubicBezTo>
                <a:cubicBezTo>
                  <a:pt x="10415" y="9767"/>
                  <a:pt x="10467" y="9762"/>
                  <a:pt x="10517" y="9847"/>
                </a:cubicBezTo>
                <a:cubicBezTo>
                  <a:pt x="10578" y="9951"/>
                  <a:pt x="10561" y="10035"/>
                  <a:pt x="10517" y="10145"/>
                </a:cubicBezTo>
                <a:cubicBezTo>
                  <a:pt x="10448" y="10318"/>
                  <a:pt x="10306" y="10485"/>
                  <a:pt x="10269" y="10666"/>
                </a:cubicBezTo>
              </a:path>
              <a:path w="2730" h="1762">
                <a:moveTo>
                  <a:pt x="11187" y="10393"/>
                </a:moveTo>
                <a:cubicBezTo>
                  <a:pt x="11139" y="10431"/>
                  <a:pt x="11110" y="10484"/>
                  <a:pt x="11063" y="10517"/>
                </a:cubicBezTo>
                <a:cubicBezTo>
                  <a:pt x="11010" y="10555"/>
                  <a:pt x="10986" y="10594"/>
                  <a:pt x="10939" y="10641"/>
                </a:cubicBezTo>
              </a:path>
              <a:path w="2730" h="1762">
                <a:moveTo>
                  <a:pt x="10964" y="10368"/>
                </a:moveTo>
                <a:cubicBezTo>
                  <a:pt x="10972" y="10368"/>
                  <a:pt x="10980" y="10368"/>
                  <a:pt x="10988" y="10368"/>
                </a:cubicBezTo>
                <a:cubicBezTo>
                  <a:pt x="10999" y="10411"/>
                  <a:pt x="11033" y="10478"/>
                  <a:pt x="11063" y="10517"/>
                </a:cubicBezTo>
                <a:cubicBezTo>
                  <a:pt x="11098" y="10562"/>
                  <a:pt x="11154" y="10650"/>
                  <a:pt x="11212" y="10666"/>
                </a:cubicBezTo>
                <a:cubicBezTo>
                  <a:pt x="11253" y="10666"/>
                  <a:pt x="11261" y="10666"/>
                  <a:pt x="11286" y="10666"/>
                </a:cubicBezTo>
              </a:path>
              <a:path w="2730" h="1762">
                <a:moveTo>
                  <a:pt x="11509" y="9773"/>
                </a:moveTo>
                <a:cubicBezTo>
                  <a:pt x="11560" y="9773"/>
                  <a:pt x="11595" y="9764"/>
                  <a:pt x="11633" y="9798"/>
                </a:cubicBezTo>
                <a:cubicBezTo>
                  <a:pt x="11667" y="9829"/>
                  <a:pt x="11658" y="9854"/>
                  <a:pt x="11658" y="9897"/>
                </a:cubicBezTo>
                <a:cubicBezTo>
                  <a:pt x="11658" y="9940"/>
                  <a:pt x="11613" y="9967"/>
                  <a:pt x="11584" y="9996"/>
                </a:cubicBezTo>
                <a:cubicBezTo>
                  <a:pt x="11559" y="10021"/>
                  <a:pt x="11551" y="10029"/>
                  <a:pt x="11534" y="10046"/>
                </a:cubicBezTo>
                <a:cubicBezTo>
                  <a:pt x="11592" y="10046"/>
                  <a:pt x="11650" y="10046"/>
                  <a:pt x="11708" y="10046"/>
                </a:cubicBezTo>
                <a:cubicBezTo>
                  <a:pt x="11708" y="10092"/>
                  <a:pt x="11715" y="10111"/>
                  <a:pt x="11683" y="10145"/>
                </a:cubicBezTo>
                <a:cubicBezTo>
                  <a:pt x="11622" y="10210"/>
                  <a:pt x="11539" y="10252"/>
                  <a:pt x="11460" y="10294"/>
                </a:cubicBezTo>
                <a:cubicBezTo>
                  <a:pt x="11407" y="10322"/>
                  <a:pt x="11370" y="10344"/>
                  <a:pt x="11311" y="10344"/>
                </a:cubicBezTo>
              </a:path>
              <a:path w="2730" h="1762">
                <a:moveTo>
                  <a:pt x="9550" y="9426"/>
                </a:moveTo>
                <a:cubicBezTo>
                  <a:pt x="9422" y="9532"/>
                  <a:pt x="9297" y="9633"/>
                  <a:pt x="9203" y="9773"/>
                </a:cubicBezTo>
                <a:cubicBezTo>
                  <a:pt x="9084" y="9949"/>
                  <a:pt x="9038" y="10137"/>
                  <a:pt x="9004" y="10344"/>
                </a:cubicBezTo>
                <a:cubicBezTo>
                  <a:pt x="8970" y="10551"/>
                  <a:pt x="8979" y="10755"/>
                  <a:pt x="8979" y="10964"/>
                </a:cubicBezTo>
                <a:cubicBezTo>
                  <a:pt x="8979" y="11081"/>
                  <a:pt x="8977" y="11115"/>
                  <a:pt x="9004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75080" y="3419640"/>
            <a:ext cx="81000" cy="447480"/>
          </a:xfrm>
          <a:custGeom>
            <a:avLst/>
            <a:gdLst/>
            <a:ahLst/>
            <a:rect l="l" t="t" r="r" b="b"/>
            <a:pathLst>
              <a:path w="225" h="1241">
                <a:moveTo>
                  <a:pt x="12179" y="9500"/>
                </a:moveTo>
                <a:cubicBezTo>
                  <a:pt x="12229" y="9512"/>
                  <a:pt x="12262" y="9596"/>
                  <a:pt x="12278" y="9649"/>
                </a:cubicBezTo>
                <a:cubicBezTo>
                  <a:pt x="12332" y="9825"/>
                  <a:pt x="12365" y="10038"/>
                  <a:pt x="12378" y="10220"/>
                </a:cubicBezTo>
                <a:cubicBezTo>
                  <a:pt x="12388" y="10359"/>
                  <a:pt x="12387" y="10522"/>
                  <a:pt x="12303" y="10641"/>
                </a:cubicBezTo>
                <a:cubicBezTo>
                  <a:pt x="12235" y="10710"/>
                  <a:pt x="12219" y="10732"/>
                  <a:pt x="12154" y="107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53000" y="3411360"/>
            <a:ext cx="704880" cy="581040"/>
          </a:xfrm>
          <a:custGeom>
            <a:avLst/>
            <a:gdLst/>
            <a:ahLst/>
            <a:rect l="l" t="t" r="r" b="b"/>
            <a:pathLst>
              <a:path w="1961" h="1614">
                <a:moveTo>
                  <a:pt x="13097" y="9922"/>
                </a:moveTo>
                <a:cubicBezTo>
                  <a:pt x="13105" y="9914"/>
                  <a:pt x="13114" y="9905"/>
                  <a:pt x="13122" y="9897"/>
                </a:cubicBezTo>
                <a:cubicBezTo>
                  <a:pt x="13093" y="9897"/>
                  <a:pt x="13034" y="9883"/>
                  <a:pt x="13022" y="9922"/>
                </a:cubicBezTo>
                <a:cubicBezTo>
                  <a:pt x="12999" y="9996"/>
                  <a:pt x="13019" y="10130"/>
                  <a:pt x="13047" y="10195"/>
                </a:cubicBezTo>
                <a:cubicBezTo>
                  <a:pt x="13090" y="10296"/>
                  <a:pt x="13111" y="10314"/>
                  <a:pt x="13221" y="10319"/>
                </a:cubicBezTo>
                <a:cubicBezTo>
                  <a:pt x="13279" y="10319"/>
                  <a:pt x="13304" y="10319"/>
                  <a:pt x="13345" y="10319"/>
                </a:cubicBezTo>
              </a:path>
              <a:path w="1961" h="1614">
                <a:moveTo>
                  <a:pt x="13568" y="9872"/>
                </a:moveTo>
                <a:cubicBezTo>
                  <a:pt x="13506" y="9916"/>
                  <a:pt x="13426" y="9952"/>
                  <a:pt x="13395" y="10021"/>
                </a:cubicBezTo>
                <a:cubicBezTo>
                  <a:pt x="13348" y="10126"/>
                  <a:pt x="13308" y="10279"/>
                  <a:pt x="13295" y="10393"/>
                </a:cubicBezTo>
                <a:cubicBezTo>
                  <a:pt x="13288" y="10458"/>
                  <a:pt x="13254" y="10631"/>
                  <a:pt x="13271" y="10691"/>
                </a:cubicBezTo>
                <a:cubicBezTo>
                  <a:pt x="13295" y="10716"/>
                  <a:pt x="13303" y="10724"/>
                  <a:pt x="13320" y="10740"/>
                </a:cubicBezTo>
              </a:path>
              <a:path w="1961" h="1614">
                <a:moveTo>
                  <a:pt x="13965" y="10418"/>
                </a:moveTo>
                <a:cubicBezTo>
                  <a:pt x="13896" y="10366"/>
                  <a:pt x="13918" y="10402"/>
                  <a:pt x="13866" y="10443"/>
                </a:cubicBezTo>
                <a:cubicBezTo>
                  <a:pt x="13793" y="10500"/>
                  <a:pt x="13751" y="10569"/>
                  <a:pt x="13692" y="10641"/>
                </a:cubicBezTo>
                <a:cubicBezTo>
                  <a:pt x="13654" y="10687"/>
                  <a:pt x="13647" y="10721"/>
                  <a:pt x="13618" y="10740"/>
                </a:cubicBezTo>
              </a:path>
              <a:path w="1961" h="1614">
                <a:moveTo>
                  <a:pt x="13692" y="10393"/>
                </a:moveTo>
                <a:cubicBezTo>
                  <a:pt x="13700" y="10393"/>
                  <a:pt x="13709" y="10393"/>
                  <a:pt x="13717" y="10393"/>
                </a:cubicBezTo>
                <a:cubicBezTo>
                  <a:pt x="13717" y="10452"/>
                  <a:pt x="13741" y="10488"/>
                  <a:pt x="13767" y="10542"/>
                </a:cubicBezTo>
                <a:cubicBezTo>
                  <a:pt x="13807" y="10623"/>
                  <a:pt x="13824" y="10640"/>
                  <a:pt x="13891" y="10691"/>
                </a:cubicBezTo>
                <a:cubicBezTo>
                  <a:pt x="13913" y="10714"/>
                  <a:pt x="13918" y="10722"/>
                  <a:pt x="13940" y="10716"/>
                </a:cubicBezTo>
              </a:path>
              <a:path w="1961" h="1614">
                <a:moveTo>
                  <a:pt x="14163" y="9996"/>
                </a:moveTo>
                <a:cubicBezTo>
                  <a:pt x="14177" y="9953"/>
                  <a:pt x="14198" y="9979"/>
                  <a:pt x="14238" y="9996"/>
                </a:cubicBezTo>
                <a:cubicBezTo>
                  <a:pt x="14263" y="10007"/>
                  <a:pt x="14329" y="10056"/>
                  <a:pt x="14312" y="10096"/>
                </a:cubicBezTo>
                <a:cubicBezTo>
                  <a:pt x="14287" y="10153"/>
                  <a:pt x="14226" y="10198"/>
                  <a:pt x="14188" y="10244"/>
                </a:cubicBezTo>
                <a:cubicBezTo>
                  <a:pt x="14161" y="10276"/>
                  <a:pt x="14148" y="10280"/>
                  <a:pt x="14139" y="10319"/>
                </a:cubicBezTo>
                <a:cubicBezTo>
                  <a:pt x="14221" y="10319"/>
                  <a:pt x="14286" y="10307"/>
                  <a:pt x="14362" y="10294"/>
                </a:cubicBezTo>
                <a:cubicBezTo>
                  <a:pt x="14414" y="10294"/>
                  <a:pt x="14432" y="10293"/>
                  <a:pt x="14461" y="10269"/>
                </a:cubicBezTo>
              </a:path>
              <a:path w="1961" h="1614">
                <a:moveTo>
                  <a:pt x="14709" y="9649"/>
                </a:moveTo>
                <a:cubicBezTo>
                  <a:pt x="14789" y="9695"/>
                  <a:pt x="14806" y="9730"/>
                  <a:pt x="14833" y="9823"/>
                </a:cubicBezTo>
                <a:cubicBezTo>
                  <a:pt x="14880" y="9983"/>
                  <a:pt x="14900" y="10152"/>
                  <a:pt x="14883" y="10319"/>
                </a:cubicBezTo>
                <a:cubicBezTo>
                  <a:pt x="14867" y="10471"/>
                  <a:pt x="14822" y="10638"/>
                  <a:pt x="14734" y="10765"/>
                </a:cubicBezTo>
                <a:cubicBezTo>
                  <a:pt x="14664" y="10866"/>
                  <a:pt x="14589" y="10903"/>
                  <a:pt x="14486" y="10964"/>
                </a:cubicBezTo>
              </a:path>
              <a:path w="1961" h="1614">
                <a:moveTo>
                  <a:pt x="13345" y="9475"/>
                </a:moveTo>
                <a:cubicBezTo>
                  <a:pt x="13257" y="9475"/>
                  <a:pt x="13160" y="9469"/>
                  <a:pt x="13097" y="9550"/>
                </a:cubicBezTo>
                <a:cubicBezTo>
                  <a:pt x="12990" y="9687"/>
                  <a:pt x="12936" y="9903"/>
                  <a:pt x="12923" y="10071"/>
                </a:cubicBezTo>
                <a:cubicBezTo>
                  <a:pt x="12906" y="10299"/>
                  <a:pt x="12951" y="10573"/>
                  <a:pt x="13022" y="10790"/>
                </a:cubicBezTo>
                <a:cubicBezTo>
                  <a:pt x="13056" y="10895"/>
                  <a:pt x="13142" y="10992"/>
                  <a:pt x="13196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88000" y="3741840"/>
            <a:ext cx="304920" cy="115920"/>
          </a:xfrm>
          <a:custGeom>
            <a:avLst/>
            <a:gdLst/>
            <a:ahLst/>
            <a:rect l="l" t="t" r="r" b="b"/>
            <a:pathLst>
              <a:path w="844" h="324">
                <a:moveTo>
                  <a:pt x="15801" y="10393"/>
                </a:moveTo>
                <a:cubicBezTo>
                  <a:pt x="15856" y="10436"/>
                  <a:pt x="15927" y="10418"/>
                  <a:pt x="15999" y="10418"/>
                </a:cubicBezTo>
                <a:cubicBezTo>
                  <a:pt x="16104" y="10418"/>
                  <a:pt x="16199" y="10410"/>
                  <a:pt x="16297" y="10443"/>
                </a:cubicBezTo>
              </a:path>
              <a:path w="844" h="324">
                <a:moveTo>
                  <a:pt x="15999" y="10691"/>
                </a:moveTo>
                <a:cubicBezTo>
                  <a:pt x="16107" y="10732"/>
                  <a:pt x="16131" y="10682"/>
                  <a:pt x="16247" y="10666"/>
                </a:cubicBezTo>
                <a:cubicBezTo>
                  <a:pt x="16381" y="10647"/>
                  <a:pt x="16510" y="10666"/>
                  <a:pt x="16644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53120" y="3598920"/>
            <a:ext cx="1027080" cy="339840"/>
          </a:xfrm>
          <a:custGeom>
            <a:avLst/>
            <a:gdLst/>
            <a:ahLst/>
            <a:rect l="l" t="t" r="r" b="b"/>
            <a:pathLst>
              <a:path w="2854" h="944">
                <a:moveTo>
                  <a:pt x="17214" y="10120"/>
                </a:moveTo>
                <a:cubicBezTo>
                  <a:pt x="17151" y="10220"/>
                  <a:pt x="17102" y="10322"/>
                  <a:pt x="17090" y="10443"/>
                </a:cubicBezTo>
                <a:cubicBezTo>
                  <a:pt x="17076" y="10588"/>
                  <a:pt x="17090" y="10743"/>
                  <a:pt x="17090" y="10889"/>
                </a:cubicBezTo>
              </a:path>
              <a:path w="2854" h="944">
                <a:moveTo>
                  <a:pt x="17487" y="10393"/>
                </a:moveTo>
                <a:cubicBezTo>
                  <a:pt x="17426" y="10461"/>
                  <a:pt x="17326" y="10558"/>
                  <a:pt x="17363" y="10666"/>
                </a:cubicBezTo>
                <a:cubicBezTo>
                  <a:pt x="17404" y="10789"/>
                  <a:pt x="17513" y="10869"/>
                  <a:pt x="17636" y="10889"/>
                </a:cubicBezTo>
                <a:cubicBezTo>
                  <a:pt x="17708" y="10901"/>
                  <a:pt x="17830" y="10903"/>
                  <a:pt x="17859" y="10815"/>
                </a:cubicBezTo>
                <a:cubicBezTo>
                  <a:pt x="17888" y="10726"/>
                  <a:pt x="17786" y="10579"/>
                  <a:pt x="17735" y="10517"/>
                </a:cubicBezTo>
                <a:cubicBezTo>
                  <a:pt x="17679" y="10449"/>
                  <a:pt x="17533" y="10256"/>
                  <a:pt x="17537" y="10344"/>
                </a:cubicBezTo>
                <a:cubicBezTo>
                  <a:pt x="17545" y="10352"/>
                  <a:pt x="17554" y="10360"/>
                  <a:pt x="17562" y="10368"/>
                </a:cubicBezTo>
              </a:path>
              <a:path w="2854" h="944">
                <a:moveTo>
                  <a:pt x="18380" y="10319"/>
                </a:moveTo>
                <a:cubicBezTo>
                  <a:pt x="18307" y="10295"/>
                  <a:pt x="18142" y="10220"/>
                  <a:pt x="18058" y="10244"/>
                </a:cubicBezTo>
                <a:cubicBezTo>
                  <a:pt x="18050" y="10252"/>
                  <a:pt x="18041" y="10261"/>
                  <a:pt x="18033" y="10269"/>
                </a:cubicBezTo>
                <a:cubicBezTo>
                  <a:pt x="18047" y="10378"/>
                  <a:pt x="18088" y="10406"/>
                  <a:pt x="18157" y="10492"/>
                </a:cubicBezTo>
                <a:cubicBezTo>
                  <a:pt x="18225" y="10577"/>
                  <a:pt x="18320" y="10682"/>
                  <a:pt x="18331" y="10790"/>
                </a:cubicBezTo>
                <a:cubicBezTo>
                  <a:pt x="18339" y="10861"/>
                  <a:pt x="18257" y="10937"/>
                  <a:pt x="18182" y="10914"/>
                </a:cubicBezTo>
                <a:cubicBezTo>
                  <a:pt x="18110" y="10892"/>
                  <a:pt x="18117" y="10813"/>
                  <a:pt x="18132" y="10765"/>
                </a:cubicBezTo>
                <a:cubicBezTo>
                  <a:pt x="18176" y="10622"/>
                  <a:pt x="18291" y="10570"/>
                  <a:pt x="18405" y="10492"/>
                </a:cubicBezTo>
                <a:cubicBezTo>
                  <a:pt x="18512" y="10419"/>
                  <a:pt x="18580" y="10382"/>
                  <a:pt x="18703" y="10344"/>
                </a:cubicBezTo>
              </a:path>
              <a:path w="2854" h="944">
                <a:moveTo>
                  <a:pt x="19174" y="10517"/>
                </a:moveTo>
                <a:cubicBezTo>
                  <a:pt x="19121" y="10530"/>
                  <a:pt x="19045" y="10579"/>
                  <a:pt x="19000" y="10616"/>
                </a:cubicBezTo>
                <a:cubicBezTo>
                  <a:pt x="18922" y="10679"/>
                  <a:pt x="18813" y="10761"/>
                  <a:pt x="18752" y="10840"/>
                </a:cubicBezTo>
                <a:cubicBezTo>
                  <a:pt x="18729" y="10869"/>
                  <a:pt x="18711" y="10907"/>
                  <a:pt x="18703" y="10939"/>
                </a:cubicBezTo>
              </a:path>
              <a:path w="2854" h="944">
                <a:moveTo>
                  <a:pt x="18852" y="10517"/>
                </a:moveTo>
                <a:cubicBezTo>
                  <a:pt x="18867" y="10595"/>
                  <a:pt x="18882" y="10646"/>
                  <a:pt x="18926" y="10716"/>
                </a:cubicBezTo>
                <a:cubicBezTo>
                  <a:pt x="18985" y="10812"/>
                  <a:pt x="19050" y="10862"/>
                  <a:pt x="19149" y="10914"/>
                </a:cubicBezTo>
                <a:cubicBezTo>
                  <a:pt x="19166" y="10922"/>
                  <a:pt x="19182" y="10931"/>
                  <a:pt x="19199" y="10939"/>
                </a:cubicBezTo>
              </a:path>
              <a:path w="2854" h="944">
                <a:moveTo>
                  <a:pt x="19670" y="10021"/>
                </a:moveTo>
                <a:cubicBezTo>
                  <a:pt x="19612" y="10021"/>
                  <a:pt x="19720" y="9997"/>
                  <a:pt x="19745" y="9996"/>
                </a:cubicBezTo>
                <a:cubicBezTo>
                  <a:pt x="19823" y="9992"/>
                  <a:pt x="19872" y="10007"/>
                  <a:pt x="19943" y="10021"/>
                </a:cubicBezTo>
              </a:path>
              <a:path w="2854" h="944">
                <a:moveTo>
                  <a:pt x="19670" y="10046"/>
                </a:moveTo>
                <a:cubicBezTo>
                  <a:pt x="19621" y="10067"/>
                  <a:pt x="19568" y="10102"/>
                  <a:pt x="19521" y="10120"/>
                </a:cubicBezTo>
                <a:cubicBezTo>
                  <a:pt x="19507" y="10125"/>
                  <a:pt x="19432" y="10162"/>
                  <a:pt x="19472" y="10195"/>
                </a:cubicBezTo>
                <a:cubicBezTo>
                  <a:pt x="19498" y="10217"/>
                  <a:pt x="19563" y="10231"/>
                  <a:pt x="19596" y="10244"/>
                </a:cubicBezTo>
                <a:cubicBezTo>
                  <a:pt x="19668" y="10273"/>
                  <a:pt x="19735" y="10292"/>
                  <a:pt x="19794" y="10344"/>
                </a:cubicBezTo>
                <a:cubicBezTo>
                  <a:pt x="19826" y="10373"/>
                  <a:pt x="19834" y="10415"/>
                  <a:pt x="19794" y="10443"/>
                </a:cubicBezTo>
                <a:cubicBezTo>
                  <a:pt x="19738" y="10483"/>
                  <a:pt x="19687" y="10492"/>
                  <a:pt x="19621" y="10492"/>
                </a:cubicBezTo>
                <a:cubicBezTo>
                  <a:pt x="19613" y="10492"/>
                  <a:pt x="19604" y="10492"/>
                  <a:pt x="19596" y="104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82800" y="4232160"/>
            <a:ext cx="1812960" cy="2046240"/>
          </a:xfrm>
          <a:custGeom>
            <a:avLst/>
            <a:gdLst/>
            <a:ahLst/>
            <a:rect l="l" t="t" r="r" b="b"/>
            <a:pathLst>
              <a:path w="5036" h="5682">
                <a:moveTo>
                  <a:pt x="3770" y="12080"/>
                </a:moveTo>
                <a:cubicBezTo>
                  <a:pt x="3770" y="12055"/>
                  <a:pt x="3770" y="12047"/>
                  <a:pt x="3770" y="12030"/>
                </a:cubicBezTo>
                <a:cubicBezTo>
                  <a:pt x="3714" y="12030"/>
                  <a:pt x="3737" y="12008"/>
                  <a:pt x="3696" y="12005"/>
                </a:cubicBezTo>
                <a:cubicBezTo>
                  <a:pt x="3625" y="12000"/>
                  <a:pt x="3557" y="12068"/>
                  <a:pt x="3497" y="12105"/>
                </a:cubicBezTo>
                <a:cubicBezTo>
                  <a:pt x="3447" y="12136"/>
                  <a:pt x="3299" y="12230"/>
                  <a:pt x="3299" y="12303"/>
                </a:cubicBezTo>
                <a:cubicBezTo>
                  <a:pt x="3299" y="12357"/>
                  <a:pt x="3447" y="12368"/>
                  <a:pt x="3473" y="12378"/>
                </a:cubicBezTo>
                <a:cubicBezTo>
                  <a:pt x="3549" y="12407"/>
                  <a:pt x="3609" y="12427"/>
                  <a:pt x="3621" y="12502"/>
                </a:cubicBezTo>
                <a:cubicBezTo>
                  <a:pt x="3633" y="12574"/>
                  <a:pt x="3539" y="12633"/>
                  <a:pt x="3497" y="12675"/>
                </a:cubicBezTo>
                <a:cubicBezTo>
                  <a:pt x="3430" y="12743"/>
                  <a:pt x="3369" y="12792"/>
                  <a:pt x="3274" y="12799"/>
                </a:cubicBezTo>
                <a:cubicBezTo>
                  <a:pt x="3266" y="12799"/>
                  <a:pt x="3257" y="12799"/>
                  <a:pt x="3249" y="12799"/>
                </a:cubicBezTo>
              </a:path>
              <a:path w="5036" h="5682">
                <a:moveTo>
                  <a:pt x="3894" y="12675"/>
                </a:moveTo>
                <a:cubicBezTo>
                  <a:pt x="3894" y="12709"/>
                  <a:pt x="3894" y="12878"/>
                  <a:pt x="3894" y="12824"/>
                </a:cubicBezTo>
                <a:cubicBezTo>
                  <a:pt x="3894" y="12750"/>
                  <a:pt x="3896" y="12695"/>
                  <a:pt x="3919" y="12626"/>
                </a:cubicBezTo>
                <a:cubicBezTo>
                  <a:pt x="3952" y="12527"/>
                  <a:pt x="3964" y="12447"/>
                  <a:pt x="4068" y="12402"/>
                </a:cubicBezTo>
                <a:cubicBezTo>
                  <a:pt x="4093" y="12394"/>
                  <a:pt x="4117" y="12386"/>
                  <a:pt x="4142" y="12378"/>
                </a:cubicBezTo>
              </a:path>
              <a:path w="5036" h="5682">
                <a:moveTo>
                  <a:pt x="4291" y="12874"/>
                </a:moveTo>
                <a:cubicBezTo>
                  <a:pt x="4316" y="12874"/>
                  <a:pt x="4341" y="12874"/>
                  <a:pt x="4366" y="12874"/>
                </a:cubicBezTo>
                <a:cubicBezTo>
                  <a:pt x="4366" y="12931"/>
                  <a:pt x="4357" y="12952"/>
                  <a:pt x="4341" y="12998"/>
                </a:cubicBezTo>
                <a:cubicBezTo>
                  <a:pt x="4328" y="13037"/>
                  <a:pt x="4329" y="13007"/>
                  <a:pt x="4316" y="13047"/>
                </a:cubicBezTo>
                <a:cubicBezTo>
                  <a:pt x="4357" y="13047"/>
                  <a:pt x="4396" y="13053"/>
                  <a:pt x="4415" y="13097"/>
                </a:cubicBezTo>
                <a:cubicBezTo>
                  <a:pt x="4437" y="13147"/>
                  <a:pt x="4342" y="13220"/>
                  <a:pt x="4316" y="13246"/>
                </a:cubicBezTo>
                <a:cubicBezTo>
                  <a:pt x="4259" y="13302"/>
                  <a:pt x="4221" y="13354"/>
                  <a:pt x="4142" y="13370"/>
                </a:cubicBezTo>
              </a:path>
              <a:path w="5036" h="5682">
                <a:moveTo>
                  <a:pt x="4862" y="12402"/>
                </a:moveTo>
                <a:cubicBezTo>
                  <a:pt x="4847" y="12477"/>
                  <a:pt x="4816" y="12521"/>
                  <a:pt x="4812" y="12601"/>
                </a:cubicBezTo>
                <a:cubicBezTo>
                  <a:pt x="4810" y="12650"/>
                  <a:pt x="4812" y="12701"/>
                  <a:pt x="4812" y="12750"/>
                </a:cubicBezTo>
                <a:cubicBezTo>
                  <a:pt x="4812" y="12808"/>
                  <a:pt x="4789" y="12614"/>
                  <a:pt x="4787" y="12601"/>
                </a:cubicBezTo>
                <a:cubicBezTo>
                  <a:pt x="4776" y="12506"/>
                  <a:pt x="4773" y="12366"/>
                  <a:pt x="4812" y="12278"/>
                </a:cubicBezTo>
                <a:cubicBezTo>
                  <a:pt x="4861" y="12165"/>
                  <a:pt x="4970" y="12070"/>
                  <a:pt x="5085" y="12030"/>
                </a:cubicBezTo>
                <a:cubicBezTo>
                  <a:pt x="5164" y="12002"/>
                  <a:pt x="5221" y="12084"/>
                  <a:pt x="5209" y="12154"/>
                </a:cubicBezTo>
                <a:cubicBezTo>
                  <a:pt x="5184" y="12296"/>
                  <a:pt x="5082" y="12382"/>
                  <a:pt x="4986" y="12477"/>
                </a:cubicBezTo>
                <a:cubicBezTo>
                  <a:pt x="4944" y="12518"/>
                  <a:pt x="4936" y="12526"/>
                  <a:pt x="4911" y="12551"/>
                </a:cubicBezTo>
              </a:path>
              <a:path w="5036" h="5682">
                <a:moveTo>
                  <a:pt x="5407" y="12154"/>
                </a:moveTo>
                <a:cubicBezTo>
                  <a:pt x="5393" y="12229"/>
                  <a:pt x="5345" y="12301"/>
                  <a:pt x="5333" y="12378"/>
                </a:cubicBezTo>
                <a:cubicBezTo>
                  <a:pt x="5317" y="12482"/>
                  <a:pt x="5323" y="12573"/>
                  <a:pt x="5383" y="12650"/>
                </a:cubicBezTo>
                <a:cubicBezTo>
                  <a:pt x="5426" y="12706"/>
                  <a:pt x="5516" y="12661"/>
                  <a:pt x="5531" y="12601"/>
                </a:cubicBezTo>
                <a:cubicBezTo>
                  <a:pt x="5553" y="12512"/>
                  <a:pt x="5518" y="12413"/>
                  <a:pt x="5507" y="12328"/>
                </a:cubicBezTo>
                <a:cubicBezTo>
                  <a:pt x="5500" y="12278"/>
                  <a:pt x="5440" y="12178"/>
                  <a:pt x="5457" y="12204"/>
                </a:cubicBezTo>
                <a:cubicBezTo>
                  <a:pt x="5465" y="12212"/>
                  <a:pt x="5474" y="12221"/>
                  <a:pt x="5482" y="12229"/>
                </a:cubicBezTo>
              </a:path>
              <a:path w="5036" h="5682">
                <a:moveTo>
                  <a:pt x="5730" y="12551"/>
                </a:moveTo>
                <a:cubicBezTo>
                  <a:pt x="5718" y="12597"/>
                  <a:pt x="5679" y="12629"/>
                  <a:pt x="5655" y="12675"/>
                </a:cubicBezTo>
                <a:cubicBezTo>
                  <a:pt x="5618" y="12746"/>
                  <a:pt x="5610" y="12827"/>
                  <a:pt x="5705" y="12849"/>
                </a:cubicBezTo>
                <a:cubicBezTo>
                  <a:pt x="5769" y="12864"/>
                  <a:pt x="5880" y="12851"/>
                  <a:pt x="5928" y="12799"/>
                </a:cubicBezTo>
                <a:cubicBezTo>
                  <a:pt x="5954" y="12771"/>
                  <a:pt x="5994" y="12709"/>
                  <a:pt x="6003" y="12675"/>
                </a:cubicBezTo>
                <a:cubicBezTo>
                  <a:pt x="5935" y="12692"/>
                  <a:pt x="5953" y="12734"/>
                  <a:pt x="5953" y="12799"/>
                </a:cubicBezTo>
                <a:cubicBezTo>
                  <a:pt x="5953" y="12912"/>
                  <a:pt x="5958" y="12959"/>
                  <a:pt x="6028" y="13047"/>
                </a:cubicBezTo>
              </a:path>
              <a:path w="5036" h="5682">
                <a:moveTo>
                  <a:pt x="6102" y="11906"/>
                </a:moveTo>
                <a:cubicBezTo>
                  <a:pt x="6113" y="11895"/>
                  <a:pt x="6196" y="11995"/>
                  <a:pt x="6226" y="12055"/>
                </a:cubicBezTo>
                <a:cubicBezTo>
                  <a:pt x="6305" y="12212"/>
                  <a:pt x="6378" y="12423"/>
                  <a:pt x="6375" y="12601"/>
                </a:cubicBezTo>
                <a:cubicBezTo>
                  <a:pt x="6372" y="12773"/>
                  <a:pt x="6337" y="12938"/>
                  <a:pt x="6276" y="13097"/>
                </a:cubicBezTo>
                <a:cubicBezTo>
                  <a:pt x="6251" y="13146"/>
                  <a:pt x="6242" y="13163"/>
                  <a:pt x="6226" y="13196"/>
                </a:cubicBezTo>
              </a:path>
              <a:path w="5036" h="5682">
                <a:moveTo>
                  <a:pt x="4862" y="11807"/>
                </a:moveTo>
                <a:cubicBezTo>
                  <a:pt x="4803" y="11787"/>
                  <a:pt x="4798" y="11776"/>
                  <a:pt x="4738" y="11832"/>
                </a:cubicBezTo>
                <a:cubicBezTo>
                  <a:pt x="4617" y="11944"/>
                  <a:pt x="4616" y="12072"/>
                  <a:pt x="4589" y="12229"/>
                </a:cubicBezTo>
                <a:cubicBezTo>
                  <a:pt x="4554" y="12436"/>
                  <a:pt x="4537" y="12696"/>
                  <a:pt x="4614" y="12898"/>
                </a:cubicBezTo>
                <a:cubicBezTo>
                  <a:pt x="4681" y="13075"/>
                  <a:pt x="4804" y="13167"/>
                  <a:pt x="4961" y="13246"/>
                </a:cubicBezTo>
              </a:path>
              <a:path w="5036" h="5682">
                <a:moveTo>
                  <a:pt x="6524" y="13097"/>
                </a:moveTo>
                <a:cubicBezTo>
                  <a:pt x="6516" y="13089"/>
                  <a:pt x="6507" y="13080"/>
                  <a:pt x="6499" y="13072"/>
                </a:cubicBezTo>
                <a:cubicBezTo>
                  <a:pt x="6558" y="13072"/>
                  <a:pt x="6603" y="13080"/>
                  <a:pt x="6623" y="13146"/>
                </a:cubicBezTo>
                <a:cubicBezTo>
                  <a:pt x="6653" y="13247"/>
                  <a:pt x="6598" y="13339"/>
                  <a:pt x="6548" y="13419"/>
                </a:cubicBezTo>
                <a:cubicBezTo>
                  <a:pt x="6504" y="13489"/>
                  <a:pt x="6409" y="13594"/>
                  <a:pt x="6325" y="13618"/>
                </a:cubicBezTo>
                <a:cubicBezTo>
                  <a:pt x="6275" y="13632"/>
                  <a:pt x="6261" y="13624"/>
                  <a:pt x="6251" y="13593"/>
                </a:cubicBezTo>
                <a:cubicBezTo>
                  <a:pt x="6301" y="13563"/>
                  <a:pt x="6361" y="13547"/>
                  <a:pt x="6424" y="13543"/>
                </a:cubicBezTo>
                <a:cubicBezTo>
                  <a:pt x="6497" y="13539"/>
                  <a:pt x="6555" y="13584"/>
                  <a:pt x="6623" y="13593"/>
                </a:cubicBezTo>
                <a:cubicBezTo>
                  <a:pt x="6648" y="13593"/>
                  <a:pt x="6672" y="13593"/>
                  <a:pt x="6697" y="13593"/>
                </a:cubicBezTo>
              </a:path>
              <a:path w="5036" h="5682">
                <a:moveTo>
                  <a:pt x="6648" y="11832"/>
                </a:moveTo>
                <a:cubicBezTo>
                  <a:pt x="6666" y="11820"/>
                  <a:pt x="6698" y="11788"/>
                  <a:pt x="6747" y="11782"/>
                </a:cubicBezTo>
                <a:cubicBezTo>
                  <a:pt x="6826" y="11772"/>
                  <a:pt x="6991" y="11721"/>
                  <a:pt x="7069" y="11757"/>
                </a:cubicBezTo>
                <a:cubicBezTo>
                  <a:pt x="7156" y="11797"/>
                  <a:pt x="7186" y="11977"/>
                  <a:pt x="7193" y="12055"/>
                </a:cubicBezTo>
                <a:cubicBezTo>
                  <a:pt x="7211" y="12271"/>
                  <a:pt x="7180" y="12486"/>
                  <a:pt x="7169" y="12700"/>
                </a:cubicBezTo>
                <a:cubicBezTo>
                  <a:pt x="7160" y="12874"/>
                  <a:pt x="7177" y="13028"/>
                  <a:pt x="7218" y="13196"/>
                </a:cubicBezTo>
                <a:cubicBezTo>
                  <a:pt x="7241" y="13289"/>
                  <a:pt x="7298" y="13379"/>
                  <a:pt x="7317" y="13469"/>
                </a:cubicBezTo>
                <a:cubicBezTo>
                  <a:pt x="7335" y="13552"/>
                  <a:pt x="7204" y="13632"/>
                  <a:pt x="7144" y="13667"/>
                </a:cubicBezTo>
                <a:cubicBezTo>
                  <a:pt x="7035" y="13731"/>
                  <a:pt x="6916" y="13773"/>
                  <a:pt x="6796" y="13791"/>
                </a:cubicBezTo>
              </a:path>
              <a:path w="5036" h="5682">
                <a:moveTo>
                  <a:pt x="3448" y="11757"/>
                </a:moveTo>
                <a:cubicBezTo>
                  <a:pt x="3383" y="11772"/>
                  <a:pt x="3339" y="11799"/>
                  <a:pt x="3274" y="11832"/>
                </a:cubicBezTo>
                <a:cubicBezTo>
                  <a:pt x="3221" y="11859"/>
                  <a:pt x="3181" y="11902"/>
                  <a:pt x="3150" y="11931"/>
                </a:cubicBezTo>
                <a:cubicBezTo>
                  <a:pt x="3123" y="11956"/>
                  <a:pt x="3128" y="11951"/>
                  <a:pt x="3125" y="12005"/>
                </a:cubicBezTo>
                <a:cubicBezTo>
                  <a:pt x="3118" y="12126"/>
                  <a:pt x="3081" y="12260"/>
                  <a:pt x="3051" y="12378"/>
                </a:cubicBezTo>
                <a:cubicBezTo>
                  <a:pt x="2990" y="12616"/>
                  <a:pt x="2905" y="12841"/>
                  <a:pt x="2828" y="13072"/>
                </a:cubicBezTo>
                <a:cubicBezTo>
                  <a:pt x="2776" y="13229"/>
                  <a:pt x="2708" y="13449"/>
                  <a:pt x="2729" y="13618"/>
                </a:cubicBezTo>
                <a:cubicBezTo>
                  <a:pt x="2745" y="13749"/>
                  <a:pt x="2850" y="13759"/>
                  <a:pt x="2952" y="13791"/>
                </a:cubicBezTo>
                <a:cubicBezTo>
                  <a:pt x="3082" y="13831"/>
                  <a:pt x="3237" y="13841"/>
                  <a:pt x="3373" y="13866"/>
                </a:cubicBezTo>
                <a:cubicBezTo>
                  <a:pt x="3425" y="13875"/>
                  <a:pt x="3470" y="13884"/>
                  <a:pt x="3522" y="13891"/>
                </a:cubicBezTo>
              </a:path>
              <a:path w="5036" h="5682">
                <a:moveTo>
                  <a:pt x="4316" y="14511"/>
                </a:moveTo>
                <a:cubicBezTo>
                  <a:pt x="4316" y="14536"/>
                  <a:pt x="4316" y="14544"/>
                  <a:pt x="4341" y="14536"/>
                </a:cubicBezTo>
                <a:cubicBezTo>
                  <a:pt x="4323" y="14482"/>
                  <a:pt x="4243" y="14517"/>
                  <a:pt x="4192" y="14536"/>
                </a:cubicBezTo>
                <a:cubicBezTo>
                  <a:pt x="4116" y="14564"/>
                  <a:pt x="4000" y="14601"/>
                  <a:pt x="3944" y="14660"/>
                </a:cubicBezTo>
                <a:cubicBezTo>
                  <a:pt x="3889" y="14718"/>
                  <a:pt x="3919" y="14756"/>
                  <a:pt x="3969" y="14784"/>
                </a:cubicBezTo>
                <a:cubicBezTo>
                  <a:pt x="4036" y="14821"/>
                  <a:pt x="4226" y="14839"/>
                  <a:pt x="4266" y="14908"/>
                </a:cubicBezTo>
                <a:cubicBezTo>
                  <a:pt x="4308" y="14981"/>
                  <a:pt x="4226" y="15103"/>
                  <a:pt x="4192" y="15156"/>
                </a:cubicBezTo>
                <a:cubicBezTo>
                  <a:pt x="4140" y="15237"/>
                  <a:pt x="4089" y="15273"/>
                  <a:pt x="4018" y="15329"/>
                </a:cubicBezTo>
              </a:path>
              <a:path w="5036" h="5682">
                <a:moveTo>
                  <a:pt x="4539" y="14932"/>
                </a:moveTo>
                <a:cubicBezTo>
                  <a:pt x="4539" y="15014"/>
                  <a:pt x="4555" y="15077"/>
                  <a:pt x="4564" y="15156"/>
                </a:cubicBezTo>
                <a:cubicBezTo>
                  <a:pt x="4570" y="15212"/>
                  <a:pt x="4564" y="15272"/>
                  <a:pt x="4564" y="15329"/>
                </a:cubicBezTo>
                <a:cubicBezTo>
                  <a:pt x="4564" y="15254"/>
                  <a:pt x="4584" y="15202"/>
                  <a:pt x="4614" y="15131"/>
                </a:cubicBezTo>
                <a:cubicBezTo>
                  <a:pt x="4649" y="15048"/>
                  <a:pt x="4725" y="15000"/>
                  <a:pt x="4812" y="14982"/>
                </a:cubicBezTo>
                <a:cubicBezTo>
                  <a:pt x="4829" y="14982"/>
                  <a:pt x="4845" y="14982"/>
                  <a:pt x="4862" y="14982"/>
                </a:cubicBezTo>
              </a:path>
              <a:path w="5036" h="5682">
                <a:moveTo>
                  <a:pt x="4986" y="14585"/>
                </a:moveTo>
                <a:cubicBezTo>
                  <a:pt x="5093" y="14585"/>
                  <a:pt x="5201" y="14585"/>
                  <a:pt x="5308" y="14585"/>
                </a:cubicBezTo>
              </a:path>
              <a:path w="5036" h="5682">
                <a:moveTo>
                  <a:pt x="5159" y="14412"/>
                </a:moveTo>
                <a:cubicBezTo>
                  <a:pt x="5127" y="14455"/>
                  <a:pt x="5135" y="14479"/>
                  <a:pt x="5135" y="14536"/>
                </a:cubicBezTo>
                <a:cubicBezTo>
                  <a:pt x="5135" y="14626"/>
                  <a:pt x="5184" y="14678"/>
                  <a:pt x="5209" y="14759"/>
                </a:cubicBezTo>
                <a:cubicBezTo>
                  <a:pt x="5209" y="14767"/>
                  <a:pt x="5209" y="14776"/>
                  <a:pt x="5209" y="14784"/>
                </a:cubicBezTo>
              </a:path>
              <a:path w="5036" h="5682">
                <a:moveTo>
                  <a:pt x="5432" y="14486"/>
                </a:moveTo>
                <a:cubicBezTo>
                  <a:pt x="5494" y="14437"/>
                  <a:pt x="5528" y="14436"/>
                  <a:pt x="5606" y="14436"/>
                </a:cubicBezTo>
                <a:cubicBezTo>
                  <a:pt x="5683" y="14436"/>
                  <a:pt x="5656" y="14516"/>
                  <a:pt x="5631" y="14560"/>
                </a:cubicBezTo>
                <a:cubicBezTo>
                  <a:pt x="5588" y="14637"/>
                  <a:pt x="5520" y="14710"/>
                  <a:pt x="5482" y="14784"/>
                </a:cubicBezTo>
                <a:cubicBezTo>
                  <a:pt x="5482" y="14792"/>
                  <a:pt x="5482" y="14800"/>
                  <a:pt x="5482" y="14808"/>
                </a:cubicBezTo>
                <a:cubicBezTo>
                  <a:pt x="5537" y="14849"/>
                  <a:pt x="5566" y="14832"/>
                  <a:pt x="5631" y="14808"/>
                </a:cubicBezTo>
              </a:path>
              <a:path w="5036" h="5682">
                <a:moveTo>
                  <a:pt x="5829" y="14238"/>
                </a:moveTo>
                <a:cubicBezTo>
                  <a:pt x="5871" y="14238"/>
                  <a:pt x="5862" y="14238"/>
                  <a:pt x="5904" y="14238"/>
                </a:cubicBezTo>
                <a:cubicBezTo>
                  <a:pt x="5992" y="14238"/>
                  <a:pt x="6071" y="14228"/>
                  <a:pt x="6152" y="14263"/>
                </a:cubicBezTo>
                <a:cubicBezTo>
                  <a:pt x="6273" y="14314"/>
                  <a:pt x="6221" y="14435"/>
                  <a:pt x="6201" y="14536"/>
                </a:cubicBezTo>
                <a:cubicBezTo>
                  <a:pt x="6165" y="14721"/>
                  <a:pt x="6117" y="14898"/>
                  <a:pt x="6077" y="15081"/>
                </a:cubicBezTo>
                <a:cubicBezTo>
                  <a:pt x="6048" y="15213"/>
                  <a:pt x="6056" y="15351"/>
                  <a:pt x="6028" y="15478"/>
                </a:cubicBezTo>
                <a:cubicBezTo>
                  <a:pt x="6020" y="15514"/>
                  <a:pt x="6000" y="15625"/>
                  <a:pt x="5978" y="15652"/>
                </a:cubicBezTo>
                <a:cubicBezTo>
                  <a:pt x="5946" y="15691"/>
                  <a:pt x="5801" y="15744"/>
                  <a:pt x="5755" y="15751"/>
                </a:cubicBezTo>
                <a:cubicBezTo>
                  <a:pt x="5669" y="15764"/>
                  <a:pt x="5570" y="15751"/>
                  <a:pt x="5482" y="15751"/>
                </a:cubicBezTo>
              </a:path>
              <a:path w="5036" h="5682">
                <a:moveTo>
                  <a:pt x="4242" y="14238"/>
                </a:moveTo>
                <a:cubicBezTo>
                  <a:pt x="4205" y="14224"/>
                  <a:pt x="4185" y="14216"/>
                  <a:pt x="4142" y="14213"/>
                </a:cubicBezTo>
                <a:cubicBezTo>
                  <a:pt x="4085" y="14210"/>
                  <a:pt x="4063" y="14235"/>
                  <a:pt x="4018" y="14263"/>
                </a:cubicBezTo>
                <a:cubicBezTo>
                  <a:pt x="3962" y="14297"/>
                  <a:pt x="3917" y="14315"/>
                  <a:pt x="3870" y="14362"/>
                </a:cubicBezTo>
                <a:cubicBezTo>
                  <a:pt x="3854" y="14378"/>
                  <a:pt x="3829" y="14389"/>
                  <a:pt x="3845" y="14436"/>
                </a:cubicBezTo>
                <a:cubicBezTo>
                  <a:pt x="3875" y="14526"/>
                  <a:pt x="3873" y="14582"/>
                  <a:pt x="3845" y="14684"/>
                </a:cubicBezTo>
                <a:cubicBezTo>
                  <a:pt x="3803" y="14836"/>
                  <a:pt x="3730" y="14984"/>
                  <a:pt x="3671" y="15131"/>
                </a:cubicBezTo>
                <a:cubicBezTo>
                  <a:pt x="3620" y="15257"/>
                  <a:pt x="3554" y="15366"/>
                  <a:pt x="3547" y="15503"/>
                </a:cubicBezTo>
                <a:cubicBezTo>
                  <a:pt x="3542" y="15608"/>
                  <a:pt x="3610" y="15619"/>
                  <a:pt x="3696" y="15652"/>
                </a:cubicBezTo>
                <a:cubicBezTo>
                  <a:pt x="3795" y="15690"/>
                  <a:pt x="3898" y="15694"/>
                  <a:pt x="3994" y="15726"/>
                </a:cubicBezTo>
                <a:cubicBezTo>
                  <a:pt x="4043" y="15742"/>
                  <a:pt x="4096" y="15760"/>
                  <a:pt x="4142" y="15776"/>
                </a:cubicBezTo>
              </a:path>
              <a:path w="5036" h="5682">
                <a:moveTo>
                  <a:pt x="4043" y="16272"/>
                </a:moveTo>
                <a:cubicBezTo>
                  <a:pt x="4003" y="16256"/>
                  <a:pt x="4014" y="16266"/>
                  <a:pt x="3944" y="16297"/>
                </a:cubicBezTo>
                <a:cubicBezTo>
                  <a:pt x="3863" y="16333"/>
                  <a:pt x="3777" y="16358"/>
                  <a:pt x="3696" y="16396"/>
                </a:cubicBezTo>
                <a:cubicBezTo>
                  <a:pt x="3655" y="16416"/>
                  <a:pt x="3649" y="16425"/>
                  <a:pt x="3621" y="16421"/>
                </a:cubicBezTo>
                <a:cubicBezTo>
                  <a:pt x="3645" y="16467"/>
                  <a:pt x="3668" y="16511"/>
                  <a:pt x="3671" y="16570"/>
                </a:cubicBezTo>
                <a:cubicBezTo>
                  <a:pt x="3677" y="16676"/>
                  <a:pt x="3682" y="16791"/>
                  <a:pt x="3646" y="16892"/>
                </a:cubicBezTo>
                <a:cubicBezTo>
                  <a:pt x="3602" y="17013"/>
                  <a:pt x="3545" y="17135"/>
                  <a:pt x="3522" y="17264"/>
                </a:cubicBezTo>
                <a:cubicBezTo>
                  <a:pt x="3512" y="17322"/>
                  <a:pt x="3564" y="17419"/>
                  <a:pt x="3621" y="17438"/>
                </a:cubicBezTo>
                <a:cubicBezTo>
                  <a:pt x="3699" y="17464"/>
                  <a:pt x="3798" y="17425"/>
                  <a:pt x="3870" y="17413"/>
                </a:cubicBezTo>
                <a:cubicBezTo>
                  <a:pt x="3934" y="17402"/>
                  <a:pt x="3982" y="17390"/>
                  <a:pt x="4043" y="17363"/>
                </a:cubicBezTo>
              </a:path>
              <a:path w="5036" h="5682">
                <a:moveTo>
                  <a:pt x="7417" y="12973"/>
                </a:moveTo>
                <a:cubicBezTo>
                  <a:pt x="7498" y="12973"/>
                  <a:pt x="7594" y="12955"/>
                  <a:pt x="7665" y="12998"/>
                </a:cubicBezTo>
                <a:cubicBezTo>
                  <a:pt x="7673" y="13006"/>
                  <a:pt x="7681" y="13014"/>
                  <a:pt x="7689" y="13022"/>
                </a:cubicBezTo>
              </a:path>
              <a:path w="5036" h="5682">
                <a:moveTo>
                  <a:pt x="7565" y="13072"/>
                </a:moveTo>
                <a:cubicBezTo>
                  <a:pt x="7565" y="13080"/>
                  <a:pt x="7565" y="13089"/>
                  <a:pt x="7565" y="13097"/>
                </a:cubicBezTo>
                <a:cubicBezTo>
                  <a:pt x="7628" y="13097"/>
                  <a:pt x="7657" y="13112"/>
                  <a:pt x="7714" y="13122"/>
                </a:cubicBezTo>
                <a:cubicBezTo>
                  <a:pt x="7731" y="13122"/>
                  <a:pt x="7747" y="13122"/>
                  <a:pt x="7764" y="13122"/>
                </a:cubicBezTo>
              </a:path>
              <a:path w="5036" h="5682">
                <a:moveTo>
                  <a:pt x="6796" y="14957"/>
                </a:moveTo>
                <a:cubicBezTo>
                  <a:pt x="6730" y="14957"/>
                  <a:pt x="6906" y="14961"/>
                  <a:pt x="6921" y="14957"/>
                </a:cubicBezTo>
                <a:cubicBezTo>
                  <a:pt x="6969" y="14933"/>
                  <a:pt x="6983" y="14924"/>
                  <a:pt x="7020" y="14932"/>
                </a:cubicBezTo>
              </a:path>
              <a:path w="5036" h="5682">
                <a:moveTo>
                  <a:pt x="6896" y="15156"/>
                </a:moveTo>
                <a:cubicBezTo>
                  <a:pt x="6888" y="15172"/>
                  <a:pt x="6879" y="15189"/>
                  <a:pt x="6871" y="15205"/>
                </a:cubicBezTo>
                <a:cubicBezTo>
                  <a:pt x="6967" y="15205"/>
                  <a:pt x="7055" y="15197"/>
                  <a:pt x="7144" y="152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82960" y="3660840"/>
            <a:ext cx="490320" cy="1170000"/>
          </a:xfrm>
          <a:custGeom>
            <a:avLst/>
            <a:gdLst/>
            <a:ahLst/>
            <a:rect l="l" t="t" r="r" b="b"/>
            <a:pathLst>
              <a:path w="1365" h="3250">
                <a:moveTo>
                  <a:pt x="8359" y="10195"/>
                </a:moveTo>
                <a:cubicBezTo>
                  <a:pt x="8318" y="10195"/>
                  <a:pt x="8310" y="10195"/>
                  <a:pt x="8285" y="10195"/>
                </a:cubicBezTo>
                <a:cubicBezTo>
                  <a:pt x="8371" y="10178"/>
                  <a:pt x="8439" y="10170"/>
                  <a:pt x="8533" y="10170"/>
                </a:cubicBezTo>
                <a:cubicBezTo>
                  <a:pt x="8632" y="10170"/>
                  <a:pt x="8731" y="10170"/>
                  <a:pt x="8830" y="10170"/>
                </a:cubicBezTo>
              </a:path>
              <a:path w="1365" h="3250">
                <a:moveTo>
                  <a:pt x="8434" y="10517"/>
                </a:moveTo>
                <a:cubicBezTo>
                  <a:pt x="8377" y="10555"/>
                  <a:pt x="8352" y="10550"/>
                  <a:pt x="8359" y="10592"/>
                </a:cubicBezTo>
                <a:cubicBezTo>
                  <a:pt x="8434" y="10592"/>
                  <a:pt x="8490" y="10598"/>
                  <a:pt x="8558" y="10567"/>
                </a:cubicBezTo>
                <a:cubicBezTo>
                  <a:pt x="8574" y="10559"/>
                  <a:pt x="8591" y="10550"/>
                  <a:pt x="8607" y="10542"/>
                </a:cubicBezTo>
              </a:path>
              <a:path w="1365" h="3250">
                <a:moveTo>
                  <a:pt x="9004" y="12700"/>
                </a:moveTo>
                <a:cubicBezTo>
                  <a:pt x="9040" y="12653"/>
                  <a:pt x="9058" y="12637"/>
                  <a:pt x="9128" y="12626"/>
                </a:cubicBezTo>
                <a:cubicBezTo>
                  <a:pt x="9211" y="12613"/>
                  <a:pt x="9294" y="12680"/>
                  <a:pt x="9327" y="12750"/>
                </a:cubicBezTo>
                <a:cubicBezTo>
                  <a:pt x="9396" y="12896"/>
                  <a:pt x="9324" y="12971"/>
                  <a:pt x="9227" y="13072"/>
                </a:cubicBezTo>
                <a:cubicBezTo>
                  <a:pt x="9141" y="13161"/>
                  <a:pt x="9029" y="13264"/>
                  <a:pt x="8905" y="13295"/>
                </a:cubicBezTo>
                <a:cubicBezTo>
                  <a:pt x="8888" y="13295"/>
                  <a:pt x="8872" y="13295"/>
                  <a:pt x="8855" y="13295"/>
                </a:cubicBezTo>
                <a:cubicBezTo>
                  <a:pt x="8827" y="13240"/>
                  <a:pt x="8888" y="13200"/>
                  <a:pt x="8954" y="13171"/>
                </a:cubicBezTo>
                <a:cubicBezTo>
                  <a:pt x="9027" y="13139"/>
                  <a:pt x="9182" y="13117"/>
                  <a:pt x="9252" y="13171"/>
                </a:cubicBezTo>
                <a:cubicBezTo>
                  <a:pt x="9288" y="13199"/>
                  <a:pt x="9337" y="13326"/>
                  <a:pt x="9327" y="13370"/>
                </a:cubicBezTo>
                <a:cubicBezTo>
                  <a:pt x="9319" y="13386"/>
                  <a:pt x="9310" y="13403"/>
                  <a:pt x="9302" y="13419"/>
                </a:cubicBezTo>
              </a:path>
              <a:path w="1365" h="3250">
                <a:moveTo>
                  <a:pt x="9525" y="13295"/>
                </a:moveTo>
                <a:cubicBezTo>
                  <a:pt x="9585" y="13278"/>
                  <a:pt x="9596" y="13271"/>
                  <a:pt x="9649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70200" y="4599000"/>
            <a:ext cx="446040" cy="231840"/>
          </a:xfrm>
          <a:custGeom>
            <a:avLst/>
            <a:gdLst/>
            <a:ahLst/>
            <a:rect l="l" t="t" r="r" b="b"/>
            <a:pathLst>
              <a:path w="1241" h="646">
                <a:moveTo>
                  <a:pt x="10220" y="12774"/>
                </a:moveTo>
                <a:cubicBezTo>
                  <a:pt x="10191" y="12823"/>
                  <a:pt x="10180" y="12910"/>
                  <a:pt x="10195" y="12973"/>
                </a:cubicBezTo>
                <a:cubicBezTo>
                  <a:pt x="10218" y="13068"/>
                  <a:pt x="10342" y="13069"/>
                  <a:pt x="10418" y="13072"/>
                </a:cubicBezTo>
                <a:cubicBezTo>
                  <a:pt x="10540" y="13077"/>
                  <a:pt x="10604" y="13026"/>
                  <a:pt x="10691" y="12948"/>
                </a:cubicBezTo>
              </a:path>
              <a:path w="1241" h="646">
                <a:moveTo>
                  <a:pt x="10740" y="12799"/>
                </a:moveTo>
                <a:cubicBezTo>
                  <a:pt x="10690" y="12760"/>
                  <a:pt x="10662" y="12762"/>
                  <a:pt x="10616" y="12824"/>
                </a:cubicBezTo>
                <a:cubicBezTo>
                  <a:pt x="10549" y="12914"/>
                  <a:pt x="10505" y="13034"/>
                  <a:pt x="10492" y="13146"/>
                </a:cubicBezTo>
                <a:cubicBezTo>
                  <a:pt x="10481" y="13248"/>
                  <a:pt x="10486" y="13337"/>
                  <a:pt x="10542" y="13419"/>
                </a:cubicBezTo>
              </a:path>
              <a:path w="1241" h="646">
                <a:moveTo>
                  <a:pt x="11088" y="12849"/>
                </a:moveTo>
                <a:cubicBezTo>
                  <a:pt x="11133" y="12849"/>
                  <a:pt x="11170" y="12837"/>
                  <a:pt x="11212" y="12824"/>
                </a:cubicBezTo>
                <a:cubicBezTo>
                  <a:pt x="11285" y="12802"/>
                  <a:pt x="11335" y="12799"/>
                  <a:pt x="11410" y="12799"/>
                </a:cubicBezTo>
                <a:cubicBezTo>
                  <a:pt x="11418" y="12799"/>
                  <a:pt x="11427" y="12799"/>
                  <a:pt x="11435" y="12799"/>
                </a:cubicBezTo>
                <a:cubicBezTo>
                  <a:pt x="11435" y="12877"/>
                  <a:pt x="11407" y="12926"/>
                  <a:pt x="11385" y="12998"/>
                </a:cubicBezTo>
                <a:cubicBezTo>
                  <a:pt x="11351" y="13108"/>
                  <a:pt x="11282" y="13205"/>
                  <a:pt x="11261" y="13320"/>
                </a:cubicBezTo>
                <a:cubicBezTo>
                  <a:pt x="11261" y="13372"/>
                  <a:pt x="11260" y="13390"/>
                  <a:pt x="11237" y="134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21080" y="4599000"/>
            <a:ext cx="1197000" cy="231840"/>
          </a:xfrm>
          <a:custGeom>
            <a:avLst/>
            <a:gdLst/>
            <a:ahLst/>
            <a:rect l="l" t="t" r="r" b="b"/>
            <a:pathLst>
              <a:path w="3325" h="646">
                <a:moveTo>
                  <a:pt x="12105" y="13022"/>
                </a:moveTo>
                <a:cubicBezTo>
                  <a:pt x="12149" y="13022"/>
                  <a:pt x="12078" y="13037"/>
                  <a:pt x="12055" y="13072"/>
                </a:cubicBezTo>
                <a:cubicBezTo>
                  <a:pt x="12010" y="13141"/>
                  <a:pt x="12027" y="13222"/>
                  <a:pt x="12055" y="13295"/>
                </a:cubicBezTo>
                <a:cubicBezTo>
                  <a:pt x="12086" y="13376"/>
                  <a:pt x="12198" y="13405"/>
                  <a:pt x="12278" y="13419"/>
                </a:cubicBezTo>
                <a:cubicBezTo>
                  <a:pt x="12295" y="13419"/>
                  <a:pt x="12311" y="13419"/>
                  <a:pt x="12328" y="13419"/>
                </a:cubicBezTo>
              </a:path>
              <a:path w="3325" h="646">
                <a:moveTo>
                  <a:pt x="12055" y="13271"/>
                </a:moveTo>
                <a:cubicBezTo>
                  <a:pt x="12038" y="13271"/>
                  <a:pt x="12022" y="13271"/>
                  <a:pt x="12005" y="13271"/>
                </a:cubicBezTo>
                <a:cubicBezTo>
                  <a:pt x="12102" y="13228"/>
                  <a:pt x="12202" y="13202"/>
                  <a:pt x="12303" y="13171"/>
                </a:cubicBezTo>
              </a:path>
              <a:path w="3325" h="646">
                <a:moveTo>
                  <a:pt x="12154" y="12973"/>
                </a:moveTo>
                <a:cubicBezTo>
                  <a:pt x="12129" y="12965"/>
                  <a:pt x="12105" y="12956"/>
                  <a:pt x="12080" y="12948"/>
                </a:cubicBezTo>
                <a:cubicBezTo>
                  <a:pt x="12162" y="12932"/>
                  <a:pt x="12243" y="12917"/>
                  <a:pt x="12328" y="12898"/>
                </a:cubicBezTo>
                <a:cubicBezTo>
                  <a:pt x="12434" y="12872"/>
                  <a:pt x="12475" y="12864"/>
                  <a:pt x="12551" y="12874"/>
                </a:cubicBezTo>
              </a:path>
              <a:path w="3325" h="646">
                <a:moveTo>
                  <a:pt x="12774" y="13146"/>
                </a:moveTo>
                <a:cubicBezTo>
                  <a:pt x="12836" y="13146"/>
                  <a:pt x="12865" y="13125"/>
                  <a:pt x="12923" y="13122"/>
                </a:cubicBezTo>
                <a:cubicBezTo>
                  <a:pt x="12997" y="13119"/>
                  <a:pt x="13072" y="13122"/>
                  <a:pt x="13146" y="13122"/>
                </a:cubicBezTo>
              </a:path>
              <a:path w="3325" h="646">
                <a:moveTo>
                  <a:pt x="13419" y="12874"/>
                </a:moveTo>
                <a:cubicBezTo>
                  <a:pt x="13529" y="12874"/>
                  <a:pt x="13610" y="12836"/>
                  <a:pt x="13717" y="12824"/>
                </a:cubicBezTo>
                <a:cubicBezTo>
                  <a:pt x="13796" y="12815"/>
                  <a:pt x="13901" y="12810"/>
                  <a:pt x="13965" y="12849"/>
                </a:cubicBezTo>
                <a:cubicBezTo>
                  <a:pt x="13953" y="12943"/>
                  <a:pt x="13914" y="13037"/>
                  <a:pt x="13866" y="13122"/>
                </a:cubicBezTo>
                <a:cubicBezTo>
                  <a:pt x="13803" y="13232"/>
                  <a:pt x="13738" y="13296"/>
                  <a:pt x="13717" y="13419"/>
                </a:cubicBezTo>
              </a:path>
              <a:path w="3325" h="646">
                <a:moveTo>
                  <a:pt x="14536" y="12849"/>
                </a:moveTo>
                <a:cubicBezTo>
                  <a:pt x="14536" y="12899"/>
                  <a:pt x="14523" y="12949"/>
                  <a:pt x="14511" y="12998"/>
                </a:cubicBezTo>
                <a:cubicBezTo>
                  <a:pt x="14489" y="13087"/>
                  <a:pt x="14441" y="13152"/>
                  <a:pt x="14436" y="13246"/>
                </a:cubicBezTo>
                <a:cubicBezTo>
                  <a:pt x="14436" y="13287"/>
                  <a:pt x="14436" y="13295"/>
                  <a:pt x="14436" y="13320"/>
                </a:cubicBezTo>
                <a:cubicBezTo>
                  <a:pt x="14487" y="13270"/>
                  <a:pt x="14552" y="13207"/>
                  <a:pt x="14585" y="13146"/>
                </a:cubicBezTo>
                <a:cubicBezTo>
                  <a:pt x="14618" y="13086"/>
                  <a:pt x="14643" y="12960"/>
                  <a:pt x="14709" y="12923"/>
                </a:cubicBezTo>
                <a:cubicBezTo>
                  <a:pt x="14717" y="12923"/>
                  <a:pt x="14726" y="12923"/>
                  <a:pt x="14734" y="12923"/>
                </a:cubicBezTo>
                <a:cubicBezTo>
                  <a:pt x="14734" y="13004"/>
                  <a:pt x="14727" y="13072"/>
                  <a:pt x="14759" y="13146"/>
                </a:cubicBezTo>
                <a:cubicBezTo>
                  <a:pt x="14799" y="13240"/>
                  <a:pt x="14892" y="13195"/>
                  <a:pt x="14957" y="13146"/>
                </a:cubicBezTo>
                <a:cubicBezTo>
                  <a:pt x="15044" y="13080"/>
                  <a:pt x="15118" y="12986"/>
                  <a:pt x="15180" y="12898"/>
                </a:cubicBezTo>
                <a:cubicBezTo>
                  <a:pt x="15216" y="12847"/>
                  <a:pt x="15238" y="12816"/>
                  <a:pt x="15280" y="12774"/>
                </a:cubicBezTo>
                <a:cubicBezTo>
                  <a:pt x="15280" y="12917"/>
                  <a:pt x="15294" y="13056"/>
                  <a:pt x="15304" y="13196"/>
                </a:cubicBezTo>
                <a:cubicBezTo>
                  <a:pt x="15304" y="13305"/>
                  <a:pt x="15299" y="13332"/>
                  <a:pt x="15329" y="133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62160" y="5249880"/>
            <a:ext cx="179640" cy="243000"/>
          </a:xfrm>
          <a:custGeom>
            <a:avLst/>
            <a:gdLst/>
            <a:ahLst/>
            <a:rect l="l" t="t" r="r" b="b"/>
            <a:pathLst>
              <a:path w="497" h="671">
                <a:moveTo>
                  <a:pt x="8558" y="14635"/>
                </a:moveTo>
                <a:cubicBezTo>
                  <a:pt x="8533" y="14635"/>
                  <a:pt x="8525" y="14635"/>
                  <a:pt x="8508" y="14635"/>
                </a:cubicBezTo>
                <a:cubicBezTo>
                  <a:pt x="8562" y="14621"/>
                  <a:pt x="8618" y="14591"/>
                  <a:pt x="8682" y="14585"/>
                </a:cubicBezTo>
                <a:cubicBezTo>
                  <a:pt x="8761" y="14577"/>
                  <a:pt x="8976" y="14546"/>
                  <a:pt x="9004" y="14635"/>
                </a:cubicBezTo>
                <a:cubicBezTo>
                  <a:pt x="9032" y="14726"/>
                  <a:pt x="8983" y="14900"/>
                  <a:pt x="8954" y="14982"/>
                </a:cubicBezTo>
                <a:cubicBezTo>
                  <a:pt x="8920" y="15077"/>
                  <a:pt x="8872" y="15155"/>
                  <a:pt x="8855" y="152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9640" y="5500800"/>
            <a:ext cx="18720" cy="9360"/>
          </a:xfrm>
          <a:custGeom>
            <a:avLst/>
            <a:gdLst/>
            <a:ahLst/>
            <a:rect l="l" t="t" r="r" b="b"/>
            <a:pathLst>
              <a:path w="51" h="25">
                <a:moveTo>
                  <a:pt x="9525" y="15280"/>
                </a:moveTo>
                <a:cubicBezTo>
                  <a:pt x="9465" y="15337"/>
                  <a:pt x="9537" y="15290"/>
                  <a:pt x="9550" y="152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06840" y="5286240"/>
            <a:ext cx="403200" cy="223920"/>
          </a:xfrm>
          <a:custGeom>
            <a:avLst/>
            <a:gdLst/>
            <a:ahLst/>
            <a:rect l="l" t="t" r="r" b="b"/>
            <a:pathLst>
              <a:path w="1117" h="621">
                <a:moveTo>
                  <a:pt x="10046" y="14684"/>
                </a:moveTo>
                <a:cubicBezTo>
                  <a:pt x="10016" y="14753"/>
                  <a:pt x="10021" y="14806"/>
                  <a:pt x="10021" y="14883"/>
                </a:cubicBezTo>
                <a:cubicBezTo>
                  <a:pt x="10021" y="14987"/>
                  <a:pt x="10126" y="15021"/>
                  <a:pt x="10220" y="15007"/>
                </a:cubicBezTo>
                <a:cubicBezTo>
                  <a:pt x="10283" y="14998"/>
                  <a:pt x="10359" y="14954"/>
                  <a:pt x="10418" y="14932"/>
                </a:cubicBezTo>
              </a:path>
              <a:path w="1117" h="621">
                <a:moveTo>
                  <a:pt x="10517" y="14684"/>
                </a:moveTo>
                <a:cubicBezTo>
                  <a:pt x="10459" y="14684"/>
                  <a:pt x="10429" y="14721"/>
                  <a:pt x="10418" y="14784"/>
                </a:cubicBezTo>
                <a:cubicBezTo>
                  <a:pt x="10396" y="14908"/>
                  <a:pt x="10434" y="15039"/>
                  <a:pt x="10468" y="15156"/>
                </a:cubicBezTo>
                <a:cubicBezTo>
                  <a:pt x="10476" y="15181"/>
                  <a:pt x="10484" y="15205"/>
                  <a:pt x="10492" y="15230"/>
                </a:cubicBezTo>
              </a:path>
              <a:path w="1117" h="621">
                <a:moveTo>
                  <a:pt x="10716" y="14833"/>
                </a:moveTo>
                <a:cubicBezTo>
                  <a:pt x="10773" y="14776"/>
                  <a:pt x="10802" y="14740"/>
                  <a:pt x="10889" y="14759"/>
                </a:cubicBezTo>
                <a:cubicBezTo>
                  <a:pt x="10976" y="14778"/>
                  <a:pt x="11042" y="14816"/>
                  <a:pt x="11063" y="14908"/>
                </a:cubicBezTo>
                <a:cubicBezTo>
                  <a:pt x="11082" y="14992"/>
                  <a:pt x="11002" y="15070"/>
                  <a:pt x="10964" y="15131"/>
                </a:cubicBezTo>
                <a:cubicBezTo>
                  <a:pt x="10936" y="15175"/>
                  <a:pt x="10901" y="15234"/>
                  <a:pt x="10889" y="15280"/>
                </a:cubicBezTo>
                <a:cubicBezTo>
                  <a:pt x="10947" y="15322"/>
                  <a:pt x="10992" y="15302"/>
                  <a:pt x="11063" y="15280"/>
                </a:cubicBezTo>
                <a:cubicBezTo>
                  <a:pt x="11088" y="15272"/>
                  <a:pt x="11112" y="15263"/>
                  <a:pt x="11137" y="152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03800" y="5276880"/>
            <a:ext cx="152280" cy="206280"/>
          </a:xfrm>
          <a:custGeom>
            <a:avLst/>
            <a:gdLst/>
            <a:ahLst/>
            <a:rect l="l" t="t" r="r" b="b"/>
            <a:pathLst>
              <a:path w="423" h="571">
                <a:moveTo>
                  <a:pt x="11981" y="14932"/>
                </a:moveTo>
                <a:cubicBezTo>
                  <a:pt x="11971" y="14992"/>
                  <a:pt x="11956" y="14986"/>
                  <a:pt x="11956" y="15056"/>
                </a:cubicBezTo>
                <a:cubicBezTo>
                  <a:pt x="11956" y="15150"/>
                  <a:pt x="11990" y="15156"/>
                  <a:pt x="12055" y="15205"/>
                </a:cubicBezTo>
                <a:cubicBezTo>
                  <a:pt x="12108" y="15245"/>
                  <a:pt x="12117" y="15228"/>
                  <a:pt x="12179" y="15205"/>
                </a:cubicBezTo>
              </a:path>
              <a:path w="423" h="571">
                <a:moveTo>
                  <a:pt x="12005" y="15007"/>
                </a:moveTo>
                <a:cubicBezTo>
                  <a:pt x="11997" y="15023"/>
                  <a:pt x="11989" y="15040"/>
                  <a:pt x="11981" y="15056"/>
                </a:cubicBezTo>
                <a:cubicBezTo>
                  <a:pt x="12065" y="15042"/>
                  <a:pt x="12147" y="15009"/>
                  <a:pt x="12229" y="14982"/>
                </a:cubicBezTo>
                <a:cubicBezTo>
                  <a:pt x="12254" y="14974"/>
                  <a:pt x="12278" y="14965"/>
                  <a:pt x="12303" y="14957"/>
                </a:cubicBezTo>
              </a:path>
              <a:path w="423" h="571">
                <a:moveTo>
                  <a:pt x="12105" y="14709"/>
                </a:moveTo>
                <a:cubicBezTo>
                  <a:pt x="12169" y="14696"/>
                  <a:pt x="12236" y="14667"/>
                  <a:pt x="12303" y="14660"/>
                </a:cubicBezTo>
                <a:cubicBezTo>
                  <a:pt x="12328" y="14660"/>
                  <a:pt x="12353" y="14660"/>
                  <a:pt x="12378" y="146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3280" y="5392800"/>
            <a:ext cx="9864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12898" y="14982"/>
                </a:moveTo>
                <a:cubicBezTo>
                  <a:pt x="12989" y="14982"/>
                  <a:pt x="13080" y="14982"/>
                  <a:pt x="13171" y="149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38840" y="5259240"/>
            <a:ext cx="714240" cy="258840"/>
          </a:xfrm>
          <a:custGeom>
            <a:avLst/>
            <a:gdLst/>
            <a:ahLst/>
            <a:rect l="l" t="t" r="r" b="b"/>
            <a:pathLst>
              <a:path w="1985" h="720">
                <a:moveTo>
                  <a:pt x="13717" y="14660"/>
                </a:moveTo>
                <a:cubicBezTo>
                  <a:pt x="13776" y="14660"/>
                  <a:pt x="13810" y="14655"/>
                  <a:pt x="13866" y="14635"/>
                </a:cubicBezTo>
                <a:cubicBezTo>
                  <a:pt x="13930" y="14612"/>
                  <a:pt x="14046" y="14586"/>
                  <a:pt x="14114" y="14610"/>
                </a:cubicBezTo>
                <a:cubicBezTo>
                  <a:pt x="14220" y="14648"/>
                  <a:pt x="14132" y="14756"/>
                  <a:pt x="14114" y="14808"/>
                </a:cubicBezTo>
                <a:cubicBezTo>
                  <a:pt x="14066" y="14949"/>
                  <a:pt x="13983" y="15069"/>
                  <a:pt x="13915" y="15205"/>
                </a:cubicBezTo>
                <a:cubicBezTo>
                  <a:pt x="13885" y="15266"/>
                  <a:pt x="13884" y="15276"/>
                  <a:pt x="13915" y="15329"/>
                </a:cubicBezTo>
              </a:path>
              <a:path w="1985" h="720">
                <a:moveTo>
                  <a:pt x="14660" y="14982"/>
                </a:moveTo>
                <a:cubicBezTo>
                  <a:pt x="14639" y="15033"/>
                  <a:pt x="14607" y="15078"/>
                  <a:pt x="14585" y="15131"/>
                </a:cubicBezTo>
                <a:cubicBezTo>
                  <a:pt x="14554" y="15206"/>
                  <a:pt x="14526" y="15261"/>
                  <a:pt x="14486" y="15329"/>
                </a:cubicBezTo>
                <a:cubicBezTo>
                  <a:pt x="14536" y="15292"/>
                  <a:pt x="14612" y="15233"/>
                  <a:pt x="14660" y="15180"/>
                </a:cubicBezTo>
                <a:cubicBezTo>
                  <a:pt x="14735" y="15096"/>
                  <a:pt x="14826" y="14933"/>
                  <a:pt x="14932" y="14883"/>
                </a:cubicBezTo>
                <a:cubicBezTo>
                  <a:pt x="14957" y="14883"/>
                  <a:pt x="14965" y="14883"/>
                  <a:pt x="14982" y="14883"/>
                </a:cubicBezTo>
                <a:cubicBezTo>
                  <a:pt x="14962" y="14953"/>
                  <a:pt x="14922" y="15033"/>
                  <a:pt x="14908" y="15106"/>
                </a:cubicBezTo>
                <a:cubicBezTo>
                  <a:pt x="14893" y="15187"/>
                  <a:pt x="14902" y="15225"/>
                  <a:pt x="14982" y="15230"/>
                </a:cubicBezTo>
                <a:cubicBezTo>
                  <a:pt x="15072" y="15235"/>
                  <a:pt x="15175" y="15097"/>
                  <a:pt x="15230" y="15032"/>
                </a:cubicBezTo>
                <a:cubicBezTo>
                  <a:pt x="15276" y="14977"/>
                  <a:pt x="15339" y="14819"/>
                  <a:pt x="15404" y="14784"/>
                </a:cubicBezTo>
                <a:cubicBezTo>
                  <a:pt x="15412" y="14784"/>
                  <a:pt x="15421" y="14784"/>
                  <a:pt x="15429" y="14784"/>
                </a:cubicBezTo>
                <a:cubicBezTo>
                  <a:pt x="15429" y="14870"/>
                  <a:pt x="15436" y="14979"/>
                  <a:pt x="15478" y="15056"/>
                </a:cubicBezTo>
                <a:cubicBezTo>
                  <a:pt x="15530" y="15152"/>
                  <a:pt x="15625" y="15228"/>
                  <a:pt x="15701" y="153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08120" y="5776920"/>
            <a:ext cx="793800" cy="679320"/>
          </a:xfrm>
          <a:custGeom>
            <a:avLst/>
            <a:gdLst/>
            <a:ahLst/>
            <a:rect l="l" t="t" r="r" b="b"/>
            <a:pathLst>
              <a:path w="2208" h="1886">
                <a:moveTo>
                  <a:pt x="4465" y="16768"/>
                </a:moveTo>
                <a:cubicBezTo>
                  <a:pt x="4465" y="16835"/>
                  <a:pt x="4465" y="17164"/>
                  <a:pt x="4465" y="17066"/>
                </a:cubicBezTo>
                <a:cubicBezTo>
                  <a:pt x="4465" y="16954"/>
                  <a:pt x="4481" y="16852"/>
                  <a:pt x="4490" y="16743"/>
                </a:cubicBezTo>
                <a:cubicBezTo>
                  <a:pt x="4502" y="16605"/>
                  <a:pt x="4517" y="16549"/>
                  <a:pt x="4614" y="16446"/>
                </a:cubicBezTo>
                <a:cubicBezTo>
                  <a:pt x="4676" y="16380"/>
                  <a:pt x="4726" y="16371"/>
                  <a:pt x="4812" y="16371"/>
                </a:cubicBezTo>
                <a:cubicBezTo>
                  <a:pt x="4812" y="16471"/>
                  <a:pt x="4816" y="16505"/>
                  <a:pt x="4762" y="16594"/>
                </a:cubicBezTo>
                <a:cubicBezTo>
                  <a:pt x="4698" y="16699"/>
                  <a:pt x="4626" y="16781"/>
                  <a:pt x="4539" y="16867"/>
                </a:cubicBezTo>
              </a:path>
              <a:path w="2208" h="1886">
                <a:moveTo>
                  <a:pt x="4911" y="16470"/>
                </a:moveTo>
                <a:cubicBezTo>
                  <a:pt x="5005" y="16595"/>
                  <a:pt x="4986" y="16654"/>
                  <a:pt x="4986" y="16818"/>
                </a:cubicBezTo>
                <a:cubicBezTo>
                  <a:pt x="4986" y="16905"/>
                  <a:pt x="4986" y="17056"/>
                  <a:pt x="5085" y="17090"/>
                </a:cubicBezTo>
                <a:cubicBezTo>
                  <a:pt x="5173" y="17121"/>
                  <a:pt x="5264" y="16983"/>
                  <a:pt x="5283" y="16917"/>
                </a:cubicBezTo>
                <a:cubicBezTo>
                  <a:pt x="5314" y="16812"/>
                  <a:pt x="5266" y="16708"/>
                  <a:pt x="5184" y="16644"/>
                </a:cubicBezTo>
                <a:cubicBezTo>
                  <a:pt x="5129" y="16601"/>
                  <a:pt x="5065" y="16575"/>
                  <a:pt x="5011" y="16619"/>
                </a:cubicBezTo>
                <a:cubicBezTo>
                  <a:pt x="5003" y="16627"/>
                  <a:pt x="4994" y="16636"/>
                  <a:pt x="4986" y="16644"/>
                </a:cubicBezTo>
              </a:path>
              <a:path w="2208" h="1886">
                <a:moveTo>
                  <a:pt x="5407" y="17041"/>
                </a:moveTo>
                <a:cubicBezTo>
                  <a:pt x="5458" y="17058"/>
                  <a:pt x="5402" y="17088"/>
                  <a:pt x="5457" y="17115"/>
                </a:cubicBezTo>
                <a:cubicBezTo>
                  <a:pt x="5482" y="17115"/>
                  <a:pt x="5490" y="17115"/>
                  <a:pt x="5507" y="17115"/>
                </a:cubicBezTo>
                <a:cubicBezTo>
                  <a:pt x="5504" y="17107"/>
                  <a:pt x="5458" y="17060"/>
                  <a:pt x="5482" y="17041"/>
                </a:cubicBezTo>
                <a:cubicBezTo>
                  <a:pt x="5490" y="17041"/>
                  <a:pt x="5499" y="17041"/>
                  <a:pt x="5507" y="17041"/>
                </a:cubicBezTo>
                <a:cubicBezTo>
                  <a:pt x="5493" y="17112"/>
                  <a:pt x="5482" y="17161"/>
                  <a:pt x="5482" y="17239"/>
                </a:cubicBezTo>
                <a:cubicBezTo>
                  <a:pt x="5482" y="17292"/>
                  <a:pt x="5455" y="17416"/>
                  <a:pt x="5531" y="17438"/>
                </a:cubicBezTo>
                <a:cubicBezTo>
                  <a:pt x="5588" y="17454"/>
                  <a:pt x="5731" y="17394"/>
                  <a:pt x="5779" y="17363"/>
                </a:cubicBezTo>
                <a:cubicBezTo>
                  <a:pt x="5796" y="17347"/>
                  <a:pt x="5812" y="17330"/>
                  <a:pt x="5829" y="17314"/>
                </a:cubicBezTo>
              </a:path>
              <a:path w="2208" h="1886">
                <a:moveTo>
                  <a:pt x="5904" y="17115"/>
                </a:moveTo>
                <a:cubicBezTo>
                  <a:pt x="5833" y="17156"/>
                  <a:pt x="5807" y="17177"/>
                  <a:pt x="5804" y="17264"/>
                </a:cubicBezTo>
                <a:cubicBezTo>
                  <a:pt x="5799" y="17401"/>
                  <a:pt x="5773" y="17498"/>
                  <a:pt x="5804" y="17636"/>
                </a:cubicBezTo>
                <a:cubicBezTo>
                  <a:pt x="5827" y="17728"/>
                  <a:pt x="5833" y="17753"/>
                  <a:pt x="5854" y="17810"/>
                </a:cubicBezTo>
              </a:path>
              <a:path w="2208" h="1886">
                <a:moveTo>
                  <a:pt x="5531" y="16545"/>
                </a:moveTo>
                <a:cubicBezTo>
                  <a:pt x="5572" y="16515"/>
                  <a:pt x="5625" y="16508"/>
                  <a:pt x="5680" y="16520"/>
                </a:cubicBezTo>
                <a:cubicBezTo>
                  <a:pt x="5749" y="16535"/>
                  <a:pt x="5784" y="16545"/>
                  <a:pt x="5854" y="16545"/>
                </a:cubicBezTo>
              </a:path>
              <a:path w="2208" h="1886">
                <a:moveTo>
                  <a:pt x="6003" y="16222"/>
                </a:moveTo>
                <a:cubicBezTo>
                  <a:pt x="6040" y="16231"/>
                  <a:pt x="6064" y="16259"/>
                  <a:pt x="6077" y="16297"/>
                </a:cubicBezTo>
                <a:cubicBezTo>
                  <a:pt x="6089" y="16331"/>
                  <a:pt x="6086" y="16429"/>
                  <a:pt x="6052" y="16446"/>
                </a:cubicBezTo>
                <a:cubicBezTo>
                  <a:pt x="6021" y="16462"/>
                  <a:pt x="6028" y="16450"/>
                  <a:pt x="6028" y="16495"/>
                </a:cubicBezTo>
                <a:cubicBezTo>
                  <a:pt x="6101" y="16495"/>
                  <a:pt x="6195" y="16475"/>
                  <a:pt x="6251" y="16520"/>
                </a:cubicBezTo>
                <a:cubicBezTo>
                  <a:pt x="6303" y="16562"/>
                  <a:pt x="6262" y="16605"/>
                  <a:pt x="6226" y="16644"/>
                </a:cubicBezTo>
                <a:cubicBezTo>
                  <a:pt x="6185" y="16685"/>
                  <a:pt x="6177" y="16693"/>
                  <a:pt x="6152" y="16718"/>
                </a:cubicBezTo>
              </a:path>
              <a:path w="2208" h="1886">
                <a:moveTo>
                  <a:pt x="5928" y="16197"/>
                </a:moveTo>
                <a:cubicBezTo>
                  <a:pt x="5900" y="16197"/>
                  <a:pt x="5890" y="16195"/>
                  <a:pt x="5879" y="16173"/>
                </a:cubicBezTo>
                <a:cubicBezTo>
                  <a:pt x="5898" y="16160"/>
                  <a:pt x="5928" y="16131"/>
                  <a:pt x="5978" y="16123"/>
                </a:cubicBezTo>
                <a:cubicBezTo>
                  <a:pt x="6094" y="16104"/>
                  <a:pt x="6209" y="16098"/>
                  <a:pt x="6325" y="16073"/>
                </a:cubicBezTo>
                <a:cubicBezTo>
                  <a:pt x="6419" y="16052"/>
                  <a:pt x="6566" y="16015"/>
                  <a:pt x="6648" y="16098"/>
                </a:cubicBezTo>
                <a:cubicBezTo>
                  <a:pt x="6723" y="16174"/>
                  <a:pt x="6653" y="16363"/>
                  <a:pt x="6648" y="16446"/>
                </a:cubicBezTo>
                <a:cubicBezTo>
                  <a:pt x="6637" y="16612"/>
                  <a:pt x="6609" y="16777"/>
                  <a:pt x="6598" y="16942"/>
                </a:cubicBezTo>
                <a:cubicBezTo>
                  <a:pt x="6588" y="17091"/>
                  <a:pt x="6585" y="17241"/>
                  <a:pt x="6573" y="17388"/>
                </a:cubicBezTo>
                <a:cubicBezTo>
                  <a:pt x="6563" y="17506"/>
                  <a:pt x="6563" y="17619"/>
                  <a:pt x="6548" y="17735"/>
                </a:cubicBezTo>
                <a:cubicBezTo>
                  <a:pt x="6539" y="17806"/>
                  <a:pt x="6504" y="17842"/>
                  <a:pt x="6424" y="17859"/>
                </a:cubicBezTo>
                <a:cubicBezTo>
                  <a:pt x="6330" y="17880"/>
                  <a:pt x="6223" y="17866"/>
                  <a:pt x="6127" y="17884"/>
                </a:cubicBezTo>
                <a:cubicBezTo>
                  <a:pt x="6068" y="17895"/>
                  <a:pt x="6008" y="17917"/>
                  <a:pt x="5953" y="179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71840" y="6054840"/>
            <a:ext cx="142920" cy="106200"/>
          </a:xfrm>
          <a:custGeom>
            <a:avLst/>
            <a:gdLst/>
            <a:ahLst/>
            <a:rect l="l" t="t" r="r" b="b"/>
            <a:pathLst>
              <a:path w="398" h="298">
                <a:moveTo>
                  <a:pt x="7169" y="16842"/>
                </a:moveTo>
                <a:cubicBezTo>
                  <a:pt x="7144" y="16842"/>
                  <a:pt x="7136" y="16842"/>
                  <a:pt x="7144" y="16818"/>
                </a:cubicBezTo>
                <a:cubicBezTo>
                  <a:pt x="7210" y="16818"/>
                  <a:pt x="7276" y="16818"/>
                  <a:pt x="7342" y="16818"/>
                </a:cubicBezTo>
              </a:path>
              <a:path w="398" h="298">
                <a:moveTo>
                  <a:pt x="7243" y="17090"/>
                </a:moveTo>
                <a:cubicBezTo>
                  <a:pt x="7258" y="17134"/>
                  <a:pt x="7314" y="17115"/>
                  <a:pt x="7367" y="17115"/>
                </a:cubicBezTo>
                <a:cubicBezTo>
                  <a:pt x="7425" y="17115"/>
                  <a:pt x="7483" y="17115"/>
                  <a:pt x="7541" y="171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17880" y="6010200"/>
            <a:ext cx="287280" cy="293760"/>
          </a:xfrm>
          <a:custGeom>
            <a:avLst/>
            <a:gdLst/>
            <a:ahLst/>
            <a:rect l="l" t="t" r="r" b="b"/>
            <a:pathLst>
              <a:path w="795" h="819">
                <a:moveTo>
                  <a:pt x="8409" y="16718"/>
                </a:moveTo>
                <a:cubicBezTo>
                  <a:pt x="8461" y="16668"/>
                  <a:pt x="8388" y="16796"/>
                  <a:pt x="8384" y="16842"/>
                </a:cubicBezTo>
                <a:cubicBezTo>
                  <a:pt x="8375" y="16939"/>
                  <a:pt x="8358" y="17073"/>
                  <a:pt x="8434" y="17140"/>
                </a:cubicBezTo>
                <a:cubicBezTo>
                  <a:pt x="8515" y="17211"/>
                  <a:pt x="8609" y="17145"/>
                  <a:pt x="8682" y="17115"/>
                </a:cubicBezTo>
                <a:cubicBezTo>
                  <a:pt x="8753" y="17091"/>
                  <a:pt x="8776" y="17084"/>
                  <a:pt x="8806" y="17041"/>
                </a:cubicBezTo>
              </a:path>
              <a:path w="795" h="819">
                <a:moveTo>
                  <a:pt x="8880" y="16768"/>
                </a:moveTo>
                <a:cubicBezTo>
                  <a:pt x="8769" y="16779"/>
                  <a:pt x="8738" y="16824"/>
                  <a:pt x="8706" y="16942"/>
                </a:cubicBezTo>
                <a:cubicBezTo>
                  <a:pt x="8668" y="17083"/>
                  <a:pt x="8657" y="17273"/>
                  <a:pt x="8706" y="17413"/>
                </a:cubicBezTo>
                <a:cubicBezTo>
                  <a:pt x="8723" y="17446"/>
                  <a:pt x="8739" y="17479"/>
                  <a:pt x="8756" y="17512"/>
                </a:cubicBezTo>
              </a:path>
              <a:path w="795" h="819">
                <a:moveTo>
                  <a:pt x="9178" y="17239"/>
                </a:moveTo>
                <a:cubicBezTo>
                  <a:pt x="9137" y="17287"/>
                  <a:pt x="9117" y="17308"/>
                  <a:pt x="9103" y="173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56000" y="6018120"/>
            <a:ext cx="125280" cy="241560"/>
          </a:xfrm>
          <a:custGeom>
            <a:avLst/>
            <a:gdLst/>
            <a:ahLst/>
            <a:rect l="l" t="t" r="r" b="b"/>
            <a:pathLst>
              <a:path w="349" h="671">
                <a:moveTo>
                  <a:pt x="9872" y="16743"/>
                </a:moveTo>
                <a:cubicBezTo>
                  <a:pt x="9803" y="16691"/>
                  <a:pt x="9801" y="16728"/>
                  <a:pt x="9748" y="16768"/>
                </a:cubicBezTo>
                <a:cubicBezTo>
                  <a:pt x="9669" y="16827"/>
                  <a:pt x="9624" y="16891"/>
                  <a:pt x="9599" y="16991"/>
                </a:cubicBezTo>
                <a:cubicBezTo>
                  <a:pt x="9599" y="16999"/>
                  <a:pt x="9599" y="17008"/>
                  <a:pt x="9599" y="17016"/>
                </a:cubicBezTo>
                <a:cubicBezTo>
                  <a:pt x="9682" y="17037"/>
                  <a:pt x="9758" y="17018"/>
                  <a:pt x="9823" y="16942"/>
                </a:cubicBezTo>
                <a:cubicBezTo>
                  <a:pt x="9867" y="16891"/>
                  <a:pt x="9899" y="16841"/>
                  <a:pt x="9947" y="16793"/>
                </a:cubicBezTo>
                <a:cubicBezTo>
                  <a:pt x="9898" y="16902"/>
                  <a:pt x="9859" y="17020"/>
                  <a:pt x="9847" y="17140"/>
                </a:cubicBezTo>
                <a:cubicBezTo>
                  <a:pt x="9839" y="17220"/>
                  <a:pt x="9833" y="17323"/>
                  <a:pt x="9872" y="173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59120" y="5973840"/>
            <a:ext cx="1305000" cy="304560"/>
          </a:xfrm>
          <a:custGeom>
            <a:avLst/>
            <a:gdLst/>
            <a:ahLst/>
            <a:rect l="l" t="t" r="r" b="b"/>
            <a:pathLst>
              <a:path w="3622" h="845">
                <a:moveTo>
                  <a:pt x="10542" y="16644"/>
                </a:moveTo>
                <a:cubicBezTo>
                  <a:pt x="10555" y="16604"/>
                  <a:pt x="10590" y="16619"/>
                  <a:pt x="10641" y="16619"/>
                </a:cubicBezTo>
                <a:cubicBezTo>
                  <a:pt x="10721" y="16619"/>
                  <a:pt x="10826" y="16641"/>
                  <a:pt x="10889" y="16594"/>
                </a:cubicBezTo>
              </a:path>
              <a:path w="3622" h="845">
                <a:moveTo>
                  <a:pt x="10716" y="16619"/>
                </a:moveTo>
                <a:cubicBezTo>
                  <a:pt x="10641" y="16619"/>
                  <a:pt x="10600" y="16616"/>
                  <a:pt x="10542" y="16669"/>
                </a:cubicBezTo>
                <a:cubicBezTo>
                  <a:pt x="10507" y="16701"/>
                  <a:pt x="10453" y="16721"/>
                  <a:pt x="10443" y="16768"/>
                </a:cubicBezTo>
                <a:cubicBezTo>
                  <a:pt x="10428" y="16837"/>
                  <a:pt x="10491" y="16865"/>
                  <a:pt x="10542" y="16892"/>
                </a:cubicBezTo>
                <a:cubicBezTo>
                  <a:pt x="10586" y="16916"/>
                  <a:pt x="10651" y="16919"/>
                  <a:pt x="10691" y="16942"/>
                </a:cubicBezTo>
                <a:cubicBezTo>
                  <a:pt x="10699" y="16950"/>
                  <a:pt x="10708" y="16958"/>
                  <a:pt x="10716" y="16966"/>
                </a:cubicBezTo>
                <a:cubicBezTo>
                  <a:pt x="10676" y="17036"/>
                  <a:pt x="10624" y="17083"/>
                  <a:pt x="10567" y="17140"/>
                </a:cubicBezTo>
                <a:cubicBezTo>
                  <a:pt x="10521" y="17186"/>
                  <a:pt x="10503" y="17202"/>
                  <a:pt x="10443" y="17214"/>
                </a:cubicBezTo>
              </a:path>
              <a:path w="3622" h="845">
                <a:moveTo>
                  <a:pt x="11336" y="16942"/>
                </a:moveTo>
                <a:cubicBezTo>
                  <a:pt x="11312" y="16980"/>
                  <a:pt x="11270" y="17065"/>
                  <a:pt x="11261" y="17115"/>
                </a:cubicBezTo>
                <a:cubicBezTo>
                  <a:pt x="11253" y="17161"/>
                  <a:pt x="11246" y="17270"/>
                  <a:pt x="11311" y="17289"/>
                </a:cubicBezTo>
                <a:cubicBezTo>
                  <a:pt x="11368" y="17305"/>
                  <a:pt x="11433" y="17278"/>
                  <a:pt x="11485" y="17264"/>
                </a:cubicBezTo>
              </a:path>
              <a:path w="3622" h="845">
                <a:moveTo>
                  <a:pt x="11336" y="17066"/>
                </a:moveTo>
                <a:cubicBezTo>
                  <a:pt x="11295" y="17074"/>
                  <a:pt x="11253" y="17082"/>
                  <a:pt x="11212" y="17090"/>
                </a:cubicBezTo>
                <a:cubicBezTo>
                  <a:pt x="11318" y="17073"/>
                  <a:pt x="11410" y="17035"/>
                  <a:pt x="11509" y="16991"/>
                </a:cubicBezTo>
              </a:path>
              <a:path w="3622" h="845">
                <a:moveTo>
                  <a:pt x="11410" y="16842"/>
                </a:moveTo>
                <a:cubicBezTo>
                  <a:pt x="11385" y="16842"/>
                  <a:pt x="11361" y="16842"/>
                  <a:pt x="11336" y="16842"/>
                </a:cubicBezTo>
                <a:cubicBezTo>
                  <a:pt x="11430" y="16811"/>
                  <a:pt x="11533" y="16791"/>
                  <a:pt x="11633" y="16768"/>
                </a:cubicBezTo>
                <a:cubicBezTo>
                  <a:pt x="11674" y="16760"/>
                  <a:pt x="11716" y="16751"/>
                  <a:pt x="11757" y="16743"/>
                </a:cubicBezTo>
              </a:path>
              <a:path w="3622" h="845">
                <a:moveTo>
                  <a:pt x="12005" y="17066"/>
                </a:moveTo>
                <a:cubicBezTo>
                  <a:pt x="12094" y="17066"/>
                  <a:pt x="12172" y="17072"/>
                  <a:pt x="12254" y="17041"/>
                </a:cubicBezTo>
              </a:path>
              <a:path w="3622" h="845">
                <a:moveTo>
                  <a:pt x="12601" y="16867"/>
                </a:moveTo>
                <a:cubicBezTo>
                  <a:pt x="12680" y="16867"/>
                  <a:pt x="12722" y="16832"/>
                  <a:pt x="12799" y="16818"/>
                </a:cubicBezTo>
                <a:cubicBezTo>
                  <a:pt x="12842" y="16810"/>
                  <a:pt x="12880" y="16802"/>
                  <a:pt x="12923" y="16793"/>
                </a:cubicBezTo>
                <a:cubicBezTo>
                  <a:pt x="12963" y="16846"/>
                  <a:pt x="12955" y="16901"/>
                  <a:pt x="12923" y="16966"/>
                </a:cubicBezTo>
                <a:cubicBezTo>
                  <a:pt x="12878" y="17058"/>
                  <a:pt x="12813" y="17144"/>
                  <a:pt x="12774" y="17239"/>
                </a:cubicBezTo>
                <a:cubicBezTo>
                  <a:pt x="12743" y="17314"/>
                  <a:pt x="12738" y="17313"/>
                  <a:pt x="12774" y="17363"/>
                </a:cubicBezTo>
              </a:path>
              <a:path w="3622" h="845">
                <a:moveTo>
                  <a:pt x="13370" y="17041"/>
                </a:moveTo>
                <a:cubicBezTo>
                  <a:pt x="13354" y="17119"/>
                  <a:pt x="13304" y="17167"/>
                  <a:pt x="13271" y="17239"/>
                </a:cubicBezTo>
                <a:cubicBezTo>
                  <a:pt x="13240" y="17307"/>
                  <a:pt x="13221" y="17365"/>
                  <a:pt x="13221" y="17438"/>
                </a:cubicBezTo>
                <a:cubicBezTo>
                  <a:pt x="13271" y="17357"/>
                  <a:pt x="13338" y="17290"/>
                  <a:pt x="13395" y="17214"/>
                </a:cubicBezTo>
                <a:cubicBezTo>
                  <a:pt x="13448" y="17144"/>
                  <a:pt x="13470" y="17111"/>
                  <a:pt x="13543" y="17066"/>
                </a:cubicBezTo>
                <a:cubicBezTo>
                  <a:pt x="13532" y="17153"/>
                  <a:pt x="13485" y="17227"/>
                  <a:pt x="13469" y="17314"/>
                </a:cubicBezTo>
                <a:cubicBezTo>
                  <a:pt x="13469" y="17363"/>
                  <a:pt x="13469" y="17380"/>
                  <a:pt x="13469" y="17413"/>
                </a:cubicBezTo>
                <a:cubicBezTo>
                  <a:pt x="13533" y="17397"/>
                  <a:pt x="13599" y="17342"/>
                  <a:pt x="13643" y="17289"/>
                </a:cubicBezTo>
                <a:cubicBezTo>
                  <a:pt x="13718" y="17199"/>
                  <a:pt x="13785" y="17102"/>
                  <a:pt x="13866" y="17016"/>
                </a:cubicBezTo>
                <a:cubicBezTo>
                  <a:pt x="13882" y="16999"/>
                  <a:pt x="13899" y="16983"/>
                  <a:pt x="13915" y="16966"/>
                </a:cubicBezTo>
                <a:cubicBezTo>
                  <a:pt x="13915" y="17078"/>
                  <a:pt x="13892" y="17211"/>
                  <a:pt x="13940" y="17314"/>
                </a:cubicBezTo>
                <a:cubicBezTo>
                  <a:pt x="13988" y="17385"/>
                  <a:pt x="14001" y="17408"/>
                  <a:pt x="14064" y="174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the solubility of Co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Ksp = 2.5E-16) at pH 11.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584669880" y="-5785707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-1624087" y="-1607145"/>
                </a:moveTo>
                <a:lnTo>
                  <a:pt x="-1624087" y="-160714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54080" y="847800"/>
            <a:ext cx="1035000" cy="671400"/>
          </a:xfrm>
          <a:custGeom>
            <a:avLst/>
            <a:gdLst/>
            <a:ahLst/>
            <a:rect l="l" t="t" r="r" b="b"/>
            <a:pathLst>
              <a:path w="2878" h="1862">
                <a:moveTo>
                  <a:pt x="3423" y="2480"/>
                </a:moveTo>
                <a:cubicBezTo>
                  <a:pt x="3442" y="2538"/>
                  <a:pt x="3451" y="2545"/>
                  <a:pt x="3448" y="2580"/>
                </a:cubicBezTo>
                <a:cubicBezTo>
                  <a:pt x="3448" y="2514"/>
                  <a:pt x="3448" y="2447"/>
                  <a:pt x="3448" y="2381"/>
                </a:cubicBezTo>
                <a:cubicBezTo>
                  <a:pt x="3327" y="2351"/>
                  <a:pt x="3238" y="2434"/>
                  <a:pt x="3150" y="2530"/>
                </a:cubicBezTo>
                <a:cubicBezTo>
                  <a:pt x="3009" y="2683"/>
                  <a:pt x="2892" y="2911"/>
                  <a:pt x="2927" y="3125"/>
                </a:cubicBezTo>
                <a:cubicBezTo>
                  <a:pt x="2957" y="3311"/>
                  <a:pt x="3051" y="3390"/>
                  <a:pt x="3225" y="3398"/>
                </a:cubicBezTo>
                <a:cubicBezTo>
                  <a:pt x="3344" y="3398"/>
                  <a:pt x="3382" y="3400"/>
                  <a:pt x="3448" y="3349"/>
                </a:cubicBezTo>
              </a:path>
              <a:path w="2878" h="1862">
                <a:moveTo>
                  <a:pt x="3820" y="3125"/>
                </a:moveTo>
                <a:cubicBezTo>
                  <a:pt x="3736" y="3186"/>
                  <a:pt x="3725" y="3242"/>
                  <a:pt x="3721" y="3349"/>
                </a:cubicBezTo>
                <a:cubicBezTo>
                  <a:pt x="3718" y="3435"/>
                  <a:pt x="3776" y="3492"/>
                  <a:pt x="3870" y="3473"/>
                </a:cubicBezTo>
                <a:cubicBezTo>
                  <a:pt x="3935" y="3460"/>
                  <a:pt x="4020" y="3334"/>
                  <a:pt x="4043" y="3274"/>
                </a:cubicBezTo>
                <a:cubicBezTo>
                  <a:pt x="4064" y="3218"/>
                  <a:pt x="4020" y="3164"/>
                  <a:pt x="3969" y="3150"/>
                </a:cubicBezTo>
                <a:cubicBezTo>
                  <a:pt x="3884" y="3127"/>
                  <a:pt x="3857" y="3160"/>
                  <a:pt x="3820" y="3225"/>
                </a:cubicBezTo>
              </a:path>
              <a:path w="2878" h="1862">
                <a:moveTo>
                  <a:pt x="4242" y="3671"/>
                </a:moveTo>
                <a:cubicBezTo>
                  <a:pt x="4199" y="3650"/>
                  <a:pt x="4277" y="3617"/>
                  <a:pt x="4316" y="3597"/>
                </a:cubicBezTo>
                <a:cubicBezTo>
                  <a:pt x="4345" y="3582"/>
                  <a:pt x="4447" y="3538"/>
                  <a:pt x="4465" y="3597"/>
                </a:cubicBezTo>
                <a:cubicBezTo>
                  <a:pt x="4490" y="3676"/>
                  <a:pt x="4447" y="3824"/>
                  <a:pt x="4415" y="3894"/>
                </a:cubicBezTo>
                <a:cubicBezTo>
                  <a:pt x="4371" y="3990"/>
                  <a:pt x="4324" y="4058"/>
                  <a:pt x="4316" y="4167"/>
                </a:cubicBezTo>
                <a:cubicBezTo>
                  <a:pt x="4316" y="4195"/>
                  <a:pt x="4318" y="4206"/>
                  <a:pt x="4341" y="4217"/>
                </a:cubicBezTo>
                <a:cubicBezTo>
                  <a:pt x="4400" y="4205"/>
                  <a:pt x="4436" y="4170"/>
                  <a:pt x="4490" y="4142"/>
                </a:cubicBezTo>
                <a:cubicBezTo>
                  <a:pt x="4536" y="4118"/>
                  <a:pt x="4574" y="4100"/>
                  <a:pt x="4614" y="4068"/>
                </a:cubicBezTo>
              </a:path>
              <a:path w="2878" h="1862">
                <a:moveTo>
                  <a:pt x="5259" y="2753"/>
                </a:moveTo>
                <a:cubicBezTo>
                  <a:pt x="5267" y="2725"/>
                  <a:pt x="5285" y="2632"/>
                  <a:pt x="5209" y="2654"/>
                </a:cubicBezTo>
                <a:cubicBezTo>
                  <a:pt x="5103" y="2684"/>
                  <a:pt x="5009" y="2744"/>
                  <a:pt x="4936" y="2828"/>
                </a:cubicBezTo>
                <a:cubicBezTo>
                  <a:pt x="4868" y="2906"/>
                  <a:pt x="4782" y="3045"/>
                  <a:pt x="4862" y="3150"/>
                </a:cubicBezTo>
                <a:cubicBezTo>
                  <a:pt x="4932" y="3242"/>
                  <a:pt x="5089" y="3216"/>
                  <a:pt x="5184" y="3249"/>
                </a:cubicBezTo>
                <a:cubicBezTo>
                  <a:pt x="5255" y="3273"/>
                  <a:pt x="5280" y="3325"/>
                  <a:pt x="5259" y="3398"/>
                </a:cubicBezTo>
                <a:cubicBezTo>
                  <a:pt x="5235" y="3485"/>
                  <a:pt x="5153" y="3545"/>
                  <a:pt x="5110" y="3621"/>
                </a:cubicBezTo>
                <a:cubicBezTo>
                  <a:pt x="5102" y="3638"/>
                  <a:pt x="5093" y="3654"/>
                  <a:pt x="5085" y="3671"/>
                </a:cubicBezTo>
              </a:path>
              <a:path w="2878" h="1862">
                <a:moveTo>
                  <a:pt x="5507" y="3522"/>
                </a:moveTo>
                <a:cubicBezTo>
                  <a:pt x="5538" y="3498"/>
                  <a:pt x="5567" y="3477"/>
                  <a:pt x="5606" y="3473"/>
                </a:cubicBezTo>
                <a:cubicBezTo>
                  <a:pt x="5649" y="3468"/>
                  <a:pt x="5668" y="3509"/>
                  <a:pt x="5655" y="3547"/>
                </a:cubicBezTo>
                <a:cubicBezTo>
                  <a:pt x="5633" y="3610"/>
                  <a:pt x="5604" y="3663"/>
                  <a:pt x="5581" y="3721"/>
                </a:cubicBezTo>
                <a:cubicBezTo>
                  <a:pt x="5581" y="3729"/>
                  <a:pt x="5581" y="3738"/>
                  <a:pt x="5581" y="3746"/>
                </a:cubicBezTo>
                <a:cubicBezTo>
                  <a:pt x="5650" y="3746"/>
                  <a:pt x="5746" y="3732"/>
                  <a:pt x="5779" y="3770"/>
                </a:cubicBezTo>
                <a:cubicBezTo>
                  <a:pt x="5828" y="3825"/>
                  <a:pt x="5797" y="3912"/>
                  <a:pt x="5755" y="3969"/>
                </a:cubicBezTo>
                <a:cubicBezTo>
                  <a:pt x="5715" y="4023"/>
                  <a:pt x="5640" y="4118"/>
                  <a:pt x="5581" y="4142"/>
                </a:cubicBezTo>
                <a:cubicBezTo>
                  <a:pt x="5573" y="4142"/>
                  <a:pt x="5564" y="4142"/>
                  <a:pt x="5556" y="41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0080" y="696960"/>
            <a:ext cx="4106880" cy="803160"/>
          </a:xfrm>
          <a:custGeom>
            <a:avLst/>
            <a:gdLst/>
            <a:ahLst/>
            <a:rect l="l" t="t" r="r" b="b"/>
            <a:pathLst>
              <a:path w="11411" h="2233">
                <a:moveTo>
                  <a:pt x="9376" y="2456"/>
                </a:moveTo>
                <a:cubicBezTo>
                  <a:pt x="9384" y="2448"/>
                  <a:pt x="9393" y="2439"/>
                  <a:pt x="9401" y="2431"/>
                </a:cubicBezTo>
                <a:cubicBezTo>
                  <a:pt x="9445" y="2518"/>
                  <a:pt x="9435" y="2676"/>
                  <a:pt x="9426" y="2778"/>
                </a:cubicBezTo>
                <a:cubicBezTo>
                  <a:pt x="9404" y="3029"/>
                  <a:pt x="9330" y="3273"/>
                  <a:pt x="9302" y="3522"/>
                </a:cubicBezTo>
                <a:cubicBezTo>
                  <a:pt x="9295" y="3581"/>
                  <a:pt x="9288" y="3616"/>
                  <a:pt x="9277" y="3671"/>
                </a:cubicBezTo>
              </a:path>
              <a:path w="11411" h="2233">
                <a:moveTo>
                  <a:pt x="9847" y="3051"/>
                </a:moveTo>
                <a:cubicBezTo>
                  <a:pt x="9870" y="2985"/>
                  <a:pt x="9750" y="3049"/>
                  <a:pt x="9699" y="3076"/>
                </a:cubicBezTo>
                <a:cubicBezTo>
                  <a:pt x="9614" y="3121"/>
                  <a:pt x="9490" y="3202"/>
                  <a:pt x="9426" y="3274"/>
                </a:cubicBezTo>
                <a:cubicBezTo>
                  <a:pt x="9372" y="3334"/>
                  <a:pt x="9400" y="3426"/>
                  <a:pt x="9475" y="3448"/>
                </a:cubicBezTo>
                <a:cubicBezTo>
                  <a:pt x="9566" y="3475"/>
                  <a:pt x="9714" y="3451"/>
                  <a:pt x="9798" y="3423"/>
                </a:cubicBezTo>
              </a:path>
              <a:path w="11411" h="2233">
                <a:moveTo>
                  <a:pt x="10344" y="3398"/>
                </a:moveTo>
                <a:cubicBezTo>
                  <a:pt x="10272" y="3398"/>
                  <a:pt x="10235" y="3415"/>
                  <a:pt x="10170" y="3448"/>
                </a:cubicBezTo>
                <a:cubicBezTo>
                  <a:pt x="10124" y="3471"/>
                  <a:pt x="10085" y="3490"/>
                  <a:pt x="10046" y="3522"/>
                </a:cubicBezTo>
                <a:cubicBezTo>
                  <a:pt x="10072" y="3561"/>
                  <a:pt x="10134" y="3547"/>
                  <a:pt x="10195" y="3547"/>
                </a:cubicBezTo>
                <a:cubicBezTo>
                  <a:pt x="10254" y="3547"/>
                  <a:pt x="10304" y="3582"/>
                  <a:pt x="10319" y="3646"/>
                </a:cubicBezTo>
                <a:cubicBezTo>
                  <a:pt x="10339" y="3729"/>
                  <a:pt x="10259" y="3787"/>
                  <a:pt x="10220" y="3845"/>
                </a:cubicBezTo>
                <a:cubicBezTo>
                  <a:pt x="10198" y="3888"/>
                  <a:pt x="10194" y="3900"/>
                  <a:pt x="10170" y="3919"/>
                </a:cubicBezTo>
              </a:path>
              <a:path w="11411" h="2233">
                <a:moveTo>
                  <a:pt x="10592" y="3646"/>
                </a:moveTo>
                <a:cubicBezTo>
                  <a:pt x="10615" y="3702"/>
                  <a:pt x="10638" y="3736"/>
                  <a:pt x="10641" y="3795"/>
                </a:cubicBezTo>
                <a:cubicBezTo>
                  <a:pt x="10648" y="3905"/>
                  <a:pt x="10645" y="4023"/>
                  <a:pt x="10616" y="4118"/>
                </a:cubicBezTo>
                <a:cubicBezTo>
                  <a:pt x="10616" y="4142"/>
                  <a:pt x="10616" y="4151"/>
                  <a:pt x="10616" y="4167"/>
                </a:cubicBezTo>
                <a:cubicBezTo>
                  <a:pt x="10632" y="4087"/>
                  <a:pt x="10695" y="3988"/>
                  <a:pt x="10740" y="3919"/>
                </a:cubicBezTo>
                <a:cubicBezTo>
                  <a:pt x="10837" y="3772"/>
                  <a:pt x="10900" y="3611"/>
                  <a:pt x="11013" y="3473"/>
                </a:cubicBezTo>
                <a:cubicBezTo>
                  <a:pt x="11072" y="3401"/>
                  <a:pt x="11121" y="3356"/>
                  <a:pt x="11212" y="3349"/>
                </a:cubicBezTo>
                <a:cubicBezTo>
                  <a:pt x="11290" y="3343"/>
                  <a:pt x="11305" y="3347"/>
                  <a:pt x="11311" y="3423"/>
                </a:cubicBezTo>
                <a:cubicBezTo>
                  <a:pt x="11316" y="3483"/>
                  <a:pt x="11183" y="3574"/>
                  <a:pt x="11137" y="3597"/>
                </a:cubicBezTo>
                <a:cubicBezTo>
                  <a:pt x="11043" y="3644"/>
                  <a:pt x="10942" y="3646"/>
                  <a:pt x="10840" y="3646"/>
                </a:cubicBezTo>
              </a:path>
              <a:path w="11411" h="2233">
                <a:moveTo>
                  <a:pt x="11931" y="3101"/>
                </a:moveTo>
                <a:cubicBezTo>
                  <a:pt x="12039" y="3101"/>
                  <a:pt x="12146" y="3101"/>
                  <a:pt x="12254" y="3101"/>
                </a:cubicBezTo>
              </a:path>
              <a:path w="11411" h="2233">
                <a:moveTo>
                  <a:pt x="12030" y="3473"/>
                </a:moveTo>
                <a:cubicBezTo>
                  <a:pt x="12086" y="3539"/>
                  <a:pt x="12116" y="3519"/>
                  <a:pt x="12204" y="3497"/>
                </a:cubicBezTo>
                <a:cubicBezTo>
                  <a:pt x="12278" y="3473"/>
                  <a:pt x="12303" y="3465"/>
                  <a:pt x="12353" y="3448"/>
                </a:cubicBezTo>
              </a:path>
              <a:path w="11411" h="2233">
                <a:moveTo>
                  <a:pt x="13543" y="2381"/>
                </a:moveTo>
                <a:cubicBezTo>
                  <a:pt x="13551" y="2381"/>
                  <a:pt x="13560" y="2381"/>
                  <a:pt x="13568" y="2381"/>
                </a:cubicBezTo>
                <a:cubicBezTo>
                  <a:pt x="13537" y="2362"/>
                  <a:pt x="13505" y="2369"/>
                  <a:pt x="13444" y="2356"/>
                </a:cubicBezTo>
                <a:cubicBezTo>
                  <a:pt x="13367" y="2340"/>
                  <a:pt x="13277" y="2311"/>
                  <a:pt x="13196" y="2332"/>
                </a:cubicBezTo>
                <a:cubicBezTo>
                  <a:pt x="13166" y="2340"/>
                  <a:pt x="13082" y="2397"/>
                  <a:pt x="13072" y="2431"/>
                </a:cubicBezTo>
                <a:cubicBezTo>
                  <a:pt x="13046" y="2520"/>
                  <a:pt x="13106" y="2612"/>
                  <a:pt x="13097" y="2704"/>
                </a:cubicBezTo>
                <a:cubicBezTo>
                  <a:pt x="13079" y="2883"/>
                  <a:pt x="13011" y="3058"/>
                  <a:pt x="12948" y="3225"/>
                </a:cubicBezTo>
                <a:cubicBezTo>
                  <a:pt x="12895" y="3366"/>
                  <a:pt x="12801" y="3470"/>
                  <a:pt x="12774" y="3621"/>
                </a:cubicBezTo>
                <a:cubicBezTo>
                  <a:pt x="12760" y="3703"/>
                  <a:pt x="12786" y="3755"/>
                  <a:pt x="12874" y="3770"/>
                </a:cubicBezTo>
                <a:cubicBezTo>
                  <a:pt x="13005" y="3792"/>
                  <a:pt x="13144" y="3760"/>
                  <a:pt x="13271" y="3746"/>
                </a:cubicBezTo>
                <a:cubicBezTo>
                  <a:pt x="13337" y="3746"/>
                  <a:pt x="13354" y="3746"/>
                  <a:pt x="13395" y="3746"/>
                </a:cubicBezTo>
              </a:path>
              <a:path w="11411" h="2233">
                <a:moveTo>
                  <a:pt x="14114" y="2778"/>
                </a:moveTo>
                <a:cubicBezTo>
                  <a:pt x="14114" y="2820"/>
                  <a:pt x="14135" y="2761"/>
                  <a:pt x="14139" y="2753"/>
                </a:cubicBezTo>
                <a:cubicBezTo>
                  <a:pt x="14139" y="2745"/>
                  <a:pt x="14139" y="2737"/>
                  <a:pt x="14139" y="2729"/>
                </a:cubicBezTo>
                <a:cubicBezTo>
                  <a:pt x="14080" y="2729"/>
                  <a:pt x="14019" y="2720"/>
                  <a:pt x="13965" y="2753"/>
                </a:cubicBezTo>
                <a:cubicBezTo>
                  <a:pt x="13881" y="2805"/>
                  <a:pt x="13787" y="2986"/>
                  <a:pt x="13767" y="3076"/>
                </a:cubicBezTo>
                <a:cubicBezTo>
                  <a:pt x="13743" y="3184"/>
                  <a:pt x="13751" y="3328"/>
                  <a:pt x="13866" y="3373"/>
                </a:cubicBezTo>
                <a:cubicBezTo>
                  <a:pt x="13971" y="3414"/>
                  <a:pt x="14034" y="3394"/>
                  <a:pt x="14139" y="3373"/>
                </a:cubicBezTo>
              </a:path>
              <a:path w="11411" h="2233">
                <a:moveTo>
                  <a:pt x="14536" y="3200"/>
                </a:moveTo>
                <a:cubicBezTo>
                  <a:pt x="14469" y="3238"/>
                  <a:pt x="14419" y="3275"/>
                  <a:pt x="14387" y="3349"/>
                </a:cubicBezTo>
                <a:cubicBezTo>
                  <a:pt x="14359" y="3413"/>
                  <a:pt x="14362" y="3456"/>
                  <a:pt x="14362" y="3522"/>
                </a:cubicBezTo>
                <a:cubicBezTo>
                  <a:pt x="14460" y="3522"/>
                  <a:pt x="14509" y="3516"/>
                  <a:pt x="14585" y="3448"/>
                </a:cubicBezTo>
                <a:cubicBezTo>
                  <a:pt x="14636" y="3403"/>
                  <a:pt x="14730" y="3330"/>
                  <a:pt x="14709" y="3249"/>
                </a:cubicBezTo>
                <a:cubicBezTo>
                  <a:pt x="14691" y="3179"/>
                  <a:pt x="14571" y="3186"/>
                  <a:pt x="14511" y="3200"/>
                </a:cubicBezTo>
                <a:cubicBezTo>
                  <a:pt x="14494" y="3208"/>
                  <a:pt x="14478" y="3217"/>
                  <a:pt x="14461" y="3225"/>
                </a:cubicBezTo>
              </a:path>
              <a:path w="11411" h="2233">
                <a:moveTo>
                  <a:pt x="14684" y="2778"/>
                </a:moveTo>
                <a:cubicBezTo>
                  <a:pt x="14660" y="2778"/>
                  <a:pt x="14652" y="2778"/>
                  <a:pt x="14660" y="2753"/>
                </a:cubicBezTo>
                <a:cubicBezTo>
                  <a:pt x="14784" y="2753"/>
                  <a:pt x="14908" y="2753"/>
                  <a:pt x="15032" y="2753"/>
                </a:cubicBezTo>
              </a:path>
              <a:path w="11411" h="2233">
                <a:moveTo>
                  <a:pt x="14982" y="2555"/>
                </a:moveTo>
                <a:cubicBezTo>
                  <a:pt x="14887" y="2593"/>
                  <a:pt x="14883" y="2583"/>
                  <a:pt x="14883" y="2679"/>
                </a:cubicBezTo>
                <a:cubicBezTo>
                  <a:pt x="14883" y="2753"/>
                  <a:pt x="14899" y="2807"/>
                  <a:pt x="14908" y="2877"/>
                </a:cubicBezTo>
              </a:path>
              <a:path w="11411" h="2233">
                <a:moveTo>
                  <a:pt x="15801" y="2257"/>
                </a:moveTo>
                <a:cubicBezTo>
                  <a:pt x="15842" y="2257"/>
                  <a:pt x="15834" y="2257"/>
                  <a:pt x="15875" y="2257"/>
                </a:cubicBezTo>
                <a:cubicBezTo>
                  <a:pt x="15966" y="2257"/>
                  <a:pt x="16057" y="2257"/>
                  <a:pt x="16148" y="2257"/>
                </a:cubicBezTo>
                <a:cubicBezTo>
                  <a:pt x="16141" y="2342"/>
                  <a:pt x="16130" y="2424"/>
                  <a:pt x="16098" y="2505"/>
                </a:cubicBezTo>
                <a:cubicBezTo>
                  <a:pt x="16034" y="2665"/>
                  <a:pt x="16003" y="2804"/>
                  <a:pt x="15999" y="2977"/>
                </a:cubicBezTo>
                <a:cubicBezTo>
                  <a:pt x="15996" y="3123"/>
                  <a:pt x="16010" y="3256"/>
                  <a:pt x="16024" y="3398"/>
                </a:cubicBezTo>
                <a:cubicBezTo>
                  <a:pt x="16033" y="3494"/>
                  <a:pt x="16035" y="3552"/>
                  <a:pt x="15974" y="3621"/>
                </a:cubicBezTo>
                <a:cubicBezTo>
                  <a:pt x="15887" y="3719"/>
                  <a:pt x="15769" y="3746"/>
                  <a:pt x="15652" y="3795"/>
                </a:cubicBezTo>
                <a:cubicBezTo>
                  <a:pt x="15497" y="3859"/>
                  <a:pt x="15337" y="3889"/>
                  <a:pt x="15180" y="3944"/>
                </a:cubicBezTo>
                <a:cubicBezTo>
                  <a:pt x="15140" y="3964"/>
                  <a:pt x="15134" y="3973"/>
                  <a:pt x="15106" y="3969"/>
                </a:cubicBezTo>
              </a:path>
              <a:path w="11411" h="2233">
                <a:moveTo>
                  <a:pt x="16570" y="1984"/>
                </a:moveTo>
                <a:cubicBezTo>
                  <a:pt x="16583" y="1945"/>
                  <a:pt x="16618" y="1938"/>
                  <a:pt x="16669" y="1935"/>
                </a:cubicBezTo>
                <a:cubicBezTo>
                  <a:pt x="16716" y="1932"/>
                  <a:pt x="16814" y="1915"/>
                  <a:pt x="16842" y="1960"/>
                </a:cubicBezTo>
                <a:cubicBezTo>
                  <a:pt x="16878" y="2017"/>
                  <a:pt x="16804" y="2147"/>
                  <a:pt x="16768" y="2183"/>
                </a:cubicBezTo>
                <a:cubicBezTo>
                  <a:pt x="16718" y="2233"/>
                  <a:pt x="16594" y="2307"/>
                  <a:pt x="16570" y="2381"/>
                </a:cubicBezTo>
                <a:cubicBezTo>
                  <a:pt x="16570" y="2398"/>
                  <a:pt x="16570" y="2414"/>
                  <a:pt x="16570" y="2431"/>
                </a:cubicBezTo>
                <a:cubicBezTo>
                  <a:pt x="16629" y="2467"/>
                  <a:pt x="16694" y="2456"/>
                  <a:pt x="16768" y="2456"/>
                </a:cubicBezTo>
                <a:cubicBezTo>
                  <a:pt x="16818" y="2456"/>
                  <a:pt x="16867" y="2456"/>
                  <a:pt x="16917" y="2456"/>
                </a:cubicBezTo>
              </a:path>
              <a:path w="11411" h="2233">
                <a:moveTo>
                  <a:pt x="17785" y="2505"/>
                </a:moveTo>
                <a:cubicBezTo>
                  <a:pt x="17793" y="2497"/>
                  <a:pt x="17802" y="2488"/>
                  <a:pt x="17810" y="2480"/>
                </a:cubicBezTo>
                <a:cubicBezTo>
                  <a:pt x="17777" y="2461"/>
                  <a:pt x="17763" y="2468"/>
                  <a:pt x="17711" y="2456"/>
                </a:cubicBezTo>
                <a:cubicBezTo>
                  <a:pt x="17599" y="2429"/>
                  <a:pt x="17550" y="2444"/>
                  <a:pt x="17438" y="2456"/>
                </a:cubicBezTo>
                <a:cubicBezTo>
                  <a:pt x="17372" y="2463"/>
                  <a:pt x="17277" y="2458"/>
                  <a:pt x="17214" y="2480"/>
                </a:cubicBezTo>
                <a:cubicBezTo>
                  <a:pt x="17206" y="2488"/>
                  <a:pt x="17198" y="2497"/>
                  <a:pt x="17190" y="2505"/>
                </a:cubicBezTo>
                <a:cubicBezTo>
                  <a:pt x="17241" y="2564"/>
                  <a:pt x="17262" y="2602"/>
                  <a:pt x="17289" y="2679"/>
                </a:cubicBezTo>
                <a:cubicBezTo>
                  <a:pt x="17338" y="2819"/>
                  <a:pt x="17269" y="3017"/>
                  <a:pt x="17214" y="3150"/>
                </a:cubicBezTo>
                <a:cubicBezTo>
                  <a:pt x="17140" y="3329"/>
                  <a:pt x="17006" y="3473"/>
                  <a:pt x="16917" y="3646"/>
                </a:cubicBezTo>
                <a:cubicBezTo>
                  <a:pt x="16876" y="3727"/>
                  <a:pt x="16810" y="3814"/>
                  <a:pt x="16867" y="3894"/>
                </a:cubicBezTo>
                <a:cubicBezTo>
                  <a:pt x="16907" y="3949"/>
                  <a:pt x="17109" y="3928"/>
                  <a:pt x="17165" y="3919"/>
                </a:cubicBezTo>
                <a:cubicBezTo>
                  <a:pt x="17265" y="3904"/>
                  <a:pt x="17362" y="3875"/>
                  <a:pt x="17462" y="3870"/>
                </a:cubicBezTo>
                <a:cubicBezTo>
                  <a:pt x="17479" y="3870"/>
                  <a:pt x="17495" y="3870"/>
                  <a:pt x="17512" y="3870"/>
                </a:cubicBezTo>
              </a:path>
              <a:path w="11411" h="2233">
                <a:moveTo>
                  <a:pt x="18083" y="2877"/>
                </a:moveTo>
                <a:cubicBezTo>
                  <a:pt x="18068" y="2817"/>
                  <a:pt x="18043" y="2828"/>
                  <a:pt x="17983" y="2828"/>
                </a:cubicBezTo>
                <a:cubicBezTo>
                  <a:pt x="17901" y="2828"/>
                  <a:pt x="17793" y="2864"/>
                  <a:pt x="17735" y="2927"/>
                </a:cubicBezTo>
                <a:cubicBezTo>
                  <a:pt x="17688" y="2978"/>
                  <a:pt x="17719" y="3105"/>
                  <a:pt x="17760" y="3150"/>
                </a:cubicBezTo>
                <a:cubicBezTo>
                  <a:pt x="17831" y="3228"/>
                  <a:pt x="17927" y="3281"/>
                  <a:pt x="17983" y="3373"/>
                </a:cubicBezTo>
                <a:cubicBezTo>
                  <a:pt x="18021" y="3435"/>
                  <a:pt x="17995" y="3507"/>
                  <a:pt x="17934" y="3547"/>
                </a:cubicBezTo>
                <a:cubicBezTo>
                  <a:pt x="17874" y="3586"/>
                  <a:pt x="17755" y="3626"/>
                  <a:pt x="17686" y="3646"/>
                </a:cubicBezTo>
                <a:cubicBezTo>
                  <a:pt x="17678" y="3646"/>
                  <a:pt x="17669" y="3646"/>
                  <a:pt x="17661" y="3646"/>
                </a:cubicBezTo>
              </a:path>
              <a:path w="11411" h="2233">
                <a:moveTo>
                  <a:pt x="15503" y="2431"/>
                </a:moveTo>
                <a:cubicBezTo>
                  <a:pt x="15542" y="2431"/>
                  <a:pt x="15630" y="2413"/>
                  <a:pt x="15652" y="2456"/>
                </a:cubicBezTo>
                <a:cubicBezTo>
                  <a:pt x="15669" y="2489"/>
                  <a:pt x="15646" y="2533"/>
                  <a:pt x="15627" y="2555"/>
                </a:cubicBezTo>
                <a:cubicBezTo>
                  <a:pt x="15590" y="2597"/>
                  <a:pt x="15541" y="2595"/>
                  <a:pt x="15503" y="2629"/>
                </a:cubicBezTo>
                <a:cubicBezTo>
                  <a:pt x="15495" y="2637"/>
                  <a:pt x="15486" y="2646"/>
                  <a:pt x="15478" y="2654"/>
                </a:cubicBezTo>
                <a:cubicBezTo>
                  <a:pt x="15509" y="2662"/>
                  <a:pt x="15572" y="2667"/>
                  <a:pt x="15602" y="2679"/>
                </a:cubicBezTo>
                <a:cubicBezTo>
                  <a:pt x="15635" y="2693"/>
                  <a:pt x="15644" y="2705"/>
                  <a:pt x="15652" y="2729"/>
                </a:cubicBezTo>
                <a:cubicBezTo>
                  <a:pt x="15582" y="2742"/>
                  <a:pt x="15538" y="2789"/>
                  <a:pt x="15478" y="2828"/>
                </a:cubicBezTo>
                <a:cubicBezTo>
                  <a:pt x="15405" y="2876"/>
                  <a:pt x="15374" y="2906"/>
                  <a:pt x="15329" y="2977"/>
                </a:cubicBezTo>
              </a:path>
              <a:path w="11411" h="2233">
                <a:moveTo>
                  <a:pt x="18380" y="2902"/>
                </a:moveTo>
                <a:cubicBezTo>
                  <a:pt x="18464" y="2902"/>
                  <a:pt x="18561" y="2918"/>
                  <a:pt x="18628" y="2877"/>
                </a:cubicBezTo>
              </a:path>
              <a:path w="11411" h="2233">
                <a:moveTo>
                  <a:pt x="18976" y="2604"/>
                </a:moveTo>
                <a:cubicBezTo>
                  <a:pt x="19039" y="2587"/>
                  <a:pt x="19111" y="2559"/>
                  <a:pt x="19174" y="2555"/>
                </a:cubicBezTo>
                <a:cubicBezTo>
                  <a:pt x="19224" y="2552"/>
                  <a:pt x="19285" y="2590"/>
                  <a:pt x="19248" y="2654"/>
                </a:cubicBezTo>
                <a:cubicBezTo>
                  <a:pt x="19209" y="2722"/>
                  <a:pt x="19123" y="2771"/>
                  <a:pt x="19075" y="2828"/>
                </a:cubicBezTo>
                <a:cubicBezTo>
                  <a:pt x="19053" y="2850"/>
                  <a:pt x="19044" y="2855"/>
                  <a:pt x="19050" y="2877"/>
                </a:cubicBezTo>
                <a:cubicBezTo>
                  <a:pt x="19086" y="2904"/>
                  <a:pt x="19151" y="2921"/>
                  <a:pt x="19199" y="2902"/>
                </a:cubicBezTo>
                <a:cubicBezTo>
                  <a:pt x="19227" y="2874"/>
                  <a:pt x="19240" y="2865"/>
                  <a:pt x="19273" y="2877"/>
                </a:cubicBezTo>
              </a:path>
              <a:path w="11411" h="2233">
                <a:moveTo>
                  <a:pt x="19571" y="2356"/>
                </a:moveTo>
                <a:cubicBezTo>
                  <a:pt x="19603" y="2325"/>
                  <a:pt x="19601" y="2334"/>
                  <a:pt x="19645" y="2332"/>
                </a:cubicBezTo>
                <a:cubicBezTo>
                  <a:pt x="19719" y="2328"/>
                  <a:pt x="19877" y="2300"/>
                  <a:pt x="19918" y="2381"/>
                </a:cubicBezTo>
                <a:cubicBezTo>
                  <a:pt x="19965" y="2474"/>
                  <a:pt x="19922" y="2600"/>
                  <a:pt x="19893" y="2704"/>
                </a:cubicBezTo>
                <a:cubicBezTo>
                  <a:pt x="19829" y="2928"/>
                  <a:pt x="19704" y="3131"/>
                  <a:pt x="19621" y="3349"/>
                </a:cubicBezTo>
                <a:cubicBezTo>
                  <a:pt x="19569" y="3484"/>
                  <a:pt x="19527" y="3626"/>
                  <a:pt x="19521" y="3770"/>
                </a:cubicBezTo>
                <a:cubicBezTo>
                  <a:pt x="19521" y="3795"/>
                  <a:pt x="19521" y="3803"/>
                  <a:pt x="19521" y="3820"/>
                </a:cubicBezTo>
                <a:cubicBezTo>
                  <a:pt x="19450" y="3813"/>
                  <a:pt x="19395" y="3797"/>
                  <a:pt x="19323" y="3795"/>
                </a:cubicBezTo>
                <a:cubicBezTo>
                  <a:pt x="19187" y="3791"/>
                  <a:pt x="19057" y="3828"/>
                  <a:pt x="18926" y="3845"/>
                </a:cubicBezTo>
                <a:cubicBezTo>
                  <a:pt x="18909" y="3845"/>
                  <a:pt x="18893" y="3845"/>
                  <a:pt x="18876" y="3845"/>
                </a:cubicBezTo>
              </a:path>
              <a:path w="11411" h="2233">
                <a:moveTo>
                  <a:pt x="20365" y="2084"/>
                </a:moveTo>
                <a:cubicBezTo>
                  <a:pt x="20407" y="2049"/>
                  <a:pt x="20453" y="2016"/>
                  <a:pt x="20513" y="2034"/>
                </a:cubicBezTo>
                <a:cubicBezTo>
                  <a:pt x="20568" y="2050"/>
                  <a:pt x="20620" y="2104"/>
                  <a:pt x="20638" y="2158"/>
                </a:cubicBezTo>
                <a:cubicBezTo>
                  <a:pt x="20664" y="2235"/>
                  <a:pt x="20554" y="2253"/>
                  <a:pt x="20513" y="2282"/>
                </a:cubicBezTo>
                <a:cubicBezTo>
                  <a:pt x="20479" y="2306"/>
                  <a:pt x="20479" y="2322"/>
                  <a:pt x="20439" y="2332"/>
                </a:cubicBezTo>
                <a:cubicBezTo>
                  <a:pt x="20504" y="2332"/>
                  <a:pt x="20553" y="2346"/>
                  <a:pt x="20613" y="2356"/>
                </a:cubicBezTo>
                <a:cubicBezTo>
                  <a:pt x="20668" y="2365"/>
                  <a:pt x="20717" y="2409"/>
                  <a:pt x="20687" y="2480"/>
                </a:cubicBezTo>
                <a:cubicBezTo>
                  <a:pt x="20656" y="2554"/>
                  <a:pt x="20555" y="2581"/>
                  <a:pt x="20489" y="2604"/>
                </a:cubicBezTo>
                <a:cubicBezTo>
                  <a:pt x="20409" y="2631"/>
                  <a:pt x="20373" y="2646"/>
                  <a:pt x="20290" y="26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66920" y="1803240"/>
            <a:ext cx="973080" cy="750960"/>
          </a:xfrm>
          <a:custGeom>
            <a:avLst/>
            <a:gdLst/>
            <a:ahLst/>
            <a:rect l="l" t="t" r="r" b="b"/>
            <a:pathLst>
              <a:path w="2705" h="2084">
                <a:moveTo>
                  <a:pt x="4217" y="5209"/>
                </a:moveTo>
                <a:cubicBezTo>
                  <a:pt x="4185" y="5184"/>
                  <a:pt x="4156" y="5168"/>
                  <a:pt x="4118" y="5159"/>
                </a:cubicBezTo>
                <a:cubicBezTo>
                  <a:pt x="4053" y="5144"/>
                  <a:pt x="4022" y="5183"/>
                  <a:pt x="3994" y="5234"/>
                </a:cubicBezTo>
                <a:cubicBezTo>
                  <a:pt x="3883" y="5434"/>
                  <a:pt x="3851" y="5656"/>
                  <a:pt x="3820" y="5879"/>
                </a:cubicBezTo>
                <a:cubicBezTo>
                  <a:pt x="3802" y="6012"/>
                  <a:pt x="3748" y="6307"/>
                  <a:pt x="3919" y="6375"/>
                </a:cubicBezTo>
                <a:cubicBezTo>
                  <a:pt x="4045" y="6425"/>
                  <a:pt x="4185" y="6295"/>
                  <a:pt x="4266" y="6226"/>
                </a:cubicBezTo>
              </a:path>
              <a:path w="2705" h="2084">
                <a:moveTo>
                  <a:pt x="4713" y="6152"/>
                </a:moveTo>
                <a:cubicBezTo>
                  <a:pt x="4705" y="6144"/>
                  <a:pt x="4696" y="6135"/>
                  <a:pt x="4688" y="6127"/>
                </a:cubicBezTo>
                <a:cubicBezTo>
                  <a:pt x="4645" y="6141"/>
                  <a:pt x="4601" y="6215"/>
                  <a:pt x="4589" y="6276"/>
                </a:cubicBezTo>
                <a:cubicBezTo>
                  <a:pt x="4575" y="6347"/>
                  <a:pt x="4580" y="6442"/>
                  <a:pt x="4614" y="6499"/>
                </a:cubicBezTo>
                <a:cubicBezTo>
                  <a:pt x="4660" y="6480"/>
                  <a:pt x="4763" y="6404"/>
                  <a:pt x="4787" y="6350"/>
                </a:cubicBezTo>
                <a:cubicBezTo>
                  <a:pt x="4816" y="6283"/>
                  <a:pt x="4776" y="6189"/>
                  <a:pt x="4762" y="6127"/>
                </a:cubicBezTo>
                <a:cubicBezTo>
                  <a:pt x="4753" y="6087"/>
                  <a:pt x="4730" y="6050"/>
                  <a:pt x="4713" y="6102"/>
                </a:cubicBezTo>
              </a:path>
              <a:path w="2705" h="2084">
                <a:moveTo>
                  <a:pt x="5035" y="6449"/>
                </a:moveTo>
                <a:cubicBezTo>
                  <a:pt x="5074" y="6439"/>
                  <a:pt x="5090" y="6424"/>
                  <a:pt x="5135" y="6424"/>
                </a:cubicBezTo>
                <a:cubicBezTo>
                  <a:pt x="5206" y="6424"/>
                  <a:pt x="5205" y="6456"/>
                  <a:pt x="5209" y="6524"/>
                </a:cubicBezTo>
                <a:cubicBezTo>
                  <a:pt x="5215" y="6631"/>
                  <a:pt x="5153" y="6719"/>
                  <a:pt x="5135" y="6821"/>
                </a:cubicBezTo>
                <a:cubicBezTo>
                  <a:pt x="5125" y="6876"/>
                  <a:pt x="5121" y="6938"/>
                  <a:pt x="5184" y="6945"/>
                </a:cubicBezTo>
                <a:cubicBezTo>
                  <a:pt x="5252" y="6952"/>
                  <a:pt x="5333" y="6857"/>
                  <a:pt x="5383" y="6821"/>
                </a:cubicBezTo>
              </a:path>
              <a:path w="2705" h="2084">
                <a:moveTo>
                  <a:pt x="5779" y="5035"/>
                </a:moveTo>
                <a:cubicBezTo>
                  <a:pt x="5750" y="5026"/>
                  <a:pt x="5749" y="4985"/>
                  <a:pt x="5680" y="5035"/>
                </a:cubicBezTo>
                <a:cubicBezTo>
                  <a:pt x="5578" y="5109"/>
                  <a:pt x="5475" y="5200"/>
                  <a:pt x="5407" y="5308"/>
                </a:cubicBezTo>
                <a:cubicBezTo>
                  <a:pt x="5335" y="5422"/>
                  <a:pt x="5267" y="5567"/>
                  <a:pt x="5283" y="5705"/>
                </a:cubicBezTo>
                <a:cubicBezTo>
                  <a:pt x="5296" y="5818"/>
                  <a:pt x="5374" y="5933"/>
                  <a:pt x="5482" y="5978"/>
                </a:cubicBezTo>
                <a:cubicBezTo>
                  <a:pt x="5564" y="6012"/>
                  <a:pt x="5713" y="6010"/>
                  <a:pt x="5779" y="6077"/>
                </a:cubicBezTo>
                <a:cubicBezTo>
                  <a:pt x="5815" y="6113"/>
                  <a:pt x="5841" y="6174"/>
                  <a:pt x="5829" y="6226"/>
                </a:cubicBezTo>
                <a:cubicBezTo>
                  <a:pt x="5810" y="6313"/>
                  <a:pt x="5722" y="6375"/>
                  <a:pt x="5680" y="6449"/>
                </a:cubicBezTo>
                <a:cubicBezTo>
                  <a:pt x="5658" y="6493"/>
                  <a:pt x="5655" y="6504"/>
                  <a:pt x="5631" y="6524"/>
                </a:cubicBezTo>
              </a:path>
              <a:path w="2705" h="2084">
                <a:moveTo>
                  <a:pt x="6350" y="6201"/>
                </a:moveTo>
                <a:cubicBezTo>
                  <a:pt x="6408" y="6184"/>
                  <a:pt x="6466" y="6152"/>
                  <a:pt x="6499" y="6226"/>
                </a:cubicBezTo>
                <a:cubicBezTo>
                  <a:pt x="6523" y="6280"/>
                  <a:pt x="6475" y="6357"/>
                  <a:pt x="6449" y="6400"/>
                </a:cubicBezTo>
                <a:cubicBezTo>
                  <a:pt x="6412" y="6461"/>
                  <a:pt x="6357" y="6525"/>
                  <a:pt x="6350" y="6598"/>
                </a:cubicBezTo>
                <a:cubicBezTo>
                  <a:pt x="6350" y="6606"/>
                  <a:pt x="6350" y="6615"/>
                  <a:pt x="6350" y="6623"/>
                </a:cubicBezTo>
                <a:cubicBezTo>
                  <a:pt x="6400" y="6623"/>
                  <a:pt x="6449" y="6623"/>
                  <a:pt x="6499" y="6623"/>
                </a:cubicBezTo>
                <a:cubicBezTo>
                  <a:pt x="6499" y="6694"/>
                  <a:pt x="6484" y="6756"/>
                  <a:pt x="6449" y="6821"/>
                </a:cubicBezTo>
                <a:cubicBezTo>
                  <a:pt x="6403" y="6908"/>
                  <a:pt x="6335" y="6993"/>
                  <a:pt x="6276" y="7069"/>
                </a:cubicBezTo>
                <a:cubicBezTo>
                  <a:pt x="6268" y="7077"/>
                  <a:pt x="6259" y="7086"/>
                  <a:pt x="6251" y="70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25840" y="2062080"/>
            <a:ext cx="392040" cy="268200"/>
          </a:xfrm>
          <a:custGeom>
            <a:avLst/>
            <a:gdLst/>
            <a:ahLst/>
            <a:rect l="l" t="t" r="r" b="b"/>
            <a:pathLst>
              <a:path w="1092" h="745">
                <a:moveTo>
                  <a:pt x="7293" y="6077"/>
                </a:moveTo>
                <a:cubicBezTo>
                  <a:pt x="7407" y="6048"/>
                  <a:pt x="7523" y="6029"/>
                  <a:pt x="7640" y="6003"/>
                </a:cubicBezTo>
                <a:cubicBezTo>
                  <a:pt x="7792" y="5970"/>
                  <a:pt x="7935" y="5917"/>
                  <a:pt x="8086" y="5879"/>
                </a:cubicBezTo>
                <a:cubicBezTo>
                  <a:pt x="8159" y="5861"/>
                  <a:pt x="8214" y="5838"/>
                  <a:pt x="8285" y="5829"/>
                </a:cubicBezTo>
                <a:cubicBezTo>
                  <a:pt x="8221" y="5829"/>
                  <a:pt x="8173" y="5811"/>
                  <a:pt x="8111" y="5804"/>
                </a:cubicBezTo>
                <a:cubicBezTo>
                  <a:pt x="8026" y="5794"/>
                  <a:pt x="7933" y="5829"/>
                  <a:pt x="7863" y="5779"/>
                </a:cubicBezTo>
                <a:cubicBezTo>
                  <a:pt x="7855" y="5771"/>
                  <a:pt x="7846" y="5763"/>
                  <a:pt x="7838" y="5755"/>
                </a:cubicBezTo>
                <a:cubicBezTo>
                  <a:pt x="7903" y="5733"/>
                  <a:pt x="7959" y="5730"/>
                  <a:pt x="8037" y="5730"/>
                </a:cubicBezTo>
                <a:cubicBezTo>
                  <a:pt x="8133" y="5730"/>
                  <a:pt x="8222" y="5719"/>
                  <a:pt x="8310" y="5755"/>
                </a:cubicBezTo>
                <a:cubicBezTo>
                  <a:pt x="8422" y="5802"/>
                  <a:pt x="8383" y="5873"/>
                  <a:pt x="8334" y="5953"/>
                </a:cubicBezTo>
                <a:cubicBezTo>
                  <a:pt x="8258" y="6077"/>
                  <a:pt x="8178" y="6197"/>
                  <a:pt x="8111" y="6325"/>
                </a:cubicBezTo>
                <a:cubicBezTo>
                  <a:pt x="8071" y="6406"/>
                  <a:pt x="8055" y="6419"/>
                  <a:pt x="8062" y="64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56000" y="1973160"/>
            <a:ext cx="901800" cy="366840"/>
          </a:xfrm>
          <a:custGeom>
            <a:avLst/>
            <a:gdLst/>
            <a:ahLst/>
            <a:rect l="l" t="t" r="r" b="b"/>
            <a:pathLst>
              <a:path w="2507" h="1018">
                <a:moveTo>
                  <a:pt x="9699" y="5680"/>
                </a:moveTo>
                <a:cubicBezTo>
                  <a:pt x="9731" y="5599"/>
                  <a:pt x="9748" y="5551"/>
                  <a:pt x="9823" y="5507"/>
                </a:cubicBezTo>
                <a:cubicBezTo>
                  <a:pt x="9927" y="5446"/>
                  <a:pt x="10023" y="5501"/>
                  <a:pt x="10071" y="5606"/>
                </a:cubicBezTo>
                <a:cubicBezTo>
                  <a:pt x="10134" y="5746"/>
                  <a:pt x="10093" y="5974"/>
                  <a:pt x="10021" y="6102"/>
                </a:cubicBezTo>
                <a:cubicBezTo>
                  <a:pt x="9944" y="6238"/>
                  <a:pt x="9832" y="6389"/>
                  <a:pt x="9699" y="6474"/>
                </a:cubicBezTo>
                <a:cubicBezTo>
                  <a:pt x="9682" y="6482"/>
                  <a:pt x="9666" y="6491"/>
                  <a:pt x="9649" y="6499"/>
                </a:cubicBezTo>
                <a:cubicBezTo>
                  <a:pt x="9595" y="6431"/>
                  <a:pt x="9574" y="6360"/>
                  <a:pt x="9624" y="6276"/>
                </a:cubicBezTo>
                <a:cubicBezTo>
                  <a:pt x="9687" y="6171"/>
                  <a:pt x="9814" y="6155"/>
                  <a:pt x="9922" y="6152"/>
                </a:cubicBezTo>
                <a:cubicBezTo>
                  <a:pt x="10057" y="6148"/>
                  <a:pt x="10106" y="6210"/>
                  <a:pt x="10195" y="6300"/>
                </a:cubicBezTo>
                <a:cubicBezTo>
                  <a:pt x="10211" y="6317"/>
                  <a:pt x="10228" y="6333"/>
                  <a:pt x="10244" y="6350"/>
                </a:cubicBezTo>
              </a:path>
              <a:path w="2507" h="1018">
                <a:moveTo>
                  <a:pt x="11088" y="5581"/>
                </a:moveTo>
                <a:cubicBezTo>
                  <a:pt x="11088" y="5606"/>
                  <a:pt x="11088" y="5614"/>
                  <a:pt x="11112" y="5606"/>
                </a:cubicBezTo>
                <a:cubicBezTo>
                  <a:pt x="11106" y="5563"/>
                  <a:pt x="11130" y="5543"/>
                  <a:pt x="11088" y="5531"/>
                </a:cubicBezTo>
                <a:cubicBezTo>
                  <a:pt x="11000" y="5506"/>
                  <a:pt x="10911" y="5592"/>
                  <a:pt x="10864" y="5655"/>
                </a:cubicBezTo>
                <a:cubicBezTo>
                  <a:pt x="10747" y="5812"/>
                  <a:pt x="10683" y="6056"/>
                  <a:pt x="10716" y="6251"/>
                </a:cubicBezTo>
                <a:cubicBezTo>
                  <a:pt x="10745" y="6418"/>
                  <a:pt x="10898" y="6526"/>
                  <a:pt x="11063" y="6499"/>
                </a:cubicBezTo>
                <a:cubicBezTo>
                  <a:pt x="11247" y="6469"/>
                  <a:pt x="11427" y="6324"/>
                  <a:pt x="11534" y="6176"/>
                </a:cubicBezTo>
                <a:cubicBezTo>
                  <a:pt x="11594" y="6093"/>
                  <a:pt x="11627" y="5997"/>
                  <a:pt x="11658" y="5904"/>
                </a:cubicBezTo>
                <a:cubicBezTo>
                  <a:pt x="11598" y="5949"/>
                  <a:pt x="11530" y="6010"/>
                  <a:pt x="11509" y="6102"/>
                </a:cubicBezTo>
                <a:cubicBezTo>
                  <a:pt x="11480" y="6229"/>
                  <a:pt x="11506" y="6367"/>
                  <a:pt x="11633" y="6424"/>
                </a:cubicBezTo>
                <a:cubicBezTo>
                  <a:pt x="11765" y="6483"/>
                  <a:pt x="11924" y="6410"/>
                  <a:pt x="12005" y="6300"/>
                </a:cubicBezTo>
                <a:cubicBezTo>
                  <a:pt x="12098" y="6175"/>
                  <a:pt x="12133" y="6055"/>
                  <a:pt x="12080" y="5904"/>
                </a:cubicBezTo>
                <a:cubicBezTo>
                  <a:pt x="12032" y="5768"/>
                  <a:pt x="11920" y="5685"/>
                  <a:pt x="11782" y="5655"/>
                </a:cubicBezTo>
                <a:cubicBezTo>
                  <a:pt x="11738" y="5655"/>
                  <a:pt x="11724" y="5652"/>
                  <a:pt x="11708" y="56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41920" y="2062080"/>
            <a:ext cx="223920" cy="223920"/>
          </a:xfrm>
          <a:custGeom>
            <a:avLst/>
            <a:gdLst/>
            <a:ahLst/>
            <a:rect l="l" t="t" r="r" b="b"/>
            <a:pathLst>
              <a:path w="621" h="621">
                <a:moveTo>
                  <a:pt x="13171" y="6052"/>
                </a:moveTo>
                <a:cubicBezTo>
                  <a:pt x="13260" y="6026"/>
                  <a:pt x="13329" y="6042"/>
                  <a:pt x="13419" y="6028"/>
                </a:cubicBezTo>
                <a:cubicBezTo>
                  <a:pt x="13520" y="6012"/>
                  <a:pt x="13675" y="5997"/>
                  <a:pt x="13767" y="5953"/>
                </a:cubicBezTo>
                <a:cubicBezTo>
                  <a:pt x="13775" y="5945"/>
                  <a:pt x="13783" y="5936"/>
                  <a:pt x="13791" y="5928"/>
                </a:cubicBezTo>
              </a:path>
              <a:path w="621" h="621">
                <a:moveTo>
                  <a:pt x="13543" y="5730"/>
                </a:moveTo>
                <a:cubicBezTo>
                  <a:pt x="13520" y="5816"/>
                  <a:pt x="13481" y="5913"/>
                  <a:pt x="13494" y="6003"/>
                </a:cubicBezTo>
                <a:cubicBezTo>
                  <a:pt x="13507" y="6093"/>
                  <a:pt x="13537" y="6215"/>
                  <a:pt x="13568" y="6300"/>
                </a:cubicBezTo>
                <a:cubicBezTo>
                  <a:pt x="13576" y="6317"/>
                  <a:pt x="13585" y="6333"/>
                  <a:pt x="13593" y="63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22960" y="1938240"/>
            <a:ext cx="436320" cy="312840"/>
          </a:xfrm>
          <a:custGeom>
            <a:avLst/>
            <a:gdLst/>
            <a:ahLst/>
            <a:rect l="l" t="t" r="r" b="b"/>
            <a:pathLst>
              <a:path w="1216" h="869">
                <a:moveTo>
                  <a:pt x="14784" y="5482"/>
                </a:moveTo>
                <a:cubicBezTo>
                  <a:pt x="14849" y="5425"/>
                  <a:pt x="14894" y="5387"/>
                  <a:pt x="14982" y="5383"/>
                </a:cubicBezTo>
                <a:cubicBezTo>
                  <a:pt x="15015" y="5382"/>
                  <a:pt x="15126" y="5388"/>
                  <a:pt x="15106" y="5457"/>
                </a:cubicBezTo>
                <a:cubicBezTo>
                  <a:pt x="15076" y="5561"/>
                  <a:pt x="14973" y="5562"/>
                  <a:pt x="14908" y="5631"/>
                </a:cubicBezTo>
                <a:cubicBezTo>
                  <a:pt x="14886" y="5674"/>
                  <a:pt x="14882" y="5686"/>
                  <a:pt x="14858" y="5705"/>
                </a:cubicBezTo>
                <a:cubicBezTo>
                  <a:pt x="14921" y="5743"/>
                  <a:pt x="14983" y="5735"/>
                  <a:pt x="15056" y="5755"/>
                </a:cubicBezTo>
                <a:cubicBezTo>
                  <a:pt x="15134" y="5777"/>
                  <a:pt x="15158" y="5815"/>
                  <a:pt x="15131" y="5879"/>
                </a:cubicBezTo>
                <a:cubicBezTo>
                  <a:pt x="15091" y="5975"/>
                  <a:pt x="14981" y="6055"/>
                  <a:pt x="14908" y="6127"/>
                </a:cubicBezTo>
                <a:cubicBezTo>
                  <a:pt x="14867" y="6168"/>
                  <a:pt x="14845" y="6177"/>
                  <a:pt x="14833" y="6226"/>
                </a:cubicBezTo>
              </a:path>
              <a:path w="1216" h="869">
                <a:moveTo>
                  <a:pt x="15949" y="5606"/>
                </a:moveTo>
                <a:cubicBezTo>
                  <a:pt x="15966" y="5581"/>
                  <a:pt x="15982" y="5556"/>
                  <a:pt x="15999" y="5531"/>
                </a:cubicBezTo>
                <a:cubicBezTo>
                  <a:pt x="15916" y="5497"/>
                  <a:pt x="15865" y="5505"/>
                  <a:pt x="15776" y="5531"/>
                </a:cubicBezTo>
                <a:cubicBezTo>
                  <a:pt x="15710" y="5550"/>
                  <a:pt x="15579" y="5576"/>
                  <a:pt x="15553" y="5655"/>
                </a:cubicBezTo>
                <a:cubicBezTo>
                  <a:pt x="15522" y="5749"/>
                  <a:pt x="15645" y="5789"/>
                  <a:pt x="15701" y="5829"/>
                </a:cubicBezTo>
                <a:cubicBezTo>
                  <a:pt x="15794" y="5895"/>
                  <a:pt x="15878" y="5944"/>
                  <a:pt x="15949" y="6028"/>
                </a:cubicBezTo>
                <a:cubicBezTo>
                  <a:pt x="15993" y="6080"/>
                  <a:pt x="15923" y="6161"/>
                  <a:pt x="15875" y="6201"/>
                </a:cubicBezTo>
                <a:cubicBezTo>
                  <a:pt x="15850" y="6218"/>
                  <a:pt x="15826" y="6234"/>
                  <a:pt x="15801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67320" y="1919160"/>
            <a:ext cx="946440" cy="331920"/>
          </a:xfrm>
          <a:custGeom>
            <a:avLst/>
            <a:gdLst/>
            <a:ahLst/>
            <a:rect l="l" t="t" r="r" b="b"/>
            <a:pathLst>
              <a:path w="2630" h="919">
                <a:moveTo>
                  <a:pt x="17711" y="5904"/>
                </a:moveTo>
                <a:cubicBezTo>
                  <a:pt x="17758" y="5871"/>
                  <a:pt x="17735" y="5925"/>
                  <a:pt x="17735" y="5978"/>
                </a:cubicBezTo>
                <a:cubicBezTo>
                  <a:pt x="17735" y="6050"/>
                  <a:pt x="17702" y="6108"/>
                  <a:pt x="17686" y="6176"/>
                </a:cubicBezTo>
                <a:cubicBezTo>
                  <a:pt x="17686" y="6184"/>
                  <a:pt x="17686" y="6193"/>
                  <a:pt x="17686" y="6201"/>
                </a:cubicBezTo>
                <a:cubicBezTo>
                  <a:pt x="17753" y="6134"/>
                  <a:pt x="17784" y="6074"/>
                  <a:pt x="17835" y="6003"/>
                </a:cubicBezTo>
                <a:cubicBezTo>
                  <a:pt x="17865" y="5960"/>
                  <a:pt x="17891" y="5939"/>
                  <a:pt x="17934" y="5928"/>
                </a:cubicBezTo>
                <a:cubicBezTo>
                  <a:pt x="17934" y="5982"/>
                  <a:pt x="17971" y="6024"/>
                  <a:pt x="17959" y="6077"/>
                </a:cubicBezTo>
                <a:cubicBezTo>
                  <a:pt x="17948" y="6126"/>
                  <a:pt x="17934" y="6148"/>
                  <a:pt x="17934" y="6201"/>
                </a:cubicBezTo>
                <a:cubicBezTo>
                  <a:pt x="17973" y="6191"/>
                  <a:pt x="18033" y="6133"/>
                  <a:pt x="18058" y="6102"/>
                </a:cubicBezTo>
                <a:cubicBezTo>
                  <a:pt x="18092" y="6060"/>
                  <a:pt x="18117" y="6018"/>
                  <a:pt x="18157" y="5978"/>
                </a:cubicBezTo>
                <a:cubicBezTo>
                  <a:pt x="18166" y="6025"/>
                  <a:pt x="18165" y="6109"/>
                  <a:pt x="18182" y="6152"/>
                </a:cubicBezTo>
                <a:cubicBezTo>
                  <a:pt x="18203" y="6206"/>
                  <a:pt x="18310" y="6214"/>
                  <a:pt x="18355" y="6201"/>
                </a:cubicBezTo>
                <a:cubicBezTo>
                  <a:pt x="18406" y="6187"/>
                  <a:pt x="18473" y="6157"/>
                  <a:pt x="18479" y="6102"/>
                </a:cubicBezTo>
                <a:cubicBezTo>
                  <a:pt x="18479" y="6094"/>
                  <a:pt x="18479" y="6085"/>
                  <a:pt x="18479" y="6077"/>
                </a:cubicBezTo>
                <a:cubicBezTo>
                  <a:pt x="18460" y="6082"/>
                  <a:pt x="18393" y="6119"/>
                  <a:pt x="18430" y="6152"/>
                </a:cubicBezTo>
                <a:cubicBezTo>
                  <a:pt x="18474" y="6192"/>
                  <a:pt x="18600" y="6189"/>
                  <a:pt x="18653" y="6176"/>
                </a:cubicBezTo>
                <a:cubicBezTo>
                  <a:pt x="18697" y="6155"/>
                  <a:pt x="18709" y="6152"/>
                  <a:pt x="18728" y="6127"/>
                </a:cubicBezTo>
                <a:cubicBezTo>
                  <a:pt x="18714" y="6069"/>
                  <a:pt x="18661" y="6050"/>
                  <a:pt x="18604" y="6028"/>
                </a:cubicBezTo>
                <a:cubicBezTo>
                  <a:pt x="18543" y="6004"/>
                  <a:pt x="18489" y="5983"/>
                  <a:pt x="18430" y="5953"/>
                </a:cubicBezTo>
              </a:path>
              <a:path w="2630" h="919">
                <a:moveTo>
                  <a:pt x="19075" y="5333"/>
                </a:moveTo>
                <a:cubicBezTo>
                  <a:pt x="19146" y="5345"/>
                  <a:pt x="19124" y="5356"/>
                  <a:pt x="19124" y="5432"/>
                </a:cubicBezTo>
                <a:cubicBezTo>
                  <a:pt x="19124" y="5572"/>
                  <a:pt x="19118" y="5716"/>
                  <a:pt x="19100" y="5854"/>
                </a:cubicBezTo>
                <a:cubicBezTo>
                  <a:pt x="19075" y="5977"/>
                  <a:pt x="19067" y="6018"/>
                  <a:pt x="19075" y="6102"/>
                </a:cubicBezTo>
              </a:path>
              <a:path w="2630" h="919">
                <a:moveTo>
                  <a:pt x="19472" y="6077"/>
                </a:moveTo>
                <a:cubicBezTo>
                  <a:pt x="19472" y="6036"/>
                  <a:pt x="19472" y="6028"/>
                  <a:pt x="19472" y="6003"/>
                </a:cubicBezTo>
                <a:cubicBezTo>
                  <a:pt x="19408" y="6003"/>
                  <a:pt x="19328" y="6015"/>
                  <a:pt x="19273" y="6052"/>
                </a:cubicBezTo>
                <a:cubicBezTo>
                  <a:pt x="19243" y="6072"/>
                  <a:pt x="19156" y="6182"/>
                  <a:pt x="19199" y="6226"/>
                </a:cubicBezTo>
                <a:cubicBezTo>
                  <a:pt x="19252" y="6280"/>
                  <a:pt x="19364" y="6248"/>
                  <a:pt x="19422" y="6226"/>
                </a:cubicBezTo>
                <a:cubicBezTo>
                  <a:pt x="19489" y="6200"/>
                  <a:pt x="19512" y="6150"/>
                  <a:pt x="19546" y="6102"/>
                </a:cubicBezTo>
                <a:cubicBezTo>
                  <a:pt x="19569" y="6079"/>
                  <a:pt x="19580" y="6071"/>
                  <a:pt x="19546" y="6077"/>
                </a:cubicBezTo>
                <a:cubicBezTo>
                  <a:pt x="19478" y="6100"/>
                  <a:pt x="19538" y="6145"/>
                  <a:pt x="19571" y="6176"/>
                </a:cubicBezTo>
                <a:cubicBezTo>
                  <a:pt x="19623" y="6228"/>
                  <a:pt x="19642" y="6245"/>
                  <a:pt x="19695" y="6251"/>
                </a:cubicBezTo>
              </a:path>
              <a:path w="2630" h="919">
                <a:moveTo>
                  <a:pt x="20017" y="6028"/>
                </a:moveTo>
                <a:cubicBezTo>
                  <a:pt x="20004" y="6060"/>
                  <a:pt x="19974" y="6123"/>
                  <a:pt x="19968" y="6152"/>
                </a:cubicBezTo>
                <a:cubicBezTo>
                  <a:pt x="19960" y="6190"/>
                  <a:pt x="19920" y="6258"/>
                  <a:pt x="19943" y="6226"/>
                </a:cubicBezTo>
                <a:cubicBezTo>
                  <a:pt x="19983" y="6169"/>
                  <a:pt x="20009" y="6095"/>
                  <a:pt x="20067" y="6052"/>
                </a:cubicBezTo>
                <a:cubicBezTo>
                  <a:pt x="20121" y="6011"/>
                  <a:pt x="20196" y="5944"/>
                  <a:pt x="20265" y="5928"/>
                </a:cubicBezTo>
                <a:cubicBezTo>
                  <a:pt x="20282" y="5928"/>
                  <a:pt x="20298" y="5928"/>
                  <a:pt x="20315" y="59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4960" y="2419200"/>
            <a:ext cx="7367760" cy="938520"/>
          </a:xfrm>
          <a:custGeom>
            <a:avLst/>
            <a:gdLst/>
            <a:ahLst/>
            <a:rect l="l" t="t" r="r" b="b"/>
            <a:pathLst>
              <a:path w="20465" h="2606">
                <a:moveTo>
                  <a:pt x="2828" y="7938"/>
                </a:moveTo>
                <a:cubicBezTo>
                  <a:pt x="2828" y="8025"/>
                  <a:pt x="2851" y="8098"/>
                  <a:pt x="2853" y="8186"/>
                </a:cubicBezTo>
                <a:cubicBezTo>
                  <a:pt x="2857" y="8363"/>
                  <a:pt x="2841" y="8532"/>
                  <a:pt x="2828" y="8706"/>
                </a:cubicBezTo>
                <a:cubicBezTo>
                  <a:pt x="2821" y="8805"/>
                  <a:pt x="2828" y="8933"/>
                  <a:pt x="2803" y="9029"/>
                </a:cubicBezTo>
                <a:cubicBezTo>
                  <a:pt x="2795" y="9046"/>
                  <a:pt x="2786" y="9062"/>
                  <a:pt x="2778" y="9079"/>
                </a:cubicBezTo>
              </a:path>
              <a:path w="20465" h="2606">
                <a:moveTo>
                  <a:pt x="3200" y="8260"/>
                </a:moveTo>
                <a:cubicBezTo>
                  <a:pt x="3188" y="8306"/>
                  <a:pt x="3152" y="8364"/>
                  <a:pt x="3125" y="8409"/>
                </a:cubicBezTo>
                <a:cubicBezTo>
                  <a:pt x="3064" y="8509"/>
                  <a:pt x="3007" y="8604"/>
                  <a:pt x="2952" y="8706"/>
                </a:cubicBezTo>
                <a:cubicBezTo>
                  <a:pt x="2929" y="8748"/>
                  <a:pt x="2911" y="8785"/>
                  <a:pt x="2902" y="8830"/>
                </a:cubicBezTo>
                <a:cubicBezTo>
                  <a:pt x="2977" y="8868"/>
                  <a:pt x="3037" y="8897"/>
                  <a:pt x="3125" y="8880"/>
                </a:cubicBezTo>
                <a:cubicBezTo>
                  <a:pt x="3206" y="8864"/>
                  <a:pt x="3265" y="8855"/>
                  <a:pt x="3349" y="8855"/>
                </a:cubicBezTo>
              </a:path>
              <a:path w="20465" h="2606">
                <a:moveTo>
                  <a:pt x="3597" y="8682"/>
                </a:moveTo>
                <a:cubicBezTo>
                  <a:pt x="3597" y="8619"/>
                  <a:pt x="3553" y="8790"/>
                  <a:pt x="3547" y="8806"/>
                </a:cubicBezTo>
                <a:cubicBezTo>
                  <a:pt x="3520" y="8884"/>
                  <a:pt x="3497" y="8947"/>
                  <a:pt x="3497" y="9029"/>
                </a:cubicBezTo>
                <a:cubicBezTo>
                  <a:pt x="3574" y="9010"/>
                  <a:pt x="3586" y="8976"/>
                  <a:pt x="3621" y="8905"/>
                </a:cubicBezTo>
                <a:cubicBezTo>
                  <a:pt x="3642" y="8862"/>
                  <a:pt x="3662" y="8826"/>
                  <a:pt x="3671" y="8781"/>
                </a:cubicBezTo>
                <a:cubicBezTo>
                  <a:pt x="3671" y="8895"/>
                  <a:pt x="3679" y="9017"/>
                  <a:pt x="3696" y="9128"/>
                </a:cubicBezTo>
                <a:cubicBezTo>
                  <a:pt x="3710" y="9218"/>
                  <a:pt x="3740" y="9261"/>
                  <a:pt x="3795" y="9327"/>
                </a:cubicBezTo>
              </a:path>
              <a:path w="20465" h="2606">
                <a:moveTo>
                  <a:pt x="1488" y="7268"/>
                </a:moveTo>
                <a:cubicBezTo>
                  <a:pt x="2297" y="7113"/>
                  <a:pt x="3097" y="7042"/>
                  <a:pt x="3919" y="6995"/>
                </a:cubicBezTo>
                <a:cubicBezTo>
                  <a:pt x="4201" y="6979"/>
                  <a:pt x="4480" y="6953"/>
                  <a:pt x="4762" y="6945"/>
                </a:cubicBezTo>
                <a:cubicBezTo>
                  <a:pt x="5025" y="6938"/>
                  <a:pt x="5295" y="6946"/>
                  <a:pt x="5556" y="6970"/>
                </a:cubicBezTo>
                <a:cubicBezTo>
                  <a:pt x="6085" y="7018"/>
                  <a:pt x="6613" y="7041"/>
                  <a:pt x="7144" y="7045"/>
                </a:cubicBezTo>
                <a:cubicBezTo>
                  <a:pt x="8380" y="7054"/>
                  <a:pt x="9609" y="7025"/>
                  <a:pt x="10840" y="6970"/>
                </a:cubicBezTo>
                <a:cubicBezTo>
                  <a:pt x="11195" y="6954"/>
                  <a:pt x="11552" y="6942"/>
                  <a:pt x="11906" y="6921"/>
                </a:cubicBezTo>
                <a:cubicBezTo>
                  <a:pt x="13581" y="6819"/>
                  <a:pt x="15292" y="6848"/>
                  <a:pt x="16966" y="6796"/>
                </a:cubicBezTo>
                <a:cubicBezTo>
                  <a:pt x="17215" y="6788"/>
                  <a:pt x="17462" y="6777"/>
                  <a:pt x="17711" y="6772"/>
                </a:cubicBezTo>
                <a:cubicBezTo>
                  <a:pt x="18299" y="6760"/>
                  <a:pt x="18885" y="6768"/>
                  <a:pt x="19472" y="6747"/>
                </a:cubicBezTo>
                <a:cubicBezTo>
                  <a:pt x="19921" y="6731"/>
                  <a:pt x="20361" y="6748"/>
                  <a:pt x="20811" y="6772"/>
                </a:cubicBezTo>
                <a:cubicBezTo>
                  <a:pt x="21192" y="6792"/>
                  <a:pt x="21570" y="6810"/>
                  <a:pt x="21952" y="6821"/>
                </a:cubicBezTo>
              </a:path>
              <a:path w="20465" h="2606">
                <a:moveTo>
                  <a:pt x="4242" y="8533"/>
                </a:moveTo>
                <a:cubicBezTo>
                  <a:pt x="4325" y="8533"/>
                  <a:pt x="4368" y="8518"/>
                  <a:pt x="4440" y="8508"/>
                </a:cubicBezTo>
              </a:path>
              <a:path w="20465" h="2606">
                <a:moveTo>
                  <a:pt x="4390" y="8880"/>
                </a:moveTo>
                <a:cubicBezTo>
                  <a:pt x="4478" y="8880"/>
                  <a:pt x="4558" y="8890"/>
                  <a:pt x="4638" y="88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87720" y="2901960"/>
            <a:ext cx="866520" cy="428760"/>
          </a:xfrm>
          <a:custGeom>
            <a:avLst/>
            <a:gdLst/>
            <a:ahLst/>
            <a:rect l="l" t="t" r="r" b="b"/>
            <a:pathLst>
              <a:path w="2407" h="1191">
                <a:moveTo>
                  <a:pt x="6127" y="8210"/>
                </a:moveTo>
                <a:cubicBezTo>
                  <a:pt x="6160" y="8308"/>
                  <a:pt x="6152" y="8402"/>
                  <a:pt x="6152" y="8508"/>
                </a:cubicBezTo>
                <a:cubicBezTo>
                  <a:pt x="6152" y="8649"/>
                  <a:pt x="6152" y="8789"/>
                  <a:pt x="6152" y="8930"/>
                </a:cubicBezTo>
              </a:path>
              <a:path w="2407" h="1191">
                <a:moveTo>
                  <a:pt x="6077" y="8657"/>
                </a:moveTo>
                <a:cubicBezTo>
                  <a:pt x="6128" y="8635"/>
                  <a:pt x="6198" y="8614"/>
                  <a:pt x="6251" y="8607"/>
                </a:cubicBezTo>
                <a:cubicBezTo>
                  <a:pt x="6343" y="8595"/>
                  <a:pt x="6411" y="8572"/>
                  <a:pt x="6499" y="8533"/>
                </a:cubicBezTo>
              </a:path>
              <a:path w="2407" h="1191">
                <a:moveTo>
                  <a:pt x="6573" y="8310"/>
                </a:moveTo>
                <a:cubicBezTo>
                  <a:pt x="6502" y="8350"/>
                  <a:pt x="6478" y="8372"/>
                  <a:pt x="6474" y="8458"/>
                </a:cubicBezTo>
                <a:cubicBezTo>
                  <a:pt x="6469" y="8566"/>
                  <a:pt x="6465" y="8677"/>
                  <a:pt x="6499" y="8781"/>
                </a:cubicBezTo>
                <a:cubicBezTo>
                  <a:pt x="6507" y="8797"/>
                  <a:pt x="6516" y="8814"/>
                  <a:pt x="6524" y="8830"/>
                </a:cubicBezTo>
              </a:path>
              <a:path w="2407" h="1191">
                <a:moveTo>
                  <a:pt x="6871" y="8384"/>
                </a:moveTo>
                <a:cubicBezTo>
                  <a:pt x="6917" y="8460"/>
                  <a:pt x="6874" y="8523"/>
                  <a:pt x="6846" y="8607"/>
                </a:cubicBezTo>
                <a:cubicBezTo>
                  <a:pt x="6818" y="8692"/>
                  <a:pt x="6821" y="8767"/>
                  <a:pt x="6821" y="8855"/>
                </a:cubicBezTo>
                <a:cubicBezTo>
                  <a:pt x="6869" y="8824"/>
                  <a:pt x="6858" y="8726"/>
                  <a:pt x="6871" y="8657"/>
                </a:cubicBezTo>
                <a:cubicBezTo>
                  <a:pt x="6888" y="8569"/>
                  <a:pt x="6896" y="8498"/>
                  <a:pt x="6896" y="8409"/>
                </a:cubicBezTo>
                <a:cubicBezTo>
                  <a:pt x="6905" y="8490"/>
                  <a:pt x="6924" y="8611"/>
                  <a:pt x="6970" y="8682"/>
                </a:cubicBezTo>
                <a:cubicBezTo>
                  <a:pt x="7019" y="8759"/>
                  <a:pt x="7144" y="8786"/>
                  <a:pt x="7218" y="8731"/>
                </a:cubicBezTo>
                <a:cubicBezTo>
                  <a:pt x="7319" y="8656"/>
                  <a:pt x="7360" y="8526"/>
                  <a:pt x="7367" y="8409"/>
                </a:cubicBezTo>
                <a:cubicBezTo>
                  <a:pt x="7376" y="8258"/>
                  <a:pt x="7348" y="8213"/>
                  <a:pt x="7293" y="8086"/>
                </a:cubicBezTo>
                <a:cubicBezTo>
                  <a:pt x="7293" y="8062"/>
                  <a:pt x="7293" y="8054"/>
                  <a:pt x="7268" y="8062"/>
                </a:cubicBezTo>
              </a:path>
              <a:path w="2407" h="1191">
                <a:moveTo>
                  <a:pt x="7516" y="8235"/>
                </a:moveTo>
                <a:cubicBezTo>
                  <a:pt x="7549" y="8358"/>
                  <a:pt x="7578" y="8481"/>
                  <a:pt x="7590" y="8607"/>
                </a:cubicBezTo>
                <a:cubicBezTo>
                  <a:pt x="7600" y="8705"/>
                  <a:pt x="7619" y="8742"/>
                  <a:pt x="7714" y="8756"/>
                </a:cubicBezTo>
                <a:cubicBezTo>
                  <a:pt x="7776" y="8658"/>
                  <a:pt x="7809" y="8606"/>
                  <a:pt x="7813" y="8483"/>
                </a:cubicBezTo>
                <a:cubicBezTo>
                  <a:pt x="7816" y="8373"/>
                  <a:pt x="7832" y="8170"/>
                  <a:pt x="7739" y="8086"/>
                </a:cubicBezTo>
                <a:cubicBezTo>
                  <a:pt x="7633" y="7990"/>
                  <a:pt x="7574" y="8112"/>
                  <a:pt x="7541" y="8186"/>
                </a:cubicBezTo>
              </a:path>
              <a:path w="2407" h="1191">
                <a:moveTo>
                  <a:pt x="8136" y="8756"/>
                </a:moveTo>
                <a:cubicBezTo>
                  <a:pt x="8165" y="8749"/>
                  <a:pt x="8181" y="8739"/>
                  <a:pt x="8210" y="8731"/>
                </a:cubicBezTo>
                <a:cubicBezTo>
                  <a:pt x="8238" y="8777"/>
                  <a:pt x="8248" y="8845"/>
                  <a:pt x="8235" y="8905"/>
                </a:cubicBezTo>
                <a:cubicBezTo>
                  <a:pt x="8212" y="9009"/>
                  <a:pt x="8126" y="9119"/>
                  <a:pt x="8062" y="9203"/>
                </a:cubicBezTo>
                <a:cubicBezTo>
                  <a:pt x="8039" y="9225"/>
                  <a:pt x="8031" y="9230"/>
                  <a:pt x="8037" y="9252"/>
                </a:cubicBezTo>
                <a:cubicBezTo>
                  <a:pt x="8129" y="9206"/>
                  <a:pt x="8214" y="9138"/>
                  <a:pt x="8310" y="9103"/>
                </a:cubicBezTo>
                <a:cubicBezTo>
                  <a:pt x="8405" y="9080"/>
                  <a:pt x="8434" y="9074"/>
                  <a:pt x="8483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87800" y="2973240"/>
            <a:ext cx="152280" cy="125640"/>
          </a:xfrm>
          <a:custGeom>
            <a:avLst/>
            <a:gdLst/>
            <a:ahLst/>
            <a:rect l="l" t="t" r="r" b="b"/>
            <a:pathLst>
              <a:path w="423" h="348">
                <a:moveTo>
                  <a:pt x="8855" y="8260"/>
                </a:moveTo>
                <a:cubicBezTo>
                  <a:pt x="8946" y="8260"/>
                  <a:pt x="9037" y="8260"/>
                  <a:pt x="9128" y="8260"/>
                </a:cubicBezTo>
              </a:path>
              <a:path w="423" h="348">
                <a:moveTo>
                  <a:pt x="8979" y="8533"/>
                </a:moveTo>
                <a:cubicBezTo>
                  <a:pt x="8971" y="8558"/>
                  <a:pt x="8962" y="8582"/>
                  <a:pt x="8954" y="8607"/>
                </a:cubicBezTo>
                <a:cubicBezTo>
                  <a:pt x="9027" y="8607"/>
                  <a:pt x="9085" y="8593"/>
                  <a:pt x="9153" y="8582"/>
                </a:cubicBezTo>
                <a:cubicBezTo>
                  <a:pt x="9197" y="8575"/>
                  <a:pt x="9234" y="8566"/>
                  <a:pt x="9277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57760" y="2901960"/>
            <a:ext cx="758520" cy="366840"/>
          </a:xfrm>
          <a:custGeom>
            <a:avLst/>
            <a:gdLst/>
            <a:ahLst/>
            <a:rect l="l" t="t" r="r" b="b"/>
            <a:pathLst>
              <a:path w="2109" h="1018">
                <a:moveTo>
                  <a:pt x="10964" y="8111"/>
                </a:moveTo>
                <a:cubicBezTo>
                  <a:pt x="10964" y="8095"/>
                  <a:pt x="10964" y="8078"/>
                  <a:pt x="10964" y="8062"/>
                </a:cubicBezTo>
                <a:cubicBezTo>
                  <a:pt x="10891" y="8085"/>
                  <a:pt x="10892" y="8216"/>
                  <a:pt x="10864" y="8285"/>
                </a:cubicBezTo>
                <a:cubicBezTo>
                  <a:pt x="10775" y="8499"/>
                  <a:pt x="10695" y="8690"/>
                  <a:pt x="10716" y="8930"/>
                </a:cubicBezTo>
                <a:cubicBezTo>
                  <a:pt x="10728" y="9065"/>
                  <a:pt x="10817" y="9123"/>
                  <a:pt x="10939" y="9054"/>
                </a:cubicBezTo>
                <a:cubicBezTo>
                  <a:pt x="11028" y="9004"/>
                  <a:pt x="11155" y="8898"/>
                  <a:pt x="11137" y="8781"/>
                </a:cubicBezTo>
                <a:cubicBezTo>
                  <a:pt x="11125" y="8700"/>
                  <a:pt x="11012" y="8721"/>
                  <a:pt x="10964" y="8756"/>
                </a:cubicBezTo>
                <a:cubicBezTo>
                  <a:pt x="10881" y="8816"/>
                  <a:pt x="10864" y="8858"/>
                  <a:pt x="10864" y="8954"/>
                </a:cubicBezTo>
              </a:path>
              <a:path w="2109" h="1018">
                <a:moveTo>
                  <a:pt x="11361" y="8930"/>
                </a:moveTo>
                <a:cubicBezTo>
                  <a:pt x="11403" y="8930"/>
                  <a:pt x="11398" y="8940"/>
                  <a:pt x="11410" y="8905"/>
                </a:cubicBezTo>
              </a:path>
              <a:path w="2109" h="1018">
                <a:moveTo>
                  <a:pt x="11807" y="8458"/>
                </a:moveTo>
                <a:cubicBezTo>
                  <a:pt x="11815" y="8442"/>
                  <a:pt x="11824" y="8425"/>
                  <a:pt x="11832" y="8409"/>
                </a:cubicBezTo>
                <a:cubicBezTo>
                  <a:pt x="11779" y="8435"/>
                  <a:pt x="11730" y="8545"/>
                  <a:pt x="11708" y="8607"/>
                </a:cubicBezTo>
                <a:cubicBezTo>
                  <a:pt x="11677" y="8695"/>
                  <a:pt x="11652" y="8849"/>
                  <a:pt x="11757" y="8905"/>
                </a:cubicBezTo>
                <a:cubicBezTo>
                  <a:pt x="11846" y="8952"/>
                  <a:pt x="11951" y="8817"/>
                  <a:pt x="11981" y="8756"/>
                </a:cubicBezTo>
                <a:cubicBezTo>
                  <a:pt x="12023" y="8671"/>
                  <a:pt x="12013" y="8560"/>
                  <a:pt x="11956" y="8483"/>
                </a:cubicBezTo>
                <a:cubicBezTo>
                  <a:pt x="11917" y="8431"/>
                  <a:pt x="11891" y="8409"/>
                  <a:pt x="11832" y="8409"/>
                </a:cubicBezTo>
              </a:path>
              <a:path w="2109" h="1018">
                <a:moveTo>
                  <a:pt x="12427" y="8434"/>
                </a:moveTo>
                <a:cubicBezTo>
                  <a:pt x="12460" y="8554"/>
                  <a:pt x="12421" y="8569"/>
                  <a:pt x="12402" y="8682"/>
                </a:cubicBezTo>
                <a:cubicBezTo>
                  <a:pt x="12391" y="8748"/>
                  <a:pt x="12379" y="8857"/>
                  <a:pt x="12452" y="8880"/>
                </a:cubicBezTo>
                <a:cubicBezTo>
                  <a:pt x="12505" y="8896"/>
                  <a:pt x="12555" y="8872"/>
                  <a:pt x="12601" y="8855"/>
                </a:cubicBezTo>
              </a:path>
              <a:path w="2109" h="1018">
                <a:moveTo>
                  <a:pt x="12378" y="8682"/>
                </a:moveTo>
                <a:cubicBezTo>
                  <a:pt x="12337" y="8698"/>
                  <a:pt x="12295" y="8715"/>
                  <a:pt x="12254" y="8731"/>
                </a:cubicBezTo>
                <a:cubicBezTo>
                  <a:pt x="12327" y="8672"/>
                  <a:pt x="12419" y="8654"/>
                  <a:pt x="12502" y="8607"/>
                </a:cubicBezTo>
                <a:cubicBezTo>
                  <a:pt x="12527" y="8591"/>
                  <a:pt x="12551" y="8574"/>
                  <a:pt x="12576" y="8558"/>
                </a:cubicBezTo>
              </a:path>
              <a:path w="2109" h="1018">
                <a:moveTo>
                  <a:pt x="12452" y="8384"/>
                </a:moveTo>
                <a:cubicBezTo>
                  <a:pt x="12530" y="8345"/>
                  <a:pt x="12592" y="8335"/>
                  <a:pt x="12675" y="8310"/>
                </a:cubicBezTo>
                <a:cubicBezTo>
                  <a:pt x="12750" y="8285"/>
                  <a:pt x="12774" y="8277"/>
                  <a:pt x="12824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49840" y="3054240"/>
            <a:ext cx="81000" cy="34920"/>
          </a:xfrm>
          <a:custGeom>
            <a:avLst/>
            <a:gdLst/>
            <a:ahLst/>
            <a:rect l="l" t="t" r="r" b="b"/>
            <a:pathLst>
              <a:path w="224" h="100">
                <a:moveTo>
                  <a:pt x="13196" y="8558"/>
                </a:moveTo>
                <a:cubicBezTo>
                  <a:pt x="13283" y="8579"/>
                  <a:pt x="13291" y="8550"/>
                  <a:pt x="13370" y="8508"/>
                </a:cubicBezTo>
                <a:cubicBezTo>
                  <a:pt x="13386" y="8500"/>
                  <a:pt x="13403" y="8491"/>
                  <a:pt x="13419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27760" y="2928960"/>
            <a:ext cx="179280" cy="258840"/>
          </a:xfrm>
          <a:custGeom>
            <a:avLst/>
            <a:gdLst/>
            <a:ahLst/>
            <a:rect l="l" t="t" r="r" b="b"/>
            <a:pathLst>
              <a:path w="497" h="720">
                <a:moveTo>
                  <a:pt x="14015" y="8260"/>
                </a:moveTo>
                <a:cubicBezTo>
                  <a:pt x="13966" y="8309"/>
                  <a:pt x="13965" y="8314"/>
                  <a:pt x="13965" y="8384"/>
                </a:cubicBezTo>
                <a:cubicBezTo>
                  <a:pt x="13965" y="8448"/>
                  <a:pt x="13972" y="8454"/>
                  <a:pt x="14039" y="8458"/>
                </a:cubicBezTo>
                <a:cubicBezTo>
                  <a:pt x="14136" y="8464"/>
                  <a:pt x="14198" y="8441"/>
                  <a:pt x="14288" y="8409"/>
                </a:cubicBezTo>
              </a:path>
              <a:path w="497" h="720">
                <a:moveTo>
                  <a:pt x="14461" y="8136"/>
                </a:moveTo>
                <a:cubicBezTo>
                  <a:pt x="14424" y="8141"/>
                  <a:pt x="14336" y="8172"/>
                  <a:pt x="14312" y="8210"/>
                </a:cubicBezTo>
                <a:cubicBezTo>
                  <a:pt x="14245" y="8317"/>
                  <a:pt x="14215" y="8488"/>
                  <a:pt x="14188" y="8607"/>
                </a:cubicBezTo>
                <a:cubicBezTo>
                  <a:pt x="14163" y="8731"/>
                  <a:pt x="14155" y="8772"/>
                  <a:pt x="14139" y="88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49920" y="3946680"/>
            <a:ext cx="46080" cy="80640"/>
          </a:xfrm>
          <a:custGeom>
            <a:avLst/>
            <a:gdLst/>
            <a:ahLst/>
            <a:rect l="l" t="t" r="r" b="b"/>
            <a:pathLst>
              <a:path w="125" h="224">
                <a:moveTo>
                  <a:pt x="16024" y="10964"/>
                </a:moveTo>
                <a:cubicBezTo>
                  <a:pt x="16013" y="11005"/>
                  <a:pt x="15954" y="11146"/>
                  <a:pt x="15974" y="11187"/>
                </a:cubicBezTo>
                <a:cubicBezTo>
                  <a:pt x="15991" y="11222"/>
                  <a:pt x="16097" y="11115"/>
                  <a:pt x="16098" y="11112"/>
                </a:cubicBezTo>
                <a:cubicBezTo>
                  <a:pt x="16098" y="11096"/>
                  <a:pt x="16098" y="11079"/>
                  <a:pt x="16098" y="11063"/>
                </a:cubicBezTo>
                <a:cubicBezTo>
                  <a:pt x="16050" y="11075"/>
                  <a:pt x="16017" y="11110"/>
                  <a:pt x="15999" y="11162"/>
                </a:cubicBezTo>
                <a:cubicBezTo>
                  <a:pt x="15999" y="11170"/>
                  <a:pt x="15999" y="11179"/>
                  <a:pt x="15999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6200" y="3840120"/>
            <a:ext cx="125640" cy="18720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16669" y="10666"/>
                </a:moveTo>
                <a:cubicBezTo>
                  <a:pt x="16596" y="10684"/>
                  <a:pt x="16589" y="10771"/>
                  <a:pt x="16570" y="10840"/>
                </a:cubicBezTo>
                <a:cubicBezTo>
                  <a:pt x="16543" y="10938"/>
                  <a:pt x="16500" y="11124"/>
                  <a:pt x="16619" y="11187"/>
                </a:cubicBezTo>
                <a:cubicBezTo>
                  <a:pt x="16708" y="11234"/>
                  <a:pt x="16834" y="11100"/>
                  <a:pt x="16867" y="11038"/>
                </a:cubicBezTo>
                <a:cubicBezTo>
                  <a:pt x="16931" y="10919"/>
                  <a:pt x="16892" y="10865"/>
                  <a:pt x="16793" y="10815"/>
                </a:cubicBezTo>
                <a:cubicBezTo>
                  <a:pt x="16732" y="10784"/>
                  <a:pt x="16650" y="10769"/>
                  <a:pt x="16619" y="108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15040" y="3795840"/>
            <a:ext cx="1063800" cy="222120"/>
          </a:xfrm>
          <a:custGeom>
            <a:avLst/>
            <a:gdLst/>
            <a:ahLst/>
            <a:rect l="l" t="t" r="r" b="b"/>
            <a:pathLst>
              <a:path w="2953" h="621">
                <a:moveTo>
                  <a:pt x="17289" y="10567"/>
                </a:moveTo>
                <a:cubicBezTo>
                  <a:pt x="17289" y="10663"/>
                  <a:pt x="17273" y="10746"/>
                  <a:pt x="17264" y="10840"/>
                </a:cubicBezTo>
                <a:cubicBezTo>
                  <a:pt x="17257" y="10913"/>
                  <a:pt x="17264" y="10990"/>
                  <a:pt x="17264" y="11063"/>
                </a:cubicBezTo>
              </a:path>
              <a:path w="2953" h="621">
                <a:moveTo>
                  <a:pt x="17661" y="10691"/>
                </a:moveTo>
                <a:cubicBezTo>
                  <a:pt x="17661" y="10640"/>
                  <a:pt x="17603" y="10754"/>
                  <a:pt x="17587" y="10790"/>
                </a:cubicBezTo>
                <a:cubicBezTo>
                  <a:pt x="17558" y="10858"/>
                  <a:pt x="17525" y="10995"/>
                  <a:pt x="17611" y="11038"/>
                </a:cubicBezTo>
                <a:cubicBezTo>
                  <a:pt x="17678" y="11072"/>
                  <a:pt x="17772" y="11014"/>
                  <a:pt x="17810" y="10964"/>
                </a:cubicBezTo>
                <a:cubicBezTo>
                  <a:pt x="17852" y="10909"/>
                  <a:pt x="17881" y="10854"/>
                  <a:pt x="17835" y="10790"/>
                </a:cubicBezTo>
                <a:cubicBezTo>
                  <a:pt x="17799" y="10740"/>
                  <a:pt x="17669" y="10711"/>
                  <a:pt x="17711" y="10666"/>
                </a:cubicBezTo>
                <a:cubicBezTo>
                  <a:pt x="17719" y="10666"/>
                  <a:pt x="17727" y="10666"/>
                  <a:pt x="17735" y="10666"/>
                </a:cubicBezTo>
              </a:path>
              <a:path w="2953" h="621">
                <a:moveTo>
                  <a:pt x="18157" y="10666"/>
                </a:moveTo>
                <a:cubicBezTo>
                  <a:pt x="18170" y="10656"/>
                  <a:pt x="18234" y="10616"/>
                  <a:pt x="18256" y="10641"/>
                </a:cubicBezTo>
                <a:cubicBezTo>
                  <a:pt x="18299" y="10689"/>
                  <a:pt x="18342" y="10801"/>
                  <a:pt x="18331" y="10864"/>
                </a:cubicBezTo>
                <a:cubicBezTo>
                  <a:pt x="18316" y="10956"/>
                  <a:pt x="18270" y="11010"/>
                  <a:pt x="18207" y="11063"/>
                </a:cubicBezTo>
                <a:cubicBezTo>
                  <a:pt x="18184" y="11086"/>
                  <a:pt x="18180" y="11094"/>
                  <a:pt x="18157" y="11088"/>
                </a:cubicBezTo>
                <a:cubicBezTo>
                  <a:pt x="18157" y="11039"/>
                  <a:pt x="18152" y="11009"/>
                  <a:pt x="18182" y="10964"/>
                </a:cubicBezTo>
                <a:cubicBezTo>
                  <a:pt x="18210" y="10922"/>
                  <a:pt x="18263" y="10939"/>
                  <a:pt x="18306" y="10939"/>
                </a:cubicBezTo>
                <a:cubicBezTo>
                  <a:pt x="18369" y="10939"/>
                  <a:pt x="18376" y="10975"/>
                  <a:pt x="18430" y="10988"/>
                </a:cubicBezTo>
              </a:path>
              <a:path w="2953" h="621">
                <a:moveTo>
                  <a:pt x="18876" y="10641"/>
                </a:moveTo>
                <a:cubicBezTo>
                  <a:pt x="18911" y="10615"/>
                  <a:pt x="18938" y="10608"/>
                  <a:pt x="18976" y="10592"/>
                </a:cubicBezTo>
                <a:cubicBezTo>
                  <a:pt x="19023" y="10572"/>
                  <a:pt x="19073" y="10547"/>
                  <a:pt x="19124" y="10542"/>
                </a:cubicBezTo>
                <a:cubicBezTo>
                  <a:pt x="19132" y="10542"/>
                  <a:pt x="19141" y="10542"/>
                  <a:pt x="19149" y="10542"/>
                </a:cubicBezTo>
              </a:path>
              <a:path w="2953" h="621">
                <a:moveTo>
                  <a:pt x="18951" y="10616"/>
                </a:moveTo>
                <a:cubicBezTo>
                  <a:pt x="18903" y="10636"/>
                  <a:pt x="18758" y="10672"/>
                  <a:pt x="18728" y="10740"/>
                </a:cubicBezTo>
                <a:cubicBezTo>
                  <a:pt x="18702" y="10800"/>
                  <a:pt x="18762" y="10840"/>
                  <a:pt x="18802" y="10864"/>
                </a:cubicBezTo>
                <a:cubicBezTo>
                  <a:pt x="18843" y="10888"/>
                  <a:pt x="18919" y="10923"/>
                  <a:pt x="18901" y="10988"/>
                </a:cubicBezTo>
                <a:cubicBezTo>
                  <a:pt x="18880" y="11065"/>
                  <a:pt x="18807" y="11094"/>
                  <a:pt x="18752" y="11137"/>
                </a:cubicBezTo>
                <a:cubicBezTo>
                  <a:pt x="18730" y="11160"/>
                  <a:pt x="18725" y="11168"/>
                  <a:pt x="18703" y="11162"/>
                </a:cubicBezTo>
              </a:path>
              <a:path w="2953" h="621">
                <a:moveTo>
                  <a:pt x="19323" y="10914"/>
                </a:moveTo>
                <a:cubicBezTo>
                  <a:pt x="19378" y="10932"/>
                  <a:pt x="19336" y="10949"/>
                  <a:pt x="19323" y="10988"/>
                </a:cubicBezTo>
                <a:cubicBezTo>
                  <a:pt x="19323" y="11013"/>
                  <a:pt x="19323" y="11021"/>
                  <a:pt x="19323" y="11038"/>
                </a:cubicBezTo>
                <a:cubicBezTo>
                  <a:pt x="19372" y="10988"/>
                  <a:pt x="19423" y="10939"/>
                  <a:pt x="19472" y="10889"/>
                </a:cubicBezTo>
                <a:cubicBezTo>
                  <a:pt x="19516" y="10845"/>
                  <a:pt x="19533" y="10815"/>
                  <a:pt x="19596" y="10815"/>
                </a:cubicBezTo>
                <a:cubicBezTo>
                  <a:pt x="19596" y="10873"/>
                  <a:pt x="19587" y="10918"/>
                  <a:pt x="19621" y="10964"/>
                </a:cubicBezTo>
                <a:cubicBezTo>
                  <a:pt x="19658" y="10954"/>
                  <a:pt x="19690" y="10941"/>
                  <a:pt x="19720" y="10914"/>
                </a:cubicBezTo>
                <a:cubicBezTo>
                  <a:pt x="19742" y="10892"/>
                  <a:pt x="19747" y="10883"/>
                  <a:pt x="19769" y="10889"/>
                </a:cubicBezTo>
                <a:cubicBezTo>
                  <a:pt x="19769" y="10956"/>
                  <a:pt x="19772" y="10986"/>
                  <a:pt x="19819" y="11038"/>
                </a:cubicBezTo>
                <a:cubicBezTo>
                  <a:pt x="19857" y="11080"/>
                  <a:pt x="19902" y="11071"/>
                  <a:pt x="19943" y="11038"/>
                </a:cubicBezTo>
                <a:cubicBezTo>
                  <a:pt x="19993" y="10998"/>
                  <a:pt x="19993" y="10975"/>
                  <a:pt x="19993" y="10914"/>
                </a:cubicBezTo>
                <a:cubicBezTo>
                  <a:pt x="19993" y="10888"/>
                  <a:pt x="19955" y="10796"/>
                  <a:pt x="19918" y="10840"/>
                </a:cubicBezTo>
                <a:cubicBezTo>
                  <a:pt x="19918" y="10848"/>
                  <a:pt x="19918" y="10856"/>
                  <a:pt x="19918" y="10864"/>
                </a:cubicBezTo>
              </a:path>
              <a:path w="2953" h="621">
                <a:moveTo>
                  <a:pt x="20216" y="10641"/>
                </a:moveTo>
                <a:cubicBezTo>
                  <a:pt x="20191" y="10682"/>
                  <a:pt x="20174" y="10762"/>
                  <a:pt x="20166" y="10815"/>
                </a:cubicBezTo>
                <a:cubicBezTo>
                  <a:pt x="20156" y="10882"/>
                  <a:pt x="20167" y="10954"/>
                  <a:pt x="20191" y="11013"/>
                </a:cubicBezTo>
                <a:cubicBezTo>
                  <a:pt x="20199" y="11030"/>
                  <a:pt x="20208" y="11046"/>
                  <a:pt x="20216" y="110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73960" y="3241800"/>
            <a:ext cx="125280" cy="750600"/>
          </a:xfrm>
          <a:custGeom>
            <a:avLst/>
            <a:gdLst/>
            <a:ahLst/>
            <a:rect l="l" t="t" r="r" b="b"/>
            <a:pathLst>
              <a:path w="348" h="2085">
                <a:moveTo>
                  <a:pt x="20762" y="9004"/>
                </a:moveTo>
                <a:cubicBezTo>
                  <a:pt x="20923" y="9187"/>
                  <a:pt x="21009" y="9379"/>
                  <a:pt x="21059" y="9624"/>
                </a:cubicBezTo>
                <a:cubicBezTo>
                  <a:pt x="21117" y="9912"/>
                  <a:pt x="21114" y="10204"/>
                  <a:pt x="21059" y="10492"/>
                </a:cubicBezTo>
                <a:cubicBezTo>
                  <a:pt x="21020" y="10699"/>
                  <a:pt x="20945" y="10896"/>
                  <a:pt x="20861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01840" y="3554280"/>
            <a:ext cx="403200" cy="517680"/>
          </a:xfrm>
          <a:custGeom>
            <a:avLst/>
            <a:gdLst/>
            <a:ahLst/>
            <a:rect l="l" t="t" r="r" b="b"/>
            <a:pathLst>
              <a:path w="1118" h="1440">
                <a:moveTo>
                  <a:pt x="3944" y="10616"/>
                </a:moveTo>
                <a:cubicBezTo>
                  <a:pt x="3944" y="10545"/>
                  <a:pt x="3944" y="10739"/>
                  <a:pt x="3944" y="10740"/>
                </a:cubicBezTo>
                <a:cubicBezTo>
                  <a:pt x="3944" y="10883"/>
                  <a:pt x="3907" y="11021"/>
                  <a:pt x="3894" y="11162"/>
                </a:cubicBezTo>
                <a:cubicBezTo>
                  <a:pt x="3889" y="11215"/>
                  <a:pt x="3875" y="11296"/>
                  <a:pt x="3919" y="11311"/>
                </a:cubicBezTo>
                <a:cubicBezTo>
                  <a:pt x="3974" y="11132"/>
                  <a:pt x="3988" y="10942"/>
                  <a:pt x="4043" y="10765"/>
                </a:cubicBezTo>
                <a:cubicBezTo>
                  <a:pt x="4072" y="10673"/>
                  <a:pt x="4108" y="10523"/>
                  <a:pt x="4217" y="10492"/>
                </a:cubicBezTo>
                <a:cubicBezTo>
                  <a:pt x="4258" y="10492"/>
                  <a:pt x="4266" y="10492"/>
                  <a:pt x="4291" y="10492"/>
                </a:cubicBezTo>
                <a:cubicBezTo>
                  <a:pt x="4291" y="10589"/>
                  <a:pt x="4293" y="10630"/>
                  <a:pt x="4242" y="10716"/>
                </a:cubicBezTo>
                <a:cubicBezTo>
                  <a:pt x="4203" y="10782"/>
                  <a:pt x="4118" y="10890"/>
                  <a:pt x="4043" y="10914"/>
                </a:cubicBezTo>
                <a:cubicBezTo>
                  <a:pt x="4002" y="10914"/>
                  <a:pt x="3986" y="10922"/>
                  <a:pt x="3994" y="10889"/>
                </a:cubicBezTo>
              </a:path>
              <a:path w="1118" h="1440">
                <a:moveTo>
                  <a:pt x="4564" y="9897"/>
                </a:moveTo>
                <a:cubicBezTo>
                  <a:pt x="4589" y="9889"/>
                  <a:pt x="4613" y="9880"/>
                  <a:pt x="4638" y="9872"/>
                </a:cubicBezTo>
                <a:cubicBezTo>
                  <a:pt x="4638" y="9992"/>
                  <a:pt x="4622" y="10102"/>
                  <a:pt x="4614" y="10220"/>
                </a:cubicBezTo>
                <a:cubicBezTo>
                  <a:pt x="4606" y="10334"/>
                  <a:pt x="4614" y="10453"/>
                  <a:pt x="4614" y="10567"/>
                </a:cubicBezTo>
              </a:path>
              <a:path w="1118" h="1440">
                <a:moveTo>
                  <a:pt x="4688" y="10418"/>
                </a:moveTo>
                <a:cubicBezTo>
                  <a:pt x="4737" y="10418"/>
                  <a:pt x="4772" y="10401"/>
                  <a:pt x="4812" y="10368"/>
                </a:cubicBezTo>
                <a:cubicBezTo>
                  <a:pt x="4892" y="10303"/>
                  <a:pt x="4926" y="10222"/>
                  <a:pt x="4986" y="10145"/>
                </a:cubicBezTo>
              </a:path>
              <a:path w="1118" h="1440">
                <a:moveTo>
                  <a:pt x="5011" y="9971"/>
                </a:moveTo>
                <a:cubicBezTo>
                  <a:pt x="5011" y="9946"/>
                  <a:pt x="5011" y="9922"/>
                  <a:pt x="5011" y="9897"/>
                </a:cubicBezTo>
                <a:cubicBezTo>
                  <a:pt x="4967" y="9912"/>
                  <a:pt x="4942" y="10017"/>
                  <a:pt x="4936" y="10071"/>
                </a:cubicBezTo>
                <a:cubicBezTo>
                  <a:pt x="4911" y="10279"/>
                  <a:pt x="4930" y="10511"/>
                  <a:pt x="4961" y="107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17800" y="3697200"/>
            <a:ext cx="117360" cy="133560"/>
          </a:xfrm>
          <a:custGeom>
            <a:avLst/>
            <a:gdLst/>
            <a:ahLst/>
            <a:rect l="l" t="t" r="r" b="b"/>
            <a:pathLst>
              <a:path w="323" h="373">
                <a:moveTo>
                  <a:pt x="5606" y="10294"/>
                </a:moveTo>
                <a:cubicBezTo>
                  <a:pt x="5668" y="10294"/>
                  <a:pt x="5696" y="10284"/>
                  <a:pt x="5755" y="10269"/>
                </a:cubicBezTo>
                <a:cubicBezTo>
                  <a:pt x="5779" y="10269"/>
                  <a:pt x="5788" y="10269"/>
                  <a:pt x="5804" y="10269"/>
                </a:cubicBezTo>
              </a:path>
              <a:path w="323" h="373">
                <a:moveTo>
                  <a:pt x="5680" y="10592"/>
                </a:moveTo>
                <a:cubicBezTo>
                  <a:pt x="5672" y="10608"/>
                  <a:pt x="5663" y="10625"/>
                  <a:pt x="5655" y="10641"/>
                </a:cubicBezTo>
                <a:cubicBezTo>
                  <a:pt x="5709" y="10630"/>
                  <a:pt x="5776" y="10613"/>
                  <a:pt x="5829" y="10592"/>
                </a:cubicBezTo>
                <a:cubicBezTo>
                  <a:pt x="5879" y="10567"/>
                  <a:pt x="5895" y="10559"/>
                  <a:pt x="5928" y="105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94000" y="3732120"/>
            <a:ext cx="133200" cy="19080"/>
          </a:xfrm>
          <a:custGeom>
            <a:avLst/>
            <a:gdLst/>
            <a:ahLst/>
            <a:rect l="l" t="t" r="r" b="b"/>
            <a:pathLst>
              <a:path w="373" h="51">
                <a:moveTo>
                  <a:pt x="6648" y="10418"/>
                </a:moveTo>
                <a:cubicBezTo>
                  <a:pt x="6708" y="10418"/>
                  <a:pt x="6765" y="10408"/>
                  <a:pt x="6821" y="10393"/>
                </a:cubicBezTo>
                <a:cubicBezTo>
                  <a:pt x="6901" y="10372"/>
                  <a:pt x="6937" y="10368"/>
                  <a:pt x="7020" y="103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32040" y="3527280"/>
            <a:ext cx="260280" cy="500040"/>
          </a:xfrm>
          <a:custGeom>
            <a:avLst/>
            <a:gdLst/>
            <a:ahLst/>
            <a:rect l="l" t="t" r="r" b="b"/>
            <a:pathLst>
              <a:path w="721" h="1390">
                <a:moveTo>
                  <a:pt x="7615" y="9798"/>
                </a:moveTo>
                <a:cubicBezTo>
                  <a:pt x="7615" y="9934"/>
                  <a:pt x="7599" y="10061"/>
                  <a:pt x="7590" y="10195"/>
                </a:cubicBezTo>
                <a:cubicBezTo>
                  <a:pt x="7580" y="10334"/>
                  <a:pt x="7590" y="10477"/>
                  <a:pt x="7590" y="10616"/>
                </a:cubicBezTo>
              </a:path>
              <a:path w="721" h="1390">
                <a:moveTo>
                  <a:pt x="7863" y="10368"/>
                </a:moveTo>
                <a:cubicBezTo>
                  <a:pt x="7829" y="10413"/>
                  <a:pt x="7818" y="10457"/>
                  <a:pt x="7813" y="10517"/>
                </a:cubicBezTo>
                <a:cubicBezTo>
                  <a:pt x="7813" y="10525"/>
                  <a:pt x="7813" y="10534"/>
                  <a:pt x="7813" y="10542"/>
                </a:cubicBezTo>
                <a:cubicBezTo>
                  <a:pt x="7871" y="10542"/>
                  <a:pt x="7966" y="10532"/>
                  <a:pt x="8012" y="10492"/>
                </a:cubicBezTo>
                <a:cubicBezTo>
                  <a:pt x="8056" y="10454"/>
                  <a:pt x="8073" y="10408"/>
                  <a:pt x="8037" y="10368"/>
                </a:cubicBezTo>
                <a:cubicBezTo>
                  <a:pt x="7998" y="10325"/>
                  <a:pt x="7918" y="10344"/>
                  <a:pt x="7863" y="10344"/>
                </a:cubicBezTo>
                <a:cubicBezTo>
                  <a:pt x="7855" y="10344"/>
                  <a:pt x="7846" y="10344"/>
                  <a:pt x="7838" y="10344"/>
                </a:cubicBezTo>
              </a:path>
              <a:path w="721" h="1390">
                <a:moveTo>
                  <a:pt x="8285" y="10195"/>
                </a:moveTo>
                <a:cubicBezTo>
                  <a:pt x="8311" y="10260"/>
                  <a:pt x="8269" y="10312"/>
                  <a:pt x="8260" y="10393"/>
                </a:cubicBezTo>
                <a:cubicBezTo>
                  <a:pt x="8247" y="10507"/>
                  <a:pt x="8224" y="10653"/>
                  <a:pt x="8235" y="10765"/>
                </a:cubicBezTo>
                <a:cubicBezTo>
                  <a:pt x="8247" y="10889"/>
                  <a:pt x="8285" y="10994"/>
                  <a:pt x="8235" y="11112"/>
                </a:cubicBezTo>
                <a:cubicBezTo>
                  <a:pt x="8210" y="11162"/>
                  <a:pt x="8202" y="11178"/>
                  <a:pt x="8161" y="11187"/>
                </a:cubicBezTo>
                <a:cubicBezTo>
                  <a:pt x="8134" y="11176"/>
                  <a:pt x="8049" y="11128"/>
                  <a:pt x="8037" y="11088"/>
                </a:cubicBezTo>
                <a:cubicBezTo>
                  <a:pt x="8011" y="10998"/>
                  <a:pt x="8055" y="10963"/>
                  <a:pt x="8111" y="10914"/>
                </a:cubicBezTo>
                <a:cubicBezTo>
                  <a:pt x="8128" y="10897"/>
                  <a:pt x="8144" y="10881"/>
                  <a:pt x="8161" y="108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59080" y="3510000"/>
            <a:ext cx="428760" cy="303120"/>
          </a:xfrm>
          <a:custGeom>
            <a:avLst/>
            <a:gdLst/>
            <a:ahLst/>
            <a:rect l="l" t="t" r="r" b="b"/>
            <a:pathLst>
              <a:path w="1191" h="845">
                <a:moveTo>
                  <a:pt x="9203" y="9872"/>
                </a:moveTo>
                <a:cubicBezTo>
                  <a:pt x="9220" y="9812"/>
                  <a:pt x="9227" y="9801"/>
                  <a:pt x="9227" y="9748"/>
                </a:cubicBezTo>
                <a:cubicBezTo>
                  <a:pt x="9167" y="9826"/>
                  <a:pt x="9126" y="9951"/>
                  <a:pt x="9103" y="10046"/>
                </a:cubicBezTo>
                <a:cubicBezTo>
                  <a:pt x="9065" y="10205"/>
                  <a:pt x="9027" y="10385"/>
                  <a:pt x="9079" y="10542"/>
                </a:cubicBezTo>
                <a:cubicBezTo>
                  <a:pt x="9087" y="10559"/>
                  <a:pt x="9095" y="10575"/>
                  <a:pt x="9103" y="10592"/>
                </a:cubicBezTo>
                <a:cubicBezTo>
                  <a:pt x="9168" y="10584"/>
                  <a:pt x="9268" y="10563"/>
                  <a:pt x="9302" y="10492"/>
                </a:cubicBezTo>
                <a:cubicBezTo>
                  <a:pt x="9322" y="10449"/>
                  <a:pt x="9309" y="10379"/>
                  <a:pt x="9277" y="10368"/>
                </a:cubicBezTo>
                <a:cubicBezTo>
                  <a:pt x="9202" y="10379"/>
                  <a:pt x="9213" y="10383"/>
                  <a:pt x="9153" y="10443"/>
                </a:cubicBezTo>
              </a:path>
              <a:path w="1191" h="845">
                <a:moveTo>
                  <a:pt x="9649" y="10393"/>
                </a:moveTo>
                <a:cubicBezTo>
                  <a:pt x="9716" y="10393"/>
                  <a:pt x="9632" y="10393"/>
                  <a:pt x="9624" y="10393"/>
                </a:cubicBezTo>
              </a:path>
              <a:path w="1191" h="845">
                <a:moveTo>
                  <a:pt x="10096" y="9897"/>
                </a:moveTo>
                <a:cubicBezTo>
                  <a:pt x="10003" y="9966"/>
                  <a:pt x="9961" y="10048"/>
                  <a:pt x="9947" y="10170"/>
                </a:cubicBezTo>
                <a:cubicBezTo>
                  <a:pt x="9934" y="10285"/>
                  <a:pt x="9967" y="10375"/>
                  <a:pt x="10046" y="10443"/>
                </a:cubicBezTo>
                <a:cubicBezTo>
                  <a:pt x="10144" y="10418"/>
                  <a:pt x="10182" y="10368"/>
                  <a:pt x="10220" y="10269"/>
                </a:cubicBezTo>
                <a:cubicBezTo>
                  <a:pt x="10252" y="10186"/>
                  <a:pt x="10268" y="10052"/>
                  <a:pt x="10220" y="9971"/>
                </a:cubicBezTo>
                <a:cubicBezTo>
                  <a:pt x="10189" y="9918"/>
                  <a:pt x="10150" y="9897"/>
                  <a:pt x="10096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57760" y="3544920"/>
            <a:ext cx="839520" cy="312840"/>
          </a:xfrm>
          <a:custGeom>
            <a:avLst/>
            <a:gdLst/>
            <a:ahLst/>
            <a:rect l="l" t="t" r="r" b="b"/>
            <a:pathLst>
              <a:path w="2332" h="870">
                <a:moveTo>
                  <a:pt x="10790" y="10120"/>
                </a:moveTo>
                <a:cubicBezTo>
                  <a:pt x="10775" y="10196"/>
                  <a:pt x="10756" y="10267"/>
                  <a:pt x="10740" y="10344"/>
                </a:cubicBezTo>
                <a:cubicBezTo>
                  <a:pt x="10724" y="10425"/>
                  <a:pt x="10682" y="10528"/>
                  <a:pt x="10765" y="10592"/>
                </a:cubicBezTo>
                <a:cubicBezTo>
                  <a:pt x="10821" y="10636"/>
                  <a:pt x="10880" y="10588"/>
                  <a:pt x="10939" y="10567"/>
                </a:cubicBezTo>
              </a:path>
              <a:path w="2332" h="870">
                <a:moveTo>
                  <a:pt x="10740" y="10393"/>
                </a:moveTo>
                <a:cubicBezTo>
                  <a:pt x="10828" y="10347"/>
                  <a:pt x="10906" y="10300"/>
                  <a:pt x="10988" y="10244"/>
                </a:cubicBezTo>
              </a:path>
              <a:path w="2332" h="870">
                <a:moveTo>
                  <a:pt x="10790" y="10071"/>
                </a:moveTo>
                <a:cubicBezTo>
                  <a:pt x="10802" y="10023"/>
                  <a:pt x="10844" y="9997"/>
                  <a:pt x="10889" y="9971"/>
                </a:cubicBezTo>
                <a:cubicBezTo>
                  <a:pt x="10939" y="9947"/>
                  <a:pt x="10955" y="9939"/>
                  <a:pt x="10988" y="9922"/>
                </a:cubicBezTo>
              </a:path>
              <a:path w="2332" h="870">
                <a:moveTo>
                  <a:pt x="11286" y="10443"/>
                </a:moveTo>
                <a:cubicBezTo>
                  <a:pt x="11317" y="10419"/>
                  <a:pt x="11369" y="10378"/>
                  <a:pt x="11410" y="10368"/>
                </a:cubicBezTo>
                <a:cubicBezTo>
                  <a:pt x="11474" y="10353"/>
                  <a:pt x="11542" y="10344"/>
                  <a:pt x="11609" y="10344"/>
                </a:cubicBezTo>
              </a:path>
              <a:path w="2332" h="870">
                <a:moveTo>
                  <a:pt x="11832" y="9971"/>
                </a:moveTo>
                <a:cubicBezTo>
                  <a:pt x="11832" y="10017"/>
                  <a:pt x="11810" y="10030"/>
                  <a:pt x="11807" y="10071"/>
                </a:cubicBezTo>
                <a:cubicBezTo>
                  <a:pt x="11803" y="10131"/>
                  <a:pt x="11798" y="10193"/>
                  <a:pt x="11832" y="10244"/>
                </a:cubicBezTo>
                <a:cubicBezTo>
                  <a:pt x="11862" y="10288"/>
                  <a:pt x="11953" y="10331"/>
                  <a:pt x="12005" y="10319"/>
                </a:cubicBezTo>
                <a:cubicBezTo>
                  <a:pt x="12065" y="10289"/>
                  <a:pt x="12091" y="10274"/>
                  <a:pt x="12129" y="10244"/>
                </a:cubicBezTo>
              </a:path>
              <a:path w="2332" h="870">
                <a:moveTo>
                  <a:pt x="12328" y="9847"/>
                </a:moveTo>
                <a:cubicBezTo>
                  <a:pt x="12254" y="9951"/>
                  <a:pt x="12168" y="10072"/>
                  <a:pt x="12129" y="10195"/>
                </a:cubicBezTo>
                <a:cubicBezTo>
                  <a:pt x="12083" y="10341"/>
                  <a:pt x="12080" y="10490"/>
                  <a:pt x="12080" y="10641"/>
                </a:cubicBezTo>
                <a:cubicBezTo>
                  <a:pt x="12080" y="10666"/>
                  <a:pt x="12080" y="10691"/>
                  <a:pt x="12080" y="10716"/>
                </a:cubicBezTo>
              </a:path>
              <a:path w="2332" h="870">
                <a:moveTo>
                  <a:pt x="12626" y="10393"/>
                </a:moveTo>
                <a:cubicBezTo>
                  <a:pt x="12626" y="10365"/>
                  <a:pt x="12624" y="10354"/>
                  <a:pt x="12601" y="10344"/>
                </a:cubicBezTo>
                <a:cubicBezTo>
                  <a:pt x="12672" y="10344"/>
                  <a:pt x="12734" y="10360"/>
                  <a:pt x="12799" y="10368"/>
                </a:cubicBezTo>
                <a:cubicBezTo>
                  <a:pt x="12870" y="10377"/>
                  <a:pt x="12950" y="10368"/>
                  <a:pt x="13022" y="10368"/>
                </a:cubicBezTo>
              </a:path>
              <a:path w="2332" h="870">
                <a:moveTo>
                  <a:pt x="13047" y="10046"/>
                </a:moveTo>
                <a:cubicBezTo>
                  <a:pt x="12987" y="10127"/>
                  <a:pt x="12993" y="10169"/>
                  <a:pt x="12973" y="10269"/>
                </a:cubicBezTo>
                <a:cubicBezTo>
                  <a:pt x="12951" y="10380"/>
                  <a:pt x="12948" y="10479"/>
                  <a:pt x="12948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57840" y="3571920"/>
            <a:ext cx="473040" cy="473040"/>
          </a:xfrm>
          <a:custGeom>
            <a:avLst/>
            <a:gdLst/>
            <a:ahLst/>
            <a:rect l="l" t="t" r="r" b="b"/>
            <a:pathLst>
              <a:path w="1315" h="1316">
                <a:moveTo>
                  <a:pt x="13494" y="10517"/>
                </a:moveTo>
                <a:cubicBezTo>
                  <a:pt x="13611" y="10552"/>
                  <a:pt x="13606" y="10529"/>
                  <a:pt x="13692" y="10443"/>
                </a:cubicBezTo>
                <a:cubicBezTo>
                  <a:pt x="13791" y="10344"/>
                  <a:pt x="13884" y="10234"/>
                  <a:pt x="13965" y="10120"/>
                </a:cubicBezTo>
                <a:cubicBezTo>
                  <a:pt x="14021" y="10041"/>
                  <a:pt x="14015" y="10012"/>
                  <a:pt x="14015" y="9922"/>
                </a:cubicBezTo>
                <a:cubicBezTo>
                  <a:pt x="13923" y="9935"/>
                  <a:pt x="13896" y="9992"/>
                  <a:pt x="13841" y="10071"/>
                </a:cubicBezTo>
                <a:cubicBezTo>
                  <a:pt x="13769" y="10175"/>
                  <a:pt x="13730" y="10320"/>
                  <a:pt x="13791" y="10443"/>
                </a:cubicBezTo>
                <a:cubicBezTo>
                  <a:pt x="13834" y="10529"/>
                  <a:pt x="13947" y="10581"/>
                  <a:pt x="14039" y="10567"/>
                </a:cubicBezTo>
                <a:cubicBezTo>
                  <a:pt x="14155" y="10550"/>
                  <a:pt x="14198" y="10474"/>
                  <a:pt x="14263" y="10393"/>
                </a:cubicBezTo>
                <a:cubicBezTo>
                  <a:pt x="14291" y="10365"/>
                  <a:pt x="14300" y="10352"/>
                  <a:pt x="14288" y="10319"/>
                </a:cubicBezTo>
                <a:cubicBezTo>
                  <a:pt x="14263" y="10368"/>
                  <a:pt x="14205" y="10458"/>
                  <a:pt x="14238" y="10517"/>
                </a:cubicBezTo>
                <a:cubicBezTo>
                  <a:pt x="14270" y="10575"/>
                  <a:pt x="14346" y="10618"/>
                  <a:pt x="14412" y="10592"/>
                </a:cubicBezTo>
                <a:cubicBezTo>
                  <a:pt x="14451" y="10577"/>
                  <a:pt x="14488" y="10506"/>
                  <a:pt x="14486" y="10468"/>
                </a:cubicBezTo>
                <a:cubicBezTo>
                  <a:pt x="14484" y="10419"/>
                  <a:pt x="14405" y="10354"/>
                  <a:pt x="14362" y="10344"/>
                </a:cubicBezTo>
                <a:cubicBezTo>
                  <a:pt x="14299" y="10330"/>
                  <a:pt x="14287" y="10356"/>
                  <a:pt x="14263" y="10368"/>
                </a:cubicBezTo>
              </a:path>
              <a:path w="1315" h="1316">
                <a:moveTo>
                  <a:pt x="14784" y="10294"/>
                </a:moveTo>
                <a:cubicBezTo>
                  <a:pt x="14792" y="10277"/>
                  <a:pt x="14800" y="10261"/>
                  <a:pt x="14808" y="10244"/>
                </a:cubicBezTo>
                <a:cubicBezTo>
                  <a:pt x="14743" y="10297"/>
                  <a:pt x="14699" y="10323"/>
                  <a:pt x="14684" y="10418"/>
                </a:cubicBezTo>
                <a:cubicBezTo>
                  <a:pt x="14665" y="10540"/>
                  <a:pt x="14704" y="10649"/>
                  <a:pt x="14734" y="10765"/>
                </a:cubicBezTo>
                <a:cubicBezTo>
                  <a:pt x="14766" y="10890"/>
                  <a:pt x="14805" y="10988"/>
                  <a:pt x="14759" y="11112"/>
                </a:cubicBezTo>
                <a:cubicBezTo>
                  <a:pt x="14731" y="11187"/>
                  <a:pt x="14683" y="11231"/>
                  <a:pt x="14610" y="11237"/>
                </a:cubicBezTo>
                <a:cubicBezTo>
                  <a:pt x="14528" y="11244"/>
                  <a:pt x="14569" y="11145"/>
                  <a:pt x="14585" y="11112"/>
                </a:cubicBezTo>
                <a:cubicBezTo>
                  <a:pt x="14619" y="11042"/>
                  <a:pt x="14666" y="10979"/>
                  <a:pt x="14709" y="109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91080" y="3313080"/>
            <a:ext cx="1617840" cy="598680"/>
          </a:xfrm>
          <a:custGeom>
            <a:avLst/>
            <a:gdLst/>
            <a:ahLst/>
            <a:rect l="l" t="t" r="r" b="b"/>
            <a:pathLst>
              <a:path w="4491" h="1662">
                <a:moveTo>
                  <a:pt x="15602" y="9550"/>
                </a:moveTo>
                <a:cubicBezTo>
                  <a:pt x="15602" y="9509"/>
                  <a:pt x="15602" y="9467"/>
                  <a:pt x="15602" y="9426"/>
                </a:cubicBezTo>
                <a:cubicBezTo>
                  <a:pt x="15537" y="9475"/>
                  <a:pt x="15490" y="9532"/>
                  <a:pt x="15453" y="9624"/>
                </a:cubicBezTo>
                <a:cubicBezTo>
                  <a:pt x="15363" y="9849"/>
                  <a:pt x="15281" y="10129"/>
                  <a:pt x="15255" y="10368"/>
                </a:cubicBezTo>
                <a:cubicBezTo>
                  <a:pt x="15234" y="10562"/>
                  <a:pt x="15234" y="10716"/>
                  <a:pt x="15354" y="10864"/>
                </a:cubicBezTo>
              </a:path>
              <a:path w="4491" h="1662">
                <a:moveTo>
                  <a:pt x="16024" y="10096"/>
                </a:moveTo>
                <a:cubicBezTo>
                  <a:pt x="15987" y="10122"/>
                  <a:pt x="15985" y="10111"/>
                  <a:pt x="15974" y="10145"/>
                </a:cubicBezTo>
              </a:path>
              <a:path w="4491" h="1662">
                <a:moveTo>
                  <a:pt x="16446" y="9624"/>
                </a:moveTo>
                <a:cubicBezTo>
                  <a:pt x="16398" y="9710"/>
                  <a:pt x="16336" y="9796"/>
                  <a:pt x="16321" y="9897"/>
                </a:cubicBezTo>
                <a:cubicBezTo>
                  <a:pt x="16308" y="9983"/>
                  <a:pt x="16341" y="10061"/>
                  <a:pt x="16421" y="10071"/>
                </a:cubicBezTo>
                <a:cubicBezTo>
                  <a:pt x="16481" y="10078"/>
                  <a:pt x="16577" y="10006"/>
                  <a:pt x="16594" y="9947"/>
                </a:cubicBezTo>
                <a:cubicBezTo>
                  <a:pt x="16618" y="9863"/>
                  <a:pt x="16574" y="9827"/>
                  <a:pt x="16520" y="9773"/>
                </a:cubicBezTo>
                <a:cubicBezTo>
                  <a:pt x="16482" y="9735"/>
                  <a:pt x="16474" y="9723"/>
                  <a:pt x="16421" y="9723"/>
                </a:cubicBezTo>
                <a:cubicBezTo>
                  <a:pt x="16393" y="9723"/>
                  <a:pt x="16382" y="9725"/>
                  <a:pt x="16371" y="9748"/>
                </a:cubicBezTo>
              </a:path>
              <a:path w="4491" h="1662">
                <a:moveTo>
                  <a:pt x="16743" y="9599"/>
                </a:moveTo>
                <a:cubicBezTo>
                  <a:pt x="16797" y="9607"/>
                  <a:pt x="16827" y="9613"/>
                  <a:pt x="16867" y="9649"/>
                </a:cubicBezTo>
                <a:cubicBezTo>
                  <a:pt x="16899" y="9678"/>
                  <a:pt x="16939" y="9732"/>
                  <a:pt x="16942" y="9773"/>
                </a:cubicBezTo>
                <a:cubicBezTo>
                  <a:pt x="16946" y="9831"/>
                  <a:pt x="16906" y="9880"/>
                  <a:pt x="16867" y="9922"/>
                </a:cubicBezTo>
                <a:cubicBezTo>
                  <a:pt x="16820" y="9972"/>
                  <a:pt x="16827" y="9976"/>
                  <a:pt x="16793" y="10021"/>
                </a:cubicBezTo>
                <a:cubicBezTo>
                  <a:pt x="16851" y="10021"/>
                  <a:pt x="16887" y="10021"/>
                  <a:pt x="16942" y="9996"/>
                </a:cubicBezTo>
                <a:cubicBezTo>
                  <a:pt x="16993" y="9973"/>
                  <a:pt x="17067" y="9956"/>
                  <a:pt x="17115" y="9947"/>
                </a:cubicBezTo>
                <a:cubicBezTo>
                  <a:pt x="17132" y="9947"/>
                  <a:pt x="17148" y="9947"/>
                  <a:pt x="17165" y="9947"/>
                </a:cubicBezTo>
              </a:path>
              <a:path w="4491" h="1662">
                <a:moveTo>
                  <a:pt x="17487" y="9525"/>
                </a:moveTo>
                <a:cubicBezTo>
                  <a:pt x="17542" y="9525"/>
                  <a:pt x="17558" y="9513"/>
                  <a:pt x="17611" y="9500"/>
                </a:cubicBezTo>
                <a:cubicBezTo>
                  <a:pt x="17650" y="9490"/>
                  <a:pt x="17666" y="9475"/>
                  <a:pt x="17711" y="9475"/>
                </a:cubicBezTo>
              </a:path>
              <a:path w="4491" h="1662">
                <a:moveTo>
                  <a:pt x="17562" y="9525"/>
                </a:moveTo>
                <a:cubicBezTo>
                  <a:pt x="17468" y="9572"/>
                  <a:pt x="17351" y="9614"/>
                  <a:pt x="17264" y="9674"/>
                </a:cubicBezTo>
                <a:cubicBezTo>
                  <a:pt x="17216" y="9707"/>
                  <a:pt x="17234" y="9764"/>
                  <a:pt x="17264" y="9798"/>
                </a:cubicBezTo>
                <a:cubicBezTo>
                  <a:pt x="17294" y="9832"/>
                  <a:pt x="17358" y="9888"/>
                  <a:pt x="17363" y="9922"/>
                </a:cubicBezTo>
                <a:cubicBezTo>
                  <a:pt x="17369" y="9965"/>
                  <a:pt x="17365" y="10053"/>
                  <a:pt x="17314" y="10071"/>
                </a:cubicBezTo>
                <a:cubicBezTo>
                  <a:pt x="17297" y="10071"/>
                  <a:pt x="17281" y="10071"/>
                  <a:pt x="17264" y="10071"/>
                </a:cubicBezTo>
              </a:path>
              <a:path w="4491" h="1662">
                <a:moveTo>
                  <a:pt x="17611" y="9773"/>
                </a:moveTo>
                <a:cubicBezTo>
                  <a:pt x="17659" y="9837"/>
                  <a:pt x="17668" y="9902"/>
                  <a:pt x="17760" y="9922"/>
                </a:cubicBezTo>
                <a:cubicBezTo>
                  <a:pt x="17831" y="9938"/>
                  <a:pt x="17920" y="9924"/>
                  <a:pt x="17983" y="9897"/>
                </a:cubicBezTo>
                <a:cubicBezTo>
                  <a:pt x="18051" y="9868"/>
                  <a:pt x="18077" y="9843"/>
                  <a:pt x="18083" y="9773"/>
                </a:cubicBezTo>
                <a:cubicBezTo>
                  <a:pt x="18090" y="9691"/>
                  <a:pt x="18022" y="9678"/>
                  <a:pt x="17959" y="9674"/>
                </a:cubicBezTo>
                <a:cubicBezTo>
                  <a:pt x="17892" y="9670"/>
                  <a:pt x="17846" y="9687"/>
                  <a:pt x="17785" y="9699"/>
                </a:cubicBezTo>
              </a:path>
              <a:path w="4491" h="1662">
                <a:moveTo>
                  <a:pt x="18479" y="9699"/>
                </a:moveTo>
                <a:cubicBezTo>
                  <a:pt x="18479" y="9755"/>
                  <a:pt x="18464" y="9802"/>
                  <a:pt x="18455" y="9847"/>
                </a:cubicBezTo>
                <a:cubicBezTo>
                  <a:pt x="18455" y="9889"/>
                  <a:pt x="18455" y="9897"/>
                  <a:pt x="18455" y="9922"/>
                </a:cubicBezTo>
                <a:cubicBezTo>
                  <a:pt x="18484" y="9881"/>
                  <a:pt x="18513" y="9830"/>
                  <a:pt x="18554" y="9798"/>
                </a:cubicBezTo>
                <a:cubicBezTo>
                  <a:pt x="18587" y="9772"/>
                  <a:pt x="18640" y="9732"/>
                  <a:pt x="18678" y="9723"/>
                </a:cubicBezTo>
                <a:cubicBezTo>
                  <a:pt x="18710" y="9765"/>
                  <a:pt x="18703" y="9791"/>
                  <a:pt x="18703" y="9847"/>
                </a:cubicBezTo>
                <a:cubicBezTo>
                  <a:pt x="18703" y="9886"/>
                  <a:pt x="18727" y="9913"/>
                  <a:pt x="18752" y="9922"/>
                </a:cubicBezTo>
                <a:cubicBezTo>
                  <a:pt x="18798" y="9876"/>
                  <a:pt x="18837" y="9845"/>
                  <a:pt x="18876" y="9798"/>
                </a:cubicBezTo>
                <a:cubicBezTo>
                  <a:pt x="18906" y="9761"/>
                  <a:pt x="18890" y="9760"/>
                  <a:pt x="18926" y="9748"/>
                </a:cubicBezTo>
                <a:cubicBezTo>
                  <a:pt x="18926" y="9804"/>
                  <a:pt x="18920" y="9846"/>
                  <a:pt x="18951" y="9897"/>
                </a:cubicBezTo>
                <a:cubicBezTo>
                  <a:pt x="18965" y="9920"/>
                  <a:pt x="19048" y="9982"/>
                  <a:pt x="19075" y="9971"/>
                </a:cubicBezTo>
                <a:cubicBezTo>
                  <a:pt x="19114" y="9954"/>
                  <a:pt x="19161" y="9911"/>
                  <a:pt x="19174" y="9872"/>
                </a:cubicBezTo>
                <a:cubicBezTo>
                  <a:pt x="19180" y="9855"/>
                  <a:pt x="19174" y="9725"/>
                  <a:pt x="19174" y="9847"/>
                </a:cubicBezTo>
                <a:cubicBezTo>
                  <a:pt x="19174" y="9879"/>
                  <a:pt x="19155" y="9958"/>
                  <a:pt x="19199" y="9971"/>
                </a:cubicBezTo>
                <a:cubicBezTo>
                  <a:pt x="19259" y="9989"/>
                  <a:pt x="19286" y="9959"/>
                  <a:pt x="19323" y="9922"/>
                </a:cubicBezTo>
                <a:cubicBezTo>
                  <a:pt x="19338" y="9907"/>
                  <a:pt x="19377" y="9812"/>
                  <a:pt x="19348" y="9798"/>
                </a:cubicBezTo>
                <a:cubicBezTo>
                  <a:pt x="19296" y="9772"/>
                  <a:pt x="19209" y="9773"/>
                  <a:pt x="19149" y="9773"/>
                </a:cubicBezTo>
                <a:cubicBezTo>
                  <a:pt x="19108" y="9773"/>
                  <a:pt x="19100" y="9773"/>
                  <a:pt x="19075" y="9773"/>
                </a:cubicBezTo>
              </a:path>
              <a:path w="4491" h="1662">
                <a:moveTo>
                  <a:pt x="19745" y="9227"/>
                </a:moveTo>
                <a:cubicBezTo>
                  <a:pt x="19718" y="9148"/>
                  <a:pt x="19697" y="9302"/>
                  <a:pt x="19695" y="9327"/>
                </a:cubicBezTo>
                <a:cubicBezTo>
                  <a:pt x="19681" y="9471"/>
                  <a:pt x="19708" y="9608"/>
                  <a:pt x="19720" y="9748"/>
                </a:cubicBezTo>
                <a:cubicBezTo>
                  <a:pt x="19727" y="9834"/>
                  <a:pt x="19738" y="9910"/>
                  <a:pt x="19745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1040" y="4179960"/>
            <a:ext cx="677880" cy="419040"/>
          </a:xfrm>
          <a:custGeom>
            <a:avLst/>
            <a:gdLst/>
            <a:ahLst/>
            <a:rect l="l" t="t" r="r" b="b"/>
            <a:pathLst>
              <a:path w="1886" h="1166">
                <a:moveTo>
                  <a:pt x="4911" y="11981"/>
                </a:moveTo>
                <a:cubicBezTo>
                  <a:pt x="4938" y="12125"/>
                  <a:pt x="4930" y="12256"/>
                  <a:pt x="4911" y="12402"/>
                </a:cubicBezTo>
                <a:cubicBezTo>
                  <a:pt x="4895" y="12520"/>
                  <a:pt x="4886" y="12638"/>
                  <a:pt x="4862" y="12750"/>
                </a:cubicBezTo>
                <a:cubicBezTo>
                  <a:pt x="4862" y="12758"/>
                  <a:pt x="4862" y="12766"/>
                  <a:pt x="4862" y="12774"/>
                </a:cubicBezTo>
                <a:cubicBezTo>
                  <a:pt x="4940" y="12735"/>
                  <a:pt x="4932" y="12610"/>
                  <a:pt x="4961" y="12526"/>
                </a:cubicBezTo>
                <a:cubicBezTo>
                  <a:pt x="5010" y="12383"/>
                  <a:pt x="5033" y="12244"/>
                  <a:pt x="5159" y="12154"/>
                </a:cubicBezTo>
                <a:cubicBezTo>
                  <a:pt x="5196" y="12128"/>
                  <a:pt x="5241" y="12113"/>
                  <a:pt x="5283" y="12105"/>
                </a:cubicBezTo>
                <a:cubicBezTo>
                  <a:pt x="5307" y="12200"/>
                  <a:pt x="5266" y="12263"/>
                  <a:pt x="5209" y="12353"/>
                </a:cubicBezTo>
                <a:cubicBezTo>
                  <a:pt x="5172" y="12412"/>
                  <a:pt x="5141" y="12464"/>
                  <a:pt x="5110" y="12526"/>
                </a:cubicBezTo>
              </a:path>
              <a:path w="1886" h="1166">
                <a:moveTo>
                  <a:pt x="5655" y="11633"/>
                </a:moveTo>
                <a:cubicBezTo>
                  <a:pt x="5734" y="11621"/>
                  <a:pt x="5726" y="11683"/>
                  <a:pt x="5730" y="11782"/>
                </a:cubicBezTo>
                <a:cubicBezTo>
                  <a:pt x="5737" y="11955"/>
                  <a:pt x="5730" y="12130"/>
                  <a:pt x="5730" y="12303"/>
                </a:cubicBezTo>
              </a:path>
              <a:path w="1886" h="1166">
                <a:moveTo>
                  <a:pt x="5655" y="12303"/>
                </a:moveTo>
                <a:cubicBezTo>
                  <a:pt x="5702" y="12257"/>
                  <a:pt x="5748" y="12238"/>
                  <a:pt x="5804" y="12204"/>
                </a:cubicBezTo>
                <a:cubicBezTo>
                  <a:pt x="5876" y="12160"/>
                  <a:pt x="6008" y="12078"/>
                  <a:pt x="6052" y="12005"/>
                </a:cubicBezTo>
                <a:cubicBezTo>
                  <a:pt x="6106" y="11916"/>
                  <a:pt x="6127" y="11861"/>
                  <a:pt x="6127" y="11757"/>
                </a:cubicBezTo>
                <a:cubicBezTo>
                  <a:pt x="6127" y="11729"/>
                  <a:pt x="6124" y="11719"/>
                  <a:pt x="6102" y="11708"/>
                </a:cubicBezTo>
                <a:cubicBezTo>
                  <a:pt x="6013" y="11730"/>
                  <a:pt x="6030" y="11828"/>
                  <a:pt x="6028" y="11906"/>
                </a:cubicBezTo>
                <a:cubicBezTo>
                  <a:pt x="6024" y="12056"/>
                  <a:pt x="6002" y="12234"/>
                  <a:pt x="6052" y="12378"/>
                </a:cubicBezTo>
                <a:cubicBezTo>
                  <a:pt x="6069" y="12411"/>
                  <a:pt x="6085" y="12444"/>
                  <a:pt x="6102" y="12477"/>
                </a:cubicBezTo>
              </a:path>
              <a:path w="1886" h="1166">
                <a:moveTo>
                  <a:pt x="6375" y="12129"/>
                </a:moveTo>
                <a:cubicBezTo>
                  <a:pt x="6438" y="12084"/>
                  <a:pt x="6516" y="12011"/>
                  <a:pt x="6598" y="12005"/>
                </a:cubicBezTo>
                <a:cubicBezTo>
                  <a:pt x="6647" y="12002"/>
                  <a:pt x="6698" y="12005"/>
                  <a:pt x="6747" y="12005"/>
                </a:cubicBezTo>
              </a:path>
              <a:path w="1886" h="1166">
                <a:moveTo>
                  <a:pt x="6573" y="12328"/>
                </a:moveTo>
                <a:cubicBezTo>
                  <a:pt x="6565" y="12353"/>
                  <a:pt x="6556" y="12377"/>
                  <a:pt x="6548" y="12402"/>
                </a:cubicBezTo>
                <a:cubicBezTo>
                  <a:pt x="6607" y="12402"/>
                  <a:pt x="6644" y="12380"/>
                  <a:pt x="6697" y="12353"/>
                </a:cubicBezTo>
                <a:cubicBezTo>
                  <a:pt x="6714" y="12345"/>
                  <a:pt x="6730" y="12336"/>
                  <a:pt x="6747" y="123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52840" y="4214880"/>
            <a:ext cx="419040" cy="303120"/>
          </a:xfrm>
          <a:custGeom>
            <a:avLst/>
            <a:gdLst/>
            <a:ahLst/>
            <a:rect l="l" t="t" r="r" b="b"/>
            <a:pathLst>
              <a:path w="1167" h="844">
                <a:moveTo>
                  <a:pt x="7367" y="11757"/>
                </a:moveTo>
                <a:cubicBezTo>
                  <a:pt x="7415" y="11717"/>
                  <a:pt x="7469" y="11680"/>
                  <a:pt x="7541" y="11708"/>
                </a:cubicBezTo>
                <a:cubicBezTo>
                  <a:pt x="7588" y="11726"/>
                  <a:pt x="7613" y="11816"/>
                  <a:pt x="7590" y="11857"/>
                </a:cubicBezTo>
                <a:cubicBezTo>
                  <a:pt x="7549" y="11931"/>
                  <a:pt x="7493" y="12011"/>
                  <a:pt x="7441" y="12080"/>
                </a:cubicBezTo>
                <a:cubicBezTo>
                  <a:pt x="7419" y="12102"/>
                  <a:pt x="7411" y="12107"/>
                  <a:pt x="7417" y="12129"/>
                </a:cubicBezTo>
                <a:cubicBezTo>
                  <a:pt x="7459" y="12129"/>
                  <a:pt x="7600" y="12104"/>
                  <a:pt x="7615" y="12154"/>
                </a:cubicBezTo>
                <a:cubicBezTo>
                  <a:pt x="7635" y="12218"/>
                  <a:pt x="7545" y="12329"/>
                  <a:pt x="7516" y="12378"/>
                </a:cubicBezTo>
                <a:cubicBezTo>
                  <a:pt x="7479" y="12441"/>
                  <a:pt x="7430" y="12490"/>
                  <a:pt x="7392" y="12551"/>
                </a:cubicBezTo>
              </a:path>
              <a:path w="1167" h="844">
                <a:moveTo>
                  <a:pt x="7913" y="12477"/>
                </a:moveTo>
                <a:cubicBezTo>
                  <a:pt x="7875" y="12477"/>
                  <a:pt x="7833" y="12484"/>
                  <a:pt x="7888" y="12502"/>
                </a:cubicBezTo>
              </a:path>
              <a:path w="1167" h="844">
                <a:moveTo>
                  <a:pt x="8384" y="11757"/>
                </a:moveTo>
                <a:cubicBezTo>
                  <a:pt x="8307" y="11747"/>
                  <a:pt x="8278" y="11813"/>
                  <a:pt x="8235" y="11906"/>
                </a:cubicBezTo>
                <a:cubicBezTo>
                  <a:pt x="8179" y="12026"/>
                  <a:pt x="8207" y="12180"/>
                  <a:pt x="8235" y="12303"/>
                </a:cubicBezTo>
                <a:cubicBezTo>
                  <a:pt x="8264" y="12434"/>
                  <a:pt x="8301" y="12513"/>
                  <a:pt x="8434" y="12526"/>
                </a:cubicBezTo>
                <a:cubicBezTo>
                  <a:pt x="8503" y="12533"/>
                  <a:pt x="8527" y="12492"/>
                  <a:pt x="8533" y="12427"/>
                </a:cubicBezTo>
                <a:cubicBezTo>
                  <a:pt x="8540" y="12361"/>
                  <a:pt x="8455" y="12357"/>
                  <a:pt x="8409" y="12353"/>
                </a:cubicBezTo>
                <a:cubicBezTo>
                  <a:pt x="8359" y="12349"/>
                  <a:pt x="8323" y="12406"/>
                  <a:pt x="8334" y="12452"/>
                </a:cubicBezTo>
                <a:cubicBezTo>
                  <a:pt x="8342" y="12469"/>
                  <a:pt x="8351" y="12485"/>
                  <a:pt x="8359" y="125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24160" y="4224240"/>
            <a:ext cx="54000" cy="303480"/>
          </a:xfrm>
          <a:custGeom>
            <a:avLst/>
            <a:gdLst/>
            <a:ahLst/>
            <a:rect l="l" t="t" r="r" b="b"/>
            <a:pathLst>
              <a:path w="150" h="844">
                <a:moveTo>
                  <a:pt x="8979" y="11757"/>
                </a:moveTo>
                <a:cubicBezTo>
                  <a:pt x="8940" y="11721"/>
                  <a:pt x="8954" y="11881"/>
                  <a:pt x="8954" y="11931"/>
                </a:cubicBezTo>
                <a:cubicBezTo>
                  <a:pt x="8954" y="12079"/>
                  <a:pt x="8979" y="12261"/>
                  <a:pt x="9029" y="12402"/>
                </a:cubicBezTo>
                <a:cubicBezTo>
                  <a:pt x="9074" y="12492"/>
                  <a:pt x="9087" y="12514"/>
                  <a:pt x="9103" y="125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88000" y="3660840"/>
            <a:ext cx="1635120" cy="98280"/>
          </a:xfrm>
          <a:custGeom>
            <a:avLst/>
            <a:gdLst/>
            <a:ahLst/>
            <a:rect l="l" t="t" r="r" b="b"/>
            <a:pathLst>
              <a:path w="4540" h="274">
                <a:moveTo>
                  <a:pt x="15801" y="10443"/>
                </a:moveTo>
                <a:cubicBezTo>
                  <a:pt x="15881" y="10429"/>
                  <a:pt x="15968" y="10434"/>
                  <a:pt x="16049" y="10418"/>
                </a:cubicBezTo>
                <a:cubicBezTo>
                  <a:pt x="16207" y="10387"/>
                  <a:pt x="16360" y="10370"/>
                  <a:pt x="16520" y="10344"/>
                </a:cubicBezTo>
                <a:cubicBezTo>
                  <a:pt x="16712" y="10312"/>
                  <a:pt x="16920" y="10282"/>
                  <a:pt x="17115" y="10269"/>
                </a:cubicBezTo>
                <a:cubicBezTo>
                  <a:pt x="17357" y="10253"/>
                  <a:pt x="17593" y="10227"/>
                  <a:pt x="17835" y="10195"/>
                </a:cubicBezTo>
                <a:cubicBezTo>
                  <a:pt x="18067" y="10165"/>
                  <a:pt x="18295" y="10170"/>
                  <a:pt x="18529" y="10170"/>
                </a:cubicBezTo>
                <a:cubicBezTo>
                  <a:pt x="18730" y="10170"/>
                  <a:pt x="18925" y="10183"/>
                  <a:pt x="19124" y="10195"/>
                </a:cubicBezTo>
                <a:cubicBezTo>
                  <a:pt x="19430" y="10214"/>
                  <a:pt x="19740" y="10192"/>
                  <a:pt x="20042" y="10220"/>
                </a:cubicBezTo>
                <a:cubicBezTo>
                  <a:pt x="20139" y="10229"/>
                  <a:pt x="20242" y="10220"/>
                  <a:pt x="20340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lative solubiliti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sp will only allow us to compare the solubility of solids that fall apart into the same number of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gger the Ksp of those, the more solu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fall apart into different number of pieces you have to do the ma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mmon Ion Effec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try to dissolve the solid in a solution with either the cation or anion already present less will dissol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dissolving is an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re is not much solid it will all dissol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more solid is added the solution will become satur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lid will precipitate as fast as it dissolv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71880" y="3200400"/>
            <a:ext cx="1296720" cy="382680"/>
            <a:chOff x="2171880" y="3200400"/>
            <a:chExt cx="1296720" cy="382680"/>
          </a:xfrm>
        </p:grpSpPr>
        <p:sp>
          <p:nvSpPr>
            <p:cNvPr id="50" name=""/>
            <p:cNvSpPr/>
            <p:nvPr/>
          </p:nvSpPr>
          <p:spPr>
            <a:xfrm>
              <a:off x="2171880" y="3200400"/>
              <a:ext cx="1296720" cy="154080"/>
            </a:xfrm>
            <a:custGeom>
              <a:avLst/>
              <a:gdLst/>
              <a:ahLst/>
              <a:rect l="l" t="t" r="r" b="b"/>
              <a:pathLst>
                <a:path w="817" h="97">
                  <a:moveTo>
                    <a:pt x="0" y="96"/>
                  </a:moveTo>
                  <a:lnTo>
                    <a:pt x="816" y="96"/>
                  </a:lnTo>
                  <a:lnTo>
                    <a:pt x="67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71880" y="3429000"/>
              <a:ext cx="1296720" cy="154080"/>
            </a:xfrm>
            <a:custGeom>
              <a:avLst/>
              <a:gdLst/>
              <a:ahLst/>
              <a:rect l="l" t="t" r="r" b="b"/>
              <a:pathLst>
                <a:path w="817" h="97">
                  <a:moveTo>
                    <a:pt x="81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olubility of Sr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ith a Ksp of 3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 in a solution of 0.010 M 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olubility of Sr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ith a Ksp of 3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 in a solution of 0.010 M 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95360" y="4187880"/>
            <a:ext cx="1116000" cy="403200"/>
          </a:xfrm>
          <a:custGeom>
            <a:avLst/>
            <a:gdLst/>
            <a:ahLst/>
            <a:rect l="l" t="t" r="r" b="b"/>
            <a:pathLst>
              <a:path w="3101" h="1118">
                <a:moveTo>
                  <a:pt x="6945" y="11708"/>
                </a:moveTo>
                <a:cubicBezTo>
                  <a:pt x="6971" y="11673"/>
                  <a:pt x="6970" y="11677"/>
                  <a:pt x="6970" y="11633"/>
                </a:cubicBezTo>
                <a:cubicBezTo>
                  <a:pt x="6904" y="11633"/>
                  <a:pt x="6861" y="11638"/>
                  <a:pt x="6796" y="11658"/>
                </a:cubicBezTo>
                <a:cubicBezTo>
                  <a:pt x="6700" y="11688"/>
                  <a:pt x="6581" y="11726"/>
                  <a:pt x="6499" y="11782"/>
                </a:cubicBezTo>
                <a:cubicBezTo>
                  <a:pt x="6457" y="11811"/>
                  <a:pt x="6415" y="11849"/>
                  <a:pt x="6375" y="11881"/>
                </a:cubicBezTo>
                <a:cubicBezTo>
                  <a:pt x="6403" y="11939"/>
                  <a:pt x="6481" y="11958"/>
                  <a:pt x="6548" y="11981"/>
                </a:cubicBezTo>
                <a:cubicBezTo>
                  <a:pt x="6619" y="12005"/>
                  <a:pt x="6751" y="12016"/>
                  <a:pt x="6772" y="12105"/>
                </a:cubicBezTo>
                <a:cubicBezTo>
                  <a:pt x="6793" y="12199"/>
                  <a:pt x="6664" y="12322"/>
                  <a:pt x="6598" y="12378"/>
                </a:cubicBezTo>
                <a:cubicBezTo>
                  <a:pt x="6533" y="12433"/>
                  <a:pt x="6453" y="12500"/>
                  <a:pt x="6375" y="12526"/>
                </a:cubicBezTo>
              </a:path>
              <a:path w="3101" h="1118">
                <a:moveTo>
                  <a:pt x="7119" y="12129"/>
                </a:moveTo>
                <a:cubicBezTo>
                  <a:pt x="7190" y="12224"/>
                  <a:pt x="7158" y="12222"/>
                  <a:pt x="7144" y="12328"/>
                </a:cubicBezTo>
                <a:cubicBezTo>
                  <a:pt x="7134" y="12401"/>
                  <a:pt x="7153" y="12420"/>
                  <a:pt x="7119" y="12477"/>
                </a:cubicBezTo>
                <a:cubicBezTo>
                  <a:pt x="7119" y="12531"/>
                  <a:pt x="7128" y="12407"/>
                  <a:pt x="7144" y="12378"/>
                </a:cubicBezTo>
                <a:cubicBezTo>
                  <a:pt x="7206" y="12267"/>
                  <a:pt x="7274" y="12209"/>
                  <a:pt x="7367" y="12129"/>
                </a:cubicBezTo>
                <a:cubicBezTo>
                  <a:pt x="7419" y="12085"/>
                  <a:pt x="7455" y="12061"/>
                  <a:pt x="7516" y="12030"/>
                </a:cubicBezTo>
              </a:path>
              <a:path w="3101" h="1118">
                <a:moveTo>
                  <a:pt x="8334" y="11708"/>
                </a:moveTo>
                <a:cubicBezTo>
                  <a:pt x="8227" y="11708"/>
                  <a:pt x="8183" y="11718"/>
                  <a:pt x="8086" y="11757"/>
                </a:cubicBezTo>
                <a:cubicBezTo>
                  <a:pt x="8021" y="11783"/>
                  <a:pt x="7889" y="11828"/>
                  <a:pt x="7863" y="11906"/>
                </a:cubicBezTo>
                <a:cubicBezTo>
                  <a:pt x="7839" y="11978"/>
                  <a:pt x="7884" y="12023"/>
                  <a:pt x="7938" y="12055"/>
                </a:cubicBezTo>
                <a:cubicBezTo>
                  <a:pt x="8008" y="12097"/>
                  <a:pt x="8057" y="12122"/>
                  <a:pt x="8062" y="12204"/>
                </a:cubicBezTo>
                <a:cubicBezTo>
                  <a:pt x="8066" y="12278"/>
                  <a:pt x="8021" y="12357"/>
                  <a:pt x="7962" y="12402"/>
                </a:cubicBezTo>
                <a:cubicBezTo>
                  <a:pt x="7922" y="12422"/>
                  <a:pt x="7916" y="12431"/>
                  <a:pt x="7888" y="12427"/>
                </a:cubicBezTo>
              </a:path>
              <a:path w="3101" h="1118">
                <a:moveTo>
                  <a:pt x="8483" y="11857"/>
                </a:moveTo>
                <a:cubicBezTo>
                  <a:pt x="8551" y="11946"/>
                  <a:pt x="8533" y="12010"/>
                  <a:pt x="8533" y="12129"/>
                </a:cubicBezTo>
                <a:cubicBezTo>
                  <a:pt x="8533" y="12212"/>
                  <a:pt x="8542" y="12346"/>
                  <a:pt x="8632" y="12378"/>
                </a:cubicBezTo>
                <a:cubicBezTo>
                  <a:pt x="8699" y="12402"/>
                  <a:pt x="8821" y="12335"/>
                  <a:pt x="8855" y="12278"/>
                </a:cubicBezTo>
                <a:cubicBezTo>
                  <a:pt x="8910" y="12184"/>
                  <a:pt x="8888" y="12062"/>
                  <a:pt x="8830" y="11981"/>
                </a:cubicBezTo>
                <a:cubicBezTo>
                  <a:pt x="8785" y="11919"/>
                  <a:pt x="8722" y="11869"/>
                  <a:pt x="8657" y="11832"/>
                </a:cubicBezTo>
              </a:path>
              <a:path w="3101" h="1118">
                <a:moveTo>
                  <a:pt x="9227" y="12254"/>
                </a:moveTo>
                <a:cubicBezTo>
                  <a:pt x="9241" y="12294"/>
                  <a:pt x="9277" y="12278"/>
                  <a:pt x="9327" y="12278"/>
                </a:cubicBezTo>
                <a:cubicBezTo>
                  <a:pt x="9379" y="12278"/>
                  <a:pt x="9451" y="12260"/>
                  <a:pt x="9475" y="12204"/>
                </a:cubicBezTo>
                <a:cubicBezTo>
                  <a:pt x="9502" y="12142"/>
                  <a:pt x="9429" y="12319"/>
                  <a:pt x="9426" y="12328"/>
                </a:cubicBezTo>
                <a:cubicBezTo>
                  <a:pt x="9395" y="12433"/>
                  <a:pt x="9377" y="12591"/>
                  <a:pt x="9401" y="12700"/>
                </a:cubicBezTo>
                <a:cubicBezTo>
                  <a:pt x="9409" y="12717"/>
                  <a:pt x="9418" y="12733"/>
                  <a:pt x="9426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51200" y="4286160"/>
            <a:ext cx="473040" cy="169920"/>
          </a:xfrm>
          <a:custGeom>
            <a:avLst/>
            <a:gdLst/>
            <a:ahLst/>
            <a:rect l="l" t="t" r="r" b="b"/>
            <a:pathLst>
              <a:path w="1316" h="473">
                <a:moveTo>
                  <a:pt x="10418" y="12154"/>
                </a:moveTo>
                <a:cubicBezTo>
                  <a:pt x="10586" y="12154"/>
                  <a:pt x="10749" y="12139"/>
                  <a:pt x="10914" y="12129"/>
                </a:cubicBezTo>
                <a:cubicBezTo>
                  <a:pt x="11057" y="12120"/>
                  <a:pt x="11220" y="12130"/>
                  <a:pt x="11361" y="12105"/>
                </a:cubicBezTo>
                <a:cubicBezTo>
                  <a:pt x="11415" y="12095"/>
                  <a:pt x="11437" y="12085"/>
                  <a:pt x="11485" y="12080"/>
                </a:cubicBezTo>
                <a:cubicBezTo>
                  <a:pt x="11436" y="12031"/>
                  <a:pt x="11401" y="12027"/>
                  <a:pt x="11336" y="12005"/>
                </a:cubicBezTo>
                <a:cubicBezTo>
                  <a:pt x="11268" y="11982"/>
                  <a:pt x="11193" y="11964"/>
                  <a:pt x="11137" y="11931"/>
                </a:cubicBezTo>
                <a:cubicBezTo>
                  <a:pt x="11227" y="11897"/>
                  <a:pt x="11311" y="11906"/>
                  <a:pt x="11410" y="11906"/>
                </a:cubicBezTo>
                <a:cubicBezTo>
                  <a:pt x="11518" y="11906"/>
                  <a:pt x="11603" y="11934"/>
                  <a:pt x="11683" y="12005"/>
                </a:cubicBezTo>
                <a:cubicBezTo>
                  <a:pt x="11733" y="12050"/>
                  <a:pt x="11768" y="12144"/>
                  <a:pt x="11708" y="12204"/>
                </a:cubicBezTo>
                <a:cubicBezTo>
                  <a:pt x="11657" y="12254"/>
                  <a:pt x="11588" y="12299"/>
                  <a:pt x="11534" y="12353"/>
                </a:cubicBezTo>
                <a:cubicBezTo>
                  <a:pt x="11526" y="12361"/>
                  <a:pt x="11517" y="12370"/>
                  <a:pt x="11509" y="123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60920" y="4098960"/>
            <a:ext cx="992160" cy="919080"/>
          </a:xfrm>
          <a:custGeom>
            <a:avLst/>
            <a:gdLst/>
            <a:ahLst/>
            <a:rect l="l" t="t" r="r" b="b"/>
            <a:pathLst>
              <a:path w="2754" h="2556">
                <a:moveTo>
                  <a:pt x="13692" y="11931"/>
                </a:moveTo>
                <a:cubicBezTo>
                  <a:pt x="13607" y="11864"/>
                  <a:pt x="13511" y="11828"/>
                  <a:pt x="13395" y="11857"/>
                </a:cubicBezTo>
                <a:cubicBezTo>
                  <a:pt x="13267" y="11889"/>
                  <a:pt x="13071" y="11931"/>
                  <a:pt x="12973" y="12030"/>
                </a:cubicBezTo>
                <a:cubicBezTo>
                  <a:pt x="12917" y="12086"/>
                  <a:pt x="12958" y="12175"/>
                  <a:pt x="13022" y="12204"/>
                </a:cubicBezTo>
                <a:cubicBezTo>
                  <a:pt x="13159" y="12265"/>
                  <a:pt x="13327" y="12275"/>
                  <a:pt x="13469" y="12328"/>
                </a:cubicBezTo>
                <a:cubicBezTo>
                  <a:pt x="13523" y="12355"/>
                  <a:pt x="13543" y="12366"/>
                  <a:pt x="13568" y="12402"/>
                </a:cubicBezTo>
                <a:cubicBezTo>
                  <a:pt x="13543" y="12465"/>
                  <a:pt x="13487" y="12521"/>
                  <a:pt x="13419" y="12551"/>
                </a:cubicBezTo>
                <a:cubicBezTo>
                  <a:pt x="13371" y="12572"/>
                  <a:pt x="13288" y="12628"/>
                  <a:pt x="13271" y="12576"/>
                </a:cubicBezTo>
              </a:path>
              <a:path w="2754" h="2556">
                <a:moveTo>
                  <a:pt x="13717" y="12402"/>
                </a:moveTo>
                <a:cubicBezTo>
                  <a:pt x="13789" y="12420"/>
                  <a:pt x="13881" y="12414"/>
                  <a:pt x="13891" y="12502"/>
                </a:cubicBezTo>
                <a:cubicBezTo>
                  <a:pt x="13891" y="12526"/>
                  <a:pt x="13891" y="12535"/>
                  <a:pt x="13891" y="12551"/>
                </a:cubicBezTo>
                <a:cubicBezTo>
                  <a:pt x="13839" y="12551"/>
                  <a:pt x="13841" y="12554"/>
                  <a:pt x="13841" y="12502"/>
                </a:cubicBezTo>
                <a:cubicBezTo>
                  <a:pt x="13841" y="12435"/>
                  <a:pt x="13897" y="12396"/>
                  <a:pt x="13940" y="12353"/>
                </a:cubicBezTo>
                <a:cubicBezTo>
                  <a:pt x="14009" y="12284"/>
                  <a:pt x="14119" y="12234"/>
                  <a:pt x="14213" y="12204"/>
                </a:cubicBezTo>
                <a:cubicBezTo>
                  <a:pt x="14246" y="12196"/>
                  <a:pt x="14279" y="12187"/>
                  <a:pt x="14312" y="12179"/>
                </a:cubicBezTo>
              </a:path>
              <a:path w="2754" h="2556">
                <a:moveTo>
                  <a:pt x="15280" y="12278"/>
                </a:moveTo>
                <a:cubicBezTo>
                  <a:pt x="15353" y="12278"/>
                  <a:pt x="15408" y="12262"/>
                  <a:pt x="15478" y="12254"/>
                </a:cubicBezTo>
                <a:cubicBezTo>
                  <a:pt x="15555" y="12245"/>
                  <a:pt x="15624" y="12235"/>
                  <a:pt x="15701" y="12229"/>
                </a:cubicBezTo>
              </a:path>
              <a:path w="2754" h="2556">
                <a:moveTo>
                  <a:pt x="15677" y="12105"/>
                </a:moveTo>
                <a:cubicBezTo>
                  <a:pt x="15615" y="12105"/>
                  <a:pt x="15612" y="12126"/>
                  <a:pt x="15602" y="12204"/>
                </a:cubicBezTo>
                <a:cubicBezTo>
                  <a:pt x="15590" y="12306"/>
                  <a:pt x="15573" y="12432"/>
                  <a:pt x="15602" y="12526"/>
                </a:cubicBezTo>
                <a:cubicBezTo>
                  <a:pt x="15610" y="12543"/>
                  <a:pt x="15619" y="12559"/>
                  <a:pt x="15627" y="12576"/>
                </a:cubicBezTo>
              </a:path>
              <a:path w="2754" h="2556">
                <a:moveTo>
                  <a:pt x="14039" y="11559"/>
                </a:moveTo>
                <a:cubicBezTo>
                  <a:pt x="14136" y="11559"/>
                  <a:pt x="14218" y="11571"/>
                  <a:pt x="14312" y="11584"/>
                </a:cubicBezTo>
                <a:cubicBezTo>
                  <a:pt x="14392" y="11596"/>
                  <a:pt x="14461" y="11568"/>
                  <a:pt x="14536" y="11559"/>
                </a:cubicBezTo>
              </a:path>
              <a:path w="2754" h="2556">
                <a:moveTo>
                  <a:pt x="14436" y="11460"/>
                </a:moveTo>
                <a:cubicBezTo>
                  <a:pt x="14398" y="11460"/>
                  <a:pt x="14371" y="11466"/>
                  <a:pt x="14362" y="11509"/>
                </a:cubicBezTo>
                <a:cubicBezTo>
                  <a:pt x="14347" y="11577"/>
                  <a:pt x="14355" y="11680"/>
                  <a:pt x="14387" y="11733"/>
                </a:cubicBezTo>
              </a:path>
              <a:path w="2754" h="2556">
                <a:moveTo>
                  <a:pt x="14932" y="11385"/>
                </a:moveTo>
                <a:cubicBezTo>
                  <a:pt x="14978" y="11405"/>
                  <a:pt x="15021" y="11404"/>
                  <a:pt x="15056" y="11435"/>
                </a:cubicBezTo>
                <a:cubicBezTo>
                  <a:pt x="15101" y="11476"/>
                  <a:pt x="15079" y="11493"/>
                  <a:pt x="15056" y="11534"/>
                </a:cubicBezTo>
                <a:cubicBezTo>
                  <a:pt x="15018" y="11602"/>
                  <a:pt x="14958" y="11625"/>
                  <a:pt x="14932" y="11708"/>
                </a:cubicBezTo>
                <a:cubicBezTo>
                  <a:pt x="14932" y="11716"/>
                  <a:pt x="14932" y="11725"/>
                  <a:pt x="14932" y="11733"/>
                </a:cubicBezTo>
                <a:cubicBezTo>
                  <a:pt x="15018" y="11774"/>
                  <a:pt x="15060" y="11782"/>
                  <a:pt x="15156" y="11782"/>
                </a:cubicBezTo>
              </a:path>
              <a:path w="2754" h="2556">
                <a:moveTo>
                  <a:pt x="13643" y="13196"/>
                </a:moveTo>
                <a:cubicBezTo>
                  <a:pt x="13582" y="13151"/>
                  <a:pt x="13543" y="13188"/>
                  <a:pt x="13494" y="13246"/>
                </a:cubicBezTo>
                <a:cubicBezTo>
                  <a:pt x="13385" y="13374"/>
                  <a:pt x="13250" y="13568"/>
                  <a:pt x="13246" y="13742"/>
                </a:cubicBezTo>
                <a:cubicBezTo>
                  <a:pt x="13242" y="13932"/>
                  <a:pt x="13398" y="13954"/>
                  <a:pt x="13543" y="13915"/>
                </a:cubicBezTo>
                <a:cubicBezTo>
                  <a:pt x="13704" y="13872"/>
                  <a:pt x="13853" y="13748"/>
                  <a:pt x="13915" y="13593"/>
                </a:cubicBezTo>
                <a:cubicBezTo>
                  <a:pt x="13963" y="13474"/>
                  <a:pt x="13910" y="13353"/>
                  <a:pt x="13816" y="13271"/>
                </a:cubicBezTo>
                <a:cubicBezTo>
                  <a:pt x="13799" y="13256"/>
                  <a:pt x="13651" y="13154"/>
                  <a:pt x="13618" y="13196"/>
                </a:cubicBezTo>
                <a:cubicBezTo>
                  <a:pt x="13618" y="13204"/>
                  <a:pt x="13618" y="13213"/>
                  <a:pt x="13618" y="132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45120" y="4179960"/>
            <a:ext cx="1206720" cy="473040"/>
          </a:xfrm>
          <a:custGeom>
            <a:avLst/>
            <a:gdLst/>
            <a:ahLst/>
            <a:rect l="l" t="t" r="r" b="b"/>
            <a:pathLst>
              <a:path w="3349" h="1315">
                <a:moveTo>
                  <a:pt x="17314" y="11956"/>
                </a:moveTo>
                <a:cubicBezTo>
                  <a:pt x="17189" y="11902"/>
                  <a:pt x="17127" y="11892"/>
                  <a:pt x="16991" y="11931"/>
                </a:cubicBezTo>
                <a:cubicBezTo>
                  <a:pt x="16922" y="11951"/>
                  <a:pt x="16787" y="11978"/>
                  <a:pt x="16793" y="12080"/>
                </a:cubicBezTo>
                <a:cubicBezTo>
                  <a:pt x="16798" y="12174"/>
                  <a:pt x="16954" y="12215"/>
                  <a:pt x="17016" y="12254"/>
                </a:cubicBezTo>
                <a:cubicBezTo>
                  <a:pt x="17100" y="12307"/>
                  <a:pt x="17205" y="12376"/>
                  <a:pt x="17214" y="12477"/>
                </a:cubicBezTo>
                <a:cubicBezTo>
                  <a:pt x="17224" y="12592"/>
                  <a:pt x="17120" y="12651"/>
                  <a:pt x="17016" y="12675"/>
                </a:cubicBezTo>
                <a:cubicBezTo>
                  <a:pt x="16957" y="12675"/>
                  <a:pt x="16931" y="12672"/>
                  <a:pt x="16892" y="12650"/>
                </a:cubicBezTo>
              </a:path>
              <a:path w="3349" h="1315">
                <a:moveTo>
                  <a:pt x="17611" y="12080"/>
                </a:moveTo>
                <a:cubicBezTo>
                  <a:pt x="17709" y="12110"/>
                  <a:pt x="17764" y="12108"/>
                  <a:pt x="17735" y="12229"/>
                </a:cubicBezTo>
                <a:cubicBezTo>
                  <a:pt x="17711" y="12327"/>
                  <a:pt x="17665" y="12398"/>
                  <a:pt x="17661" y="12502"/>
                </a:cubicBezTo>
                <a:cubicBezTo>
                  <a:pt x="17657" y="12597"/>
                  <a:pt x="17705" y="12646"/>
                  <a:pt x="17810" y="12626"/>
                </a:cubicBezTo>
                <a:cubicBezTo>
                  <a:pt x="17892" y="12610"/>
                  <a:pt x="17976" y="12525"/>
                  <a:pt x="18008" y="12452"/>
                </a:cubicBezTo>
                <a:cubicBezTo>
                  <a:pt x="18057" y="12340"/>
                  <a:pt x="18027" y="12228"/>
                  <a:pt x="17959" y="12129"/>
                </a:cubicBezTo>
                <a:cubicBezTo>
                  <a:pt x="17918" y="12069"/>
                  <a:pt x="17854" y="12019"/>
                  <a:pt x="17785" y="12005"/>
                </a:cubicBezTo>
              </a:path>
              <a:path w="3349" h="1315">
                <a:moveTo>
                  <a:pt x="18256" y="12477"/>
                </a:moveTo>
                <a:cubicBezTo>
                  <a:pt x="18285" y="12487"/>
                  <a:pt x="18320" y="12519"/>
                  <a:pt x="18355" y="12551"/>
                </a:cubicBezTo>
                <a:cubicBezTo>
                  <a:pt x="18407" y="12598"/>
                  <a:pt x="18470" y="12577"/>
                  <a:pt x="18529" y="12551"/>
                </a:cubicBezTo>
                <a:cubicBezTo>
                  <a:pt x="18594" y="12522"/>
                  <a:pt x="18654" y="12500"/>
                  <a:pt x="18678" y="12427"/>
                </a:cubicBezTo>
                <a:cubicBezTo>
                  <a:pt x="18678" y="12419"/>
                  <a:pt x="18678" y="12410"/>
                  <a:pt x="18678" y="12402"/>
                </a:cubicBezTo>
                <a:cubicBezTo>
                  <a:pt x="18629" y="12414"/>
                  <a:pt x="18566" y="12500"/>
                  <a:pt x="18554" y="12551"/>
                </a:cubicBezTo>
                <a:cubicBezTo>
                  <a:pt x="18526" y="12672"/>
                  <a:pt x="18568" y="12807"/>
                  <a:pt x="18678" y="12874"/>
                </a:cubicBezTo>
                <a:cubicBezTo>
                  <a:pt x="18719" y="12890"/>
                  <a:pt x="18761" y="12907"/>
                  <a:pt x="18802" y="12923"/>
                </a:cubicBezTo>
              </a:path>
              <a:path w="3349" h="1315">
                <a:moveTo>
                  <a:pt x="19124" y="11857"/>
                </a:moveTo>
                <a:cubicBezTo>
                  <a:pt x="19150" y="11894"/>
                  <a:pt x="19213" y="11881"/>
                  <a:pt x="19273" y="11881"/>
                </a:cubicBezTo>
                <a:cubicBezTo>
                  <a:pt x="19339" y="11881"/>
                  <a:pt x="19356" y="11881"/>
                  <a:pt x="19397" y="11881"/>
                </a:cubicBezTo>
              </a:path>
              <a:path w="3349" h="1315">
                <a:moveTo>
                  <a:pt x="19745" y="11658"/>
                </a:moveTo>
                <a:cubicBezTo>
                  <a:pt x="19745" y="11595"/>
                  <a:pt x="19753" y="11609"/>
                  <a:pt x="19819" y="11609"/>
                </a:cubicBezTo>
                <a:cubicBezTo>
                  <a:pt x="19893" y="11609"/>
                  <a:pt x="19936" y="11606"/>
                  <a:pt x="19993" y="11658"/>
                </a:cubicBezTo>
                <a:cubicBezTo>
                  <a:pt x="20061" y="11720"/>
                  <a:pt x="19937" y="11778"/>
                  <a:pt x="19893" y="11807"/>
                </a:cubicBezTo>
                <a:cubicBezTo>
                  <a:pt x="19842" y="11841"/>
                  <a:pt x="19810" y="11865"/>
                  <a:pt x="19769" y="11906"/>
                </a:cubicBezTo>
                <a:cubicBezTo>
                  <a:pt x="19800" y="11968"/>
                  <a:pt x="19919" y="11973"/>
                  <a:pt x="19993" y="11981"/>
                </a:cubicBezTo>
                <a:cubicBezTo>
                  <a:pt x="20067" y="11981"/>
                  <a:pt x="20092" y="11981"/>
                  <a:pt x="20141" y="119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26120" y="4973760"/>
            <a:ext cx="44640" cy="3636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17041" y="13866"/>
                </a:moveTo>
                <a:cubicBezTo>
                  <a:pt x="17041" y="13834"/>
                  <a:pt x="17038" y="13866"/>
                  <a:pt x="17090" y="13866"/>
                </a:cubicBezTo>
                <a:cubicBezTo>
                  <a:pt x="17131" y="13866"/>
                  <a:pt x="17103" y="13853"/>
                  <a:pt x="17140" y="13841"/>
                </a:cubicBezTo>
                <a:cubicBezTo>
                  <a:pt x="17122" y="13788"/>
                  <a:pt x="17098" y="13834"/>
                  <a:pt x="17066" y="13866"/>
                </a:cubicBezTo>
                <a:cubicBezTo>
                  <a:pt x="17042" y="13891"/>
                  <a:pt x="16997" y="13953"/>
                  <a:pt x="17066" y="13915"/>
                </a:cubicBezTo>
                <a:cubicBezTo>
                  <a:pt x="17102" y="13896"/>
                  <a:pt x="17126" y="13870"/>
                  <a:pt x="17140" y="13841"/>
                </a:cubicBezTo>
                <a:cubicBezTo>
                  <a:pt x="17106" y="13850"/>
                  <a:pt x="17075" y="13846"/>
                  <a:pt x="17115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19880" y="4875120"/>
            <a:ext cx="250920" cy="216000"/>
          </a:xfrm>
          <a:custGeom>
            <a:avLst/>
            <a:gdLst/>
            <a:ahLst/>
            <a:rect l="l" t="t" r="r" b="b"/>
            <a:pathLst>
              <a:path w="695" h="597">
                <a:moveTo>
                  <a:pt x="18033" y="13593"/>
                </a:moveTo>
                <a:cubicBezTo>
                  <a:pt x="18033" y="13576"/>
                  <a:pt x="18033" y="13560"/>
                  <a:pt x="18033" y="13543"/>
                </a:cubicBezTo>
                <a:cubicBezTo>
                  <a:pt x="17950" y="13627"/>
                  <a:pt x="17929" y="13685"/>
                  <a:pt x="17884" y="13791"/>
                </a:cubicBezTo>
                <a:cubicBezTo>
                  <a:pt x="17841" y="13891"/>
                  <a:pt x="17779" y="14063"/>
                  <a:pt x="17909" y="14139"/>
                </a:cubicBezTo>
                <a:cubicBezTo>
                  <a:pt x="17983" y="14183"/>
                  <a:pt x="18140" y="14096"/>
                  <a:pt x="18182" y="14039"/>
                </a:cubicBezTo>
                <a:cubicBezTo>
                  <a:pt x="18231" y="13974"/>
                  <a:pt x="18254" y="13837"/>
                  <a:pt x="18207" y="13767"/>
                </a:cubicBezTo>
                <a:cubicBezTo>
                  <a:pt x="18165" y="13706"/>
                  <a:pt x="18129" y="13657"/>
                  <a:pt x="18058" y="13643"/>
                </a:cubicBezTo>
              </a:path>
              <a:path w="695" h="597">
                <a:moveTo>
                  <a:pt x="18529" y="13618"/>
                </a:moveTo>
                <a:cubicBezTo>
                  <a:pt x="18529" y="13729"/>
                  <a:pt x="18517" y="13836"/>
                  <a:pt x="18504" y="13940"/>
                </a:cubicBezTo>
                <a:cubicBezTo>
                  <a:pt x="18496" y="14001"/>
                  <a:pt x="18479" y="14054"/>
                  <a:pt x="18479" y="14114"/>
                </a:cubicBezTo>
                <a:cubicBezTo>
                  <a:pt x="18479" y="14122"/>
                  <a:pt x="18479" y="14131"/>
                  <a:pt x="18479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04000" y="4911840"/>
            <a:ext cx="268200" cy="187200"/>
          </a:xfrm>
          <a:custGeom>
            <a:avLst/>
            <a:gdLst/>
            <a:ahLst/>
            <a:rect l="l" t="t" r="r" b="b"/>
            <a:pathLst>
              <a:path w="745" h="521">
                <a:moveTo>
                  <a:pt x="19000" y="13667"/>
                </a:moveTo>
                <a:cubicBezTo>
                  <a:pt x="19054" y="13685"/>
                  <a:pt x="18993" y="13765"/>
                  <a:pt x="18976" y="13816"/>
                </a:cubicBezTo>
                <a:cubicBezTo>
                  <a:pt x="18945" y="13906"/>
                  <a:pt x="18908" y="13994"/>
                  <a:pt x="18901" y="14089"/>
                </a:cubicBezTo>
                <a:cubicBezTo>
                  <a:pt x="18901" y="14097"/>
                  <a:pt x="18901" y="14106"/>
                  <a:pt x="18901" y="14114"/>
                </a:cubicBezTo>
                <a:cubicBezTo>
                  <a:pt x="18954" y="14101"/>
                  <a:pt x="18991" y="14036"/>
                  <a:pt x="19025" y="13990"/>
                </a:cubicBezTo>
                <a:cubicBezTo>
                  <a:pt x="19088" y="13905"/>
                  <a:pt x="19132" y="13819"/>
                  <a:pt x="19199" y="13742"/>
                </a:cubicBezTo>
                <a:cubicBezTo>
                  <a:pt x="19224" y="13717"/>
                  <a:pt x="19232" y="13709"/>
                  <a:pt x="19248" y="13692"/>
                </a:cubicBezTo>
                <a:cubicBezTo>
                  <a:pt x="19248" y="13783"/>
                  <a:pt x="19248" y="13874"/>
                  <a:pt x="19248" y="13965"/>
                </a:cubicBezTo>
                <a:cubicBezTo>
                  <a:pt x="19289" y="13965"/>
                  <a:pt x="19340" y="13975"/>
                  <a:pt x="19372" y="13940"/>
                </a:cubicBezTo>
                <a:cubicBezTo>
                  <a:pt x="19439" y="13868"/>
                  <a:pt x="19516" y="13774"/>
                  <a:pt x="19571" y="13692"/>
                </a:cubicBezTo>
                <a:cubicBezTo>
                  <a:pt x="19591" y="13652"/>
                  <a:pt x="19590" y="13636"/>
                  <a:pt x="19621" y="13643"/>
                </a:cubicBezTo>
                <a:cubicBezTo>
                  <a:pt x="19662" y="13712"/>
                  <a:pt x="19645" y="13807"/>
                  <a:pt x="19645" y="13891"/>
                </a:cubicBezTo>
                <a:cubicBezTo>
                  <a:pt x="19645" y="13982"/>
                  <a:pt x="19645" y="14072"/>
                  <a:pt x="19645" y="141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56000" y="4500720"/>
            <a:ext cx="276120" cy="241200"/>
          </a:xfrm>
          <a:custGeom>
            <a:avLst/>
            <a:gdLst/>
            <a:ahLst/>
            <a:rect l="l" t="t" r="r" b="b"/>
            <a:pathLst>
              <a:path w="770" h="670">
                <a:moveTo>
                  <a:pt x="10021" y="12675"/>
                </a:moveTo>
                <a:cubicBezTo>
                  <a:pt x="9926" y="12698"/>
                  <a:pt x="9831" y="12717"/>
                  <a:pt x="9748" y="12774"/>
                </a:cubicBezTo>
                <a:cubicBezTo>
                  <a:pt x="9725" y="12797"/>
                  <a:pt x="9717" y="12801"/>
                  <a:pt x="9723" y="12824"/>
                </a:cubicBezTo>
                <a:cubicBezTo>
                  <a:pt x="9792" y="12824"/>
                  <a:pt x="9834" y="12834"/>
                  <a:pt x="9897" y="12849"/>
                </a:cubicBezTo>
                <a:cubicBezTo>
                  <a:pt x="9938" y="12859"/>
                  <a:pt x="9966" y="12877"/>
                  <a:pt x="9971" y="12923"/>
                </a:cubicBezTo>
                <a:cubicBezTo>
                  <a:pt x="9975" y="12959"/>
                  <a:pt x="9946" y="12974"/>
                  <a:pt x="9922" y="12998"/>
                </a:cubicBezTo>
              </a:path>
              <a:path w="770" h="670">
                <a:moveTo>
                  <a:pt x="10368" y="12626"/>
                </a:moveTo>
                <a:cubicBezTo>
                  <a:pt x="10361" y="12710"/>
                  <a:pt x="10340" y="12793"/>
                  <a:pt x="10319" y="12874"/>
                </a:cubicBezTo>
                <a:cubicBezTo>
                  <a:pt x="10303" y="12936"/>
                  <a:pt x="10283" y="12975"/>
                  <a:pt x="10244" y="13022"/>
                </a:cubicBezTo>
              </a:path>
              <a:path w="770" h="670">
                <a:moveTo>
                  <a:pt x="9996" y="12502"/>
                </a:moveTo>
                <a:cubicBezTo>
                  <a:pt x="9845" y="12634"/>
                  <a:pt x="9708" y="12737"/>
                  <a:pt x="9624" y="12923"/>
                </a:cubicBezTo>
                <a:cubicBezTo>
                  <a:pt x="9582" y="13016"/>
                  <a:pt x="9603" y="13079"/>
                  <a:pt x="9624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31960" y="4670280"/>
            <a:ext cx="260280" cy="1044720"/>
          </a:xfrm>
          <a:custGeom>
            <a:avLst/>
            <a:gdLst/>
            <a:ahLst/>
            <a:rect l="l" t="t" r="r" b="b"/>
            <a:pathLst>
              <a:path w="720" h="2903">
                <a:moveTo>
                  <a:pt x="5085" y="13047"/>
                </a:moveTo>
                <a:cubicBezTo>
                  <a:pt x="5127" y="13117"/>
                  <a:pt x="5110" y="13209"/>
                  <a:pt x="5110" y="13295"/>
                </a:cubicBezTo>
                <a:cubicBezTo>
                  <a:pt x="5110" y="13396"/>
                  <a:pt x="5123" y="13474"/>
                  <a:pt x="5135" y="13568"/>
                </a:cubicBezTo>
              </a:path>
              <a:path w="720" h="2903">
                <a:moveTo>
                  <a:pt x="4812" y="13146"/>
                </a:moveTo>
                <a:cubicBezTo>
                  <a:pt x="4867" y="13027"/>
                  <a:pt x="4920" y="12989"/>
                  <a:pt x="5060" y="12973"/>
                </a:cubicBezTo>
                <a:cubicBezTo>
                  <a:pt x="5211" y="12956"/>
                  <a:pt x="5386" y="12961"/>
                  <a:pt x="5531" y="12998"/>
                </a:cubicBezTo>
              </a:path>
              <a:path w="720" h="2903">
                <a:moveTo>
                  <a:pt x="4837" y="13643"/>
                </a:moveTo>
                <a:cubicBezTo>
                  <a:pt x="4829" y="13668"/>
                  <a:pt x="4820" y="13692"/>
                  <a:pt x="4812" y="13717"/>
                </a:cubicBezTo>
                <a:cubicBezTo>
                  <a:pt x="4915" y="13738"/>
                  <a:pt x="4975" y="13739"/>
                  <a:pt x="5085" y="13717"/>
                </a:cubicBezTo>
                <a:cubicBezTo>
                  <a:pt x="5209" y="13692"/>
                  <a:pt x="5313" y="13661"/>
                  <a:pt x="5432" y="13618"/>
                </a:cubicBezTo>
              </a:path>
              <a:path w="720" h="2903">
                <a:moveTo>
                  <a:pt x="5283" y="14238"/>
                </a:moveTo>
                <a:cubicBezTo>
                  <a:pt x="5308" y="14238"/>
                  <a:pt x="5316" y="14238"/>
                  <a:pt x="5308" y="14213"/>
                </a:cubicBezTo>
                <a:cubicBezTo>
                  <a:pt x="5252" y="14179"/>
                  <a:pt x="5196" y="14195"/>
                  <a:pt x="5135" y="14238"/>
                </a:cubicBezTo>
                <a:cubicBezTo>
                  <a:pt x="5033" y="14310"/>
                  <a:pt x="4975" y="14412"/>
                  <a:pt x="4961" y="14536"/>
                </a:cubicBezTo>
                <a:cubicBezTo>
                  <a:pt x="4949" y="14642"/>
                  <a:pt x="5024" y="14762"/>
                  <a:pt x="5135" y="14784"/>
                </a:cubicBezTo>
                <a:cubicBezTo>
                  <a:pt x="5226" y="14784"/>
                  <a:pt x="5250" y="14784"/>
                  <a:pt x="5308" y="14784"/>
                </a:cubicBezTo>
              </a:path>
              <a:path w="720" h="2903">
                <a:moveTo>
                  <a:pt x="5135" y="15379"/>
                </a:moveTo>
                <a:cubicBezTo>
                  <a:pt x="5193" y="15399"/>
                  <a:pt x="5126" y="15454"/>
                  <a:pt x="5110" y="15503"/>
                </a:cubicBezTo>
                <a:cubicBezTo>
                  <a:pt x="5081" y="15594"/>
                  <a:pt x="5055" y="15740"/>
                  <a:pt x="5110" y="15825"/>
                </a:cubicBezTo>
                <a:cubicBezTo>
                  <a:pt x="5162" y="15905"/>
                  <a:pt x="5285" y="15890"/>
                  <a:pt x="5358" y="15850"/>
                </a:cubicBezTo>
                <a:cubicBezTo>
                  <a:pt x="5417" y="15811"/>
                  <a:pt x="5429" y="15807"/>
                  <a:pt x="5457" y="15776"/>
                </a:cubicBezTo>
              </a:path>
              <a:path w="720" h="2903">
                <a:moveTo>
                  <a:pt x="5209" y="15701"/>
                </a:moveTo>
                <a:cubicBezTo>
                  <a:pt x="5184" y="15701"/>
                  <a:pt x="5160" y="15701"/>
                  <a:pt x="5135" y="15701"/>
                </a:cubicBezTo>
                <a:cubicBezTo>
                  <a:pt x="5209" y="15686"/>
                  <a:pt x="5266" y="15637"/>
                  <a:pt x="5333" y="15602"/>
                </a:cubicBezTo>
                <a:cubicBezTo>
                  <a:pt x="5376" y="15580"/>
                  <a:pt x="5388" y="15577"/>
                  <a:pt x="5407" y="15553"/>
                </a:cubicBezTo>
              </a:path>
              <a:path w="720" h="2903">
                <a:moveTo>
                  <a:pt x="5184" y="15329"/>
                </a:moveTo>
                <a:cubicBezTo>
                  <a:pt x="5198" y="15287"/>
                  <a:pt x="5281" y="15273"/>
                  <a:pt x="5333" y="15255"/>
                </a:cubicBezTo>
                <a:cubicBezTo>
                  <a:pt x="5414" y="15228"/>
                  <a:pt x="5446" y="15219"/>
                  <a:pt x="5507" y="152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4714920"/>
            <a:ext cx="590760" cy="1108080"/>
          </a:xfrm>
          <a:custGeom>
            <a:avLst/>
            <a:gdLst/>
            <a:ahLst/>
            <a:rect l="l" t="t" r="r" b="b"/>
            <a:pathLst>
              <a:path w="1639" h="3077">
                <a:moveTo>
                  <a:pt x="8111" y="13097"/>
                </a:moveTo>
                <a:cubicBezTo>
                  <a:pt x="8156" y="13097"/>
                  <a:pt x="8088" y="13099"/>
                  <a:pt x="8062" y="13122"/>
                </a:cubicBezTo>
                <a:cubicBezTo>
                  <a:pt x="7983" y="13192"/>
                  <a:pt x="7909" y="13344"/>
                  <a:pt x="7888" y="13444"/>
                </a:cubicBezTo>
                <a:cubicBezTo>
                  <a:pt x="7866" y="13550"/>
                  <a:pt x="7890" y="13613"/>
                  <a:pt x="7938" y="13692"/>
                </a:cubicBezTo>
                <a:cubicBezTo>
                  <a:pt x="8109" y="13679"/>
                  <a:pt x="8184" y="13637"/>
                  <a:pt x="8310" y="13519"/>
                </a:cubicBezTo>
                <a:cubicBezTo>
                  <a:pt x="8390" y="13444"/>
                  <a:pt x="8496" y="13310"/>
                  <a:pt x="8409" y="13196"/>
                </a:cubicBezTo>
                <a:cubicBezTo>
                  <a:pt x="8372" y="13148"/>
                  <a:pt x="8274" y="13098"/>
                  <a:pt x="8210" y="13122"/>
                </a:cubicBezTo>
                <a:cubicBezTo>
                  <a:pt x="8157" y="13142"/>
                  <a:pt x="8172" y="13167"/>
                  <a:pt x="8186" y="13196"/>
                </a:cubicBezTo>
              </a:path>
              <a:path w="1639" h="3077">
                <a:moveTo>
                  <a:pt x="7441" y="14784"/>
                </a:moveTo>
                <a:cubicBezTo>
                  <a:pt x="7451" y="14798"/>
                  <a:pt x="7527" y="14828"/>
                  <a:pt x="7565" y="14833"/>
                </a:cubicBezTo>
                <a:cubicBezTo>
                  <a:pt x="7638" y="14843"/>
                  <a:pt x="7698" y="14852"/>
                  <a:pt x="7764" y="14858"/>
                </a:cubicBezTo>
                <a:cubicBezTo>
                  <a:pt x="7772" y="14858"/>
                  <a:pt x="7781" y="14858"/>
                  <a:pt x="7789" y="14858"/>
                </a:cubicBezTo>
              </a:path>
              <a:path w="1639" h="3077">
                <a:moveTo>
                  <a:pt x="8607" y="14560"/>
                </a:moveTo>
                <a:cubicBezTo>
                  <a:pt x="8578" y="14718"/>
                  <a:pt x="8561" y="14830"/>
                  <a:pt x="8458" y="14957"/>
                </a:cubicBezTo>
                <a:cubicBezTo>
                  <a:pt x="8412" y="15003"/>
                  <a:pt x="8398" y="15016"/>
                  <a:pt x="8384" y="15056"/>
                </a:cubicBezTo>
              </a:path>
              <a:path w="1639" h="3077">
                <a:moveTo>
                  <a:pt x="8409" y="14610"/>
                </a:moveTo>
                <a:cubicBezTo>
                  <a:pt x="8444" y="14706"/>
                  <a:pt x="8476" y="14777"/>
                  <a:pt x="8533" y="14858"/>
                </a:cubicBezTo>
                <a:cubicBezTo>
                  <a:pt x="8604" y="14959"/>
                  <a:pt x="8672" y="14983"/>
                  <a:pt x="8781" y="15032"/>
                </a:cubicBezTo>
              </a:path>
              <a:path w="1639" h="3077">
                <a:moveTo>
                  <a:pt x="7615" y="16123"/>
                </a:moveTo>
                <a:cubicBezTo>
                  <a:pt x="7679" y="16086"/>
                  <a:pt x="7740" y="16056"/>
                  <a:pt x="7813" y="16049"/>
                </a:cubicBezTo>
                <a:cubicBezTo>
                  <a:pt x="7915" y="16039"/>
                  <a:pt x="8008" y="16024"/>
                  <a:pt x="8111" y="16024"/>
                </a:cubicBezTo>
              </a:path>
              <a:path w="1639" h="3077">
                <a:moveTo>
                  <a:pt x="8905" y="15701"/>
                </a:moveTo>
                <a:cubicBezTo>
                  <a:pt x="8862" y="15821"/>
                  <a:pt x="8786" y="15906"/>
                  <a:pt x="8731" y="16024"/>
                </a:cubicBezTo>
                <a:cubicBezTo>
                  <a:pt x="8703" y="16083"/>
                  <a:pt x="8697" y="16123"/>
                  <a:pt x="8657" y="16173"/>
                </a:cubicBezTo>
              </a:path>
              <a:path w="1639" h="3077">
                <a:moveTo>
                  <a:pt x="8558" y="15801"/>
                </a:moveTo>
                <a:cubicBezTo>
                  <a:pt x="8576" y="15874"/>
                  <a:pt x="8634" y="15953"/>
                  <a:pt x="8706" y="15999"/>
                </a:cubicBezTo>
                <a:cubicBezTo>
                  <a:pt x="8826" y="16077"/>
                  <a:pt x="8941" y="16114"/>
                  <a:pt x="9079" y="161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86200" y="5340240"/>
            <a:ext cx="635040" cy="581040"/>
          </a:xfrm>
          <a:custGeom>
            <a:avLst/>
            <a:gdLst/>
            <a:ahLst/>
            <a:rect l="l" t="t" r="r" b="b"/>
            <a:pathLst>
              <a:path w="1762" h="1614">
                <a:moveTo>
                  <a:pt x="13295" y="14932"/>
                </a:moveTo>
                <a:cubicBezTo>
                  <a:pt x="13370" y="14964"/>
                  <a:pt x="13414" y="14941"/>
                  <a:pt x="13494" y="14957"/>
                </a:cubicBezTo>
                <a:cubicBezTo>
                  <a:pt x="13567" y="14971"/>
                  <a:pt x="13617" y="14982"/>
                  <a:pt x="13692" y="14982"/>
                </a:cubicBezTo>
              </a:path>
              <a:path w="1762" h="1614">
                <a:moveTo>
                  <a:pt x="13543" y="14833"/>
                </a:moveTo>
                <a:cubicBezTo>
                  <a:pt x="13480" y="14933"/>
                  <a:pt x="13469" y="14965"/>
                  <a:pt x="13469" y="15081"/>
                </a:cubicBezTo>
                <a:cubicBezTo>
                  <a:pt x="13469" y="15139"/>
                  <a:pt x="13469" y="15197"/>
                  <a:pt x="13469" y="15255"/>
                </a:cubicBezTo>
              </a:path>
              <a:path w="1762" h="1614">
                <a:moveTo>
                  <a:pt x="14337" y="14932"/>
                </a:moveTo>
                <a:cubicBezTo>
                  <a:pt x="14295" y="14953"/>
                  <a:pt x="14265" y="15006"/>
                  <a:pt x="14238" y="15056"/>
                </a:cubicBezTo>
                <a:cubicBezTo>
                  <a:pt x="14205" y="15117"/>
                  <a:pt x="14159" y="15188"/>
                  <a:pt x="14139" y="15255"/>
                </a:cubicBezTo>
                <a:cubicBezTo>
                  <a:pt x="14139" y="15263"/>
                  <a:pt x="14139" y="15272"/>
                  <a:pt x="14139" y="15280"/>
                </a:cubicBezTo>
              </a:path>
              <a:path w="1762" h="1614">
                <a:moveTo>
                  <a:pt x="14163" y="14908"/>
                </a:moveTo>
                <a:cubicBezTo>
                  <a:pt x="14130" y="14953"/>
                  <a:pt x="14125" y="15003"/>
                  <a:pt x="14163" y="15056"/>
                </a:cubicBezTo>
                <a:cubicBezTo>
                  <a:pt x="14216" y="15130"/>
                  <a:pt x="14327" y="15247"/>
                  <a:pt x="14412" y="15280"/>
                </a:cubicBezTo>
                <a:cubicBezTo>
                  <a:pt x="14420" y="15280"/>
                  <a:pt x="14428" y="15280"/>
                  <a:pt x="14436" y="15280"/>
                </a:cubicBezTo>
              </a:path>
              <a:path w="1762" h="1614">
                <a:moveTo>
                  <a:pt x="13395" y="16148"/>
                </a:moveTo>
                <a:cubicBezTo>
                  <a:pt x="13491" y="16148"/>
                  <a:pt x="13572" y="16127"/>
                  <a:pt x="13667" y="16123"/>
                </a:cubicBezTo>
                <a:cubicBezTo>
                  <a:pt x="13735" y="16120"/>
                  <a:pt x="13778" y="16119"/>
                  <a:pt x="13841" y="16098"/>
                </a:cubicBezTo>
              </a:path>
              <a:path w="1762" h="1614">
                <a:moveTo>
                  <a:pt x="13643" y="15925"/>
                </a:moveTo>
                <a:cubicBezTo>
                  <a:pt x="13598" y="15939"/>
                  <a:pt x="13618" y="15996"/>
                  <a:pt x="13618" y="16049"/>
                </a:cubicBezTo>
                <a:cubicBezTo>
                  <a:pt x="13618" y="16155"/>
                  <a:pt x="13616" y="16270"/>
                  <a:pt x="13643" y="16371"/>
                </a:cubicBezTo>
                <a:cubicBezTo>
                  <a:pt x="13651" y="16388"/>
                  <a:pt x="13659" y="16404"/>
                  <a:pt x="13667" y="16421"/>
                </a:cubicBezTo>
              </a:path>
              <a:path w="1762" h="1614">
                <a:moveTo>
                  <a:pt x="14833" y="15925"/>
                </a:moveTo>
                <a:cubicBezTo>
                  <a:pt x="14780" y="15977"/>
                  <a:pt x="14750" y="16035"/>
                  <a:pt x="14709" y="16098"/>
                </a:cubicBezTo>
                <a:cubicBezTo>
                  <a:pt x="14646" y="16195"/>
                  <a:pt x="14571" y="16315"/>
                  <a:pt x="14536" y="16421"/>
                </a:cubicBezTo>
              </a:path>
              <a:path w="1762" h="1614">
                <a:moveTo>
                  <a:pt x="14585" y="16024"/>
                </a:moveTo>
                <a:cubicBezTo>
                  <a:pt x="14637" y="16037"/>
                  <a:pt x="14654" y="16099"/>
                  <a:pt x="14684" y="16148"/>
                </a:cubicBezTo>
                <a:cubicBezTo>
                  <a:pt x="14745" y="16248"/>
                  <a:pt x="14798" y="16339"/>
                  <a:pt x="14908" y="16396"/>
                </a:cubicBezTo>
                <a:cubicBezTo>
                  <a:pt x="14982" y="16421"/>
                  <a:pt x="15007" y="16429"/>
                  <a:pt x="15056" y="164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34040" y="5438880"/>
            <a:ext cx="1447920" cy="874440"/>
          </a:xfrm>
          <a:custGeom>
            <a:avLst/>
            <a:gdLst/>
            <a:ahLst/>
            <a:rect l="l" t="t" r="r" b="b"/>
            <a:pathLst>
              <a:path w="4019" h="2432">
                <a:moveTo>
                  <a:pt x="17611" y="15255"/>
                </a:moveTo>
                <a:cubicBezTo>
                  <a:pt x="17562" y="15255"/>
                  <a:pt x="17662" y="15255"/>
                  <a:pt x="17711" y="15255"/>
                </a:cubicBezTo>
                <a:cubicBezTo>
                  <a:pt x="17802" y="15255"/>
                  <a:pt x="17874" y="15273"/>
                  <a:pt x="17959" y="15280"/>
                </a:cubicBezTo>
                <a:cubicBezTo>
                  <a:pt x="17983" y="15280"/>
                  <a:pt x="17992" y="15280"/>
                  <a:pt x="18008" y="15280"/>
                </a:cubicBezTo>
              </a:path>
              <a:path w="4019" h="2432">
                <a:moveTo>
                  <a:pt x="17859" y="15106"/>
                </a:moveTo>
                <a:cubicBezTo>
                  <a:pt x="17817" y="15117"/>
                  <a:pt x="17769" y="15154"/>
                  <a:pt x="17760" y="15205"/>
                </a:cubicBezTo>
                <a:cubicBezTo>
                  <a:pt x="17745" y="15290"/>
                  <a:pt x="17760" y="15392"/>
                  <a:pt x="17760" y="15478"/>
                </a:cubicBezTo>
              </a:path>
              <a:path w="4019" h="2432">
                <a:moveTo>
                  <a:pt x="18777" y="15255"/>
                </a:moveTo>
                <a:cubicBezTo>
                  <a:pt x="18721" y="15311"/>
                  <a:pt x="18677" y="15370"/>
                  <a:pt x="18628" y="15429"/>
                </a:cubicBezTo>
                <a:cubicBezTo>
                  <a:pt x="18586" y="15480"/>
                  <a:pt x="18545" y="15527"/>
                  <a:pt x="18504" y="15577"/>
                </a:cubicBezTo>
              </a:path>
              <a:path w="4019" h="2432">
                <a:moveTo>
                  <a:pt x="18504" y="15131"/>
                </a:moveTo>
                <a:cubicBezTo>
                  <a:pt x="18451" y="15201"/>
                  <a:pt x="18511" y="15261"/>
                  <a:pt x="18554" y="15329"/>
                </a:cubicBezTo>
                <a:cubicBezTo>
                  <a:pt x="18626" y="15444"/>
                  <a:pt x="18710" y="15519"/>
                  <a:pt x="18827" y="15577"/>
                </a:cubicBezTo>
              </a:path>
              <a:path w="4019" h="2432">
                <a:moveTo>
                  <a:pt x="17487" y="16718"/>
                </a:moveTo>
                <a:cubicBezTo>
                  <a:pt x="17471" y="16672"/>
                  <a:pt x="17455" y="16708"/>
                  <a:pt x="17413" y="16718"/>
                </a:cubicBezTo>
                <a:cubicBezTo>
                  <a:pt x="17446" y="16686"/>
                  <a:pt x="17477" y="16674"/>
                  <a:pt x="17487" y="16644"/>
                </a:cubicBezTo>
                <a:cubicBezTo>
                  <a:pt x="17460" y="16680"/>
                  <a:pt x="17431" y="16694"/>
                  <a:pt x="17462" y="16694"/>
                </a:cubicBezTo>
              </a:path>
              <a:path w="4019" h="2432">
                <a:moveTo>
                  <a:pt x="18132" y="16321"/>
                </a:moveTo>
                <a:cubicBezTo>
                  <a:pt x="18179" y="16276"/>
                  <a:pt x="18094" y="16367"/>
                  <a:pt x="18058" y="16421"/>
                </a:cubicBezTo>
                <a:cubicBezTo>
                  <a:pt x="18001" y="16504"/>
                  <a:pt x="17940" y="16637"/>
                  <a:pt x="17959" y="16743"/>
                </a:cubicBezTo>
                <a:cubicBezTo>
                  <a:pt x="17981" y="16866"/>
                  <a:pt x="18123" y="16813"/>
                  <a:pt x="18182" y="16768"/>
                </a:cubicBezTo>
                <a:cubicBezTo>
                  <a:pt x="18252" y="16714"/>
                  <a:pt x="18324" y="16613"/>
                  <a:pt x="18306" y="16520"/>
                </a:cubicBezTo>
                <a:cubicBezTo>
                  <a:pt x="18292" y="16447"/>
                  <a:pt x="18240" y="16405"/>
                  <a:pt x="18182" y="16371"/>
                </a:cubicBezTo>
              </a:path>
              <a:path w="4019" h="2432">
                <a:moveTo>
                  <a:pt x="18678" y="16297"/>
                </a:moveTo>
                <a:cubicBezTo>
                  <a:pt x="18667" y="16372"/>
                  <a:pt x="18632" y="16411"/>
                  <a:pt x="18628" y="16495"/>
                </a:cubicBezTo>
                <a:cubicBezTo>
                  <a:pt x="18625" y="16567"/>
                  <a:pt x="18584" y="16645"/>
                  <a:pt x="18604" y="16718"/>
                </a:cubicBezTo>
                <a:cubicBezTo>
                  <a:pt x="18624" y="16759"/>
                  <a:pt x="18632" y="16765"/>
                  <a:pt x="18628" y="16793"/>
                </a:cubicBezTo>
              </a:path>
              <a:path w="4019" h="2432">
                <a:moveTo>
                  <a:pt x="19224" y="16520"/>
                </a:moveTo>
                <a:cubicBezTo>
                  <a:pt x="19273" y="16550"/>
                  <a:pt x="19311" y="16545"/>
                  <a:pt x="19372" y="16545"/>
                </a:cubicBezTo>
                <a:cubicBezTo>
                  <a:pt x="19449" y="16545"/>
                  <a:pt x="19502" y="16550"/>
                  <a:pt x="19571" y="16520"/>
                </a:cubicBezTo>
              </a:path>
              <a:path w="4019" h="2432">
                <a:moveTo>
                  <a:pt x="19397" y="16297"/>
                </a:moveTo>
                <a:cubicBezTo>
                  <a:pt x="19346" y="16360"/>
                  <a:pt x="19308" y="16436"/>
                  <a:pt x="19298" y="16520"/>
                </a:cubicBezTo>
                <a:cubicBezTo>
                  <a:pt x="19287" y="16611"/>
                  <a:pt x="19301" y="16683"/>
                  <a:pt x="19323" y="16768"/>
                </a:cubicBezTo>
              </a:path>
              <a:path w="4019" h="2432">
                <a:moveTo>
                  <a:pt x="20241" y="16421"/>
                </a:moveTo>
                <a:cubicBezTo>
                  <a:pt x="20190" y="16502"/>
                  <a:pt x="20151" y="16593"/>
                  <a:pt x="20092" y="16669"/>
                </a:cubicBezTo>
                <a:cubicBezTo>
                  <a:pt x="20048" y="16726"/>
                  <a:pt x="20013" y="16787"/>
                  <a:pt x="19968" y="16842"/>
                </a:cubicBezTo>
              </a:path>
              <a:path w="4019" h="2432">
                <a:moveTo>
                  <a:pt x="19943" y="16396"/>
                </a:moveTo>
                <a:cubicBezTo>
                  <a:pt x="19962" y="16473"/>
                  <a:pt x="20016" y="16486"/>
                  <a:pt x="20067" y="16545"/>
                </a:cubicBezTo>
                <a:cubicBezTo>
                  <a:pt x="20147" y="16636"/>
                  <a:pt x="20217" y="16720"/>
                  <a:pt x="20315" y="16793"/>
                </a:cubicBezTo>
                <a:cubicBezTo>
                  <a:pt x="20376" y="16839"/>
                  <a:pt x="20435" y="16863"/>
                  <a:pt x="20489" y="16917"/>
                </a:cubicBezTo>
              </a:path>
              <a:path w="4019" h="2432">
                <a:moveTo>
                  <a:pt x="17289" y="16197"/>
                </a:moveTo>
                <a:cubicBezTo>
                  <a:pt x="17280" y="16206"/>
                  <a:pt x="17243" y="16201"/>
                  <a:pt x="17214" y="16272"/>
                </a:cubicBezTo>
                <a:cubicBezTo>
                  <a:pt x="17172" y="16373"/>
                  <a:pt x="17129" y="16469"/>
                  <a:pt x="17090" y="16570"/>
                </a:cubicBezTo>
                <a:cubicBezTo>
                  <a:pt x="17058" y="16653"/>
                  <a:pt x="17021" y="16751"/>
                  <a:pt x="17041" y="16842"/>
                </a:cubicBezTo>
                <a:cubicBezTo>
                  <a:pt x="17054" y="16900"/>
                  <a:pt x="17114" y="16946"/>
                  <a:pt x="17165" y="16966"/>
                </a:cubicBezTo>
                <a:cubicBezTo>
                  <a:pt x="17220" y="16987"/>
                  <a:pt x="17277" y="16994"/>
                  <a:pt x="17338" y="17016"/>
                </a:cubicBezTo>
                <a:cubicBezTo>
                  <a:pt x="17388" y="17034"/>
                  <a:pt x="17436" y="17063"/>
                  <a:pt x="17487" y="17090"/>
                </a:cubicBezTo>
                <a:cubicBezTo>
                  <a:pt x="17566" y="17132"/>
                  <a:pt x="17648" y="17155"/>
                  <a:pt x="17735" y="17165"/>
                </a:cubicBezTo>
                <a:cubicBezTo>
                  <a:pt x="17910" y="17186"/>
                  <a:pt x="18108" y="17179"/>
                  <a:pt x="18281" y="17190"/>
                </a:cubicBezTo>
                <a:cubicBezTo>
                  <a:pt x="18363" y="17195"/>
                  <a:pt x="18451" y="17189"/>
                  <a:pt x="18529" y="17214"/>
                </a:cubicBezTo>
                <a:cubicBezTo>
                  <a:pt x="18590" y="17234"/>
                  <a:pt x="18642" y="17270"/>
                  <a:pt x="18703" y="17289"/>
                </a:cubicBezTo>
                <a:cubicBezTo>
                  <a:pt x="18782" y="17314"/>
                  <a:pt x="18868" y="17325"/>
                  <a:pt x="18951" y="17338"/>
                </a:cubicBezTo>
                <a:cubicBezTo>
                  <a:pt x="19098" y="17361"/>
                  <a:pt x="19248" y="17368"/>
                  <a:pt x="19397" y="17388"/>
                </a:cubicBezTo>
                <a:cubicBezTo>
                  <a:pt x="19498" y="17401"/>
                  <a:pt x="19595" y="17422"/>
                  <a:pt x="19695" y="17438"/>
                </a:cubicBezTo>
                <a:cubicBezTo>
                  <a:pt x="19786" y="17453"/>
                  <a:pt x="19878" y="17469"/>
                  <a:pt x="19968" y="17487"/>
                </a:cubicBezTo>
                <a:cubicBezTo>
                  <a:pt x="20041" y="17501"/>
                  <a:pt x="20115" y="17501"/>
                  <a:pt x="20191" y="17512"/>
                </a:cubicBezTo>
                <a:cubicBezTo>
                  <a:pt x="20274" y="17524"/>
                  <a:pt x="20350" y="17535"/>
                  <a:pt x="20439" y="17537"/>
                </a:cubicBezTo>
                <a:cubicBezTo>
                  <a:pt x="20547" y="17540"/>
                  <a:pt x="20663" y="17552"/>
                  <a:pt x="20762" y="17512"/>
                </a:cubicBezTo>
                <a:cubicBezTo>
                  <a:pt x="20815" y="17490"/>
                  <a:pt x="20862" y="17441"/>
                  <a:pt x="20886" y="17388"/>
                </a:cubicBezTo>
                <a:cubicBezTo>
                  <a:pt x="20918" y="17317"/>
                  <a:pt x="20921" y="17241"/>
                  <a:pt x="20935" y="17165"/>
                </a:cubicBezTo>
                <a:cubicBezTo>
                  <a:pt x="20951" y="17081"/>
                  <a:pt x="20968" y="16999"/>
                  <a:pt x="20985" y="16917"/>
                </a:cubicBezTo>
                <a:cubicBezTo>
                  <a:pt x="21000" y="16847"/>
                  <a:pt x="21028" y="16763"/>
                  <a:pt x="21034" y="16694"/>
                </a:cubicBezTo>
                <a:cubicBezTo>
                  <a:pt x="21039" y="16645"/>
                  <a:pt x="21055" y="16581"/>
                  <a:pt x="21059" y="16545"/>
                </a:cubicBezTo>
                <a:cubicBezTo>
                  <a:pt x="21066" y="16473"/>
                  <a:pt x="21054" y="16408"/>
                  <a:pt x="21034" y="16371"/>
                </a:cubicBezTo>
                <a:cubicBezTo>
                  <a:pt x="21015" y="16337"/>
                  <a:pt x="21016" y="16343"/>
                  <a:pt x="20985" y="16321"/>
                </a:cubicBezTo>
                <a:cubicBezTo>
                  <a:pt x="20962" y="16305"/>
                  <a:pt x="20913" y="16287"/>
                  <a:pt x="20886" y="16272"/>
                </a:cubicBezTo>
                <a:cubicBezTo>
                  <a:pt x="20854" y="16255"/>
                  <a:pt x="20820" y="16240"/>
                  <a:pt x="20786" y="16222"/>
                </a:cubicBezTo>
                <a:cubicBezTo>
                  <a:pt x="20745" y="16200"/>
                  <a:pt x="20675" y="16193"/>
                  <a:pt x="20638" y="16173"/>
                </a:cubicBezTo>
                <a:cubicBezTo>
                  <a:pt x="20581" y="16143"/>
                  <a:pt x="20542" y="16084"/>
                  <a:pt x="20489" y="16049"/>
                </a:cubicBezTo>
                <a:cubicBezTo>
                  <a:pt x="20436" y="16014"/>
                  <a:pt x="20368" y="15999"/>
                  <a:pt x="20315" y="15974"/>
                </a:cubicBezTo>
                <a:cubicBezTo>
                  <a:pt x="20248" y="15943"/>
                  <a:pt x="20186" y="15917"/>
                  <a:pt x="20117" y="15900"/>
                </a:cubicBezTo>
                <a:cubicBezTo>
                  <a:pt x="20056" y="15885"/>
                  <a:pt x="20008" y="15887"/>
                  <a:pt x="19943" y="15875"/>
                </a:cubicBezTo>
                <a:cubicBezTo>
                  <a:pt x="19888" y="15865"/>
                  <a:pt x="19851" y="15854"/>
                  <a:pt x="19794" y="15850"/>
                </a:cubicBezTo>
                <a:cubicBezTo>
                  <a:pt x="19416" y="15821"/>
                  <a:pt x="19027" y="15853"/>
                  <a:pt x="18653" y="15825"/>
                </a:cubicBezTo>
                <a:cubicBezTo>
                  <a:pt x="18479" y="15812"/>
                  <a:pt x="18189" y="15784"/>
                  <a:pt x="18033" y="15850"/>
                </a:cubicBezTo>
                <a:cubicBezTo>
                  <a:pt x="18002" y="15863"/>
                  <a:pt x="18001" y="15885"/>
                  <a:pt x="17959" y="15900"/>
                </a:cubicBezTo>
                <a:cubicBezTo>
                  <a:pt x="17903" y="15921"/>
                  <a:pt x="17820" y="15936"/>
                  <a:pt x="17760" y="15949"/>
                </a:cubicBezTo>
                <a:cubicBezTo>
                  <a:pt x="17692" y="15964"/>
                  <a:pt x="17605" y="15990"/>
                  <a:pt x="17537" y="15999"/>
                </a:cubicBezTo>
                <a:cubicBezTo>
                  <a:pt x="17495" y="15999"/>
                  <a:pt x="17487" y="15999"/>
                  <a:pt x="17462" y="159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7200" y="3098880"/>
            <a:ext cx="536760" cy="465120"/>
          </a:xfrm>
          <a:custGeom>
            <a:avLst/>
            <a:gdLst/>
            <a:ahLst/>
            <a:rect l="l" t="t" r="r" b="b"/>
            <a:pathLst>
              <a:path w="1489" h="1291">
                <a:moveTo>
                  <a:pt x="7144" y="8607"/>
                </a:moveTo>
                <a:cubicBezTo>
                  <a:pt x="7098" y="8698"/>
                  <a:pt x="7087" y="8847"/>
                  <a:pt x="7069" y="8954"/>
                </a:cubicBezTo>
                <a:cubicBezTo>
                  <a:pt x="7040" y="9123"/>
                  <a:pt x="7020" y="9280"/>
                  <a:pt x="7020" y="9451"/>
                </a:cubicBezTo>
                <a:cubicBezTo>
                  <a:pt x="7020" y="9509"/>
                  <a:pt x="7020" y="9517"/>
                  <a:pt x="7020" y="9550"/>
                </a:cubicBezTo>
              </a:path>
              <a:path w="1489" h="1291">
                <a:moveTo>
                  <a:pt x="7615" y="8756"/>
                </a:moveTo>
                <a:cubicBezTo>
                  <a:pt x="7583" y="8835"/>
                  <a:pt x="7497" y="8884"/>
                  <a:pt x="7441" y="8954"/>
                </a:cubicBezTo>
                <a:cubicBezTo>
                  <a:pt x="7367" y="9046"/>
                  <a:pt x="7293" y="9123"/>
                  <a:pt x="7243" y="9227"/>
                </a:cubicBezTo>
                <a:cubicBezTo>
                  <a:pt x="7222" y="9272"/>
                  <a:pt x="7191" y="9340"/>
                  <a:pt x="7243" y="9376"/>
                </a:cubicBezTo>
                <a:cubicBezTo>
                  <a:pt x="7315" y="9425"/>
                  <a:pt x="7391" y="9397"/>
                  <a:pt x="7466" y="9376"/>
                </a:cubicBezTo>
              </a:path>
              <a:path w="1489" h="1291">
                <a:moveTo>
                  <a:pt x="7913" y="9203"/>
                </a:moveTo>
                <a:cubicBezTo>
                  <a:pt x="7855" y="9231"/>
                  <a:pt x="7799" y="9282"/>
                  <a:pt x="7739" y="9302"/>
                </a:cubicBezTo>
                <a:cubicBezTo>
                  <a:pt x="7697" y="9316"/>
                  <a:pt x="7708" y="9341"/>
                  <a:pt x="7739" y="9376"/>
                </a:cubicBezTo>
                <a:cubicBezTo>
                  <a:pt x="7792" y="9436"/>
                  <a:pt x="7831" y="9414"/>
                  <a:pt x="7838" y="9500"/>
                </a:cubicBezTo>
                <a:cubicBezTo>
                  <a:pt x="7843" y="9565"/>
                  <a:pt x="7832" y="9580"/>
                  <a:pt x="7789" y="9624"/>
                </a:cubicBezTo>
              </a:path>
              <a:path w="1489" h="1291">
                <a:moveTo>
                  <a:pt x="8136" y="9475"/>
                </a:moveTo>
                <a:cubicBezTo>
                  <a:pt x="8153" y="9566"/>
                  <a:pt x="8133" y="9630"/>
                  <a:pt x="8111" y="9723"/>
                </a:cubicBezTo>
                <a:cubicBezTo>
                  <a:pt x="8096" y="9789"/>
                  <a:pt x="8086" y="9831"/>
                  <a:pt x="8086" y="9897"/>
                </a:cubicBezTo>
                <a:cubicBezTo>
                  <a:pt x="8068" y="9820"/>
                  <a:pt x="8076" y="9813"/>
                  <a:pt x="8086" y="9723"/>
                </a:cubicBezTo>
                <a:cubicBezTo>
                  <a:pt x="8102" y="9581"/>
                  <a:pt x="8155" y="9488"/>
                  <a:pt x="8235" y="9376"/>
                </a:cubicBezTo>
                <a:cubicBezTo>
                  <a:pt x="8296" y="9291"/>
                  <a:pt x="8351" y="9233"/>
                  <a:pt x="8458" y="9227"/>
                </a:cubicBezTo>
                <a:cubicBezTo>
                  <a:pt x="8475" y="9227"/>
                  <a:pt x="8491" y="9227"/>
                  <a:pt x="8508" y="9227"/>
                </a:cubicBezTo>
                <a:cubicBezTo>
                  <a:pt x="8508" y="9313"/>
                  <a:pt x="8515" y="9332"/>
                  <a:pt x="8458" y="9401"/>
                </a:cubicBezTo>
                <a:cubicBezTo>
                  <a:pt x="8418" y="9448"/>
                  <a:pt x="8394" y="9475"/>
                  <a:pt x="8334" y="94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1800" y="3224160"/>
            <a:ext cx="115920" cy="125640"/>
          </a:xfrm>
          <a:custGeom>
            <a:avLst/>
            <a:gdLst/>
            <a:ahLst/>
            <a:rect l="l" t="t" r="r" b="b"/>
            <a:pathLst>
              <a:path w="324" h="349">
                <a:moveTo>
                  <a:pt x="9004" y="8979"/>
                </a:moveTo>
                <a:cubicBezTo>
                  <a:pt x="9059" y="8979"/>
                  <a:pt x="9097" y="8957"/>
                  <a:pt x="9153" y="8954"/>
                </a:cubicBezTo>
                <a:cubicBezTo>
                  <a:pt x="9203" y="8954"/>
                  <a:pt x="9219" y="8954"/>
                  <a:pt x="9252" y="8954"/>
                </a:cubicBezTo>
              </a:path>
              <a:path w="324" h="349">
                <a:moveTo>
                  <a:pt x="9004" y="9227"/>
                </a:moveTo>
                <a:cubicBezTo>
                  <a:pt x="9046" y="9300"/>
                  <a:pt x="9046" y="9302"/>
                  <a:pt x="9128" y="9302"/>
                </a:cubicBezTo>
                <a:cubicBezTo>
                  <a:pt x="9202" y="9302"/>
                  <a:pt x="9257" y="9286"/>
                  <a:pt x="9327" y="92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06840" y="3089160"/>
            <a:ext cx="411120" cy="411120"/>
          </a:xfrm>
          <a:custGeom>
            <a:avLst/>
            <a:gdLst/>
            <a:ahLst/>
            <a:rect l="l" t="t" r="r" b="b"/>
            <a:pathLst>
              <a:path w="1142" h="1142">
                <a:moveTo>
                  <a:pt x="10691" y="8979"/>
                </a:moveTo>
                <a:cubicBezTo>
                  <a:pt x="10713" y="8957"/>
                  <a:pt x="10722" y="8952"/>
                  <a:pt x="10716" y="8930"/>
                </a:cubicBezTo>
                <a:cubicBezTo>
                  <a:pt x="10660" y="8998"/>
                  <a:pt x="10617" y="9079"/>
                  <a:pt x="10567" y="9153"/>
                </a:cubicBezTo>
                <a:cubicBezTo>
                  <a:pt x="10508" y="9242"/>
                  <a:pt x="10474" y="9339"/>
                  <a:pt x="10418" y="9426"/>
                </a:cubicBezTo>
                <a:cubicBezTo>
                  <a:pt x="10396" y="9448"/>
                  <a:pt x="10387" y="9453"/>
                  <a:pt x="10393" y="9475"/>
                </a:cubicBezTo>
              </a:path>
              <a:path w="1142" h="1142">
                <a:moveTo>
                  <a:pt x="10492" y="8979"/>
                </a:moveTo>
                <a:cubicBezTo>
                  <a:pt x="10484" y="8979"/>
                  <a:pt x="10476" y="8979"/>
                  <a:pt x="10468" y="8979"/>
                </a:cubicBezTo>
                <a:cubicBezTo>
                  <a:pt x="10483" y="9040"/>
                  <a:pt x="10529" y="9076"/>
                  <a:pt x="10567" y="9128"/>
                </a:cubicBezTo>
                <a:cubicBezTo>
                  <a:pt x="10627" y="9210"/>
                  <a:pt x="10686" y="9241"/>
                  <a:pt x="10765" y="9302"/>
                </a:cubicBezTo>
                <a:cubicBezTo>
                  <a:pt x="10773" y="9310"/>
                  <a:pt x="10782" y="9319"/>
                  <a:pt x="10790" y="9327"/>
                </a:cubicBezTo>
              </a:path>
              <a:path w="1142" h="1142">
                <a:moveTo>
                  <a:pt x="11013" y="8607"/>
                </a:moveTo>
                <a:cubicBezTo>
                  <a:pt x="11069" y="8635"/>
                  <a:pt x="11092" y="8713"/>
                  <a:pt x="11112" y="8781"/>
                </a:cubicBezTo>
                <a:cubicBezTo>
                  <a:pt x="11153" y="8922"/>
                  <a:pt x="11195" y="9105"/>
                  <a:pt x="11162" y="9252"/>
                </a:cubicBezTo>
                <a:cubicBezTo>
                  <a:pt x="11129" y="9400"/>
                  <a:pt x="11041" y="9497"/>
                  <a:pt x="10939" y="9599"/>
                </a:cubicBezTo>
              </a:path>
              <a:path w="1142" h="1142">
                <a:moveTo>
                  <a:pt x="10244" y="8582"/>
                </a:moveTo>
                <a:cubicBezTo>
                  <a:pt x="10147" y="8582"/>
                  <a:pt x="10145" y="8645"/>
                  <a:pt x="10120" y="8731"/>
                </a:cubicBezTo>
                <a:cubicBezTo>
                  <a:pt x="10056" y="8951"/>
                  <a:pt x="10026" y="9198"/>
                  <a:pt x="10021" y="9426"/>
                </a:cubicBezTo>
                <a:cubicBezTo>
                  <a:pt x="10018" y="9580"/>
                  <a:pt x="10067" y="9621"/>
                  <a:pt x="10170" y="97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52960" y="3027240"/>
            <a:ext cx="820800" cy="500040"/>
          </a:xfrm>
          <a:custGeom>
            <a:avLst/>
            <a:gdLst/>
            <a:ahLst/>
            <a:rect l="l" t="t" r="r" b="b"/>
            <a:pathLst>
              <a:path w="2283" h="1390">
                <a:moveTo>
                  <a:pt x="11981" y="8434"/>
                </a:moveTo>
                <a:cubicBezTo>
                  <a:pt x="11956" y="8422"/>
                  <a:pt x="11950" y="8397"/>
                  <a:pt x="11906" y="8458"/>
                </a:cubicBezTo>
                <a:cubicBezTo>
                  <a:pt x="11813" y="8585"/>
                  <a:pt x="11714" y="8733"/>
                  <a:pt x="11658" y="8880"/>
                </a:cubicBezTo>
                <a:cubicBezTo>
                  <a:pt x="11581" y="9084"/>
                  <a:pt x="11539" y="9284"/>
                  <a:pt x="11534" y="9500"/>
                </a:cubicBezTo>
                <a:cubicBezTo>
                  <a:pt x="11531" y="9638"/>
                  <a:pt x="11550" y="9717"/>
                  <a:pt x="11658" y="9798"/>
                </a:cubicBezTo>
              </a:path>
              <a:path w="2283" h="1390">
                <a:moveTo>
                  <a:pt x="12105" y="9426"/>
                </a:moveTo>
                <a:cubicBezTo>
                  <a:pt x="12105" y="9496"/>
                  <a:pt x="12109" y="9461"/>
                  <a:pt x="12129" y="9451"/>
                </a:cubicBezTo>
                <a:cubicBezTo>
                  <a:pt x="12171" y="9431"/>
                  <a:pt x="12143" y="9410"/>
                  <a:pt x="12129" y="9451"/>
                </a:cubicBezTo>
              </a:path>
              <a:path w="2283" h="1390">
                <a:moveTo>
                  <a:pt x="12626" y="9128"/>
                </a:moveTo>
                <a:cubicBezTo>
                  <a:pt x="12555" y="9128"/>
                  <a:pt x="12494" y="9133"/>
                  <a:pt x="12452" y="9203"/>
                </a:cubicBezTo>
                <a:cubicBezTo>
                  <a:pt x="12424" y="9250"/>
                  <a:pt x="12371" y="9358"/>
                  <a:pt x="12427" y="9401"/>
                </a:cubicBezTo>
                <a:cubicBezTo>
                  <a:pt x="12493" y="9452"/>
                  <a:pt x="12589" y="9421"/>
                  <a:pt x="12650" y="9376"/>
                </a:cubicBezTo>
                <a:cubicBezTo>
                  <a:pt x="12707" y="9334"/>
                  <a:pt x="12719" y="9247"/>
                  <a:pt x="12700" y="9178"/>
                </a:cubicBezTo>
                <a:cubicBezTo>
                  <a:pt x="12682" y="9115"/>
                  <a:pt x="12620" y="9073"/>
                  <a:pt x="12576" y="9029"/>
                </a:cubicBezTo>
              </a:path>
              <a:path w="2283" h="1390">
                <a:moveTo>
                  <a:pt x="13097" y="8979"/>
                </a:moveTo>
                <a:cubicBezTo>
                  <a:pt x="13053" y="9023"/>
                  <a:pt x="13048" y="9046"/>
                  <a:pt x="13022" y="9103"/>
                </a:cubicBezTo>
                <a:cubicBezTo>
                  <a:pt x="12989" y="9174"/>
                  <a:pt x="12996" y="9255"/>
                  <a:pt x="12973" y="9327"/>
                </a:cubicBezTo>
                <a:cubicBezTo>
                  <a:pt x="12953" y="9367"/>
                  <a:pt x="12944" y="9373"/>
                  <a:pt x="12948" y="9401"/>
                </a:cubicBezTo>
              </a:path>
              <a:path w="2283" h="1390">
                <a:moveTo>
                  <a:pt x="13419" y="9153"/>
                </a:moveTo>
                <a:cubicBezTo>
                  <a:pt x="13366" y="9153"/>
                  <a:pt x="13468" y="9140"/>
                  <a:pt x="13519" y="9128"/>
                </a:cubicBezTo>
                <a:cubicBezTo>
                  <a:pt x="13600" y="9108"/>
                  <a:pt x="13691" y="9105"/>
                  <a:pt x="13767" y="9079"/>
                </a:cubicBezTo>
                <a:cubicBezTo>
                  <a:pt x="13783" y="9071"/>
                  <a:pt x="13800" y="9062"/>
                  <a:pt x="13816" y="9054"/>
                </a:cubicBezTo>
              </a:path>
              <a:path w="2283" h="1390">
                <a:moveTo>
                  <a:pt x="13742" y="8905"/>
                </a:moveTo>
                <a:cubicBezTo>
                  <a:pt x="13676" y="8922"/>
                  <a:pt x="13683" y="8945"/>
                  <a:pt x="13667" y="9004"/>
                </a:cubicBezTo>
                <a:cubicBezTo>
                  <a:pt x="13641" y="9103"/>
                  <a:pt x="13618" y="9173"/>
                  <a:pt x="13618" y="9277"/>
                </a:cubicBezTo>
                <a:cubicBezTo>
                  <a:pt x="13618" y="9322"/>
                  <a:pt x="13614" y="9335"/>
                  <a:pt x="13643" y="93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06960" y="3259080"/>
            <a:ext cx="81000" cy="135000"/>
          </a:xfrm>
          <a:custGeom>
            <a:avLst/>
            <a:gdLst/>
            <a:ahLst/>
            <a:rect l="l" t="t" r="r" b="b"/>
            <a:pathLst>
              <a:path w="225" h="373">
                <a:moveTo>
                  <a:pt x="14362" y="9079"/>
                </a:moveTo>
                <a:cubicBezTo>
                  <a:pt x="14315" y="9125"/>
                  <a:pt x="14293" y="9168"/>
                  <a:pt x="14263" y="9227"/>
                </a:cubicBezTo>
                <a:cubicBezTo>
                  <a:pt x="14234" y="9284"/>
                  <a:pt x="14200" y="9340"/>
                  <a:pt x="14188" y="9401"/>
                </a:cubicBezTo>
              </a:path>
              <a:path w="225" h="373">
                <a:moveTo>
                  <a:pt x="14188" y="9054"/>
                </a:moveTo>
                <a:cubicBezTo>
                  <a:pt x="14188" y="9113"/>
                  <a:pt x="14193" y="9147"/>
                  <a:pt x="14213" y="9203"/>
                </a:cubicBezTo>
                <a:cubicBezTo>
                  <a:pt x="14247" y="9301"/>
                  <a:pt x="14270" y="9350"/>
                  <a:pt x="14362" y="9401"/>
                </a:cubicBezTo>
                <a:cubicBezTo>
                  <a:pt x="14379" y="9409"/>
                  <a:pt x="14395" y="9418"/>
                  <a:pt x="14412" y="94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40240" y="3071880"/>
            <a:ext cx="81000" cy="384120"/>
          </a:xfrm>
          <a:custGeom>
            <a:avLst/>
            <a:gdLst/>
            <a:ahLst/>
            <a:rect l="l" t="t" r="r" b="b"/>
            <a:pathLst>
              <a:path w="224" h="1067">
                <a:moveTo>
                  <a:pt x="14833" y="8533"/>
                </a:moveTo>
                <a:cubicBezTo>
                  <a:pt x="14909" y="8651"/>
                  <a:pt x="14969" y="8767"/>
                  <a:pt x="15007" y="8905"/>
                </a:cubicBezTo>
                <a:cubicBezTo>
                  <a:pt x="15048" y="9053"/>
                  <a:pt x="15095" y="9274"/>
                  <a:pt x="15056" y="9426"/>
                </a:cubicBezTo>
                <a:cubicBezTo>
                  <a:pt x="15010" y="9519"/>
                  <a:pt x="14998" y="9546"/>
                  <a:pt x="14957" y="95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16720" y="3268800"/>
            <a:ext cx="161640" cy="115920"/>
          </a:xfrm>
          <a:custGeom>
            <a:avLst/>
            <a:gdLst/>
            <a:ahLst/>
            <a:rect l="l" t="t" r="r" b="b"/>
            <a:pathLst>
              <a:path w="448" h="323">
                <a:moveTo>
                  <a:pt x="15602" y="9079"/>
                </a:moveTo>
                <a:cubicBezTo>
                  <a:pt x="15751" y="9079"/>
                  <a:pt x="15900" y="9079"/>
                  <a:pt x="16049" y="9079"/>
                </a:cubicBezTo>
              </a:path>
              <a:path w="448" h="323">
                <a:moveTo>
                  <a:pt x="15701" y="9376"/>
                </a:moveTo>
                <a:cubicBezTo>
                  <a:pt x="15779" y="9376"/>
                  <a:pt x="15827" y="9398"/>
                  <a:pt x="15900" y="9401"/>
                </a:cubicBezTo>
                <a:cubicBezTo>
                  <a:pt x="15966" y="9401"/>
                  <a:pt x="15983" y="9401"/>
                  <a:pt x="16024" y="94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37200" y="3125880"/>
            <a:ext cx="303120" cy="276120"/>
          </a:xfrm>
          <a:custGeom>
            <a:avLst/>
            <a:gdLst/>
            <a:ahLst/>
            <a:rect l="l" t="t" r="r" b="b"/>
            <a:pathLst>
              <a:path w="844" h="770">
                <a:moveTo>
                  <a:pt x="16768" y="8756"/>
                </a:moveTo>
                <a:cubicBezTo>
                  <a:pt x="16815" y="8686"/>
                  <a:pt x="16849" y="8685"/>
                  <a:pt x="16942" y="8682"/>
                </a:cubicBezTo>
                <a:cubicBezTo>
                  <a:pt x="17015" y="8679"/>
                  <a:pt x="17139" y="8732"/>
                  <a:pt x="17165" y="8806"/>
                </a:cubicBezTo>
                <a:cubicBezTo>
                  <a:pt x="17189" y="8875"/>
                  <a:pt x="17092" y="8975"/>
                  <a:pt x="17041" y="9004"/>
                </a:cubicBezTo>
                <a:cubicBezTo>
                  <a:pt x="16986" y="9035"/>
                  <a:pt x="16942" y="9039"/>
                  <a:pt x="16892" y="9079"/>
                </a:cubicBezTo>
                <a:cubicBezTo>
                  <a:pt x="16966" y="9079"/>
                  <a:pt x="17018" y="9081"/>
                  <a:pt x="17090" y="9103"/>
                </a:cubicBezTo>
                <a:cubicBezTo>
                  <a:pt x="17141" y="9118"/>
                  <a:pt x="17261" y="9144"/>
                  <a:pt x="17239" y="9227"/>
                </a:cubicBezTo>
                <a:cubicBezTo>
                  <a:pt x="17216" y="9312"/>
                  <a:pt x="17116" y="9370"/>
                  <a:pt x="17041" y="9401"/>
                </a:cubicBezTo>
                <a:cubicBezTo>
                  <a:pt x="16980" y="9421"/>
                  <a:pt x="16965" y="9419"/>
                  <a:pt x="16942" y="9451"/>
                </a:cubicBezTo>
              </a:path>
              <a:path w="844" h="770">
                <a:moveTo>
                  <a:pt x="17611" y="9376"/>
                </a:moveTo>
                <a:cubicBezTo>
                  <a:pt x="17611" y="9415"/>
                  <a:pt x="17595" y="9401"/>
                  <a:pt x="17562" y="94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83240" y="3197160"/>
            <a:ext cx="98640" cy="17784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18008" y="8905"/>
                </a:moveTo>
                <a:cubicBezTo>
                  <a:pt x="18017" y="8878"/>
                  <a:pt x="18044" y="8866"/>
                  <a:pt x="18083" y="8880"/>
                </a:cubicBezTo>
                <a:cubicBezTo>
                  <a:pt x="18138" y="8900"/>
                  <a:pt x="18197" y="8900"/>
                  <a:pt x="18231" y="8954"/>
                </a:cubicBezTo>
                <a:cubicBezTo>
                  <a:pt x="18271" y="9016"/>
                  <a:pt x="18251" y="9071"/>
                  <a:pt x="18207" y="9128"/>
                </a:cubicBezTo>
                <a:cubicBezTo>
                  <a:pt x="18161" y="9187"/>
                  <a:pt x="18087" y="9205"/>
                  <a:pt x="18058" y="9277"/>
                </a:cubicBezTo>
                <a:cubicBezTo>
                  <a:pt x="18038" y="9327"/>
                  <a:pt x="18089" y="9366"/>
                  <a:pt x="18132" y="9376"/>
                </a:cubicBezTo>
                <a:cubicBezTo>
                  <a:pt x="18175" y="9386"/>
                  <a:pt x="18237" y="9376"/>
                  <a:pt x="18281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24800" y="3152880"/>
            <a:ext cx="677880" cy="231840"/>
          </a:xfrm>
          <a:custGeom>
            <a:avLst/>
            <a:gdLst/>
            <a:ahLst/>
            <a:rect l="l" t="t" r="r" b="b"/>
            <a:pathLst>
              <a:path w="1886" h="646">
                <a:moveTo>
                  <a:pt x="18802" y="9079"/>
                </a:moveTo>
                <a:cubicBezTo>
                  <a:pt x="18744" y="9079"/>
                  <a:pt x="18724" y="9090"/>
                  <a:pt x="18703" y="9153"/>
                </a:cubicBezTo>
                <a:cubicBezTo>
                  <a:pt x="18684" y="9209"/>
                  <a:pt x="18716" y="9263"/>
                  <a:pt x="18752" y="9302"/>
                </a:cubicBezTo>
                <a:cubicBezTo>
                  <a:pt x="18819" y="9373"/>
                  <a:pt x="18859" y="9376"/>
                  <a:pt x="18951" y="9376"/>
                </a:cubicBezTo>
                <a:cubicBezTo>
                  <a:pt x="18967" y="9376"/>
                  <a:pt x="18984" y="9376"/>
                  <a:pt x="19000" y="9376"/>
                </a:cubicBezTo>
              </a:path>
              <a:path w="1886" h="646">
                <a:moveTo>
                  <a:pt x="18728" y="9203"/>
                </a:moveTo>
                <a:cubicBezTo>
                  <a:pt x="18687" y="9183"/>
                  <a:pt x="18671" y="9185"/>
                  <a:pt x="18678" y="9153"/>
                </a:cubicBezTo>
                <a:cubicBezTo>
                  <a:pt x="18747" y="9118"/>
                  <a:pt x="18844" y="9106"/>
                  <a:pt x="18926" y="9079"/>
                </a:cubicBezTo>
                <a:cubicBezTo>
                  <a:pt x="18994" y="9056"/>
                  <a:pt x="19059" y="9033"/>
                  <a:pt x="19124" y="9004"/>
                </a:cubicBezTo>
              </a:path>
              <a:path w="1886" h="646">
                <a:moveTo>
                  <a:pt x="18901" y="8830"/>
                </a:moveTo>
                <a:cubicBezTo>
                  <a:pt x="18885" y="8814"/>
                  <a:pt x="18868" y="8797"/>
                  <a:pt x="18852" y="8781"/>
                </a:cubicBezTo>
                <a:cubicBezTo>
                  <a:pt x="18933" y="8781"/>
                  <a:pt x="18991" y="8759"/>
                  <a:pt x="19075" y="8756"/>
                </a:cubicBezTo>
                <a:cubicBezTo>
                  <a:pt x="19149" y="8753"/>
                  <a:pt x="19224" y="8756"/>
                  <a:pt x="19298" y="8756"/>
                </a:cubicBezTo>
              </a:path>
              <a:path w="1886" h="646">
                <a:moveTo>
                  <a:pt x="19596" y="9079"/>
                </a:moveTo>
                <a:cubicBezTo>
                  <a:pt x="19588" y="9087"/>
                  <a:pt x="19579" y="9095"/>
                  <a:pt x="19571" y="9103"/>
                </a:cubicBezTo>
                <a:cubicBezTo>
                  <a:pt x="19654" y="9103"/>
                  <a:pt x="19736" y="9103"/>
                  <a:pt x="19819" y="9103"/>
                </a:cubicBezTo>
              </a:path>
              <a:path w="1886" h="646">
                <a:moveTo>
                  <a:pt x="20092" y="8806"/>
                </a:moveTo>
                <a:cubicBezTo>
                  <a:pt x="20148" y="8806"/>
                  <a:pt x="20190" y="8788"/>
                  <a:pt x="20241" y="8781"/>
                </a:cubicBezTo>
                <a:cubicBezTo>
                  <a:pt x="20286" y="8775"/>
                  <a:pt x="20545" y="8748"/>
                  <a:pt x="20563" y="8806"/>
                </a:cubicBezTo>
                <a:cubicBezTo>
                  <a:pt x="20585" y="8875"/>
                  <a:pt x="20540" y="8969"/>
                  <a:pt x="20513" y="9029"/>
                </a:cubicBezTo>
                <a:cubicBezTo>
                  <a:pt x="20468" y="9130"/>
                  <a:pt x="20409" y="9241"/>
                  <a:pt x="20389" y="9351"/>
                </a:cubicBezTo>
                <a:cubicBezTo>
                  <a:pt x="20389" y="9368"/>
                  <a:pt x="20389" y="9384"/>
                  <a:pt x="20389" y="94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82960" y="401760"/>
            <a:ext cx="606240" cy="357120"/>
          </a:xfrm>
          <a:custGeom>
            <a:avLst/>
            <a:gdLst/>
            <a:ahLst/>
            <a:rect l="l" t="t" r="r" b="b"/>
            <a:pathLst>
              <a:path w="1687" h="993">
                <a:moveTo>
                  <a:pt x="8731" y="1563"/>
                </a:moveTo>
                <a:cubicBezTo>
                  <a:pt x="8731" y="1538"/>
                  <a:pt x="8731" y="1513"/>
                  <a:pt x="8731" y="1488"/>
                </a:cubicBezTo>
                <a:cubicBezTo>
                  <a:pt x="8671" y="1503"/>
                  <a:pt x="8660" y="1556"/>
                  <a:pt x="8632" y="1612"/>
                </a:cubicBezTo>
                <a:cubicBezTo>
                  <a:pt x="8581" y="1713"/>
                  <a:pt x="8536" y="1810"/>
                  <a:pt x="8483" y="1910"/>
                </a:cubicBezTo>
                <a:cubicBezTo>
                  <a:pt x="8457" y="1960"/>
                  <a:pt x="8405" y="2012"/>
                  <a:pt x="8384" y="2059"/>
                </a:cubicBezTo>
                <a:cubicBezTo>
                  <a:pt x="8384" y="2067"/>
                  <a:pt x="8384" y="2076"/>
                  <a:pt x="8384" y="2084"/>
                </a:cubicBezTo>
              </a:path>
              <a:path w="1687" h="993">
                <a:moveTo>
                  <a:pt x="8285" y="1637"/>
                </a:moveTo>
                <a:cubicBezTo>
                  <a:pt x="8327" y="1606"/>
                  <a:pt x="8342" y="1600"/>
                  <a:pt x="8384" y="1637"/>
                </a:cubicBezTo>
                <a:cubicBezTo>
                  <a:pt x="8435" y="1683"/>
                  <a:pt x="8458" y="1768"/>
                  <a:pt x="8508" y="1811"/>
                </a:cubicBezTo>
                <a:cubicBezTo>
                  <a:pt x="8559" y="1855"/>
                  <a:pt x="8625" y="1922"/>
                  <a:pt x="8682" y="1960"/>
                </a:cubicBezTo>
                <a:cubicBezTo>
                  <a:pt x="8729" y="1991"/>
                  <a:pt x="8776" y="2023"/>
                  <a:pt x="8830" y="2034"/>
                </a:cubicBezTo>
                <a:cubicBezTo>
                  <a:pt x="8839" y="2071"/>
                  <a:pt x="8850" y="2079"/>
                  <a:pt x="8880" y="2108"/>
                </a:cubicBezTo>
              </a:path>
              <a:path w="1687" h="993">
                <a:moveTo>
                  <a:pt x="9203" y="1463"/>
                </a:moveTo>
                <a:cubicBezTo>
                  <a:pt x="9203" y="1414"/>
                  <a:pt x="9203" y="1364"/>
                  <a:pt x="9203" y="1315"/>
                </a:cubicBezTo>
                <a:cubicBezTo>
                  <a:pt x="9203" y="1475"/>
                  <a:pt x="9190" y="1628"/>
                  <a:pt x="9178" y="1786"/>
                </a:cubicBezTo>
                <a:cubicBezTo>
                  <a:pt x="9171" y="1878"/>
                  <a:pt x="9180" y="1958"/>
                  <a:pt x="9203" y="2034"/>
                </a:cubicBezTo>
                <a:cubicBezTo>
                  <a:pt x="9203" y="2042"/>
                  <a:pt x="9203" y="2051"/>
                  <a:pt x="9203" y="2059"/>
                </a:cubicBezTo>
                <a:cubicBezTo>
                  <a:pt x="9234" y="2012"/>
                  <a:pt x="9249" y="1971"/>
                  <a:pt x="9252" y="1910"/>
                </a:cubicBezTo>
                <a:cubicBezTo>
                  <a:pt x="9259" y="1757"/>
                  <a:pt x="9243" y="1613"/>
                  <a:pt x="9277" y="1463"/>
                </a:cubicBezTo>
                <a:cubicBezTo>
                  <a:pt x="9293" y="1391"/>
                  <a:pt x="9326" y="1303"/>
                  <a:pt x="9351" y="1265"/>
                </a:cubicBezTo>
                <a:cubicBezTo>
                  <a:pt x="9391" y="1331"/>
                  <a:pt x="9405" y="1432"/>
                  <a:pt x="9426" y="1513"/>
                </a:cubicBezTo>
                <a:cubicBezTo>
                  <a:pt x="9449" y="1600"/>
                  <a:pt x="9451" y="1744"/>
                  <a:pt x="9500" y="1811"/>
                </a:cubicBezTo>
                <a:cubicBezTo>
                  <a:pt x="9508" y="1819"/>
                  <a:pt x="9517" y="1828"/>
                  <a:pt x="9525" y="1836"/>
                </a:cubicBezTo>
                <a:cubicBezTo>
                  <a:pt x="9570" y="1745"/>
                  <a:pt x="9599" y="1662"/>
                  <a:pt x="9624" y="1563"/>
                </a:cubicBezTo>
                <a:cubicBezTo>
                  <a:pt x="9665" y="1405"/>
                  <a:pt x="9685" y="1230"/>
                  <a:pt x="9773" y="1116"/>
                </a:cubicBezTo>
                <a:cubicBezTo>
                  <a:pt x="9823" y="1215"/>
                  <a:pt x="9811" y="1347"/>
                  <a:pt x="9823" y="1463"/>
                </a:cubicBezTo>
                <a:cubicBezTo>
                  <a:pt x="9839" y="1618"/>
                  <a:pt x="9827" y="1816"/>
                  <a:pt x="9897" y="1960"/>
                </a:cubicBezTo>
                <a:cubicBezTo>
                  <a:pt x="9937" y="2019"/>
                  <a:pt x="9941" y="2030"/>
                  <a:pt x="9971" y="20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73760" y="366840"/>
            <a:ext cx="438120" cy="633240"/>
          </a:xfrm>
          <a:custGeom>
            <a:avLst/>
            <a:gdLst/>
            <a:ahLst/>
            <a:rect l="l" t="t" r="r" b="b"/>
            <a:pathLst>
              <a:path w="1217" h="1762">
                <a:moveTo>
                  <a:pt x="14362" y="1191"/>
                </a:moveTo>
                <a:cubicBezTo>
                  <a:pt x="14300" y="1191"/>
                  <a:pt x="14314" y="1202"/>
                  <a:pt x="14288" y="1265"/>
                </a:cubicBezTo>
                <a:cubicBezTo>
                  <a:pt x="14244" y="1374"/>
                  <a:pt x="14250" y="1497"/>
                  <a:pt x="14213" y="1612"/>
                </a:cubicBezTo>
                <a:cubicBezTo>
                  <a:pt x="14191" y="1680"/>
                  <a:pt x="14188" y="1716"/>
                  <a:pt x="14188" y="1786"/>
                </a:cubicBezTo>
                <a:cubicBezTo>
                  <a:pt x="14218" y="1771"/>
                  <a:pt x="14295" y="1677"/>
                  <a:pt x="14312" y="1637"/>
                </a:cubicBezTo>
                <a:cubicBezTo>
                  <a:pt x="14362" y="1520"/>
                  <a:pt x="14405" y="1420"/>
                  <a:pt x="14486" y="1315"/>
                </a:cubicBezTo>
                <a:cubicBezTo>
                  <a:pt x="14522" y="1269"/>
                  <a:pt x="14536" y="1275"/>
                  <a:pt x="14585" y="1265"/>
                </a:cubicBezTo>
                <a:cubicBezTo>
                  <a:pt x="14585" y="1354"/>
                  <a:pt x="14573" y="1430"/>
                  <a:pt x="14560" y="1513"/>
                </a:cubicBezTo>
                <a:cubicBezTo>
                  <a:pt x="14560" y="1555"/>
                  <a:pt x="14560" y="1563"/>
                  <a:pt x="14560" y="1588"/>
                </a:cubicBezTo>
                <a:cubicBezTo>
                  <a:pt x="14625" y="1556"/>
                  <a:pt x="14646" y="1481"/>
                  <a:pt x="14684" y="1414"/>
                </a:cubicBezTo>
                <a:cubicBezTo>
                  <a:pt x="14753" y="1294"/>
                  <a:pt x="14838" y="1168"/>
                  <a:pt x="14932" y="1067"/>
                </a:cubicBezTo>
                <a:cubicBezTo>
                  <a:pt x="14955" y="1044"/>
                  <a:pt x="14963" y="1040"/>
                  <a:pt x="14957" y="1017"/>
                </a:cubicBezTo>
                <a:cubicBezTo>
                  <a:pt x="14957" y="1169"/>
                  <a:pt x="14970" y="1315"/>
                  <a:pt x="14982" y="1463"/>
                </a:cubicBezTo>
                <a:cubicBezTo>
                  <a:pt x="14990" y="1559"/>
                  <a:pt x="14996" y="1622"/>
                  <a:pt x="15032" y="1712"/>
                </a:cubicBezTo>
              </a:path>
              <a:path w="1217" h="1762">
                <a:moveTo>
                  <a:pt x="13816" y="2704"/>
                </a:moveTo>
                <a:cubicBezTo>
                  <a:pt x="13838" y="2769"/>
                  <a:pt x="13837" y="2794"/>
                  <a:pt x="13891" y="27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22920" y="544680"/>
            <a:ext cx="463320" cy="393480"/>
          </a:xfrm>
          <a:custGeom>
            <a:avLst/>
            <a:gdLst/>
            <a:ahLst/>
            <a:rect l="l" t="t" r="r" b="b"/>
            <a:pathLst>
              <a:path w="1290" h="1092">
                <a:moveTo>
                  <a:pt x="13965" y="2406"/>
                </a:moveTo>
                <a:cubicBezTo>
                  <a:pt x="13977" y="2455"/>
                  <a:pt x="13989" y="2456"/>
                  <a:pt x="14039" y="2456"/>
                </a:cubicBezTo>
                <a:cubicBezTo>
                  <a:pt x="14089" y="2456"/>
                  <a:pt x="14138" y="2456"/>
                  <a:pt x="14188" y="2456"/>
                </a:cubicBezTo>
              </a:path>
              <a:path w="1290" h="1092">
                <a:moveTo>
                  <a:pt x="14188" y="2257"/>
                </a:moveTo>
                <a:cubicBezTo>
                  <a:pt x="14177" y="2302"/>
                  <a:pt x="14138" y="2335"/>
                  <a:pt x="14114" y="2381"/>
                </a:cubicBezTo>
                <a:cubicBezTo>
                  <a:pt x="14082" y="2442"/>
                  <a:pt x="14039" y="2519"/>
                  <a:pt x="14015" y="2580"/>
                </a:cubicBezTo>
                <a:cubicBezTo>
                  <a:pt x="14015" y="2588"/>
                  <a:pt x="14015" y="2596"/>
                  <a:pt x="14015" y="2604"/>
                </a:cubicBezTo>
              </a:path>
              <a:path w="1290" h="1092">
                <a:moveTo>
                  <a:pt x="14511" y="2232"/>
                </a:moveTo>
                <a:cubicBezTo>
                  <a:pt x="14451" y="2232"/>
                  <a:pt x="14573" y="2211"/>
                  <a:pt x="14585" y="2208"/>
                </a:cubicBezTo>
                <a:cubicBezTo>
                  <a:pt x="14639" y="2195"/>
                  <a:pt x="14707" y="2209"/>
                  <a:pt x="14684" y="2282"/>
                </a:cubicBezTo>
                <a:cubicBezTo>
                  <a:pt x="14674" y="2314"/>
                  <a:pt x="14564" y="2401"/>
                  <a:pt x="14536" y="2431"/>
                </a:cubicBezTo>
                <a:cubicBezTo>
                  <a:pt x="14503" y="2467"/>
                  <a:pt x="14472" y="2485"/>
                  <a:pt x="14461" y="2530"/>
                </a:cubicBezTo>
                <a:cubicBezTo>
                  <a:pt x="14527" y="2530"/>
                  <a:pt x="14572" y="2529"/>
                  <a:pt x="14635" y="2505"/>
                </a:cubicBezTo>
              </a:path>
              <a:path w="1290" h="1092">
                <a:moveTo>
                  <a:pt x="13767" y="1563"/>
                </a:moveTo>
                <a:cubicBezTo>
                  <a:pt x="13775" y="1555"/>
                  <a:pt x="13783" y="1546"/>
                  <a:pt x="13791" y="1538"/>
                </a:cubicBezTo>
                <a:cubicBezTo>
                  <a:pt x="13735" y="1552"/>
                  <a:pt x="13723" y="1587"/>
                  <a:pt x="13692" y="1637"/>
                </a:cubicBezTo>
                <a:cubicBezTo>
                  <a:pt x="13636" y="1725"/>
                  <a:pt x="13566" y="1809"/>
                  <a:pt x="13494" y="1885"/>
                </a:cubicBezTo>
                <a:cubicBezTo>
                  <a:pt x="13454" y="1927"/>
                  <a:pt x="13408" y="1956"/>
                  <a:pt x="13395" y="2009"/>
                </a:cubicBezTo>
              </a:path>
              <a:path w="1290" h="1092">
                <a:moveTo>
                  <a:pt x="13444" y="1513"/>
                </a:moveTo>
                <a:cubicBezTo>
                  <a:pt x="13497" y="1513"/>
                  <a:pt x="13505" y="1525"/>
                  <a:pt x="13543" y="1563"/>
                </a:cubicBezTo>
                <a:cubicBezTo>
                  <a:pt x="13588" y="1608"/>
                  <a:pt x="13632" y="1683"/>
                  <a:pt x="13667" y="1736"/>
                </a:cubicBezTo>
                <a:cubicBezTo>
                  <a:pt x="13705" y="1793"/>
                  <a:pt x="13721" y="1858"/>
                  <a:pt x="13767" y="1910"/>
                </a:cubicBezTo>
                <a:cubicBezTo>
                  <a:pt x="13798" y="1945"/>
                  <a:pt x="13831" y="1954"/>
                  <a:pt x="13841" y="19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4200" y="919080"/>
            <a:ext cx="973080" cy="447840"/>
          </a:xfrm>
          <a:custGeom>
            <a:avLst/>
            <a:gdLst/>
            <a:ahLst/>
            <a:rect l="l" t="t" r="r" b="b"/>
            <a:pathLst>
              <a:path w="2705" h="1241">
                <a:moveTo>
                  <a:pt x="7367" y="2753"/>
                </a:moveTo>
                <a:cubicBezTo>
                  <a:pt x="7395" y="2660"/>
                  <a:pt x="7391" y="2658"/>
                  <a:pt x="7367" y="2580"/>
                </a:cubicBezTo>
                <a:cubicBezTo>
                  <a:pt x="7358" y="2549"/>
                  <a:pt x="7307" y="2541"/>
                  <a:pt x="7268" y="2555"/>
                </a:cubicBezTo>
                <a:cubicBezTo>
                  <a:pt x="7180" y="2587"/>
                  <a:pt x="7159" y="2624"/>
                  <a:pt x="7119" y="2704"/>
                </a:cubicBezTo>
                <a:cubicBezTo>
                  <a:pt x="7077" y="2786"/>
                  <a:pt x="7093" y="2844"/>
                  <a:pt x="7169" y="2902"/>
                </a:cubicBezTo>
                <a:cubicBezTo>
                  <a:pt x="7239" y="2956"/>
                  <a:pt x="7290" y="2975"/>
                  <a:pt x="7367" y="3001"/>
                </a:cubicBezTo>
                <a:cubicBezTo>
                  <a:pt x="7431" y="3022"/>
                  <a:pt x="7456" y="3059"/>
                  <a:pt x="7441" y="3125"/>
                </a:cubicBezTo>
                <a:cubicBezTo>
                  <a:pt x="7417" y="3233"/>
                  <a:pt x="7318" y="3298"/>
                  <a:pt x="7243" y="3373"/>
                </a:cubicBezTo>
                <a:cubicBezTo>
                  <a:pt x="7204" y="3412"/>
                  <a:pt x="7187" y="3414"/>
                  <a:pt x="7193" y="3448"/>
                </a:cubicBezTo>
              </a:path>
              <a:path w="2705" h="1241">
                <a:moveTo>
                  <a:pt x="7764" y="3076"/>
                </a:moveTo>
                <a:cubicBezTo>
                  <a:pt x="7782" y="3175"/>
                  <a:pt x="7751" y="3202"/>
                  <a:pt x="7739" y="3299"/>
                </a:cubicBezTo>
                <a:cubicBezTo>
                  <a:pt x="7739" y="3219"/>
                  <a:pt x="7746" y="3171"/>
                  <a:pt x="7789" y="3101"/>
                </a:cubicBezTo>
                <a:cubicBezTo>
                  <a:pt x="7844" y="3009"/>
                  <a:pt x="7881" y="2965"/>
                  <a:pt x="7962" y="2902"/>
                </a:cubicBezTo>
                <a:cubicBezTo>
                  <a:pt x="7990" y="2874"/>
                  <a:pt x="8004" y="2865"/>
                  <a:pt x="8037" y="2877"/>
                </a:cubicBezTo>
              </a:path>
              <a:path w="2705" h="1241">
                <a:moveTo>
                  <a:pt x="8731" y="2555"/>
                </a:moveTo>
                <a:cubicBezTo>
                  <a:pt x="8669" y="2555"/>
                  <a:pt x="8618" y="2551"/>
                  <a:pt x="8558" y="2580"/>
                </a:cubicBezTo>
                <a:cubicBezTo>
                  <a:pt x="8447" y="2635"/>
                  <a:pt x="8328" y="2726"/>
                  <a:pt x="8260" y="2828"/>
                </a:cubicBezTo>
                <a:cubicBezTo>
                  <a:pt x="8240" y="2868"/>
                  <a:pt x="8231" y="2874"/>
                  <a:pt x="8235" y="2902"/>
                </a:cubicBezTo>
                <a:cubicBezTo>
                  <a:pt x="8339" y="2954"/>
                  <a:pt x="8395" y="2933"/>
                  <a:pt x="8508" y="2952"/>
                </a:cubicBezTo>
                <a:cubicBezTo>
                  <a:pt x="8583" y="2965"/>
                  <a:pt x="8695" y="2975"/>
                  <a:pt x="8682" y="3076"/>
                </a:cubicBezTo>
                <a:cubicBezTo>
                  <a:pt x="8668" y="3181"/>
                  <a:pt x="8564" y="3289"/>
                  <a:pt x="8483" y="3349"/>
                </a:cubicBezTo>
                <a:cubicBezTo>
                  <a:pt x="8443" y="3369"/>
                  <a:pt x="8436" y="3377"/>
                  <a:pt x="8409" y="3373"/>
                </a:cubicBezTo>
              </a:path>
              <a:path w="2705" h="1241">
                <a:moveTo>
                  <a:pt x="9004" y="2679"/>
                </a:moveTo>
                <a:cubicBezTo>
                  <a:pt x="8980" y="2774"/>
                  <a:pt x="8911" y="2845"/>
                  <a:pt x="8880" y="2952"/>
                </a:cubicBezTo>
                <a:cubicBezTo>
                  <a:pt x="8854" y="3043"/>
                  <a:pt x="8855" y="3235"/>
                  <a:pt x="8979" y="3274"/>
                </a:cubicBezTo>
                <a:cubicBezTo>
                  <a:pt x="9110" y="3316"/>
                  <a:pt x="9208" y="3210"/>
                  <a:pt x="9252" y="3101"/>
                </a:cubicBezTo>
                <a:cubicBezTo>
                  <a:pt x="9298" y="2987"/>
                  <a:pt x="9295" y="2851"/>
                  <a:pt x="9227" y="2753"/>
                </a:cubicBezTo>
                <a:cubicBezTo>
                  <a:pt x="9178" y="2683"/>
                  <a:pt x="9134" y="2654"/>
                  <a:pt x="9054" y="2654"/>
                </a:cubicBezTo>
              </a:path>
              <a:path w="2705" h="1241">
                <a:moveTo>
                  <a:pt x="9525" y="3150"/>
                </a:moveTo>
                <a:cubicBezTo>
                  <a:pt x="9525" y="3196"/>
                  <a:pt x="9502" y="3344"/>
                  <a:pt x="9550" y="3373"/>
                </a:cubicBezTo>
                <a:cubicBezTo>
                  <a:pt x="9585" y="3394"/>
                  <a:pt x="9675" y="3368"/>
                  <a:pt x="9699" y="3349"/>
                </a:cubicBezTo>
                <a:cubicBezTo>
                  <a:pt x="9736" y="3319"/>
                  <a:pt x="9752" y="3280"/>
                  <a:pt x="9773" y="3249"/>
                </a:cubicBezTo>
                <a:cubicBezTo>
                  <a:pt x="9826" y="3171"/>
                  <a:pt x="9727" y="3313"/>
                  <a:pt x="9723" y="3324"/>
                </a:cubicBezTo>
                <a:cubicBezTo>
                  <a:pt x="9682" y="3425"/>
                  <a:pt x="9699" y="3539"/>
                  <a:pt x="9699" y="3646"/>
                </a:cubicBezTo>
                <a:cubicBezTo>
                  <a:pt x="9699" y="3722"/>
                  <a:pt x="9699" y="3748"/>
                  <a:pt x="9723" y="37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30760" y="965160"/>
            <a:ext cx="455400" cy="150840"/>
          </a:xfrm>
          <a:custGeom>
            <a:avLst/>
            <a:gdLst/>
            <a:ahLst/>
            <a:rect l="l" t="t" r="r" b="b"/>
            <a:pathLst>
              <a:path w="1266" h="423">
                <a:moveTo>
                  <a:pt x="10641" y="3026"/>
                </a:moveTo>
                <a:cubicBezTo>
                  <a:pt x="10716" y="3020"/>
                  <a:pt x="10789" y="3013"/>
                  <a:pt x="10864" y="3001"/>
                </a:cubicBezTo>
                <a:cubicBezTo>
                  <a:pt x="11037" y="2974"/>
                  <a:pt x="11213" y="2977"/>
                  <a:pt x="11385" y="2952"/>
                </a:cubicBezTo>
                <a:cubicBezTo>
                  <a:pt x="11505" y="2934"/>
                  <a:pt x="11615" y="2899"/>
                  <a:pt x="11733" y="2877"/>
                </a:cubicBezTo>
                <a:cubicBezTo>
                  <a:pt x="11777" y="2877"/>
                  <a:pt x="11790" y="2880"/>
                  <a:pt x="11807" y="2853"/>
                </a:cubicBezTo>
                <a:cubicBezTo>
                  <a:pt x="11778" y="2812"/>
                  <a:pt x="11751" y="2765"/>
                  <a:pt x="11683" y="2753"/>
                </a:cubicBezTo>
                <a:cubicBezTo>
                  <a:pt x="11608" y="2740"/>
                  <a:pt x="11505" y="2734"/>
                  <a:pt x="11435" y="2704"/>
                </a:cubicBezTo>
                <a:cubicBezTo>
                  <a:pt x="11427" y="2696"/>
                  <a:pt x="11418" y="2687"/>
                  <a:pt x="11410" y="2679"/>
                </a:cubicBezTo>
                <a:cubicBezTo>
                  <a:pt x="11499" y="2679"/>
                  <a:pt x="11573" y="2695"/>
                  <a:pt x="11658" y="2704"/>
                </a:cubicBezTo>
                <a:cubicBezTo>
                  <a:pt x="11753" y="2715"/>
                  <a:pt x="11826" y="2725"/>
                  <a:pt x="11906" y="2778"/>
                </a:cubicBezTo>
                <a:cubicBezTo>
                  <a:pt x="11883" y="2873"/>
                  <a:pt x="11889" y="2849"/>
                  <a:pt x="11807" y="2927"/>
                </a:cubicBezTo>
                <a:cubicBezTo>
                  <a:pt x="11745" y="2986"/>
                  <a:pt x="11680" y="3036"/>
                  <a:pt x="11633" y="31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80000" y="874800"/>
            <a:ext cx="384120" cy="295200"/>
          </a:xfrm>
          <a:custGeom>
            <a:avLst/>
            <a:gdLst/>
            <a:ahLst/>
            <a:rect l="l" t="t" r="r" b="b"/>
            <a:pathLst>
              <a:path w="1067" h="819">
                <a:moveTo>
                  <a:pt x="13494" y="2505"/>
                </a:moveTo>
                <a:cubicBezTo>
                  <a:pt x="13479" y="2460"/>
                  <a:pt x="13441" y="2418"/>
                  <a:pt x="13370" y="2431"/>
                </a:cubicBezTo>
                <a:cubicBezTo>
                  <a:pt x="13266" y="2450"/>
                  <a:pt x="13149" y="2490"/>
                  <a:pt x="13072" y="2555"/>
                </a:cubicBezTo>
                <a:cubicBezTo>
                  <a:pt x="13016" y="2603"/>
                  <a:pt x="12969" y="2660"/>
                  <a:pt x="13022" y="2729"/>
                </a:cubicBezTo>
                <a:cubicBezTo>
                  <a:pt x="13079" y="2804"/>
                  <a:pt x="13213" y="2833"/>
                  <a:pt x="13295" y="2877"/>
                </a:cubicBezTo>
                <a:cubicBezTo>
                  <a:pt x="13398" y="2933"/>
                  <a:pt x="13375" y="2971"/>
                  <a:pt x="13320" y="3051"/>
                </a:cubicBezTo>
                <a:cubicBezTo>
                  <a:pt x="13269" y="3124"/>
                  <a:pt x="13206" y="3211"/>
                  <a:pt x="13122" y="3249"/>
                </a:cubicBezTo>
                <a:cubicBezTo>
                  <a:pt x="13114" y="3249"/>
                  <a:pt x="13105" y="3249"/>
                  <a:pt x="13097" y="3249"/>
                </a:cubicBezTo>
              </a:path>
              <a:path w="1067" h="819">
                <a:moveTo>
                  <a:pt x="13593" y="2952"/>
                </a:moveTo>
                <a:cubicBezTo>
                  <a:pt x="13618" y="2952"/>
                  <a:pt x="13642" y="2952"/>
                  <a:pt x="13667" y="2952"/>
                </a:cubicBezTo>
                <a:cubicBezTo>
                  <a:pt x="13667" y="3007"/>
                  <a:pt x="13674" y="3051"/>
                  <a:pt x="13643" y="3101"/>
                </a:cubicBezTo>
                <a:cubicBezTo>
                  <a:pt x="13635" y="3115"/>
                  <a:pt x="13586" y="3195"/>
                  <a:pt x="13618" y="3150"/>
                </a:cubicBezTo>
                <a:cubicBezTo>
                  <a:pt x="13668" y="3080"/>
                  <a:pt x="13718" y="3021"/>
                  <a:pt x="13767" y="2952"/>
                </a:cubicBezTo>
                <a:cubicBezTo>
                  <a:pt x="13832" y="2859"/>
                  <a:pt x="13869" y="2800"/>
                  <a:pt x="13965" y="2753"/>
                </a:cubicBezTo>
                <a:cubicBezTo>
                  <a:pt x="14013" y="2730"/>
                  <a:pt x="14028" y="2722"/>
                  <a:pt x="14064" y="27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76880" y="965160"/>
            <a:ext cx="189000" cy="169920"/>
          </a:xfrm>
          <a:custGeom>
            <a:avLst/>
            <a:gdLst/>
            <a:ahLst/>
            <a:rect l="l" t="t" r="r" b="b"/>
            <a:pathLst>
              <a:path w="521" h="472">
                <a:moveTo>
                  <a:pt x="14734" y="2927"/>
                </a:moveTo>
                <a:cubicBezTo>
                  <a:pt x="14694" y="2907"/>
                  <a:pt x="14687" y="2898"/>
                  <a:pt x="14660" y="2902"/>
                </a:cubicBezTo>
                <a:cubicBezTo>
                  <a:pt x="14697" y="2827"/>
                  <a:pt x="14779" y="2843"/>
                  <a:pt x="14858" y="2828"/>
                </a:cubicBezTo>
                <a:cubicBezTo>
                  <a:pt x="14961" y="2809"/>
                  <a:pt x="15053" y="2761"/>
                  <a:pt x="15156" y="2753"/>
                </a:cubicBezTo>
                <a:cubicBezTo>
                  <a:pt x="15164" y="2753"/>
                  <a:pt x="15172" y="2753"/>
                  <a:pt x="15180" y="2753"/>
                </a:cubicBezTo>
              </a:path>
              <a:path w="521" h="472">
                <a:moveTo>
                  <a:pt x="14957" y="2704"/>
                </a:moveTo>
                <a:cubicBezTo>
                  <a:pt x="14935" y="2682"/>
                  <a:pt x="14930" y="2673"/>
                  <a:pt x="14908" y="2679"/>
                </a:cubicBezTo>
                <a:cubicBezTo>
                  <a:pt x="14908" y="2758"/>
                  <a:pt x="14890" y="2827"/>
                  <a:pt x="14883" y="2902"/>
                </a:cubicBezTo>
                <a:cubicBezTo>
                  <a:pt x="14875" y="2988"/>
                  <a:pt x="14901" y="3065"/>
                  <a:pt x="14908" y="31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05640" y="820800"/>
            <a:ext cx="1028520" cy="457200"/>
          </a:xfrm>
          <a:custGeom>
            <a:avLst/>
            <a:gdLst/>
            <a:ahLst/>
            <a:rect l="l" t="t" r="r" b="b"/>
            <a:pathLst>
              <a:path w="2854" h="1266">
                <a:moveTo>
                  <a:pt x="16421" y="2629"/>
                </a:moveTo>
                <a:cubicBezTo>
                  <a:pt x="16409" y="2549"/>
                  <a:pt x="16383" y="2534"/>
                  <a:pt x="16297" y="2530"/>
                </a:cubicBezTo>
                <a:cubicBezTo>
                  <a:pt x="16180" y="2525"/>
                  <a:pt x="16086" y="2545"/>
                  <a:pt x="15974" y="2580"/>
                </a:cubicBezTo>
                <a:cubicBezTo>
                  <a:pt x="15932" y="2593"/>
                  <a:pt x="15812" y="2658"/>
                  <a:pt x="15850" y="2729"/>
                </a:cubicBezTo>
                <a:cubicBezTo>
                  <a:pt x="15889" y="2801"/>
                  <a:pt x="16032" y="2841"/>
                  <a:pt x="16098" y="2877"/>
                </a:cubicBezTo>
                <a:cubicBezTo>
                  <a:pt x="16145" y="2903"/>
                  <a:pt x="16241" y="2956"/>
                  <a:pt x="16222" y="3026"/>
                </a:cubicBezTo>
                <a:cubicBezTo>
                  <a:pt x="16201" y="3103"/>
                  <a:pt x="16091" y="3192"/>
                  <a:pt x="16024" y="3225"/>
                </a:cubicBezTo>
                <a:cubicBezTo>
                  <a:pt x="15958" y="3246"/>
                  <a:pt x="15943" y="3254"/>
                  <a:pt x="15900" y="3249"/>
                </a:cubicBezTo>
              </a:path>
              <a:path w="2854" h="1266">
                <a:moveTo>
                  <a:pt x="16669" y="2604"/>
                </a:moveTo>
                <a:cubicBezTo>
                  <a:pt x="16616" y="2688"/>
                  <a:pt x="16532" y="2786"/>
                  <a:pt x="16495" y="2877"/>
                </a:cubicBezTo>
                <a:cubicBezTo>
                  <a:pt x="16468" y="2944"/>
                  <a:pt x="16437" y="3102"/>
                  <a:pt x="16520" y="3150"/>
                </a:cubicBezTo>
                <a:cubicBezTo>
                  <a:pt x="16607" y="3201"/>
                  <a:pt x="16733" y="3146"/>
                  <a:pt x="16793" y="3076"/>
                </a:cubicBezTo>
                <a:cubicBezTo>
                  <a:pt x="16866" y="2991"/>
                  <a:pt x="16889" y="2862"/>
                  <a:pt x="16867" y="2753"/>
                </a:cubicBezTo>
                <a:cubicBezTo>
                  <a:pt x="16854" y="2690"/>
                  <a:pt x="16801" y="2618"/>
                  <a:pt x="16743" y="2604"/>
                </a:cubicBezTo>
              </a:path>
              <a:path w="2854" h="1266">
                <a:moveTo>
                  <a:pt x="17041" y="3051"/>
                </a:moveTo>
                <a:cubicBezTo>
                  <a:pt x="17002" y="3064"/>
                  <a:pt x="16994" y="3098"/>
                  <a:pt x="16991" y="3150"/>
                </a:cubicBezTo>
                <a:cubicBezTo>
                  <a:pt x="16987" y="3221"/>
                  <a:pt x="16982" y="3279"/>
                  <a:pt x="17066" y="3299"/>
                </a:cubicBezTo>
                <a:cubicBezTo>
                  <a:pt x="17134" y="3315"/>
                  <a:pt x="17190" y="3293"/>
                  <a:pt x="17239" y="3249"/>
                </a:cubicBezTo>
                <a:cubicBezTo>
                  <a:pt x="17271" y="3221"/>
                  <a:pt x="17288" y="3183"/>
                  <a:pt x="17314" y="3150"/>
                </a:cubicBezTo>
                <a:cubicBezTo>
                  <a:pt x="17286" y="3223"/>
                  <a:pt x="17252" y="3317"/>
                  <a:pt x="17264" y="3398"/>
                </a:cubicBezTo>
                <a:cubicBezTo>
                  <a:pt x="17289" y="3473"/>
                  <a:pt x="17297" y="3497"/>
                  <a:pt x="17314" y="3547"/>
                </a:cubicBezTo>
              </a:path>
              <a:path w="2854" h="1266">
                <a:moveTo>
                  <a:pt x="17611" y="2406"/>
                </a:moveTo>
                <a:cubicBezTo>
                  <a:pt x="17640" y="2428"/>
                  <a:pt x="17697" y="2449"/>
                  <a:pt x="17735" y="2456"/>
                </a:cubicBezTo>
                <a:cubicBezTo>
                  <a:pt x="17797" y="2467"/>
                  <a:pt x="17871" y="2456"/>
                  <a:pt x="17934" y="2456"/>
                </a:cubicBezTo>
              </a:path>
              <a:path w="2854" h="1266">
                <a:moveTo>
                  <a:pt x="18256" y="2282"/>
                </a:moveTo>
                <a:cubicBezTo>
                  <a:pt x="18318" y="2299"/>
                  <a:pt x="18403" y="2306"/>
                  <a:pt x="18455" y="2332"/>
                </a:cubicBezTo>
                <a:cubicBezTo>
                  <a:pt x="18495" y="2351"/>
                  <a:pt x="18479" y="2422"/>
                  <a:pt x="18479" y="2456"/>
                </a:cubicBezTo>
                <a:cubicBezTo>
                  <a:pt x="18479" y="2519"/>
                  <a:pt x="18430" y="2563"/>
                  <a:pt x="18430" y="2629"/>
                </a:cubicBezTo>
                <a:cubicBezTo>
                  <a:pt x="18430" y="2705"/>
                  <a:pt x="18527" y="2679"/>
                  <a:pt x="18579" y="2679"/>
                </a:cubicBezTo>
                <a:cubicBezTo>
                  <a:pt x="18638" y="2679"/>
                  <a:pt x="18664" y="2676"/>
                  <a:pt x="18703" y="26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60640" y="3660840"/>
            <a:ext cx="438120" cy="287280"/>
          </a:xfrm>
          <a:custGeom>
            <a:avLst/>
            <a:gdLst/>
            <a:ahLst/>
            <a:rect l="l" t="t" r="r" b="b"/>
            <a:pathLst>
              <a:path w="1216" h="795">
                <a:moveTo>
                  <a:pt x="3497" y="10269"/>
                </a:moveTo>
                <a:cubicBezTo>
                  <a:pt x="3536" y="10231"/>
                  <a:pt x="3553" y="10229"/>
                  <a:pt x="3547" y="10195"/>
                </a:cubicBezTo>
                <a:cubicBezTo>
                  <a:pt x="3515" y="10163"/>
                  <a:pt x="3491" y="10340"/>
                  <a:pt x="3473" y="10393"/>
                </a:cubicBezTo>
                <a:cubicBezTo>
                  <a:pt x="3422" y="10540"/>
                  <a:pt x="3400" y="10693"/>
                  <a:pt x="3349" y="10840"/>
                </a:cubicBezTo>
                <a:cubicBezTo>
                  <a:pt x="3324" y="10889"/>
                  <a:pt x="3315" y="10906"/>
                  <a:pt x="3299" y="10939"/>
                </a:cubicBezTo>
              </a:path>
              <a:path w="1216" h="795">
                <a:moveTo>
                  <a:pt x="3249" y="10492"/>
                </a:moveTo>
                <a:cubicBezTo>
                  <a:pt x="3231" y="10418"/>
                  <a:pt x="3223" y="10411"/>
                  <a:pt x="3225" y="10368"/>
                </a:cubicBezTo>
                <a:cubicBezTo>
                  <a:pt x="3285" y="10445"/>
                  <a:pt x="3344" y="10534"/>
                  <a:pt x="3398" y="10616"/>
                </a:cubicBezTo>
                <a:cubicBezTo>
                  <a:pt x="3491" y="10758"/>
                  <a:pt x="3561" y="10863"/>
                  <a:pt x="3696" y="10964"/>
                </a:cubicBezTo>
              </a:path>
              <a:path w="1216" h="795">
                <a:moveTo>
                  <a:pt x="3944" y="10368"/>
                </a:moveTo>
                <a:cubicBezTo>
                  <a:pt x="4003" y="10394"/>
                  <a:pt x="4059" y="10413"/>
                  <a:pt x="4118" y="10443"/>
                </a:cubicBezTo>
                <a:cubicBezTo>
                  <a:pt x="4169" y="10469"/>
                  <a:pt x="4213" y="10473"/>
                  <a:pt x="4266" y="10492"/>
                </a:cubicBezTo>
              </a:path>
              <a:path w="1216" h="795">
                <a:moveTo>
                  <a:pt x="4142" y="10691"/>
                </a:moveTo>
                <a:cubicBezTo>
                  <a:pt x="4091" y="10751"/>
                  <a:pt x="4093" y="10728"/>
                  <a:pt x="4093" y="10790"/>
                </a:cubicBezTo>
                <a:cubicBezTo>
                  <a:pt x="4183" y="10790"/>
                  <a:pt x="4283" y="10806"/>
                  <a:pt x="4366" y="10765"/>
                </a:cubicBezTo>
                <a:cubicBezTo>
                  <a:pt x="4391" y="10749"/>
                  <a:pt x="4415" y="10732"/>
                  <a:pt x="4440" y="107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8960" y="3633840"/>
            <a:ext cx="187200" cy="304920"/>
          </a:xfrm>
          <a:custGeom>
            <a:avLst/>
            <a:gdLst/>
            <a:ahLst/>
            <a:rect l="l" t="t" r="r" b="b"/>
            <a:pathLst>
              <a:path w="521" h="844">
                <a:moveTo>
                  <a:pt x="4887" y="10096"/>
                </a:moveTo>
                <a:cubicBezTo>
                  <a:pt x="4948" y="10096"/>
                  <a:pt x="4984" y="10093"/>
                  <a:pt x="5035" y="10120"/>
                </a:cubicBezTo>
                <a:cubicBezTo>
                  <a:pt x="5093" y="10151"/>
                  <a:pt x="5152" y="10220"/>
                  <a:pt x="5135" y="10294"/>
                </a:cubicBezTo>
                <a:cubicBezTo>
                  <a:pt x="5121" y="10359"/>
                  <a:pt x="5058" y="10412"/>
                  <a:pt x="5035" y="10468"/>
                </a:cubicBezTo>
                <a:cubicBezTo>
                  <a:pt x="5035" y="10492"/>
                  <a:pt x="5035" y="10501"/>
                  <a:pt x="5035" y="10517"/>
                </a:cubicBezTo>
                <a:cubicBezTo>
                  <a:pt x="5075" y="10517"/>
                  <a:pt x="5167" y="10497"/>
                  <a:pt x="5184" y="10542"/>
                </a:cubicBezTo>
                <a:cubicBezTo>
                  <a:pt x="5210" y="10611"/>
                  <a:pt x="5169" y="10668"/>
                  <a:pt x="5135" y="10716"/>
                </a:cubicBezTo>
                <a:cubicBezTo>
                  <a:pt x="5080" y="10795"/>
                  <a:pt x="5011" y="10858"/>
                  <a:pt x="4961" y="10939"/>
                </a:cubicBezTo>
              </a:path>
              <a:path w="521" h="844">
                <a:moveTo>
                  <a:pt x="5407" y="10790"/>
                </a:moveTo>
                <a:cubicBezTo>
                  <a:pt x="5407" y="10798"/>
                  <a:pt x="5407" y="10807"/>
                  <a:pt x="5407" y="108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89080" y="3697200"/>
            <a:ext cx="1268640" cy="285840"/>
          </a:xfrm>
          <a:custGeom>
            <a:avLst/>
            <a:gdLst/>
            <a:ahLst/>
            <a:rect l="l" t="t" r="r" b="b"/>
            <a:pathLst>
              <a:path w="3524" h="795">
                <a:moveTo>
                  <a:pt x="5904" y="10269"/>
                </a:moveTo>
                <a:cubicBezTo>
                  <a:pt x="5964" y="10269"/>
                  <a:pt x="5951" y="10279"/>
                  <a:pt x="5978" y="10319"/>
                </a:cubicBezTo>
                <a:cubicBezTo>
                  <a:pt x="6020" y="10381"/>
                  <a:pt x="5990" y="10448"/>
                  <a:pt x="5953" y="10517"/>
                </a:cubicBezTo>
                <a:cubicBezTo>
                  <a:pt x="5904" y="10609"/>
                  <a:pt x="5835" y="10692"/>
                  <a:pt x="5804" y="10790"/>
                </a:cubicBezTo>
                <a:cubicBezTo>
                  <a:pt x="5790" y="10836"/>
                  <a:pt x="5808" y="10879"/>
                  <a:pt x="5854" y="10889"/>
                </a:cubicBezTo>
                <a:cubicBezTo>
                  <a:pt x="5908" y="10900"/>
                  <a:pt x="6031" y="10866"/>
                  <a:pt x="6077" y="10840"/>
                </a:cubicBezTo>
                <a:cubicBezTo>
                  <a:pt x="6085" y="10832"/>
                  <a:pt x="6094" y="10823"/>
                  <a:pt x="6102" y="10815"/>
                </a:cubicBezTo>
              </a:path>
              <a:path w="3524" h="795">
                <a:moveTo>
                  <a:pt x="6424" y="10542"/>
                </a:moveTo>
                <a:cubicBezTo>
                  <a:pt x="6387" y="10594"/>
                  <a:pt x="6400" y="10650"/>
                  <a:pt x="6400" y="10716"/>
                </a:cubicBezTo>
                <a:cubicBezTo>
                  <a:pt x="6400" y="10794"/>
                  <a:pt x="6379" y="10886"/>
                  <a:pt x="6474" y="10914"/>
                </a:cubicBezTo>
                <a:cubicBezTo>
                  <a:pt x="6528" y="10930"/>
                  <a:pt x="6576" y="10907"/>
                  <a:pt x="6623" y="10889"/>
                </a:cubicBezTo>
              </a:path>
              <a:path w="3524" h="795">
                <a:moveTo>
                  <a:pt x="6375" y="10691"/>
                </a:moveTo>
                <a:cubicBezTo>
                  <a:pt x="6358" y="10691"/>
                  <a:pt x="6342" y="10691"/>
                  <a:pt x="6325" y="10691"/>
                </a:cubicBezTo>
                <a:cubicBezTo>
                  <a:pt x="6398" y="10682"/>
                  <a:pt x="6507" y="10679"/>
                  <a:pt x="6573" y="10641"/>
                </a:cubicBezTo>
                <a:cubicBezTo>
                  <a:pt x="6590" y="10625"/>
                  <a:pt x="6606" y="10608"/>
                  <a:pt x="6623" y="10592"/>
                </a:cubicBezTo>
              </a:path>
              <a:path w="3524" h="795">
                <a:moveTo>
                  <a:pt x="6474" y="10443"/>
                </a:moveTo>
                <a:cubicBezTo>
                  <a:pt x="6443" y="10381"/>
                  <a:pt x="6526" y="10355"/>
                  <a:pt x="6598" y="10344"/>
                </a:cubicBezTo>
                <a:cubicBezTo>
                  <a:pt x="6698" y="10329"/>
                  <a:pt x="6793" y="10319"/>
                  <a:pt x="6896" y="10319"/>
                </a:cubicBezTo>
              </a:path>
              <a:path w="3524" h="795">
                <a:moveTo>
                  <a:pt x="7094" y="10666"/>
                </a:moveTo>
                <a:cubicBezTo>
                  <a:pt x="7108" y="10723"/>
                  <a:pt x="7157" y="10733"/>
                  <a:pt x="7218" y="10716"/>
                </a:cubicBezTo>
                <a:cubicBezTo>
                  <a:pt x="7292" y="10695"/>
                  <a:pt x="7339" y="10651"/>
                  <a:pt x="7417" y="10641"/>
                </a:cubicBezTo>
              </a:path>
              <a:path w="3524" h="795">
                <a:moveTo>
                  <a:pt x="7863" y="10344"/>
                </a:moveTo>
                <a:cubicBezTo>
                  <a:pt x="7929" y="10344"/>
                  <a:pt x="7974" y="10333"/>
                  <a:pt x="8037" y="10319"/>
                </a:cubicBezTo>
                <a:cubicBezTo>
                  <a:pt x="8074" y="10310"/>
                  <a:pt x="8122" y="10319"/>
                  <a:pt x="8161" y="10319"/>
                </a:cubicBezTo>
              </a:path>
              <a:path w="3524" h="795">
                <a:moveTo>
                  <a:pt x="7938" y="10393"/>
                </a:moveTo>
                <a:cubicBezTo>
                  <a:pt x="7841" y="10444"/>
                  <a:pt x="7687" y="10499"/>
                  <a:pt x="7615" y="10592"/>
                </a:cubicBezTo>
                <a:cubicBezTo>
                  <a:pt x="7569" y="10651"/>
                  <a:pt x="7593" y="10699"/>
                  <a:pt x="7665" y="10716"/>
                </a:cubicBezTo>
                <a:cubicBezTo>
                  <a:pt x="7787" y="10745"/>
                  <a:pt x="7917" y="10684"/>
                  <a:pt x="8037" y="10740"/>
                </a:cubicBezTo>
                <a:cubicBezTo>
                  <a:pt x="8102" y="10770"/>
                  <a:pt x="8086" y="10819"/>
                  <a:pt x="8062" y="10864"/>
                </a:cubicBezTo>
                <a:cubicBezTo>
                  <a:pt x="8014" y="10954"/>
                  <a:pt x="7961" y="10956"/>
                  <a:pt x="7888" y="11013"/>
                </a:cubicBezTo>
                <a:cubicBezTo>
                  <a:pt x="7871" y="11030"/>
                  <a:pt x="7855" y="11046"/>
                  <a:pt x="7838" y="11063"/>
                </a:cubicBezTo>
              </a:path>
              <a:path w="3524" h="795">
                <a:moveTo>
                  <a:pt x="8607" y="10542"/>
                </a:moveTo>
                <a:cubicBezTo>
                  <a:pt x="8547" y="10603"/>
                  <a:pt x="8513" y="10659"/>
                  <a:pt x="8483" y="10740"/>
                </a:cubicBezTo>
                <a:cubicBezTo>
                  <a:pt x="8452" y="10823"/>
                  <a:pt x="8409" y="10876"/>
                  <a:pt x="8409" y="10964"/>
                </a:cubicBezTo>
                <a:cubicBezTo>
                  <a:pt x="8431" y="11006"/>
                  <a:pt x="8488" y="10910"/>
                  <a:pt x="8508" y="10864"/>
                </a:cubicBezTo>
                <a:cubicBezTo>
                  <a:pt x="8548" y="10772"/>
                  <a:pt x="8589" y="10683"/>
                  <a:pt x="8632" y="10592"/>
                </a:cubicBezTo>
                <a:cubicBezTo>
                  <a:pt x="8656" y="10541"/>
                  <a:pt x="8658" y="10529"/>
                  <a:pt x="8706" y="10517"/>
                </a:cubicBezTo>
                <a:cubicBezTo>
                  <a:pt x="8706" y="10614"/>
                  <a:pt x="8684" y="10736"/>
                  <a:pt x="8731" y="10815"/>
                </a:cubicBezTo>
                <a:cubicBezTo>
                  <a:pt x="8806" y="10804"/>
                  <a:pt x="8854" y="10756"/>
                  <a:pt x="8905" y="10691"/>
                </a:cubicBezTo>
                <a:cubicBezTo>
                  <a:pt x="8967" y="10611"/>
                  <a:pt x="9019" y="10522"/>
                  <a:pt x="9079" y="10443"/>
                </a:cubicBezTo>
                <a:cubicBezTo>
                  <a:pt x="9087" y="10435"/>
                  <a:pt x="9095" y="10426"/>
                  <a:pt x="9103" y="10418"/>
                </a:cubicBezTo>
                <a:cubicBezTo>
                  <a:pt x="9103" y="10507"/>
                  <a:pt x="9108" y="10578"/>
                  <a:pt x="9128" y="10666"/>
                </a:cubicBezTo>
                <a:cubicBezTo>
                  <a:pt x="9162" y="10812"/>
                  <a:pt x="9214" y="10897"/>
                  <a:pt x="9327" y="109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olubility of Sr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ith a Ksp of 3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 in a solution of 0.010 M Sr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olubility of Sr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ith a Ksp of 3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 in a solution of 0.010 M Sr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19160" y="3106800"/>
            <a:ext cx="839880" cy="519120"/>
          </a:xfrm>
          <a:custGeom>
            <a:avLst/>
            <a:gdLst/>
            <a:ahLst/>
            <a:rect l="l" t="t" r="r" b="b"/>
            <a:pathLst>
              <a:path w="2333" h="1440">
                <a:moveTo>
                  <a:pt x="5333" y="8682"/>
                </a:moveTo>
                <a:cubicBezTo>
                  <a:pt x="5333" y="8546"/>
                  <a:pt x="5355" y="8818"/>
                  <a:pt x="5358" y="8830"/>
                </a:cubicBezTo>
                <a:cubicBezTo>
                  <a:pt x="5399" y="9028"/>
                  <a:pt x="5401" y="9249"/>
                  <a:pt x="5407" y="9451"/>
                </a:cubicBezTo>
                <a:cubicBezTo>
                  <a:pt x="5409" y="9517"/>
                  <a:pt x="5407" y="9583"/>
                  <a:pt x="5407" y="9649"/>
                </a:cubicBezTo>
              </a:path>
              <a:path w="2333" h="1440">
                <a:moveTo>
                  <a:pt x="5804" y="8706"/>
                </a:moveTo>
                <a:cubicBezTo>
                  <a:pt x="5768" y="8805"/>
                  <a:pt x="5719" y="8920"/>
                  <a:pt x="5655" y="9004"/>
                </a:cubicBezTo>
                <a:cubicBezTo>
                  <a:pt x="5573" y="9112"/>
                  <a:pt x="5492" y="9208"/>
                  <a:pt x="5432" y="9327"/>
                </a:cubicBezTo>
                <a:cubicBezTo>
                  <a:pt x="5392" y="9407"/>
                  <a:pt x="5349" y="9453"/>
                  <a:pt x="5432" y="9500"/>
                </a:cubicBezTo>
                <a:cubicBezTo>
                  <a:pt x="5514" y="9546"/>
                  <a:pt x="5664" y="9538"/>
                  <a:pt x="5755" y="9525"/>
                </a:cubicBezTo>
                <a:cubicBezTo>
                  <a:pt x="5833" y="9514"/>
                  <a:pt x="5901" y="9484"/>
                  <a:pt x="5978" y="9475"/>
                </a:cubicBezTo>
              </a:path>
              <a:path w="2333" h="1440">
                <a:moveTo>
                  <a:pt x="6251" y="9203"/>
                </a:moveTo>
                <a:cubicBezTo>
                  <a:pt x="6251" y="9186"/>
                  <a:pt x="6251" y="9170"/>
                  <a:pt x="6251" y="9153"/>
                </a:cubicBezTo>
                <a:cubicBezTo>
                  <a:pt x="6201" y="9193"/>
                  <a:pt x="6141" y="9221"/>
                  <a:pt x="6102" y="9277"/>
                </a:cubicBezTo>
                <a:cubicBezTo>
                  <a:pt x="6068" y="9326"/>
                  <a:pt x="6039" y="9395"/>
                  <a:pt x="6028" y="9451"/>
                </a:cubicBezTo>
                <a:cubicBezTo>
                  <a:pt x="6108" y="9451"/>
                  <a:pt x="6245" y="9415"/>
                  <a:pt x="6276" y="9500"/>
                </a:cubicBezTo>
                <a:cubicBezTo>
                  <a:pt x="6301" y="9568"/>
                  <a:pt x="6239" y="9623"/>
                  <a:pt x="6226" y="9674"/>
                </a:cubicBezTo>
                <a:cubicBezTo>
                  <a:pt x="6226" y="9690"/>
                  <a:pt x="6226" y="9707"/>
                  <a:pt x="6226" y="9723"/>
                </a:cubicBezTo>
              </a:path>
              <a:path w="2333" h="1440">
                <a:moveTo>
                  <a:pt x="6524" y="9351"/>
                </a:moveTo>
                <a:cubicBezTo>
                  <a:pt x="6615" y="9489"/>
                  <a:pt x="6623" y="9536"/>
                  <a:pt x="6623" y="9699"/>
                </a:cubicBezTo>
                <a:cubicBezTo>
                  <a:pt x="6623" y="9823"/>
                  <a:pt x="6623" y="9947"/>
                  <a:pt x="6623" y="10071"/>
                </a:cubicBezTo>
                <a:cubicBezTo>
                  <a:pt x="6589" y="9980"/>
                  <a:pt x="6586" y="9872"/>
                  <a:pt x="6598" y="9773"/>
                </a:cubicBezTo>
                <a:cubicBezTo>
                  <a:pt x="6617" y="9619"/>
                  <a:pt x="6655" y="9431"/>
                  <a:pt x="6747" y="9302"/>
                </a:cubicBezTo>
                <a:cubicBezTo>
                  <a:pt x="6812" y="9211"/>
                  <a:pt x="6872" y="9153"/>
                  <a:pt x="6970" y="9178"/>
                </a:cubicBezTo>
                <a:cubicBezTo>
                  <a:pt x="7016" y="9254"/>
                  <a:pt x="6973" y="9316"/>
                  <a:pt x="6945" y="9401"/>
                </a:cubicBezTo>
                <a:cubicBezTo>
                  <a:pt x="6918" y="9483"/>
                  <a:pt x="6849" y="9577"/>
                  <a:pt x="6772" y="9624"/>
                </a:cubicBezTo>
                <a:cubicBezTo>
                  <a:pt x="6743" y="9642"/>
                  <a:pt x="6715" y="9612"/>
                  <a:pt x="6697" y="9599"/>
                </a:cubicBezTo>
              </a:path>
              <a:path w="2333" h="1440">
                <a:moveTo>
                  <a:pt x="7342" y="8979"/>
                </a:moveTo>
                <a:cubicBezTo>
                  <a:pt x="7429" y="8979"/>
                  <a:pt x="7510" y="8989"/>
                  <a:pt x="7590" y="8954"/>
                </a:cubicBezTo>
              </a:path>
              <a:path w="2333" h="1440">
                <a:moveTo>
                  <a:pt x="7441" y="9277"/>
                </a:moveTo>
                <a:cubicBezTo>
                  <a:pt x="7499" y="9277"/>
                  <a:pt x="7518" y="9255"/>
                  <a:pt x="7565" y="9227"/>
                </a:cubicBezTo>
                <a:cubicBezTo>
                  <a:pt x="7615" y="9203"/>
                  <a:pt x="7632" y="9195"/>
                  <a:pt x="7665" y="91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55960" y="3017880"/>
            <a:ext cx="696960" cy="536400"/>
          </a:xfrm>
          <a:custGeom>
            <a:avLst/>
            <a:gdLst/>
            <a:ahLst/>
            <a:rect l="l" t="t" r="r" b="b"/>
            <a:pathLst>
              <a:path w="1936" h="1489">
                <a:moveTo>
                  <a:pt x="8855" y="8781"/>
                </a:moveTo>
                <a:cubicBezTo>
                  <a:pt x="8784" y="8781"/>
                  <a:pt x="8768" y="8797"/>
                  <a:pt x="8706" y="8830"/>
                </a:cubicBezTo>
                <a:cubicBezTo>
                  <a:pt x="8675" y="8846"/>
                  <a:pt x="8549" y="8923"/>
                  <a:pt x="8533" y="8954"/>
                </a:cubicBezTo>
                <a:cubicBezTo>
                  <a:pt x="8502" y="9016"/>
                  <a:pt x="8566" y="9095"/>
                  <a:pt x="8607" y="9128"/>
                </a:cubicBezTo>
                <a:cubicBezTo>
                  <a:pt x="8692" y="9198"/>
                  <a:pt x="8806" y="9258"/>
                  <a:pt x="8905" y="9302"/>
                </a:cubicBezTo>
                <a:cubicBezTo>
                  <a:pt x="8973" y="9332"/>
                  <a:pt x="9050" y="9380"/>
                  <a:pt x="9029" y="9475"/>
                </a:cubicBezTo>
                <a:cubicBezTo>
                  <a:pt x="9016" y="9531"/>
                  <a:pt x="8925" y="9639"/>
                  <a:pt x="8880" y="9674"/>
                </a:cubicBezTo>
                <a:cubicBezTo>
                  <a:pt x="8825" y="9716"/>
                  <a:pt x="8795" y="9705"/>
                  <a:pt x="8781" y="9649"/>
                </a:cubicBezTo>
              </a:path>
              <a:path w="1936" h="1489">
                <a:moveTo>
                  <a:pt x="9103" y="9277"/>
                </a:moveTo>
                <a:cubicBezTo>
                  <a:pt x="9253" y="9295"/>
                  <a:pt x="9294" y="9291"/>
                  <a:pt x="9302" y="9451"/>
                </a:cubicBezTo>
                <a:cubicBezTo>
                  <a:pt x="9305" y="9517"/>
                  <a:pt x="9302" y="9583"/>
                  <a:pt x="9302" y="9649"/>
                </a:cubicBezTo>
                <a:cubicBezTo>
                  <a:pt x="9339" y="9588"/>
                  <a:pt x="9351" y="9500"/>
                  <a:pt x="9376" y="9426"/>
                </a:cubicBezTo>
                <a:cubicBezTo>
                  <a:pt x="9409" y="9328"/>
                  <a:pt x="9458" y="9228"/>
                  <a:pt x="9525" y="9153"/>
                </a:cubicBezTo>
                <a:cubicBezTo>
                  <a:pt x="9542" y="9136"/>
                  <a:pt x="9558" y="9120"/>
                  <a:pt x="9575" y="9103"/>
                </a:cubicBezTo>
              </a:path>
              <a:path w="1936" h="1489">
                <a:moveTo>
                  <a:pt x="9847" y="8657"/>
                </a:moveTo>
                <a:cubicBezTo>
                  <a:pt x="9885" y="8670"/>
                  <a:pt x="9921" y="8731"/>
                  <a:pt x="9947" y="8781"/>
                </a:cubicBezTo>
                <a:cubicBezTo>
                  <a:pt x="10043" y="8961"/>
                  <a:pt x="10127" y="9145"/>
                  <a:pt x="10145" y="9351"/>
                </a:cubicBezTo>
                <a:cubicBezTo>
                  <a:pt x="10155" y="9465"/>
                  <a:pt x="10141" y="9564"/>
                  <a:pt x="10120" y="9674"/>
                </a:cubicBezTo>
              </a:path>
              <a:path w="1936" h="1489">
                <a:moveTo>
                  <a:pt x="8285" y="8384"/>
                </a:moveTo>
                <a:cubicBezTo>
                  <a:pt x="8257" y="8412"/>
                  <a:pt x="8218" y="8436"/>
                  <a:pt x="8210" y="8508"/>
                </a:cubicBezTo>
                <a:cubicBezTo>
                  <a:pt x="8185" y="8722"/>
                  <a:pt x="8218" y="8968"/>
                  <a:pt x="8260" y="9178"/>
                </a:cubicBezTo>
                <a:cubicBezTo>
                  <a:pt x="8299" y="9375"/>
                  <a:pt x="8368" y="9642"/>
                  <a:pt x="8533" y="9773"/>
                </a:cubicBezTo>
                <a:cubicBezTo>
                  <a:pt x="8625" y="9820"/>
                  <a:pt x="8652" y="9832"/>
                  <a:pt x="8706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0120" y="2894040"/>
            <a:ext cx="990720" cy="598320"/>
          </a:xfrm>
          <a:custGeom>
            <a:avLst/>
            <a:gdLst/>
            <a:ahLst/>
            <a:rect l="l" t="t" r="r" b="b"/>
            <a:pathLst>
              <a:path w="2754" h="1663">
                <a:moveTo>
                  <a:pt x="10840" y="8384"/>
                </a:moveTo>
                <a:cubicBezTo>
                  <a:pt x="10786" y="8451"/>
                  <a:pt x="10728" y="8574"/>
                  <a:pt x="10716" y="8657"/>
                </a:cubicBezTo>
                <a:cubicBezTo>
                  <a:pt x="10681" y="8899"/>
                  <a:pt x="10625" y="9211"/>
                  <a:pt x="10691" y="9451"/>
                </a:cubicBezTo>
                <a:cubicBezTo>
                  <a:pt x="10734" y="9609"/>
                  <a:pt x="10817" y="9674"/>
                  <a:pt x="10964" y="9699"/>
                </a:cubicBezTo>
              </a:path>
              <a:path w="2754" h="1663">
                <a:moveTo>
                  <a:pt x="11485" y="8706"/>
                </a:moveTo>
                <a:cubicBezTo>
                  <a:pt x="11485" y="8682"/>
                  <a:pt x="11485" y="8673"/>
                  <a:pt x="11485" y="8657"/>
                </a:cubicBezTo>
                <a:cubicBezTo>
                  <a:pt x="11435" y="8674"/>
                  <a:pt x="11484" y="8706"/>
                  <a:pt x="11410" y="8706"/>
                </a:cubicBezTo>
                <a:cubicBezTo>
                  <a:pt x="11368" y="8706"/>
                  <a:pt x="11318" y="8752"/>
                  <a:pt x="11286" y="8781"/>
                </a:cubicBezTo>
                <a:cubicBezTo>
                  <a:pt x="11252" y="8812"/>
                  <a:pt x="11191" y="8822"/>
                  <a:pt x="11212" y="8880"/>
                </a:cubicBezTo>
                <a:cubicBezTo>
                  <a:pt x="11239" y="8955"/>
                  <a:pt x="11295" y="8970"/>
                  <a:pt x="11361" y="9004"/>
                </a:cubicBezTo>
                <a:cubicBezTo>
                  <a:pt x="11435" y="9042"/>
                  <a:pt x="11496" y="9048"/>
                  <a:pt x="11509" y="9128"/>
                </a:cubicBezTo>
                <a:cubicBezTo>
                  <a:pt x="11517" y="9174"/>
                  <a:pt x="11499" y="9224"/>
                  <a:pt x="11460" y="9252"/>
                </a:cubicBezTo>
                <a:cubicBezTo>
                  <a:pt x="11411" y="9287"/>
                  <a:pt x="11391" y="9294"/>
                  <a:pt x="11336" y="9302"/>
                </a:cubicBezTo>
              </a:path>
              <a:path w="2754" h="1663">
                <a:moveTo>
                  <a:pt x="11757" y="8756"/>
                </a:moveTo>
                <a:cubicBezTo>
                  <a:pt x="11780" y="8839"/>
                  <a:pt x="11761" y="8924"/>
                  <a:pt x="11782" y="9004"/>
                </a:cubicBezTo>
                <a:cubicBezTo>
                  <a:pt x="11802" y="9079"/>
                  <a:pt x="11861" y="9094"/>
                  <a:pt x="11931" y="9079"/>
                </a:cubicBezTo>
                <a:cubicBezTo>
                  <a:pt x="11995" y="9065"/>
                  <a:pt x="12063" y="8995"/>
                  <a:pt x="12080" y="8930"/>
                </a:cubicBezTo>
                <a:cubicBezTo>
                  <a:pt x="12097" y="8865"/>
                  <a:pt x="12028" y="8809"/>
                  <a:pt x="11981" y="8781"/>
                </a:cubicBezTo>
                <a:cubicBezTo>
                  <a:pt x="11947" y="8761"/>
                  <a:pt x="11821" y="8746"/>
                  <a:pt x="11807" y="8731"/>
                </a:cubicBezTo>
                <a:cubicBezTo>
                  <a:pt x="11807" y="8723"/>
                  <a:pt x="11807" y="8714"/>
                  <a:pt x="11807" y="8706"/>
                </a:cubicBezTo>
              </a:path>
              <a:path w="2754" h="1663">
                <a:moveTo>
                  <a:pt x="12402" y="8954"/>
                </a:moveTo>
                <a:cubicBezTo>
                  <a:pt x="12402" y="9016"/>
                  <a:pt x="12400" y="9053"/>
                  <a:pt x="12427" y="9103"/>
                </a:cubicBezTo>
                <a:cubicBezTo>
                  <a:pt x="12457" y="9158"/>
                  <a:pt x="12478" y="9200"/>
                  <a:pt x="12551" y="9178"/>
                </a:cubicBezTo>
                <a:cubicBezTo>
                  <a:pt x="12598" y="9164"/>
                  <a:pt x="12686" y="9076"/>
                  <a:pt x="12700" y="9029"/>
                </a:cubicBezTo>
                <a:cubicBezTo>
                  <a:pt x="12712" y="8987"/>
                  <a:pt x="12725" y="8950"/>
                  <a:pt x="12725" y="8905"/>
                </a:cubicBezTo>
                <a:cubicBezTo>
                  <a:pt x="12662" y="8936"/>
                  <a:pt x="12675" y="8980"/>
                  <a:pt x="12675" y="9054"/>
                </a:cubicBezTo>
                <a:cubicBezTo>
                  <a:pt x="12675" y="9155"/>
                  <a:pt x="12732" y="9253"/>
                  <a:pt x="12799" y="9327"/>
                </a:cubicBezTo>
                <a:cubicBezTo>
                  <a:pt x="12816" y="9343"/>
                  <a:pt x="12832" y="9360"/>
                  <a:pt x="12849" y="9376"/>
                </a:cubicBezTo>
              </a:path>
              <a:path w="2754" h="1663">
                <a:moveTo>
                  <a:pt x="12824" y="8037"/>
                </a:moveTo>
                <a:cubicBezTo>
                  <a:pt x="12926" y="8088"/>
                  <a:pt x="12984" y="8180"/>
                  <a:pt x="13047" y="8285"/>
                </a:cubicBezTo>
                <a:cubicBezTo>
                  <a:pt x="13166" y="8483"/>
                  <a:pt x="13290" y="8688"/>
                  <a:pt x="13370" y="8905"/>
                </a:cubicBezTo>
                <a:cubicBezTo>
                  <a:pt x="13437" y="9085"/>
                  <a:pt x="13423" y="9250"/>
                  <a:pt x="13345" y="9426"/>
                </a:cubicBezTo>
                <a:cubicBezTo>
                  <a:pt x="13303" y="9521"/>
                  <a:pt x="13239" y="9598"/>
                  <a:pt x="13171" y="96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09880" y="3946680"/>
            <a:ext cx="204840" cy="295200"/>
          </a:xfrm>
          <a:custGeom>
            <a:avLst/>
            <a:gdLst/>
            <a:ahLst/>
            <a:rect l="l" t="t" r="r" b="b"/>
            <a:pathLst>
              <a:path w="572" h="819">
                <a:moveTo>
                  <a:pt x="5581" y="11038"/>
                </a:moveTo>
                <a:cubicBezTo>
                  <a:pt x="5631" y="11017"/>
                  <a:pt x="5702" y="10973"/>
                  <a:pt x="5755" y="10964"/>
                </a:cubicBezTo>
                <a:cubicBezTo>
                  <a:pt x="5848" y="10948"/>
                  <a:pt x="5907" y="10960"/>
                  <a:pt x="5953" y="11038"/>
                </a:cubicBezTo>
                <a:cubicBezTo>
                  <a:pt x="5990" y="11101"/>
                  <a:pt x="5978" y="11204"/>
                  <a:pt x="5928" y="11261"/>
                </a:cubicBezTo>
                <a:cubicBezTo>
                  <a:pt x="5904" y="11289"/>
                  <a:pt x="5801" y="11336"/>
                  <a:pt x="5854" y="11336"/>
                </a:cubicBezTo>
                <a:cubicBezTo>
                  <a:pt x="5956" y="11336"/>
                  <a:pt x="6024" y="11319"/>
                  <a:pt x="6102" y="11385"/>
                </a:cubicBezTo>
                <a:cubicBezTo>
                  <a:pt x="6173" y="11445"/>
                  <a:pt x="6156" y="11534"/>
                  <a:pt x="6127" y="11609"/>
                </a:cubicBezTo>
                <a:cubicBezTo>
                  <a:pt x="6099" y="11681"/>
                  <a:pt x="6057" y="11728"/>
                  <a:pt x="6003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47920" y="3911760"/>
            <a:ext cx="482760" cy="276120"/>
          </a:xfrm>
          <a:custGeom>
            <a:avLst/>
            <a:gdLst/>
            <a:ahLst/>
            <a:rect l="l" t="t" r="r" b="b"/>
            <a:pathLst>
              <a:path w="1340" h="770">
                <a:moveTo>
                  <a:pt x="6524" y="11460"/>
                </a:moveTo>
                <a:cubicBezTo>
                  <a:pt x="6568" y="11512"/>
                  <a:pt x="6604" y="11538"/>
                  <a:pt x="6524" y="11559"/>
                </a:cubicBezTo>
              </a:path>
              <a:path w="1340" h="770">
                <a:moveTo>
                  <a:pt x="6747" y="10914"/>
                </a:moveTo>
                <a:cubicBezTo>
                  <a:pt x="6839" y="10886"/>
                  <a:pt x="6834" y="10877"/>
                  <a:pt x="6896" y="10939"/>
                </a:cubicBezTo>
                <a:cubicBezTo>
                  <a:pt x="6948" y="10991"/>
                  <a:pt x="6987" y="11038"/>
                  <a:pt x="6995" y="11112"/>
                </a:cubicBezTo>
                <a:cubicBezTo>
                  <a:pt x="7006" y="11215"/>
                  <a:pt x="6974" y="11338"/>
                  <a:pt x="6945" y="11435"/>
                </a:cubicBezTo>
                <a:cubicBezTo>
                  <a:pt x="6935" y="11469"/>
                  <a:pt x="6898" y="11567"/>
                  <a:pt x="6921" y="11609"/>
                </a:cubicBezTo>
                <a:cubicBezTo>
                  <a:pt x="6942" y="11647"/>
                  <a:pt x="7034" y="11642"/>
                  <a:pt x="7069" y="11633"/>
                </a:cubicBezTo>
                <a:cubicBezTo>
                  <a:pt x="7144" y="11613"/>
                  <a:pt x="7234" y="11556"/>
                  <a:pt x="7293" y="11509"/>
                </a:cubicBezTo>
              </a:path>
              <a:path w="1340" h="770">
                <a:moveTo>
                  <a:pt x="7615" y="11137"/>
                </a:moveTo>
                <a:cubicBezTo>
                  <a:pt x="7615" y="11219"/>
                  <a:pt x="7627" y="11285"/>
                  <a:pt x="7640" y="11361"/>
                </a:cubicBezTo>
                <a:cubicBezTo>
                  <a:pt x="7651" y="11427"/>
                  <a:pt x="7695" y="11477"/>
                  <a:pt x="7764" y="11485"/>
                </a:cubicBezTo>
                <a:cubicBezTo>
                  <a:pt x="7818" y="11491"/>
                  <a:pt x="7825" y="11488"/>
                  <a:pt x="7863" y="11460"/>
                </a:cubicBezTo>
              </a:path>
              <a:path w="1340" h="770">
                <a:moveTo>
                  <a:pt x="7665" y="11311"/>
                </a:moveTo>
                <a:cubicBezTo>
                  <a:pt x="7648" y="11311"/>
                  <a:pt x="7632" y="11311"/>
                  <a:pt x="7615" y="11311"/>
                </a:cubicBezTo>
                <a:cubicBezTo>
                  <a:pt x="7674" y="11287"/>
                  <a:pt x="7738" y="11235"/>
                  <a:pt x="7789" y="11187"/>
                </a:cubicBezTo>
                <a:cubicBezTo>
                  <a:pt x="7805" y="11170"/>
                  <a:pt x="7822" y="11154"/>
                  <a:pt x="7838" y="11137"/>
                </a:cubicBezTo>
              </a:path>
              <a:path w="1340" h="770">
                <a:moveTo>
                  <a:pt x="7615" y="10988"/>
                </a:moveTo>
                <a:cubicBezTo>
                  <a:pt x="7607" y="10996"/>
                  <a:pt x="7598" y="11005"/>
                  <a:pt x="7590" y="11013"/>
                </a:cubicBezTo>
                <a:cubicBezTo>
                  <a:pt x="7635" y="10969"/>
                  <a:pt x="7679" y="10938"/>
                  <a:pt x="7739" y="10914"/>
                </a:cubicBezTo>
                <a:cubicBezTo>
                  <a:pt x="7806" y="10891"/>
                  <a:pt x="7824" y="10886"/>
                  <a:pt x="7863" y="108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00240" y="3830760"/>
            <a:ext cx="295560" cy="260280"/>
          </a:xfrm>
          <a:custGeom>
            <a:avLst/>
            <a:gdLst/>
            <a:ahLst/>
            <a:rect l="l" t="t" r="r" b="b"/>
            <a:pathLst>
              <a:path w="820" h="721">
                <a:moveTo>
                  <a:pt x="8334" y="11237"/>
                </a:moveTo>
                <a:cubicBezTo>
                  <a:pt x="8334" y="11245"/>
                  <a:pt x="8334" y="11253"/>
                  <a:pt x="8334" y="11261"/>
                </a:cubicBezTo>
                <a:cubicBezTo>
                  <a:pt x="8387" y="11261"/>
                  <a:pt x="8408" y="11261"/>
                  <a:pt x="8458" y="11237"/>
                </a:cubicBezTo>
                <a:cubicBezTo>
                  <a:pt x="8502" y="11215"/>
                  <a:pt x="8514" y="11212"/>
                  <a:pt x="8533" y="11187"/>
                </a:cubicBezTo>
              </a:path>
              <a:path w="820" h="721">
                <a:moveTo>
                  <a:pt x="8781" y="10790"/>
                </a:moveTo>
                <a:cubicBezTo>
                  <a:pt x="8728" y="10764"/>
                  <a:pt x="8846" y="10742"/>
                  <a:pt x="8880" y="10716"/>
                </a:cubicBezTo>
                <a:cubicBezTo>
                  <a:pt x="8951" y="10661"/>
                  <a:pt x="8963" y="10641"/>
                  <a:pt x="9054" y="10641"/>
                </a:cubicBezTo>
                <a:cubicBezTo>
                  <a:pt x="9070" y="10641"/>
                  <a:pt x="9087" y="10641"/>
                  <a:pt x="9103" y="10641"/>
                </a:cubicBezTo>
                <a:cubicBezTo>
                  <a:pt x="9103" y="10825"/>
                  <a:pt x="9031" y="11179"/>
                  <a:pt x="9128" y="11336"/>
                </a:cubicBezTo>
                <a:cubicBezTo>
                  <a:pt x="9136" y="11344"/>
                  <a:pt x="9145" y="11353"/>
                  <a:pt x="9153" y="113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73280" y="3670200"/>
            <a:ext cx="322560" cy="438120"/>
          </a:xfrm>
          <a:custGeom>
            <a:avLst/>
            <a:gdLst/>
            <a:ahLst/>
            <a:rect l="l" t="t" r="r" b="b"/>
            <a:pathLst>
              <a:path w="894" h="1216">
                <a:moveTo>
                  <a:pt x="10418" y="10195"/>
                </a:moveTo>
                <a:cubicBezTo>
                  <a:pt x="10334" y="10262"/>
                  <a:pt x="10321" y="10276"/>
                  <a:pt x="10294" y="10393"/>
                </a:cubicBezTo>
                <a:cubicBezTo>
                  <a:pt x="10252" y="10575"/>
                  <a:pt x="10206" y="10802"/>
                  <a:pt x="10244" y="10988"/>
                </a:cubicBezTo>
                <a:cubicBezTo>
                  <a:pt x="10267" y="11101"/>
                  <a:pt x="10346" y="11295"/>
                  <a:pt x="10468" y="11336"/>
                </a:cubicBezTo>
                <a:cubicBezTo>
                  <a:pt x="10493" y="11336"/>
                  <a:pt x="10517" y="11336"/>
                  <a:pt x="10542" y="11336"/>
                </a:cubicBezTo>
              </a:path>
              <a:path w="894" h="1216">
                <a:moveTo>
                  <a:pt x="9649" y="11013"/>
                </a:moveTo>
                <a:cubicBezTo>
                  <a:pt x="9659" y="11032"/>
                  <a:pt x="9714" y="11013"/>
                  <a:pt x="9773" y="11013"/>
                </a:cubicBezTo>
                <a:cubicBezTo>
                  <a:pt x="9836" y="11013"/>
                  <a:pt x="9882" y="10988"/>
                  <a:pt x="9947" y="10988"/>
                </a:cubicBezTo>
              </a:path>
              <a:path w="894" h="1216">
                <a:moveTo>
                  <a:pt x="9798" y="11361"/>
                </a:moveTo>
                <a:cubicBezTo>
                  <a:pt x="9836" y="11417"/>
                  <a:pt x="9859" y="11434"/>
                  <a:pt x="9922" y="11385"/>
                </a:cubicBezTo>
                <a:cubicBezTo>
                  <a:pt x="9955" y="11359"/>
                  <a:pt x="9988" y="11337"/>
                  <a:pt x="10021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38760" y="3894120"/>
            <a:ext cx="17280" cy="17640"/>
          </a:xfrm>
          <a:custGeom>
            <a:avLst/>
            <a:gdLst/>
            <a:ahLst/>
            <a:rect l="l" t="t" r="r" b="b"/>
            <a:pathLst>
              <a:path w="50" h="50">
                <a:moveTo>
                  <a:pt x="10964" y="10815"/>
                </a:moveTo>
                <a:cubicBezTo>
                  <a:pt x="10951" y="10854"/>
                  <a:pt x="10952" y="10825"/>
                  <a:pt x="10939" y="10864"/>
                </a:cubicBezTo>
                <a:cubicBezTo>
                  <a:pt x="10970" y="10854"/>
                  <a:pt x="11017" y="10800"/>
                  <a:pt x="10988" y="10815"/>
                </a:cubicBezTo>
                <a:cubicBezTo>
                  <a:pt x="10955" y="10832"/>
                  <a:pt x="10948" y="10839"/>
                  <a:pt x="10939" y="108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9240" y="3606840"/>
            <a:ext cx="384480" cy="393840"/>
          </a:xfrm>
          <a:custGeom>
            <a:avLst/>
            <a:gdLst/>
            <a:ahLst/>
            <a:rect l="l" t="t" r="r" b="b"/>
            <a:pathLst>
              <a:path w="1067" h="1092">
                <a:moveTo>
                  <a:pt x="11385" y="10468"/>
                </a:moveTo>
                <a:cubicBezTo>
                  <a:pt x="11376" y="10573"/>
                  <a:pt x="11342" y="10682"/>
                  <a:pt x="11361" y="10790"/>
                </a:cubicBezTo>
                <a:cubicBezTo>
                  <a:pt x="11378" y="10888"/>
                  <a:pt x="11452" y="10921"/>
                  <a:pt x="11534" y="10889"/>
                </a:cubicBezTo>
                <a:cubicBezTo>
                  <a:pt x="11617" y="10856"/>
                  <a:pt x="11653" y="10801"/>
                  <a:pt x="11658" y="10716"/>
                </a:cubicBezTo>
                <a:cubicBezTo>
                  <a:pt x="11662" y="10652"/>
                  <a:pt x="11620" y="10592"/>
                  <a:pt x="11559" y="10567"/>
                </a:cubicBezTo>
                <a:cubicBezTo>
                  <a:pt x="11534" y="10557"/>
                  <a:pt x="11512" y="10549"/>
                  <a:pt x="11485" y="10542"/>
                </a:cubicBezTo>
              </a:path>
              <a:path w="1067" h="1092">
                <a:moveTo>
                  <a:pt x="11807" y="10443"/>
                </a:moveTo>
                <a:cubicBezTo>
                  <a:pt x="11807" y="10557"/>
                  <a:pt x="11816" y="10656"/>
                  <a:pt x="11832" y="10765"/>
                </a:cubicBezTo>
                <a:cubicBezTo>
                  <a:pt x="11841" y="10829"/>
                  <a:pt x="11839" y="10872"/>
                  <a:pt x="11906" y="10889"/>
                </a:cubicBezTo>
              </a:path>
              <a:path w="1067" h="1092">
                <a:moveTo>
                  <a:pt x="12030" y="10046"/>
                </a:moveTo>
                <a:cubicBezTo>
                  <a:pt x="12078" y="10014"/>
                  <a:pt x="12070" y="10087"/>
                  <a:pt x="12105" y="10145"/>
                </a:cubicBezTo>
                <a:cubicBezTo>
                  <a:pt x="12177" y="10264"/>
                  <a:pt x="12263" y="10369"/>
                  <a:pt x="12328" y="10492"/>
                </a:cubicBezTo>
                <a:cubicBezTo>
                  <a:pt x="12398" y="10625"/>
                  <a:pt x="12452" y="10734"/>
                  <a:pt x="12427" y="10889"/>
                </a:cubicBezTo>
                <a:cubicBezTo>
                  <a:pt x="12413" y="10973"/>
                  <a:pt x="12370" y="11041"/>
                  <a:pt x="12328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24280" y="3687840"/>
            <a:ext cx="115920" cy="285840"/>
          </a:xfrm>
          <a:custGeom>
            <a:avLst/>
            <a:gdLst/>
            <a:ahLst/>
            <a:rect l="l" t="t" r="r" b="b"/>
            <a:pathLst>
              <a:path w="323" h="795">
                <a:moveTo>
                  <a:pt x="13271" y="10244"/>
                </a:moveTo>
                <a:cubicBezTo>
                  <a:pt x="13229" y="10244"/>
                  <a:pt x="13192" y="10250"/>
                  <a:pt x="13171" y="10294"/>
                </a:cubicBezTo>
                <a:cubicBezTo>
                  <a:pt x="13112" y="10417"/>
                  <a:pt x="13107" y="10584"/>
                  <a:pt x="13122" y="10716"/>
                </a:cubicBezTo>
                <a:cubicBezTo>
                  <a:pt x="13136" y="10834"/>
                  <a:pt x="13218" y="11002"/>
                  <a:pt x="13345" y="11038"/>
                </a:cubicBezTo>
                <a:cubicBezTo>
                  <a:pt x="13378" y="11038"/>
                  <a:pt x="13411" y="11038"/>
                  <a:pt x="13444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00760" y="3581280"/>
            <a:ext cx="401400" cy="411120"/>
          </a:xfrm>
          <a:custGeom>
            <a:avLst/>
            <a:gdLst/>
            <a:ahLst/>
            <a:rect l="l" t="t" r="r" b="b"/>
            <a:pathLst>
              <a:path w="1117" h="1142">
                <a:moveTo>
                  <a:pt x="14238" y="10368"/>
                </a:moveTo>
                <a:cubicBezTo>
                  <a:pt x="14221" y="10451"/>
                  <a:pt x="14173" y="10515"/>
                  <a:pt x="14139" y="10592"/>
                </a:cubicBezTo>
                <a:cubicBezTo>
                  <a:pt x="14100" y="10680"/>
                  <a:pt x="14091" y="10782"/>
                  <a:pt x="14039" y="10864"/>
                </a:cubicBezTo>
                <a:cubicBezTo>
                  <a:pt x="14031" y="10872"/>
                  <a:pt x="14023" y="10881"/>
                  <a:pt x="14015" y="10889"/>
                </a:cubicBezTo>
              </a:path>
              <a:path w="1117" h="1142">
                <a:moveTo>
                  <a:pt x="13891" y="10468"/>
                </a:moveTo>
                <a:cubicBezTo>
                  <a:pt x="13937" y="10526"/>
                  <a:pt x="13963" y="10586"/>
                  <a:pt x="14015" y="10641"/>
                </a:cubicBezTo>
                <a:cubicBezTo>
                  <a:pt x="14086" y="10717"/>
                  <a:pt x="14207" y="10774"/>
                  <a:pt x="14312" y="10790"/>
                </a:cubicBezTo>
                <a:cubicBezTo>
                  <a:pt x="14380" y="10790"/>
                  <a:pt x="14399" y="10793"/>
                  <a:pt x="14436" y="10765"/>
                </a:cubicBezTo>
              </a:path>
              <a:path w="1117" h="1142">
                <a:moveTo>
                  <a:pt x="14536" y="9947"/>
                </a:moveTo>
                <a:cubicBezTo>
                  <a:pt x="14624" y="9947"/>
                  <a:pt x="14673" y="9947"/>
                  <a:pt x="14734" y="10021"/>
                </a:cubicBezTo>
                <a:cubicBezTo>
                  <a:pt x="14821" y="10128"/>
                  <a:pt x="14916" y="10288"/>
                  <a:pt x="14957" y="10418"/>
                </a:cubicBezTo>
                <a:cubicBezTo>
                  <a:pt x="15011" y="10588"/>
                  <a:pt x="14997" y="10719"/>
                  <a:pt x="14982" y="10889"/>
                </a:cubicBezTo>
                <a:cubicBezTo>
                  <a:pt x="14974" y="10975"/>
                  <a:pt x="14949" y="11012"/>
                  <a:pt x="14908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13080" y="4464000"/>
            <a:ext cx="455760" cy="196920"/>
          </a:xfrm>
          <a:custGeom>
            <a:avLst/>
            <a:gdLst/>
            <a:ahLst/>
            <a:rect l="l" t="t" r="r" b="b"/>
            <a:pathLst>
              <a:path w="1266" h="547">
                <a:moveTo>
                  <a:pt x="9401" y="12427"/>
                </a:moveTo>
                <a:cubicBezTo>
                  <a:pt x="9392" y="12526"/>
                  <a:pt x="9354" y="12602"/>
                  <a:pt x="9327" y="12700"/>
                </a:cubicBezTo>
                <a:cubicBezTo>
                  <a:pt x="9296" y="12812"/>
                  <a:pt x="9284" y="12866"/>
                  <a:pt x="9203" y="12948"/>
                </a:cubicBezTo>
              </a:path>
              <a:path w="1266" h="547">
                <a:moveTo>
                  <a:pt x="9203" y="12526"/>
                </a:moveTo>
                <a:cubicBezTo>
                  <a:pt x="9262" y="12482"/>
                  <a:pt x="9275" y="12524"/>
                  <a:pt x="9327" y="12576"/>
                </a:cubicBezTo>
                <a:cubicBezTo>
                  <a:pt x="9404" y="12654"/>
                  <a:pt x="9485" y="12739"/>
                  <a:pt x="9575" y="12799"/>
                </a:cubicBezTo>
                <a:cubicBezTo>
                  <a:pt x="9623" y="12823"/>
                  <a:pt x="9637" y="12832"/>
                  <a:pt x="9674" y="12824"/>
                </a:cubicBezTo>
              </a:path>
              <a:path w="1266" h="547">
                <a:moveTo>
                  <a:pt x="9897" y="12427"/>
                </a:moveTo>
                <a:cubicBezTo>
                  <a:pt x="9994" y="12398"/>
                  <a:pt x="9990" y="12411"/>
                  <a:pt x="10071" y="12427"/>
                </a:cubicBezTo>
                <a:cubicBezTo>
                  <a:pt x="10129" y="12439"/>
                  <a:pt x="10187" y="12440"/>
                  <a:pt x="10244" y="12452"/>
                </a:cubicBezTo>
              </a:path>
              <a:path w="1266" h="547">
                <a:moveTo>
                  <a:pt x="10120" y="12750"/>
                </a:moveTo>
                <a:cubicBezTo>
                  <a:pt x="10120" y="12791"/>
                  <a:pt x="10120" y="12799"/>
                  <a:pt x="10120" y="12824"/>
                </a:cubicBezTo>
                <a:cubicBezTo>
                  <a:pt x="10194" y="12824"/>
                  <a:pt x="10248" y="12826"/>
                  <a:pt x="10319" y="12799"/>
                </a:cubicBezTo>
                <a:cubicBezTo>
                  <a:pt x="10372" y="12779"/>
                  <a:pt x="10422" y="12755"/>
                  <a:pt x="10468" y="127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4205160"/>
            <a:ext cx="1303200" cy="376200"/>
          </a:xfrm>
          <a:custGeom>
            <a:avLst/>
            <a:gdLst/>
            <a:ahLst/>
            <a:rect l="l" t="t" r="r" b="b"/>
            <a:pathLst>
              <a:path w="3622" h="1043">
                <a:moveTo>
                  <a:pt x="11460" y="12105"/>
                </a:moveTo>
                <a:cubicBezTo>
                  <a:pt x="11472" y="12059"/>
                  <a:pt x="11539" y="12004"/>
                  <a:pt x="11584" y="11981"/>
                </a:cubicBezTo>
                <a:cubicBezTo>
                  <a:pt x="11673" y="11934"/>
                  <a:pt x="11787" y="11895"/>
                  <a:pt x="11857" y="11981"/>
                </a:cubicBezTo>
                <a:cubicBezTo>
                  <a:pt x="11906" y="12041"/>
                  <a:pt x="11887" y="12166"/>
                  <a:pt x="11857" y="12229"/>
                </a:cubicBezTo>
                <a:cubicBezTo>
                  <a:pt x="11827" y="12290"/>
                  <a:pt x="11807" y="12448"/>
                  <a:pt x="11757" y="12402"/>
                </a:cubicBezTo>
                <a:cubicBezTo>
                  <a:pt x="11757" y="12394"/>
                  <a:pt x="11757" y="12386"/>
                  <a:pt x="11757" y="12378"/>
                </a:cubicBezTo>
                <a:cubicBezTo>
                  <a:pt x="11826" y="12344"/>
                  <a:pt x="11880" y="12309"/>
                  <a:pt x="11956" y="12303"/>
                </a:cubicBezTo>
                <a:cubicBezTo>
                  <a:pt x="12013" y="12299"/>
                  <a:pt x="12041" y="12379"/>
                  <a:pt x="12030" y="12427"/>
                </a:cubicBezTo>
                <a:cubicBezTo>
                  <a:pt x="12015" y="12493"/>
                  <a:pt x="11926" y="12578"/>
                  <a:pt x="11881" y="12626"/>
                </a:cubicBezTo>
                <a:cubicBezTo>
                  <a:pt x="11849" y="12660"/>
                  <a:pt x="11815" y="12692"/>
                  <a:pt x="11782" y="12725"/>
                </a:cubicBezTo>
              </a:path>
              <a:path w="3622" h="1043">
                <a:moveTo>
                  <a:pt x="12353" y="12353"/>
                </a:moveTo>
                <a:cubicBezTo>
                  <a:pt x="12345" y="12457"/>
                  <a:pt x="12345" y="12433"/>
                  <a:pt x="12328" y="12502"/>
                </a:cubicBezTo>
              </a:path>
              <a:path w="3622" h="1043">
                <a:moveTo>
                  <a:pt x="12551" y="12030"/>
                </a:moveTo>
                <a:cubicBezTo>
                  <a:pt x="12616" y="11993"/>
                  <a:pt x="12626" y="11981"/>
                  <a:pt x="12700" y="11981"/>
                </a:cubicBezTo>
                <a:cubicBezTo>
                  <a:pt x="12755" y="11981"/>
                  <a:pt x="12813" y="12022"/>
                  <a:pt x="12824" y="12080"/>
                </a:cubicBezTo>
                <a:cubicBezTo>
                  <a:pt x="12841" y="12170"/>
                  <a:pt x="12784" y="12295"/>
                  <a:pt x="12750" y="12378"/>
                </a:cubicBezTo>
                <a:cubicBezTo>
                  <a:pt x="12731" y="12424"/>
                  <a:pt x="12692" y="12514"/>
                  <a:pt x="12750" y="12551"/>
                </a:cubicBezTo>
                <a:cubicBezTo>
                  <a:pt x="12792" y="12577"/>
                  <a:pt x="12912" y="12540"/>
                  <a:pt x="12948" y="12526"/>
                </a:cubicBezTo>
                <a:cubicBezTo>
                  <a:pt x="12998" y="12502"/>
                  <a:pt x="13014" y="12494"/>
                  <a:pt x="13047" y="12477"/>
                </a:cubicBezTo>
              </a:path>
              <a:path w="3622" h="1043">
                <a:moveTo>
                  <a:pt x="13469" y="12154"/>
                </a:moveTo>
                <a:cubicBezTo>
                  <a:pt x="13435" y="12246"/>
                  <a:pt x="13419" y="12303"/>
                  <a:pt x="13419" y="12402"/>
                </a:cubicBezTo>
                <a:cubicBezTo>
                  <a:pt x="13419" y="12499"/>
                  <a:pt x="13484" y="12498"/>
                  <a:pt x="13568" y="12502"/>
                </a:cubicBezTo>
                <a:cubicBezTo>
                  <a:pt x="13625" y="12502"/>
                  <a:pt x="13646" y="12497"/>
                  <a:pt x="13667" y="12452"/>
                </a:cubicBezTo>
              </a:path>
              <a:path w="3622" h="1043">
                <a:moveTo>
                  <a:pt x="13444" y="12353"/>
                </a:moveTo>
                <a:cubicBezTo>
                  <a:pt x="13496" y="12280"/>
                  <a:pt x="13549" y="12283"/>
                  <a:pt x="13618" y="12229"/>
                </a:cubicBezTo>
                <a:cubicBezTo>
                  <a:pt x="13664" y="12182"/>
                  <a:pt x="13676" y="12168"/>
                  <a:pt x="13717" y="12154"/>
                </a:cubicBezTo>
              </a:path>
              <a:path w="3622" h="1043">
                <a:moveTo>
                  <a:pt x="13568" y="11981"/>
                </a:moveTo>
                <a:cubicBezTo>
                  <a:pt x="13584" y="11932"/>
                  <a:pt x="13640" y="11948"/>
                  <a:pt x="13692" y="11931"/>
                </a:cubicBezTo>
                <a:cubicBezTo>
                  <a:pt x="13751" y="11911"/>
                  <a:pt x="13779" y="11889"/>
                  <a:pt x="13841" y="11881"/>
                </a:cubicBezTo>
              </a:path>
              <a:path w="3622" h="1043">
                <a:moveTo>
                  <a:pt x="14114" y="12229"/>
                </a:moveTo>
                <a:cubicBezTo>
                  <a:pt x="14122" y="12237"/>
                  <a:pt x="14131" y="12246"/>
                  <a:pt x="14139" y="12254"/>
                </a:cubicBezTo>
                <a:cubicBezTo>
                  <a:pt x="14173" y="12228"/>
                  <a:pt x="14218" y="12194"/>
                  <a:pt x="14263" y="12179"/>
                </a:cubicBezTo>
                <a:cubicBezTo>
                  <a:pt x="14298" y="12179"/>
                  <a:pt x="14315" y="12174"/>
                  <a:pt x="14337" y="12154"/>
                </a:cubicBezTo>
              </a:path>
              <a:path w="3622" h="1043">
                <a:moveTo>
                  <a:pt x="14808" y="11733"/>
                </a:moveTo>
                <a:cubicBezTo>
                  <a:pt x="14864" y="11773"/>
                  <a:pt x="14877" y="11744"/>
                  <a:pt x="14932" y="11733"/>
                </a:cubicBezTo>
                <a:cubicBezTo>
                  <a:pt x="14990" y="11722"/>
                  <a:pt x="15030" y="11696"/>
                  <a:pt x="15081" y="11683"/>
                </a:cubicBezTo>
              </a:path>
              <a:path w="3622" h="1043">
                <a:moveTo>
                  <a:pt x="14759" y="11857"/>
                </a:moveTo>
                <a:cubicBezTo>
                  <a:pt x="14667" y="11938"/>
                  <a:pt x="14584" y="11983"/>
                  <a:pt x="14560" y="12105"/>
                </a:cubicBezTo>
                <a:cubicBezTo>
                  <a:pt x="14651" y="12149"/>
                  <a:pt x="14706" y="12154"/>
                  <a:pt x="14808" y="12154"/>
                </a:cubicBezTo>
                <a:cubicBezTo>
                  <a:pt x="14878" y="12154"/>
                  <a:pt x="14960" y="12138"/>
                  <a:pt x="15007" y="12204"/>
                </a:cubicBezTo>
                <a:cubicBezTo>
                  <a:pt x="15071" y="12293"/>
                  <a:pt x="15007" y="12334"/>
                  <a:pt x="14957" y="12402"/>
                </a:cubicBezTo>
                <a:cubicBezTo>
                  <a:pt x="14900" y="12479"/>
                  <a:pt x="14833" y="12545"/>
                  <a:pt x="14784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H and solubil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be a common 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oluble in ac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other anions if they come from a weak acid they are more soluble in a acidic solution than i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cidic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895480" y="4114800"/>
            <a:ext cx="1297080" cy="382320"/>
            <a:chOff x="2895480" y="4114800"/>
            <a:chExt cx="1297080" cy="382320"/>
          </a:xfrm>
        </p:grpSpPr>
        <p:sp>
          <p:nvSpPr>
            <p:cNvPr id="301" name=""/>
            <p:cNvSpPr/>
            <p:nvPr/>
          </p:nvSpPr>
          <p:spPr>
            <a:xfrm>
              <a:off x="2895480" y="4114800"/>
              <a:ext cx="1297080" cy="153720"/>
            </a:xfrm>
            <a:custGeom>
              <a:avLst/>
              <a:gdLst/>
              <a:ahLst/>
              <a:rect l="l" t="t" r="r" b="b"/>
              <a:pathLst>
                <a:path w="817" h="97">
                  <a:moveTo>
                    <a:pt x="0" y="96"/>
                  </a:moveTo>
                  <a:lnTo>
                    <a:pt x="816" y="96"/>
                  </a:lnTo>
                  <a:lnTo>
                    <a:pt x="67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95480" y="4343400"/>
              <a:ext cx="1297080" cy="153720"/>
            </a:xfrm>
            <a:custGeom>
              <a:avLst/>
              <a:gdLst/>
              <a:ahLst/>
              <a:rect l="l" t="t" r="r" b="b"/>
              <a:pathLst>
                <a:path w="817" h="97">
                  <a:moveTo>
                    <a:pt x="81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429000" y="4800600"/>
            <a:ext cx="1297080" cy="382680"/>
            <a:chOff x="3429000" y="4800600"/>
            <a:chExt cx="1297080" cy="382680"/>
          </a:xfrm>
        </p:grpSpPr>
        <p:sp>
          <p:nvSpPr>
            <p:cNvPr id="304" name=""/>
            <p:cNvSpPr/>
            <p:nvPr/>
          </p:nvSpPr>
          <p:spPr>
            <a:xfrm>
              <a:off x="3429000" y="4800600"/>
              <a:ext cx="1297080" cy="154080"/>
            </a:xfrm>
            <a:custGeom>
              <a:avLst/>
              <a:gdLst/>
              <a:ahLst/>
              <a:rect l="l" t="t" r="r" b="b"/>
              <a:pathLst>
                <a:path w="817" h="97">
                  <a:moveTo>
                    <a:pt x="0" y="96"/>
                  </a:moveTo>
                  <a:lnTo>
                    <a:pt x="816" y="96"/>
                  </a:lnTo>
                  <a:lnTo>
                    <a:pt x="67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9000" y="5029200"/>
              <a:ext cx="1297080" cy="154080"/>
            </a:xfrm>
            <a:custGeom>
              <a:avLst/>
              <a:gdLst/>
              <a:ahLst/>
              <a:rect l="l" t="t" r="r" b="b"/>
              <a:pathLst>
                <a:path w="817" h="97">
                  <a:moveTo>
                    <a:pt x="81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 Product, Q =[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N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Ksp&lt;Q a precipitate fo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Ksp&gt;Q No precipi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Ksp = Q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4880" y="534960"/>
            <a:ext cx="581040" cy="608040"/>
          </a:xfrm>
          <a:custGeom>
            <a:avLst/>
            <a:gdLst/>
            <a:ahLst/>
            <a:rect l="l" t="t" r="r" b="b"/>
            <a:pathLst>
              <a:path w="1613" h="1688">
                <a:moveTo>
                  <a:pt x="2059" y="2059"/>
                </a:moveTo>
                <a:cubicBezTo>
                  <a:pt x="1951" y="2059"/>
                  <a:pt x="2090" y="2091"/>
                  <a:pt x="2133" y="2108"/>
                </a:cubicBezTo>
                <a:cubicBezTo>
                  <a:pt x="2279" y="2165"/>
                  <a:pt x="2335" y="2217"/>
                  <a:pt x="2356" y="2381"/>
                </a:cubicBezTo>
                <a:cubicBezTo>
                  <a:pt x="2373" y="2515"/>
                  <a:pt x="2292" y="2676"/>
                  <a:pt x="2208" y="2778"/>
                </a:cubicBezTo>
                <a:cubicBezTo>
                  <a:pt x="2152" y="2846"/>
                  <a:pt x="2064" y="2917"/>
                  <a:pt x="1984" y="2853"/>
                </a:cubicBezTo>
                <a:cubicBezTo>
                  <a:pt x="1976" y="2845"/>
                  <a:pt x="1968" y="2836"/>
                  <a:pt x="1960" y="2828"/>
                </a:cubicBezTo>
                <a:cubicBezTo>
                  <a:pt x="1982" y="2727"/>
                  <a:pt x="2022" y="2656"/>
                  <a:pt x="2133" y="2629"/>
                </a:cubicBezTo>
                <a:cubicBezTo>
                  <a:pt x="2241" y="2603"/>
                  <a:pt x="2318" y="2656"/>
                  <a:pt x="2406" y="2704"/>
                </a:cubicBezTo>
                <a:cubicBezTo>
                  <a:pt x="2457" y="2732"/>
                  <a:pt x="2489" y="2762"/>
                  <a:pt x="2530" y="2803"/>
                </a:cubicBezTo>
              </a:path>
              <a:path w="1613" h="1688">
                <a:moveTo>
                  <a:pt x="2778" y="2034"/>
                </a:moveTo>
                <a:cubicBezTo>
                  <a:pt x="2883" y="2034"/>
                  <a:pt x="2974" y="2028"/>
                  <a:pt x="3076" y="2009"/>
                </a:cubicBezTo>
                <a:cubicBezTo>
                  <a:pt x="3084" y="2009"/>
                  <a:pt x="3093" y="2009"/>
                  <a:pt x="3101" y="2009"/>
                </a:cubicBezTo>
              </a:path>
              <a:path w="1613" h="1688">
                <a:moveTo>
                  <a:pt x="2952" y="2108"/>
                </a:moveTo>
                <a:cubicBezTo>
                  <a:pt x="2841" y="2195"/>
                  <a:pt x="2713" y="2267"/>
                  <a:pt x="2604" y="2356"/>
                </a:cubicBezTo>
                <a:cubicBezTo>
                  <a:pt x="2553" y="2398"/>
                  <a:pt x="2534" y="2448"/>
                  <a:pt x="2505" y="2505"/>
                </a:cubicBezTo>
                <a:cubicBezTo>
                  <a:pt x="2559" y="2545"/>
                  <a:pt x="2607" y="2552"/>
                  <a:pt x="2679" y="2555"/>
                </a:cubicBezTo>
                <a:cubicBezTo>
                  <a:pt x="2752" y="2558"/>
                  <a:pt x="2854" y="2561"/>
                  <a:pt x="2902" y="2629"/>
                </a:cubicBezTo>
                <a:cubicBezTo>
                  <a:pt x="2967" y="2720"/>
                  <a:pt x="2919" y="2803"/>
                  <a:pt x="2877" y="2877"/>
                </a:cubicBezTo>
                <a:cubicBezTo>
                  <a:pt x="2848" y="2927"/>
                  <a:pt x="2820" y="2960"/>
                  <a:pt x="2778" y="3001"/>
                </a:cubicBezTo>
              </a:path>
              <a:path w="1613" h="1688">
                <a:moveTo>
                  <a:pt x="3051" y="1513"/>
                </a:moveTo>
                <a:cubicBezTo>
                  <a:pt x="3173" y="1479"/>
                  <a:pt x="3225" y="1486"/>
                  <a:pt x="3324" y="1588"/>
                </a:cubicBezTo>
                <a:cubicBezTo>
                  <a:pt x="3508" y="1778"/>
                  <a:pt x="3555" y="2027"/>
                  <a:pt x="3572" y="2282"/>
                </a:cubicBezTo>
                <a:cubicBezTo>
                  <a:pt x="3588" y="2525"/>
                  <a:pt x="3539" y="2764"/>
                  <a:pt x="3423" y="2977"/>
                </a:cubicBezTo>
                <a:cubicBezTo>
                  <a:pt x="3349" y="3076"/>
                  <a:pt x="3324" y="3109"/>
                  <a:pt x="3274" y="31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03240" y="776160"/>
            <a:ext cx="1036800" cy="358920"/>
          </a:xfrm>
          <a:custGeom>
            <a:avLst/>
            <a:gdLst/>
            <a:ahLst/>
            <a:rect l="l" t="t" r="r" b="b"/>
            <a:pathLst>
              <a:path w="2878" h="993">
                <a:moveTo>
                  <a:pt x="5060" y="2282"/>
                </a:moveTo>
                <a:cubicBezTo>
                  <a:pt x="5078" y="2422"/>
                  <a:pt x="5054" y="2560"/>
                  <a:pt x="5035" y="2704"/>
                </a:cubicBezTo>
                <a:cubicBezTo>
                  <a:pt x="5018" y="2831"/>
                  <a:pt x="5011" y="2947"/>
                  <a:pt x="5011" y="3076"/>
                </a:cubicBezTo>
                <a:cubicBezTo>
                  <a:pt x="5011" y="3084"/>
                  <a:pt x="5011" y="3093"/>
                  <a:pt x="5011" y="3101"/>
                </a:cubicBezTo>
              </a:path>
              <a:path w="2878" h="993">
                <a:moveTo>
                  <a:pt x="5407" y="2307"/>
                </a:moveTo>
                <a:cubicBezTo>
                  <a:pt x="5530" y="2315"/>
                  <a:pt x="5592" y="2310"/>
                  <a:pt x="5655" y="2431"/>
                </a:cubicBezTo>
                <a:cubicBezTo>
                  <a:pt x="5714" y="2545"/>
                  <a:pt x="5704" y="2640"/>
                  <a:pt x="5655" y="2753"/>
                </a:cubicBezTo>
                <a:cubicBezTo>
                  <a:pt x="5621" y="2831"/>
                  <a:pt x="5543" y="2973"/>
                  <a:pt x="5457" y="3001"/>
                </a:cubicBezTo>
                <a:cubicBezTo>
                  <a:pt x="5416" y="3001"/>
                  <a:pt x="5408" y="3001"/>
                  <a:pt x="5383" y="3001"/>
                </a:cubicBezTo>
                <a:cubicBezTo>
                  <a:pt x="5383" y="2913"/>
                  <a:pt x="5403" y="2897"/>
                  <a:pt x="5482" y="2853"/>
                </a:cubicBezTo>
                <a:cubicBezTo>
                  <a:pt x="5583" y="2797"/>
                  <a:pt x="5669" y="2790"/>
                  <a:pt x="5779" y="2828"/>
                </a:cubicBezTo>
                <a:cubicBezTo>
                  <a:pt x="5836" y="2856"/>
                  <a:pt x="5860" y="2867"/>
                  <a:pt x="5904" y="2877"/>
                </a:cubicBezTo>
              </a:path>
              <a:path w="2878" h="993">
                <a:moveTo>
                  <a:pt x="6251" y="2208"/>
                </a:moveTo>
                <a:cubicBezTo>
                  <a:pt x="6314" y="2217"/>
                  <a:pt x="6354" y="2232"/>
                  <a:pt x="6424" y="2232"/>
                </a:cubicBezTo>
                <a:cubicBezTo>
                  <a:pt x="6490" y="2232"/>
                  <a:pt x="6557" y="2232"/>
                  <a:pt x="6623" y="2232"/>
                </a:cubicBezTo>
              </a:path>
              <a:path w="2878" h="993">
                <a:moveTo>
                  <a:pt x="6424" y="2282"/>
                </a:moveTo>
                <a:cubicBezTo>
                  <a:pt x="6334" y="2325"/>
                  <a:pt x="6172" y="2376"/>
                  <a:pt x="6102" y="2456"/>
                </a:cubicBezTo>
                <a:cubicBezTo>
                  <a:pt x="6061" y="2502"/>
                  <a:pt x="6068" y="2582"/>
                  <a:pt x="6102" y="2629"/>
                </a:cubicBezTo>
                <a:cubicBezTo>
                  <a:pt x="6167" y="2718"/>
                  <a:pt x="6245" y="2719"/>
                  <a:pt x="6325" y="2778"/>
                </a:cubicBezTo>
                <a:cubicBezTo>
                  <a:pt x="6423" y="2850"/>
                  <a:pt x="6406" y="2897"/>
                  <a:pt x="6350" y="2977"/>
                </a:cubicBezTo>
                <a:cubicBezTo>
                  <a:pt x="6304" y="3046"/>
                  <a:pt x="6291" y="3066"/>
                  <a:pt x="6251" y="3101"/>
                </a:cubicBezTo>
              </a:path>
              <a:path w="2878" h="993">
                <a:moveTo>
                  <a:pt x="6672" y="2828"/>
                </a:moveTo>
                <a:cubicBezTo>
                  <a:pt x="6702" y="2955"/>
                  <a:pt x="6683" y="2920"/>
                  <a:pt x="6672" y="3026"/>
                </a:cubicBezTo>
                <a:cubicBezTo>
                  <a:pt x="6666" y="3085"/>
                  <a:pt x="6706" y="2950"/>
                  <a:pt x="6722" y="2927"/>
                </a:cubicBezTo>
                <a:cubicBezTo>
                  <a:pt x="6765" y="2865"/>
                  <a:pt x="6770" y="2853"/>
                  <a:pt x="6846" y="2853"/>
                </a:cubicBezTo>
                <a:cubicBezTo>
                  <a:pt x="6887" y="2853"/>
                  <a:pt x="6877" y="2898"/>
                  <a:pt x="6896" y="2927"/>
                </a:cubicBezTo>
                <a:cubicBezTo>
                  <a:pt x="6919" y="2962"/>
                  <a:pt x="6915" y="2967"/>
                  <a:pt x="6945" y="2977"/>
                </a:cubicBezTo>
                <a:cubicBezTo>
                  <a:pt x="6976" y="2922"/>
                  <a:pt x="7007" y="2853"/>
                  <a:pt x="7045" y="2803"/>
                </a:cubicBezTo>
                <a:cubicBezTo>
                  <a:pt x="7069" y="2771"/>
                  <a:pt x="7142" y="2701"/>
                  <a:pt x="7193" y="2729"/>
                </a:cubicBezTo>
                <a:cubicBezTo>
                  <a:pt x="7258" y="2764"/>
                  <a:pt x="7244" y="2852"/>
                  <a:pt x="7268" y="2902"/>
                </a:cubicBezTo>
                <a:cubicBezTo>
                  <a:pt x="7276" y="2910"/>
                  <a:pt x="7285" y="2919"/>
                  <a:pt x="7293" y="2927"/>
                </a:cubicBezTo>
              </a:path>
              <a:path w="2878" h="993">
                <a:moveTo>
                  <a:pt x="7590" y="2158"/>
                </a:moveTo>
                <a:cubicBezTo>
                  <a:pt x="7577" y="2221"/>
                  <a:pt x="7546" y="2290"/>
                  <a:pt x="7541" y="2356"/>
                </a:cubicBezTo>
                <a:cubicBezTo>
                  <a:pt x="7527" y="2533"/>
                  <a:pt x="7499" y="2702"/>
                  <a:pt x="7466" y="2877"/>
                </a:cubicBezTo>
                <a:cubicBezTo>
                  <a:pt x="7448" y="2973"/>
                  <a:pt x="7416" y="3068"/>
                  <a:pt x="7466" y="3150"/>
                </a:cubicBezTo>
                <a:cubicBezTo>
                  <a:pt x="7514" y="3150"/>
                  <a:pt x="7551" y="3133"/>
                  <a:pt x="7590" y="3101"/>
                </a:cubicBezTo>
                <a:cubicBezTo>
                  <a:pt x="7658" y="3045"/>
                  <a:pt x="7723" y="3005"/>
                  <a:pt x="7813" y="3001"/>
                </a:cubicBezTo>
                <a:cubicBezTo>
                  <a:pt x="7838" y="3001"/>
                  <a:pt x="7863" y="3001"/>
                  <a:pt x="7888" y="30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36960" y="857160"/>
            <a:ext cx="258840" cy="349200"/>
          </a:xfrm>
          <a:custGeom>
            <a:avLst/>
            <a:gdLst/>
            <a:ahLst/>
            <a:rect l="l" t="t" r="r" b="b"/>
            <a:pathLst>
              <a:path w="720" h="969">
                <a:moveTo>
                  <a:pt x="8533" y="2927"/>
                </a:moveTo>
                <a:cubicBezTo>
                  <a:pt x="8479" y="2968"/>
                  <a:pt x="8458" y="2927"/>
                  <a:pt x="8508" y="2902"/>
                </a:cubicBezTo>
                <a:cubicBezTo>
                  <a:pt x="8516" y="2902"/>
                  <a:pt x="8525" y="2902"/>
                  <a:pt x="8533" y="2902"/>
                </a:cubicBezTo>
                <a:cubicBezTo>
                  <a:pt x="8515" y="2866"/>
                  <a:pt x="8465" y="2916"/>
                  <a:pt x="8483" y="2952"/>
                </a:cubicBezTo>
                <a:cubicBezTo>
                  <a:pt x="8498" y="2983"/>
                  <a:pt x="8539" y="2876"/>
                  <a:pt x="8533" y="2877"/>
                </a:cubicBezTo>
                <a:cubicBezTo>
                  <a:pt x="8510" y="2900"/>
                  <a:pt x="8506" y="2908"/>
                  <a:pt x="8483" y="2902"/>
                </a:cubicBezTo>
              </a:path>
              <a:path w="720" h="969">
                <a:moveTo>
                  <a:pt x="9054" y="2381"/>
                </a:moveTo>
                <a:cubicBezTo>
                  <a:pt x="9039" y="2455"/>
                  <a:pt x="8999" y="2528"/>
                  <a:pt x="8979" y="2604"/>
                </a:cubicBezTo>
                <a:cubicBezTo>
                  <a:pt x="8943" y="2738"/>
                  <a:pt x="8894" y="2867"/>
                  <a:pt x="8855" y="3001"/>
                </a:cubicBezTo>
                <a:cubicBezTo>
                  <a:pt x="8840" y="3052"/>
                  <a:pt x="8777" y="3131"/>
                  <a:pt x="8830" y="3150"/>
                </a:cubicBezTo>
              </a:path>
              <a:path w="720" h="969">
                <a:moveTo>
                  <a:pt x="8607" y="2977"/>
                </a:moveTo>
                <a:cubicBezTo>
                  <a:pt x="8668" y="2965"/>
                  <a:pt x="8705" y="2933"/>
                  <a:pt x="8756" y="2902"/>
                </a:cubicBezTo>
                <a:cubicBezTo>
                  <a:pt x="8800" y="2876"/>
                  <a:pt x="8811" y="2877"/>
                  <a:pt x="8855" y="2877"/>
                </a:cubicBezTo>
                <a:cubicBezTo>
                  <a:pt x="8796" y="2911"/>
                  <a:pt x="8744" y="2947"/>
                  <a:pt x="8682" y="2977"/>
                </a:cubicBezTo>
                <a:cubicBezTo>
                  <a:pt x="8578" y="3028"/>
                  <a:pt x="8620" y="2997"/>
                  <a:pt x="8657" y="2952"/>
                </a:cubicBezTo>
                <a:cubicBezTo>
                  <a:pt x="8739" y="2853"/>
                  <a:pt x="8837" y="2773"/>
                  <a:pt x="8930" y="2679"/>
                </a:cubicBezTo>
                <a:cubicBezTo>
                  <a:pt x="8945" y="2664"/>
                  <a:pt x="9073" y="2566"/>
                  <a:pt x="9029" y="2530"/>
                </a:cubicBezTo>
                <a:cubicBezTo>
                  <a:pt x="8999" y="2506"/>
                  <a:pt x="8802" y="2621"/>
                  <a:pt x="8781" y="2629"/>
                </a:cubicBezTo>
                <a:cubicBezTo>
                  <a:pt x="8756" y="2637"/>
                  <a:pt x="8731" y="2646"/>
                  <a:pt x="8706" y="2654"/>
                </a:cubicBezTo>
                <a:cubicBezTo>
                  <a:pt x="8592" y="2720"/>
                  <a:pt x="8655" y="2693"/>
                  <a:pt x="8731" y="2654"/>
                </a:cubicBezTo>
                <a:cubicBezTo>
                  <a:pt x="8832" y="2603"/>
                  <a:pt x="8926" y="2551"/>
                  <a:pt x="9029" y="2505"/>
                </a:cubicBezTo>
                <a:cubicBezTo>
                  <a:pt x="9052" y="2528"/>
                  <a:pt x="8884" y="2570"/>
                  <a:pt x="8830" y="2604"/>
                </a:cubicBezTo>
                <a:cubicBezTo>
                  <a:pt x="8709" y="2680"/>
                  <a:pt x="8578" y="2731"/>
                  <a:pt x="8458" y="2803"/>
                </a:cubicBezTo>
                <a:cubicBezTo>
                  <a:pt x="8450" y="2811"/>
                  <a:pt x="8442" y="2820"/>
                  <a:pt x="8434" y="2828"/>
                </a:cubicBezTo>
                <a:cubicBezTo>
                  <a:pt x="8516" y="2828"/>
                  <a:pt x="8579" y="2804"/>
                  <a:pt x="8657" y="2778"/>
                </a:cubicBezTo>
                <a:cubicBezTo>
                  <a:pt x="8726" y="2755"/>
                  <a:pt x="8784" y="2737"/>
                  <a:pt x="8855" y="2729"/>
                </a:cubicBezTo>
                <a:cubicBezTo>
                  <a:pt x="8797" y="2821"/>
                  <a:pt x="8716" y="2906"/>
                  <a:pt x="8632" y="2977"/>
                </a:cubicBezTo>
                <a:cubicBezTo>
                  <a:pt x="8550" y="3046"/>
                  <a:pt x="8492" y="3087"/>
                  <a:pt x="8434" y="3175"/>
                </a:cubicBezTo>
                <a:cubicBezTo>
                  <a:pt x="8469" y="3228"/>
                  <a:pt x="8638" y="3171"/>
                  <a:pt x="8706" y="3150"/>
                </a:cubicBezTo>
                <a:cubicBezTo>
                  <a:pt x="8851" y="3104"/>
                  <a:pt x="8982" y="3017"/>
                  <a:pt x="9128" y="2977"/>
                </a:cubicBezTo>
                <a:cubicBezTo>
                  <a:pt x="9136" y="2977"/>
                  <a:pt x="9145" y="2977"/>
                  <a:pt x="9153" y="2977"/>
                </a:cubicBezTo>
                <a:cubicBezTo>
                  <a:pt x="9130" y="3021"/>
                  <a:pt x="9046" y="3103"/>
                  <a:pt x="9004" y="3150"/>
                </a:cubicBezTo>
                <a:cubicBezTo>
                  <a:pt x="8938" y="3225"/>
                  <a:pt x="8850" y="3250"/>
                  <a:pt x="8830" y="33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54280" y="884160"/>
            <a:ext cx="276480" cy="384120"/>
          </a:xfrm>
          <a:custGeom>
            <a:avLst/>
            <a:gdLst/>
            <a:ahLst/>
            <a:rect l="l" t="t" r="r" b="b"/>
            <a:pathLst>
              <a:path w="770" h="1067">
                <a:moveTo>
                  <a:pt x="9947" y="2753"/>
                </a:moveTo>
                <a:cubicBezTo>
                  <a:pt x="9930" y="2797"/>
                  <a:pt x="9883" y="2856"/>
                  <a:pt x="9872" y="2902"/>
                </a:cubicBezTo>
                <a:cubicBezTo>
                  <a:pt x="9861" y="2948"/>
                  <a:pt x="9893" y="2940"/>
                  <a:pt x="9897" y="2952"/>
                </a:cubicBezTo>
                <a:cubicBezTo>
                  <a:pt x="9961" y="2913"/>
                  <a:pt x="10006" y="2882"/>
                  <a:pt x="10046" y="2803"/>
                </a:cubicBezTo>
                <a:cubicBezTo>
                  <a:pt x="10088" y="2719"/>
                  <a:pt x="10061" y="2613"/>
                  <a:pt x="10096" y="2530"/>
                </a:cubicBezTo>
                <a:cubicBezTo>
                  <a:pt x="10118" y="2507"/>
                  <a:pt x="10126" y="2502"/>
                  <a:pt x="10120" y="2480"/>
                </a:cubicBezTo>
                <a:cubicBezTo>
                  <a:pt x="10181" y="2471"/>
                  <a:pt x="10187" y="2454"/>
                  <a:pt x="10244" y="2530"/>
                </a:cubicBezTo>
                <a:cubicBezTo>
                  <a:pt x="10335" y="2650"/>
                  <a:pt x="10334" y="2806"/>
                  <a:pt x="10319" y="2952"/>
                </a:cubicBezTo>
                <a:cubicBezTo>
                  <a:pt x="10304" y="3102"/>
                  <a:pt x="10249" y="3302"/>
                  <a:pt x="10319" y="3448"/>
                </a:cubicBezTo>
                <a:cubicBezTo>
                  <a:pt x="10374" y="3563"/>
                  <a:pt x="10455" y="3507"/>
                  <a:pt x="10517" y="3448"/>
                </a:cubicBezTo>
                <a:cubicBezTo>
                  <a:pt x="10591" y="3378"/>
                  <a:pt x="10661" y="3258"/>
                  <a:pt x="10641" y="3150"/>
                </a:cubicBezTo>
                <a:cubicBezTo>
                  <a:pt x="10617" y="3017"/>
                  <a:pt x="10486" y="3032"/>
                  <a:pt x="10393" y="3051"/>
                </a:cubicBezTo>
                <a:cubicBezTo>
                  <a:pt x="10302" y="3074"/>
                  <a:pt x="10276" y="3080"/>
                  <a:pt x="10220" y="31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62240" y="785880"/>
            <a:ext cx="1054440" cy="330120"/>
          </a:xfrm>
          <a:custGeom>
            <a:avLst/>
            <a:gdLst/>
            <a:ahLst/>
            <a:rect l="l" t="t" r="r" b="b"/>
            <a:pathLst>
              <a:path w="2928" h="919">
                <a:moveTo>
                  <a:pt x="11361" y="2927"/>
                </a:moveTo>
                <a:cubicBezTo>
                  <a:pt x="11361" y="2879"/>
                  <a:pt x="11358" y="2866"/>
                  <a:pt x="11385" y="2828"/>
                </a:cubicBezTo>
                <a:cubicBezTo>
                  <a:pt x="11385" y="2878"/>
                  <a:pt x="11358" y="2888"/>
                  <a:pt x="11385" y="2902"/>
                </a:cubicBezTo>
                <a:cubicBezTo>
                  <a:pt x="11409" y="2862"/>
                  <a:pt x="11424" y="2823"/>
                  <a:pt x="11435" y="2778"/>
                </a:cubicBezTo>
                <a:cubicBezTo>
                  <a:pt x="11372" y="2794"/>
                  <a:pt x="11357" y="2845"/>
                  <a:pt x="11311" y="2877"/>
                </a:cubicBezTo>
                <a:cubicBezTo>
                  <a:pt x="11286" y="2877"/>
                  <a:pt x="11278" y="2877"/>
                  <a:pt x="11286" y="2902"/>
                </a:cubicBezTo>
              </a:path>
              <a:path w="2928" h="919">
                <a:moveTo>
                  <a:pt x="12030" y="2183"/>
                </a:moveTo>
                <a:cubicBezTo>
                  <a:pt x="12030" y="2249"/>
                  <a:pt x="12021" y="2291"/>
                  <a:pt x="12005" y="2356"/>
                </a:cubicBezTo>
                <a:cubicBezTo>
                  <a:pt x="11973" y="2481"/>
                  <a:pt x="11940" y="2605"/>
                  <a:pt x="11906" y="2729"/>
                </a:cubicBezTo>
                <a:cubicBezTo>
                  <a:pt x="11880" y="2823"/>
                  <a:pt x="11834" y="2909"/>
                  <a:pt x="11807" y="3001"/>
                </a:cubicBezTo>
                <a:cubicBezTo>
                  <a:pt x="11807" y="3009"/>
                  <a:pt x="11807" y="3018"/>
                  <a:pt x="11807" y="3026"/>
                </a:cubicBezTo>
              </a:path>
              <a:path w="2928" h="919">
                <a:moveTo>
                  <a:pt x="12353" y="2505"/>
                </a:moveTo>
                <a:cubicBezTo>
                  <a:pt x="12353" y="2605"/>
                  <a:pt x="12302" y="2680"/>
                  <a:pt x="12278" y="2778"/>
                </a:cubicBezTo>
                <a:cubicBezTo>
                  <a:pt x="12252" y="2884"/>
                  <a:pt x="12233" y="3007"/>
                  <a:pt x="12278" y="3101"/>
                </a:cubicBezTo>
                <a:cubicBezTo>
                  <a:pt x="12371" y="3089"/>
                  <a:pt x="12415" y="3047"/>
                  <a:pt x="12452" y="2952"/>
                </a:cubicBezTo>
                <a:cubicBezTo>
                  <a:pt x="12486" y="2865"/>
                  <a:pt x="12495" y="2741"/>
                  <a:pt x="12452" y="2654"/>
                </a:cubicBezTo>
                <a:cubicBezTo>
                  <a:pt x="12425" y="2600"/>
                  <a:pt x="12379" y="2604"/>
                  <a:pt x="12328" y="2604"/>
                </a:cubicBezTo>
              </a:path>
              <a:path w="2928" h="919">
                <a:moveTo>
                  <a:pt x="12774" y="2580"/>
                </a:moveTo>
                <a:cubicBezTo>
                  <a:pt x="12766" y="2704"/>
                  <a:pt x="12717" y="2806"/>
                  <a:pt x="12700" y="2927"/>
                </a:cubicBezTo>
                <a:cubicBezTo>
                  <a:pt x="12691" y="2991"/>
                  <a:pt x="12696" y="3028"/>
                  <a:pt x="12725" y="3076"/>
                </a:cubicBezTo>
                <a:cubicBezTo>
                  <a:pt x="12804" y="3066"/>
                  <a:pt x="12869" y="3043"/>
                  <a:pt x="12923" y="2977"/>
                </a:cubicBezTo>
                <a:cubicBezTo>
                  <a:pt x="12972" y="2918"/>
                  <a:pt x="13045" y="2759"/>
                  <a:pt x="12998" y="2679"/>
                </a:cubicBezTo>
                <a:cubicBezTo>
                  <a:pt x="12961" y="2616"/>
                  <a:pt x="12831" y="2629"/>
                  <a:pt x="12774" y="2629"/>
                </a:cubicBezTo>
              </a:path>
              <a:path w="2928" h="919">
                <a:moveTo>
                  <a:pt x="13345" y="2555"/>
                </a:moveTo>
                <a:cubicBezTo>
                  <a:pt x="13345" y="2602"/>
                  <a:pt x="13328" y="2618"/>
                  <a:pt x="13320" y="2654"/>
                </a:cubicBezTo>
                <a:cubicBezTo>
                  <a:pt x="13303" y="2733"/>
                  <a:pt x="13292" y="2825"/>
                  <a:pt x="13271" y="2902"/>
                </a:cubicBezTo>
                <a:cubicBezTo>
                  <a:pt x="13257" y="2952"/>
                  <a:pt x="13246" y="2972"/>
                  <a:pt x="13246" y="3026"/>
                </a:cubicBezTo>
                <a:cubicBezTo>
                  <a:pt x="13246" y="3066"/>
                  <a:pt x="13299" y="2962"/>
                  <a:pt x="13320" y="2927"/>
                </a:cubicBezTo>
                <a:cubicBezTo>
                  <a:pt x="13411" y="2777"/>
                  <a:pt x="13503" y="2611"/>
                  <a:pt x="13618" y="2480"/>
                </a:cubicBezTo>
                <a:cubicBezTo>
                  <a:pt x="13626" y="2472"/>
                  <a:pt x="13635" y="2464"/>
                  <a:pt x="13643" y="2456"/>
                </a:cubicBezTo>
                <a:cubicBezTo>
                  <a:pt x="13636" y="2536"/>
                  <a:pt x="13621" y="2596"/>
                  <a:pt x="13618" y="2679"/>
                </a:cubicBezTo>
                <a:cubicBezTo>
                  <a:pt x="13615" y="2770"/>
                  <a:pt x="13618" y="2861"/>
                  <a:pt x="13618" y="2952"/>
                </a:cubicBezTo>
                <a:cubicBezTo>
                  <a:pt x="13681" y="2877"/>
                  <a:pt x="13743" y="2790"/>
                  <a:pt x="13791" y="2704"/>
                </a:cubicBezTo>
                <a:cubicBezTo>
                  <a:pt x="13851" y="2597"/>
                  <a:pt x="13906" y="2488"/>
                  <a:pt x="13965" y="2381"/>
                </a:cubicBezTo>
                <a:cubicBezTo>
                  <a:pt x="13965" y="2509"/>
                  <a:pt x="13964" y="2627"/>
                  <a:pt x="13990" y="2753"/>
                </a:cubicBezTo>
                <a:cubicBezTo>
                  <a:pt x="14020" y="2898"/>
                  <a:pt x="14100" y="2968"/>
                  <a:pt x="14213" y="30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22960" y="812880"/>
            <a:ext cx="1312920" cy="500040"/>
          </a:xfrm>
          <a:custGeom>
            <a:avLst/>
            <a:gdLst/>
            <a:ahLst/>
            <a:rect l="l" t="t" r="r" b="b"/>
            <a:pathLst>
              <a:path w="3647" h="1390">
                <a:moveTo>
                  <a:pt x="14982" y="2555"/>
                </a:moveTo>
                <a:cubicBezTo>
                  <a:pt x="14999" y="2530"/>
                  <a:pt x="15015" y="2505"/>
                  <a:pt x="15032" y="2480"/>
                </a:cubicBezTo>
                <a:cubicBezTo>
                  <a:pt x="14982" y="2591"/>
                  <a:pt x="14906" y="2695"/>
                  <a:pt x="14858" y="2803"/>
                </a:cubicBezTo>
                <a:cubicBezTo>
                  <a:pt x="14832" y="2861"/>
                  <a:pt x="14796" y="2963"/>
                  <a:pt x="14784" y="3026"/>
                </a:cubicBezTo>
                <a:cubicBezTo>
                  <a:pt x="14854" y="2998"/>
                  <a:pt x="14936" y="2893"/>
                  <a:pt x="14982" y="2828"/>
                </a:cubicBezTo>
                <a:cubicBezTo>
                  <a:pt x="15074" y="2696"/>
                  <a:pt x="15167" y="2555"/>
                  <a:pt x="15230" y="2406"/>
                </a:cubicBezTo>
                <a:cubicBezTo>
                  <a:pt x="15255" y="2346"/>
                  <a:pt x="15265" y="2307"/>
                  <a:pt x="15304" y="2257"/>
                </a:cubicBezTo>
                <a:cubicBezTo>
                  <a:pt x="15352" y="2337"/>
                  <a:pt x="15318" y="2434"/>
                  <a:pt x="15329" y="2530"/>
                </a:cubicBezTo>
                <a:cubicBezTo>
                  <a:pt x="15348" y="2692"/>
                  <a:pt x="15350" y="2867"/>
                  <a:pt x="15379" y="3026"/>
                </a:cubicBezTo>
                <a:cubicBezTo>
                  <a:pt x="15401" y="3091"/>
                  <a:pt x="15409" y="3106"/>
                  <a:pt x="15404" y="3150"/>
                </a:cubicBezTo>
              </a:path>
              <a:path w="3647" h="1390">
                <a:moveTo>
                  <a:pt x="15032" y="2803"/>
                </a:moveTo>
                <a:cubicBezTo>
                  <a:pt x="14974" y="2803"/>
                  <a:pt x="15178" y="2807"/>
                  <a:pt x="15205" y="2803"/>
                </a:cubicBezTo>
                <a:cubicBezTo>
                  <a:pt x="15348" y="2781"/>
                  <a:pt x="15482" y="2778"/>
                  <a:pt x="15627" y="2778"/>
                </a:cubicBezTo>
                <a:cubicBezTo>
                  <a:pt x="15672" y="2778"/>
                  <a:pt x="15685" y="2774"/>
                  <a:pt x="15701" y="2803"/>
                </a:cubicBezTo>
                <a:cubicBezTo>
                  <a:pt x="15688" y="2922"/>
                  <a:pt x="15627" y="2971"/>
                  <a:pt x="15577" y="3076"/>
                </a:cubicBezTo>
                <a:cubicBezTo>
                  <a:pt x="15551" y="3131"/>
                  <a:pt x="15553" y="3169"/>
                  <a:pt x="15553" y="3225"/>
                </a:cubicBezTo>
                <a:cubicBezTo>
                  <a:pt x="15668" y="3210"/>
                  <a:pt x="15711" y="3146"/>
                  <a:pt x="15801" y="3076"/>
                </a:cubicBezTo>
                <a:cubicBezTo>
                  <a:pt x="15869" y="3023"/>
                  <a:pt x="15924" y="2915"/>
                  <a:pt x="15999" y="2877"/>
                </a:cubicBezTo>
                <a:cubicBezTo>
                  <a:pt x="16007" y="2877"/>
                  <a:pt x="16016" y="2877"/>
                  <a:pt x="16024" y="2877"/>
                </a:cubicBezTo>
                <a:cubicBezTo>
                  <a:pt x="16024" y="2936"/>
                  <a:pt x="16025" y="2971"/>
                  <a:pt x="16049" y="3026"/>
                </a:cubicBezTo>
                <a:cubicBezTo>
                  <a:pt x="16073" y="3076"/>
                  <a:pt x="16081" y="3092"/>
                  <a:pt x="16098" y="3125"/>
                </a:cubicBezTo>
              </a:path>
              <a:path w="3647" h="1390">
                <a:moveTo>
                  <a:pt x="16694" y="2604"/>
                </a:moveTo>
                <a:cubicBezTo>
                  <a:pt x="16667" y="2673"/>
                  <a:pt x="16651" y="2686"/>
                  <a:pt x="16619" y="2753"/>
                </a:cubicBezTo>
                <a:cubicBezTo>
                  <a:pt x="16565" y="2867"/>
                  <a:pt x="16517" y="3000"/>
                  <a:pt x="16495" y="3125"/>
                </a:cubicBezTo>
                <a:cubicBezTo>
                  <a:pt x="16495" y="3167"/>
                  <a:pt x="16495" y="3175"/>
                  <a:pt x="16495" y="3200"/>
                </a:cubicBezTo>
                <a:cubicBezTo>
                  <a:pt x="16542" y="3094"/>
                  <a:pt x="16605" y="2986"/>
                  <a:pt x="16644" y="2877"/>
                </a:cubicBezTo>
                <a:cubicBezTo>
                  <a:pt x="16683" y="2770"/>
                  <a:pt x="16696" y="2660"/>
                  <a:pt x="16743" y="2555"/>
                </a:cubicBezTo>
                <a:cubicBezTo>
                  <a:pt x="16735" y="2648"/>
                  <a:pt x="16708" y="2732"/>
                  <a:pt x="16718" y="2828"/>
                </a:cubicBezTo>
                <a:cubicBezTo>
                  <a:pt x="16732" y="2963"/>
                  <a:pt x="16824" y="3118"/>
                  <a:pt x="16966" y="3150"/>
                </a:cubicBezTo>
                <a:cubicBezTo>
                  <a:pt x="17127" y="3186"/>
                  <a:pt x="17277" y="3104"/>
                  <a:pt x="17363" y="2977"/>
                </a:cubicBezTo>
                <a:cubicBezTo>
                  <a:pt x="17463" y="2828"/>
                  <a:pt x="17451" y="2621"/>
                  <a:pt x="17413" y="2456"/>
                </a:cubicBezTo>
                <a:cubicBezTo>
                  <a:pt x="17391" y="2412"/>
                  <a:pt x="17388" y="2400"/>
                  <a:pt x="17363" y="2381"/>
                </a:cubicBezTo>
              </a:path>
              <a:path w="3647" h="1390">
                <a:moveTo>
                  <a:pt x="17661" y="2530"/>
                </a:moveTo>
                <a:cubicBezTo>
                  <a:pt x="17651" y="2633"/>
                  <a:pt x="17614" y="2724"/>
                  <a:pt x="17587" y="2828"/>
                </a:cubicBezTo>
                <a:cubicBezTo>
                  <a:pt x="17563" y="2920"/>
                  <a:pt x="17514" y="3086"/>
                  <a:pt x="17611" y="3150"/>
                </a:cubicBezTo>
                <a:cubicBezTo>
                  <a:pt x="17714" y="3219"/>
                  <a:pt x="17838" y="3158"/>
                  <a:pt x="17909" y="3076"/>
                </a:cubicBezTo>
                <a:cubicBezTo>
                  <a:pt x="17994" y="2979"/>
                  <a:pt x="17999" y="2827"/>
                  <a:pt x="17983" y="2704"/>
                </a:cubicBezTo>
                <a:cubicBezTo>
                  <a:pt x="17969" y="2602"/>
                  <a:pt x="17906" y="2475"/>
                  <a:pt x="17810" y="2431"/>
                </a:cubicBezTo>
                <a:cubicBezTo>
                  <a:pt x="17802" y="2431"/>
                  <a:pt x="17793" y="2431"/>
                  <a:pt x="17785" y="2431"/>
                </a:cubicBezTo>
              </a:path>
              <a:path w="3647" h="1390">
                <a:moveTo>
                  <a:pt x="18132" y="3076"/>
                </a:moveTo>
                <a:cubicBezTo>
                  <a:pt x="18197" y="3076"/>
                  <a:pt x="18340" y="3049"/>
                  <a:pt x="18380" y="3101"/>
                </a:cubicBezTo>
                <a:cubicBezTo>
                  <a:pt x="18440" y="3178"/>
                  <a:pt x="18442" y="3201"/>
                  <a:pt x="18380" y="3274"/>
                </a:cubicBezTo>
                <a:cubicBezTo>
                  <a:pt x="18336" y="3325"/>
                  <a:pt x="18259" y="3326"/>
                  <a:pt x="18207" y="3373"/>
                </a:cubicBezTo>
                <a:cubicBezTo>
                  <a:pt x="18199" y="3381"/>
                  <a:pt x="18190" y="3390"/>
                  <a:pt x="18182" y="3398"/>
                </a:cubicBezTo>
                <a:cubicBezTo>
                  <a:pt x="18246" y="3389"/>
                  <a:pt x="18284" y="3373"/>
                  <a:pt x="18355" y="3373"/>
                </a:cubicBezTo>
                <a:cubicBezTo>
                  <a:pt x="18397" y="3373"/>
                  <a:pt x="18405" y="3373"/>
                  <a:pt x="18430" y="3373"/>
                </a:cubicBezTo>
                <a:cubicBezTo>
                  <a:pt x="18430" y="3425"/>
                  <a:pt x="18449" y="3513"/>
                  <a:pt x="18405" y="3547"/>
                </a:cubicBezTo>
                <a:cubicBezTo>
                  <a:pt x="18344" y="3594"/>
                  <a:pt x="18272" y="3599"/>
                  <a:pt x="18207" y="3621"/>
                </a:cubicBezTo>
                <a:cubicBezTo>
                  <a:pt x="18190" y="3629"/>
                  <a:pt x="18174" y="3638"/>
                  <a:pt x="18157" y="36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31960" y="1303200"/>
            <a:ext cx="1206360" cy="295560"/>
          </a:xfrm>
          <a:custGeom>
            <a:avLst/>
            <a:gdLst/>
            <a:ahLst/>
            <a:rect l="l" t="t" r="r" b="b"/>
            <a:pathLst>
              <a:path w="3350" h="820">
                <a:moveTo>
                  <a:pt x="5011" y="3721"/>
                </a:moveTo>
                <a:cubicBezTo>
                  <a:pt x="5011" y="3680"/>
                  <a:pt x="5002" y="3663"/>
                  <a:pt x="5035" y="3671"/>
                </a:cubicBezTo>
                <a:cubicBezTo>
                  <a:pt x="5092" y="3685"/>
                  <a:pt x="5113" y="3738"/>
                  <a:pt x="5135" y="3795"/>
                </a:cubicBezTo>
                <a:cubicBezTo>
                  <a:pt x="5168" y="3881"/>
                  <a:pt x="5188" y="4036"/>
                  <a:pt x="5135" y="4118"/>
                </a:cubicBezTo>
                <a:cubicBezTo>
                  <a:pt x="5085" y="4195"/>
                  <a:pt x="4982" y="4316"/>
                  <a:pt x="4887" y="4341"/>
                </a:cubicBezTo>
                <a:cubicBezTo>
                  <a:pt x="4870" y="4341"/>
                  <a:pt x="4854" y="4341"/>
                  <a:pt x="4837" y="4341"/>
                </a:cubicBezTo>
                <a:cubicBezTo>
                  <a:pt x="4786" y="4255"/>
                  <a:pt x="4834" y="4217"/>
                  <a:pt x="4887" y="4142"/>
                </a:cubicBezTo>
                <a:cubicBezTo>
                  <a:pt x="4956" y="4044"/>
                  <a:pt x="4994" y="4011"/>
                  <a:pt x="5110" y="4043"/>
                </a:cubicBezTo>
                <a:cubicBezTo>
                  <a:pt x="5204" y="4068"/>
                  <a:pt x="5252" y="4122"/>
                  <a:pt x="5333" y="4167"/>
                </a:cubicBezTo>
                <a:cubicBezTo>
                  <a:pt x="5350" y="4175"/>
                  <a:pt x="5366" y="4184"/>
                  <a:pt x="5383" y="4192"/>
                </a:cubicBezTo>
              </a:path>
              <a:path w="3350" h="820">
                <a:moveTo>
                  <a:pt x="5631" y="3770"/>
                </a:moveTo>
                <a:cubicBezTo>
                  <a:pt x="5692" y="3709"/>
                  <a:pt x="5699" y="3684"/>
                  <a:pt x="5755" y="3696"/>
                </a:cubicBezTo>
                <a:cubicBezTo>
                  <a:pt x="5818" y="3777"/>
                  <a:pt x="5804" y="3842"/>
                  <a:pt x="5804" y="3944"/>
                </a:cubicBezTo>
                <a:cubicBezTo>
                  <a:pt x="5804" y="4077"/>
                  <a:pt x="5765" y="4162"/>
                  <a:pt x="5680" y="4266"/>
                </a:cubicBezTo>
                <a:cubicBezTo>
                  <a:pt x="5646" y="4308"/>
                  <a:pt x="5626" y="4330"/>
                  <a:pt x="5581" y="4341"/>
                </a:cubicBezTo>
                <a:cubicBezTo>
                  <a:pt x="5543" y="4290"/>
                  <a:pt x="5565" y="4246"/>
                  <a:pt x="5606" y="4192"/>
                </a:cubicBezTo>
                <a:cubicBezTo>
                  <a:pt x="5661" y="4120"/>
                  <a:pt x="5743" y="4097"/>
                  <a:pt x="5829" y="4093"/>
                </a:cubicBezTo>
                <a:cubicBezTo>
                  <a:pt x="5901" y="4090"/>
                  <a:pt x="5986" y="4120"/>
                  <a:pt x="6052" y="4142"/>
                </a:cubicBezTo>
                <a:cubicBezTo>
                  <a:pt x="6069" y="4150"/>
                  <a:pt x="6085" y="4159"/>
                  <a:pt x="6102" y="4167"/>
                </a:cubicBezTo>
              </a:path>
              <a:path w="3350" h="820">
                <a:moveTo>
                  <a:pt x="6350" y="3671"/>
                </a:moveTo>
                <a:cubicBezTo>
                  <a:pt x="6386" y="3644"/>
                  <a:pt x="6453" y="3627"/>
                  <a:pt x="6499" y="3621"/>
                </a:cubicBezTo>
                <a:cubicBezTo>
                  <a:pt x="6557" y="3621"/>
                  <a:pt x="6565" y="3621"/>
                  <a:pt x="6598" y="3621"/>
                </a:cubicBezTo>
              </a:path>
              <a:path w="3350" h="820">
                <a:moveTo>
                  <a:pt x="6474" y="3646"/>
                </a:moveTo>
                <a:cubicBezTo>
                  <a:pt x="6343" y="3714"/>
                  <a:pt x="6188" y="3776"/>
                  <a:pt x="6077" y="3870"/>
                </a:cubicBezTo>
                <a:cubicBezTo>
                  <a:pt x="6052" y="3894"/>
                  <a:pt x="6044" y="3902"/>
                  <a:pt x="6077" y="3919"/>
                </a:cubicBezTo>
                <a:cubicBezTo>
                  <a:pt x="6185" y="3955"/>
                  <a:pt x="6287" y="3926"/>
                  <a:pt x="6400" y="3944"/>
                </a:cubicBezTo>
                <a:cubicBezTo>
                  <a:pt x="6506" y="3961"/>
                  <a:pt x="6528" y="4055"/>
                  <a:pt x="6474" y="4142"/>
                </a:cubicBezTo>
                <a:cubicBezTo>
                  <a:pt x="6416" y="4235"/>
                  <a:pt x="6294" y="4311"/>
                  <a:pt x="6201" y="4366"/>
                </a:cubicBezTo>
                <a:cubicBezTo>
                  <a:pt x="6161" y="4386"/>
                  <a:pt x="6154" y="4394"/>
                  <a:pt x="6127" y="4390"/>
                </a:cubicBezTo>
              </a:path>
              <a:path w="3350" h="820">
                <a:moveTo>
                  <a:pt x="6772" y="4242"/>
                </a:moveTo>
                <a:cubicBezTo>
                  <a:pt x="6800" y="4251"/>
                  <a:pt x="6817" y="4276"/>
                  <a:pt x="6821" y="4316"/>
                </a:cubicBezTo>
                <a:cubicBezTo>
                  <a:pt x="6825" y="4356"/>
                  <a:pt x="6821" y="4399"/>
                  <a:pt x="6821" y="4440"/>
                </a:cubicBezTo>
                <a:cubicBezTo>
                  <a:pt x="6862" y="4389"/>
                  <a:pt x="6908" y="4337"/>
                  <a:pt x="6945" y="4291"/>
                </a:cubicBezTo>
                <a:cubicBezTo>
                  <a:pt x="6965" y="4251"/>
                  <a:pt x="6964" y="4235"/>
                  <a:pt x="6995" y="4242"/>
                </a:cubicBezTo>
                <a:cubicBezTo>
                  <a:pt x="6995" y="4291"/>
                  <a:pt x="6995" y="4341"/>
                  <a:pt x="6995" y="4390"/>
                </a:cubicBezTo>
                <a:cubicBezTo>
                  <a:pt x="7044" y="4343"/>
                  <a:pt x="7066" y="4285"/>
                  <a:pt x="7119" y="4242"/>
                </a:cubicBezTo>
                <a:cubicBezTo>
                  <a:pt x="7182" y="4190"/>
                  <a:pt x="7246" y="4134"/>
                  <a:pt x="7317" y="4093"/>
                </a:cubicBezTo>
                <a:cubicBezTo>
                  <a:pt x="7328" y="4137"/>
                  <a:pt x="7364" y="4166"/>
                  <a:pt x="7367" y="4217"/>
                </a:cubicBezTo>
                <a:cubicBezTo>
                  <a:pt x="7370" y="4268"/>
                  <a:pt x="7381" y="4273"/>
                  <a:pt x="7392" y="4316"/>
                </a:cubicBezTo>
              </a:path>
              <a:path w="3350" h="820">
                <a:moveTo>
                  <a:pt x="7689" y="3671"/>
                </a:moveTo>
                <a:cubicBezTo>
                  <a:pt x="7689" y="3608"/>
                  <a:pt x="7666" y="3807"/>
                  <a:pt x="7665" y="3820"/>
                </a:cubicBezTo>
                <a:cubicBezTo>
                  <a:pt x="7651" y="3944"/>
                  <a:pt x="7619" y="4066"/>
                  <a:pt x="7615" y="4192"/>
                </a:cubicBezTo>
                <a:cubicBezTo>
                  <a:pt x="7613" y="4255"/>
                  <a:pt x="7584" y="4357"/>
                  <a:pt x="7665" y="4366"/>
                </a:cubicBezTo>
                <a:cubicBezTo>
                  <a:pt x="7718" y="4372"/>
                  <a:pt x="7791" y="4314"/>
                  <a:pt x="7838" y="4291"/>
                </a:cubicBezTo>
                <a:cubicBezTo>
                  <a:pt x="7910" y="4255"/>
                  <a:pt x="7982" y="4266"/>
                  <a:pt x="8062" y="4266"/>
                </a:cubicBezTo>
                <a:cubicBezTo>
                  <a:pt x="8113" y="4266"/>
                  <a:pt x="8131" y="4265"/>
                  <a:pt x="8161" y="42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68800" y="1366920"/>
            <a:ext cx="268200" cy="463320"/>
          </a:xfrm>
          <a:custGeom>
            <a:avLst/>
            <a:gdLst/>
            <a:ahLst/>
            <a:rect l="l" t="t" r="r" b="b"/>
            <a:pathLst>
              <a:path w="745" h="1291">
                <a:moveTo>
                  <a:pt x="9227" y="4118"/>
                </a:moveTo>
                <a:cubicBezTo>
                  <a:pt x="9218" y="4184"/>
                  <a:pt x="9169" y="4236"/>
                  <a:pt x="9128" y="4291"/>
                </a:cubicBezTo>
                <a:cubicBezTo>
                  <a:pt x="9080" y="4356"/>
                  <a:pt x="9079" y="4363"/>
                  <a:pt x="9079" y="4440"/>
                </a:cubicBezTo>
                <a:cubicBezTo>
                  <a:pt x="9144" y="4421"/>
                  <a:pt x="9188" y="4383"/>
                  <a:pt x="9227" y="4316"/>
                </a:cubicBezTo>
                <a:cubicBezTo>
                  <a:pt x="9247" y="4281"/>
                  <a:pt x="9282" y="4192"/>
                  <a:pt x="9227" y="4167"/>
                </a:cubicBezTo>
                <a:cubicBezTo>
                  <a:pt x="9213" y="4161"/>
                  <a:pt x="9076" y="4167"/>
                  <a:pt x="9203" y="4167"/>
                </a:cubicBezTo>
                <a:cubicBezTo>
                  <a:pt x="9329" y="4116"/>
                  <a:pt x="9393" y="4077"/>
                  <a:pt x="9500" y="3994"/>
                </a:cubicBezTo>
                <a:cubicBezTo>
                  <a:pt x="9578" y="3933"/>
                  <a:pt x="9624" y="3870"/>
                  <a:pt x="9674" y="3795"/>
                </a:cubicBezTo>
                <a:cubicBezTo>
                  <a:pt x="9674" y="3953"/>
                  <a:pt x="9630" y="4111"/>
                  <a:pt x="9599" y="4266"/>
                </a:cubicBezTo>
                <a:cubicBezTo>
                  <a:pt x="9554" y="4492"/>
                  <a:pt x="9470" y="4757"/>
                  <a:pt x="9550" y="4986"/>
                </a:cubicBezTo>
                <a:cubicBezTo>
                  <a:pt x="9593" y="5051"/>
                  <a:pt x="9599" y="5071"/>
                  <a:pt x="9649" y="5085"/>
                </a:cubicBezTo>
                <a:cubicBezTo>
                  <a:pt x="9738" y="5022"/>
                  <a:pt x="9767" y="4945"/>
                  <a:pt x="9798" y="4837"/>
                </a:cubicBezTo>
                <a:cubicBezTo>
                  <a:pt x="9827" y="4738"/>
                  <a:pt x="9848" y="4580"/>
                  <a:pt x="9773" y="4490"/>
                </a:cubicBezTo>
                <a:cubicBezTo>
                  <a:pt x="9726" y="4433"/>
                  <a:pt x="9568" y="4477"/>
                  <a:pt x="9525" y="4514"/>
                </a:cubicBezTo>
                <a:cubicBezTo>
                  <a:pt x="9508" y="4539"/>
                  <a:pt x="9492" y="4564"/>
                  <a:pt x="9475" y="45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62240" y="1411200"/>
            <a:ext cx="1073160" cy="320760"/>
          </a:xfrm>
          <a:custGeom>
            <a:avLst/>
            <a:gdLst/>
            <a:ahLst/>
            <a:rect l="l" t="t" r="r" b="b"/>
            <a:pathLst>
              <a:path w="2978" h="894">
                <a:moveTo>
                  <a:pt x="11336" y="4589"/>
                </a:moveTo>
                <a:cubicBezTo>
                  <a:pt x="11267" y="4589"/>
                  <a:pt x="11295" y="4580"/>
                  <a:pt x="11336" y="4539"/>
                </a:cubicBezTo>
                <a:cubicBezTo>
                  <a:pt x="11412" y="4488"/>
                  <a:pt x="11310" y="4570"/>
                  <a:pt x="11286" y="4589"/>
                </a:cubicBezTo>
                <a:cubicBezTo>
                  <a:pt x="11325" y="4579"/>
                  <a:pt x="11412" y="4568"/>
                  <a:pt x="11385" y="4539"/>
                </a:cubicBezTo>
                <a:cubicBezTo>
                  <a:pt x="11362" y="4514"/>
                  <a:pt x="11313" y="4582"/>
                  <a:pt x="11311" y="4589"/>
                </a:cubicBezTo>
              </a:path>
              <a:path w="2978" h="894">
                <a:moveTo>
                  <a:pt x="12005" y="4043"/>
                </a:moveTo>
                <a:cubicBezTo>
                  <a:pt x="11960" y="4066"/>
                  <a:pt x="11881" y="4160"/>
                  <a:pt x="11857" y="4217"/>
                </a:cubicBezTo>
                <a:cubicBezTo>
                  <a:pt x="11822" y="4302"/>
                  <a:pt x="11767" y="4478"/>
                  <a:pt x="11832" y="4564"/>
                </a:cubicBezTo>
                <a:cubicBezTo>
                  <a:pt x="11894" y="4645"/>
                  <a:pt x="12076" y="4553"/>
                  <a:pt x="12129" y="4514"/>
                </a:cubicBezTo>
                <a:cubicBezTo>
                  <a:pt x="12235" y="4437"/>
                  <a:pt x="12274" y="4341"/>
                  <a:pt x="12278" y="4217"/>
                </a:cubicBezTo>
                <a:cubicBezTo>
                  <a:pt x="12281" y="4123"/>
                  <a:pt x="12218" y="4053"/>
                  <a:pt x="12129" y="4018"/>
                </a:cubicBezTo>
                <a:cubicBezTo>
                  <a:pt x="12105" y="4018"/>
                  <a:pt x="12096" y="4018"/>
                  <a:pt x="12080" y="4018"/>
                </a:cubicBezTo>
              </a:path>
              <a:path w="2978" h="894">
                <a:moveTo>
                  <a:pt x="12551" y="4018"/>
                </a:moveTo>
                <a:cubicBezTo>
                  <a:pt x="12540" y="4051"/>
                  <a:pt x="12525" y="4074"/>
                  <a:pt x="12502" y="4118"/>
                </a:cubicBezTo>
                <a:cubicBezTo>
                  <a:pt x="12475" y="4169"/>
                  <a:pt x="12434" y="4229"/>
                  <a:pt x="12452" y="4291"/>
                </a:cubicBezTo>
                <a:cubicBezTo>
                  <a:pt x="12476" y="4371"/>
                  <a:pt x="12534" y="4366"/>
                  <a:pt x="12601" y="4366"/>
                </a:cubicBezTo>
                <a:cubicBezTo>
                  <a:pt x="12700" y="4366"/>
                  <a:pt x="12754" y="4328"/>
                  <a:pt x="12824" y="4266"/>
                </a:cubicBezTo>
              </a:path>
              <a:path w="2978" h="894">
                <a:moveTo>
                  <a:pt x="12973" y="3919"/>
                </a:moveTo>
                <a:cubicBezTo>
                  <a:pt x="12910" y="3982"/>
                  <a:pt x="12851" y="4047"/>
                  <a:pt x="12799" y="4118"/>
                </a:cubicBezTo>
                <a:cubicBezTo>
                  <a:pt x="12717" y="4230"/>
                  <a:pt x="12675" y="4363"/>
                  <a:pt x="12626" y="4490"/>
                </a:cubicBezTo>
                <a:cubicBezTo>
                  <a:pt x="12601" y="4554"/>
                  <a:pt x="12601" y="4596"/>
                  <a:pt x="12601" y="4663"/>
                </a:cubicBezTo>
              </a:path>
              <a:path w="2978" h="894">
                <a:moveTo>
                  <a:pt x="13295" y="4167"/>
                </a:moveTo>
                <a:cubicBezTo>
                  <a:pt x="13337" y="4105"/>
                  <a:pt x="13231" y="4142"/>
                  <a:pt x="13196" y="4167"/>
                </a:cubicBezTo>
                <a:cubicBezTo>
                  <a:pt x="13122" y="4221"/>
                  <a:pt x="13029" y="4305"/>
                  <a:pt x="12998" y="4390"/>
                </a:cubicBezTo>
                <a:cubicBezTo>
                  <a:pt x="12998" y="4407"/>
                  <a:pt x="12998" y="4423"/>
                  <a:pt x="12998" y="4440"/>
                </a:cubicBezTo>
                <a:cubicBezTo>
                  <a:pt x="13064" y="4491"/>
                  <a:pt x="13082" y="4459"/>
                  <a:pt x="13146" y="4415"/>
                </a:cubicBezTo>
                <a:cubicBezTo>
                  <a:pt x="13222" y="4362"/>
                  <a:pt x="13300" y="4275"/>
                  <a:pt x="13345" y="4192"/>
                </a:cubicBezTo>
                <a:cubicBezTo>
                  <a:pt x="13345" y="4184"/>
                  <a:pt x="13345" y="4175"/>
                  <a:pt x="13345" y="4167"/>
                </a:cubicBezTo>
                <a:cubicBezTo>
                  <a:pt x="13288" y="4269"/>
                  <a:pt x="13251" y="4351"/>
                  <a:pt x="13221" y="4465"/>
                </a:cubicBezTo>
                <a:cubicBezTo>
                  <a:pt x="13193" y="4573"/>
                  <a:pt x="13182" y="4660"/>
                  <a:pt x="13221" y="4762"/>
                </a:cubicBezTo>
              </a:path>
              <a:path w="2978" h="894">
                <a:moveTo>
                  <a:pt x="13791" y="4242"/>
                </a:moveTo>
                <a:cubicBezTo>
                  <a:pt x="13777" y="4315"/>
                  <a:pt x="13725" y="4372"/>
                  <a:pt x="13692" y="4440"/>
                </a:cubicBezTo>
                <a:cubicBezTo>
                  <a:pt x="13647" y="4533"/>
                  <a:pt x="13576" y="4610"/>
                  <a:pt x="13568" y="4713"/>
                </a:cubicBezTo>
                <a:cubicBezTo>
                  <a:pt x="13568" y="4721"/>
                  <a:pt x="13568" y="4730"/>
                  <a:pt x="13568" y="4738"/>
                </a:cubicBezTo>
                <a:cubicBezTo>
                  <a:pt x="13644" y="4677"/>
                  <a:pt x="13683" y="4621"/>
                  <a:pt x="13742" y="4539"/>
                </a:cubicBezTo>
                <a:cubicBezTo>
                  <a:pt x="13818" y="4434"/>
                  <a:pt x="13901" y="4327"/>
                  <a:pt x="13965" y="4217"/>
                </a:cubicBezTo>
                <a:cubicBezTo>
                  <a:pt x="13989" y="4169"/>
                  <a:pt x="13997" y="4150"/>
                  <a:pt x="13990" y="4217"/>
                </a:cubicBezTo>
                <a:cubicBezTo>
                  <a:pt x="13947" y="4301"/>
                  <a:pt x="13899" y="4377"/>
                  <a:pt x="13866" y="4465"/>
                </a:cubicBezTo>
                <a:cubicBezTo>
                  <a:pt x="13848" y="4515"/>
                  <a:pt x="13826" y="4564"/>
                  <a:pt x="13816" y="4614"/>
                </a:cubicBezTo>
                <a:cubicBezTo>
                  <a:pt x="13879" y="4601"/>
                  <a:pt x="13948" y="4539"/>
                  <a:pt x="13990" y="4490"/>
                </a:cubicBezTo>
                <a:cubicBezTo>
                  <a:pt x="14068" y="4400"/>
                  <a:pt x="14128" y="4302"/>
                  <a:pt x="14213" y="4217"/>
                </a:cubicBezTo>
                <a:cubicBezTo>
                  <a:pt x="14236" y="4194"/>
                  <a:pt x="14240" y="4186"/>
                  <a:pt x="14263" y="4192"/>
                </a:cubicBezTo>
                <a:cubicBezTo>
                  <a:pt x="14249" y="4275"/>
                  <a:pt x="14199" y="4357"/>
                  <a:pt x="14188" y="4440"/>
                </a:cubicBezTo>
                <a:cubicBezTo>
                  <a:pt x="14175" y="4541"/>
                  <a:pt x="14174" y="4670"/>
                  <a:pt x="14213" y="4762"/>
                </a:cubicBezTo>
                <a:cubicBezTo>
                  <a:pt x="14221" y="4779"/>
                  <a:pt x="14230" y="4795"/>
                  <a:pt x="14238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00800" y="1393920"/>
            <a:ext cx="1187280" cy="527040"/>
          </a:xfrm>
          <a:custGeom>
            <a:avLst/>
            <a:gdLst/>
            <a:ahLst/>
            <a:rect l="l" t="t" r="r" b="b"/>
            <a:pathLst>
              <a:path w="3300" h="1464">
                <a:moveTo>
                  <a:pt x="15478" y="4167"/>
                </a:moveTo>
                <a:cubicBezTo>
                  <a:pt x="15526" y="4119"/>
                  <a:pt x="15553" y="4108"/>
                  <a:pt x="15503" y="4192"/>
                </a:cubicBezTo>
                <a:cubicBezTo>
                  <a:pt x="15428" y="4318"/>
                  <a:pt x="15383" y="4474"/>
                  <a:pt x="15329" y="4614"/>
                </a:cubicBezTo>
                <a:cubicBezTo>
                  <a:pt x="15310" y="4662"/>
                  <a:pt x="15290" y="4713"/>
                  <a:pt x="15280" y="4762"/>
                </a:cubicBezTo>
                <a:cubicBezTo>
                  <a:pt x="15378" y="4651"/>
                  <a:pt x="15435" y="4522"/>
                  <a:pt x="15503" y="4390"/>
                </a:cubicBezTo>
                <a:cubicBezTo>
                  <a:pt x="15578" y="4245"/>
                  <a:pt x="15624" y="4074"/>
                  <a:pt x="15726" y="3944"/>
                </a:cubicBezTo>
                <a:cubicBezTo>
                  <a:pt x="15774" y="3883"/>
                  <a:pt x="15784" y="3879"/>
                  <a:pt x="15850" y="3870"/>
                </a:cubicBezTo>
                <a:cubicBezTo>
                  <a:pt x="15887" y="3967"/>
                  <a:pt x="15886" y="4086"/>
                  <a:pt x="15875" y="4192"/>
                </a:cubicBezTo>
                <a:cubicBezTo>
                  <a:pt x="15857" y="4369"/>
                  <a:pt x="15833" y="4565"/>
                  <a:pt x="15801" y="4738"/>
                </a:cubicBezTo>
                <a:cubicBezTo>
                  <a:pt x="15779" y="4803"/>
                  <a:pt x="15771" y="4818"/>
                  <a:pt x="15776" y="4862"/>
                </a:cubicBezTo>
              </a:path>
              <a:path w="3300" h="1464">
                <a:moveTo>
                  <a:pt x="15528" y="4514"/>
                </a:moveTo>
                <a:cubicBezTo>
                  <a:pt x="15417" y="4478"/>
                  <a:pt x="15632" y="4496"/>
                  <a:pt x="15677" y="4490"/>
                </a:cubicBezTo>
                <a:cubicBezTo>
                  <a:pt x="15827" y="4469"/>
                  <a:pt x="15974" y="4430"/>
                  <a:pt x="16123" y="4415"/>
                </a:cubicBezTo>
                <a:cubicBezTo>
                  <a:pt x="16180" y="4409"/>
                  <a:pt x="16240" y="4415"/>
                  <a:pt x="16297" y="4415"/>
                </a:cubicBezTo>
                <a:cubicBezTo>
                  <a:pt x="16237" y="4449"/>
                  <a:pt x="16168" y="4491"/>
                  <a:pt x="16148" y="4564"/>
                </a:cubicBezTo>
                <a:cubicBezTo>
                  <a:pt x="16127" y="4641"/>
                  <a:pt x="16159" y="4788"/>
                  <a:pt x="16173" y="4862"/>
                </a:cubicBezTo>
                <a:cubicBezTo>
                  <a:pt x="16193" y="4967"/>
                  <a:pt x="16223" y="5080"/>
                  <a:pt x="16173" y="5184"/>
                </a:cubicBezTo>
                <a:cubicBezTo>
                  <a:pt x="16129" y="5275"/>
                  <a:pt x="16078" y="5297"/>
                  <a:pt x="15999" y="5333"/>
                </a:cubicBezTo>
                <a:cubicBezTo>
                  <a:pt x="15946" y="5228"/>
                  <a:pt x="15934" y="5215"/>
                  <a:pt x="15999" y="5110"/>
                </a:cubicBezTo>
                <a:cubicBezTo>
                  <a:pt x="16052" y="5025"/>
                  <a:pt x="16105" y="4960"/>
                  <a:pt x="16173" y="4887"/>
                </a:cubicBezTo>
              </a:path>
              <a:path w="3300" h="1464">
                <a:moveTo>
                  <a:pt x="16892" y="4415"/>
                </a:moveTo>
                <a:cubicBezTo>
                  <a:pt x="16882" y="4528"/>
                  <a:pt x="16839" y="4585"/>
                  <a:pt x="16793" y="4688"/>
                </a:cubicBezTo>
                <a:cubicBezTo>
                  <a:pt x="16763" y="4755"/>
                  <a:pt x="16754" y="4831"/>
                  <a:pt x="16694" y="4862"/>
                </a:cubicBezTo>
                <a:cubicBezTo>
                  <a:pt x="16724" y="4770"/>
                  <a:pt x="16777" y="4656"/>
                  <a:pt x="16818" y="4564"/>
                </a:cubicBezTo>
                <a:cubicBezTo>
                  <a:pt x="16844" y="4505"/>
                  <a:pt x="16912" y="4327"/>
                  <a:pt x="16966" y="4291"/>
                </a:cubicBezTo>
                <a:cubicBezTo>
                  <a:pt x="16974" y="4291"/>
                  <a:pt x="16983" y="4291"/>
                  <a:pt x="16991" y="4291"/>
                </a:cubicBezTo>
                <a:cubicBezTo>
                  <a:pt x="16973" y="4380"/>
                  <a:pt x="16940" y="4473"/>
                  <a:pt x="16917" y="4564"/>
                </a:cubicBezTo>
                <a:cubicBezTo>
                  <a:pt x="16887" y="4684"/>
                  <a:pt x="16886" y="4796"/>
                  <a:pt x="17016" y="4812"/>
                </a:cubicBezTo>
                <a:cubicBezTo>
                  <a:pt x="17148" y="4828"/>
                  <a:pt x="17251" y="4689"/>
                  <a:pt x="17314" y="4589"/>
                </a:cubicBezTo>
                <a:cubicBezTo>
                  <a:pt x="17389" y="4470"/>
                  <a:pt x="17408" y="4328"/>
                  <a:pt x="17413" y="4192"/>
                </a:cubicBezTo>
                <a:cubicBezTo>
                  <a:pt x="17415" y="4132"/>
                  <a:pt x="17398" y="4112"/>
                  <a:pt x="17363" y="4068"/>
                </a:cubicBezTo>
              </a:path>
              <a:path w="3300" h="1464">
                <a:moveTo>
                  <a:pt x="17587" y="4341"/>
                </a:moveTo>
                <a:cubicBezTo>
                  <a:pt x="17580" y="4452"/>
                  <a:pt x="17562" y="4551"/>
                  <a:pt x="17562" y="4663"/>
                </a:cubicBezTo>
                <a:cubicBezTo>
                  <a:pt x="17562" y="4742"/>
                  <a:pt x="17612" y="4850"/>
                  <a:pt x="17711" y="4837"/>
                </a:cubicBezTo>
                <a:cubicBezTo>
                  <a:pt x="17799" y="4825"/>
                  <a:pt x="17934" y="4754"/>
                  <a:pt x="17959" y="4663"/>
                </a:cubicBezTo>
                <a:cubicBezTo>
                  <a:pt x="17987" y="4562"/>
                  <a:pt x="17951" y="4382"/>
                  <a:pt x="17909" y="4291"/>
                </a:cubicBezTo>
                <a:cubicBezTo>
                  <a:pt x="17886" y="4240"/>
                  <a:pt x="17848" y="4205"/>
                  <a:pt x="17810" y="4167"/>
                </a:cubicBezTo>
              </a:path>
              <a:path w="3300" h="1464">
                <a:moveTo>
                  <a:pt x="18182" y="4787"/>
                </a:moveTo>
                <a:cubicBezTo>
                  <a:pt x="18207" y="4762"/>
                  <a:pt x="18249" y="4720"/>
                  <a:pt x="18281" y="4713"/>
                </a:cubicBezTo>
                <a:cubicBezTo>
                  <a:pt x="18336" y="4701"/>
                  <a:pt x="18414" y="4705"/>
                  <a:pt x="18455" y="4738"/>
                </a:cubicBezTo>
                <a:cubicBezTo>
                  <a:pt x="18507" y="4779"/>
                  <a:pt x="18518" y="4802"/>
                  <a:pt x="18479" y="4862"/>
                </a:cubicBezTo>
                <a:cubicBezTo>
                  <a:pt x="18459" y="4893"/>
                  <a:pt x="18390" y="4920"/>
                  <a:pt x="18380" y="4936"/>
                </a:cubicBezTo>
                <a:cubicBezTo>
                  <a:pt x="18380" y="4944"/>
                  <a:pt x="18380" y="4953"/>
                  <a:pt x="18380" y="4961"/>
                </a:cubicBezTo>
                <a:cubicBezTo>
                  <a:pt x="18456" y="4961"/>
                  <a:pt x="18491" y="4965"/>
                  <a:pt x="18554" y="5011"/>
                </a:cubicBezTo>
                <a:cubicBezTo>
                  <a:pt x="18632" y="5068"/>
                  <a:pt x="18519" y="5130"/>
                  <a:pt x="18479" y="5159"/>
                </a:cubicBezTo>
                <a:cubicBezTo>
                  <a:pt x="18390" y="5223"/>
                  <a:pt x="18305" y="5264"/>
                  <a:pt x="18207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8120" y="1982880"/>
            <a:ext cx="865080" cy="276120"/>
          </a:xfrm>
          <a:custGeom>
            <a:avLst/>
            <a:gdLst/>
            <a:ahLst/>
            <a:rect l="l" t="t" r="r" b="b"/>
            <a:pathLst>
              <a:path w="2407" h="770">
                <a:moveTo>
                  <a:pt x="4465" y="5680"/>
                </a:moveTo>
                <a:cubicBezTo>
                  <a:pt x="4502" y="5616"/>
                  <a:pt x="4515" y="5563"/>
                  <a:pt x="4589" y="5556"/>
                </a:cubicBezTo>
                <a:cubicBezTo>
                  <a:pt x="4708" y="5545"/>
                  <a:pt x="4749" y="5563"/>
                  <a:pt x="4787" y="5680"/>
                </a:cubicBezTo>
                <a:cubicBezTo>
                  <a:pt x="4838" y="5838"/>
                  <a:pt x="4793" y="5938"/>
                  <a:pt x="4713" y="6077"/>
                </a:cubicBezTo>
                <a:cubicBezTo>
                  <a:pt x="4665" y="6160"/>
                  <a:pt x="4609" y="6252"/>
                  <a:pt x="4514" y="6276"/>
                </a:cubicBezTo>
                <a:cubicBezTo>
                  <a:pt x="4498" y="6276"/>
                  <a:pt x="4481" y="6276"/>
                  <a:pt x="4465" y="6276"/>
                </a:cubicBezTo>
                <a:cubicBezTo>
                  <a:pt x="4465" y="6227"/>
                  <a:pt x="4467" y="6134"/>
                  <a:pt x="4514" y="6102"/>
                </a:cubicBezTo>
                <a:cubicBezTo>
                  <a:pt x="4576" y="6060"/>
                  <a:pt x="4689" y="6037"/>
                  <a:pt x="4762" y="6052"/>
                </a:cubicBezTo>
                <a:cubicBezTo>
                  <a:pt x="4836" y="6067"/>
                  <a:pt x="4904" y="6106"/>
                  <a:pt x="4961" y="6152"/>
                </a:cubicBezTo>
              </a:path>
              <a:path w="2407" h="770">
                <a:moveTo>
                  <a:pt x="5308" y="5655"/>
                </a:moveTo>
                <a:cubicBezTo>
                  <a:pt x="5355" y="5629"/>
                  <a:pt x="5411" y="5590"/>
                  <a:pt x="5457" y="5581"/>
                </a:cubicBezTo>
                <a:cubicBezTo>
                  <a:pt x="5495" y="5573"/>
                  <a:pt x="5542" y="5581"/>
                  <a:pt x="5581" y="5581"/>
                </a:cubicBezTo>
              </a:path>
              <a:path w="2407" h="770">
                <a:moveTo>
                  <a:pt x="5482" y="5581"/>
                </a:moveTo>
                <a:cubicBezTo>
                  <a:pt x="5425" y="5611"/>
                  <a:pt x="5225" y="5683"/>
                  <a:pt x="5184" y="5755"/>
                </a:cubicBezTo>
                <a:cubicBezTo>
                  <a:pt x="5152" y="5811"/>
                  <a:pt x="5233" y="5833"/>
                  <a:pt x="5259" y="5854"/>
                </a:cubicBezTo>
                <a:cubicBezTo>
                  <a:pt x="5309" y="5896"/>
                  <a:pt x="5368" y="5962"/>
                  <a:pt x="5383" y="6028"/>
                </a:cubicBezTo>
                <a:cubicBezTo>
                  <a:pt x="5400" y="6104"/>
                  <a:pt x="5384" y="6150"/>
                  <a:pt x="5333" y="6201"/>
                </a:cubicBezTo>
              </a:path>
              <a:path w="2407" h="770">
                <a:moveTo>
                  <a:pt x="5755" y="5904"/>
                </a:moveTo>
                <a:cubicBezTo>
                  <a:pt x="5772" y="6011"/>
                  <a:pt x="5750" y="6069"/>
                  <a:pt x="5730" y="6176"/>
                </a:cubicBezTo>
                <a:cubicBezTo>
                  <a:pt x="5730" y="6211"/>
                  <a:pt x="5725" y="6229"/>
                  <a:pt x="5705" y="6251"/>
                </a:cubicBezTo>
                <a:cubicBezTo>
                  <a:pt x="5749" y="6196"/>
                  <a:pt x="5784" y="6130"/>
                  <a:pt x="5829" y="6077"/>
                </a:cubicBezTo>
                <a:cubicBezTo>
                  <a:pt x="5852" y="6050"/>
                  <a:pt x="5918" y="5959"/>
                  <a:pt x="5953" y="6028"/>
                </a:cubicBezTo>
                <a:cubicBezTo>
                  <a:pt x="5975" y="6072"/>
                  <a:pt x="5925" y="6084"/>
                  <a:pt x="5978" y="6102"/>
                </a:cubicBezTo>
                <a:cubicBezTo>
                  <a:pt x="6019" y="6088"/>
                  <a:pt x="6006" y="6036"/>
                  <a:pt x="6052" y="6003"/>
                </a:cubicBezTo>
                <a:cubicBezTo>
                  <a:pt x="6095" y="5972"/>
                  <a:pt x="6149" y="5933"/>
                  <a:pt x="6201" y="5928"/>
                </a:cubicBezTo>
                <a:cubicBezTo>
                  <a:pt x="6247" y="5923"/>
                  <a:pt x="6269" y="5991"/>
                  <a:pt x="6276" y="6028"/>
                </a:cubicBezTo>
                <a:cubicBezTo>
                  <a:pt x="6285" y="6081"/>
                  <a:pt x="6276" y="6147"/>
                  <a:pt x="6276" y="6201"/>
                </a:cubicBezTo>
              </a:path>
              <a:path w="2407" h="770">
                <a:moveTo>
                  <a:pt x="6598" y="5581"/>
                </a:moveTo>
                <a:cubicBezTo>
                  <a:pt x="6623" y="5556"/>
                  <a:pt x="6647" y="5532"/>
                  <a:pt x="6672" y="5507"/>
                </a:cubicBezTo>
                <a:cubicBezTo>
                  <a:pt x="6672" y="5566"/>
                  <a:pt x="6644" y="5595"/>
                  <a:pt x="6623" y="5655"/>
                </a:cubicBezTo>
                <a:cubicBezTo>
                  <a:pt x="6581" y="5771"/>
                  <a:pt x="6539" y="5906"/>
                  <a:pt x="6524" y="6028"/>
                </a:cubicBezTo>
                <a:cubicBezTo>
                  <a:pt x="6515" y="6101"/>
                  <a:pt x="6516" y="6179"/>
                  <a:pt x="6598" y="6201"/>
                </a:cubicBezTo>
                <a:cubicBezTo>
                  <a:pt x="6666" y="6219"/>
                  <a:pt x="6737" y="6150"/>
                  <a:pt x="6796" y="6127"/>
                </a:cubicBezTo>
                <a:cubicBezTo>
                  <a:pt x="6821" y="6119"/>
                  <a:pt x="6846" y="6110"/>
                  <a:pt x="6871" y="61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11320" y="2054160"/>
            <a:ext cx="312840" cy="330120"/>
          </a:xfrm>
          <a:custGeom>
            <a:avLst/>
            <a:gdLst/>
            <a:ahLst/>
            <a:rect l="l" t="t" r="r" b="b"/>
            <a:pathLst>
              <a:path w="869" h="919">
                <a:moveTo>
                  <a:pt x="8136" y="5978"/>
                </a:moveTo>
                <a:cubicBezTo>
                  <a:pt x="8115" y="6034"/>
                  <a:pt x="8089" y="6090"/>
                  <a:pt x="8086" y="6152"/>
                </a:cubicBezTo>
                <a:cubicBezTo>
                  <a:pt x="8086" y="6196"/>
                  <a:pt x="8083" y="6210"/>
                  <a:pt x="8111" y="6226"/>
                </a:cubicBezTo>
                <a:cubicBezTo>
                  <a:pt x="8192" y="6189"/>
                  <a:pt x="8239" y="6169"/>
                  <a:pt x="8285" y="6077"/>
                </a:cubicBezTo>
                <a:cubicBezTo>
                  <a:pt x="8330" y="5987"/>
                  <a:pt x="8323" y="5867"/>
                  <a:pt x="8285" y="5779"/>
                </a:cubicBezTo>
                <a:cubicBezTo>
                  <a:pt x="8256" y="5711"/>
                  <a:pt x="8247" y="5714"/>
                  <a:pt x="8186" y="5705"/>
                </a:cubicBezTo>
                <a:cubicBezTo>
                  <a:pt x="8244" y="5765"/>
                  <a:pt x="8304" y="5777"/>
                  <a:pt x="8384" y="5804"/>
                </a:cubicBezTo>
                <a:cubicBezTo>
                  <a:pt x="8526" y="5852"/>
                  <a:pt x="8637" y="5945"/>
                  <a:pt x="8657" y="6102"/>
                </a:cubicBezTo>
                <a:cubicBezTo>
                  <a:pt x="8675" y="6245"/>
                  <a:pt x="8589" y="6495"/>
                  <a:pt x="8706" y="6598"/>
                </a:cubicBezTo>
                <a:cubicBezTo>
                  <a:pt x="8783" y="6666"/>
                  <a:pt x="8890" y="6557"/>
                  <a:pt x="8930" y="6499"/>
                </a:cubicBezTo>
                <a:cubicBezTo>
                  <a:pt x="8984" y="6421"/>
                  <a:pt x="8934" y="6296"/>
                  <a:pt x="8855" y="6251"/>
                </a:cubicBezTo>
                <a:cubicBezTo>
                  <a:pt x="8776" y="6206"/>
                  <a:pt x="8588" y="6204"/>
                  <a:pt x="8508" y="6251"/>
                </a:cubicBezTo>
                <a:cubicBezTo>
                  <a:pt x="8491" y="6267"/>
                  <a:pt x="8475" y="6284"/>
                  <a:pt x="8458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27280" y="2089080"/>
            <a:ext cx="509760" cy="223920"/>
          </a:xfrm>
          <a:custGeom>
            <a:avLst/>
            <a:gdLst/>
            <a:ahLst/>
            <a:rect l="l" t="t" r="r" b="b"/>
            <a:pathLst>
              <a:path w="1415" h="621">
                <a:moveTo>
                  <a:pt x="9897" y="6325"/>
                </a:moveTo>
                <a:cubicBezTo>
                  <a:pt x="9838" y="6365"/>
                  <a:pt x="9826" y="6369"/>
                  <a:pt x="9798" y="6400"/>
                </a:cubicBezTo>
                <a:cubicBezTo>
                  <a:pt x="9835" y="6427"/>
                  <a:pt x="9877" y="6422"/>
                  <a:pt x="9922" y="6400"/>
                </a:cubicBezTo>
                <a:cubicBezTo>
                  <a:pt x="9930" y="6392"/>
                  <a:pt x="9939" y="6383"/>
                  <a:pt x="9947" y="6375"/>
                </a:cubicBezTo>
                <a:cubicBezTo>
                  <a:pt x="9943" y="6363"/>
                  <a:pt x="9896" y="6320"/>
                  <a:pt x="9872" y="6350"/>
                </a:cubicBezTo>
                <a:cubicBezTo>
                  <a:pt x="9872" y="6358"/>
                  <a:pt x="9872" y="6367"/>
                  <a:pt x="9872" y="6375"/>
                </a:cubicBezTo>
                <a:cubicBezTo>
                  <a:pt x="9883" y="6330"/>
                  <a:pt x="9913" y="6310"/>
                  <a:pt x="9947" y="6276"/>
                </a:cubicBezTo>
                <a:cubicBezTo>
                  <a:pt x="9976" y="6247"/>
                  <a:pt x="10027" y="6245"/>
                  <a:pt x="9971" y="6226"/>
                </a:cubicBezTo>
              </a:path>
              <a:path w="1415" h="621">
                <a:moveTo>
                  <a:pt x="10468" y="5928"/>
                </a:moveTo>
                <a:cubicBezTo>
                  <a:pt x="10493" y="5912"/>
                  <a:pt x="10517" y="5895"/>
                  <a:pt x="10542" y="5879"/>
                </a:cubicBezTo>
                <a:cubicBezTo>
                  <a:pt x="10516" y="5866"/>
                  <a:pt x="10444" y="5961"/>
                  <a:pt x="10418" y="6028"/>
                </a:cubicBezTo>
                <a:cubicBezTo>
                  <a:pt x="10377" y="6132"/>
                  <a:pt x="10375" y="6228"/>
                  <a:pt x="10468" y="6300"/>
                </a:cubicBezTo>
                <a:cubicBezTo>
                  <a:pt x="10547" y="6361"/>
                  <a:pt x="10659" y="6321"/>
                  <a:pt x="10716" y="6251"/>
                </a:cubicBezTo>
                <a:cubicBezTo>
                  <a:pt x="10763" y="6193"/>
                  <a:pt x="10791" y="6048"/>
                  <a:pt x="10765" y="5978"/>
                </a:cubicBezTo>
                <a:cubicBezTo>
                  <a:pt x="10743" y="5918"/>
                  <a:pt x="10653" y="5816"/>
                  <a:pt x="10592" y="5804"/>
                </a:cubicBezTo>
                <a:cubicBezTo>
                  <a:pt x="10584" y="5804"/>
                  <a:pt x="10575" y="5804"/>
                  <a:pt x="10567" y="5804"/>
                </a:cubicBezTo>
              </a:path>
              <a:path w="1415" h="621">
                <a:moveTo>
                  <a:pt x="11112" y="5879"/>
                </a:moveTo>
                <a:cubicBezTo>
                  <a:pt x="11212" y="5912"/>
                  <a:pt x="11238" y="5912"/>
                  <a:pt x="11212" y="6028"/>
                </a:cubicBezTo>
                <a:cubicBezTo>
                  <a:pt x="11194" y="6108"/>
                  <a:pt x="11168" y="6204"/>
                  <a:pt x="11137" y="6276"/>
                </a:cubicBezTo>
                <a:cubicBezTo>
                  <a:pt x="11110" y="6340"/>
                  <a:pt x="11100" y="6325"/>
                  <a:pt x="11137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87880" y="2116080"/>
            <a:ext cx="795240" cy="206280"/>
          </a:xfrm>
          <a:custGeom>
            <a:avLst/>
            <a:gdLst/>
            <a:ahLst/>
            <a:rect l="l" t="t" r="r" b="b"/>
            <a:pathLst>
              <a:path w="2209" h="571">
                <a:moveTo>
                  <a:pt x="11807" y="5953"/>
                </a:moveTo>
                <a:cubicBezTo>
                  <a:pt x="11847" y="5933"/>
                  <a:pt x="11864" y="5935"/>
                  <a:pt x="11857" y="5904"/>
                </a:cubicBezTo>
                <a:cubicBezTo>
                  <a:pt x="11789" y="5920"/>
                  <a:pt x="11743" y="5991"/>
                  <a:pt x="11708" y="6052"/>
                </a:cubicBezTo>
                <a:cubicBezTo>
                  <a:pt x="11646" y="6159"/>
                  <a:pt x="11592" y="6250"/>
                  <a:pt x="11708" y="6325"/>
                </a:cubicBezTo>
                <a:cubicBezTo>
                  <a:pt x="11820" y="6398"/>
                  <a:pt x="11925" y="6285"/>
                  <a:pt x="12005" y="6226"/>
                </a:cubicBezTo>
                <a:cubicBezTo>
                  <a:pt x="12072" y="6177"/>
                  <a:pt x="12157" y="6076"/>
                  <a:pt x="12105" y="5978"/>
                </a:cubicBezTo>
                <a:cubicBezTo>
                  <a:pt x="12065" y="5903"/>
                  <a:pt x="11955" y="5885"/>
                  <a:pt x="11881" y="5904"/>
                </a:cubicBezTo>
                <a:cubicBezTo>
                  <a:pt x="11865" y="5912"/>
                  <a:pt x="11848" y="5920"/>
                  <a:pt x="11832" y="5928"/>
                </a:cubicBezTo>
              </a:path>
              <a:path w="2209" h="571">
                <a:moveTo>
                  <a:pt x="12427" y="5953"/>
                </a:moveTo>
                <a:cubicBezTo>
                  <a:pt x="12402" y="6023"/>
                  <a:pt x="12344" y="6105"/>
                  <a:pt x="12328" y="6176"/>
                </a:cubicBezTo>
                <a:cubicBezTo>
                  <a:pt x="12307" y="6268"/>
                  <a:pt x="12376" y="6293"/>
                  <a:pt x="12452" y="6276"/>
                </a:cubicBezTo>
                <a:cubicBezTo>
                  <a:pt x="12573" y="6249"/>
                  <a:pt x="12635" y="6206"/>
                  <a:pt x="12700" y="6102"/>
                </a:cubicBezTo>
                <a:cubicBezTo>
                  <a:pt x="12741" y="6036"/>
                  <a:pt x="12731" y="5942"/>
                  <a:pt x="12650" y="5904"/>
                </a:cubicBezTo>
                <a:cubicBezTo>
                  <a:pt x="12619" y="5890"/>
                  <a:pt x="12537" y="5904"/>
                  <a:pt x="12502" y="5904"/>
                </a:cubicBezTo>
              </a:path>
              <a:path w="2209" h="571">
                <a:moveTo>
                  <a:pt x="13097" y="6003"/>
                </a:moveTo>
                <a:cubicBezTo>
                  <a:pt x="13153" y="6022"/>
                  <a:pt x="13095" y="6081"/>
                  <a:pt x="13072" y="6127"/>
                </a:cubicBezTo>
                <a:cubicBezTo>
                  <a:pt x="13038" y="6195"/>
                  <a:pt x="12981" y="6275"/>
                  <a:pt x="12973" y="6350"/>
                </a:cubicBezTo>
                <a:cubicBezTo>
                  <a:pt x="12973" y="6358"/>
                  <a:pt x="12973" y="6367"/>
                  <a:pt x="12973" y="6375"/>
                </a:cubicBezTo>
                <a:cubicBezTo>
                  <a:pt x="13031" y="6346"/>
                  <a:pt x="13072" y="6257"/>
                  <a:pt x="13122" y="6201"/>
                </a:cubicBezTo>
                <a:cubicBezTo>
                  <a:pt x="13195" y="6118"/>
                  <a:pt x="13274" y="5987"/>
                  <a:pt x="13370" y="5928"/>
                </a:cubicBezTo>
                <a:cubicBezTo>
                  <a:pt x="13378" y="5928"/>
                  <a:pt x="13387" y="5928"/>
                  <a:pt x="13395" y="5928"/>
                </a:cubicBezTo>
                <a:cubicBezTo>
                  <a:pt x="13353" y="6012"/>
                  <a:pt x="13304" y="6088"/>
                  <a:pt x="13271" y="6176"/>
                </a:cubicBezTo>
                <a:cubicBezTo>
                  <a:pt x="13252" y="6228"/>
                  <a:pt x="13197" y="6284"/>
                  <a:pt x="13246" y="6300"/>
                </a:cubicBezTo>
                <a:cubicBezTo>
                  <a:pt x="13330" y="6206"/>
                  <a:pt x="13408" y="6120"/>
                  <a:pt x="13494" y="6028"/>
                </a:cubicBezTo>
                <a:cubicBezTo>
                  <a:pt x="13542" y="5977"/>
                  <a:pt x="13593" y="5928"/>
                  <a:pt x="13643" y="5879"/>
                </a:cubicBezTo>
                <a:cubicBezTo>
                  <a:pt x="13643" y="5990"/>
                  <a:pt x="13637" y="6094"/>
                  <a:pt x="13667" y="6201"/>
                </a:cubicBezTo>
                <a:cubicBezTo>
                  <a:pt x="13703" y="6329"/>
                  <a:pt x="13735" y="6372"/>
                  <a:pt x="13841" y="64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13240" y="2089080"/>
            <a:ext cx="608040" cy="312840"/>
          </a:xfrm>
          <a:custGeom>
            <a:avLst/>
            <a:gdLst/>
            <a:ahLst/>
            <a:rect l="l" t="t" r="r" b="b"/>
            <a:pathLst>
              <a:path w="1688" h="869">
                <a:moveTo>
                  <a:pt x="14957" y="5953"/>
                </a:moveTo>
                <a:cubicBezTo>
                  <a:pt x="14965" y="5937"/>
                  <a:pt x="14974" y="5920"/>
                  <a:pt x="14982" y="5904"/>
                </a:cubicBezTo>
                <a:cubicBezTo>
                  <a:pt x="14982" y="5984"/>
                  <a:pt x="14978" y="6048"/>
                  <a:pt x="14957" y="6127"/>
                </a:cubicBezTo>
                <a:cubicBezTo>
                  <a:pt x="14926" y="6242"/>
                  <a:pt x="14864" y="6346"/>
                  <a:pt x="14808" y="6449"/>
                </a:cubicBezTo>
                <a:cubicBezTo>
                  <a:pt x="14787" y="6493"/>
                  <a:pt x="14784" y="6505"/>
                  <a:pt x="14759" y="6524"/>
                </a:cubicBezTo>
              </a:path>
              <a:path w="1688" h="869">
                <a:moveTo>
                  <a:pt x="14883" y="6201"/>
                </a:moveTo>
                <a:cubicBezTo>
                  <a:pt x="14956" y="6245"/>
                  <a:pt x="14999" y="6204"/>
                  <a:pt x="15081" y="6176"/>
                </a:cubicBezTo>
                <a:cubicBezTo>
                  <a:pt x="15200" y="6135"/>
                  <a:pt x="15266" y="6066"/>
                  <a:pt x="15354" y="5978"/>
                </a:cubicBezTo>
                <a:cubicBezTo>
                  <a:pt x="15381" y="5951"/>
                  <a:pt x="15506" y="5859"/>
                  <a:pt x="15453" y="5804"/>
                </a:cubicBezTo>
                <a:cubicBezTo>
                  <a:pt x="15445" y="5804"/>
                  <a:pt x="15437" y="5804"/>
                  <a:pt x="15429" y="5804"/>
                </a:cubicBezTo>
                <a:cubicBezTo>
                  <a:pt x="15360" y="5873"/>
                  <a:pt x="15326" y="5942"/>
                  <a:pt x="15280" y="6028"/>
                </a:cubicBezTo>
                <a:cubicBezTo>
                  <a:pt x="15221" y="6138"/>
                  <a:pt x="15186" y="6251"/>
                  <a:pt x="15180" y="6375"/>
                </a:cubicBezTo>
                <a:cubicBezTo>
                  <a:pt x="15180" y="6416"/>
                  <a:pt x="15180" y="6424"/>
                  <a:pt x="15180" y="6449"/>
                </a:cubicBezTo>
              </a:path>
              <a:path w="1688" h="869">
                <a:moveTo>
                  <a:pt x="15974" y="6028"/>
                </a:moveTo>
                <a:cubicBezTo>
                  <a:pt x="16029" y="6054"/>
                  <a:pt x="16014" y="6024"/>
                  <a:pt x="16049" y="5978"/>
                </a:cubicBezTo>
                <a:cubicBezTo>
                  <a:pt x="16049" y="5943"/>
                  <a:pt x="16052" y="5893"/>
                  <a:pt x="15999" y="5904"/>
                </a:cubicBezTo>
                <a:cubicBezTo>
                  <a:pt x="15884" y="5928"/>
                  <a:pt x="15756" y="6076"/>
                  <a:pt x="15701" y="6176"/>
                </a:cubicBezTo>
                <a:cubicBezTo>
                  <a:pt x="15620" y="6324"/>
                  <a:pt x="15593" y="6442"/>
                  <a:pt x="15726" y="6548"/>
                </a:cubicBezTo>
                <a:cubicBezTo>
                  <a:pt x="15866" y="6660"/>
                  <a:pt x="16040" y="6583"/>
                  <a:pt x="16173" y="6499"/>
                </a:cubicBezTo>
                <a:cubicBezTo>
                  <a:pt x="16312" y="6412"/>
                  <a:pt x="16406" y="6342"/>
                  <a:pt x="16421" y="6176"/>
                </a:cubicBezTo>
                <a:cubicBezTo>
                  <a:pt x="16421" y="6120"/>
                  <a:pt x="16416" y="6098"/>
                  <a:pt x="16371" y="6077"/>
                </a:cubicBezTo>
                <a:cubicBezTo>
                  <a:pt x="16279" y="6054"/>
                  <a:pt x="16195" y="6086"/>
                  <a:pt x="16173" y="6201"/>
                </a:cubicBezTo>
                <a:cubicBezTo>
                  <a:pt x="16142" y="6362"/>
                  <a:pt x="16192" y="6496"/>
                  <a:pt x="16321" y="6598"/>
                </a:cubicBezTo>
                <a:cubicBezTo>
                  <a:pt x="16363" y="6623"/>
                  <a:pt x="16404" y="6647"/>
                  <a:pt x="16446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16760" y="2295360"/>
            <a:ext cx="169920" cy="125640"/>
          </a:xfrm>
          <a:custGeom>
            <a:avLst/>
            <a:gdLst/>
            <a:ahLst/>
            <a:rect l="l" t="t" r="r" b="b"/>
            <a:pathLst>
              <a:path w="472" h="348">
                <a:moveTo>
                  <a:pt x="17090" y="6400"/>
                </a:moveTo>
                <a:cubicBezTo>
                  <a:pt x="17038" y="6465"/>
                  <a:pt x="17020" y="6490"/>
                  <a:pt x="17016" y="6573"/>
                </a:cubicBezTo>
                <a:cubicBezTo>
                  <a:pt x="17014" y="6617"/>
                  <a:pt x="16961" y="6695"/>
                  <a:pt x="17016" y="6722"/>
                </a:cubicBezTo>
                <a:cubicBezTo>
                  <a:pt x="17024" y="6722"/>
                  <a:pt x="17033" y="6722"/>
                  <a:pt x="17041" y="6722"/>
                </a:cubicBezTo>
              </a:path>
              <a:path w="472" h="348">
                <a:moveTo>
                  <a:pt x="17462" y="6400"/>
                </a:moveTo>
                <a:cubicBezTo>
                  <a:pt x="17404" y="6364"/>
                  <a:pt x="17372" y="6370"/>
                  <a:pt x="17314" y="6400"/>
                </a:cubicBezTo>
                <a:cubicBezTo>
                  <a:pt x="17266" y="6425"/>
                  <a:pt x="17194" y="6461"/>
                  <a:pt x="17264" y="6524"/>
                </a:cubicBezTo>
                <a:cubicBezTo>
                  <a:pt x="17315" y="6570"/>
                  <a:pt x="17417" y="6572"/>
                  <a:pt x="17462" y="6623"/>
                </a:cubicBezTo>
                <a:cubicBezTo>
                  <a:pt x="17462" y="6631"/>
                  <a:pt x="17462" y="6640"/>
                  <a:pt x="17462" y="6648"/>
                </a:cubicBezTo>
                <a:cubicBezTo>
                  <a:pt x="17435" y="6701"/>
                  <a:pt x="17398" y="6713"/>
                  <a:pt x="17338" y="67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61080" y="2152800"/>
            <a:ext cx="1117800" cy="312480"/>
          </a:xfrm>
          <a:custGeom>
            <a:avLst/>
            <a:gdLst/>
            <a:ahLst/>
            <a:rect l="l" t="t" r="r" b="b"/>
            <a:pathLst>
              <a:path w="3102" h="869">
                <a:moveTo>
                  <a:pt x="18777" y="6499"/>
                </a:moveTo>
                <a:cubicBezTo>
                  <a:pt x="18713" y="6526"/>
                  <a:pt x="18710" y="6534"/>
                  <a:pt x="18653" y="6573"/>
                </a:cubicBezTo>
                <a:cubicBezTo>
                  <a:pt x="18636" y="6585"/>
                  <a:pt x="18483" y="6736"/>
                  <a:pt x="18504" y="6747"/>
                </a:cubicBezTo>
                <a:cubicBezTo>
                  <a:pt x="18544" y="6767"/>
                  <a:pt x="18650" y="6712"/>
                  <a:pt x="18678" y="6697"/>
                </a:cubicBezTo>
                <a:cubicBezTo>
                  <a:pt x="18736" y="6667"/>
                  <a:pt x="18793" y="6629"/>
                  <a:pt x="18852" y="6598"/>
                </a:cubicBezTo>
                <a:cubicBezTo>
                  <a:pt x="18837" y="6614"/>
                  <a:pt x="18709" y="6714"/>
                  <a:pt x="18728" y="6747"/>
                </a:cubicBezTo>
                <a:cubicBezTo>
                  <a:pt x="18772" y="6823"/>
                  <a:pt x="18811" y="6794"/>
                  <a:pt x="18901" y="6772"/>
                </a:cubicBezTo>
                <a:cubicBezTo>
                  <a:pt x="19033" y="6739"/>
                  <a:pt x="19181" y="6648"/>
                  <a:pt x="19298" y="6573"/>
                </a:cubicBezTo>
                <a:cubicBezTo>
                  <a:pt x="19397" y="6510"/>
                  <a:pt x="19484" y="6448"/>
                  <a:pt x="19546" y="6350"/>
                </a:cubicBezTo>
                <a:cubicBezTo>
                  <a:pt x="19546" y="6342"/>
                  <a:pt x="19546" y="6333"/>
                  <a:pt x="19546" y="6325"/>
                </a:cubicBezTo>
                <a:cubicBezTo>
                  <a:pt x="19476" y="6357"/>
                  <a:pt x="19411" y="6394"/>
                  <a:pt x="19348" y="6449"/>
                </a:cubicBezTo>
                <a:cubicBezTo>
                  <a:pt x="19246" y="6539"/>
                  <a:pt x="19234" y="6578"/>
                  <a:pt x="19199" y="6697"/>
                </a:cubicBezTo>
                <a:cubicBezTo>
                  <a:pt x="19295" y="6697"/>
                  <a:pt x="19302" y="6714"/>
                  <a:pt x="19422" y="6648"/>
                </a:cubicBezTo>
                <a:cubicBezTo>
                  <a:pt x="19534" y="6586"/>
                  <a:pt x="19661" y="6463"/>
                  <a:pt x="19720" y="6350"/>
                </a:cubicBezTo>
                <a:cubicBezTo>
                  <a:pt x="19783" y="6231"/>
                  <a:pt x="19814" y="6129"/>
                  <a:pt x="19844" y="6003"/>
                </a:cubicBezTo>
                <a:cubicBezTo>
                  <a:pt x="19759" y="6028"/>
                  <a:pt x="19753" y="6041"/>
                  <a:pt x="19695" y="6176"/>
                </a:cubicBezTo>
                <a:cubicBezTo>
                  <a:pt x="19644" y="6296"/>
                  <a:pt x="19573" y="6470"/>
                  <a:pt x="19645" y="6598"/>
                </a:cubicBezTo>
                <a:cubicBezTo>
                  <a:pt x="19696" y="6689"/>
                  <a:pt x="19810" y="6688"/>
                  <a:pt x="19893" y="6648"/>
                </a:cubicBezTo>
                <a:cubicBezTo>
                  <a:pt x="19983" y="6605"/>
                  <a:pt x="20115" y="6511"/>
                  <a:pt x="20166" y="6424"/>
                </a:cubicBezTo>
                <a:cubicBezTo>
                  <a:pt x="20186" y="6384"/>
                  <a:pt x="20195" y="6378"/>
                  <a:pt x="20191" y="6350"/>
                </a:cubicBezTo>
                <a:cubicBezTo>
                  <a:pt x="20085" y="6397"/>
                  <a:pt x="20019" y="6420"/>
                  <a:pt x="19943" y="6524"/>
                </a:cubicBezTo>
                <a:cubicBezTo>
                  <a:pt x="19862" y="6635"/>
                  <a:pt x="19880" y="6678"/>
                  <a:pt x="19893" y="6796"/>
                </a:cubicBezTo>
                <a:cubicBezTo>
                  <a:pt x="20029" y="6803"/>
                  <a:pt x="20109" y="6814"/>
                  <a:pt x="20241" y="6722"/>
                </a:cubicBezTo>
                <a:cubicBezTo>
                  <a:pt x="20399" y="6612"/>
                  <a:pt x="20537" y="6419"/>
                  <a:pt x="20563" y="6226"/>
                </a:cubicBezTo>
                <a:cubicBezTo>
                  <a:pt x="20578" y="6114"/>
                  <a:pt x="20549" y="6129"/>
                  <a:pt x="20513" y="6052"/>
                </a:cubicBezTo>
                <a:cubicBezTo>
                  <a:pt x="20435" y="6116"/>
                  <a:pt x="20388" y="6170"/>
                  <a:pt x="20340" y="6276"/>
                </a:cubicBezTo>
                <a:cubicBezTo>
                  <a:pt x="20265" y="6442"/>
                  <a:pt x="20215" y="6625"/>
                  <a:pt x="20340" y="6772"/>
                </a:cubicBezTo>
                <a:cubicBezTo>
                  <a:pt x="20411" y="6856"/>
                  <a:pt x="20598" y="6827"/>
                  <a:pt x="20687" y="6772"/>
                </a:cubicBezTo>
                <a:cubicBezTo>
                  <a:pt x="20771" y="6720"/>
                  <a:pt x="20858" y="6630"/>
                  <a:pt x="20910" y="6548"/>
                </a:cubicBezTo>
                <a:cubicBezTo>
                  <a:pt x="20910" y="6540"/>
                  <a:pt x="20910" y="6532"/>
                  <a:pt x="20910" y="6524"/>
                </a:cubicBezTo>
                <a:cubicBezTo>
                  <a:pt x="20846" y="6536"/>
                  <a:pt x="20764" y="6549"/>
                  <a:pt x="20712" y="6598"/>
                </a:cubicBezTo>
                <a:cubicBezTo>
                  <a:pt x="20647" y="6660"/>
                  <a:pt x="20661" y="6703"/>
                  <a:pt x="20638" y="6772"/>
                </a:cubicBezTo>
                <a:cubicBezTo>
                  <a:pt x="20738" y="6849"/>
                  <a:pt x="20853" y="6873"/>
                  <a:pt x="20985" y="6846"/>
                </a:cubicBezTo>
                <a:cubicBezTo>
                  <a:pt x="21134" y="6815"/>
                  <a:pt x="21333" y="6740"/>
                  <a:pt x="21456" y="6648"/>
                </a:cubicBezTo>
                <a:cubicBezTo>
                  <a:pt x="21498" y="6606"/>
                  <a:pt x="21506" y="6599"/>
                  <a:pt x="21530" y="6573"/>
                </a:cubicBezTo>
                <a:cubicBezTo>
                  <a:pt x="21443" y="6563"/>
                  <a:pt x="21386" y="6530"/>
                  <a:pt x="21282" y="6573"/>
                </a:cubicBezTo>
                <a:cubicBezTo>
                  <a:pt x="21214" y="6601"/>
                  <a:pt x="21119" y="6693"/>
                  <a:pt x="21109" y="6772"/>
                </a:cubicBezTo>
                <a:cubicBezTo>
                  <a:pt x="21117" y="6788"/>
                  <a:pt x="21126" y="6805"/>
                  <a:pt x="21134" y="6821"/>
                </a:cubicBezTo>
                <a:cubicBezTo>
                  <a:pt x="21245" y="6843"/>
                  <a:pt x="21273" y="6860"/>
                  <a:pt x="21382" y="6796"/>
                </a:cubicBezTo>
                <a:cubicBezTo>
                  <a:pt x="21495" y="6729"/>
                  <a:pt x="21549" y="6622"/>
                  <a:pt x="21580" y="6499"/>
                </a:cubicBezTo>
                <a:cubicBezTo>
                  <a:pt x="21618" y="6349"/>
                  <a:pt x="21612" y="6220"/>
                  <a:pt x="21555" y="6077"/>
                </a:cubicBezTo>
                <a:cubicBezTo>
                  <a:pt x="21547" y="6061"/>
                  <a:pt x="21538" y="6044"/>
                  <a:pt x="21530" y="6028"/>
                </a:cubicBezTo>
                <a:cubicBezTo>
                  <a:pt x="21470" y="6130"/>
                  <a:pt x="21418" y="6229"/>
                  <a:pt x="21406" y="6375"/>
                </a:cubicBezTo>
                <a:cubicBezTo>
                  <a:pt x="21392" y="6549"/>
                  <a:pt x="21438" y="6692"/>
                  <a:pt x="21506" y="68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82800" y="2571840"/>
            <a:ext cx="482400" cy="554040"/>
          </a:xfrm>
          <a:custGeom>
            <a:avLst/>
            <a:gdLst/>
            <a:ahLst/>
            <a:rect l="l" t="t" r="r" b="b"/>
            <a:pathLst>
              <a:path w="1340" h="1539">
                <a:moveTo>
                  <a:pt x="2927" y="7144"/>
                </a:moveTo>
                <a:cubicBezTo>
                  <a:pt x="2851" y="7163"/>
                  <a:pt x="2845" y="7244"/>
                  <a:pt x="2828" y="7317"/>
                </a:cubicBezTo>
                <a:cubicBezTo>
                  <a:pt x="2789" y="7483"/>
                  <a:pt x="2744" y="7668"/>
                  <a:pt x="2729" y="7838"/>
                </a:cubicBezTo>
                <a:cubicBezTo>
                  <a:pt x="2720" y="7937"/>
                  <a:pt x="2729" y="8028"/>
                  <a:pt x="2753" y="8111"/>
                </a:cubicBezTo>
                <a:cubicBezTo>
                  <a:pt x="2753" y="8119"/>
                  <a:pt x="2753" y="8128"/>
                  <a:pt x="2753" y="8136"/>
                </a:cubicBezTo>
              </a:path>
              <a:path w="1340" h="1539">
                <a:moveTo>
                  <a:pt x="3150" y="7417"/>
                </a:moveTo>
                <a:cubicBezTo>
                  <a:pt x="3175" y="7400"/>
                  <a:pt x="3200" y="7384"/>
                  <a:pt x="3225" y="7367"/>
                </a:cubicBezTo>
                <a:cubicBezTo>
                  <a:pt x="3162" y="7445"/>
                  <a:pt x="3099" y="7517"/>
                  <a:pt x="3026" y="7590"/>
                </a:cubicBezTo>
                <a:cubicBezTo>
                  <a:pt x="2926" y="7689"/>
                  <a:pt x="2810" y="7807"/>
                  <a:pt x="2753" y="7938"/>
                </a:cubicBezTo>
                <a:cubicBezTo>
                  <a:pt x="2713" y="8031"/>
                  <a:pt x="2758" y="8067"/>
                  <a:pt x="2853" y="8086"/>
                </a:cubicBezTo>
                <a:cubicBezTo>
                  <a:pt x="2925" y="8100"/>
                  <a:pt x="3034" y="8059"/>
                  <a:pt x="3101" y="8037"/>
                </a:cubicBezTo>
                <a:cubicBezTo>
                  <a:pt x="3126" y="8029"/>
                  <a:pt x="3150" y="8020"/>
                  <a:pt x="3175" y="8012"/>
                </a:cubicBezTo>
              </a:path>
              <a:path w="1340" h="1539">
                <a:moveTo>
                  <a:pt x="3597" y="7863"/>
                </a:moveTo>
                <a:cubicBezTo>
                  <a:pt x="3533" y="7900"/>
                  <a:pt x="3478" y="7936"/>
                  <a:pt x="3423" y="7987"/>
                </a:cubicBezTo>
                <a:cubicBezTo>
                  <a:pt x="3389" y="8018"/>
                  <a:pt x="3359" y="8044"/>
                  <a:pt x="3349" y="8086"/>
                </a:cubicBezTo>
                <a:cubicBezTo>
                  <a:pt x="3415" y="8086"/>
                  <a:pt x="3481" y="8086"/>
                  <a:pt x="3547" y="8086"/>
                </a:cubicBezTo>
                <a:cubicBezTo>
                  <a:pt x="3547" y="8153"/>
                  <a:pt x="3536" y="8202"/>
                  <a:pt x="3497" y="8260"/>
                </a:cubicBezTo>
                <a:cubicBezTo>
                  <a:pt x="3468" y="8290"/>
                  <a:pt x="3457" y="8304"/>
                  <a:pt x="3448" y="8334"/>
                </a:cubicBezTo>
              </a:path>
              <a:path w="1340" h="1539">
                <a:moveTo>
                  <a:pt x="3770" y="8235"/>
                </a:moveTo>
                <a:cubicBezTo>
                  <a:pt x="3795" y="8210"/>
                  <a:pt x="3803" y="8202"/>
                  <a:pt x="3820" y="8186"/>
                </a:cubicBezTo>
                <a:cubicBezTo>
                  <a:pt x="3805" y="8257"/>
                  <a:pt x="3777" y="8335"/>
                  <a:pt x="3770" y="8409"/>
                </a:cubicBezTo>
                <a:cubicBezTo>
                  <a:pt x="3761" y="8504"/>
                  <a:pt x="3757" y="8590"/>
                  <a:pt x="3746" y="8682"/>
                </a:cubicBezTo>
                <a:cubicBezTo>
                  <a:pt x="3760" y="8607"/>
                  <a:pt x="3776" y="8534"/>
                  <a:pt x="3795" y="8458"/>
                </a:cubicBezTo>
                <a:cubicBezTo>
                  <a:pt x="3830" y="8320"/>
                  <a:pt x="3831" y="8218"/>
                  <a:pt x="3894" y="8086"/>
                </a:cubicBezTo>
                <a:cubicBezTo>
                  <a:pt x="3930" y="8010"/>
                  <a:pt x="3967" y="7973"/>
                  <a:pt x="4043" y="7962"/>
                </a:cubicBezTo>
                <a:cubicBezTo>
                  <a:pt x="4101" y="7981"/>
                  <a:pt x="4052" y="8020"/>
                  <a:pt x="4043" y="8062"/>
                </a:cubicBezTo>
                <a:cubicBezTo>
                  <a:pt x="4031" y="8121"/>
                  <a:pt x="4032" y="8145"/>
                  <a:pt x="3969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41320" y="2616120"/>
            <a:ext cx="1089360" cy="304920"/>
          </a:xfrm>
          <a:custGeom>
            <a:avLst/>
            <a:gdLst/>
            <a:ahLst/>
            <a:rect l="l" t="t" r="r" b="b"/>
            <a:pathLst>
              <a:path w="3027" h="844">
                <a:moveTo>
                  <a:pt x="5011" y="7491"/>
                </a:moveTo>
                <a:cubicBezTo>
                  <a:pt x="4992" y="7593"/>
                  <a:pt x="4944" y="7679"/>
                  <a:pt x="4911" y="7789"/>
                </a:cubicBezTo>
                <a:cubicBezTo>
                  <a:pt x="4889" y="7864"/>
                  <a:pt x="4862" y="7909"/>
                  <a:pt x="4862" y="7987"/>
                </a:cubicBezTo>
                <a:cubicBezTo>
                  <a:pt x="4836" y="7974"/>
                  <a:pt x="4894" y="7874"/>
                  <a:pt x="4911" y="7813"/>
                </a:cubicBezTo>
                <a:cubicBezTo>
                  <a:pt x="4948" y="7679"/>
                  <a:pt x="4994" y="7551"/>
                  <a:pt x="5035" y="7417"/>
                </a:cubicBezTo>
                <a:cubicBezTo>
                  <a:pt x="5054" y="7354"/>
                  <a:pt x="5070" y="7317"/>
                  <a:pt x="5110" y="7268"/>
                </a:cubicBezTo>
                <a:cubicBezTo>
                  <a:pt x="5123" y="7374"/>
                  <a:pt x="5141" y="7480"/>
                  <a:pt x="5159" y="7590"/>
                </a:cubicBezTo>
                <a:cubicBezTo>
                  <a:pt x="5184" y="7742"/>
                  <a:pt x="5208" y="7887"/>
                  <a:pt x="5234" y="8037"/>
                </a:cubicBezTo>
                <a:cubicBezTo>
                  <a:pt x="5234" y="8053"/>
                  <a:pt x="5234" y="8070"/>
                  <a:pt x="5234" y="8086"/>
                </a:cubicBezTo>
              </a:path>
              <a:path w="3027" h="844">
                <a:moveTo>
                  <a:pt x="4961" y="7764"/>
                </a:moveTo>
                <a:cubicBezTo>
                  <a:pt x="4971" y="7795"/>
                  <a:pt x="5015" y="7802"/>
                  <a:pt x="5060" y="7789"/>
                </a:cubicBezTo>
                <a:cubicBezTo>
                  <a:pt x="5146" y="7764"/>
                  <a:pt x="5242" y="7731"/>
                  <a:pt x="5333" y="7714"/>
                </a:cubicBezTo>
                <a:cubicBezTo>
                  <a:pt x="5403" y="7701"/>
                  <a:pt x="5450" y="7735"/>
                  <a:pt x="5432" y="7813"/>
                </a:cubicBezTo>
                <a:cubicBezTo>
                  <a:pt x="5417" y="7879"/>
                  <a:pt x="5336" y="7966"/>
                  <a:pt x="5358" y="8037"/>
                </a:cubicBezTo>
                <a:cubicBezTo>
                  <a:pt x="5376" y="8096"/>
                  <a:pt x="5457" y="8050"/>
                  <a:pt x="5482" y="8037"/>
                </a:cubicBezTo>
                <a:cubicBezTo>
                  <a:pt x="5551" y="7999"/>
                  <a:pt x="5599" y="7944"/>
                  <a:pt x="5655" y="7888"/>
                </a:cubicBezTo>
                <a:cubicBezTo>
                  <a:pt x="5663" y="7880"/>
                  <a:pt x="5672" y="7871"/>
                  <a:pt x="5680" y="7863"/>
                </a:cubicBezTo>
                <a:cubicBezTo>
                  <a:pt x="5680" y="7919"/>
                  <a:pt x="5670" y="7968"/>
                  <a:pt x="5705" y="8012"/>
                </a:cubicBezTo>
                <a:cubicBezTo>
                  <a:pt x="5742" y="8058"/>
                  <a:pt x="5777" y="8055"/>
                  <a:pt x="5829" y="8062"/>
                </a:cubicBezTo>
              </a:path>
              <a:path w="3027" h="844">
                <a:moveTo>
                  <a:pt x="6201" y="7565"/>
                </a:moveTo>
                <a:cubicBezTo>
                  <a:pt x="6193" y="7525"/>
                  <a:pt x="6207" y="7592"/>
                  <a:pt x="6176" y="7565"/>
                </a:cubicBezTo>
                <a:cubicBezTo>
                  <a:pt x="6141" y="7534"/>
                  <a:pt x="6143" y="7543"/>
                  <a:pt x="6102" y="7565"/>
                </a:cubicBezTo>
                <a:cubicBezTo>
                  <a:pt x="6019" y="7609"/>
                  <a:pt x="5965" y="7727"/>
                  <a:pt x="5953" y="7813"/>
                </a:cubicBezTo>
                <a:cubicBezTo>
                  <a:pt x="5937" y="7925"/>
                  <a:pt x="5976" y="8065"/>
                  <a:pt x="6102" y="8086"/>
                </a:cubicBezTo>
                <a:cubicBezTo>
                  <a:pt x="6251" y="8111"/>
                  <a:pt x="6411" y="8053"/>
                  <a:pt x="6524" y="7962"/>
                </a:cubicBezTo>
                <a:cubicBezTo>
                  <a:pt x="6606" y="7896"/>
                  <a:pt x="6702" y="7771"/>
                  <a:pt x="6722" y="7665"/>
                </a:cubicBezTo>
                <a:cubicBezTo>
                  <a:pt x="6739" y="7572"/>
                  <a:pt x="6706" y="7542"/>
                  <a:pt x="6648" y="7491"/>
                </a:cubicBezTo>
                <a:cubicBezTo>
                  <a:pt x="6547" y="7541"/>
                  <a:pt x="6553" y="7531"/>
                  <a:pt x="6548" y="7665"/>
                </a:cubicBezTo>
                <a:cubicBezTo>
                  <a:pt x="6543" y="7800"/>
                  <a:pt x="6641" y="7956"/>
                  <a:pt x="6747" y="8037"/>
                </a:cubicBezTo>
                <a:cubicBezTo>
                  <a:pt x="6839" y="8107"/>
                  <a:pt x="6938" y="8104"/>
                  <a:pt x="7045" y="8111"/>
                </a:cubicBezTo>
              </a:path>
              <a:path w="3027" h="844">
                <a:moveTo>
                  <a:pt x="7392" y="7714"/>
                </a:moveTo>
                <a:cubicBezTo>
                  <a:pt x="7384" y="7722"/>
                  <a:pt x="7375" y="7731"/>
                  <a:pt x="7367" y="7739"/>
                </a:cubicBezTo>
                <a:cubicBezTo>
                  <a:pt x="7499" y="7739"/>
                  <a:pt x="7632" y="7739"/>
                  <a:pt x="7764" y="7739"/>
                </a:cubicBezTo>
              </a:path>
              <a:path w="3027" h="844">
                <a:moveTo>
                  <a:pt x="7541" y="7962"/>
                </a:moveTo>
                <a:cubicBezTo>
                  <a:pt x="7541" y="7979"/>
                  <a:pt x="7541" y="7995"/>
                  <a:pt x="7541" y="8012"/>
                </a:cubicBezTo>
                <a:cubicBezTo>
                  <a:pt x="7622" y="8002"/>
                  <a:pt x="7682" y="7948"/>
                  <a:pt x="7764" y="7938"/>
                </a:cubicBezTo>
                <a:cubicBezTo>
                  <a:pt x="7797" y="7938"/>
                  <a:pt x="7830" y="7938"/>
                  <a:pt x="7863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81240" y="2705040"/>
            <a:ext cx="500040" cy="169920"/>
          </a:xfrm>
          <a:custGeom>
            <a:avLst/>
            <a:gdLst/>
            <a:ahLst/>
            <a:rect l="l" t="t" r="r" b="b"/>
            <a:pathLst>
              <a:path w="1390" h="472">
                <a:moveTo>
                  <a:pt x="8706" y="7516"/>
                </a:moveTo>
                <a:cubicBezTo>
                  <a:pt x="8778" y="7516"/>
                  <a:pt x="8762" y="7536"/>
                  <a:pt x="8806" y="7590"/>
                </a:cubicBezTo>
                <a:cubicBezTo>
                  <a:pt x="8866" y="7663"/>
                  <a:pt x="8916" y="7714"/>
                  <a:pt x="8855" y="7813"/>
                </a:cubicBezTo>
                <a:cubicBezTo>
                  <a:pt x="8821" y="7869"/>
                  <a:pt x="8721" y="7969"/>
                  <a:pt x="8657" y="7987"/>
                </a:cubicBezTo>
                <a:cubicBezTo>
                  <a:pt x="8619" y="7998"/>
                  <a:pt x="8545" y="7962"/>
                  <a:pt x="8558" y="7913"/>
                </a:cubicBezTo>
                <a:cubicBezTo>
                  <a:pt x="8580" y="7835"/>
                  <a:pt x="8614" y="7838"/>
                  <a:pt x="8682" y="7838"/>
                </a:cubicBezTo>
                <a:cubicBezTo>
                  <a:pt x="8752" y="7838"/>
                  <a:pt x="8831" y="7911"/>
                  <a:pt x="8905" y="7938"/>
                </a:cubicBezTo>
              </a:path>
              <a:path w="1390" h="472">
                <a:moveTo>
                  <a:pt x="9376" y="7838"/>
                </a:moveTo>
                <a:cubicBezTo>
                  <a:pt x="9333" y="7860"/>
                  <a:pt x="9321" y="7873"/>
                  <a:pt x="9302" y="7838"/>
                </a:cubicBezTo>
              </a:path>
              <a:path w="1390" h="472">
                <a:moveTo>
                  <a:pt x="9674" y="7665"/>
                </a:moveTo>
                <a:cubicBezTo>
                  <a:pt x="9621" y="7706"/>
                  <a:pt x="9541" y="7738"/>
                  <a:pt x="9525" y="7813"/>
                </a:cubicBezTo>
                <a:cubicBezTo>
                  <a:pt x="9506" y="7902"/>
                  <a:pt x="9562" y="7972"/>
                  <a:pt x="9649" y="7987"/>
                </a:cubicBezTo>
                <a:cubicBezTo>
                  <a:pt x="9746" y="8004"/>
                  <a:pt x="9857" y="7992"/>
                  <a:pt x="9922" y="7913"/>
                </a:cubicBezTo>
                <a:cubicBezTo>
                  <a:pt x="9972" y="7853"/>
                  <a:pt x="9960" y="7703"/>
                  <a:pt x="9922" y="7640"/>
                </a:cubicBezTo>
                <a:cubicBezTo>
                  <a:pt x="9884" y="7576"/>
                  <a:pt x="9746" y="7526"/>
                  <a:pt x="9674" y="7541"/>
                </a:cubicBezTo>
                <a:cubicBezTo>
                  <a:pt x="9624" y="7565"/>
                  <a:pt x="9607" y="7573"/>
                  <a:pt x="9599" y="76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3760" y="2678040"/>
            <a:ext cx="1009440" cy="243000"/>
          </a:xfrm>
          <a:custGeom>
            <a:avLst/>
            <a:gdLst/>
            <a:ahLst/>
            <a:rect l="l" t="t" r="r" b="b"/>
            <a:pathLst>
              <a:path w="2804" h="671">
                <a:moveTo>
                  <a:pt x="10840" y="7714"/>
                </a:moveTo>
                <a:cubicBezTo>
                  <a:pt x="10862" y="7726"/>
                  <a:pt x="10822" y="7774"/>
                  <a:pt x="10790" y="7813"/>
                </a:cubicBezTo>
                <a:cubicBezTo>
                  <a:pt x="10733" y="7882"/>
                  <a:pt x="10691" y="7940"/>
                  <a:pt x="10641" y="8012"/>
                </a:cubicBezTo>
                <a:cubicBezTo>
                  <a:pt x="10633" y="8020"/>
                  <a:pt x="10624" y="8029"/>
                  <a:pt x="10616" y="8037"/>
                </a:cubicBezTo>
              </a:path>
              <a:path w="2804" h="671">
                <a:moveTo>
                  <a:pt x="10641" y="7689"/>
                </a:moveTo>
                <a:cubicBezTo>
                  <a:pt x="10600" y="7689"/>
                  <a:pt x="10592" y="7689"/>
                  <a:pt x="10567" y="7689"/>
                </a:cubicBezTo>
                <a:cubicBezTo>
                  <a:pt x="10578" y="7767"/>
                  <a:pt x="10625" y="7833"/>
                  <a:pt x="10691" y="7888"/>
                </a:cubicBezTo>
                <a:cubicBezTo>
                  <a:pt x="10786" y="7967"/>
                  <a:pt x="10868" y="8002"/>
                  <a:pt x="10988" y="8012"/>
                </a:cubicBezTo>
              </a:path>
              <a:path w="2804" h="671">
                <a:moveTo>
                  <a:pt x="11336" y="7665"/>
                </a:moveTo>
                <a:cubicBezTo>
                  <a:pt x="11290" y="7676"/>
                  <a:pt x="11270" y="7711"/>
                  <a:pt x="11261" y="7764"/>
                </a:cubicBezTo>
                <a:cubicBezTo>
                  <a:pt x="11253" y="7810"/>
                  <a:pt x="11261" y="7867"/>
                  <a:pt x="11261" y="7913"/>
                </a:cubicBezTo>
              </a:path>
              <a:path w="2804" h="671">
                <a:moveTo>
                  <a:pt x="11757" y="7789"/>
                </a:moveTo>
                <a:cubicBezTo>
                  <a:pt x="11707" y="7801"/>
                  <a:pt x="11650" y="7831"/>
                  <a:pt x="11633" y="7888"/>
                </a:cubicBezTo>
                <a:cubicBezTo>
                  <a:pt x="11609" y="7969"/>
                  <a:pt x="11644" y="8024"/>
                  <a:pt x="11708" y="8062"/>
                </a:cubicBezTo>
                <a:cubicBezTo>
                  <a:pt x="11783" y="8106"/>
                  <a:pt x="11853" y="8085"/>
                  <a:pt x="11906" y="8012"/>
                </a:cubicBezTo>
                <a:cubicBezTo>
                  <a:pt x="11940" y="7965"/>
                  <a:pt x="11951" y="7858"/>
                  <a:pt x="11906" y="7813"/>
                </a:cubicBezTo>
                <a:cubicBezTo>
                  <a:pt x="11867" y="7774"/>
                  <a:pt x="11837" y="7739"/>
                  <a:pt x="11782" y="7739"/>
                </a:cubicBezTo>
                <a:cubicBezTo>
                  <a:pt x="11774" y="7739"/>
                  <a:pt x="11765" y="7739"/>
                  <a:pt x="11757" y="7739"/>
                </a:cubicBezTo>
              </a:path>
              <a:path w="2804" h="671">
                <a:moveTo>
                  <a:pt x="11261" y="7689"/>
                </a:moveTo>
                <a:cubicBezTo>
                  <a:pt x="11219" y="7711"/>
                  <a:pt x="11194" y="7782"/>
                  <a:pt x="11187" y="7838"/>
                </a:cubicBezTo>
                <a:cubicBezTo>
                  <a:pt x="11175" y="7929"/>
                  <a:pt x="11193" y="8004"/>
                  <a:pt x="11212" y="8086"/>
                </a:cubicBezTo>
                <a:cubicBezTo>
                  <a:pt x="11212" y="8094"/>
                  <a:pt x="11212" y="8103"/>
                  <a:pt x="11212" y="8111"/>
                </a:cubicBezTo>
              </a:path>
              <a:path w="2804" h="671">
                <a:moveTo>
                  <a:pt x="12278" y="7640"/>
                </a:moveTo>
                <a:cubicBezTo>
                  <a:pt x="12214" y="7640"/>
                  <a:pt x="12317" y="7640"/>
                  <a:pt x="12328" y="7640"/>
                </a:cubicBezTo>
                <a:cubicBezTo>
                  <a:pt x="12410" y="7640"/>
                  <a:pt x="12475" y="7644"/>
                  <a:pt x="12551" y="7615"/>
                </a:cubicBezTo>
              </a:path>
              <a:path w="2804" h="671">
                <a:moveTo>
                  <a:pt x="12824" y="7491"/>
                </a:moveTo>
                <a:cubicBezTo>
                  <a:pt x="12824" y="7549"/>
                  <a:pt x="12803" y="7674"/>
                  <a:pt x="12849" y="7689"/>
                </a:cubicBezTo>
              </a:path>
              <a:path w="2804" h="671">
                <a:moveTo>
                  <a:pt x="13072" y="7466"/>
                </a:moveTo>
                <a:cubicBezTo>
                  <a:pt x="13133" y="7440"/>
                  <a:pt x="13155" y="7441"/>
                  <a:pt x="13221" y="7441"/>
                </a:cubicBezTo>
                <a:cubicBezTo>
                  <a:pt x="13270" y="7441"/>
                  <a:pt x="13290" y="7495"/>
                  <a:pt x="13271" y="7541"/>
                </a:cubicBezTo>
                <a:cubicBezTo>
                  <a:pt x="13256" y="7575"/>
                  <a:pt x="13176" y="7628"/>
                  <a:pt x="13146" y="7640"/>
                </a:cubicBezTo>
                <a:cubicBezTo>
                  <a:pt x="13122" y="7640"/>
                  <a:pt x="13114" y="7640"/>
                  <a:pt x="13122" y="7665"/>
                </a:cubicBezTo>
                <a:cubicBezTo>
                  <a:pt x="13186" y="7665"/>
                  <a:pt x="13236" y="7677"/>
                  <a:pt x="13295" y="7689"/>
                </a:cubicBezTo>
                <a:cubicBezTo>
                  <a:pt x="13341" y="7699"/>
                  <a:pt x="13351" y="7702"/>
                  <a:pt x="13370" y="7739"/>
                </a:cubicBezTo>
                <a:cubicBezTo>
                  <a:pt x="13310" y="7787"/>
                  <a:pt x="13260" y="7813"/>
                  <a:pt x="13196" y="7838"/>
                </a:cubicBezTo>
                <a:cubicBezTo>
                  <a:pt x="13156" y="7858"/>
                  <a:pt x="13149" y="7867"/>
                  <a:pt x="13122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27760" y="2660760"/>
            <a:ext cx="3983040" cy="447480"/>
          </a:xfrm>
          <a:custGeom>
            <a:avLst/>
            <a:gdLst/>
            <a:ahLst/>
            <a:rect l="l" t="t" r="r" b="b"/>
            <a:pathLst>
              <a:path w="11064" h="1241">
                <a:moveTo>
                  <a:pt x="15850" y="7962"/>
                </a:moveTo>
                <a:cubicBezTo>
                  <a:pt x="15875" y="7962"/>
                  <a:pt x="15883" y="7962"/>
                  <a:pt x="15875" y="7938"/>
                </a:cubicBezTo>
                <a:cubicBezTo>
                  <a:pt x="15858" y="7942"/>
                  <a:pt x="15786" y="7981"/>
                  <a:pt x="15825" y="8012"/>
                </a:cubicBezTo>
                <a:cubicBezTo>
                  <a:pt x="15848" y="8030"/>
                  <a:pt x="15936" y="8002"/>
                  <a:pt x="15949" y="7987"/>
                </a:cubicBezTo>
                <a:cubicBezTo>
                  <a:pt x="15949" y="7962"/>
                  <a:pt x="15949" y="7954"/>
                  <a:pt x="15925" y="7962"/>
                </a:cubicBezTo>
              </a:path>
              <a:path w="11064" h="1241">
                <a:moveTo>
                  <a:pt x="16371" y="7764"/>
                </a:moveTo>
                <a:cubicBezTo>
                  <a:pt x="16326" y="7786"/>
                  <a:pt x="16245" y="7812"/>
                  <a:pt x="16222" y="7863"/>
                </a:cubicBezTo>
                <a:cubicBezTo>
                  <a:pt x="16197" y="7919"/>
                  <a:pt x="16261" y="7943"/>
                  <a:pt x="16297" y="7962"/>
                </a:cubicBezTo>
                <a:cubicBezTo>
                  <a:pt x="16344" y="7987"/>
                  <a:pt x="16442" y="8008"/>
                  <a:pt x="16495" y="7987"/>
                </a:cubicBezTo>
                <a:cubicBezTo>
                  <a:pt x="16536" y="7971"/>
                  <a:pt x="16520" y="7894"/>
                  <a:pt x="16520" y="7863"/>
                </a:cubicBezTo>
                <a:cubicBezTo>
                  <a:pt x="16520" y="7796"/>
                  <a:pt x="16515" y="7785"/>
                  <a:pt x="16470" y="7739"/>
                </a:cubicBezTo>
                <a:cubicBezTo>
                  <a:pt x="16448" y="7716"/>
                  <a:pt x="16443" y="7708"/>
                  <a:pt x="16421" y="7714"/>
                </a:cubicBezTo>
              </a:path>
              <a:path w="11064" h="1241">
                <a:moveTo>
                  <a:pt x="16793" y="7615"/>
                </a:moveTo>
                <a:cubicBezTo>
                  <a:pt x="16840" y="7635"/>
                  <a:pt x="16881" y="7634"/>
                  <a:pt x="16917" y="7665"/>
                </a:cubicBezTo>
                <a:cubicBezTo>
                  <a:pt x="16944" y="7688"/>
                  <a:pt x="16957" y="7753"/>
                  <a:pt x="16942" y="7789"/>
                </a:cubicBezTo>
                <a:cubicBezTo>
                  <a:pt x="16923" y="7834"/>
                  <a:pt x="16858" y="7855"/>
                  <a:pt x="16818" y="7863"/>
                </a:cubicBezTo>
                <a:cubicBezTo>
                  <a:pt x="16879" y="7863"/>
                  <a:pt x="16945" y="7847"/>
                  <a:pt x="16991" y="7888"/>
                </a:cubicBezTo>
                <a:cubicBezTo>
                  <a:pt x="17030" y="7923"/>
                  <a:pt x="17023" y="7952"/>
                  <a:pt x="16991" y="7987"/>
                </a:cubicBezTo>
                <a:cubicBezTo>
                  <a:pt x="16954" y="8029"/>
                  <a:pt x="16910" y="8052"/>
                  <a:pt x="16867" y="8086"/>
                </a:cubicBezTo>
              </a:path>
              <a:path w="11064" h="1241">
                <a:moveTo>
                  <a:pt x="17239" y="7640"/>
                </a:moveTo>
                <a:cubicBezTo>
                  <a:pt x="17289" y="7640"/>
                  <a:pt x="17338" y="7640"/>
                  <a:pt x="17388" y="7640"/>
                </a:cubicBezTo>
                <a:cubicBezTo>
                  <a:pt x="17388" y="7681"/>
                  <a:pt x="17398" y="7732"/>
                  <a:pt x="17363" y="7764"/>
                </a:cubicBezTo>
                <a:cubicBezTo>
                  <a:pt x="17318" y="7806"/>
                  <a:pt x="17265" y="7811"/>
                  <a:pt x="17239" y="7863"/>
                </a:cubicBezTo>
                <a:cubicBezTo>
                  <a:pt x="17319" y="7863"/>
                  <a:pt x="17424" y="7841"/>
                  <a:pt x="17487" y="7888"/>
                </a:cubicBezTo>
                <a:cubicBezTo>
                  <a:pt x="17472" y="7949"/>
                  <a:pt x="17437" y="7950"/>
                  <a:pt x="17388" y="7987"/>
                </a:cubicBezTo>
                <a:cubicBezTo>
                  <a:pt x="17354" y="8012"/>
                  <a:pt x="17322" y="8036"/>
                  <a:pt x="17289" y="8062"/>
                </a:cubicBezTo>
              </a:path>
              <a:path w="11064" h="1241">
                <a:moveTo>
                  <a:pt x="17611" y="7714"/>
                </a:moveTo>
                <a:cubicBezTo>
                  <a:pt x="17558" y="7714"/>
                  <a:pt x="17642" y="7691"/>
                  <a:pt x="17661" y="7689"/>
                </a:cubicBezTo>
                <a:cubicBezTo>
                  <a:pt x="17701" y="7685"/>
                  <a:pt x="17742" y="7698"/>
                  <a:pt x="17760" y="7739"/>
                </a:cubicBezTo>
                <a:cubicBezTo>
                  <a:pt x="17786" y="7798"/>
                  <a:pt x="17719" y="7813"/>
                  <a:pt x="17686" y="7838"/>
                </a:cubicBezTo>
                <a:cubicBezTo>
                  <a:pt x="17667" y="7852"/>
                  <a:pt x="17613" y="7910"/>
                  <a:pt x="17611" y="7913"/>
                </a:cubicBezTo>
                <a:cubicBezTo>
                  <a:pt x="17611" y="7921"/>
                  <a:pt x="17611" y="7930"/>
                  <a:pt x="17611" y="7938"/>
                </a:cubicBezTo>
                <a:cubicBezTo>
                  <a:pt x="17661" y="7908"/>
                  <a:pt x="17698" y="7913"/>
                  <a:pt x="17760" y="7913"/>
                </a:cubicBezTo>
                <a:cubicBezTo>
                  <a:pt x="17768" y="7913"/>
                  <a:pt x="17777" y="7913"/>
                  <a:pt x="17785" y="7913"/>
                </a:cubicBezTo>
                <a:cubicBezTo>
                  <a:pt x="17772" y="7964"/>
                  <a:pt x="17725" y="7997"/>
                  <a:pt x="17686" y="8037"/>
                </a:cubicBezTo>
                <a:cubicBezTo>
                  <a:pt x="17646" y="8077"/>
                  <a:pt x="17613" y="8123"/>
                  <a:pt x="17562" y="8136"/>
                </a:cubicBezTo>
              </a:path>
              <a:path w="11064" h="1241">
                <a:moveTo>
                  <a:pt x="18008" y="7863"/>
                </a:moveTo>
                <a:cubicBezTo>
                  <a:pt x="18041" y="7880"/>
                  <a:pt x="18006" y="7898"/>
                  <a:pt x="17983" y="7938"/>
                </a:cubicBezTo>
                <a:cubicBezTo>
                  <a:pt x="17964" y="7972"/>
                  <a:pt x="17938" y="8027"/>
                  <a:pt x="17934" y="8062"/>
                </a:cubicBezTo>
                <a:cubicBezTo>
                  <a:pt x="17934" y="8070"/>
                  <a:pt x="17934" y="8078"/>
                  <a:pt x="17934" y="8086"/>
                </a:cubicBezTo>
                <a:cubicBezTo>
                  <a:pt x="17967" y="8053"/>
                  <a:pt x="18000" y="8020"/>
                  <a:pt x="18033" y="7987"/>
                </a:cubicBezTo>
                <a:cubicBezTo>
                  <a:pt x="18039" y="7981"/>
                  <a:pt x="18125" y="7874"/>
                  <a:pt x="18157" y="7913"/>
                </a:cubicBezTo>
                <a:cubicBezTo>
                  <a:pt x="18164" y="7922"/>
                  <a:pt x="18157" y="7975"/>
                  <a:pt x="18157" y="7987"/>
                </a:cubicBezTo>
                <a:cubicBezTo>
                  <a:pt x="18200" y="7954"/>
                  <a:pt x="18215" y="7923"/>
                  <a:pt x="18256" y="7888"/>
                </a:cubicBezTo>
                <a:cubicBezTo>
                  <a:pt x="18286" y="7862"/>
                  <a:pt x="18345" y="7822"/>
                  <a:pt x="18380" y="7813"/>
                </a:cubicBezTo>
                <a:cubicBezTo>
                  <a:pt x="18380" y="7929"/>
                  <a:pt x="18380" y="8045"/>
                  <a:pt x="18380" y="8161"/>
                </a:cubicBezTo>
              </a:path>
              <a:path w="11064" h="1241">
                <a:moveTo>
                  <a:pt x="18653" y="7491"/>
                </a:moveTo>
                <a:cubicBezTo>
                  <a:pt x="18653" y="7570"/>
                  <a:pt x="18696" y="7543"/>
                  <a:pt x="18728" y="7615"/>
                </a:cubicBezTo>
                <a:cubicBezTo>
                  <a:pt x="18780" y="7734"/>
                  <a:pt x="18799" y="7889"/>
                  <a:pt x="18752" y="8012"/>
                </a:cubicBezTo>
                <a:cubicBezTo>
                  <a:pt x="18706" y="8134"/>
                  <a:pt x="18605" y="8252"/>
                  <a:pt x="18504" y="8334"/>
                </a:cubicBezTo>
                <a:cubicBezTo>
                  <a:pt x="18479" y="8351"/>
                  <a:pt x="18455" y="8367"/>
                  <a:pt x="18430" y="8384"/>
                </a:cubicBezTo>
              </a:path>
              <a:path w="11064" h="1241">
                <a:moveTo>
                  <a:pt x="15925" y="7392"/>
                </a:moveTo>
                <a:cubicBezTo>
                  <a:pt x="15810" y="7487"/>
                  <a:pt x="15745" y="7540"/>
                  <a:pt x="15652" y="7665"/>
                </a:cubicBezTo>
                <a:cubicBezTo>
                  <a:pt x="15553" y="7798"/>
                  <a:pt x="15473" y="7915"/>
                  <a:pt x="15528" y="8086"/>
                </a:cubicBezTo>
                <a:cubicBezTo>
                  <a:pt x="15569" y="8215"/>
                  <a:pt x="15645" y="8246"/>
                  <a:pt x="15751" y="8310"/>
                </a:cubicBezTo>
              </a:path>
              <a:path w="11064" h="1241">
                <a:moveTo>
                  <a:pt x="19397" y="7640"/>
                </a:moveTo>
                <a:cubicBezTo>
                  <a:pt x="19284" y="7597"/>
                  <a:pt x="19263" y="7628"/>
                  <a:pt x="19174" y="7714"/>
                </a:cubicBezTo>
                <a:cubicBezTo>
                  <a:pt x="19061" y="7824"/>
                  <a:pt x="18971" y="7963"/>
                  <a:pt x="18926" y="8111"/>
                </a:cubicBezTo>
                <a:cubicBezTo>
                  <a:pt x="18900" y="8194"/>
                  <a:pt x="18899" y="8336"/>
                  <a:pt x="19000" y="8384"/>
                </a:cubicBezTo>
                <a:cubicBezTo>
                  <a:pt x="19017" y="8384"/>
                  <a:pt x="19033" y="8384"/>
                  <a:pt x="19050" y="8384"/>
                </a:cubicBezTo>
              </a:path>
              <a:path w="11064" h="1241">
                <a:moveTo>
                  <a:pt x="19521" y="7888"/>
                </a:moveTo>
                <a:cubicBezTo>
                  <a:pt x="19507" y="7847"/>
                  <a:pt x="19481" y="7856"/>
                  <a:pt x="19447" y="7888"/>
                </a:cubicBezTo>
                <a:cubicBezTo>
                  <a:pt x="19369" y="7961"/>
                  <a:pt x="19318" y="8027"/>
                  <a:pt x="19298" y="8136"/>
                </a:cubicBezTo>
                <a:cubicBezTo>
                  <a:pt x="19287" y="8199"/>
                  <a:pt x="19302" y="8287"/>
                  <a:pt x="19372" y="8310"/>
                </a:cubicBezTo>
                <a:cubicBezTo>
                  <a:pt x="19421" y="8326"/>
                  <a:pt x="19498" y="8312"/>
                  <a:pt x="19521" y="8260"/>
                </a:cubicBezTo>
                <a:cubicBezTo>
                  <a:pt x="19540" y="8217"/>
                  <a:pt x="19498" y="8187"/>
                  <a:pt x="19472" y="8161"/>
                </a:cubicBezTo>
                <a:cubicBezTo>
                  <a:pt x="19436" y="8125"/>
                  <a:pt x="19395" y="8135"/>
                  <a:pt x="19372" y="8186"/>
                </a:cubicBezTo>
                <a:cubicBezTo>
                  <a:pt x="19372" y="8210"/>
                  <a:pt x="19372" y="8219"/>
                  <a:pt x="19372" y="8235"/>
                </a:cubicBezTo>
              </a:path>
              <a:path w="11064" h="1241">
                <a:moveTo>
                  <a:pt x="19794" y="8235"/>
                </a:moveTo>
                <a:cubicBezTo>
                  <a:pt x="19750" y="8235"/>
                  <a:pt x="19793" y="8229"/>
                  <a:pt x="19819" y="8210"/>
                </a:cubicBezTo>
              </a:path>
              <a:path w="11064" h="1241">
                <a:moveTo>
                  <a:pt x="20067" y="7888"/>
                </a:moveTo>
                <a:cubicBezTo>
                  <a:pt x="20100" y="7868"/>
                  <a:pt x="20170" y="7844"/>
                  <a:pt x="20216" y="7863"/>
                </a:cubicBezTo>
                <a:cubicBezTo>
                  <a:pt x="20248" y="7876"/>
                  <a:pt x="20287" y="7932"/>
                  <a:pt x="20290" y="7962"/>
                </a:cubicBezTo>
                <a:cubicBezTo>
                  <a:pt x="20297" y="8028"/>
                  <a:pt x="20221" y="8083"/>
                  <a:pt x="20191" y="8136"/>
                </a:cubicBezTo>
                <a:cubicBezTo>
                  <a:pt x="20162" y="8189"/>
                  <a:pt x="20113" y="8257"/>
                  <a:pt x="20092" y="8310"/>
                </a:cubicBezTo>
                <a:cubicBezTo>
                  <a:pt x="20092" y="8318"/>
                  <a:pt x="20092" y="8326"/>
                  <a:pt x="20092" y="8334"/>
                </a:cubicBezTo>
              </a:path>
              <a:path w="11064" h="1241">
                <a:moveTo>
                  <a:pt x="20563" y="7987"/>
                </a:moveTo>
                <a:cubicBezTo>
                  <a:pt x="20522" y="8028"/>
                  <a:pt x="20492" y="8059"/>
                  <a:pt x="20464" y="8111"/>
                </a:cubicBezTo>
                <a:cubicBezTo>
                  <a:pt x="20434" y="8167"/>
                  <a:pt x="20423" y="8209"/>
                  <a:pt x="20464" y="8260"/>
                </a:cubicBezTo>
                <a:cubicBezTo>
                  <a:pt x="20487" y="8289"/>
                  <a:pt x="20576" y="8300"/>
                  <a:pt x="20613" y="8285"/>
                </a:cubicBezTo>
                <a:cubicBezTo>
                  <a:pt x="20621" y="8277"/>
                  <a:pt x="20630" y="8268"/>
                  <a:pt x="20638" y="8260"/>
                </a:cubicBezTo>
              </a:path>
              <a:path w="11064" h="1241">
                <a:moveTo>
                  <a:pt x="20464" y="8161"/>
                </a:moveTo>
                <a:cubicBezTo>
                  <a:pt x="20447" y="8161"/>
                  <a:pt x="20431" y="8161"/>
                  <a:pt x="20414" y="8161"/>
                </a:cubicBezTo>
                <a:cubicBezTo>
                  <a:pt x="20473" y="8136"/>
                  <a:pt x="20523" y="8115"/>
                  <a:pt x="20588" y="8111"/>
                </a:cubicBezTo>
                <a:cubicBezTo>
                  <a:pt x="20633" y="8111"/>
                  <a:pt x="20646" y="8115"/>
                  <a:pt x="20662" y="8086"/>
                </a:cubicBezTo>
              </a:path>
              <a:path w="11064" h="1241">
                <a:moveTo>
                  <a:pt x="20538" y="7789"/>
                </a:moveTo>
                <a:cubicBezTo>
                  <a:pt x="20637" y="7789"/>
                  <a:pt x="20737" y="7789"/>
                  <a:pt x="20836" y="7789"/>
                </a:cubicBezTo>
              </a:path>
              <a:path w="11064" h="1241">
                <a:moveTo>
                  <a:pt x="20811" y="8086"/>
                </a:moveTo>
                <a:cubicBezTo>
                  <a:pt x="20869" y="8086"/>
                  <a:pt x="20927" y="8086"/>
                  <a:pt x="20985" y="8086"/>
                </a:cubicBezTo>
              </a:path>
              <a:path w="11064" h="1241">
                <a:moveTo>
                  <a:pt x="21307" y="7888"/>
                </a:moveTo>
                <a:cubicBezTo>
                  <a:pt x="21281" y="7895"/>
                  <a:pt x="21223" y="7909"/>
                  <a:pt x="21208" y="7938"/>
                </a:cubicBezTo>
                <a:cubicBezTo>
                  <a:pt x="21193" y="7967"/>
                  <a:pt x="21200" y="8046"/>
                  <a:pt x="21233" y="8062"/>
                </a:cubicBezTo>
                <a:cubicBezTo>
                  <a:pt x="21275" y="8083"/>
                  <a:pt x="21305" y="8086"/>
                  <a:pt x="21357" y="8086"/>
                </a:cubicBezTo>
                <a:cubicBezTo>
                  <a:pt x="21382" y="8086"/>
                  <a:pt x="21390" y="8086"/>
                  <a:pt x="21406" y="8086"/>
                </a:cubicBezTo>
              </a:path>
              <a:path w="11064" h="1241">
                <a:moveTo>
                  <a:pt x="21580" y="7938"/>
                </a:moveTo>
                <a:cubicBezTo>
                  <a:pt x="21525" y="7946"/>
                  <a:pt x="21490" y="7960"/>
                  <a:pt x="21456" y="8012"/>
                </a:cubicBezTo>
                <a:cubicBezTo>
                  <a:pt x="21413" y="8079"/>
                  <a:pt x="21406" y="8105"/>
                  <a:pt x="21406" y="8186"/>
                </a:cubicBezTo>
                <a:cubicBezTo>
                  <a:pt x="21406" y="8219"/>
                  <a:pt x="21406" y="8252"/>
                  <a:pt x="21406" y="8285"/>
                </a:cubicBezTo>
              </a:path>
              <a:path w="11064" h="1241">
                <a:moveTo>
                  <a:pt x="21580" y="7491"/>
                </a:moveTo>
                <a:cubicBezTo>
                  <a:pt x="21543" y="7565"/>
                  <a:pt x="21658" y="7619"/>
                  <a:pt x="21704" y="7689"/>
                </a:cubicBezTo>
                <a:cubicBezTo>
                  <a:pt x="21773" y="7795"/>
                  <a:pt x="21844" y="7913"/>
                  <a:pt x="21853" y="8037"/>
                </a:cubicBezTo>
                <a:cubicBezTo>
                  <a:pt x="21862" y="8162"/>
                  <a:pt x="21798" y="8234"/>
                  <a:pt x="21704" y="8310"/>
                </a:cubicBezTo>
                <a:cubicBezTo>
                  <a:pt x="21630" y="8359"/>
                  <a:pt x="21605" y="8376"/>
                  <a:pt x="21555" y="8409"/>
                </a:cubicBezTo>
              </a:path>
              <a:path w="11064" h="1241">
                <a:moveTo>
                  <a:pt x="22175" y="8037"/>
                </a:moveTo>
                <a:cubicBezTo>
                  <a:pt x="22219" y="8063"/>
                  <a:pt x="22246" y="8062"/>
                  <a:pt x="22299" y="8062"/>
                </a:cubicBezTo>
                <a:cubicBezTo>
                  <a:pt x="22341" y="8062"/>
                  <a:pt x="22349" y="8062"/>
                  <a:pt x="22374" y="8062"/>
                </a:cubicBezTo>
              </a:path>
              <a:path w="11064" h="1241">
                <a:moveTo>
                  <a:pt x="22101" y="8210"/>
                </a:moveTo>
                <a:cubicBezTo>
                  <a:pt x="22093" y="8235"/>
                  <a:pt x="22084" y="8260"/>
                  <a:pt x="22076" y="8285"/>
                </a:cubicBezTo>
                <a:cubicBezTo>
                  <a:pt x="22175" y="8285"/>
                  <a:pt x="22275" y="8285"/>
                  <a:pt x="22374" y="8285"/>
                </a:cubicBezTo>
              </a:path>
              <a:path w="11064" h="1241">
                <a:moveTo>
                  <a:pt x="22944" y="7962"/>
                </a:moveTo>
                <a:cubicBezTo>
                  <a:pt x="22955" y="7929"/>
                  <a:pt x="23024" y="7922"/>
                  <a:pt x="23068" y="7938"/>
                </a:cubicBezTo>
                <a:cubicBezTo>
                  <a:pt x="23148" y="7968"/>
                  <a:pt x="23110" y="8062"/>
                  <a:pt x="23093" y="8111"/>
                </a:cubicBezTo>
                <a:cubicBezTo>
                  <a:pt x="23054" y="8223"/>
                  <a:pt x="22946" y="8274"/>
                  <a:pt x="22845" y="8334"/>
                </a:cubicBezTo>
                <a:cubicBezTo>
                  <a:pt x="22804" y="8358"/>
                  <a:pt x="22765" y="8375"/>
                  <a:pt x="22721" y="8384"/>
                </a:cubicBezTo>
                <a:cubicBezTo>
                  <a:pt x="22765" y="8340"/>
                  <a:pt x="22808" y="8320"/>
                  <a:pt x="22870" y="8310"/>
                </a:cubicBezTo>
                <a:cubicBezTo>
                  <a:pt x="22901" y="8305"/>
                  <a:pt x="22976" y="8299"/>
                  <a:pt x="22994" y="8334"/>
                </a:cubicBezTo>
                <a:cubicBezTo>
                  <a:pt x="23012" y="8369"/>
                  <a:pt x="22990" y="8371"/>
                  <a:pt x="23019" y="8409"/>
                </a:cubicBezTo>
              </a:path>
              <a:path w="11064" h="1241">
                <a:moveTo>
                  <a:pt x="23267" y="8359"/>
                </a:moveTo>
                <a:cubicBezTo>
                  <a:pt x="23250" y="8359"/>
                  <a:pt x="23234" y="8359"/>
                  <a:pt x="23217" y="8359"/>
                </a:cubicBezTo>
              </a:path>
              <a:path w="11064" h="1241">
                <a:moveTo>
                  <a:pt x="23490" y="8062"/>
                </a:moveTo>
                <a:cubicBezTo>
                  <a:pt x="23535" y="8062"/>
                  <a:pt x="23554" y="8056"/>
                  <a:pt x="23589" y="8086"/>
                </a:cubicBezTo>
                <a:cubicBezTo>
                  <a:pt x="23630" y="8122"/>
                  <a:pt x="23618" y="8166"/>
                  <a:pt x="23589" y="8210"/>
                </a:cubicBezTo>
                <a:cubicBezTo>
                  <a:pt x="23552" y="8265"/>
                  <a:pt x="23476" y="8289"/>
                  <a:pt x="23440" y="8334"/>
                </a:cubicBezTo>
                <a:cubicBezTo>
                  <a:pt x="23424" y="8354"/>
                  <a:pt x="23424" y="8358"/>
                  <a:pt x="23416" y="8384"/>
                </a:cubicBezTo>
                <a:cubicBezTo>
                  <a:pt x="23479" y="8384"/>
                  <a:pt x="23506" y="8406"/>
                  <a:pt x="23564" y="8409"/>
                </a:cubicBezTo>
                <a:cubicBezTo>
                  <a:pt x="23614" y="8409"/>
                  <a:pt x="23631" y="8409"/>
                  <a:pt x="23664" y="8409"/>
                </a:cubicBezTo>
              </a:path>
              <a:path w="11064" h="1241">
                <a:moveTo>
                  <a:pt x="23912" y="8086"/>
                </a:moveTo>
                <a:cubicBezTo>
                  <a:pt x="23862" y="8136"/>
                  <a:pt x="23864" y="8156"/>
                  <a:pt x="23837" y="8210"/>
                </a:cubicBezTo>
                <a:cubicBezTo>
                  <a:pt x="23810" y="8264"/>
                  <a:pt x="23797" y="8300"/>
                  <a:pt x="23837" y="8359"/>
                </a:cubicBezTo>
                <a:cubicBezTo>
                  <a:pt x="23864" y="8399"/>
                  <a:pt x="23919" y="8384"/>
                  <a:pt x="23961" y="8384"/>
                </a:cubicBezTo>
              </a:path>
              <a:path w="11064" h="1241">
                <a:moveTo>
                  <a:pt x="23961" y="8210"/>
                </a:moveTo>
                <a:cubicBezTo>
                  <a:pt x="23906" y="8182"/>
                  <a:pt x="24003" y="8186"/>
                  <a:pt x="24036" y="8186"/>
                </a:cubicBezTo>
                <a:cubicBezTo>
                  <a:pt x="24091" y="8186"/>
                  <a:pt x="24131" y="8168"/>
                  <a:pt x="24185" y="8161"/>
                </a:cubicBezTo>
              </a:path>
              <a:path w="11064" h="1241">
                <a:moveTo>
                  <a:pt x="23986" y="7938"/>
                </a:moveTo>
                <a:cubicBezTo>
                  <a:pt x="24040" y="7977"/>
                  <a:pt x="24044" y="7942"/>
                  <a:pt x="24110" y="7938"/>
                </a:cubicBezTo>
                <a:cubicBezTo>
                  <a:pt x="24175" y="7934"/>
                  <a:pt x="24222" y="7925"/>
                  <a:pt x="24284" y="7913"/>
                </a:cubicBezTo>
              </a:path>
              <a:path w="11064" h="1241">
                <a:moveTo>
                  <a:pt x="24408" y="8235"/>
                </a:moveTo>
                <a:cubicBezTo>
                  <a:pt x="24491" y="8235"/>
                  <a:pt x="24573" y="8235"/>
                  <a:pt x="24656" y="8235"/>
                </a:cubicBezTo>
              </a:path>
              <a:path w="11064" h="1241">
                <a:moveTo>
                  <a:pt x="24854" y="8111"/>
                </a:moveTo>
                <a:cubicBezTo>
                  <a:pt x="24880" y="8122"/>
                  <a:pt x="24944" y="8155"/>
                  <a:pt x="24978" y="8136"/>
                </a:cubicBezTo>
                <a:cubicBezTo>
                  <a:pt x="25001" y="8113"/>
                  <a:pt x="25005" y="8105"/>
                  <a:pt x="25028" y="8111"/>
                </a:cubicBezTo>
              </a:path>
              <a:path w="11064" h="1241">
                <a:moveTo>
                  <a:pt x="24929" y="8111"/>
                </a:moveTo>
                <a:cubicBezTo>
                  <a:pt x="24878" y="8118"/>
                  <a:pt x="24856" y="8136"/>
                  <a:pt x="24805" y="8136"/>
                </a:cubicBezTo>
                <a:cubicBezTo>
                  <a:pt x="24805" y="8189"/>
                  <a:pt x="24816" y="8197"/>
                  <a:pt x="24854" y="8235"/>
                </a:cubicBezTo>
                <a:cubicBezTo>
                  <a:pt x="24900" y="8281"/>
                  <a:pt x="24939" y="8312"/>
                  <a:pt x="24978" y="8359"/>
                </a:cubicBezTo>
                <a:cubicBezTo>
                  <a:pt x="25017" y="8405"/>
                  <a:pt x="25012" y="8456"/>
                  <a:pt x="24978" y="8508"/>
                </a:cubicBezTo>
                <a:cubicBezTo>
                  <a:pt x="24948" y="8554"/>
                  <a:pt x="24891" y="8586"/>
                  <a:pt x="24854" y="8632"/>
                </a:cubicBezTo>
              </a:path>
              <a:path w="11064" h="1241">
                <a:moveTo>
                  <a:pt x="13965" y="7789"/>
                </a:moveTo>
                <a:cubicBezTo>
                  <a:pt x="14084" y="7789"/>
                  <a:pt x="14197" y="7803"/>
                  <a:pt x="14312" y="7813"/>
                </a:cubicBezTo>
                <a:cubicBezTo>
                  <a:pt x="14572" y="7836"/>
                  <a:pt x="14845" y="7813"/>
                  <a:pt x="15106" y="7813"/>
                </a:cubicBezTo>
                <a:cubicBezTo>
                  <a:pt x="15032" y="7813"/>
                  <a:pt x="14976" y="7799"/>
                  <a:pt x="14908" y="7789"/>
                </a:cubicBezTo>
                <a:cubicBezTo>
                  <a:pt x="14830" y="7777"/>
                  <a:pt x="14818" y="7748"/>
                  <a:pt x="14759" y="7689"/>
                </a:cubicBezTo>
                <a:cubicBezTo>
                  <a:pt x="14734" y="7664"/>
                  <a:pt x="14677" y="7660"/>
                  <a:pt x="14660" y="7640"/>
                </a:cubicBezTo>
                <a:cubicBezTo>
                  <a:pt x="14660" y="7632"/>
                  <a:pt x="14660" y="7623"/>
                  <a:pt x="14660" y="7615"/>
                </a:cubicBezTo>
                <a:cubicBezTo>
                  <a:pt x="14691" y="7642"/>
                  <a:pt x="14746" y="7703"/>
                  <a:pt x="14808" y="7714"/>
                </a:cubicBezTo>
                <a:cubicBezTo>
                  <a:pt x="14907" y="7731"/>
                  <a:pt x="14987" y="7745"/>
                  <a:pt x="15081" y="7789"/>
                </a:cubicBezTo>
                <a:cubicBezTo>
                  <a:pt x="15128" y="7811"/>
                  <a:pt x="15146" y="7828"/>
                  <a:pt x="15180" y="7863"/>
                </a:cubicBezTo>
                <a:cubicBezTo>
                  <a:pt x="15154" y="7905"/>
                  <a:pt x="15129" y="7951"/>
                  <a:pt x="15081" y="7987"/>
                </a:cubicBezTo>
                <a:cubicBezTo>
                  <a:pt x="15018" y="8035"/>
                  <a:pt x="14941" y="8059"/>
                  <a:pt x="14883" y="8111"/>
                </a:cubicBezTo>
                <a:cubicBezTo>
                  <a:pt x="14858" y="8136"/>
                  <a:pt x="14850" y="8144"/>
                  <a:pt x="14833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82800" y="3214800"/>
            <a:ext cx="509400" cy="420480"/>
          </a:xfrm>
          <a:custGeom>
            <a:avLst/>
            <a:gdLst/>
            <a:ahLst/>
            <a:rect l="l" t="t" r="r" b="b"/>
            <a:pathLst>
              <a:path w="1414" h="1167">
                <a:moveTo>
                  <a:pt x="2902" y="8930"/>
                </a:moveTo>
                <a:cubicBezTo>
                  <a:pt x="2873" y="9091"/>
                  <a:pt x="2821" y="9222"/>
                  <a:pt x="2778" y="9376"/>
                </a:cubicBezTo>
                <a:cubicBezTo>
                  <a:pt x="2749" y="9481"/>
                  <a:pt x="2729" y="9566"/>
                  <a:pt x="2729" y="9674"/>
                </a:cubicBezTo>
                <a:cubicBezTo>
                  <a:pt x="2729" y="9682"/>
                  <a:pt x="2729" y="9691"/>
                  <a:pt x="2729" y="9699"/>
                </a:cubicBezTo>
              </a:path>
              <a:path w="1414" h="1167">
                <a:moveTo>
                  <a:pt x="3225" y="9178"/>
                </a:moveTo>
                <a:cubicBezTo>
                  <a:pt x="3196" y="9235"/>
                  <a:pt x="3107" y="9279"/>
                  <a:pt x="3051" y="9327"/>
                </a:cubicBezTo>
                <a:cubicBezTo>
                  <a:pt x="2995" y="9375"/>
                  <a:pt x="2893" y="9440"/>
                  <a:pt x="2853" y="9500"/>
                </a:cubicBezTo>
                <a:cubicBezTo>
                  <a:pt x="2836" y="9525"/>
                  <a:pt x="2856" y="9585"/>
                  <a:pt x="2877" y="9599"/>
                </a:cubicBezTo>
                <a:cubicBezTo>
                  <a:pt x="2933" y="9637"/>
                  <a:pt x="2994" y="9629"/>
                  <a:pt x="3051" y="9649"/>
                </a:cubicBezTo>
                <a:cubicBezTo>
                  <a:pt x="3110" y="9670"/>
                  <a:pt x="3136" y="9674"/>
                  <a:pt x="3200" y="9674"/>
                </a:cubicBezTo>
              </a:path>
              <a:path w="1414" h="1167">
                <a:moveTo>
                  <a:pt x="3646" y="9401"/>
                </a:moveTo>
                <a:cubicBezTo>
                  <a:pt x="3583" y="9457"/>
                  <a:pt x="3512" y="9497"/>
                  <a:pt x="3448" y="9550"/>
                </a:cubicBezTo>
                <a:cubicBezTo>
                  <a:pt x="3409" y="9588"/>
                  <a:pt x="3392" y="9590"/>
                  <a:pt x="3398" y="9624"/>
                </a:cubicBezTo>
                <a:cubicBezTo>
                  <a:pt x="3447" y="9624"/>
                  <a:pt x="3596" y="9597"/>
                  <a:pt x="3621" y="9649"/>
                </a:cubicBezTo>
                <a:cubicBezTo>
                  <a:pt x="3644" y="9696"/>
                  <a:pt x="3598" y="9763"/>
                  <a:pt x="3572" y="9798"/>
                </a:cubicBezTo>
                <a:cubicBezTo>
                  <a:pt x="3542" y="9828"/>
                  <a:pt x="3531" y="9842"/>
                  <a:pt x="3522" y="9872"/>
                </a:cubicBezTo>
              </a:path>
              <a:path w="1414" h="1167">
                <a:moveTo>
                  <a:pt x="3770" y="9699"/>
                </a:moveTo>
                <a:cubicBezTo>
                  <a:pt x="3842" y="9711"/>
                  <a:pt x="3820" y="9721"/>
                  <a:pt x="3820" y="9798"/>
                </a:cubicBezTo>
                <a:cubicBezTo>
                  <a:pt x="3820" y="9877"/>
                  <a:pt x="3774" y="9940"/>
                  <a:pt x="3770" y="10021"/>
                </a:cubicBezTo>
                <a:cubicBezTo>
                  <a:pt x="3770" y="10063"/>
                  <a:pt x="3770" y="10071"/>
                  <a:pt x="3770" y="10096"/>
                </a:cubicBezTo>
                <a:cubicBezTo>
                  <a:pt x="3810" y="10016"/>
                  <a:pt x="3830" y="9925"/>
                  <a:pt x="3870" y="9847"/>
                </a:cubicBezTo>
                <a:cubicBezTo>
                  <a:pt x="3921" y="9749"/>
                  <a:pt x="3973" y="9661"/>
                  <a:pt x="4043" y="9575"/>
                </a:cubicBezTo>
                <a:cubicBezTo>
                  <a:pt x="4070" y="9542"/>
                  <a:pt x="4110" y="9526"/>
                  <a:pt x="4142" y="9500"/>
                </a:cubicBezTo>
                <a:cubicBezTo>
                  <a:pt x="4130" y="9562"/>
                  <a:pt x="4097" y="9617"/>
                  <a:pt x="4068" y="9674"/>
                </a:cubicBezTo>
                <a:cubicBezTo>
                  <a:pt x="4046" y="9718"/>
                  <a:pt x="4027" y="9739"/>
                  <a:pt x="3994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24040" y="3187800"/>
            <a:ext cx="741240" cy="401400"/>
          </a:xfrm>
          <a:custGeom>
            <a:avLst/>
            <a:gdLst/>
            <a:ahLst/>
            <a:rect l="l" t="t" r="r" b="b"/>
            <a:pathLst>
              <a:path w="2060" h="1117">
                <a:moveTo>
                  <a:pt x="4862" y="9153"/>
                </a:moveTo>
                <a:cubicBezTo>
                  <a:pt x="4853" y="9228"/>
                  <a:pt x="4821" y="9303"/>
                  <a:pt x="4812" y="9376"/>
                </a:cubicBezTo>
                <a:cubicBezTo>
                  <a:pt x="4803" y="9452"/>
                  <a:pt x="4787" y="9522"/>
                  <a:pt x="4787" y="9599"/>
                </a:cubicBezTo>
                <a:cubicBezTo>
                  <a:pt x="4803" y="9537"/>
                  <a:pt x="4842" y="9470"/>
                  <a:pt x="4862" y="9401"/>
                </a:cubicBezTo>
                <a:cubicBezTo>
                  <a:pt x="4899" y="9272"/>
                  <a:pt x="4942" y="9143"/>
                  <a:pt x="5011" y="9029"/>
                </a:cubicBezTo>
                <a:cubicBezTo>
                  <a:pt x="5050" y="8964"/>
                  <a:pt x="5111" y="8884"/>
                  <a:pt x="5184" y="8855"/>
                </a:cubicBezTo>
                <a:cubicBezTo>
                  <a:pt x="5192" y="8855"/>
                  <a:pt x="5201" y="8855"/>
                  <a:pt x="5209" y="8855"/>
                </a:cubicBezTo>
                <a:cubicBezTo>
                  <a:pt x="5265" y="8938"/>
                  <a:pt x="5259" y="9004"/>
                  <a:pt x="5259" y="9103"/>
                </a:cubicBezTo>
                <a:cubicBezTo>
                  <a:pt x="5259" y="9235"/>
                  <a:pt x="5259" y="9368"/>
                  <a:pt x="5259" y="9500"/>
                </a:cubicBezTo>
              </a:path>
              <a:path w="2060" h="1117">
                <a:moveTo>
                  <a:pt x="4961" y="9376"/>
                </a:moveTo>
                <a:cubicBezTo>
                  <a:pt x="4953" y="9368"/>
                  <a:pt x="4944" y="9359"/>
                  <a:pt x="4936" y="9351"/>
                </a:cubicBezTo>
                <a:cubicBezTo>
                  <a:pt x="5014" y="9313"/>
                  <a:pt x="5077" y="9302"/>
                  <a:pt x="5159" y="9277"/>
                </a:cubicBezTo>
                <a:cubicBezTo>
                  <a:pt x="5252" y="9248"/>
                  <a:pt x="5344" y="9217"/>
                  <a:pt x="5432" y="9178"/>
                </a:cubicBezTo>
              </a:path>
              <a:path w="2060" h="1117">
                <a:moveTo>
                  <a:pt x="5655" y="9178"/>
                </a:moveTo>
                <a:cubicBezTo>
                  <a:pt x="5612" y="9203"/>
                  <a:pt x="5559" y="9232"/>
                  <a:pt x="5531" y="9277"/>
                </a:cubicBezTo>
                <a:cubicBezTo>
                  <a:pt x="5496" y="9333"/>
                  <a:pt x="5499" y="9352"/>
                  <a:pt x="5531" y="9376"/>
                </a:cubicBezTo>
                <a:cubicBezTo>
                  <a:pt x="5561" y="9399"/>
                  <a:pt x="5634" y="9450"/>
                  <a:pt x="5655" y="9475"/>
                </a:cubicBezTo>
                <a:cubicBezTo>
                  <a:pt x="5712" y="9542"/>
                  <a:pt x="5677" y="9652"/>
                  <a:pt x="5655" y="9723"/>
                </a:cubicBezTo>
                <a:cubicBezTo>
                  <a:pt x="5625" y="9822"/>
                  <a:pt x="5581" y="9886"/>
                  <a:pt x="5507" y="9947"/>
                </a:cubicBezTo>
                <a:cubicBezTo>
                  <a:pt x="5499" y="9955"/>
                  <a:pt x="5490" y="9963"/>
                  <a:pt x="5482" y="9971"/>
                </a:cubicBezTo>
                <a:cubicBezTo>
                  <a:pt x="5447" y="9890"/>
                  <a:pt x="5471" y="9858"/>
                  <a:pt x="5507" y="9773"/>
                </a:cubicBezTo>
                <a:cubicBezTo>
                  <a:pt x="5558" y="9652"/>
                  <a:pt x="5638" y="9629"/>
                  <a:pt x="5730" y="9550"/>
                </a:cubicBezTo>
                <a:cubicBezTo>
                  <a:pt x="5755" y="9525"/>
                  <a:pt x="5779" y="9500"/>
                  <a:pt x="5804" y="9475"/>
                </a:cubicBezTo>
              </a:path>
              <a:path w="2060" h="1117">
                <a:moveTo>
                  <a:pt x="6573" y="8880"/>
                </a:moveTo>
                <a:cubicBezTo>
                  <a:pt x="6517" y="8918"/>
                  <a:pt x="6524" y="8895"/>
                  <a:pt x="6524" y="8954"/>
                </a:cubicBezTo>
                <a:cubicBezTo>
                  <a:pt x="6519" y="8939"/>
                  <a:pt x="6500" y="8893"/>
                  <a:pt x="6474" y="8880"/>
                </a:cubicBezTo>
                <a:cubicBezTo>
                  <a:pt x="6423" y="8854"/>
                  <a:pt x="6384" y="8844"/>
                  <a:pt x="6325" y="8880"/>
                </a:cubicBezTo>
                <a:cubicBezTo>
                  <a:pt x="6255" y="8923"/>
                  <a:pt x="6189" y="9023"/>
                  <a:pt x="6176" y="9103"/>
                </a:cubicBezTo>
                <a:cubicBezTo>
                  <a:pt x="6158" y="9218"/>
                  <a:pt x="6165" y="9358"/>
                  <a:pt x="6276" y="9426"/>
                </a:cubicBezTo>
                <a:cubicBezTo>
                  <a:pt x="6379" y="9489"/>
                  <a:pt x="6508" y="9455"/>
                  <a:pt x="6598" y="9401"/>
                </a:cubicBezTo>
                <a:cubicBezTo>
                  <a:pt x="6704" y="9338"/>
                  <a:pt x="6800" y="9229"/>
                  <a:pt x="6821" y="9103"/>
                </a:cubicBezTo>
                <a:cubicBezTo>
                  <a:pt x="6832" y="9040"/>
                  <a:pt x="6824" y="9001"/>
                  <a:pt x="6796" y="8954"/>
                </a:cubicBezTo>
                <a:cubicBezTo>
                  <a:pt x="6748" y="8979"/>
                  <a:pt x="6707" y="9064"/>
                  <a:pt x="6697" y="9128"/>
                </a:cubicBezTo>
                <a:cubicBezTo>
                  <a:pt x="6682" y="9224"/>
                  <a:pt x="6696" y="9367"/>
                  <a:pt x="6747" y="9451"/>
                </a:cubicBezTo>
                <a:cubicBezTo>
                  <a:pt x="6801" y="9505"/>
                  <a:pt x="6821" y="9527"/>
                  <a:pt x="6846" y="95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68760" y="3268800"/>
            <a:ext cx="179280" cy="115920"/>
          </a:xfrm>
          <a:custGeom>
            <a:avLst/>
            <a:gdLst/>
            <a:ahLst/>
            <a:rect l="l" t="t" r="r" b="b"/>
            <a:pathLst>
              <a:path w="498" h="323">
                <a:moveTo>
                  <a:pt x="7689" y="9103"/>
                </a:moveTo>
                <a:cubicBezTo>
                  <a:pt x="7760" y="9103"/>
                  <a:pt x="7822" y="9089"/>
                  <a:pt x="7888" y="9079"/>
                </a:cubicBezTo>
                <a:cubicBezTo>
                  <a:pt x="7937" y="9072"/>
                  <a:pt x="7999" y="9065"/>
                  <a:pt x="8012" y="9103"/>
                </a:cubicBezTo>
              </a:path>
              <a:path w="498" h="323">
                <a:moveTo>
                  <a:pt x="7764" y="9351"/>
                </a:moveTo>
                <a:cubicBezTo>
                  <a:pt x="7790" y="9391"/>
                  <a:pt x="7873" y="9398"/>
                  <a:pt x="7938" y="9401"/>
                </a:cubicBezTo>
                <a:cubicBezTo>
                  <a:pt x="8020" y="9404"/>
                  <a:pt x="8104" y="9401"/>
                  <a:pt x="8186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52880" y="3214800"/>
            <a:ext cx="1670040" cy="330120"/>
          </a:xfrm>
          <a:custGeom>
            <a:avLst/>
            <a:gdLst/>
            <a:ahLst/>
            <a:rect l="l" t="t" r="r" b="b"/>
            <a:pathLst>
              <a:path w="4640" h="918">
                <a:moveTo>
                  <a:pt x="8806" y="9029"/>
                </a:moveTo>
                <a:cubicBezTo>
                  <a:pt x="8796" y="9147"/>
                  <a:pt x="8781" y="9255"/>
                  <a:pt x="8781" y="9376"/>
                </a:cubicBezTo>
                <a:cubicBezTo>
                  <a:pt x="8781" y="9519"/>
                  <a:pt x="8756" y="9654"/>
                  <a:pt x="8756" y="9798"/>
                </a:cubicBezTo>
                <a:cubicBezTo>
                  <a:pt x="8756" y="9814"/>
                  <a:pt x="8756" y="9831"/>
                  <a:pt x="8756" y="9847"/>
                </a:cubicBezTo>
              </a:path>
              <a:path w="4640" h="918">
                <a:moveTo>
                  <a:pt x="9277" y="9624"/>
                </a:moveTo>
                <a:cubicBezTo>
                  <a:pt x="9227" y="9674"/>
                  <a:pt x="9192" y="9692"/>
                  <a:pt x="9178" y="9748"/>
                </a:cubicBezTo>
              </a:path>
              <a:path w="4640" h="918">
                <a:moveTo>
                  <a:pt x="9748" y="9327"/>
                </a:moveTo>
                <a:cubicBezTo>
                  <a:pt x="9674" y="9307"/>
                  <a:pt x="9625" y="9302"/>
                  <a:pt x="9550" y="9302"/>
                </a:cubicBezTo>
                <a:cubicBezTo>
                  <a:pt x="9522" y="9302"/>
                  <a:pt x="9460" y="9345"/>
                  <a:pt x="9451" y="9376"/>
                </a:cubicBezTo>
                <a:cubicBezTo>
                  <a:pt x="9431" y="9450"/>
                  <a:pt x="9511" y="9505"/>
                  <a:pt x="9550" y="9550"/>
                </a:cubicBezTo>
                <a:cubicBezTo>
                  <a:pt x="9595" y="9601"/>
                  <a:pt x="9682" y="9652"/>
                  <a:pt x="9699" y="9723"/>
                </a:cubicBezTo>
                <a:cubicBezTo>
                  <a:pt x="9714" y="9786"/>
                  <a:pt x="9690" y="9808"/>
                  <a:pt x="9649" y="9847"/>
                </a:cubicBezTo>
                <a:cubicBezTo>
                  <a:pt x="9595" y="9777"/>
                  <a:pt x="9656" y="9717"/>
                  <a:pt x="9699" y="9649"/>
                </a:cubicBezTo>
                <a:cubicBezTo>
                  <a:pt x="9771" y="9535"/>
                  <a:pt x="9860" y="9429"/>
                  <a:pt x="9947" y="9327"/>
                </a:cubicBezTo>
                <a:cubicBezTo>
                  <a:pt x="9993" y="9280"/>
                  <a:pt x="10007" y="9268"/>
                  <a:pt x="10021" y="9227"/>
                </a:cubicBezTo>
              </a:path>
              <a:path w="4640" h="918">
                <a:moveTo>
                  <a:pt x="10592" y="9277"/>
                </a:moveTo>
                <a:cubicBezTo>
                  <a:pt x="10592" y="9326"/>
                  <a:pt x="10575" y="9361"/>
                  <a:pt x="10542" y="9401"/>
                </a:cubicBezTo>
                <a:cubicBezTo>
                  <a:pt x="10484" y="9471"/>
                  <a:pt x="10470" y="9550"/>
                  <a:pt x="10418" y="9624"/>
                </a:cubicBezTo>
                <a:cubicBezTo>
                  <a:pt x="10410" y="9632"/>
                  <a:pt x="10401" y="9641"/>
                  <a:pt x="10393" y="9649"/>
                </a:cubicBezTo>
              </a:path>
              <a:path w="4640" h="918">
                <a:moveTo>
                  <a:pt x="10344" y="9351"/>
                </a:moveTo>
                <a:cubicBezTo>
                  <a:pt x="10344" y="9323"/>
                  <a:pt x="10378" y="9391"/>
                  <a:pt x="10418" y="9426"/>
                </a:cubicBezTo>
                <a:cubicBezTo>
                  <a:pt x="10487" y="9486"/>
                  <a:pt x="10536" y="9555"/>
                  <a:pt x="10616" y="9599"/>
                </a:cubicBezTo>
                <a:cubicBezTo>
                  <a:pt x="10633" y="9607"/>
                  <a:pt x="10649" y="9616"/>
                  <a:pt x="10666" y="9624"/>
                </a:cubicBezTo>
              </a:path>
              <a:path w="4640" h="918">
                <a:moveTo>
                  <a:pt x="11162" y="9178"/>
                </a:moveTo>
                <a:cubicBezTo>
                  <a:pt x="11086" y="9262"/>
                  <a:pt x="11043" y="9292"/>
                  <a:pt x="11038" y="9401"/>
                </a:cubicBezTo>
                <a:cubicBezTo>
                  <a:pt x="11038" y="9459"/>
                  <a:pt x="11038" y="9484"/>
                  <a:pt x="11038" y="9525"/>
                </a:cubicBezTo>
              </a:path>
              <a:path w="4640" h="918">
                <a:moveTo>
                  <a:pt x="11435" y="9252"/>
                </a:moveTo>
                <a:cubicBezTo>
                  <a:pt x="11409" y="9173"/>
                  <a:pt x="11387" y="9293"/>
                  <a:pt x="11385" y="9327"/>
                </a:cubicBezTo>
                <a:cubicBezTo>
                  <a:pt x="11380" y="9412"/>
                  <a:pt x="11387" y="9469"/>
                  <a:pt x="11460" y="9525"/>
                </a:cubicBezTo>
                <a:cubicBezTo>
                  <a:pt x="11520" y="9571"/>
                  <a:pt x="11613" y="9562"/>
                  <a:pt x="11658" y="9500"/>
                </a:cubicBezTo>
                <a:cubicBezTo>
                  <a:pt x="11720" y="9414"/>
                  <a:pt x="11697" y="9369"/>
                  <a:pt x="11658" y="9277"/>
                </a:cubicBezTo>
                <a:cubicBezTo>
                  <a:pt x="11617" y="9181"/>
                  <a:pt x="11551" y="9178"/>
                  <a:pt x="11460" y="9178"/>
                </a:cubicBezTo>
                <a:cubicBezTo>
                  <a:pt x="11452" y="9178"/>
                  <a:pt x="11443" y="9178"/>
                  <a:pt x="11435" y="9178"/>
                </a:cubicBezTo>
              </a:path>
              <a:path w="4640" h="918">
                <a:moveTo>
                  <a:pt x="12030" y="9178"/>
                </a:moveTo>
                <a:cubicBezTo>
                  <a:pt x="12129" y="9178"/>
                  <a:pt x="12229" y="9178"/>
                  <a:pt x="12328" y="9178"/>
                </a:cubicBezTo>
              </a:path>
              <a:path w="4640" h="918">
                <a:moveTo>
                  <a:pt x="12700" y="8930"/>
                </a:moveTo>
                <a:cubicBezTo>
                  <a:pt x="12688" y="8976"/>
                  <a:pt x="12666" y="9031"/>
                  <a:pt x="12650" y="9079"/>
                </a:cubicBezTo>
                <a:cubicBezTo>
                  <a:pt x="12629" y="9142"/>
                  <a:pt x="12608" y="9211"/>
                  <a:pt x="12601" y="9277"/>
                </a:cubicBezTo>
                <a:cubicBezTo>
                  <a:pt x="12601" y="9302"/>
                  <a:pt x="12601" y="9310"/>
                  <a:pt x="12601" y="9327"/>
                </a:cubicBezTo>
              </a:path>
              <a:path w="4640" h="918">
                <a:moveTo>
                  <a:pt x="13022" y="8979"/>
                </a:moveTo>
                <a:cubicBezTo>
                  <a:pt x="12972" y="9058"/>
                  <a:pt x="12916" y="9112"/>
                  <a:pt x="12973" y="9203"/>
                </a:cubicBezTo>
                <a:cubicBezTo>
                  <a:pt x="13016" y="9272"/>
                  <a:pt x="13157" y="9265"/>
                  <a:pt x="13221" y="9252"/>
                </a:cubicBezTo>
                <a:cubicBezTo>
                  <a:pt x="13314" y="9233"/>
                  <a:pt x="13381" y="9193"/>
                  <a:pt x="13395" y="9103"/>
                </a:cubicBezTo>
                <a:cubicBezTo>
                  <a:pt x="13406" y="9031"/>
                  <a:pt x="13386" y="9006"/>
                  <a:pt x="13320" y="8979"/>
                </a:cubicBezTo>
                <a:cubicBezTo>
                  <a:pt x="13232" y="8942"/>
                  <a:pt x="13193" y="8946"/>
                  <a:pt x="13122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73760" y="3214800"/>
            <a:ext cx="3108240" cy="401400"/>
          </a:xfrm>
          <a:custGeom>
            <a:avLst/>
            <a:gdLst/>
            <a:ahLst/>
            <a:rect l="l" t="t" r="r" b="b"/>
            <a:pathLst>
              <a:path w="8633" h="1117">
                <a:moveTo>
                  <a:pt x="15677" y="9004"/>
                </a:moveTo>
                <a:cubicBezTo>
                  <a:pt x="15666" y="8972"/>
                  <a:pt x="15659" y="8965"/>
                  <a:pt x="15627" y="8954"/>
                </a:cubicBezTo>
                <a:cubicBezTo>
                  <a:pt x="15565" y="9016"/>
                  <a:pt x="15505" y="9056"/>
                  <a:pt x="15453" y="9128"/>
                </a:cubicBezTo>
                <a:cubicBezTo>
                  <a:pt x="15390" y="9214"/>
                  <a:pt x="15308" y="9338"/>
                  <a:pt x="15329" y="9451"/>
                </a:cubicBezTo>
                <a:cubicBezTo>
                  <a:pt x="15337" y="9467"/>
                  <a:pt x="15346" y="9484"/>
                  <a:pt x="15354" y="9500"/>
                </a:cubicBezTo>
              </a:path>
              <a:path w="8633" h="1117">
                <a:moveTo>
                  <a:pt x="15925" y="9575"/>
                </a:moveTo>
                <a:cubicBezTo>
                  <a:pt x="15963" y="9575"/>
                  <a:pt x="15912" y="9566"/>
                  <a:pt x="15900" y="9599"/>
                </a:cubicBezTo>
                <a:cubicBezTo>
                  <a:pt x="15920" y="9542"/>
                  <a:pt x="15920" y="9590"/>
                  <a:pt x="15900" y="9599"/>
                </a:cubicBezTo>
                <a:cubicBezTo>
                  <a:pt x="15875" y="9599"/>
                  <a:pt x="15867" y="9599"/>
                  <a:pt x="15875" y="9624"/>
                </a:cubicBezTo>
              </a:path>
              <a:path w="8633" h="1117">
                <a:moveTo>
                  <a:pt x="16272" y="9351"/>
                </a:moveTo>
                <a:cubicBezTo>
                  <a:pt x="16260" y="9401"/>
                  <a:pt x="16215" y="9421"/>
                  <a:pt x="16197" y="9475"/>
                </a:cubicBezTo>
                <a:cubicBezTo>
                  <a:pt x="16176" y="9536"/>
                  <a:pt x="16211" y="9585"/>
                  <a:pt x="16272" y="9599"/>
                </a:cubicBezTo>
                <a:cubicBezTo>
                  <a:pt x="16348" y="9617"/>
                  <a:pt x="16432" y="9594"/>
                  <a:pt x="16495" y="9550"/>
                </a:cubicBezTo>
                <a:cubicBezTo>
                  <a:pt x="16527" y="9528"/>
                  <a:pt x="16537" y="9508"/>
                  <a:pt x="16545" y="9475"/>
                </a:cubicBezTo>
                <a:cubicBezTo>
                  <a:pt x="16502" y="9442"/>
                  <a:pt x="16449" y="9394"/>
                  <a:pt x="16396" y="9376"/>
                </a:cubicBezTo>
                <a:cubicBezTo>
                  <a:pt x="16371" y="9376"/>
                  <a:pt x="16363" y="9376"/>
                  <a:pt x="16371" y="9351"/>
                </a:cubicBezTo>
              </a:path>
              <a:path w="8633" h="1117">
                <a:moveTo>
                  <a:pt x="16644" y="9277"/>
                </a:moveTo>
                <a:cubicBezTo>
                  <a:pt x="16682" y="9261"/>
                  <a:pt x="16748" y="9233"/>
                  <a:pt x="16793" y="9252"/>
                </a:cubicBezTo>
                <a:cubicBezTo>
                  <a:pt x="16807" y="9258"/>
                  <a:pt x="16862" y="9379"/>
                  <a:pt x="16867" y="9401"/>
                </a:cubicBezTo>
                <a:cubicBezTo>
                  <a:pt x="16884" y="9476"/>
                  <a:pt x="16850" y="9535"/>
                  <a:pt x="16818" y="9599"/>
                </a:cubicBezTo>
                <a:cubicBezTo>
                  <a:pt x="16791" y="9654"/>
                  <a:pt x="16749" y="9685"/>
                  <a:pt x="16694" y="9699"/>
                </a:cubicBezTo>
                <a:cubicBezTo>
                  <a:pt x="16694" y="9619"/>
                  <a:pt x="16686" y="9603"/>
                  <a:pt x="16743" y="9550"/>
                </a:cubicBezTo>
                <a:cubicBezTo>
                  <a:pt x="16778" y="9518"/>
                  <a:pt x="16796" y="9525"/>
                  <a:pt x="16842" y="9525"/>
                </a:cubicBezTo>
                <a:cubicBezTo>
                  <a:pt x="16897" y="9525"/>
                  <a:pt x="16926" y="9544"/>
                  <a:pt x="16966" y="9575"/>
                </a:cubicBezTo>
              </a:path>
              <a:path w="8633" h="1117">
                <a:moveTo>
                  <a:pt x="17388" y="9277"/>
                </a:moveTo>
                <a:cubicBezTo>
                  <a:pt x="17337" y="9283"/>
                  <a:pt x="17229" y="9288"/>
                  <a:pt x="17190" y="9327"/>
                </a:cubicBezTo>
                <a:cubicBezTo>
                  <a:pt x="17170" y="9367"/>
                  <a:pt x="17161" y="9373"/>
                  <a:pt x="17165" y="9401"/>
                </a:cubicBezTo>
                <a:cubicBezTo>
                  <a:pt x="17234" y="9443"/>
                  <a:pt x="17264" y="9418"/>
                  <a:pt x="17338" y="9401"/>
                </a:cubicBezTo>
                <a:cubicBezTo>
                  <a:pt x="17372" y="9393"/>
                  <a:pt x="17404" y="9383"/>
                  <a:pt x="17438" y="9376"/>
                </a:cubicBezTo>
                <a:cubicBezTo>
                  <a:pt x="17402" y="9448"/>
                  <a:pt x="17364" y="9508"/>
                  <a:pt x="17338" y="9575"/>
                </a:cubicBezTo>
                <a:cubicBezTo>
                  <a:pt x="17313" y="9640"/>
                  <a:pt x="17302" y="9624"/>
                  <a:pt x="17338" y="9674"/>
                </a:cubicBezTo>
              </a:path>
              <a:path w="8633" h="1117">
                <a:moveTo>
                  <a:pt x="17686" y="9327"/>
                </a:moveTo>
                <a:cubicBezTo>
                  <a:pt x="17647" y="9364"/>
                  <a:pt x="17636" y="9373"/>
                  <a:pt x="17636" y="9426"/>
                </a:cubicBezTo>
                <a:cubicBezTo>
                  <a:pt x="17636" y="9484"/>
                  <a:pt x="17636" y="9541"/>
                  <a:pt x="17636" y="9599"/>
                </a:cubicBezTo>
                <a:cubicBezTo>
                  <a:pt x="17688" y="9599"/>
                  <a:pt x="17711" y="9583"/>
                  <a:pt x="17760" y="9575"/>
                </a:cubicBezTo>
                <a:cubicBezTo>
                  <a:pt x="17835" y="9562"/>
                  <a:pt x="17889" y="9535"/>
                  <a:pt x="17959" y="9500"/>
                </a:cubicBezTo>
              </a:path>
              <a:path w="8633" h="1117">
                <a:moveTo>
                  <a:pt x="18033" y="9327"/>
                </a:moveTo>
                <a:cubicBezTo>
                  <a:pt x="17975" y="9359"/>
                  <a:pt x="17946" y="9381"/>
                  <a:pt x="17934" y="9451"/>
                </a:cubicBezTo>
                <a:cubicBezTo>
                  <a:pt x="17922" y="9516"/>
                  <a:pt x="17914" y="9585"/>
                  <a:pt x="17909" y="9649"/>
                </a:cubicBezTo>
                <a:cubicBezTo>
                  <a:pt x="17909" y="9682"/>
                  <a:pt x="17909" y="9698"/>
                  <a:pt x="17909" y="9723"/>
                </a:cubicBezTo>
              </a:path>
              <a:path w="8633" h="1117">
                <a:moveTo>
                  <a:pt x="18182" y="8930"/>
                </a:moveTo>
                <a:cubicBezTo>
                  <a:pt x="18256" y="8948"/>
                  <a:pt x="18276" y="8981"/>
                  <a:pt x="18306" y="9054"/>
                </a:cubicBezTo>
                <a:cubicBezTo>
                  <a:pt x="18354" y="9173"/>
                  <a:pt x="18392" y="9324"/>
                  <a:pt x="18405" y="9451"/>
                </a:cubicBezTo>
                <a:cubicBezTo>
                  <a:pt x="18420" y="9596"/>
                  <a:pt x="18357" y="9706"/>
                  <a:pt x="18281" y="9823"/>
                </a:cubicBezTo>
                <a:cubicBezTo>
                  <a:pt x="18226" y="9909"/>
                  <a:pt x="18157" y="9936"/>
                  <a:pt x="18083" y="9996"/>
                </a:cubicBezTo>
              </a:path>
              <a:path w="8633" h="1117">
                <a:moveTo>
                  <a:pt x="18926" y="9178"/>
                </a:moveTo>
                <a:cubicBezTo>
                  <a:pt x="18843" y="9190"/>
                  <a:pt x="18788" y="9231"/>
                  <a:pt x="18728" y="9302"/>
                </a:cubicBezTo>
                <a:cubicBezTo>
                  <a:pt x="18635" y="9412"/>
                  <a:pt x="18570" y="9555"/>
                  <a:pt x="18554" y="9699"/>
                </a:cubicBezTo>
                <a:cubicBezTo>
                  <a:pt x="18539" y="9832"/>
                  <a:pt x="18601" y="9896"/>
                  <a:pt x="18703" y="9947"/>
                </a:cubicBezTo>
              </a:path>
              <a:path w="8633" h="1117">
                <a:moveTo>
                  <a:pt x="19298" y="9302"/>
                </a:moveTo>
                <a:cubicBezTo>
                  <a:pt x="19234" y="9318"/>
                  <a:pt x="19210" y="9371"/>
                  <a:pt x="19174" y="9426"/>
                </a:cubicBezTo>
                <a:cubicBezTo>
                  <a:pt x="19099" y="9540"/>
                  <a:pt x="19056" y="9609"/>
                  <a:pt x="19050" y="9748"/>
                </a:cubicBezTo>
                <a:cubicBezTo>
                  <a:pt x="19046" y="9843"/>
                  <a:pt x="19088" y="9865"/>
                  <a:pt x="19174" y="9872"/>
                </a:cubicBezTo>
                <a:cubicBezTo>
                  <a:pt x="19225" y="9876"/>
                  <a:pt x="19268" y="9845"/>
                  <a:pt x="19273" y="9798"/>
                </a:cubicBezTo>
                <a:cubicBezTo>
                  <a:pt x="19280" y="9731"/>
                  <a:pt x="19194" y="9727"/>
                  <a:pt x="19149" y="9723"/>
                </a:cubicBezTo>
                <a:cubicBezTo>
                  <a:pt x="19101" y="9719"/>
                  <a:pt x="19094" y="9719"/>
                  <a:pt x="19075" y="9748"/>
                </a:cubicBezTo>
              </a:path>
              <a:path w="8633" h="1117">
                <a:moveTo>
                  <a:pt x="19447" y="9847"/>
                </a:moveTo>
                <a:cubicBezTo>
                  <a:pt x="19420" y="9812"/>
                  <a:pt x="19422" y="9817"/>
                  <a:pt x="19422" y="9773"/>
                </a:cubicBezTo>
              </a:path>
              <a:path w="8633" h="1117">
                <a:moveTo>
                  <a:pt x="19670" y="9401"/>
                </a:moveTo>
                <a:cubicBezTo>
                  <a:pt x="19719" y="9401"/>
                  <a:pt x="19756" y="9418"/>
                  <a:pt x="19794" y="9426"/>
                </a:cubicBezTo>
                <a:cubicBezTo>
                  <a:pt x="19845" y="9436"/>
                  <a:pt x="19916" y="9440"/>
                  <a:pt x="19943" y="9500"/>
                </a:cubicBezTo>
                <a:cubicBezTo>
                  <a:pt x="19962" y="9543"/>
                  <a:pt x="19944" y="9638"/>
                  <a:pt x="19918" y="9674"/>
                </a:cubicBezTo>
                <a:cubicBezTo>
                  <a:pt x="19866" y="9746"/>
                  <a:pt x="19820" y="9824"/>
                  <a:pt x="19769" y="9897"/>
                </a:cubicBezTo>
                <a:cubicBezTo>
                  <a:pt x="19742" y="9925"/>
                  <a:pt x="19734" y="9939"/>
                  <a:pt x="19745" y="9971"/>
                </a:cubicBezTo>
              </a:path>
              <a:path w="8633" h="1117">
                <a:moveTo>
                  <a:pt x="20141" y="9674"/>
                </a:moveTo>
                <a:cubicBezTo>
                  <a:pt x="20106" y="9683"/>
                  <a:pt x="20071" y="9691"/>
                  <a:pt x="20067" y="9723"/>
                </a:cubicBezTo>
                <a:cubicBezTo>
                  <a:pt x="20059" y="9787"/>
                  <a:pt x="20052" y="9824"/>
                  <a:pt x="20117" y="9847"/>
                </a:cubicBezTo>
                <a:cubicBezTo>
                  <a:pt x="20157" y="9861"/>
                  <a:pt x="20219" y="9887"/>
                  <a:pt x="20265" y="9872"/>
                </a:cubicBezTo>
                <a:cubicBezTo>
                  <a:pt x="20309" y="9850"/>
                  <a:pt x="20320" y="9847"/>
                  <a:pt x="20340" y="9823"/>
                </a:cubicBezTo>
              </a:path>
              <a:path w="8633" h="1117">
                <a:moveTo>
                  <a:pt x="20141" y="9674"/>
                </a:moveTo>
                <a:cubicBezTo>
                  <a:pt x="20125" y="9674"/>
                  <a:pt x="20108" y="9674"/>
                  <a:pt x="20092" y="9674"/>
                </a:cubicBezTo>
                <a:cubicBezTo>
                  <a:pt x="20149" y="9631"/>
                  <a:pt x="20195" y="9640"/>
                  <a:pt x="20265" y="9624"/>
                </a:cubicBezTo>
                <a:cubicBezTo>
                  <a:pt x="20335" y="9608"/>
                  <a:pt x="20429" y="9567"/>
                  <a:pt x="20489" y="9525"/>
                </a:cubicBezTo>
                <a:cubicBezTo>
                  <a:pt x="20497" y="9517"/>
                  <a:pt x="20505" y="9508"/>
                  <a:pt x="20513" y="9500"/>
                </a:cubicBezTo>
              </a:path>
              <a:path w="8633" h="1117">
                <a:moveTo>
                  <a:pt x="20340" y="9451"/>
                </a:moveTo>
                <a:cubicBezTo>
                  <a:pt x="20323" y="9451"/>
                  <a:pt x="20307" y="9451"/>
                  <a:pt x="20290" y="9451"/>
                </a:cubicBezTo>
                <a:cubicBezTo>
                  <a:pt x="20347" y="9440"/>
                  <a:pt x="20408" y="9408"/>
                  <a:pt x="20464" y="9401"/>
                </a:cubicBezTo>
                <a:cubicBezTo>
                  <a:pt x="20527" y="9393"/>
                  <a:pt x="20576" y="9384"/>
                  <a:pt x="20638" y="9376"/>
                </a:cubicBezTo>
              </a:path>
              <a:path w="8633" h="1117">
                <a:moveTo>
                  <a:pt x="20687" y="9699"/>
                </a:moveTo>
                <a:cubicBezTo>
                  <a:pt x="20761" y="9699"/>
                  <a:pt x="20836" y="9699"/>
                  <a:pt x="20910" y="9699"/>
                </a:cubicBezTo>
              </a:path>
              <a:path w="8633" h="1117">
                <a:moveTo>
                  <a:pt x="21134" y="9500"/>
                </a:moveTo>
                <a:cubicBezTo>
                  <a:pt x="21096" y="9538"/>
                  <a:pt x="21084" y="9546"/>
                  <a:pt x="21084" y="9599"/>
                </a:cubicBezTo>
                <a:cubicBezTo>
                  <a:pt x="21084" y="9652"/>
                  <a:pt x="21089" y="9709"/>
                  <a:pt x="21134" y="9748"/>
                </a:cubicBezTo>
                <a:cubicBezTo>
                  <a:pt x="21176" y="9784"/>
                  <a:pt x="21232" y="9773"/>
                  <a:pt x="21282" y="9773"/>
                </a:cubicBezTo>
              </a:path>
              <a:path w="8633" h="1117">
                <a:moveTo>
                  <a:pt x="21555" y="9525"/>
                </a:moveTo>
                <a:cubicBezTo>
                  <a:pt x="21513" y="9525"/>
                  <a:pt x="21461" y="9541"/>
                  <a:pt x="21431" y="9575"/>
                </a:cubicBezTo>
                <a:cubicBezTo>
                  <a:pt x="21379" y="9635"/>
                  <a:pt x="21323" y="9717"/>
                  <a:pt x="21307" y="9798"/>
                </a:cubicBezTo>
                <a:cubicBezTo>
                  <a:pt x="21296" y="9856"/>
                  <a:pt x="21313" y="9895"/>
                  <a:pt x="21332" y="9947"/>
                </a:cubicBezTo>
              </a:path>
              <a:path w="8633" h="1117">
                <a:moveTo>
                  <a:pt x="21803" y="9029"/>
                </a:moveTo>
                <a:cubicBezTo>
                  <a:pt x="21882" y="9092"/>
                  <a:pt x="21916" y="9147"/>
                  <a:pt x="21952" y="9252"/>
                </a:cubicBezTo>
                <a:cubicBezTo>
                  <a:pt x="21997" y="9384"/>
                  <a:pt x="22021" y="9535"/>
                  <a:pt x="22002" y="9674"/>
                </a:cubicBezTo>
                <a:cubicBezTo>
                  <a:pt x="21985" y="9797"/>
                  <a:pt x="21896" y="9917"/>
                  <a:pt x="21803" y="9996"/>
                </a:cubicBezTo>
                <a:cubicBezTo>
                  <a:pt x="21778" y="10013"/>
                  <a:pt x="21754" y="10029"/>
                  <a:pt x="21729" y="10046"/>
                </a:cubicBezTo>
              </a:path>
              <a:path w="8633" h="1117">
                <a:moveTo>
                  <a:pt x="22225" y="9649"/>
                </a:moveTo>
                <a:cubicBezTo>
                  <a:pt x="22275" y="9649"/>
                  <a:pt x="22324" y="9649"/>
                  <a:pt x="22374" y="9649"/>
                </a:cubicBezTo>
              </a:path>
              <a:path w="8633" h="1117">
                <a:moveTo>
                  <a:pt x="22250" y="9872"/>
                </a:moveTo>
                <a:cubicBezTo>
                  <a:pt x="22250" y="9897"/>
                  <a:pt x="22250" y="9905"/>
                  <a:pt x="22250" y="9922"/>
                </a:cubicBezTo>
                <a:cubicBezTo>
                  <a:pt x="22318" y="9922"/>
                  <a:pt x="22360" y="9913"/>
                  <a:pt x="22423" y="9897"/>
                </a:cubicBezTo>
                <a:cubicBezTo>
                  <a:pt x="22431" y="9897"/>
                  <a:pt x="22440" y="9897"/>
                  <a:pt x="22448" y="9897"/>
                </a:cubicBezTo>
              </a:path>
              <a:path w="8633" h="1117">
                <a:moveTo>
                  <a:pt x="13841" y="9327"/>
                </a:moveTo>
                <a:cubicBezTo>
                  <a:pt x="13891" y="9327"/>
                  <a:pt x="13890" y="9327"/>
                  <a:pt x="13940" y="9327"/>
                </a:cubicBezTo>
                <a:cubicBezTo>
                  <a:pt x="14147" y="9327"/>
                  <a:pt x="14357" y="9344"/>
                  <a:pt x="14560" y="9302"/>
                </a:cubicBezTo>
                <a:cubicBezTo>
                  <a:pt x="14665" y="9280"/>
                  <a:pt x="14783" y="9284"/>
                  <a:pt x="14883" y="9252"/>
                </a:cubicBezTo>
                <a:cubicBezTo>
                  <a:pt x="14899" y="9244"/>
                  <a:pt x="14916" y="9235"/>
                  <a:pt x="14932" y="9227"/>
                </a:cubicBezTo>
                <a:cubicBezTo>
                  <a:pt x="14899" y="9227"/>
                  <a:pt x="14915" y="9234"/>
                  <a:pt x="14883" y="9227"/>
                </a:cubicBezTo>
                <a:cubicBezTo>
                  <a:pt x="14826" y="9214"/>
                  <a:pt x="14766" y="9188"/>
                  <a:pt x="14709" y="9178"/>
                </a:cubicBezTo>
                <a:cubicBezTo>
                  <a:pt x="14634" y="9165"/>
                  <a:pt x="14621" y="9131"/>
                  <a:pt x="14560" y="9103"/>
                </a:cubicBezTo>
                <a:cubicBezTo>
                  <a:pt x="14552" y="9103"/>
                  <a:pt x="14544" y="9103"/>
                  <a:pt x="14536" y="9103"/>
                </a:cubicBezTo>
                <a:cubicBezTo>
                  <a:pt x="14599" y="9103"/>
                  <a:pt x="14648" y="9121"/>
                  <a:pt x="14709" y="9128"/>
                </a:cubicBezTo>
                <a:cubicBezTo>
                  <a:pt x="14802" y="9139"/>
                  <a:pt x="14896" y="9142"/>
                  <a:pt x="14982" y="9178"/>
                </a:cubicBezTo>
                <a:cubicBezTo>
                  <a:pt x="15049" y="9206"/>
                  <a:pt x="15027" y="9211"/>
                  <a:pt x="15056" y="9252"/>
                </a:cubicBezTo>
                <a:cubicBezTo>
                  <a:pt x="14999" y="9334"/>
                  <a:pt x="14913" y="9361"/>
                  <a:pt x="14833" y="9426"/>
                </a:cubicBezTo>
                <a:cubicBezTo>
                  <a:pt x="14770" y="9477"/>
                  <a:pt x="14681" y="9530"/>
                  <a:pt x="14635" y="9599"/>
                </a:cubicBezTo>
                <a:cubicBezTo>
                  <a:pt x="14627" y="9616"/>
                  <a:pt x="14618" y="9632"/>
                  <a:pt x="14610" y="96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42200" y="3429000"/>
            <a:ext cx="893880" cy="258840"/>
          </a:xfrm>
          <a:custGeom>
            <a:avLst/>
            <a:gdLst/>
            <a:ahLst/>
            <a:rect l="l" t="t" r="r" b="b"/>
            <a:pathLst>
              <a:path w="2481" h="720">
                <a:moveTo>
                  <a:pt x="23068" y="9575"/>
                </a:moveTo>
                <a:cubicBezTo>
                  <a:pt x="23085" y="9507"/>
                  <a:pt x="23127" y="9525"/>
                  <a:pt x="23192" y="9525"/>
                </a:cubicBezTo>
                <a:cubicBezTo>
                  <a:pt x="23249" y="9525"/>
                  <a:pt x="23366" y="9603"/>
                  <a:pt x="23366" y="9674"/>
                </a:cubicBezTo>
                <a:cubicBezTo>
                  <a:pt x="23366" y="9816"/>
                  <a:pt x="23214" y="9865"/>
                  <a:pt x="23118" y="9922"/>
                </a:cubicBezTo>
                <a:cubicBezTo>
                  <a:pt x="23032" y="9973"/>
                  <a:pt x="22991" y="9971"/>
                  <a:pt x="22895" y="9971"/>
                </a:cubicBezTo>
                <a:cubicBezTo>
                  <a:pt x="22917" y="9939"/>
                  <a:pt x="22987" y="9924"/>
                  <a:pt x="23044" y="9922"/>
                </a:cubicBezTo>
                <a:cubicBezTo>
                  <a:pt x="23129" y="9918"/>
                  <a:pt x="23195" y="9922"/>
                  <a:pt x="23267" y="9971"/>
                </a:cubicBezTo>
                <a:cubicBezTo>
                  <a:pt x="23290" y="9994"/>
                  <a:pt x="23298" y="9998"/>
                  <a:pt x="23292" y="10021"/>
                </a:cubicBezTo>
              </a:path>
              <a:path w="2481" h="720">
                <a:moveTo>
                  <a:pt x="23639" y="9996"/>
                </a:moveTo>
                <a:cubicBezTo>
                  <a:pt x="23639" y="9942"/>
                  <a:pt x="23627" y="9960"/>
                  <a:pt x="23614" y="9922"/>
                </a:cubicBezTo>
              </a:path>
              <a:path w="2481" h="720">
                <a:moveTo>
                  <a:pt x="23837" y="9723"/>
                </a:moveTo>
                <a:cubicBezTo>
                  <a:pt x="23785" y="9736"/>
                  <a:pt x="23729" y="9788"/>
                  <a:pt x="23713" y="9847"/>
                </a:cubicBezTo>
                <a:cubicBezTo>
                  <a:pt x="23697" y="9905"/>
                  <a:pt x="23712" y="9963"/>
                  <a:pt x="23763" y="9996"/>
                </a:cubicBezTo>
                <a:cubicBezTo>
                  <a:pt x="23834" y="10042"/>
                  <a:pt x="23896" y="10015"/>
                  <a:pt x="23961" y="9971"/>
                </a:cubicBezTo>
                <a:cubicBezTo>
                  <a:pt x="24018" y="9932"/>
                  <a:pt x="23978" y="9869"/>
                  <a:pt x="23961" y="9823"/>
                </a:cubicBezTo>
                <a:cubicBezTo>
                  <a:pt x="23940" y="9763"/>
                  <a:pt x="23912" y="9733"/>
                  <a:pt x="23912" y="9674"/>
                </a:cubicBezTo>
              </a:path>
              <a:path w="2481" h="720">
                <a:moveTo>
                  <a:pt x="24433" y="9897"/>
                </a:moveTo>
                <a:cubicBezTo>
                  <a:pt x="24425" y="9889"/>
                  <a:pt x="24416" y="9880"/>
                  <a:pt x="24408" y="9872"/>
                </a:cubicBezTo>
                <a:cubicBezTo>
                  <a:pt x="24390" y="9878"/>
                  <a:pt x="24347" y="9916"/>
                  <a:pt x="24333" y="9947"/>
                </a:cubicBezTo>
                <a:cubicBezTo>
                  <a:pt x="24306" y="10006"/>
                  <a:pt x="24399" y="10053"/>
                  <a:pt x="24433" y="10071"/>
                </a:cubicBezTo>
                <a:cubicBezTo>
                  <a:pt x="24498" y="10106"/>
                  <a:pt x="24534" y="10120"/>
                  <a:pt x="24606" y="10120"/>
                </a:cubicBezTo>
              </a:path>
              <a:path w="2481" h="720">
                <a:moveTo>
                  <a:pt x="24408" y="9947"/>
                </a:moveTo>
                <a:cubicBezTo>
                  <a:pt x="24400" y="9939"/>
                  <a:pt x="24391" y="9930"/>
                  <a:pt x="24383" y="9922"/>
                </a:cubicBezTo>
                <a:cubicBezTo>
                  <a:pt x="24448" y="9922"/>
                  <a:pt x="24473" y="9912"/>
                  <a:pt x="24532" y="9897"/>
                </a:cubicBezTo>
                <a:cubicBezTo>
                  <a:pt x="24584" y="9884"/>
                  <a:pt x="24615" y="9921"/>
                  <a:pt x="24631" y="9872"/>
                </a:cubicBezTo>
              </a:path>
              <a:path w="2481" h="720">
                <a:moveTo>
                  <a:pt x="24457" y="9699"/>
                </a:moveTo>
                <a:cubicBezTo>
                  <a:pt x="24472" y="9655"/>
                  <a:pt x="24528" y="9674"/>
                  <a:pt x="24581" y="9674"/>
                </a:cubicBezTo>
                <a:cubicBezTo>
                  <a:pt x="24639" y="9674"/>
                  <a:pt x="24697" y="9674"/>
                  <a:pt x="24755" y="9674"/>
                </a:cubicBezTo>
              </a:path>
              <a:path w="2481" h="720">
                <a:moveTo>
                  <a:pt x="24805" y="9922"/>
                </a:moveTo>
                <a:cubicBezTo>
                  <a:pt x="24863" y="9922"/>
                  <a:pt x="24920" y="9922"/>
                  <a:pt x="24978" y="9922"/>
                </a:cubicBezTo>
              </a:path>
              <a:path w="2481" h="720">
                <a:moveTo>
                  <a:pt x="25226" y="9798"/>
                </a:moveTo>
                <a:cubicBezTo>
                  <a:pt x="25276" y="9798"/>
                  <a:pt x="25325" y="9798"/>
                  <a:pt x="25375" y="9798"/>
                </a:cubicBezTo>
              </a:path>
              <a:path w="2481" h="720">
                <a:moveTo>
                  <a:pt x="25326" y="9798"/>
                </a:moveTo>
                <a:cubicBezTo>
                  <a:pt x="25251" y="9798"/>
                  <a:pt x="25243" y="9798"/>
                  <a:pt x="25202" y="9798"/>
                </a:cubicBezTo>
                <a:cubicBezTo>
                  <a:pt x="25202" y="9852"/>
                  <a:pt x="25194" y="9899"/>
                  <a:pt x="25226" y="9947"/>
                </a:cubicBezTo>
                <a:cubicBezTo>
                  <a:pt x="25264" y="10003"/>
                  <a:pt x="25276" y="10025"/>
                  <a:pt x="25276" y="10096"/>
                </a:cubicBezTo>
                <a:cubicBezTo>
                  <a:pt x="25276" y="10185"/>
                  <a:pt x="25271" y="10169"/>
                  <a:pt x="25202" y="10220"/>
                </a:cubicBezTo>
                <a:cubicBezTo>
                  <a:pt x="25194" y="10228"/>
                  <a:pt x="25185" y="10236"/>
                  <a:pt x="25177" y="102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54120" y="3652920"/>
            <a:ext cx="3017880" cy="633240"/>
          </a:xfrm>
          <a:custGeom>
            <a:avLst/>
            <a:gdLst/>
            <a:ahLst/>
            <a:rect l="l" t="t" r="r" b="b"/>
            <a:pathLst>
              <a:path w="8385" h="1762">
                <a:moveTo>
                  <a:pt x="4837" y="10964"/>
                </a:moveTo>
                <a:cubicBezTo>
                  <a:pt x="4837" y="11025"/>
                  <a:pt x="4797" y="11056"/>
                  <a:pt x="4787" y="11112"/>
                </a:cubicBezTo>
                <a:cubicBezTo>
                  <a:pt x="4773" y="11194"/>
                  <a:pt x="4751" y="11281"/>
                  <a:pt x="4738" y="11361"/>
                </a:cubicBezTo>
                <a:cubicBezTo>
                  <a:pt x="4738" y="11377"/>
                  <a:pt x="4738" y="11394"/>
                  <a:pt x="4738" y="11410"/>
                </a:cubicBezTo>
                <a:cubicBezTo>
                  <a:pt x="4738" y="11469"/>
                  <a:pt x="4756" y="11326"/>
                  <a:pt x="4762" y="11311"/>
                </a:cubicBezTo>
                <a:cubicBezTo>
                  <a:pt x="4822" y="11174"/>
                  <a:pt x="4886" y="11030"/>
                  <a:pt x="4936" y="10889"/>
                </a:cubicBezTo>
                <a:cubicBezTo>
                  <a:pt x="4970" y="10791"/>
                  <a:pt x="4971" y="10699"/>
                  <a:pt x="5035" y="10616"/>
                </a:cubicBezTo>
                <a:cubicBezTo>
                  <a:pt x="5053" y="10708"/>
                  <a:pt x="5047" y="10792"/>
                  <a:pt x="5060" y="10889"/>
                </a:cubicBezTo>
                <a:cubicBezTo>
                  <a:pt x="5077" y="11017"/>
                  <a:pt x="5112" y="11165"/>
                  <a:pt x="5159" y="11286"/>
                </a:cubicBezTo>
                <a:cubicBezTo>
                  <a:pt x="5181" y="11342"/>
                  <a:pt x="5209" y="11374"/>
                  <a:pt x="5209" y="11435"/>
                </a:cubicBezTo>
              </a:path>
              <a:path w="8385" h="1762">
                <a:moveTo>
                  <a:pt x="4812" y="11385"/>
                </a:moveTo>
                <a:cubicBezTo>
                  <a:pt x="4771" y="11385"/>
                  <a:pt x="4754" y="11394"/>
                  <a:pt x="4762" y="11361"/>
                </a:cubicBezTo>
                <a:cubicBezTo>
                  <a:pt x="4829" y="11317"/>
                  <a:pt x="4935" y="11265"/>
                  <a:pt x="5011" y="11237"/>
                </a:cubicBezTo>
                <a:cubicBezTo>
                  <a:pt x="5126" y="11194"/>
                  <a:pt x="5244" y="11158"/>
                  <a:pt x="5358" y="11112"/>
                </a:cubicBezTo>
                <a:cubicBezTo>
                  <a:pt x="5374" y="11104"/>
                  <a:pt x="5391" y="11096"/>
                  <a:pt x="5407" y="11088"/>
                </a:cubicBezTo>
              </a:path>
              <a:path w="8385" h="1762">
                <a:moveTo>
                  <a:pt x="5705" y="11112"/>
                </a:moveTo>
                <a:cubicBezTo>
                  <a:pt x="5650" y="11112"/>
                  <a:pt x="5662" y="11106"/>
                  <a:pt x="5631" y="11063"/>
                </a:cubicBezTo>
                <a:cubicBezTo>
                  <a:pt x="5589" y="11077"/>
                  <a:pt x="5583" y="11133"/>
                  <a:pt x="5581" y="11187"/>
                </a:cubicBezTo>
                <a:cubicBezTo>
                  <a:pt x="5576" y="11295"/>
                  <a:pt x="5564" y="11367"/>
                  <a:pt x="5631" y="11435"/>
                </a:cubicBezTo>
                <a:cubicBezTo>
                  <a:pt x="5690" y="11494"/>
                  <a:pt x="5761" y="11441"/>
                  <a:pt x="5804" y="11385"/>
                </a:cubicBezTo>
                <a:cubicBezTo>
                  <a:pt x="5842" y="11336"/>
                  <a:pt x="5874" y="11269"/>
                  <a:pt x="5879" y="11212"/>
                </a:cubicBezTo>
                <a:cubicBezTo>
                  <a:pt x="5879" y="11204"/>
                  <a:pt x="5879" y="11195"/>
                  <a:pt x="5879" y="11187"/>
                </a:cubicBezTo>
                <a:cubicBezTo>
                  <a:pt x="5913" y="11210"/>
                  <a:pt x="5908" y="11260"/>
                  <a:pt x="5928" y="11311"/>
                </a:cubicBezTo>
                <a:cubicBezTo>
                  <a:pt x="5956" y="11382"/>
                  <a:pt x="5984" y="11400"/>
                  <a:pt x="6052" y="11410"/>
                </a:cubicBezTo>
              </a:path>
              <a:path w="8385" h="1762">
                <a:moveTo>
                  <a:pt x="5928" y="10567"/>
                </a:moveTo>
                <a:cubicBezTo>
                  <a:pt x="5977" y="10567"/>
                  <a:pt x="6015" y="10549"/>
                  <a:pt x="6052" y="10542"/>
                </a:cubicBezTo>
                <a:cubicBezTo>
                  <a:pt x="6123" y="10528"/>
                  <a:pt x="6181" y="10483"/>
                  <a:pt x="6251" y="10468"/>
                </a:cubicBezTo>
                <a:cubicBezTo>
                  <a:pt x="6310" y="10455"/>
                  <a:pt x="6321" y="10470"/>
                  <a:pt x="6350" y="10517"/>
                </a:cubicBezTo>
                <a:cubicBezTo>
                  <a:pt x="6410" y="10613"/>
                  <a:pt x="6375" y="10781"/>
                  <a:pt x="6375" y="10889"/>
                </a:cubicBezTo>
                <a:cubicBezTo>
                  <a:pt x="6375" y="11028"/>
                  <a:pt x="6407" y="11155"/>
                  <a:pt x="6449" y="11286"/>
                </a:cubicBezTo>
                <a:cubicBezTo>
                  <a:pt x="6469" y="11348"/>
                  <a:pt x="6529" y="11471"/>
                  <a:pt x="6524" y="11534"/>
                </a:cubicBezTo>
                <a:cubicBezTo>
                  <a:pt x="6518" y="11603"/>
                  <a:pt x="6456" y="11646"/>
                  <a:pt x="6400" y="11683"/>
                </a:cubicBezTo>
                <a:cubicBezTo>
                  <a:pt x="6334" y="11727"/>
                  <a:pt x="6208" y="11787"/>
                  <a:pt x="6127" y="11757"/>
                </a:cubicBezTo>
                <a:cubicBezTo>
                  <a:pt x="6119" y="11749"/>
                  <a:pt x="6110" y="11741"/>
                  <a:pt x="6102" y="11733"/>
                </a:cubicBezTo>
              </a:path>
              <a:path w="8385" h="1762">
                <a:moveTo>
                  <a:pt x="4638" y="10443"/>
                </a:moveTo>
                <a:cubicBezTo>
                  <a:pt x="4646" y="10435"/>
                  <a:pt x="4655" y="10426"/>
                  <a:pt x="4663" y="10418"/>
                </a:cubicBezTo>
                <a:cubicBezTo>
                  <a:pt x="4596" y="10425"/>
                  <a:pt x="4576" y="10457"/>
                  <a:pt x="4514" y="10468"/>
                </a:cubicBezTo>
                <a:cubicBezTo>
                  <a:pt x="4465" y="10477"/>
                  <a:pt x="4387" y="10471"/>
                  <a:pt x="4341" y="10492"/>
                </a:cubicBezTo>
                <a:cubicBezTo>
                  <a:pt x="4333" y="10500"/>
                  <a:pt x="4324" y="10509"/>
                  <a:pt x="4316" y="10517"/>
                </a:cubicBezTo>
                <a:cubicBezTo>
                  <a:pt x="4341" y="10555"/>
                  <a:pt x="4382" y="10617"/>
                  <a:pt x="4390" y="10666"/>
                </a:cubicBezTo>
                <a:cubicBezTo>
                  <a:pt x="4416" y="10819"/>
                  <a:pt x="4397" y="11012"/>
                  <a:pt x="4366" y="11162"/>
                </a:cubicBezTo>
                <a:cubicBezTo>
                  <a:pt x="4340" y="11292"/>
                  <a:pt x="4321" y="11427"/>
                  <a:pt x="4316" y="11559"/>
                </a:cubicBezTo>
                <a:cubicBezTo>
                  <a:pt x="4313" y="11629"/>
                  <a:pt x="4333" y="11754"/>
                  <a:pt x="4390" y="11807"/>
                </a:cubicBezTo>
                <a:cubicBezTo>
                  <a:pt x="4415" y="11830"/>
                  <a:pt x="4528" y="11900"/>
                  <a:pt x="4564" y="11906"/>
                </a:cubicBezTo>
                <a:cubicBezTo>
                  <a:pt x="4623" y="11917"/>
                  <a:pt x="4668" y="11908"/>
                  <a:pt x="4713" y="11881"/>
                </a:cubicBezTo>
              </a:path>
              <a:path w="8385" h="1762">
                <a:moveTo>
                  <a:pt x="7045" y="11063"/>
                </a:moveTo>
                <a:cubicBezTo>
                  <a:pt x="7037" y="11071"/>
                  <a:pt x="7028" y="11080"/>
                  <a:pt x="7020" y="11088"/>
                </a:cubicBezTo>
                <a:cubicBezTo>
                  <a:pt x="7127" y="11088"/>
                  <a:pt x="7235" y="11088"/>
                  <a:pt x="7342" y="11088"/>
                </a:cubicBezTo>
              </a:path>
              <a:path w="8385" h="1762">
                <a:moveTo>
                  <a:pt x="7169" y="11361"/>
                </a:moveTo>
                <a:cubicBezTo>
                  <a:pt x="7169" y="11377"/>
                  <a:pt x="7169" y="11394"/>
                  <a:pt x="7169" y="11410"/>
                </a:cubicBezTo>
                <a:cubicBezTo>
                  <a:pt x="7250" y="11410"/>
                  <a:pt x="7315" y="11414"/>
                  <a:pt x="7392" y="11385"/>
                </a:cubicBezTo>
                <a:cubicBezTo>
                  <a:pt x="7440" y="11362"/>
                  <a:pt x="7454" y="11354"/>
                  <a:pt x="7491" y="11361"/>
                </a:cubicBezTo>
              </a:path>
              <a:path w="8385" h="1762">
                <a:moveTo>
                  <a:pt x="8483" y="11013"/>
                </a:moveTo>
                <a:cubicBezTo>
                  <a:pt x="8508" y="11013"/>
                  <a:pt x="8516" y="11013"/>
                  <a:pt x="8533" y="11013"/>
                </a:cubicBezTo>
                <a:cubicBezTo>
                  <a:pt x="8520" y="11016"/>
                  <a:pt x="8426" y="11056"/>
                  <a:pt x="8458" y="11088"/>
                </a:cubicBezTo>
                <a:cubicBezTo>
                  <a:pt x="8476" y="11106"/>
                  <a:pt x="8548" y="11070"/>
                  <a:pt x="8558" y="11063"/>
                </a:cubicBezTo>
                <a:cubicBezTo>
                  <a:pt x="8590" y="11041"/>
                  <a:pt x="8582" y="11021"/>
                  <a:pt x="8582" y="10988"/>
                </a:cubicBezTo>
                <a:cubicBezTo>
                  <a:pt x="8556" y="10988"/>
                  <a:pt x="8495" y="10996"/>
                  <a:pt x="8483" y="11013"/>
                </a:cubicBezTo>
                <a:cubicBezTo>
                  <a:pt x="8469" y="11034"/>
                  <a:pt x="8436" y="11057"/>
                  <a:pt x="8483" y="11063"/>
                </a:cubicBezTo>
                <a:cubicBezTo>
                  <a:pt x="8491" y="11063"/>
                  <a:pt x="8500" y="11063"/>
                  <a:pt x="8508" y="11063"/>
                </a:cubicBezTo>
              </a:path>
              <a:path w="8385" h="1762">
                <a:moveTo>
                  <a:pt x="9079" y="10542"/>
                </a:moveTo>
                <a:cubicBezTo>
                  <a:pt x="9101" y="10519"/>
                  <a:pt x="9109" y="10514"/>
                  <a:pt x="9103" y="10492"/>
                </a:cubicBezTo>
                <a:cubicBezTo>
                  <a:pt x="9103" y="10570"/>
                  <a:pt x="9085" y="10639"/>
                  <a:pt x="9079" y="10716"/>
                </a:cubicBezTo>
                <a:cubicBezTo>
                  <a:pt x="9070" y="10822"/>
                  <a:pt x="9061" y="10937"/>
                  <a:pt x="9029" y="11038"/>
                </a:cubicBezTo>
                <a:cubicBezTo>
                  <a:pt x="9005" y="11086"/>
                  <a:pt x="8997" y="11100"/>
                  <a:pt x="9004" y="11137"/>
                </a:cubicBezTo>
              </a:path>
              <a:path w="8385" h="1762">
                <a:moveTo>
                  <a:pt x="8359" y="10368"/>
                </a:moveTo>
                <a:cubicBezTo>
                  <a:pt x="8359" y="10344"/>
                  <a:pt x="8359" y="10335"/>
                  <a:pt x="8359" y="10319"/>
                </a:cubicBezTo>
                <a:cubicBezTo>
                  <a:pt x="8319" y="10339"/>
                  <a:pt x="8255" y="10441"/>
                  <a:pt x="8235" y="10492"/>
                </a:cubicBezTo>
                <a:cubicBezTo>
                  <a:pt x="8182" y="10628"/>
                  <a:pt x="8124" y="10792"/>
                  <a:pt x="8111" y="10939"/>
                </a:cubicBezTo>
                <a:cubicBezTo>
                  <a:pt x="8096" y="11105"/>
                  <a:pt x="8157" y="11178"/>
                  <a:pt x="8235" y="11311"/>
                </a:cubicBezTo>
                <a:cubicBezTo>
                  <a:pt x="8243" y="11328"/>
                  <a:pt x="8252" y="11344"/>
                  <a:pt x="8260" y="11361"/>
                </a:cubicBezTo>
              </a:path>
              <a:path w="8385" h="1762">
                <a:moveTo>
                  <a:pt x="9451" y="10344"/>
                </a:moveTo>
                <a:cubicBezTo>
                  <a:pt x="9500" y="10344"/>
                  <a:pt x="9550" y="10339"/>
                  <a:pt x="9575" y="10393"/>
                </a:cubicBezTo>
                <a:cubicBezTo>
                  <a:pt x="9631" y="10514"/>
                  <a:pt x="9670" y="10603"/>
                  <a:pt x="9674" y="10740"/>
                </a:cubicBezTo>
                <a:cubicBezTo>
                  <a:pt x="9678" y="10880"/>
                  <a:pt x="9641" y="11014"/>
                  <a:pt x="9575" y="11137"/>
                </a:cubicBezTo>
                <a:cubicBezTo>
                  <a:pt x="9537" y="11208"/>
                  <a:pt x="9475" y="11274"/>
                  <a:pt x="9426" y="11336"/>
                </a:cubicBezTo>
              </a:path>
              <a:path w="8385" h="1762">
                <a:moveTo>
                  <a:pt x="10269" y="10393"/>
                </a:moveTo>
                <a:cubicBezTo>
                  <a:pt x="10193" y="10412"/>
                  <a:pt x="10178" y="10474"/>
                  <a:pt x="10145" y="10542"/>
                </a:cubicBezTo>
                <a:cubicBezTo>
                  <a:pt x="10077" y="10683"/>
                  <a:pt x="10030" y="10854"/>
                  <a:pt x="10046" y="11013"/>
                </a:cubicBezTo>
                <a:cubicBezTo>
                  <a:pt x="10055" y="11101"/>
                  <a:pt x="10102" y="11227"/>
                  <a:pt x="10170" y="11286"/>
                </a:cubicBezTo>
                <a:cubicBezTo>
                  <a:pt x="10187" y="11294"/>
                  <a:pt x="10203" y="11303"/>
                  <a:pt x="10220" y="11311"/>
                </a:cubicBezTo>
              </a:path>
              <a:path w="8385" h="1762">
                <a:moveTo>
                  <a:pt x="10542" y="10964"/>
                </a:moveTo>
                <a:cubicBezTo>
                  <a:pt x="10481" y="11025"/>
                  <a:pt x="10468" y="11028"/>
                  <a:pt x="10468" y="11112"/>
                </a:cubicBezTo>
                <a:cubicBezTo>
                  <a:pt x="10468" y="11120"/>
                  <a:pt x="10468" y="11129"/>
                  <a:pt x="10468" y="11137"/>
                </a:cubicBezTo>
                <a:cubicBezTo>
                  <a:pt x="10519" y="11137"/>
                  <a:pt x="10551" y="11144"/>
                  <a:pt x="10592" y="11112"/>
                </a:cubicBezTo>
                <a:cubicBezTo>
                  <a:pt x="10614" y="11090"/>
                  <a:pt x="10622" y="11085"/>
                  <a:pt x="10616" y="11063"/>
                </a:cubicBezTo>
                <a:cubicBezTo>
                  <a:pt x="10555" y="11063"/>
                  <a:pt x="10517" y="11073"/>
                  <a:pt x="10468" y="11088"/>
                </a:cubicBezTo>
                <a:cubicBezTo>
                  <a:pt x="10461" y="11090"/>
                  <a:pt x="10375" y="11088"/>
                  <a:pt x="10443" y="11088"/>
                </a:cubicBezTo>
              </a:path>
              <a:path w="8385" h="1762">
                <a:moveTo>
                  <a:pt x="10988" y="10592"/>
                </a:moveTo>
                <a:cubicBezTo>
                  <a:pt x="11052" y="10612"/>
                  <a:pt x="10973" y="10664"/>
                  <a:pt x="10964" y="10716"/>
                </a:cubicBezTo>
                <a:cubicBezTo>
                  <a:pt x="10947" y="10815"/>
                  <a:pt x="10939" y="10911"/>
                  <a:pt x="10939" y="11013"/>
                </a:cubicBezTo>
                <a:cubicBezTo>
                  <a:pt x="10939" y="11071"/>
                  <a:pt x="10939" y="11129"/>
                  <a:pt x="10939" y="11187"/>
                </a:cubicBezTo>
              </a:path>
              <a:path w="8385" h="1762">
                <a:moveTo>
                  <a:pt x="11286" y="10666"/>
                </a:moveTo>
                <a:cubicBezTo>
                  <a:pt x="11410" y="10629"/>
                  <a:pt x="11359" y="10631"/>
                  <a:pt x="11435" y="10691"/>
                </a:cubicBezTo>
                <a:cubicBezTo>
                  <a:pt x="11524" y="10761"/>
                  <a:pt x="11509" y="10826"/>
                  <a:pt x="11509" y="10939"/>
                </a:cubicBezTo>
                <a:cubicBezTo>
                  <a:pt x="11509" y="11039"/>
                  <a:pt x="11450" y="11100"/>
                  <a:pt x="11385" y="11162"/>
                </a:cubicBezTo>
                <a:cubicBezTo>
                  <a:pt x="11358" y="11188"/>
                  <a:pt x="11243" y="11267"/>
                  <a:pt x="11212" y="11187"/>
                </a:cubicBezTo>
                <a:cubicBezTo>
                  <a:pt x="11183" y="11111"/>
                  <a:pt x="11218" y="11053"/>
                  <a:pt x="11261" y="11013"/>
                </a:cubicBezTo>
                <a:cubicBezTo>
                  <a:pt x="11329" y="10950"/>
                  <a:pt x="11324" y="10974"/>
                  <a:pt x="11385" y="11013"/>
                </a:cubicBezTo>
                <a:cubicBezTo>
                  <a:pt x="11452" y="11056"/>
                  <a:pt x="11463" y="11100"/>
                  <a:pt x="11509" y="11162"/>
                </a:cubicBezTo>
                <a:cubicBezTo>
                  <a:pt x="11534" y="11187"/>
                  <a:pt x="11542" y="11195"/>
                  <a:pt x="11559" y="11212"/>
                </a:cubicBezTo>
              </a:path>
              <a:path w="8385" h="1762">
                <a:moveTo>
                  <a:pt x="11881" y="10542"/>
                </a:moveTo>
                <a:cubicBezTo>
                  <a:pt x="11896" y="10586"/>
                  <a:pt x="11956" y="10555"/>
                  <a:pt x="12005" y="10542"/>
                </a:cubicBezTo>
                <a:cubicBezTo>
                  <a:pt x="12086" y="10521"/>
                  <a:pt x="12174" y="10505"/>
                  <a:pt x="12254" y="10492"/>
                </a:cubicBezTo>
                <a:cubicBezTo>
                  <a:pt x="12270" y="10492"/>
                  <a:pt x="12287" y="10492"/>
                  <a:pt x="12303" y="10492"/>
                </a:cubicBezTo>
              </a:path>
              <a:path w="8385" h="1762">
                <a:moveTo>
                  <a:pt x="11881" y="10592"/>
                </a:moveTo>
                <a:cubicBezTo>
                  <a:pt x="11812" y="10647"/>
                  <a:pt x="11771" y="10702"/>
                  <a:pt x="11708" y="10765"/>
                </a:cubicBezTo>
                <a:cubicBezTo>
                  <a:pt x="11667" y="10806"/>
                  <a:pt x="11645" y="10830"/>
                  <a:pt x="11633" y="10864"/>
                </a:cubicBezTo>
                <a:cubicBezTo>
                  <a:pt x="11681" y="10852"/>
                  <a:pt x="11730" y="10829"/>
                  <a:pt x="11782" y="10815"/>
                </a:cubicBezTo>
                <a:cubicBezTo>
                  <a:pt x="11876" y="10790"/>
                  <a:pt x="11938" y="10776"/>
                  <a:pt x="12030" y="10815"/>
                </a:cubicBezTo>
                <a:cubicBezTo>
                  <a:pt x="12096" y="10843"/>
                  <a:pt x="12149" y="10861"/>
                  <a:pt x="12154" y="10939"/>
                </a:cubicBezTo>
                <a:cubicBezTo>
                  <a:pt x="12157" y="10990"/>
                  <a:pt x="12121" y="11077"/>
                  <a:pt x="12080" y="11112"/>
                </a:cubicBezTo>
                <a:cubicBezTo>
                  <a:pt x="12036" y="11134"/>
                  <a:pt x="12024" y="11137"/>
                  <a:pt x="12005" y="11162"/>
                </a:cubicBezTo>
              </a:path>
              <a:path w="8385" h="1762">
                <a:moveTo>
                  <a:pt x="12526" y="10145"/>
                </a:moveTo>
                <a:cubicBezTo>
                  <a:pt x="12526" y="10203"/>
                  <a:pt x="12548" y="10268"/>
                  <a:pt x="12576" y="10319"/>
                </a:cubicBezTo>
                <a:cubicBezTo>
                  <a:pt x="12637" y="10431"/>
                  <a:pt x="12685" y="10561"/>
                  <a:pt x="12700" y="10691"/>
                </a:cubicBezTo>
                <a:cubicBezTo>
                  <a:pt x="12713" y="10811"/>
                  <a:pt x="12704" y="10954"/>
                  <a:pt x="12650" y="11063"/>
                </a:cubicBezTo>
                <a:cubicBezTo>
                  <a:pt x="12609" y="11145"/>
                  <a:pt x="12502" y="11240"/>
                  <a:pt x="12427" y="11286"/>
                </a:cubicBezTo>
                <a:cubicBezTo>
                  <a:pt x="12411" y="11294"/>
                  <a:pt x="12394" y="11303"/>
                  <a:pt x="12378" y="113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5120" y="4000680"/>
            <a:ext cx="125640" cy="134640"/>
          </a:xfrm>
          <a:custGeom>
            <a:avLst/>
            <a:gdLst/>
            <a:ahLst/>
            <a:rect l="l" t="t" r="r" b="b"/>
            <a:pathLst>
              <a:path w="349" h="374">
                <a:moveTo>
                  <a:pt x="13568" y="11137"/>
                </a:moveTo>
                <a:cubicBezTo>
                  <a:pt x="13543" y="11137"/>
                  <a:pt x="13535" y="11137"/>
                  <a:pt x="13543" y="11112"/>
                </a:cubicBezTo>
                <a:cubicBezTo>
                  <a:pt x="13601" y="11126"/>
                  <a:pt x="13648" y="11137"/>
                  <a:pt x="13717" y="11137"/>
                </a:cubicBezTo>
                <a:cubicBezTo>
                  <a:pt x="13775" y="11137"/>
                  <a:pt x="13833" y="11137"/>
                  <a:pt x="13891" y="11137"/>
                </a:cubicBezTo>
              </a:path>
              <a:path w="349" h="374">
                <a:moveTo>
                  <a:pt x="13692" y="11336"/>
                </a:moveTo>
                <a:cubicBezTo>
                  <a:pt x="13677" y="11371"/>
                  <a:pt x="13638" y="11433"/>
                  <a:pt x="13692" y="11460"/>
                </a:cubicBezTo>
                <a:cubicBezTo>
                  <a:pt x="13731" y="11480"/>
                  <a:pt x="13767" y="11485"/>
                  <a:pt x="13816" y="11485"/>
                </a:cubicBezTo>
                <a:cubicBezTo>
                  <a:pt x="13833" y="11485"/>
                  <a:pt x="13849" y="11485"/>
                  <a:pt x="13866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13240" y="3911760"/>
            <a:ext cx="1179720" cy="258480"/>
          </a:xfrm>
          <a:custGeom>
            <a:avLst/>
            <a:gdLst/>
            <a:ahLst/>
            <a:rect l="l" t="t" r="r" b="b"/>
            <a:pathLst>
              <a:path w="3275" h="721">
                <a:moveTo>
                  <a:pt x="14784" y="11485"/>
                </a:moveTo>
                <a:cubicBezTo>
                  <a:pt x="14784" y="11509"/>
                  <a:pt x="14784" y="11517"/>
                  <a:pt x="14759" y="11509"/>
                </a:cubicBezTo>
                <a:cubicBezTo>
                  <a:pt x="14796" y="11509"/>
                  <a:pt x="14863" y="11525"/>
                  <a:pt x="14883" y="11485"/>
                </a:cubicBezTo>
                <a:cubicBezTo>
                  <a:pt x="14883" y="11477"/>
                  <a:pt x="14883" y="11468"/>
                  <a:pt x="14883" y="11460"/>
                </a:cubicBezTo>
                <a:cubicBezTo>
                  <a:pt x="14874" y="11462"/>
                  <a:pt x="14779" y="11492"/>
                  <a:pt x="14784" y="11509"/>
                </a:cubicBezTo>
                <a:cubicBezTo>
                  <a:pt x="14792" y="11509"/>
                  <a:pt x="14800" y="11509"/>
                  <a:pt x="14808" y="11509"/>
                </a:cubicBezTo>
              </a:path>
              <a:path w="3275" h="721">
                <a:moveTo>
                  <a:pt x="15577" y="10939"/>
                </a:moveTo>
                <a:cubicBezTo>
                  <a:pt x="15503" y="10969"/>
                  <a:pt x="15414" y="11058"/>
                  <a:pt x="15379" y="11137"/>
                </a:cubicBezTo>
                <a:cubicBezTo>
                  <a:pt x="15349" y="11206"/>
                  <a:pt x="15282" y="11362"/>
                  <a:pt x="15379" y="11410"/>
                </a:cubicBezTo>
                <a:cubicBezTo>
                  <a:pt x="15455" y="11447"/>
                  <a:pt x="15552" y="11381"/>
                  <a:pt x="15602" y="11336"/>
                </a:cubicBezTo>
                <a:cubicBezTo>
                  <a:pt x="15686" y="11261"/>
                  <a:pt x="15690" y="11188"/>
                  <a:pt x="15652" y="11088"/>
                </a:cubicBezTo>
                <a:cubicBezTo>
                  <a:pt x="15638" y="11052"/>
                  <a:pt x="15592" y="10981"/>
                  <a:pt x="15553" y="10964"/>
                </a:cubicBezTo>
                <a:cubicBezTo>
                  <a:pt x="15545" y="10964"/>
                  <a:pt x="15536" y="10964"/>
                  <a:pt x="15528" y="10964"/>
                </a:cubicBezTo>
              </a:path>
              <a:path w="3275" h="721">
                <a:moveTo>
                  <a:pt x="15949" y="10864"/>
                </a:moveTo>
                <a:cubicBezTo>
                  <a:pt x="16002" y="10864"/>
                  <a:pt x="16011" y="10876"/>
                  <a:pt x="16049" y="10914"/>
                </a:cubicBezTo>
                <a:cubicBezTo>
                  <a:pt x="16075" y="10940"/>
                  <a:pt x="16107" y="11025"/>
                  <a:pt x="16098" y="11063"/>
                </a:cubicBezTo>
                <a:cubicBezTo>
                  <a:pt x="16082" y="11130"/>
                  <a:pt x="16019" y="11174"/>
                  <a:pt x="15974" y="11212"/>
                </a:cubicBezTo>
                <a:cubicBezTo>
                  <a:pt x="15966" y="11220"/>
                  <a:pt x="15957" y="11229"/>
                  <a:pt x="15949" y="11237"/>
                </a:cubicBezTo>
                <a:cubicBezTo>
                  <a:pt x="16027" y="11237"/>
                  <a:pt x="16109" y="11224"/>
                  <a:pt x="16173" y="11261"/>
                </a:cubicBezTo>
                <a:cubicBezTo>
                  <a:pt x="16160" y="11313"/>
                  <a:pt x="16120" y="11374"/>
                  <a:pt x="16073" y="11410"/>
                </a:cubicBezTo>
                <a:cubicBezTo>
                  <a:pt x="16012" y="11457"/>
                  <a:pt x="15946" y="11499"/>
                  <a:pt x="15875" y="11509"/>
                </a:cubicBezTo>
              </a:path>
              <a:path w="3275" h="721">
                <a:moveTo>
                  <a:pt x="16446" y="10889"/>
                </a:moveTo>
                <a:cubicBezTo>
                  <a:pt x="16500" y="10889"/>
                  <a:pt x="16538" y="10877"/>
                  <a:pt x="16545" y="10939"/>
                </a:cubicBezTo>
                <a:cubicBezTo>
                  <a:pt x="16550" y="10985"/>
                  <a:pt x="16546" y="11024"/>
                  <a:pt x="16520" y="11063"/>
                </a:cubicBezTo>
                <a:cubicBezTo>
                  <a:pt x="16497" y="11098"/>
                  <a:pt x="16480" y="11121"/>
                  <a:pt x="16470" y="11162"/>
                </a:cubicBezTo>
                <a:cubicBezTo>
                  <a:pt x="16522" y="11162"/>
                  <a:pt x="16545" y="11158"/>
                  <a:pt x="16570" y="11187"/>
                </a:cubicBezTo>
                <a:cubicBezTo>
                  <a:pt x="16597" y="11219"/>
                  <a:pt x="16608" y="11267"/>
                  <a:pt x="16594" y="11311"/>
                </a:cubicBezTo>
                <a:cubicBezTo>
                  <a:pt x="16572" y="11380"/>
                  <a:pt x="16456" y="11448"/>
                  <a:pt x="16396" y="11485"/>
                </a:cubicBezTo>
                <a:cubicBezTo>
                  <a:pt x="16352" y="11512"/>
                  <a:pt x="16293" y="11548"/>
                  <a:pt x="16247" y="11559"/>
                </a:cubicBezTo>
              </a:path>
              <a:path w="3275" h="721">
                <a:moveTo>
                  <a:pt x="16867" y="10964"/>
                </a:moveTo>
                <a:cubicBezTo>
                  <a:pt x="16880" y="10926"/>
                  <a:pt x="16897" y="10939"/>
                  <a:pt x="16942" y="10939"/>
                </a:cubicBezTo>
                <a:cubicBezTo>
                  <a:pt x="16958" y="10939"/>
                  <a:pt x="16975" y="10939"/>
                  <a:pt x="16991" y="10939"/>
                </a:cubicBezTo>
                <a:cubicBezTo>
                  <a:pt x="16991" y="10987"/>
                  <a:pt x="16985" y="11032"/>
                  <a:pt x="16942" y="11063"/>
                </a:cubicBezTo>
                <a:cubicBezTo>
                  <a:pt x="16889" y="11101"/>
                  <a:pt x="16840" y="11115"/>
                  <a:pt x="16793" y="11162"/>
                </a:cubicBezTo>
                <a:cubicBezTo>
                  <a:pt x="16849" y="11162"/>
                  <a:pt x="16872" y="11124"/>
                  <a:pt x="16917" y="11112"/>
                </a:cubicBezTo>
                <a:cubicBezTo>
                  <a:pt x="16965" y="11099"/>
                  <a:pt x="16983" y="11113"/>
                  <a:pt x="17016" y="11137"/>
                </a:cubicBezTo>
                <a:cubicBezTo>
                  <a:pt x="17007" y="11173"/>
                  <a:pt x="16971" y="11259"/>
                  <a:pt x="16942" y="11286"/>
                </a:cubicBezTo>
                <a:cubicBezTo>
                  <a:pt x="16891" y="11333"/>
                  <a:pt x="16813" y="11359"/>
                  <a:pt x="16768" y="11385"/>
                </a:cubicBezTo>
                <a:cubicBezTo>
                  <a:pt x="16745" y="11408"/>
                  <a:pt x="16737" y="11419"/>
                  <a:pt x="16743" y="11385"/>
                </a:cubicBezTo>
              </a:path>
              <a:path w="3275" h="721">
                <a:moveTo>
                  <a:pt x="17363" y="10988"/>
                </a:moveTo>
                <a:cubicBezTo>
                  <a:pt x="17353" y="11030"/>
                  <a:pt x="17334" y="11068"/>
                  <a:pt x="17314" y="11112"/>
                </a:cubicBezTo>
                <a:cubicBezTo>
                  <a:pt x="17287" y="11169"/>
                  <a:pt x="17268" y="11223"/>
                  <a:pt x="17264" y="11286"/>
                </a:cubicBezTo>
                <a:cubicBezTo>
                  <a:pt x="17261" y="11338"/>
                  <a:pt x="17250" y="11342"/>
                  <a:pt x="17239" y="11385"/>
                </a:cubicBezTo>
                <a:cubicBezTo>
                  <a:pt x="17248" y="11349"/>
                  <a:pt x="17288" y="11292"/>
                  <a:pt x="17314" y="11261"/>
                </a:cubicBezTo>
                <a:cubicBezTo>
                  <a:pt x="17367" y="11196"/>
                  <a:pt x="17412" y="11129"/>
                  <a:pt x="17462" y="11063"/>
                </a:cubicBezTo>
                <a:cubicBezTo>
                  <a:pt x="17470" y="11055"/>
                  <a:pt x="17479" y="11046"/>
                  <a:pt x="17487" y="11038"/>
                </a:cubicBezTo>
                <a:cubicBezTo>
                  <a:pt x="17487" y="11087"/>
                  <a:pt x="17470" y="11124"/>
                  <a:pt x="17462" y="11162"/>
                </a:cubicBezTo>
                <a:cubicBezTo>
                  <a:pt x="17450" y="11224"/>
                  <a:pt x="17475" y="11261"/>
                  <a:pt x="17487" y="11311"/>
                </a:cubicBezTo>
                <a:cubicBezTo>
                  <a:pt x="17529" y="11311"/>
                  <a:pt x="17558" y="11298"/>
                  <a:pt x="17587" y="11261"/>
                </a:cubicBezTo>
                <a:cubicBezTo>
                  <a:pt x="17630" y="11206"/>
                  <a:pt x="17667" y="11141"/>
                  <a:pt x="17711" y="11088"/>
                </a:cubicBezTo>
                <a:cubicBezTo>
                  <a:pt x="17740" y="11053"/>
                  <a:pt x="17777" y="11021"/>
                  <a:pt x="17810" y="10988"/>
                </a:cubicBezTo>
                <a:cubicBezTo>
                  <a:pt x="17840" y="10998"/>
                  <a:pt x="17854" y="11069"/>
                  <a:pt x="17859" y="11112"/>
                </a:cubicBezTo>
                <a:cubicBezTo>
                  <a:pt x="17871" y="11206"/>
                  <a:pt x="17881" y="11326"/>
                  <a:pt x="17934" y="11410"/>
                </a:cubicBezTo>
                <a:cubicBezTo>
                  <a:pt x="17970" y="11467"/>
                  <a:pt x="17995" y="11533"/>
                  <a:pt x="18033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70840" y="3938760"/>
            <a:ext cx="1589040" cy="625320"/>
          </a:xfrm>
          <a:custGeom>
            <a:avLst/>
            <a:gdLst/>
            <a:ahLst/>
            <a:rect l="l" t="t" r="r" b="b"/>
            <a:pathLst>
              <a:path w="4416" h="1737">
                <a:moveTo>
                  <a:pt x="20638" y="11460"/>
                </a:moveTo>
                <a:cubicBezTo>
                  <a:pt x="20610" y="11565"/>
                  <a:pt x="20558" y="11675"/>
                  <a:pt x="20538" y="11782"/>
                </a:cubicBezTo>
                <a:cubicBezTo>
                  <a:pt x="20528" y="11836"/>
                  <a:pt x="20538" y="11901"/>
                  <a:pt x="20538" y="11956"/>
                </a:cubicBezTo>
                <a:cubicBezTo>
                  <a:pt x="20508" y="11916"/>
                  <a:pt x="20501" y="11862"/>
                  <a:pt x="20513" y="11807"/>
                </a:cubicBezTo>
                <a:cubicBezTo>
                  <a:pt x="20540" y="11682"/>
                  <a:pt x="20590" y="11573"/>
                  <a:pt x="20638" y="11460"/>
                </a:cubicBezTo>
                <a:cubicBezTo>
                  <a:pt x="20672" y="11380"/>
                  <a:pt x="20700" y="11323"/>
                  <a:pt x="20762" y="11261"/>
                </a:cubicBezTo>
                <a:cubicBezTo>
                  <a:pt x="20819" y="11276"/>
                  <a:pt x="20830" y="11349"/>
                  <a:pt x="20836" y="11410"/>
                </a:cubicBezTo>
                <a:cubicBezTo>
                  <a:pt x="20849" y="11543"/>
                  <a:pt x="20853" y="11676"/>
                  <a:pt x="20886" y="11807"/>
                </a:cubicBezTo>
                <a:cubicBezTo>
                  <a:pt x="20902" y="11868"/>
                  <a:pt x="20925" y="11934"/>
                  <a:pt x="20960" y="11981"/>
                </a:cubicBezTo>
              </a:path>
              <a:path w="4416" h="1737">
                <a:moveTo>
                  <a:pt x="20513" y="11857"/>
                </a:moveTo>
                <a:cubicBezTo>
                  <a:pt x="20602" y="11857"/>
                  <a:pt x="20652" y="11837"/>
                  <a:pt x="20737" y="11807"/>
                </a:cubicBezTo>
                <a:cubicBezTo>
                  <a:pt x="20837" y="11772"/>
                  <a:pt x="20917" y="11732"/>
                  <a:pt x="21010" y="11683"/>
                </a:cubicBezTo>
                <a:cubicBezTo>
                  <a:pt x="21050" y="11663"/>
                  <a:pt x="21056" y="11654"/>
                  <a:pt x="21084" y="11658"/>
                </a:cubicBezTo>
                <a:cubicBezTo>
                  <a:pt x="21084" y="11725"/>
                  <a:pt x="21069" y="11771"/>
                  <a:pt x="21059" y="11832"/>
                </a:cubicBezTo>
                <a:cubicBezTo>
                  <a:pt x="21050" y="11886"/>
                  <a:pt x="21045" y="11951"/>
                  <a:pt x="21109" y="11956"/>
                </a:cubicBezTo>
                <a:cubicBezTo>
                  <a:pt x="21159" y="11960"/>
                  <a:pt x="21247" y="11878"/>
                  <a:pt x="21282" y="11832"/>
                </a:cubicBezTo>
                <a:cubicBezTo>
                  <a:pt x="21316" y="11788"/>
                  <a:pt x="21332" y="11737"/>
                  <a:pt x="21332" y="11683"/>
                </a:cubicBezTo>
                <a:cubicBezTo>
                  <a:pt x="21341" y="11744"/>
                  <a:pt x="21352" y="11820"/>
                  <a:pt x="21382" y="11881"/>
                </a:cubicBezTo>
                <a:cubicBezTo>
                  <a:pt x="21407" y="11933"/>
                  <a:pt x="21474" y="11977"/>
                  <a:pt x="21530" y="11981"/>
                </a:cubicBezTo>
                <a:cubicBezTo>
                  <a:pt x="21547" y="11981"/>
                  <a:pt x="21563" y="11981"/>
                  <a:pt x="21580" y="11981"/>
                </a:cubicBezTo>
              </a:path>
              <a:path w="4416" h="1737">
                <a:moveTo>
                  <a:pt x="21803" y="11385"/>
                </a:moveTo>
                <a:cubicBezTo>
                  <a:pt x="21803" y="11468"/>
                  <a:pt x="21800" y="11405"/>
                  <a:pt x="21754" y="11385"/>
                </a:cubicBezTo>
                <a:cubicBezTo>
                  <a:pt x="21724" y="11372"/>
                  <a:pt x="21649" y="11389"/>
                  <a:pt x="21630" y="11410"/>
                </a:cubicBezTo>
                <a:cubicBezTo>
                  <a:pt x="21569" y="11476"/>
                  <a:pt x="21516" y="11562"/>
                  <a:pt x="21530" y="11658"/>
                </a:cubicBezTo>
                <a:cubicBezTo>
                  <a:pt x="21549" y="11784"/>
                  <a:pt x="21604" y="11838"/>
                  <a:pt x="21729" y="11857"/>
                </a:cubicBezTo>
                <a:cubicBezTo>
                  <a:pt x="21814" y="11870"/>
                  <a:pt x="21932" y="11863"/>
                  <a:pt x="22002" y="11807"/>
                </a:cubicBezTo>
                <a:cubicBezTo>
                  <a:pt x="22097" y="11732"/>
                  <a:pt x="22159" y="11645"/>
                  <a:pt x="22200" y="11534"/>
                </a:cubicBezTo>
                <a:cubicBezTo>
                  <a:pt x="22228" y="11458"/>
                  <a:pt x="22240" y="11402"/>
                  <a:pt x="22200" y="11336"/>
                </a:cubicBezTo>
                <a:cubicBezTo>
                  <a:pt x="22128" y="11336"/>
                  <a:pt x="22091" y="11351"/>
                  <a:pt x="22076" y="11435"/>
                </a:cubicBezTo>
                <a:cubicBezTo>
                  <a:pt x="22055" y="11556"/>
                  <a:pt x="22086" y="11649"/>
                  <a:pt x="22126" y="11757"/>
                </a:cubicBezTo>
                <a:cubicBezTo>
                  <a:pt x="22156" y="11837"/>
                  <a:pt x="22179" y="11883"/>
                  <a:pt x="22225" y="11956"/>
                </a:cubicBezTo>
              </a:path>
              <a:path w="4416" h="1737">
                <a:moveTo>
                  <a:pt x="22423" y="12402"/>
                </a:moveTo>
                <a:cubicBezTo>
                  <a:pt x="22388" y="12394"/>
                  <a:pt x="22357" y="12381"/>
                  <a:pt x="22324" y="12378"/>
                </a:cubicBezTo>
                <a:cubicBezTo>
                  <a:pt x="22127" y="12359"/>
                  <a:pt x="21921" y="12401"/>
                  <a:pt x="21729" y="12427"/>
                </a:cubicBezTo>
                <a:cubicBezTo>
                  <a:pt x="21322" y="12483"/>
                  <a:pt x="20918" y="12573"/>
                  <a:pt x="20513" y="12626"/>
                </a:cubicBezTo>
                <a:cubicBezTo>
                  <a:pt x="20382" y="12643"/>
                  <a:pt x="20246" y="12663"/>
                  <a:pt x="20117" y="12675"/>
                </a:cubicBezTo>
                <a:cubicBezTo>
                  <a:pt x="20068" y="12679"/>
                  <a:pt x="20017" y="12672"/>
                  <a:pt x="19968" y="12675"/>
                </a:cubicBezTo>
                <a:cubicBezTo>
                  <a:pt x="19979" y="12664"/>
                  <a:pt x="20030" y="12619"/>
                  <a:pt x="20042" y="12601"/>
                </a:cubicBezTo>
                <a:cubicBezTo>
                  <a:pt x="20069" y="12559"/>
                  <a:pt x="20063" y="12552"/>
                  <a:pt x="20067" y="12502"/>
                </a:cubicBezTo>
                <a:cubicBezTo>
                  <a:pt x="20072" y="12435"/>
                  <a:pt x="20087" y="12363"/>
                  <a:pt x="20092" y="12303"/>
                </a:cubicBezTo>
                <a:cubicBezTo>
                  <a:pt x="20103" y="12170"/>
                  <a:pt x="20130" y="12039"/>
                  <a:pt x="20141" y="11906"/>
                </a:cubicBezTo>
                <a:cubicBezTo>
                  <a:pt x="20150" y="11791"/>
                  <a:pt x="20159" y="11640"/>
                  <a:pt x="20117" y="11534"/>
                </a:cubicBezTo>
                <a:cubicBezTo>
                  <a:pt x="20094" y="11476"/>
                  <a:pt x="20037" y="11449"/>
                  <a:pt x="19993" y="11410"/>
                </a:cubicBezTo>
                <a:cubicBezTo>
                  <a:pt x="19958" y="11378"/>
                  <a:pt x="19940" y="11341"/>
                  <a:pt x="19918" y="11311"/>
                </a:cubicBezTo>
                <a:cubicBezTo>
                  <a:pt x="19941" y="11285"/>
                  <a:pt x="19929" y="11274"/>
                  <a:pt x="19968" y="11261"/>
                </a:cubicBezTo>
                <a:cubicBezTo>
                  <a:pt x="20019" y="11244"/>
                  <a:pt x="20057" y="11247"/>
                  <a:pt x="20117" y="11237"/>
                </a:cubicBezTo>
                <a:cubicBezTo>
                  <a:pt x="20202" y="11222"/>
                  <a:pt x="20302" y="11204"/>
                  <a:pt x="20389" y="11187"/>
                </a:cubicBezTo>
                <a:cubicBezTo>
                  <a:pt x="20546" y="11155"/>
                  <a:pt x="20703" y="11117"/>
                  <a:pt x="20861" y="11088"/>
                </a:cubicBezTo>
                <a:cubicBezTo>
                  <a:pt x="21033" y="11056"/>
                  <a:pt x="21208" y="11025"/>
                  <a:pt x="21382" y="11013"/>
                </a:cubicBezTo>
                <a:cubicBezTo>
                  <a:pt x="21581" y="11000"/>
                  <a:pt x="21782" y="11005"/>
                  <a:pt x="21977" y="10988"/>
                </a:cubicBezTo>
                <a:cubicBezTo>
                  <a:pt x="22034" y="10983"/>
                  <a:pt x="22106" y="10969"/>
                  <a:pt x="22151" y="10964"/>
                </a:cubicBezTo>
                <a:cubicBezTo>
                  <a:pt x="22277" y="10951"/>
                  <a:pt x="22409" y="10959"/>
                  <a:pt x="22523" y="10939"/>
                </a:cubicBezTo>
                <a:cubicBezTo>
                  <a:pt x="22531" y="10939"/>
                  <a:pt x="22539" y="10939"/>
                  <a:pt x="22547" y="10939"/>
                </a:cubicBezTo>
                <a:cubicBezTo>
                  <a:pt x="22552" y="10972"/>
                  <a:pt x="22542" y="10955"/>
                  <a:pt x="22547" y="10988"/>
                </a:cubicBezTo>
                <a:cubicBezTo>
                  <a:pt x="22552" y="11024"/>
                  <a:pt x="22584" y="11098"/>
                  <a:pt x="22597" y="11137"/>
                </a:cubicBezTo>
                <a:cubicBezTo>
                  <a:pt x="22617" y="11198"/>
                  <a:pt x="22632" y="11250"/>
                  <a:pt x="22647" y="11311"/>
                </a:cubicBezTo>
                <a:cubicBezTo>
                  <a:pt x="22665" y="11381"/>
                  <a:pt x="22693" y="11419"/>
                  <a:pt x="22721" y="11485"/>
                </a:cubicBezTo>
                <a:cubicBezTo>
                  <a:pt x="22745" y="11540"/>
                  <a:pt x="22734" y="11596"/>
                  <a:pt x="22746" y="11658"/>
                </a:cubicBezTo>
                <a:cubicBezTo>
                  <a:pt x="22756" y="11707"/>
                  <a:pt x="22788" y="11751"/>
                  <a:pt x="22796" y="11807"/>
                </a:cubicBezTo>
                <a:cubicBezTo>
                  <a:pt x="22812" y="11911"/>
                  <a:pt x="22786" y="12011"/>
                  <a:pt x="22820" y="12105"/>
                </a:cubicBezTo>
                <a:cubicBezTo>
                  <a:pt x="22830" y="12134"/>
                  <a:pt x="22846" y="12160"/>
                  <a:pt x="22845" y="12179"/>
                </a:cubicBezTo>
                <a:cubicBezTo>
                  <a:pt x="22843" y="12221"/>
                  <a:pt x="22813" y="12243"/>
                  <a:pt x="22796" y="12278"/>
                </a:cubicBezTo>
                <a:cubicBezTo>
                  <a:pt x="22767" y="12340"/>
                  <a:pt x="22787" y="12289"/>
                  <a:pt x="22746" y="12328"/>
                </a:cubicBezTo>
                <a:cubicBezTo>
                  <a:pt x="22695" y="12376"/>
                  <a:pt x="22664" y="12379"/>
                  <a:pt x="22597" y="12402"/>
                </a:cubicBezTo>
                <a:cubicBezTo>
                  <a:pt x="22477" y="12443"/>
                  <a:pt x="22369" y="12476"/>
                  <a:pt x="22250" y="12502"/>
                </a:cubicBezTo>
                <a:cubicBezTo>
                  <a:pt x="22183" y="12517"/>
                  <a:pt x="22116" y="12537"/>
                  <a:pt x="22051" y="12551"/>
                </a:cubicBezTo>
              </a:path>
              <a:path w="4416" h="1737">
                <a:moveTo>
                  <a:pt x="23044" y="11584"/>
                </a:moveTo>
                <a:cubicBezTo>
                  <a:pt x="23138" y="11567"/>
                  <a:pt x="23158" y="11529"/>
                  <a:pt x="23242" y="11485"/>
                </a:cubicBezTo>
                <a:cubicBezTo>
                  <a:pt x="23282" y="11464"/>
                  <a:pt x="23303" y="11445"/>
                  <a:pt x="23341" y="11435"/>
                </a:cubicBezTo>
                <a:cubicBezTo>
                  <a:pt x="23330" y="11492"/>
                  <a:pt x="23299" y="11552"/>
                  <a:pt x="23292" y="11609"/>
                </a:cubicBezTo>
                <a:cubicBezTo>
                  <a:pt x="23279" y="11711"/>
                  <a:pt x="23295" y="11812"/>
                  <a:pt x="23316" y="11906"/>
                </a:cubicBezTo>
                <a:cubicBezTo>
                  <a:pt x="23316" y="11914"/>
                  <a:pt x="23316" y="11923"/>
                  <a:pt x="23316" y="11931"/>
                </a:cubicBezTo>
              </a:path>
              <a:path w="4416" h="1737">
                <a:moveTo>
                  <a:pt x="23118" y="12005"/>
                </a:moveTo>
                <a:cubicBezTo>
                  <a:pt x="23188" y="11971"/>
                  <a:pt x="23245" y="11950"/>
                  <a:pt x="23316" y="11931"/>
                </a:cubicBezTo>
                <a:cubicBezTo>
                  <a:pt x="23383" y="11913"/>
                  <a:pt x="23424" y="11889"/>
                  <a:pt x="23490" y="11881"/>
                </a:cubicBezTo>
              </a:path>
              <a:path w="4416" h="1737">
                <a:moveTo>
                  <a:pt x="23812" y="11782"/>
                </a:moveTo>
                <a:cubicBezTo>
                  <a:pt x="23752" y="11756"/>
                  <a:pt x="23729" y="11757"/>
                  <a:pt x="23664" y="11757"/>
                </a:cubicBezTo>
                <a:cubicBezTo>
                  <a:pt x="23628" y="11757"/>
                  <a:pt x="23592" y="11793"/>
                  <a:pt x="23614" y="11832"/>
                </a:cubicBezTo>
                <a:cubicBezTo>
                  <a:pt x="23648" y="11893"/>
                  <a:pt x="23723" y="11862"/>
                  <a:pt x="23763" y="11906"/>
                </a:cubicBezTo>
                <a:cubicBezTo>
                  <a:pt x="23785" y="11930"/>
                  <a:pt x="23800" y="11996"/>
                  <a:pt x="23788" y="12030"/>
                </a:cubicBezTo>
                <a:cubicBezTo>
                  <a:pt x="23768" y="12071"/>
                  <a:pt x="23770" y="12087"/>
                  <a:pt x="23738" y="12080"/>
                </a:cubicBezTo>
              </a:path>
              <a:path w="4416" h="1737">
                <a:moveTo>
                  <a:pt x="23961" y="11410"/>
                </a:moveTo>
                <a:cubicBezTo>
                  <a:pt x="23972" y="11485"/>
                  <a:pt x="23987" y="11554"/>
                  <a:pt x="24011" y="11633"/>
                </a:cubicBezTo>
                <a:cubicBezTo>
                  <a:pt x="24039" y="11728"/>
                  <a:pt x="24051" y="11811"/>
                  <a:pt x="24085" y="11906"/>
                </a:cubicBezTo>
              </a:path>
              <a:path w="4416" h="1737">
                <a:moveTo>
                  <a:pt x="23912" y="11757"/>
                </a:moveTo>
                <a:cubicBezTo>
                  <a:pt x="23999" y="11717"/>
                  <a:pt x="24112" y="11648"/>
                  <a:pt x="24209" y="11633"/>
                </a:cubicBezTo>
                <a:cubicBezTo>
                  <a:pt x="24277" y="11633"/>
                  <a:pt x="24296" y="11636"/>
                  <a:pt x="24333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70160" y="4527720"/>
            <a:ext cx="36720" cy="36360"/>
          </a:xfrm>
          <a:custGeom>
            <a:avLst/>
            <a:gdLst/>
            <a:ahLst/>
            <a:rect l="l" t="t" r="r" b="b"/>
            <a:pathLst>
              <a:path w="100" h="100">
                <a:moveTo>
                  <a:pt x="8806" y="12650"/>
                </a:moveTo>
                <a:cubicBezTo>
                  <a:pt x="8830" y="12650"/>
                  <a:pt x="8838" y="12650"/>
                  <a:pt x="8830" y="12626"/>
                </a:cubicBezTo>
                <a:cubicBezTo>
                  <a:pt x="8819" y="12671"/>
                  <a:pt x="8797" y="12700"/>
                  <a:pt x="8855" y="12650"/>
                </a:cubicBezTo>
                <a:cubicBezTo>
                  <a:pt x="8883" y="12625"/>
                  <a:pt x="8883" y="12606"/>
                  <a:pt x="8905" y="12576"/>
                </a:cubicBezTo>
                <a:cubicBezTo>
                  <a:pt x="8873" y="12587"/>
                  <a:pt x="8865" y="12610"/>
                  <a:pt x="8855" y="12650"/>
                </a:cubicBezTo>
                <a:cubicBezTo>
                  <a:pt x="8882" y="12641"/>
                  <a:pt x="8901" y="12633"/>
                  <a:pt x="8905" y="12601"/>
                </a:cubicBezTo>
                <a:cubicBezTo>
                  <a:pt x="8905" y="12593"/>
                  <a:pt x="8905" y="12584"/>
                  <a:pt x="8905" y="125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67080" y="4330800"/>
            <a:ext cx="874800" cy="233280"/>
          </a:xfrm>
          <a:custGeom>
            <a:avLst/>
            <a:gdLst/>
            <a:ahLst/>
            <a:rect l="l" t="t" r="r" b="b"/>
            <a:pathLst>
              <a:path w="2432" h="646">
                <a:moveTo>
                  <a:pt x="9351" y="12179"/>
                </a:moveTo>
                <a:cubicBezTo>
                  <a:pt x="9376" y="12145"/>
                  <a:pt x="9383" y="12119"/>
                  <a:pt x="9426" y="12105"/>
                </a:cubicBezTo>
                <a:cubicBezTo>
                  <a:pt x="9474" y="12090"/>
                  <a:pt x="9518" y="12125"/>
                  <a:pt x="9550" y="12154"/>
                </a:cubicBezTo>
                <a:cubicBezTo>
                  <a:pt x="9579" y="12180"/>
                  <a:pt x="9589" y="12239"/>
                  <a:pt x="9575" y="12278"/>
                </a:cubicBezTo>
                <a:cubicBezTo>
                  <a:pt x="9562" y="12315"/>
                  <a:pt x="9514" y="12385"/>
                  <a:pt x="9475" y="12402"/>
                </a:cubicBezTo>
                <a:cubicBezTo>
                  <a:pt x="9451" y="12402"/>
                  <a:pt x="9442" y="12402"/>
                  <a:pt x="9426" y="12402"/>
                </a:cubicBezTo>
                <a:cubicBezTo>
                  <a:pt x="9470" y="12370"/>
                  <a:pt x="9493" y="12358"/>
                  <a:pt x="9550" y="12353"/>
                </a:cubicBezTo>
                <a:cubicBezTo>
                  <a:pt x="9595" y="12349"/>
                  <a:pt x="9616" y="12349"/>
                  <a:pt x="9649" y="12378"/>
                </a:cubicBezTo>
                <a:cubicBezTo>
                  <a:pt x="9691" y="12415"/>
                  <a:pt x="9682" y="12483"/>
                  <a:pt x="9649" y="12526"/>
                </a:cubicBezTo>
                <a:cubicBezTo>
                  <a:pt x="9607" y="12580"/>
                  <a:pt x="9538" y="12650"/>
                  <a:pt x="9475" y="12675"/>
                </a:cubicBezTo>
                <a:cubicBezTo>
                  <a:pt x="9435" y="12691"/>
                  <a:pt x="9451" y="12623"/>
                  <a:pt x="9451" y="12601"/>
                </a:cubicBezTo>
              </a:path>
              <a:path w="2432" h="646">
                <a:moveTo>
                  <a:pt x="9947" y="12105"/>
                </a:moveTo>
                <a:cubicBezTo>
                  <a:pt x="9939" y="12097"/>
                  <a:pt x="9930" y="12088"/>
                  <a:pt x="9922" y="12080"/>
                </a:cubicBezTo>
                <a:cubicBezTo>
                  <a:pt x="9932" y="12051"/>
                  <a:pt x="9956" y="12035"/>
                  <a:pt x="9996" y="12030"/>
                </a:cubicBezTo>
                <a:cubicBezTo>
                  <a:pt x="10084" y="12020"/>
                  <a:pt x="10171" y="12033"/>
                  <a:pt x="10244" y="12055"/>
                </a:cubicBezTo>
                <a:cubicBezTo>
                  <a:pt x="10280" y="12066"/>
                  <a:pt x="10278" y="12159"/>
                  <a:pt x="10269" y="12204"/>
                </a:cubicBezTo>
                <a:cubicBezTo>
                  <a:pt x="10247" y="12313"/>
                  <a:pt x="10183" y="12400"/>
                  <a:pt x="10145" y="12502"/>
                </a:cubicBezTo>
                <a:cubicBezTo>
                  <a:pt x="10140" y="12514"/>
                  <a:pt x="10070" y="12654"/>
                  <a:pt x="10096" y="12675"/>
                </a:cubicBezTo>
                <a:cubicBezTo>
                  <a:pt x="10124" y="12675"/>
                  <a:pt x="10134" y="12672"/>
                  <a:pt x="10145" y="12650"/>
                </a:cubicBezTo>
              </a:path>
              <a:path w="2432" h="646">
                <a:moveTo>
                  <a:pt x="10691" y="12055"/>
                </a:moveTo>
                <a:cubicBezTo>
                  <a:pt x="10757" y="12055"/>
                  <a:pt x="10720" y="12074"/>
                  <a:pt x="10790" y="12080"/>
                </a:cubicBezTo>
                <a:cubicBezTo>
                  <a:pt x="10855" y="12086"/>
                  <a:pt x="10881" y="12065"/>
                  <a:pt x="10939" y="12055"/>
                </a:cubicBezTo>
                <a:cubicBezTo>
                  <a:pt x="10955" y="12055"/>
                  <a:pt x="10972" y="12055"/>
                  <a:pt x="10988" y="12055"/>
                </a:cubicBezTo>
              </a:path>
              <a:path w="2432" h="646">
                <a:moveTo>
                  <a:pt x="10740" y="12105"/>
                </a:moveTo>
                <a:cubicBezTo>
                  <a:pt x="10661" y="12138"/>
                  <a:pt x="10610" y="12174"/>
                  <a:pt x="10542" y="12204"/>
                </a:cubicBezTo>
                <a:cubicBezTo>
                  <a:pt x="10534" y="12204"/>
                  <a:pt x="10525" y="12204"/>
                  <a:pt x="10517" y="12204"/>
                </a:cubicBezTo>
                <a:cubicBezTo>
                  <a:pt x="10525" y="12235"/>
                  <a:pt x="10555" y="12315"/>
                  <a:pt x="10592" y="12328"/>
                </a:cubicBezTo>
                <a:cubicBezTo>
                  <a:pt x="10645" y="12347"/>
                  <a:pt x="10733" y="12369"/>
                  <a:pt x="10790" y="12378"/>
                </a:cubicBezTo>
                <a:cubicBezTo>
                  <a:pt x="10834" y="12385"/>
                  <a:pt x="10883" y="12383"/>
                  <a:pt x="10889" y="12427"/>
                </a:cubicBezTo>
                <a:cubicBezTo>
                  <a:pt x="10896" y="12480"/>
                  <a:pt x="10829" y="12528"/>
                  <a:pt x="10790" y="12551"/>
                </a:cubicBezTo>
                <a:cubicBezTo>
                  <a:pt x="10730" y="12586"/>
                  <a:pt x="10711" y="12601"/>
                  <a:pt x="10641" y="12601"/>
                </a:cubicBezTo>
              </a:path>
              <a:path w="2432" h="646">
                <a:moveTo>
                  <a:pt x="11460" y="12080"/>
                </a:moveTo>
                <a:cubicBezTo>
                  <a:pt x="11446" y="12136"/>
                  <a:pt x="11430" y="12191"/>
                  <a:pt x="11410" y="12254"/>
                </a:cubicBezTo>
                <a:cubicBezTo>
                  <a:pt x="11380" y="12351"/>
                  <a:pt x="11313" y="12419"/>
                  <a:pt x="11261" y="12502"/>
                </a:cubicBezTo>
                <a:cubicBezTo>
                  <a:pt x="11234" y="12545"/>
                  <a:pt x="11219" y="12586"/>
                  <a:pt x="11187" y="12626"/>
                </a:cubicBezTo>
                <a:cubicBezTo>
                  <a:pt x="11244" y="12614"/>
                  <a:pt x="11304" y="12591"/>
                  <a:pt x="11361" y="12576"/>
                </a:cubicBezTo>
                <a:cubicBezTo>
                  <a:pt x="11457" y="12551"/>
                  <a:pt x="11512" y="12539"/>
                  <a:pt x="11609" y="12576"/>
                </a:cubicBezTo>
                <a:cubicBezTo>
                  <a:pt x="11672" y="12600"/>
                  <a:pt x="11719" y="12617"/>
                  <a:pt x="11782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62040" y="4572000"/>
            <a:ext cx="669960" cy="473040"/>
          </a:xfrm>
          <a:custGeom>
            <a:avLst/>
            <a:gdLst/>
            <a:ahLst/>
            <a:rect l="l" t="t" r="r" b="b"/>
            <a:pathLst>
              <a:path w="1861" h="1316">
                <a:moveTo>
                  <a:pt x="4862" y="12750"/>
                </a:moveTo>
                <a:cubicBezTo>
                  <a:pt x="4862" y="12774"/>
                  <a:pt x="4862" y="12782"/>
                  <a:pt x="4887" y="12774"/>
                </a:cubicBezTo>
                <a:cubicBezTo>
                  <a:pt x="4782" y="12774"/>
                  <a:pt x="4688" y="12782"/>
                  <a:pt x="4589" y="12799"/>
                </a:cubicBezTo>
                <a:cubicBezTo>
                  <a:pt x="4520" y="12811"/>
                  <a:pt x="4517" y="12805"/>
                  <a:pt x="4514" y="12874"/>
                </a:cubicBezTo>
                <a:cubicBezTo>
                  <a:pt x="4507" y="13024"/>
                  <a:pt x="4500" y="13173"/>
                  <a:pt x="4490" y="13320"/>
                </a:cubicBezTo>
                <a:cubicBezTo>
                  <a:pt x="4480" y="13470"/>
                  <a:pt x="4462" y="13598"/>
                  <a:pt x="4415" y="13742"/>
                </a:cubicBezTo>
                <a:cubicBezTo>
                  <a:pt x="4390" y="13819"/>
                  <a:pt x="4347" y="13891"/>
                  <a:pt x="4341" y="13965"/>
                </a:cubicBezTo>
                <a:cubicBezTo>
                  <a:pt x="4341" y="13973"/>
                  <a:pt x="4341" y="13982"/>
                  <a:pt x="4341" y="13990"/>
                </a:cubicBezTo>
                <a:cubicBezTo>
                  <a:pt x="4413" y="13990"/>
                  <a:pt x="4473" y="13974"/>
                  <a:pt x="4539" y="13965"/>
                </a:cubicBezTo>
                <a:cubicBezTo>
                  <a:pt x="4612" y="13955"/>
                  <a:pt x="4671" y="13946"/>
                  <a:pt x="4738" y="13940"/>
                </a:cubicBezTo>
                <a:cubicBezTo>
                  <a:pt x="4746" y="13940"/>
                  <a:pt x="4754" y="13940"/>
                  <a:pt x="4762" y="13940"/>
                </a:cubicBezTo>
              </a:path>
              <a:path w="1861" h="1316">
                <a:moveTo>
                  <a:pt x="5085" y="13122"/>
                </a:moveTo>
                <a:cubicBezTo>
                  <a:pt x="5076" y="13196"/>
                  <a:pt x="5062" y="13273"/>
                  <a:pt x="5035" y="13345"/>
                </a:cubicBezTo>
                <a:cubicBezTo>
                  <a:pt x="5007" y="13421"/>
                  <a:pt x="4989" y="13495"/>
                  <a:pt x="4961" y="13568"/>
                </a:cubicBezTo>
                <a:cubicBezTo>
                  <a:pt x="4961" y="13629"/>
                  <a:pt x="4981" y="13467"/>
                  <a:pt x="4986" y="13444"/>
                </a:cubicBezTo>
                <a:cubicBezTo>
                  <a:pt x="5011" y="13327"/>
                  <a:pt x="5048" y="13211"/>
                  <a:pt x="5085" y="13097"/>
                </a:cubicBezTo>
                <a:cubicBezTo>
                  <a:pt x="5105" y="13036"/>
                  <a:pt x="5106" y="12996"/>
                  <a:pt x="5135" y="12948"/>
                </a:cubicBezTo>
                <a:cubicBezTo>
                  <a:pt x="5168" y="12959"/>
                  <a:pt x="5191" y="13026"/>
                  <a:pt x="5209" y="13072"/>
                </a:cubicBezTo>
                <a:cubicBezTo>
                  <a:pt x="5245" y="13162"/>
                  <a:pt x="5260" y="13255"/>
                  <a:pt x="5283" y="13345"/>
                </a:cubicBezTo>
                <a:cubicBezTo>
                  <a:pt x="5299" y="13410"/>
                  <a:pt x="5308" y="13453"/>
                  <a:pt x="5308" y="13519"/>
                </a:cubicBezTo>
                <a:cubicBezTo>
                  <a:pt x="5308" y="13543"/>
                  <a:pt x="5308" y="13552"/>
                  <a:pt x="5308" y="13568"/>
                </a:cubicBezTo>
              </a:path>
              <a:path w="1861" h="1316">
                <a:moveTo>
                  <a:pt x="4986" y="13444"/>
                </a:moveTo>
                <a:cubicBezTo>
                  <a:pt x="4978" y="13436"/>
                  <a:pt x="4969" y="13427"/>
                  <a:pt x="4961" y="13419"/>
                </a:cubicBezTo>
                <a:cubicBezTo>
                  <a:pt x="5003" y="13378"/>
                  <a:pt x="5033" y="13348"/>
                  <a:pt x="5085" y="13320"/>
                </a:cubicBezTo>
                <a:cubicBezTo>
                  <a:pt x="5155" y="13283"/>
                  <a:pt x="5256" y="13237"/>
                  <a:pt x="5333" y="13221"/>
                </a:cubicBezTo>
                <a:cubicBezTo>
                  <a:pt x="5385" y="13221"/>
                  <a:pt x="5403" y="13220"/>
                  <a:pt x="5432" y="13196"/>
                </a:cubicBezTo>
              </a:path>
              <a:path w="1861" h="1316">
                <a:moveTo>
                  <a:pt x="5680" y="13196"/>
                </a:moveTo>
                <a:cubicBezTo>
                  <a:pt x="5624" y="13210"/>
                  <a:pt x="5576" y="13253"/>
                  <a:pt x="5531" y="13295"/>
                </a:cubicBezTo>
                <a:cubicBezTo>
                  <a:pt x="5491" y="13332"/>
                  <a:pt x="5482" y="13368"/>
                  <a:pt x="5482" y="13419"/>
                </a:cubicBezTo>
                <a:cubicBezTo>
                  <a:pt x="5482" y="13427"/>
                  <a:pt x="5482" y="13436"/>
                  <a:pt x="5482" y="13444"/>
                </a:cubicBezTo>
                <a:cubicBezTo>
                  <a:pt x="5555" y="13429"/>
                  <a:pt x="5559" y="13397"/>
                  <a:pt x="5606" y="13345"/>
                </a:cubicBezTo>
                <a:cubicBezTo>
                  <a:pt x="5633" y="13315"/>
                  <a:pt x="5644" y="13304"/>
                  <a:pt x="5680" y="13295"/>
                </a:cubicBezTo>
                <a:cubicBezTo>
                  <a:pt x="5680" y="13410"/>
                  <a:pt x="5650" y="13492"/>
                  <a:pt x="5631" y="13593"/>
                </a:cubicBezTo>
                <a:cubicBezTo>
                  <a:pt x="5608" y="13719"/>
                  <a:pt x="5581" y="13807"/>
                  <a:pt x="5507" y="13915"/>
                </a:cubicBezTo>
                <a:cubicBezTo>
                  <a:pt x="5465" y="13976"/>
                  <a:pt x="5466" y="14000"/>
                  <a:pt x="5407" y="14015"/>
                </a:cubicBezTo>
                <a:cubicBezTo>
                  <a:pt x="5363" y="13954"/>
                  <a:pt x="5381" y="13888"/>
                  <a:pt x="5407" y="13816"/>
                </a:cubicBezTo>
                <a:cubicBezTo>
                  <a:pt x="5437" y="13734"/>
                  <a:pt x="5510" y="13644"/>
                  <a:pt x="5581" y="13593"/>
                </a:cubicBezTo>
                <a:cubicBezTo>
                  <a:pt x="5633" y="13556"/>
                  <a:pt x="5699" y="13525"/>
                  <a:pt x="5755" y="13494"/>
                </a:cubicBezTo>
              </a:path>
              <a:path w="1861" h="1316">
                <a:moveTo>
                  <a:pt x="5854" y="12750"/>
                </a:moveTo>
                <a:cubicBezTo>
                  <a:pt x="5897" y="12781"/>
                  <a:pt x="5867" y="12763"/>
                  <a:pt x="5928" y="12750"/>
                </a:cubicBezTo>
                <a:cubicBezTo>
                  <a:pt x="5990" y="12737"/>
                  <a:pt x="6037" y="12715"/>
                  <a:pt x="6102" y="12700"/>
                </a:cubicBezTo>
                <a:cubicBezTo>
                  <a:pt x="6187" y="12680"/>
                  <a:pt x="6198" y="12727"/>
                  <a:pt x="6201" y="12799"/>
                </a:cubicBezTo>
                <a:cubicBezTo>
                  <a:pt x="6212" y="13048"/>
                  <a:pt x="6200" y="13298"/>
                  <a:pt x="6176" y="13543"/>
                </a:cubicBezTo>
                <a:cubicBezTo>
                  <a:pt x="6168" y="13629"/>
                  <a:pt x="6165" y="13709"/>
                  <a:pt x="6152" y="13791"/>
                </a:cubicBezTo>
                <a:cubicBezTo>
                  <a:pt x="6142" y="13853"/>
                  <a:pt x="6136" y="13902"/>
                  <a:pt x="6077" y="13940"/>
                </a:cubicBezTo>
                <a:cubicBezTo>
                  <a:pt x="6027" y="13973"/>
                  <a:pt x="5986" y="13965"/>
                  <a:pt x="5928" y="13965"/>
                </a:cubicBezTo>
                <a:cubicBezTo>
                  <a:pt x="5877" y="13965"/>
                  <a:pt x="5842" y="13980"/>
                  <a:pt x="5829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54200" y="4687920"/>
            <a:ext cx="125640" cy="135000"/>
          </a:xfrm>
          <a:custGeom>
            <a:avLst/>
            <a:gdLst/>
            <a:ahLst/>
            <a:rect l="l" t="t" r="r" b="b"/>
            <a:pathLst>
              <a:path w="348" h="374">
                <a:moveTo>
                  <a:pt x="7119" y="13022"/>
                </a:moveTo>
                <a:cubicBezTo>
                  <a:pt x="7111" y="13022"/>
                  <a:pt x="7102" y="13022"/>
                  <a:pt x="7094" y="13022"/>
                </a:cubicBezTo>
                <a:cubicBezTo>
                  <a:pt x="7144" y="13072"/>
                  <a:pt x="7171" y="13091"/>
                  <a:pt x="7243" y="13097"/>
                </a:cubicBezTo>
                <a:cubicBezTo>
                  <a:pt x="7279" y="13100"/>
                  <a:pt x="7307" y="13115"/>
                  <a:pt x="7342" y="13122"/>
                </a:cubicBezTo>
              </a:path>
              <a:path w="348" h="374">
                <a:moveTo>
                  <a:pt x="7193" y="13320"/>
                </a:moveTo>
                <a:cubicBezTo>
                  <a:pt x="7193" y="13348"/>
                  <a:pt x="7191" y="13359"/>
                  <a:pt x="7169" y="13370"/>
                </a:cubicBezTo>
                <a:cubicBezTo>
                  <a:pt x="7208" y="13380"/>
                  <a:pt x="7223" y="13395"/>
                  <a:pt x="7268" y="13395"/>
                </a:cubicBezTo>
                <a:cubicBezTo>
                  <a:pt x="7315" y="13395"/>
                  <a:pt x="7379" y="13390"/>
                  <a:pt x="7417" y="13370"/>
                </a:cubicBezTo>
                <a:cubicBezTo>
                  <a:pt x="7425" y="13362"/>
                  <a:pt x="7433" y="13353"/>
                  <a:pt x="7441" y="133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19240" y="4660920"/>
            <a:ext cx="162000" cy="376200"/>
          </a:xfrm>
          <a:custGeom>
            <a:avLst/>
            <a:gdLst/>
            <a:ahLst/>
            <a:rect l="l" t="t" r="r" b="b"/>
            <a:pathLst>
              <a:path w="448" h="1043">
                <a:moveTo>
                  <a:pt x="8483" y="13643"/>
                </a:moveTo>
                <a:cubicBezTo>
                  <a:pt x="8483" y="13696"/>
                  <a:pt x="8471" y="13679"/>
                  <a:pt x="8458" y="13717"/>
                </a:cubicBezTo>
                <a:cubicBezTo>
                  <a:pt x="8493" y="13708"/>
                  <a:pt x="8514" y="13642"/>
                  <a:pt x="8508" y="13643"/>
                </a:cubicBezTo>
                <a:cubicBezTo>
                  <a:pt x="8485" y="13665"/>
                  <a:pt x="8477" y="13670"/>
                  <a:pt x="8483" y="13692"/>
                </a:cubicBezTo>
                <a:cubicBezTo>
                  <a:pt x="8499" y="13687"/>
                  <a:pt x="8545" y="13669"/>
                  <a:pt x="8558" y="13643"/>
                </a:cubicBezTo>
                <a:cubicBezTo>
                  <a:pt x="8558" y="13618"/>
                  <a:pt x="8558" y="13610"/>
                  <a:pt x="8558" y="13593"/>
                </a:cubicBezTo>
                <a:cubicBezTo>
                  <a:pt x="8532" y="13593"/>
                  <a:pt x="8470" y="13600"/>
                  <a:pt x="8458" y="13618"/>
                </a:cubicBezTo>
                <a:cubicBezTo>
                  <a:pt x="8458" y="13626"/>
                  <a:pt x="8458" y="13635"/>
                  <a:pt x="8458" y="13643"/>
                </a:cubicBezTo>
              </a:path>
              <a:path w="448" h="1043">
                <a:moveTo>
                  <a:pt x="8359" y="12948"/>
                </a:moveTo>
                <a:cubicBezTo>
                  <a:pt x="8285" y="12967"/>
                  <a:pt x="8264" y="13028"/>
                  <a:pt x="8235" y="13097"/>
                </a:cubicBezTo>
                <a:cubicBezTo>
                  <a:pt x="8168" y="13259"/>
                  <a:pt x="8095" y="13413"/>
                  <a:pt x="8111" y="13593"/>
                </a:cubicBezTo>
                <a:cubicBezTo>
                  <a:pt x="8127" y="13771"/>
                  <a:pt x="8193" y="13863"/>
                  <a:pt x="8310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24160" y="4606920"/>
            <a:ext cx="1650960" cy="430200"/>
          </a:xfrm>
          <a:custGeom>
            <a:avLst/>
            <a:gdLst/>
            <a:ahLst/>
            <a:rect l="l" t="t" r="r" b="b"/>
            <a:pathLst>
              <a:path w="4590" h="1192">
                <a:moveTo>
                  <a:pt x="9103" y="13295"/>
                </a:moveTo>
                <a:cubicBezTo>
                  <a:pt x="9039" y="13295"/>
                  <a:pt x="9036" y="13311"/>
                  <a:pt x="9004" y="13370"/>
                </a:cubicBezTo>
                <a:cubicBezTo>
                  <a:pt x="8970" y="13433"/>
                  <a:pt x="8933" y="13519"/>
                  <a:pt x="8954" y="13593"/>
                </a:cubicBezTo>
                <a:cubicBezTo>
                  <a:pt x="8978" y="13680"/>
                  <a:pt x="9068" y="13645"/>
                  <a:pt x="9128" y="13618"/>
                </a:cubicBezTo>
                <a:cubicBezTo>
                  <a:pt x="9175" y="13597"/>
                  <a:pt x="9238" y="13520"/>
                  <a:pt x="9252" y="13469"/>
                </a:cubicBezTo>
                <a:cubicBezTo>
                  <a:pt x="9270" y="13401"/>
                  <a:pt x="9208" y="13345"/>
                  <a:pt x="9178" y="13295"/>
                </a:cubicBezTo>
                <a:cubicBezTo>
                  <a:pt x="9157" y="13260"/>
                  <a:pt x="9128" y="13205"/>
                  <a:pt x="9128" y="13246"/>
                </a:cubicBezTo>
              </a:path>
              <a:path w="4590" h="1192">
                <a:moveTo>
                  <a:pt x="9500" y="13196"/>
                </a:moveTo>
                <a:cubicBezTo>
                  <a:pt x="9508" y="13196"/>
                  <a:pt x="9517" y="13196"/>
                  <a:pt x="9525" y="13196"/>
                </a:cubicBezTo>
                <a:cubicBezTo>
                  <a:pt x="9516" y="13232"/>
                  <a:pt x="9482" y="13263"/>
                  <a:pt x="9475" y="13295"/>
                </a:cubicBezTo>
                <a:cubicBezTo>
                  <a:pt x="9464" y="13344"/>
                  <a:pt x="9469" y="13409"/>
                  <a:pt x="9500" y="13444"/>
                </a:cubicBezTo>
                <a:cubicBezTo>
                  <a:pt x="9524" y="13471"/>
                  <a:pt x="9588" y="13484"/>
                  <a:pt x="9624" y="13469"/>
                </a:cubicBezTo>
                <a:cubicBezTo>
                  <a:pt x="9668" y="13451"/>
                  <a:pt x="9713" y="13405"/>
                  <a:pt x="9748" y="13370"/>
                </a:cubicBezTo>
              </a:path>
              <a:path w="4590" h="1192">
                <a:moveTo>
                  <a:pt x="9872" y="13196"/>
                </a:moveTo>
                <a:cubicBezTo>
                  <a:pt x="9791" y="13196"/>
                  <a:pt x="9788" y="13197"/>
                  <a:pt x="9748" y="13271"/>
                </a:cubicBezTo>
                <a:cubicBezTo>
                  <a:pt x="9698" y="13364"/>
                  <a:pt x="9679" y="13468"/>
                  <a:pt x="9649" y="13568"/>
                </a:cubicBezTo>
                <a:cubicBezTo>
                  <a:pt x="9626" y="13643"/>
                  <a:pt x="9602" y="13704"/>
                  <a:pt x="9649" y="13767"/>
                </a:cubicBezTo>
              </a:path>
              <a:path w="4590" h="1192">
                <a:moveTo>
                  <a:pt x="10195" y="13271"/>
                </a:moveTo>
                <a:cubicBezTo>
                  <a:pt x="10186" y="13243"/>
                  <a:pt x="10139" y="13228"/>
                  <a:pt x="10096" y="13246"/>
                </a:cubicBezTo>
                <a:cubicBezTo>
                  <a:pt x="10033" y="13272"/>
                  <a:pt x="10008" y="13319"/>
                  <a:pt x="9971" y="13370"/>
                </a:cubicBezTo>
                <a:cubicBezTo>
                  <a:pt x="9949" y="13392"/>
                  <a:pt x="9941" y="13397"/>
                  <a:pt x="9947" y="13419"/>
                </a:cubicBezTo>
                <a:cubicBezTo>
                  <a:pt x="9991" y="13453"/>
                  <a:pt x="10017" y="13454"/>
                  <a:pt x="10071" y="13419"/>
                </a:cubicBezTo>
                <a:cubicBezTo>
                  <a:pt x="10112" y="13393"/>
                  <a:pt x="10124" y="13351"/>
                  <a:pt x="10145" y="13320"/>
                </a:cubicBezTo>
                <a:cubicBezTo>
                  <a:pt x="10167" y="13298"/>
                  <a:pt x="10176" y="13293"/>
                  <a:pt x="10170" y="13271"/>
                </a:cubicBezTo>
                <a:cubicBezTo>
                  <a:pt x="10170" y="13328"/>
                  <a:pt x="10163" y="13392"/>
                  <a:pt x="10145" y="13444"/>
                </a:cubicBezTo>
                <a:cubicBezTo>
                  <a:pt x="10115" y="13533"/>
                  <a:pt x="10117" y="13625"/>
                  <a:pt x="10096" y="13717"/>
                </a:cubicBezTo>
                <a:cubicBezTo>
                  <a:pt x="10081" y="13786"/>
                  <a:pt x="10071" y="13821"/>
                  <a:pt x="10071" y="13891"/>
                </a:cubicBezTo>
              </a:path>
              <a:path w="4590" h="1192">
                <a:moveTo>
                  <a:pt x="10418" y="12998"/>
                </a:moveTo>
                <a:cubicBezTo>
                  <a:pt x="10518" y="12978"/>
                  <a:pt x="10568" y="13008"/>
                  <a:pt x="10616" y="13122"/>
                </a:cubicBezTo>
                <a:cubicBezTo>
                  <a:pt x="10671" y="13253"/>
                  <a:pt x="10657" y="13462"/>
                  <a:pt x="10616" y="13593"/>
                </a:cubicBezTo>
                <a:cubicBezTo>
                  <a:pt x="10578" y="13715"/>
                  <a:pt x="10496" y="13843"/>
                  <a:pt x="10418" y="13940"/>
                </a:cubicBezTo>
              </a:path>
              <a:path w="4590" h="1192">
                <a:moveTo>
                  <a:pt x="11088" y="12998"/>
                </a:moveTo>
                <a:cubicBezTo>
                  <a:pt x="11029" y="13103"/>
                  <a:pt x="10972" y="13202"/>
                  <a:pt x="10939" y="13320"/>
                </a:cubicBezTo>
                <a:cubicBezTo>
                  <a:pt x="10905" y="13441"/>
                  <a:pt x="10880" y="13648"/>
                  <a:pt x="10939" y="13767"/>
                </a:cubicBezTo>
                <a:cubicBezTo>
                  <a:pt x="10979" y="13848"/>
                  <a:pt x="11040" y="13853"/>
                  <a:pt x="11112" y="13866"/>
                </a:cubicBezTo>
              </a:path>
              <a:path w="4590" h="1192">
                <a:moveTo>
                  <a:pt x="11559" y="13568"/>
                </a:moveTo>
                <a:cubicBezTo>
                  <a:pt x="11526" y="13568"/>
                  <a:pt x="11456" y="13578"/>
                  <a:pt x="11485" y="13593"/>
                </a:cubicBezTo>
                <a:cubicBezTo>
                  <a:pt x="11508" y="13605"/>
                  <a:pt x="11534" y="13556"/>
                  <a:pt x="11485" y="13593"/>
                </a:cubicBezTo>
                <a:cubicBezTo>
                  <a:pt x="11427" y="13637"/>
                  <a:pt x="11412" y="13655"/>
                  <a:pt x="11485" y="13667"/>
                </a:cubicBezTo>
              </a:path>
              <a:path w="4590" h="1192">
                <a:moveTo>
                  <a:pt x="11857" y="13097"/>
                </a:moveTo>
                <a:cubicBezTo>
                  <a:pt x="11916" y="13123"/>
                  <a:pt x="11966" y="13138"/>
                  <a:pt x="12005" y="13196"/>
                </a:cubicBezTo>
                <a:cubicBezTo>
                  <a:pt x="12056" y="13273"/>
                  <a:pt x="12066" y="13338"/>
                  <a:pt x="12030" y="13419"/>
                </a:cubicBezTo>
                <a:cubicBezTo>
                  <a:pt x="11995" y="13497"/>
                  <a:pt x="11930" y="13552"/>
                  <a:pt x="11857" y="13593"/>
                </a:cubicBezTo>
                <a:cubicBezTo>
                  <a:pt x="11816" y="13613"/>
                  <a:pt x="11810" y="13622"/>
                  <a:pt x="11782" y="13618"/>
                </a:cubicBezTo>
                <a:cubicBezTo>
                  <a:pt x="11751" y="13576"/>
                  <a:pt x="11745" y="13560"/>
                  <a:pt x="11782" y="13519"/>
                </a:cubicBezTo>
                <a:cubicBezTo>
                  <a:pt x="11827" y="13469"/>
                  <a:pt x="11863" y="13495"/>
                  <a:pt x="11906" y="13519"/>
                </a:cubicBezTo>
                <a:cubicBezTo>
                  <a:pt x="11978" y="13559"/>
                  <a:pt x="12024" y="13568"/>
                  <a:pt x="12105" y="13568"/>
                </a:cubicBezTo>
              </a:path>
              <a:path w="4590" h="1192">
                <a:moveTo>
                  <a:pt x="12353" y="13122"/>
                </a:moveTo>
                <a:cubicBezTo>
                  <a:pt x="12438" y="13134"/>
                  <a:pt x="12438" y="13168"/>
                  <a:pt x="12477" y="13246"/>
                </a:cubicBezTo>
                <a:cubicBezTo>
                  <a:pt x="12513" y="13318"/>
                  <a:pt x="12509" y="13372"/>
                  <a:pt x="12477" y="13444"/>
                </a:cubicBezTo>
                <a:cubicBezTo>
                  <a:pt x="12441" y="13523"/>
                  <a:pt x="12384" y="13581"/>
                  <a:pt x="12303" y="13593"/>
                </a:cubicBezTo>
                <a:cubicBezTo>
                  <a:pt x="12257" y="13600"/>
                  <a:pt x="12234" y="13589"/>
                  <a:pt x="12229" y="13543"/>
                </a:cubicBezTo>
                <a:cubicBezTo>
                  <a:pt x="12224" y="13499"/>
                  <a:pt x="12292" y="13475"/>
                  <a:pt x="12328" y="13469"/>
                </a:cubicBezTo>
                <a:cubicBezTo>
                  <a:pt x="12420" y="13453"/>
                  <a:pt x="12505" y="13444"/>
                  <a:pt x="12601" y="13444"/>
                </a:cubicBezTo>
                <a:cubicBezTo>
                  <a:pt x="12651" y="13444"/>
                  <a:pt x="12700" y="13444"/>
                  <a:pt x="12750" y="13444"/>
                </a:cubicBezTo>
              </a:path>
              <a:path w="4590" h="1192">
                <a:moveTo>
                  <a:pt x="12898" y="13122"/>
                </a:moveTo>
                <a:cubicBezTo>
                  <a:pt x="12929" y="13109"/>
                  <a:pt x="12994" y="13078"/>
                  <a:pt x="13022" y="13072"/>
                </a:cubicBezTo>
                <a:cubicBezTo>
                  <a:pt x="13049" y="13066"/>
                  <a:pt x="13092" y="13072"/>
                  <a:pt x="13122" y="13072"/>
                </a:cubicBezTo>
              </a:path>
              <a:path w="4590" h="1192">
                <a:moveTo>
                  <a:pt x="12973" y="13122"/>
                </a:moveTo>
                <a:cubicBezTo>
                  <a:pt x="12914" y="13156"/>
                  <a:pt x="12795" y="13214"/>
                  <a:pt x="12750" y="13271"/>
                </a:cubicBezTo>
                <a:cubicBezTo>
                  <a:pt x="12737" y="13288"/>
                  <a:pt x="12750" y="13346"/>
                  <a:pt x="12750" y="13370"/>
                </a:cubicBezTo>
                <a:cubicBezTo>
                  <a:pt x="12797" y="13370"/>
                  <a:pt x="12829" y="13392"/>
                  <a:pt x="12874" y="13395"/>
                </a:cubicBezTo>
                <a:cubicBezTo>
                  <a:pt x="12928" y="13399"/>
                  <a:pt x="12966" y="13409"/>
                  <a:pt x="12973" y="13469"/>
                </a:cubicBezTo>
                <a:cubicBezTo>
                  <a:pt x="12978" y="13511"/>
                  <a:pt x="12924" y="13586"/>
                  <a:pt x="12898" y="13618"/>
                </a:cubicBezTo>
                <a:cubicBezTo>
                  <a:pt x="12864" y="13660"/>
                  <a:pt x="12843" y="13681"/>
                  <a:pt x="12799" y="13692"/>
                </a:cubicBezTo>
              </a:path>
              <a:path w="4590" h="1192">
                <a:moveTo>
                  <a:pt x="13320" y="12799"/>
                </a:moveTo>
                <a:cubicBezTo>
                  <a:pt x="13364" y="12805"/>
                  <a:pt x="13410" y="12810"/>
                  <a:pt x="13444" y="12849"/>
                </a:cubicBezTo>
                <a:cubicBezTo>
                  <a:pt x="13503" y="12918"/>
                  <a:pt x="13535" y="13085"/>
                  <a:pt x="13543" y="13171"/>
                </a:cubicBezTo>
                <a:cubicBezTo>
                  <a:pt x="13558" y="13331"/>
                  <a:pt x="13510" y="13477"/>
                  <a:pt x="13444" y="13618"/>
                </a:cubicBezTo>
                <a:cubicBezTo>
                  <a:pt x="13382" y="13749"/>
                  <a:pt x="13287" y="13833"/>
                  <a:pt x="13171" y="13915"/>
                </a:cubicBezTo>
                <a:cubicBezTo>
                  <a:pt x="13106" y="13959"/>
                  <a:pt x="13092" y="13970"/>
                  <a:pt x="13047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57880" y="4867200"/>
            <a:ext cx="160200" cy="106560"/>
          </a:xfrm>
          <a:custGeom>
            <a:avLst/>
            <a:gdLst/>
            <a:ahLst/>
            <a:rect l="l" t="t" r="r" b="b"/>
            <a:pathLst>
              <a:path w="447" h="298">
                <a:moveTo>
                  <a:pt x="14957" y="13593"/>
                </a:moveTo>
                <a:cubicBezTo>
                  <a:pt x="15034" y="13593"/>
                  <a:pt x="15086" y="13555"/>
                  <a:pt x="15156" y="13543"/>
                </a:cubicBezTo>
                <a:cubicBezTo>
                  <a:pt x="15224" y="13543"/>
                  <a:pt x="15243" y="13546"/>
                  <a:pt x="15280" y="13519"/>
                </a:cubicBezTo>
              </a:path>
              <a:path w="447" h="298">
                <a:moveTo>
                  <a:pt x="14982" y="13717"/>
                </a:moveTo>
                <a:cubicBezTo>
                  <a:pt x="14924" y="13775"/>
                  <a:pt x="14916" y="13783"/>
                  <a:pt x="14883" y="13816"/>
                </a:cubicBezTo>
                <a:cubicBezTo>
                  <a:pt x="14965" y="13816"/>
                  <a:pt x="15052" y="13808"/>
                  <a:pt x="15131" y="13791"/>
                </a:cubicBezTo>
                <a:cubicBezTo>
                  <a:pt x="15203" y="13775"/>
                  <a:pt x="15255" y="13767"/>
                  <a:pt x="15329" y="137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05640" y="4697280"/>
            <a:ext cx="1268280" cy="339840"/>
          </a:xfrm>
          <a:custGeom>
            <a:avLst/>
            <a:gdLst/>
            <a:ahLst/>
            <a:rect l="l" t="t" r="r" b="b"/>
            <a:pathLst>
              <a:path w="3523" h="944">
                <a:moveTo>
                  <a:pt x="15875" y="13841"/>
                </a:moveTo>
                <a:cubicBezTo>
                  <a:pt x="15907" y="13852"/>
                  <a:pt x="15905" y="13927"/>
                  <a:pt x="15925" y="13866"/>
                </a:cubicBezTo>
                <a:cubicBezTo>
                  <a:pt x="15875" y="13866"/>
                  <a:pt x="15863" y="13866"/>
                  <a:pt x="15850" y="13915"/>
                </a:cubicBezTo>
                <a:cubicBezTo>
                  <a:pt x="15904" y="13915"/>
                  <a:pt x="15933" y="13903"/>
                  <a:pt x="15974" y="13866"/>
                </a:cubicBezTo>
                <a:cubicBezTo>
                  <a:pt x="15997" y="13843"/>
                  <a:pt x="16001" y="13835"/>
                  <a:pt x="16024" y="13841"/>
                </a:cubicBezTo>
                <a:cubicBezTo>
                  <a:pt x="16009" y="13796"/>
                  <a:pt x="15964" y="13809"/>
                  <a:pt x="15925" y="13841"/>
                </a:cubicBezTo>
                <a:cubicBezTo>
                  <a:pt x="15894" y="13866"/>
                  <a:pt x="15882" y="13867"/>
                  <a:pt x="15850" y="13891"/>
                </a:cubicBezTo>
              </a:path>
              <a:path w="3523" h="944">
                <a:moveTo>
                  <a:pt x="16644" y="13122"/>
                </a:moveTo>
                <a:cubicBezTo>
                  <a:pt x="16626" y="13068"/>
                  <a:pt x="16580" y="13103"/>
                  <a:pt x="16545" y="13146"/>
                </a:cubicBezTo>
                <a:cubicBezTo>
                  <a:pt x="16480" y="13226"/>
                  <a:pt x="16392" y="13388"/>
                  <a:pt x="16396" y="13494"/>
                </a:cubicBezTo>
                <a:cubicBezTo>
                  <a:pt x="16401" y="13634"/>
                  <a:pt x="16522" y="13633"/>
                  <a:pt x="16619" y="13593"/>
                </a:cubicBezTo>
                <a:cubicBezTo>
                  <a:pt x="16751" y="13539"/>
                  <a:pt x="16832" y="13459"/>
                  <a:pt x="16842" y="13320"/>
                </a:cubicBezTo>
                <a:cubicBezTo>
                  <a:pt x="16851" y="13199"/>
                  <a:pt x="16793" y="13174"/>
                  <a:pt x="16694" y="13122"/>
                </a:cubicBezTo>
                <a:cubicBezTo>
                  <a:pt x="16636" y="13092"/>
                  <a:pt x="16611" y="13081"/>
                  <a:pt x="16594" y="13146"/>
                </a:cubicBezTo>
              </a:path>
              <a:path w="3523" h="944">
                <a:moveTo>
                  <a:pt x="17115" y="13146"/>
                </a:moveTo>
                <a:cubicBezTo>
                  <a:pt x="17138" y="13124"/>
                  <a:pt x="17143" y="13116"/>
                  <a:pt x="17165" y="13122"/>
                </a:cubicBezTo>
                <a:cubicBezTo>
                  <a:pt x="17229" y="13201"/>
                  <a:pt x="17214" y="13269"/>
                  <a:pt x="17214" y="13370"/>
                </a:cubicBezTo>
                <a:cubicBezTo>
                  <a:pt x="17214" y="13461"/>
                  <a:pt x="17185" y="13578"/>
                  <a:pt x="17115" y="13643"/>
                </a:cubicBezTo>
                <a:cubicBezTo>
                  <a:pt x="17081" y="13675"/>
                  <a:pt x="16960" y="13683"/>
                  <a:pt x="16917" y="13667"/>
                </a:cubicBezTo>
                <a:cubicBezTo>
                  <a:pt x="16909" y="13659"/>
                  <a:pt x="16900" y="13651"/>
                  <a:pt x="16892" y="13643"/>
                </a:cubicBezTo>
                <a:cubicBezTo>
                  <a:pt x="16901" y="13583"/>
                  <a:pt x="16920" y="13515"/>
                  <a:pt x="16991" y="13494"/>
                </a:cubicBezTo>
                <a:cubicBezTo>
                  <a:pt x="17063" y="13473"/>
                  <a:pt x="17110" y="13510"/>
                  <a:pt x="17165" y="13543"/>
                </a:cubicBezTo>
                <a:cubicBezTo>
                  <a:pt x="17216" y="13574"/>
                  <a:pt x="17250" y="13587"/>
                  <a:pt x="17264" y="13643"/>
                </a:cubicBezTo>
              </a:path>
              <a:path w="3523" h="944">
                <a:moveTo>
                  <a:pt x="17711" y="13122"/>
                </a:moveTo>
                <a:cubicBezTo>
                  <a:pt x="17742" y="13079"/>
                  <a:pt x="17742" y="13090"/>
                  <a:pt x="17711" y="13047"/>
                </a:cubicBezTo>
                <a:cubicBezTo>
                  <a:pt x="17656" y="13047"/>
                  <a:pt x="17582" y="13067"/>
                  <a:pt x="17537" y="13097"/>
                </a:cubicBezTo>
                <a:cubicBezTo>
                  <a:pt x="17453" y="13152"/>
                  <a:pt x="17400" y="13225"/>
                  <a:pt x="17388" y="13320"/>
                </a:cubicBezTo>
                <a:cubicBezTo>
                  <a:pt x="17452" y="13359"/>
                  <a:pt x="17542" y="13339"/>
                  <a:pt x="17611" y="13295"/>
                </a:cubicBezTo>
                <a:cubicBezTo>
                  <a:pt x="17650" y="13270"/>
                  <a:pt x="17752" y="13181"/>
                  <a:pt x="17760" y="13146"/>
                </a:cubicBezTo>
                <a:cubicBezTo>
                  <a:pt x="17760" y="13138"/>
                  <a:pt x="17760" y="13130"/>
                  <a:pt x="17760" y="13122"/>
                </a:cubicBezTo>
                <a:cubicBezTo>
                  <a:pt x="17703" y="13136"/>
                  <a:pt x="17663" y="13190"/>
                  <a:pt x="17636" y="13246"/>
                </a:cubicBezTo>
                <a:cubicBezTo>
                  <a:pt x="17597" y="13327"/>
                  <a:pt x="17551" y="13458"/>
                  <a:pt x="17537" y="13543"/>
                </a:cubicBezTo>
                <a:cubicBezTo>
                  <a:pt x="17526" y="13611"/>
                  <a:pt x="17521" y="13630"/>
                  <a:pt x="17512" y="13692"/>
                </a:cubicBezTo>
              </a:path>
              <a:path w="3523" h="944">
                <a:moveTo>
                  <a:pt x="18033" y="13171"/>
                </a:moveTo>
                <a:cubicBezTo>
                  <a:pt x="18003" y="13195"/>
                  <a:pt x="17921" y="13229"/>
                  <a:pt x="17909" y="13271"/>
                </a:cubicBezTo>
                <a:cubicBezTo>
                  <a:pt x="17892" y="13330"/>
                  <a:pt x="17923" y="13378"/>
                  <a:pt x="17959" y="13419"/>
                </a:cubicBezTo>
                <a:cubicBezTo>
                  <a:pt x="18001" y="13466"/>
                  <a:pt x="18070" y="13486"/>
                  <a:pt x="18132" y="13469"/>
                </a:cubicBezTo>
                <a:cubicBezTo>
                  <a:pt x="18193" y="13452"/>
                  <a:pt x="18235" y="13410"/>
                  <a:pt x="18281" y="13370"/>
                </a:cubicBezTo>
              </a:path>
              <a:path w="3523" h="944">
                <a:moveTo>
                  <a:pt x="18504" y="13097"/>
                </a:moveTo>
                <a:cubicBezTo>
                  <a:pt x="18414" y="13142"/>
                  <a:pt x="18369" y="13192"/>
                  <a:pt x="18306" y="13271"/>
                </a:cubicBezTo>
                <a:cubicBezTo>
                  <a:pt x="18209" y="13394"/>
                  <a:pt x="18154" y="13520"/>
                  <a:pt x="18107" y="13667"/>
                </a:cubicBezTo>
                <a:cubicBezTo>
                  <a:pt x="18091" y="13718"/>
                  <a:pt x="18068" y="13766"/>
                  <a:pt x="18058" y="13816"/>
                </a:cubicBezTo>
              </a:path>
              <a:path w="3523" h="944">
                <a:moveTo>
                  <a:pt x="18653" y="13370"/>
                </a:moveTo>
                <a:cubicBezTo>
                  <a:pt x="18611" y="13437"/>
                  <a:pt x="18571" y="13500"/>
                  <a:pt x="18529" y="13568"/>
                </a:cubicBezTo>
                <a:cubicBezTo>
                  <a:pt x="18486" y="13638"/>
                  <a:pt x="18467" y="13706"/>
                  <a:pt x="18430" y="13767"/>
                </a:cubicBezTo>
                <a:cubicBezTo>
                  <a:pt x="18487" y="13753"/>
                  <a:pt x="18511" y="13688"/>
                  <a:pt x="18554" y="13643"/>
                </a:cubicBezTo>
                <a:cubicBezTo>
                  <a:pt x="18623" y="13570"/>
                  <a:pt x="18666" y="13498"/>
                  <a:pt x="18752" y="13444"/>
                </a:cubicBezTo>
                <a:cubicBezTo>
                  <a:pt x="18752" y="13377"/>
                  <a:pt x="18731" y="13510"/>
                  <a:pt x="18728" y="13519"/>
                </a:cubicBezTo>
                <a:cubicBezTo>
                  <a:pt x="18716" y="13552"/>
                  <a:pt x="18639" y="13654"/>
                  <a:pt x="18678" y="13692"/>
                </a:cubicBezTo>
                <a:cubicBezTo>
                  <a:pt x="18686" y="13692"/>
                  <a:pt x="18695" y="13692"/>
                  <a:pt x="18703" y="13692"/>
                </a:cubicBezTo>
                <a:cubicBezTo>
                  <a:pt x="18756" y="13692"/>
                  <a:pt x="18817" y="13657"/>
                  <a:pt x="18852" y="13618"/>
                </a:cubicBezTo>
                <a:cubicBezTo>
                  <a:pt x="18923" y="13538"/>
                  <a:pt x="18997" y="13472"/>
                  <a:pt x="19075" y="13395"/>
                </a:cubicBezTo>
                <a:cubicBezTo>
                  <a:pt x="19083" y="13387"/>
                  <a:pt x="19092" y="13378"/>
                  <a:pt x="19100" y="13370"/>
                </a:cubicBezTo>
                <a:cubicBezTo>
                  <a:pt x="19100" y="13509"/>
                  <a:pt x="19089" y="13619"/>
                  <a:pt x="19149" y="13742"/>
                </a:cubicBezTo>
                <a:cubicBezTo>
                  <a:pt x="19209" y="13867"/>
                  <a:pt x="19253" y="13923"/>
                  <a:pt x="19372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02000" y="5313240"/>
            <a:ext cx="460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9500" y="14759"/>
                </a:moveTo>
                <a:cubicBezTo>
                  <a:pt x="9454" y="14805"/>
                  <a:pt x="9451" y="14817"/>
                  <a:pt x="9451" y="14883"/>
                </a:cubicBezTo>
                <a:cubicBezTo>
                  <a:pt x="9451" y="14891"/>
                  <a:pt x="9451" y="14900"/>
                  <a:pt x="9451" y="14908"/>
                </a:cubicBezTo>
                <a:cubicBezTo>
                  <a:pt x="9497" y="14908"/>
                  <a:pt x="9515" y="14914"/>
                  <a:pt x="9550" y="14883"/>
                </a:cubicBezTo>
                <a:cubicBezTo>
                  <a:pt x="9558" y="14875"/>
                  <a:pt x="9567" y="14866"/>
                  <a:pt x="9575" y="14858"/>
                </a:cubicBezTo>
                <a:cubicBezTo>
                  <a:pt x="9530" y="14858"/>
                  <a:pt x="9514" y="14873"/>
                  <a:pt x="9475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06840" y="5180040"/>
            <a:ext cx="563400" cy="231840"/>
          </a:xfrm>
          <a:custGeom>
            <a:avLst/>
            <a:gdLst/>
            <a:ahLst/>
            <a:rect l="l" t="t" r="r" b="b"/>
            <a:pathLst>
              <a:path w="1564" h="646">
                <a:moveTo>
                  <a:pt x="10021" y="14486"/>
                </a:moveTo>
                <a:cubicBezTo>
                  <a:pt x="10104" y="14486"/>
                  <a:pt x="10167" y="14493"/>
                  <a:pt x="10244" y="14511"/>
                </a:cubicBezTo>
                <a:cubicBezTo>
                  <a:pt x="10272" y="14511"/>
                  <a:pt x="10283" y="14513"/>
                  <a:pt x="10294" y="14536"/>
                </a:cubicBezTo>
                <a:cubicBezTo>
                  <a:pt x="10278" y="14596"/>
                  <a:pt x="10242" y="14597"/>
                  <a:pt x="10195" y="14635"/>
                </a:cubicBezTo>
                <a:cubicBezTo>
                  <a:pt x="10158" y="14665"/>
                  <a:pt x="10057" y="14709"/>
                  <a:pt x="10096" y="14709"/>
                </a:cubicBezTo>
                <a:cubicBezTo>
                  <a:pt x="10168" y="14709"/>
                  <a:pt x="10263" y="14689"/>
                  <a:pt x="10319" y="14734"/>
                </a:cubicBezTo>
                <a:cubicBezTo>
                  <a:pt x="10389" y="14790"/>
                  <a:pt x="10310" y="14842"/>
                  <a:pt x="10269" y="14883"/>
                </a:cubicBezTo>
                <a:cubicBezTo>
                  <a:pt x="10225" y="14927"/>
                  <a:pt x="10176" y="14968"/>
                  <a:pt x="10120" y="14982"/>
                </a:cubicBezTo>
              </a:path>
              <a:path w="1564" h="646">
                <a:moveTo>
                  <a:pt x="10567" y="14461"/>
                </a:moveTo>
                <a:cubicBezTo>
                  <a:pt x="10661" y="14461"/>
                  <a:pt x="10753" y="14472"/>
                  <a:pt x="10840" y="14436"/>
                </a:cubicBezTo>
                <a:cubicBezTo>
                  <a:pt x="10877" y="14421"/>
                  <a:pt x="10961" y="14380"/>
                  <a:pt x="10988" y="14436"/>
                </a:cubicBezTo>
                <a:cubicBezTo>
                  <a:pt x="11015" y="14491"/>
                  <a:pt x="10965" y="14612"/>
                  <a:pt x="10939" y="14660"/>
                </a:cubicBezTo>
                <a:cubicBezTo>
                  <a:pt x="10893" y="14745"/>
                  <a:pt x="10861" y="14816"/>
                  <a:pt x="10840" y="14908"/>
                </a:cubicBezTo>
                <a:cubicBezTo>
                  <a:pt x="10840" y="14932"/>
                  <a:pt x="10840" y="14941"/>
                  <a:pt x="10840" y="14957"/>
                </a:cubicBezTo>
              </a:path>
              <a:path w="1564" h="646">
                <a:moveTo>
                  <a:pt x="11286" y="14461"/>
                </a:moveTo>
                <a:cubicBezTo>
                  <a:pt x="11317" y="14448"/>
                  <a:pt x="11380" y="14418"/>
                  <a:pt x="11410" y="14412"/>
                </a:cubicBezTo>
                <a:cubicBezTo>
                  <a:pt x="11465" y="14401"/>
                  <a:pt x="11511" y="14402"/>
                  <a:pt x="11559" y="14387"/>
                </a:cubicBezTo>
                <a:cubicBezTo>
                  <a:pt x="11567" y="14387"/>
                  <a:pt x="11576" y="14387"/>
                  <a:pt x="11584" y="14387"/>
                </a:cubicBezTo>
              </a:path>
              <a:path w="1564" h="646">
                <a:moveTo>
                  <a:pt x="11385" y="14461"/>
                </a:moveTo>
                <a:cubicBezTo>
                  <a:pt x="11293" y="14507"/>
                  <a:pt x="11212" y="14541"/>
                  <a:pt x="11137" y="14610"/>
                </a:cubicBezTo>
                <a:cubicBezTo>
                  <a:pt x="11114" y="14633"/>
                  <a:pt x="11106" y="14637"/>
                  <a:pt x="11112" y="14660"/>
                </a:cubicBezTo>
                <a:cubicBezTo>
                  <a:pt x="11136" y="14695"/>
                  <a:pt x="11181" y="14684"/>
                  <a:pt x="11237" y="14684"/>
                </a:cubicBezTo>
                <a:cubicBezTo>
                  <a:pt x="11285" y="14684"/>
                  <a:pt x="11396" y="14664"/>
                  <a:pt x="11435" y="14709"/>
                </a:cubicBezTo>
                <a:cubicBezTo>
                  <a:pt x="11458" y="14735"/>
                  <a:pt x="11433" y="14861"/>
                  <a:pt x="11410" y="14883"/>
                </a:cubicBezTo>
                <a:cubicBezTo>
                  <a:pt x="11354" y="14936"/>
                  <a:pt x="11275" y="14963"/>
                  <a:pt x="11212" y="15007"/>
                </a:cubicBezTo>
                <a:cubicBezTo>
                  <a:pt x="11189" y="15030"/>
                  <a:pt x="11185" y="15038"/>
                  <a:pt x="11162" y="150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98760" y="5232240"/>
            <a:ext cx="660240" cy="519120"/>
          </a:xfrm>
          <a:custGeom>
            <a:avLst/>
            <a:gdLst/>
            <a:ahLst/>
            <a:rect l="l" t="t" r="r" b="b"/>
            <a:pathLst>
              <a:path w="1837" h="1439">
                <a:moveTo>
                  <a:pt x="5159" y="14759"/>
                </a:moveTo>
                <a:cubicBezTo>
                  <a:pt x="5197" y="14772"/>
                  <a:pt x="5184" y="14788"/>
                  <a:pt x="5184" y="14833"/>
                </a:cubicBezTo>
                <a:cubicBezTo>
                  <a:pt x="5184" y="14858"/>
                  <a:pt x="5184" y="14866"/>
                  <a:pt x="5184" y="14883"/>
                </a:cubicBezTo>
                <a:cubicBezTo>
                  <a:pt x="5212" y="14874"/>
                  <a:pt x="5231" y="14832"/>
                  <a:pt x="5184" y="14808"/>
                </a:cubicBezTo>
                <a:cubicBezTo>
                  <a:pt x="5120" y="14776"/>
                  <a:pt x="5072" y="14846"/>
                  <a:pt x="5035" y="14883"/>
                </a:cubicBezTo>
                <a:cubicBezTo>
                  <a:pt x="4948" y="14970"/>
                  <a:pt x="4902" y="15133"/>
                  <a:pt x="4911" y="15255"/>
                </a:cubicBezTo>
                <a:cubicBezTo>
                  <a:pt x="4924" y="15420"/>
                  <a:pt x="4983" y="15468"/>
                  <a:pt x="5135" y="15478"/>
                </a:cubicBezTo>
                <a:cubicBezTo>
                  <a:pt x="5272" y="15487"/>
                  <a:pt x="5366" y="15392"/>
                  <a:pt x="5457" y="15304"/>
                </a:cubicBezTo>
                <a:cubicBezTo>
                  <a:pt x="5556" y="15208"/>
                  <a:pt x="5609" y="15094"/>
                  <a:pt x="5631" y="14957"/>
                </a:cubicBezTo>
                <a:cubicBezTo>
                  <a:pt x="5631" y="14908"/>
                  <a:pt x="5631" y="14891"/>
                  <a:pt x="5631" y="14858"/>
                </a:cubicBezTo>
                <a:cubicBezTo>
                  <a:pt x="5550" y="14878"/>
                  <a:pt x="5519" y="14948"/>
                  <a:pt x="5507" y="15032"/>
                </a:cubicBezTo>
                <a:cubicBezTo>
                  <a:pt x="5490" y="15147"/>
                  <a:pt x="5493" y="15326"/>
                  <a:pt x="5556" y="15429"/>
                </a:cubicBezTo>
                <a:cubicBezTo>
                  <a:pt x="5588" y="15481"/>
                  <a:pt x="5653" y="15502"/>
                  <a:pt x="5705" y="15528"/>
                </a:cubicBezTo>
              </a:path>
              <a:path w="1837" h="1439">
                <a:moveTo>
                  <a:pt x="5854" y="14709"/>
                </a:moveTo>
                <a:cubicBezTo>
                  <a:pt x="5910" y="14702"/>
                  <a:pt x="5975" y="14699"/>
                  <a:pt x="6028" y="14684"/>
                </a:cubicBezTo>
                <a:cubicBezTo>
                  <a:pt x="6095" y="14665"/>
                  <a:pt x="6130" y="14642"/>
                  <a:pt x="6201" y="14635"/>
                </a:cubicBezTo>
                <a:cubicBezTo>
                  <a:pt x="6201" y="14770"/>
                  <a:pt x="6217" y="14899"/>
                  <a:pt x="6226" y="15032"/>
                </a:cubicBezTo>
                <a:cubicBezTo>
                  <a:pt x="6236" y="15174"/>
                  <a:pt x="6251" y="15309"/>
                  <a:pt x="6251" y="15453"/>
                </a:cubicBezTo>
                <a:cubicBezTo>
                  <a:pt x="6251" y="15540"/>
                  <a:pt x="6266" y="15579"/>
                  <a:pt x="6251" y="15652"/>
                </a:cubicBezTo>
                <a:cubicBezTo>
                  <a:pt x="6236" y="15727"/>
                  <a:pt x="6211" y="15742"/>
                  <a:pt x="6152" y="15801"/>
                </a:cubicBezTo>
                <a:cubicBezTo>
                  <a:pt x="6106" y="15847"/>
                  <a:pt x="6036" y="15871"/>
                  <a:pt x="5978" y="15900"/>
                </a:cubicBezTo>
                <a:cubicBezTo>
                  <a:pt x="5976" y="15901"/>
                  <a:pt x="5865" y="15950"/>
                  <a:pt x="5854" y="15925"/>
                </a:cubicBezTo>
                <a:cubicBezTo>
                  <a:pt x="5854" y="15897"/>
                  <a:pt x="5856" y="15886"/>
                  <a:pt x="5879" y="15875"/>
                </a:cubicBezTo>
              </a:path>
              <a:path w="1837" h="1439">
                <a:moveTo>
                  <a:pt x="5035" y="14560"/>
                </a:moveTo>
                <a:cubicBezTo>
                  <a:pt x="5043" y="14560"/>
                  <a:pt x="5052" y="14560"/>
                  <a:pt x="5060" y="14560"/>
                </a:cubicBezTo>
                <a:cubicBezTo>
                  <a:pt x="5007" y="14529"/>
                  <a:pt x="5014" y="14532"/>
                  <a:pt x="4961" y="14560"/>
                </a:cubicBezTo>
                <a:cubicBezTo>
                  <a:pt x="4921" y="14581"/>
                  <a:pt x="4878" y="14588"/>
                  <a:pt x="4837" y="14610"/>
                </a:cubicBezTo>
                <a:cubicBezTo>
                  <a:pt x="4786" y="14637"/>
                  <a:pt x="4766" y="14638"/>
                  <a:pt x="4738" y="14660"/>
                </a:cubicBezTo>
                <a:cubicBezTo>
                  <a:pt x="4713" y="14680"/>
                  <a:pt x="4715" y="14713"/>
                  <a:pt x="4713" y="14759"/>
                </a:cubicBezTo>
                <a:cubicBezTo>
                  <a:pt x="4708" y="14852"/>
                  <a:pt x="4692" y="14966"/>
                  <a:pt x="4663" y="15056"/>
                </a:cubicBezTo>
                <a:cubicBezTo>
                  <a:pt x="4613" y="15210"/>
                  <a:pt x="4533" y="15348"/>
                  <a:pt x="4490" y="15503"/>
                </a:cubicBezTo>
                <a:cubicBezTo>
                  <a:pt x="4473" y="15565"/>
                  <a:pt x="4413" y="15682"/>
                  <a:pt x="4440" y="15751"/>
                </a:cubicBezTo>
                <a:cubicBezTo>
                  <a:pt x="4455" y="15790"/>
                  <a:pt x="4527" y="15864"/>
                  <a:pt x="4564" y="15875"/>
                </a:cubicBezTo>
                <a:cubicBezTo>
                  <a:pt x="4626" y="15893"/>
                  <a:pt x="4698" y="15935"/>
                  <a:pt x="4762" y="15949"/>
                </a:cubicBezTo>
                <a:cubicBezTo>
                  <a:pt x="4811" y="15960"/>
                  <a:pt x="4837" y="15970"/>
                  <a:pt x="4887" y="15974"/>
                </a:cubicBezTo>
                <a:cubicBezTo>
                  <a:pt x="4895" y="15974"/>
                  <a:pt x="4903" y="15974"/>
                  <a:pt x="4911" y="159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38280" y="5456160"/>
            <a:ext cx="142920" cy="1350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6772" y="15156"/>
                </a:moveTo>
                <a:cubicBezTo>
                  <a:pt x="6772" y="15164"/>
                  <a:pt x="6772" y="15172"/>
                  <a:pt x="6772" y="15180"/>
                </a:cubicBezTo>
                <a:cubicBezTo>
                  <a:pt x="6819" y="15180"/>
                  <a:pt x="6851" y="15202"/>
                  <a:pt x="6896" y="15205"/>
                </a:cubicBezTo>
                <a:cubicBezTo>
                  <a:pt x="6945" y="15208"/>
                  <a:pt x="6996" y="15205"/>
                  <a:pt x="7045" y="15205"/>
                </a:cubicBezTo>
              </a:path>
              <a:path w="398" h="373">
                <a:moveTo>
                  <a:pt x="6846" y="15478"/>
                </a:moveTo>
                <a:cubicBezTo>
                  <a:pt x="6846" y="15495"/>
                  <a:pt x="6846" y="15511"/>
                  <a:pt x="6846" y="15528"/>
                </a:cubicBezTo>
                <a:cubicBezTo>
                  <a:pt x="6927" y="15528"/>
                  <a:pt x="6991" y="15514"/>
                  <a:pt x="7069" y="15503"/>
                </a:cubicBezTo>
                <a:cubicBezTo>
                  <a:pt x="7119" y="15503"/>
                  <a:pt x="7136" y="15503"/>
                  <a:pt x="7169" y="155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40040" y="5411880"/>
            <a:ext cx="1598760" cy="366480"/>
          </a:xfrm>
          <a:custGeom>
            <a:avLst/>
            <a:gdLst/>
            <a:ahLst/>
            <a:rect l="l" t="t" r="r" b="b"/>
            <a:pathLst>
              <a:path w="4441" h="1018">
                <a:moveTo>
                  <a:pt x="8235" y="15528"/>
                </a:moveTo>
                <a:cubicBezTo>
                  <a:pt x="8192" y="15542"/>
                  <a:pt x="8210" y="15528"/>
                  <a:pt x="8210" y="15553"/>
                </a:cubicBezTo>
                <a:cubicBezTo>
                  <a:pt x="8210" y="15606"/>
                  <a:pt x="8230" y="15523"/>
                  <a:pt x="8235" y="15503"/>
                </a:cubicBezTo>
                <a:cubicBezTo>
                  <a:pt x="8232" y="15511"/>
                  <a:pt x="8186" y="15558"/>
                  <a:pt x="8210" y="15577"/>
                </a:cubicBezTo>
                <a:cubicBezTo>
                  <a:pt x="8245" y="15604"/>
                  <a:pt x="8256" y="15543"/>
                  <a:pt x="8260" y="15528"/>
                </a:cubicBezTo>
              </a:path>
              <a:path w="4441" h="1018">
                <a:moveTo>
                  <a:pt x="8706" y="15230"/>
                </a:moveTo>
                <a:cubicBezTo>
                  <a:pt x="8634" y="15303"/>
                  <a:pt x="8612" y="15325"/>
                  <a:pt x="8607" y="15429"/>
                </a:cubicBezTo>
                <a:cubicBezTo>
                  <a:pt x="8603" y="15508"/>
                  <a:pt x="8588" y="15599"/>
                  <a:pt x="8682" y="15627"/>
                </a:cubicBezTo>
                <a:cubicBezTo>
                  <a:pt x="8738" y="15643"/>
                  <a:pt x="8856" y="15578"/>
                  <a:pt x="8880" y="15528"/>
                </a:cubicBezTo>
                <a:cubicBezTo>
                  <a:pt x="8903" y="15480"/>
                  <a:pt x="8875" y="15396"/>
                  <a:pt x="8855" y="15354"/>
                </a:cubicBezTo>
                <a:cubicBezTo>
                  <a:pt x="8829" y="15298"/>
                  <a:pt x="8793" y="15251"/>
                  <a:pt x="8731" y="15230"/>
                </a:cubicBezTo>
                <a:cubicBezTo>
                  <a:pt x="8706" y="15230"/>
                  <a:pt x="8698" y="15230"/>
                  <a:pt x="8706" y="15255"/>
                </a:cubicBezTo>
              </a:path>
              <a:path w="4441" h="1018">
                <a:moveTo>
                  <a:pt x="9054" y="15205"/>
                </a:moveTo>
                <a:cubicBezTo>
                  <a:pt x="9120" y="15215"/>
                  <a:pt x="9129" y="15232"/>
                  <a:pt x="9178" y="15280"/>
                </a:cubicBezTo>
                <a:cubicBezTo>
                  <a:pt x="9208" y="15309"/>
                  <a:pt x="9217" y="15361"/>
                  <a:pt x="9203" y="15404"/>
                </a:cubicBezTo>
                <a:cubicBezTo>
                  <a:pt x="9185" y="15457"/>
                  <a:pt x="9141" y="15489"/>
                  <a:pt x="9103" y="15528"/>
                </a:cubicBezTo>
                <a:cubicBezTo>
                  <a:pt x="9074" y="15558"/>
                  <a:pt x="9079" y="15563"/>
                  <a:pt x="9079" y="15602"/>
                </a:cubicBezTo>
                <a:cubicBezTo>
                  <a:pt x="9132" y="15602"/>
                  <a:pt x="9153" y="15586"/>
                  <a:pt x="9203" y="15577"/>
                </a:cubicBezTo>
                <a:cubicBezTo>
                  <a:pt x="9266" y="15566"/>
                  <a:pt x="9312" y="15551"/>
                  <a:pt x="9376" y="15528"/>
                </a:cubicBezTo>
              </a:path>
              <a:path w="4441" h="1018">
                <a:moveTo>
                  <a:pt x="9674" y="15280"/>
                </a:moveTo>
                <a:cubicBezTo>
                  <a:pt x="9663" y="15247"/>
                  <a:pt x="9621" y="15240"/>
                  <a:pt x="9575" y="15255"/>
                </a:cubicBezTo>
                <a:cubicBezTo>
                  <a:pt x="9531" y="15270"/>
                  <a:pt x="9515" y="15294"/>
                  <a:pt x="9475" y="15304"/>
                </a:cubicBezTo>
                <a:cubicBezTo>
                  <a:pt x="9484" y="15332"/>
                  <a:pt x="9509" y="15351"/>
                  <a:pt x="9550" y="15354"/>
                </a:cubicBezTo>
                <a:cubicBezTo>
                  <a:pt x="9600" y="15358"/>
                  <a:pt x="9742" y="15329"/>
                  <a:pt x="9748" y="15379"/>
                </a:cubicBezTo>
                <a:cubicBezTo>
                  <a:pt x="9748" y="15387"/>
                  <a:pt x="9748" y="15396"/>
                  <a:pt x="9748" y="15404"/>
                </a:cubicBezTo>
              </a:path>
              <a:path w="4441" h="1018">
                <a:moveTo>
                  <a:pt x="9525" y="15354"/>
                </a:moveTo>
                <a:cubicBezTo>
                  <a:pt x="9585" y="15354"/>
                  <a:pt x="9618" y="15339"/>
                  <a:pt x="9674" y="15329"/>
                </a:cubicBezTo>
                <a:cubicBezTo>
                  <a:pt x="9730" y="15319"/>
                  <a:pt x="9747" y="15292"/>
                  <a:pt x="9798" y="15280"/>
                </a:cubicBezTo>
              </a:path>
              <a:path w="4441" h="1018">
                <a:moveTo>
                  <a:pt x="9550" y="15404"/>
                </a:moveTo>
                <a:cubicBezTo>
                  <a:pt x="9499" y="15448"/>
                  <a:pt x="9448" y="15481"/>
                  <a:pt x="9401" y="15528"/>
                </a:cubicBezTo>
                <a:cubicBezTo>
                  <a:pt x="9371" y="15558"/>
                  <a:pt x="9376" y="15562"/>
                  <a:pt x="9376" y="15602"/>
                </a:cubicBezTo>
                <a:cubicBezTo>
                  <a:pt x="9430" y="15602"/>
                  <a:pt x="9477" y="15593"/>
                  <a:pt x="9525" y="15577"/>
                </a:cubicBezTo>
                <a:cubicBezTo>
                  <a:pt x="9569" y="15562"/>
                  <a:pt x="9650" y="15529"/>
                  <a:pt x="9699" y="15553"/>
                </a:cubicBezTo>
                <a:cubicBezTo>
                  <a:pt x="9707" y="15561"/>
                  <a:pt x="9715" y="15569"/>
                  <a:pt x="9723" y="15577"/>
                </a:cubicBezTo>
                <a:cubicBezTo>
                  <a:pt x="9706" y="15666"/>
                  <a:pt x="9673" y="15644"/>
                  <a:pt x="9624" y="15701"/>
                </a:cubicBezTo>
                <a:cubicBezTo>
                  <a:pt x="9599" y="15751"/>
                  <a:pt x="9591" y="15767"/>
                  <a:pt x="9550" y="15776"/>
                </a:cubicBezTo>
              </a:path>
              <a:path w="4441" h="1018">
                <a:moveTo>
                  <a:pt x="10071" y="15081"/>
                </a:moveTo>
                <a:cubicBezTo>
                  <a:pt x="10071" y="15160"/>
                  <a:pt x="10089" y="15229"/>
                  <a:pt x="10096" y="15304"/>
                </a:cubicBezTo>
                <a:cubicBezTo>
                  <a:pt x="10106" y="15406"/>
                  <a:pt x="10117" y="15557"/>
                  <a:pt x="10071" y="15652"/>
                </a:cubicBezTo>
                <a:cubicBezTo>
                  <a:pt x="10037" y="15723"/>
                  <a:pt x="9978" y="15751"/>
                  <a:pt x="9922" y="15801"/>
                </a:cubicBezTo>
              </a:path>
              <a:path w="4441" h="1018">
                <a:moveTo>
                  <a:pt x="8285" y="15106"/>
                </a:moveTo>
                <a:cubicBezTo>
                  <a:pt x="8220" y="15143"/>
                  <a:pt x="8165" y="15178"/>
                  <a:pt x="8111" y="15230"/>
                </a:cubicBezTo>
                <a:cubicBezTo>
                  <a:pt x="8040" y="15298"/>
                  <a:pt x="7950" y="15411"/>
                  <a:pt x="7913" y="15503"/>
                </a:cubicBezTo>
                <a:cubicBezTo>
                  <a:pt x="7855" y="15645"/>
                  <a:pt x="7887" y="15777"/>
                  <a:pt x="7962" y="15900"/>
                </a:cubicBezTo>
                <a:cubicBezTo>
                  <a:pt x="8015" y="15978"/>
                  <a:pt x="8035" y="16007"/>
                  <a:pt x="8086" y="16049"/>
                </a:cubicBezTo>
              </a:path>
              <a:path w="4441" h="1018">
                <a:moveTo>
                  <a:pt x="10592" y="15280"/>
                </a:moveTo>
                <a:cubicBezTo>
                  <a:pt x="10524" y="15280"/>
                  <a:pt x="10529" y="15296"/>
                  <a:pt x="10492" y="15354"/>
                </a:cubicBezTo>
                <a:cubicBezTo>
                  <a:pt x="10420" y="15468"/>
                  <a:pt x="10399" y="15590"/>
                  <a:pt x="10418" y="15726"/>
                </a:cubicBezTo>
                <a:cubicBezTo>
                  <a:pt x="10435" y="15848"/>
                  <a:pt x="10489" y="15926"/>
                  <a:pt x="10616" y="15949"/>
                </a:cubicBezTo>
                <a:cubicBezTo>
                  <a:pt x="10641" y="15949"/>
                  <a:pt x="10666" y="15949"/>
                  <a:pt x="10691" y="15949"/>
                </a:cubicBezTo>
              </a:path>
              <a:path w="4441" h="1018">
                <a:moveTo>
                  <a:pt x="11063" y="15652"/>
                </a:moveTo>
                <a:cubicBezTo>
                  <a:pt x="11049" y="15706"/>
                  <a:pt x="11061" y="15701"/>
                  <a:pt x="11038" y="15701"/>
                </a:cubicBezTo>
              </a:path>
              <a:path w="4441" h="1018">
                <a:moveTo>
                  <a:pt x="11460" y="15329"/>
                </a:moveTo>
                <a:cubicBezTo>
                  <a:pt x="11426" y="15397"/>
                  <a:pt x="11388" y="15453"/>
                  <a:pt x="11385" y="15528"/>
                </a:cubicBezTo>
                <a:cubicBezTo>
                  <a:pt x="11381" y="15615"/>
                  <a:pt x="11370" y="15647"/>
                  <a:pt x="11460" y="15652"/>
                </a:cubicBezTo>
                <a:cubicBezTo>
                  <a:pt x="11551" y="15657"/>
                  <a:pt x="11593" y="15601"/>
                  <a:pt x="11633" y="15528"/>
                </a:cubicBezTo>
                <a:cubicBezTo>
                  <a:pt x="11684" y="15435"/>
                  <a:pt x="11650" y="15412"/>
                  <a:pt x="11584" y="15354"/>
                </a:cubicBezTo>
                <a:cubicBezTo>
                  <a:pt x="11523" y="15300"/>
                  <a:pt x="11510" y="15304"/>
                  <a:pt x="11435" y="15304"/>
                </a:cubicBezTo>
              </a:path>
              <a:path w="4441" h="1018">
                <a:moveTo>
                  <a:pt x="11832" y="15280"/>
                </a:moveTo>
                <a:cubicBezTo>
                  <a:pt x="11858" y="15375"/>
                  <a:pt x="11864" y="15413"/>
                  <a:pt x="11832" y="15503"/>
                </a:cubicBezTo>
                <a:cubicBezTo>
                  <a:pt x="11809" y="15567"/>
                  <a:pt x="11807" y="15612"/>
                  <a:pt x="11807" y="15677"/>
                </a:cubicBezTo>
              </a:path>
              <a:path w="4441" h="1018">
                <a:moveTo>
                  <a:pt x="12105" y="15032"/>
                </a:moveTo>
                <a:cubicBezTo>
                  <a:pt x="12198" y="15032"/>
                  <a:pt x="12213" y="15102"/>
                  <a:pt x="12254" y="15180"/>
                </a:cubicBezTo>
                <a:cubicBezTo>
                  <a:pt x="12327" y="15319"/>
                  <a:pt x="12366" y="15521"/>
                  <a:pt x="12328" y="15677"/>
                </a:cubicBezTo>
                <a:cubicBezTo>
                  <a:pt x="12298" y="15798"/>
                  <a:pt x="12195" y="15901"/>
                  <a:pt x="12105" y="159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22920" y="5607000"/>
            <a:ext cx="150840" cy="135000"/>
          </a:xfrm>
          <a:custGeom>
            <a:avLst/>
            <a:gdLst/>
            <a:ahLst/>
            <a:rect l="l" t="t" r="r" b="b"/>
            <a:pathLst>
              <a:path w="422" h="373">
                <a:moveTo>
                  <a:pt x="13395" y="15577"/>
                </a:moveTo>
                <a:cubicBezTo>
                  <a:pt x="13435" y="15608"/>
                  <a:pt x="13489" y="15614"/>
                  <a:pt x="13543" y="15602"/>
                </a:cubicBezTo>
                <a:cubicBezTo>
                  <a:pt x="13630" y="15583"/>
                  <a:pt x="13701" y="15577"/>
                  <a:pt x="13791" y="15577"/>
                </a:cubicBezTo>
              </a:path>
              <a:path w="422" h="373">
                <a:moveTo>
                  <a:pt x="13469" y="15900"/>
                </a:moveTo>
                <a:cubicBezTo>
                  <a:pt x="13469" y="15916"/>
                  <a:pt x="13469" y="15933"/>
                  <a:pt x="13469" y="15949"/>
                </a:cubicBezTo>
                <a:cubicBezTo>
                  <a:pt x="13545" y="15940"/>
                  <a:pt x="13616" y="15923"/>
                  <a:pt x="13692" y="15900"/>
                </a:cubicBezTo>
                <a:cubicBezTo>
                  <a:pt x="13757" y="15878"/>
                  <a:pt x="13772" y="15870"/>
                  <a:pt x="13816" y="158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67240" y="5510160"/>
            <a:ext cx="1490760" cy="293760"/>
          </a:xfrm>
          <a:custGeom>
            <a:avLst/>
            <a:gdLst/>
            <a:ahLst/>
            <a:rect l="l" t="t" r="r" b="b"/>
            <a:pathLst>
              <a:path w="4143" h="820">
                <a:moveTo>
                  <a:pt x="14932" y="15751"/>
                </a:moveTo>
                <a:cubicBezTo>
                  <a:pt x="14932" y="15776"/>
                  <a:pt x="14932" y="15784"/>
                  <a:pt x="14908" y="15776"/>
                </a:cubicBezTo>
                <a:cubicBezTo>
                  <a:pt x="14933" y="15776"/>
                  <a:pt x="14957" y="15776"/>
                  <a:pt x="14982" y="15776"/>
                </a:cubicBezTo>
                <a:cubicBezTo>
                  <a:pt x="14995" y="15738"/>
                  <a:pt x="15011" y="15751"/>
                  <a:pt x="15056" y="15751"/>
                </a:cubicBezTo>
              </a:path>
              <a:path w="4143" h="820">
                <a:moveTo>
                  <a:pt x="15304" y="15379"/>
                </a:moveTo>
                <a:cubicBezTo>
                  <a:pt x="15330" y="15344"/>
                  <a:pt x="15329" y="15348"/>
                  <a:pt x="15329" y="15304"/>
                </a:cubicBezTo>
                <a:cubicBezTo>
                  <a:pt x="15287" y="15315"/>
                  <a:pt x="15209" y="15395"/>
                  <a:pt x="15180" y="15429"/>
                </a:cubicBezTo>
                <a:cubicBezTo>
                  <a:pt x="15088" y="15535"/>
                  <a:pt x="15009" y="15662"/>
                  <a:pt x="14982" y="15801"/>
                </a:cubicBezTo>
                <a:cubicBezTo>
                  <a:pt x="14962" y="15906"/>
                  <a:pt x="15049" y="15917"/>
                  <a:pt x="15131" y="15900"/>
                </a:cubicBezTo>
                <a:cubicBezTo>
                  <a:pt x="15213" y="15883"/>
                  <a:pt x="15290" y="15827"/>
                  <a:pt x="15354" y="15776"/>
                </a:cubicBezTo>
                <a:cubicBezTo>
                  <a:pt x="15342" y="15728"/>
                  <a:pt x="15315" y="15690"/>
                  <a:pt x="15255" y="15701"/>
                </a:cubicBezTo>
                <a:cubicBezTo>
                  <a:pt x="15206" y="15710"/>
                  <a:pt x="15084" y="15752"/>
                  <a:pt x="15056" y="15801"/>
                </a:cubicBezTo>
                <a:cubicBezTo>
                  <a:pt x="15056" y="15829"/>
                  <a:pt x="15059" y="15839"/>
                  <a:pt x="15081" y="15850"/>
                </a:cubicBezTo>
              </a:path>
              <a:path w="4143" h="820">
                <a:moveTo>
                  <a:pt x="15627" y="15801"/>
                </a:moveTo>
                <a:cubicBezTo>
                  <a:pt x="15614" y="15840"/>
                  <a:pt x="15615" y="15811"/>
                  <a:pt x="15602" y="15850"/>
                </a:cubicBezTo>
                <a:cubicBezTo>
                  <a:pt x="15623" y="15834"/>
                  <a:pt x="15686" y="15774"/>
                  <a:pt x="15627" y="15825"/>
                </a:cubicBezTo>
                <a:cubicBezTo>
                  <a:pt x="15594" y="15853"/>
                  <a:pt x="15562" y="15872"/>
                  <a:pt x="15553" y="15900"/>
                </a:cubicBezTo>
              </a:path>
              <a:path w="4143" h="820">
                <a:moveTo>
                  <a:pt x="16024" y="15404"/>
                </a:moveTo>
                <a:cubicBezTo>
                  <a:pt x="15960" y="15404"/>
                  <a:pt x="16092" y="15380"/>
                  <a:pt x="16098" y="15379"/>
                </a:cubicBezTo>
                <a:cubicBezTo>
                  <a:pt x="16128" y="15374"/>
                  <a:pt x="16234" y="15361"/>
                  <a:pt x="16247" y="15404"/>
                </a:cubicBezTo>
                <a:cubicBezTo>
                  <a:pt x="16277" y="15500"/>
                  <a:pt x="16196" y="15580"/>
                  <a:pt x="16148" y="15652"/>
                </a:cubicBezTo>
                <a:cubicBezTo>
                  <a:pt x="16092" y="15735"/>
                  <a:pt x="15976" y="15829"/>
                  <a:pt x="15949" y="15925"/>
                </a:cubicBezTo>
                <a:cubicBezTo>
                  <a:pt x="15949" y="15941"/>
                  <a:pt x="15949" y="15958"/>
                  <a:pt x="15949" y="15974"/>
                </a:cubicBezTo>
              </a:path>
              <a:path w="4143" h="820">
                <a:moveTo>
                  <a:pt x="16594" y="15677"/>
                </a:moveTo>
                <a:cubicBezTo>
                  <a:pt x="16541" y="15730"/>
                  <a:pt x="16499" y="15751"/>
                  <a:pt x="16495" y="15825"/>
                </a:cubicBezTo>
                <a:cubicBezTo>
                  <a:pt x="16491" y="15896"/>
                  <a:pt x="16529" y="15941"/>
                  <a:pt x="16594" y="15949"/>
                </a:cubicBezTo>
                <a:cubicBezTo>
                  <a:pt x="16644" y="15949"/>
                  <a:pt x="16661" y="15949"/>
                  <a:pt x="16694" y="15949"/>
                </a:cubicBezTo>
              </a:path>
              <a:path w="4143" h="820">
                <a:moveTo>
                  <a:pt x="16545" y="15776"/>
                </a:moveTo>
                <a:cubicBezTo>
                  <a:pt x="16617" y="15776"/>
                  <a:pt x="16654" y="15758"/>
                  <a:pt x="16718" y="15726"/>
                </a:cubicBezTo>
                <a:cubicBezTo>
                  <a:pt x="16735" y="15718"/>
                  <a:pt x="16751" y="15709"/>
                  <a:pt x="16768" y="15701"/>
                </a:cubicBezTo>
              </a:path>
              <a:path w="4143" h="820">
                <a:moveTo>
                  <a:pt x="16594" y="15528"/>
                </a:moveTo>
                <a:cubicBezTo>
                  <a:pt x="16647" y="15453"/>
                  <a:pt x="16683" y="15458"/>
                  <a:pt x="16768" y="15429"/>
                </a:cubicBezTo>
                <a:cubicBezTo>
                  <a:pt x="16838" y="15405"/>
                  <a:pt x="16898" y="15402"/>
                  <a:pt x="16966" y="15379"/>
                </a:cubicBezTo>
              </a:path>
              <a:path w="4143" h="820">
                <a:moveTo>
                  <a:pt x="17066" y="15652"/>
                </a:moveTo>
                <a:cubicBezTo>
                  <a:pt x="17058" y="15660"/>
                  <a:pt x="17049" y="15669"/>
                  <a:pt x="17041" y="15677"/>
                </a:cubicBezTo>
                <a:cubicBezTo>
                  <a:pt x="17114" y="15677"/>
                  <a:pt x="17171" y="15664"/>
                  <a:pt x="17239" y="15652"/>
                </a:cubicBezTo>
                <a:cubicBezTo>
                  <a:pt x="17284" y="15652"/>
                  <a:pt x="17297" y="15655"/>
                  <a:pt x="17314" y="15627"/>
                </a:cubicBezTo>
              </a:path>
              <a:path w="4143" h="820">
                <a:moveTo>
                  <a:pt x="17611" y="15453"/>
                </a:moveTo>
                <a:cubicBezTo>
                  <a:pt x="17599" y="15502"/>
                  <a:pt x="17564" y="15511"/>
                  <a:pt x="17537" y="15553"/>
                </a:cubicBezTo>
                <a:cubicBezTo>
                  <a:pt x="17513" y="15590"/>
                  <a:pt x="17490" y="15659"/>
                  <a:pt x="17487" y="15701"/>
                </a:cubicBezTo>
                <a:cubicBezTo>
                  <a:pt x="17482" y="15770"/>
                  <a:pt x="17503" y="15776"/>
                  <a:pt x="17562" y="15776"/>
                </a:cubicBezTo>
                <a:cubicBezTo>
                  <a:pt x="17644" y="15776"/>
                  <a:pt x="17734" y="15775"/>
                  <a:pt x="17810" y="15751"/>
                </a:cubicBezTo>
                <a:cubicBezTo>
                  <a:pt x="17826" y="15743"/>
                  <a:pt x="17843" y="15734"/>
                  <a:pt x="17859" y="15726"/>
                </a:cubicBezTo>
              </a:path>
              <a:path w="4143" h="820">
                <a:moveTo>
                  <a:pt x="18033" y="15429"/>
                </a:moveTo>
                <a:cubicBezTo>
                  <a:pt x="17927" y="15535"/>
                  <a:pt x="17892" y="15592"/>
                  <a:pt x="17835" y="15726"/>
                </a:cubicBezTo>
                <a:cubicBezTo>
                  <a:pt x="17803" y="15800"/>
                  <a:pt x="17710" y="15936"/>
                  <a:pt x="17735" y="16024"/>
                </a:cubicBezTo>
                <a:cubicBezTo>
                  <a:pt x="17743" y="16032"/>
                  <a:pt x="17752" y="16041"/>
                  <a:pt x="17760" y="16049"/>
                </a:cubicBezTo>
              </a:path>
              <a:path w="4143" h="820">
                <a:moveTo>
                  <a:pt x="18306" y="15652"/>
                </a:moveTo>
                <a:cubicBezTo>
                  <a:pt x="18266" y="15707"/>
                  <a:pt x="18219" y="15741"/>
                  <a:pt x="18182" y="15801"/>
                </a:cubicBezTo>
                <a:cubicBezTo>
                  <a:pt x="18151" y="15852"/>
                  <a:pt x="18140" y="15906"/>
                  <a:pt x="18107" y="15949"/>
                </a:cubicBezTo>
                <a:cubicBezTo>
                  <a:pt x="18157" y="15949"/>
                  <a:pt x="18200" y="15914"/>
                  <a:pt x="18231" y="15875"/>
                </a:cubicBezTo>
                <a:cubicBezTo>
                  <a:pt x="18283" y="15810"/>
                  <a:pt x="18362" y="15722"/>
                  <a:pt x="18405" y="15652"/>
                </a:cubicBezTo>
                <a:cubicBezTo>
                  <a:pt x="18405" y="15627"/>
                  <a:pt x="18405" y="15619"/>
                  <a:pt x="18430" y="15627"/>
                </a:cubicBezTo>
                <a:cubicBezTo>
                  <a:pt x="18420" y="15706"/>
                  <a:pt x="18405" y="15766"/>
                  <a:pt x="18405" y="15850"/>
                </a:cubicBezTo>
                <a:cubicBezTo>
                  <a:pt x="18405" y="15901"/>
                  <a:pt x="18389" y="15998"/>
                  <a:pt x="18479" y="15974"/>
                </a:cubicBezTo>
                <a:cubicBezTo>
                  <a:pt x="18564" y="15951"/>
                  <a:pt x="18619" y="15884"/>
                  <a:pt x="18678" y="15825"/>
                </a:cubicBezTo>
                <a:cubicBezTo>
                  <a:pt x="18738" y="15766"/>
                  <a:pt x="18827" y="15688"/>
                  <a:pt x="18876" y="15627"/>
                </a:cubicBezTo>
                <a:cubicBezTo>
                  <a:pt x="18876" y="15619"/>
                  <a:pt x="18876" y="15610"/>
                  <a:pt x="18876" y="15602"/>
                </a:cubicBezTo>
                <a:cubicBezTo>
                  <a:pt x="18876" y="15729"/>
                  <a:pt x="18851" y="15880"/>
                  <a:pt x="18901" y="15999"/>
                </a:cubicBezTo>
                <a:cubicBezTo>
                  <a:pt x="18955" y="16079"/>
                  <a:pt x="18978" y="16107"/>
                  <a:pt x="19050" y="161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84720" y="5965920"/>
            <a:ext cx="26640" cy="27000"/>
          </a:xfrm>
          <a:custGeom>
            <a:avLst/>
            <a:gdLst/>
            <a:ahLst/>
            <a:rect l="l" t="t" r="r" b="b"/>
            <a:pathLst>
              <a:path w="75" h="75">
                <a:moveTo>
                  <a:pt x="9426" y="16594"/>
                </a:moveTo>
                <a:cubicBezTo>
                  <a:pt x="9401" y="16594"/>
                  <a:pt x="9393" y="16594"/>
                  <a:pt x="9401" y="16619"/>
                </a:cubicBezTo>
                <a:cubicBezTo>
                  <a:pt x="9437" y="16592"/>
                  <a:pt x="9444" y="16580"/>
                  <a:pt x="9475" y="16570"/>
                </a:cubicBezTo>
                <a:cubicBezTo>
                  <a:pt x="9446" y="16599"/>
                  <a:pt x="9435" y="16608"/>
                  <a:pt x="9426" y="166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17920" y="5848200"/>
            <a:ext cx="438120" cy="260640"/>
          </a:xfrm>
          <a:custGeom>
            <a:avLst/>
            <a:gdLst/>
            <a:ahLst/>
            <a:rect l="l" t="t" r="r" b="b"/>
            <a:pathLst>
              <a:path w="1216" h="720">
                <a:moveTo>
                  <a:pt x="9798" y="16272"/>
                </a:moveTo>
                <a:cubicBezTo>
                  <a:pt x="9830" y="16264"/>
                  <a:pt x="9858" y="16233"/>
                  <a:pt x="9897" y="16247"/>
                </a:cubicBezTo>
                <a:cubicBezTo>
                  <a:pt x="9952" y="16267"/>
                  <a:pt x="9967" y="16312"/>
                  <a:pt x="9947" y="16371"/>
                </a:cubicBezTo>
                <a:cubicBezTo>
                  <a:pt x="9922" y="16446"/>
                  <a:pt x="9852" y="16499"/>
                  <a:pt x="9798" y="16545"/>
                </a:cubicBezTo>
                <a:cubicBezTo>
                  <a:pt x="9790" y="16553"/>
                  <a:pt x="9781" y="16562"/>
                  <a:pt x="9773" y="16570"/>
                </a:cubicBezTo>
                <a:cubicBezTo>
                  <a:pt x="9821" y="16558"/>
                  <a:pt x="9869" y="16529"/>
                  <a:pt x="9922" y="16520"/>
                </a:cubicBezTo>
                <a:cubicBezTo>
                  <a:pt x="9995" y="16508"/>
                  <a:pt x="10017" y="16560"/>
                  <a:pt x="10021" y="16619"/>
                </a:cubicBezTo>
                <a:cubicBezTo>
                  <a:pt x="10026" y="16702"/>
                  <a:pt x="9976" y="16738"/>
                  <a:pt x="9922" y="16793"/>
                </a:cubicBezTo>
                <a:cubicBezTo>
                  <a:pt x="9897" y="16818"/>
                  <a:pt x="9889" y="16826"/>
                  <a:pt x="9872" y="16842"/>
                </a:cubicBezTo>
              </a:path>
              <a:path w="1216" h="720">
                <a:moveTo>
                  <a:pt x="10220" y="16396"/>
                </a:moveTo>
                <a:cubicBezTo>
                  <a:pt x="10257" y="16396"/>
                  <a:pt x="10315" y="16386"/>
                  <a:pt x="10344" y="16371"/>
                </a:cubicBezTo>
                <a:cubicBezTo>
                  <a:pt x="10376" y="16355"/>
                  <a:pt x="10440" y="16315"/>
                  <a:pt x="10468" y="16371"/>
                </a:cubicBezTo>
                <a:cubicBezTo>
                  <a:pt x="10495" y="16426"/>
                  <a:pt x="10461" y="16544"/>
                  <a:pt x="10443" y="16594"/>
                </a:cubicBezTo>
                <a:cubicBezTo>
                  <a:pt x="10415" y="16671"/>
                  <a:pt x="10374" y="16736"/>
                  <a:pt x="10368" y="16818"/>
                </a:cubicBezTo>
                <a:cubicBezTo>
                  <a:pt x="10368" y="16842"/>
                  <a:pt x="10368" y="16851"/>
                  <a:pt x="10368" y="16867"/>
                </a:cubicBezTo>
              </a:path>
              <a:path w="1216" h="720">
                <a:moveTo>
                  <a:pt x="10790" y="16396"/>
                </a:moveTo>
                <a:cubicBezTo>
                  <a:pt x="10826" y="16387"/>
                  <a:pt x="10856" y="16353"/>
                  <a:pt x="10889" y="16346"/>
                </a:cubicBezTo>
                <a:cubicBezTo>
                  <a:pt x="10916" y="16340"/>
                  <a:pt x="10959" y="16346"/>
                  <a:pt x="10988" y="16346"/>
                </a:cubicBezTo>
              </a:path>
              <a:path w="1216" h="720">
                <a:moveTo>
                  <a:pt x="10889" y="16396"/>
                </a:moveTo>
                <a:cubicBezTo>
                  <a:pt x="10818" y="16422"/>
                  <a:pt x="10751" y="16449"/>
                  <a:pt x="10691" y="16495"/>
                </a:cubicBezTo>
                <a:cubicBezTo>
                  <a:pt x="10649" y="16527"/>
                  <a:pt x="10662" y="16562"/>
                  <a:pt x="10691" y="16594"/>
                </a:cubicBezTo>
                <a:cubicBezTo>
                  <a:pt x="10732" y="16639"/>
                  <a:pt x="10792" y="16658"/>
                  <a:pt x="10840" y="16694"/>
                </a:cubicBezTo>
                <a:cubicBezTo>
                  <a:pt x="10909" y="16746"/>
                  <a:pt x="10818" y="16800"/>
                  <a:pt x="10790" y="16842"/>
                </a:cubicBezTo>
                <a:cubicBezTo>
                  <a:pt x="10745" y="16909"/>
                  <a:pt x="10725" y="16950"/>
                  <a:pt x="10641" y="169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94040" y="4133880"/>
            <a:ext cx="1758960" cy="46080"/>
          </a:xfrm>
          <a:custGeom>
            <a:avLst/>
            <a:gdLst/>
            <a:ahLst/>
            <a:rect l="l" t="t" r="r" b="b"/>
            <a:pathLst>
              <a:path w="4887" h="125">
                <a:moveTo>
                  <a:pt x="8037" y="11609"/>
                </a:moveTo>
                <a:cubicBezTo>
                  <a:pt x="8092" y="11599"/>
                  <a:pt x="8133" y="11587"/>
                  <a:pt x="8186" y="11584"/>
                </a:cubicBezTo>
                <a:cubicBezTo>
                  <a:pt x="8311" y="11576"/>
                  <a:pt x="8435" y="11569"/>
                  <a:pt x="8558" y="11559"/>
                </a:cubicBezTo>
                <a:cubicBezTo>
                  <a:pt x="8805" y="11538"/>
                  <a:pt x="9060" y="11564"/>
                  <a:pt x="9302" y="11584"/>
                </a:cubicBezTo>
                <a:cubicBezTo>
                  <a:pt x="9926" y="11635"/>
                  <a:pt x="10722" y="11669"/>
                  <a:pt x="11336" y="11559"/>
                </a:cubicBezTo>
                <a:cubicBezTo>
                  <a:pt x="11435" y="11541"/>
                  <a:pt x="11533" y="11546"/>
                  <a:pt x="11633" y="11534"/>
                </a:cubicBezTo>
                <a:cubicBezTo>
                  <a:pt x="11742" y="11521"/>
                  <a:pt x="11844" y="11511"/>
                  <a:pt x="11956" y="11509"/>
                </a:cubicBezTo>
                <a:cubicBezTo>
                  <a:pt x="12172" y="11505"/>
                  <a:pt x="12392" y="11500"/>
                  <a:pt x="12601" y="11485"/>
                </a:cubicBezTo>
                <a:cubicBezTo>
                  <a:pt x="12707" y="11477"/>
                  <a:pt x="12816" y="11485"/>
                  <a:pt x="12923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95760" y="5018040"/>
            <a:ext cx="2374560" cy="98640"/>
          </a:xfrm>
          <a:custGeom>
            <a:avLst/>
            <a:gdLst/>
            <a:ahLst/>
            <a:rect l="l" t="t" r="r" b="b"/>
            <a:pathLst>
              <a:path w="6599" h="274">
                <a:moveTo>
                  <a:pt x="7764" y="14213"/>
                </a:moveTo>
                <a:cubicBezTo>
                  <a:pt x="7870" y="14209"/>
                  <a:pt x="7959" y="14202"/>
                  <a:pt x="8062" y="14188"/>
                </a:cubicBezTo>
                <a:cubicBezTo>
                  <a:pt x="8190" y="14170"/>
                  <a:pt x="8329" y="14145"/>
                  <a:pt x="8458" y="14139"/>
                </a:cubicBezTo>
                <a:cubicBezTo>
                  <a:pt x="8599" y="14132"/>
                  <a:pt x="8742" y="14122"/>
                  <a:pt x="8880" y="14114"/>
                </a:cubicBezTo>
                <a:cubicBezTo>
                  <a:pt x="9324" y="14089"/>
                  <a:pt x="9783" y="14115"/>
                  <a:pt x="10220" y="14089"/>
                </a:cubicBezTo>
                <a:cubicBezTo>
                  <a:pt x="10452" y="14075"/>
                  <a:pt x="10691" y="14101"/>
                  <a:pt x="10914" y="14114"/>
                </a:cubicBezTo>
                <a:cubicBezTo>
                  <a:pt x="11081" y="14124"/>
                  <a:pt x="11246" y="14109"/>
                  <a:pt x="11410" y="14089"/>
                </a:cubicBezTo>
                <a:cubicBezTo>
                  <a:pt x="11552" y="14072"/>
                  <a:pt x="11689" y="14051"/>
                  <a:pt x="11832" y="14039"/>
                </a:cubicBezTo>
                <a:cubicBezTo>
                  <a:pt x="12005" y="14024"/>
                  <a:pt x="12179" y="13997"/>
                  <a:pt x="12353" y="13990"/>
                </a:cubicBezTo>
                <a:cubicBezTo>
                  <a:pt x="12750" y="13974"/>
                  <a:pt x="13148" y="13989"/>
                  <a:pt x="13543" y="13965"/>
                </a:cubicBezTo>
                <a:cubicBezTo>
                  <a:pt x="13804" y="13949"/>
                  <a:pt x="14142" y="13972"/>
                  <a:pt x="14362" y="13940"/>
                </a:cubicBezTo>
                <a:cubicBezTo>
                  <a:pt x="14354" y="13940"/>
                  <a:pt x="14345" y="13940"/>
                  <a:pt x="14337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05040" y="5697360"/>
            <a:ext cx="1982880" cy="81000"/>
          </a:xfrm>
          <a:custGeom>
            <a:avLst/>
            <a:gdLst/>
            <a:ahLst/>
            <a:rect l="l" t="t" r="r" b="b"/>
            <a:pathLst>
              <a:path w="5507" h="225">
                <a:moveTo>
                  <a:pt x="7516" y="15999"/>
                </a:moveTo>
                <a:cubicBezTo>
                  <a:pt x="7595" y="15994"/>
                  <a:pt x="7661" y="15980"/>
                  <a:pt x="7739" y="15974"/>
                </a:cubicBezTo>
                <a:cubicBezTo>
                  <a:pt x="7880" y="15963"/>
                  <a:pt x="8021" y="15952"/>
                  <a:pt x="8161" y="15949"/>
                </a:cubicBezTo>
                <a:cubicBezTo>
                  <a:pt x="8444" y="15943"/>
                  <a:pt x="8725" y="15954"/>
                  <a:pt x="9004" y="15974"/>
                </a:cubicBezTo>
                <a:cubicBezTo>
                  <a:pt x="9154" y="15985"/>
                  <a:pt x="9302" y="16012"/>
                  <a:pt x="9451" y="16024"/>
                </a:cubicBezTo>
                <a:cubicBezTo>
                  <a:pt x="9745" y="16048"/>
                  <a:pt x="10052" y="16033"/>
                  <a:pt x="10344" y="16049"/>
                </a:cubicBezTo>
                <a:cubicBezTo>
                  <a:pt x="10589" y="16062"/>
                  <a:pt x="10846" y="16051"/>
                  <a:pt x="11088" y="16024"/>
                </a:cubicBezTo>
                <a:cubicBezTo>
                  <a:pt x="11567" y="15970"/>
                  <a:pt x="12049" y="15904"/>
                  <a:pt x="12526" y="15850"/>
                </a:cubicBezTo>
                <a:cubicBezTo>
                  <a:pt x="12657" y="15835"/>
                  <a:pt x="12788" y="15810"/>
                  <a:pt x="12923" y="15825"/>
                </a:cubicBezTo>
                <a:cubicBezTo>
                  <a:pt x="12973" y="15831"/>
                  <a:pt x="12979" y="15843"/>
                  <a:pt x="13022" y="158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lution of 750.0 mL of 4.0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Ce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dded to 300.0 mL o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.0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K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Will Ce(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Ksp= 1.9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)precipitate and  if so, what is the concentration of the 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lution of 750.0 mL of 4.0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Ce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dded to 300.0 mL o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.0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K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Will Ce(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Ksp= 1.9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)precipitate and  if so, what is the concentration of the 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08080" y="3902040"/>
            <a:ext cx="1098720" cy="615960"/>
          </a:xfrm>
          <a:custGeom>
            <a:avLst/>
            <a:gdLst/>
            <a:ahLst/>
            <a:rect l="l" t="t" r="r" b="b"/>
            <a:pathLst>
              <a:path w="3052" h="1712">
                <a:moveTo>
                  <a:pt x="3547" y="11906"/>
                </a:moveTo>
                <a:cubicBezTo>
                  <a:pt x="3538" y="11968"/>
                  <a:pt x="3534" y="12017"/>
                  <a:pt x="3572" y="11931"/>
                </a:cubicBezTo>
                <a:cubicBezTo>
                  <a:pt x="3608" y="11851"/>
                  <a:pt x="3578" y="11899"/>
                  <a:pt x="3547" y="11956"/>
                </a:cubicBezTo>
                <a:cubicBezTo>
                  <a:pt x="3515" y="12016"/>
                  <a:pt x="3437" y="12063"/>
                  <a:pt x="3497" y="12105"/>
                </a:cubicBezTo>
              </a:path>
              <a:path w="3052" h="1712">
                <a:moveTo>
                  <a:pt x="3721" y="11311"/>
                </a:moveTo>
                <a:cubicBezTo>
                  <a:pt x="3698" y="11334"/>
                  <a:pt x="3690" y="11338"/>
                  <a:pt x="3696" y="11361"/>
                </a:cubicBezTo>
                <a:cubicBezTo>
                  <a:pt x="3758" y="11346"/>
                  <a:pt x="3807" y="11285"/>
                  <a:pt x="3870" y="11261"/>
                </a:cubicBezTo>
                <a:cubicBezTo>
                  <a:pt x="3918" y="11243"/>
                  <a:pt x="4115" y="11128"/>
                  <a:pt x="4167" y="11162"/>
                </a:cubicBezTo>
                <a:cubicBezTo>
                  <a:pt x="4263" y="11224"/>
                  <a:pt x="4184" y="11384"/>
                  <a:pt x="4167" y="11460"/>
                </a:cubicBezTo>
                <a:cubicBezTo>
                  <a:pt x="4138" y="11592"/>
                  <a:pt x="4099" y="11723"/>
                  <a:pt x="4093" y="11857"/>
                </a:cubicBezTo>
                <a:cubicBezTo>
                  <a:pt x="4093" y="11901"/>
                  <a:pt x="4090" y="11915"/>
                  <a:pt x="4118" y="11931"/>
                </a:cubicBezTo>
              </a:path>
              <a:path w="3052" h="1712">
                <a:moveTo>
                  <a:pt x="4663" y="11137"/>
                </a:moveTo>
                <a:cubicBezTo>
                  <a:pt x="4716" y="11100"/>
                  <a:pt x="4783" y="11040"/>
                  <a:pt x="4837" y="11013"/>
                </a:cubicBezTo>
                <a:cubicBezTo>
                  <a:pt x="4845" y="11013"/>
                  <a:pt x="4854" y="11013"/>
                  <a:pt x="4862" y="11013"/>
                </a:cubicBezTo>
              </a:path>
              <a:path w="3052" h="1712">
                <a:moveTo>
                  <a:pt x="4787" y="11088"/>
                </a:moveTo>
                <a:cubicBezTo>
                  <a:pt x="4696" y="11179"/>
                  <a:pt x="4577" y="11271"/>
                  <a:pt x="4514" y="11385"/>
                </a:cubicBezTo>
                <a:cubicBezTo>
                  <a:pt x="4494" y="11426"/>
                  <a:pt x="4486" y="11432"/>
                  <a:pt x="4490" y="11460"/>
                </a:cubicBezTo>
                <a:cubicBezTo>
                  <a:pt x="4560" y="11500"/>
                  <a:pt x="4614" y="11511"/>
                  <a:pt x="4688" y="11534"/>
                </a:cubicBezTo>
                <a:cubicBezTo>
                  <a:pt x="4763" y="11558"/>
                  <a:pt x="4784" y="11639"/>
                  <a:pt x="4787" y="11708"/>
                </a:cubicBezTo>
                <a:cubicBezTo>
                  <a:pt x="4792" y="11815"/>
                  <a:pt x="4758" y="11880"/>
                  <a:pt x="4688" y="11956"/>
                </a:cubicBezTo>
                <a:cubicBezTo>
                  <a:pt x="4680" y="11964"/>
                  <a:pt x="4671" y="11973"/>
                  <a:pt x="4663" y="11981"/>
                </a:cubicBezTo>
              </a:path>
              <a:path w="3052" h="1712">
                <a:moveTo>
                  <a:pt x="5060" y="11311"/>
                </a:moveTo>
                <a:cubicBezTo>
                  <a:pt x="5077" y="11412"/>
                  <a:pt x="5060" y="11501"/>
                  <a:pt x="5060" y="11609"/>
                </a:cubicBezTo>
                <a:cubicBezTo>
                  <a:pt x="5060" y="11689"/>
                  <a:pt x="5078" y="11735"/>
                  <a:pt x="5110" y="11807"/>
                </a:cubicBezTo>
                <a:cubicBezTo>
                  <a:pt x="5197" y="11796"/>
                  <a:pt x="5245" y="11770"/>
                  <a:pt x="5283" y="11683"/>
                </a:cubicBezTo>
                <a:cubicBezTo>
                  <a:pt x="5314" y="11612"/>
                  <a:pt x="5331" y="11503"/>
                  <a:pt x="5283" y="11435"/>
                </a:cubicBezTo>
                <a:cubicBezTo>
                  <a:pt x="5237" y="11370"/>
                  <a:pt x="5181" y="11353"/>
                  <a:pt x="5110" y="11336"/>
                </a:cubicBezTo>
                <a:cubicBezTo>
                  <a:pt x="5102" y="11336"/>
                  <a:pt x="5093" y="11336"/>
                  <a:pt x="5085" y="11336"/>
                </a:cubicBezTo>
              </a:path>
              <a:path w="3052" h="1712">
                <a:moveTo>
                  <a:pt x="5556" y="10840"/>
                </a:moveTo>
                <a:cubicBezTo>
                  <a:pt x="5582" y="10933"/>
                  <a:pt x="5606" y="11017"/>
                  <a:pt x="5631" y="11112"/>
                </a:cubicBezTo>
                <a:cubicBezTo>
                  <a:pt x="5674" y="11279"/>
                  <a:pt x="5701" y="11437"/>
                  <a:pt x="5705" y="11609"/>
                </a:cubicBezTo>
                <a:cubicBezTo>
                  <a:pt x="5709" y="11785"/>
                  <a:pt x="5693" y="11894"/>
                  <a:pt x="5631" y="12055"/>
                </a:cubicBezTo>
                <a:cubicBezTo>
                  <a:pt x="5623" y="12080"/>
                  <a:pt x="5614" y="12104"/>
                  <a:pt x="5606" y="12129"/>
                </a:cubicBezTo>
              </a:path>
              <a:path w="3052" h="1712">
                <a:moveTo>
                  <a:pt x="3448" y="10988"/>
                </a:moveTo>
                <a:cubicBezTo>
                  <a:pt x="3397" y="11070"/>
                  <a:pt x="3326" y="11130"/>
                  <a:pt x="3274" y="11212"/>
                </a:cubicBezTo>
                <a:cubicBezTo>
                  <a:pt x="3171" y="11374"/>
                  <a:pt x="3092" y="11563"/>
                  <a:pt x="3076" y="11757"/>
                </a:cubicBezTo>
                <a:cubicBezTo>
                  <a:pt x="3057" y="11983"/>
                  <a:pt x="3105" y="12188"/>
                  <a:pt x="3225" y="12378"/>
                </a:cubicBezTo>
                <a:cubicBezTo>
                  <a:pt x="3295" y="12472"/>
                  <a:pt x="3315" y="12500"/>
                  <a:pt x="3373" y="12551"/>
                </a:cubicBezTo>
              </a:path>
              <a:path w="3052" h="1712">
                <a:moveTo>
                  <a:pt x="6028" y="10939"/>
                </a:moveTo>
                <a:cubicBezTo>
                  <a:pt x="5947" y="11018"/>
                  <a:pt x="5908" y="11073"/>
                  <a:pt x="5879" y="11187"/>
                </a:cubicBezTo>
                <a:cubicBezTo>
                  <a:pt x="5835" y="11361"/>
                  <a:pt x="5851" y="11533"/>
                  <a:pt x="5879" y="11708"/>
                </a:cubicBezTo>
                <a:cubicBezTo>
                  <a:pt x="5898" y="11829"/>
                  <a:pt x="5933" y="12007"/>
                  <a:pt x="6052" y="12080"/>
                </a:cubicBezTo>
                <a:cubicBezTo>
                  <a:pt x="6077" y="12088"/>
                  <a:pt x="6102" y="12097"/>
                  <a:pt x="6127" y="121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40000" y="3867120"/>
            <a:ext cx="1116000" cy="571680"/>
          </a:xfrm>
          <a:custGeom>
            <a:avLst/>
            <a:gdLst/>
            <a:ahLst/>
            <a:rect l="l" t="t" r="r" b="b"/>
            <a:pathLst>
              <a:path w="3101" h="1589">
                <a:moveTo>
                  <a:pt x="6524" y="11361"/>
                </a:moveTo>
                <a:cubicBezTo>
                  <a:pt x="6524" y="11350"/>
                  <a:pt x="6524" y="11244"/>
                  <a:pt x="6524" y="11311"/>
                </a:cubicBezTo>
                <a:cubicBezTo>
                  <a:pt x="6524" y="11393"/>
                  <a:pt x="6484" y="11483"/>
                  <a:pt x="6499" y="11559"/>
                </a:cubicBezTo>
                <a:cubicBezTo>
                  <a:pt x="6511" y="11622"/>
                  <a:pt x="6564" y="11650"/>
                  <a:pt x="6623" y="11633"/>
                </a:cubicBezTo>
                <a:cubicBezTo>
                  <a:pt x="6707" y="11609"/>
                  <a:pt x="6762" y="11544"/>
                  <a:pt x="6821" y="11485"/>
                </a:cubicBezTo>
              </a:path>
              <a:path w="3101" h="1589">
                <a:moveTo>
                  <a:pt x="6821" y="11112"/>
                </a:moveTo>
                <a:cubicBezTo>
                  <a:pt x="6783" y="11176"/>
                  <a:pt x="6811" y="11210"/>
                  <a:pt x="6796" y="11286"/>
                </a:cubicBezTo>
                <a:cubicBezTo>
                  <a:pt x="6772" y="11411"/>
                  <a:pt x="6772" y="11529"/>
                  <a:pt x="6772" y="11658"/>
                </a:cubicBezTo>
                <a:cubicBezTo>
                  <a:pt x="6772" y="11737"/>
                  <a:pt x="6758" y="11817"/>
                  <a:pt x="6796" y="11881"/>
                </a:cubicBezTo>
              </a:path>
              <a:path w="3101" h="1589">
                <a:moveTo>
                  <a:pt x="7094" y="11733"/>
                </a:moveTo>
                <a:cubicBezTo>
                  <a:pt x="7063" y="11733"/>
                  <a:pt x="7094" y="11730"/>
                  <a:pt x="7094" y="11782"/>
                </a:cubicBezTo>
              </a:path>
              <a:path w="3101" h="1589">
                <a:moveTo>
                  <a:pt x="7392" y="11212"/>
                </a:moveTo>
                <a:cubicBezTo>
                  <a:pt x="7377" y="11284"/>
                  <a:pt x="7350" y="11360"/>
                  <a:pt x="7342" y="11435"/>
                </a:cubicBezTo>
                <a:cubicBezTo>
                  <a:pt x="7336" y="11486"/>
                  <a:pt x="7326" y="11658"/>
                  <a:pt x="7417" y="11658"/>
                </a:cubicBezTo>
                <a:cubicBezTo>
                  <a:pt x="7535" y="11658"/>
                  <a:pt x="7573" y="11510"/>
                  <a:pt x="7615" y="11435"/>
                </a:cubicBezTo>
                <a:cubicBezTo>
                  <a:pt x="7652" y="11369"/>
                  <a:pt x="7697" y="11270"/>
                  <a:pt x="7665" y="11187"/>
                </a:cubicBezTo>
                <a:cubicBezTo>
                  <a:pt x="7644" y="11132"/>
                  <a:pt x="7538" y="11116"/>
                  <a:pt x="7491" y="11112"/>
                </a:cubicBezTo>
                <a:cubicBezTo>
                  <a:pt x="7449" y="11109"/>
                  <a:pt x="7452" y="11104"/>
                  <a:pt x="7441" y="11137"/>
                </a:cubicBezTo>
              </a:path>
              <a:path w="3101" h="1589">
                <a:moveTo>
                  <a:pt x="8062" y="11385"/>
                </a:moveTo>
                <a:cubicBezTo>
                  <a:pt x="8062" y="11432"/>
                  <a:pt x="8039" y="11464"/>
                  <a:pt x="8037" y="11509"/>
                </a:cubicBezTo>
                <a:cubicBezTo>
                  <a:pt x="8033" y="11581"/>
                  <a:pt x="8023" y="11669"/>
                  <a:pt x="8062" y="11733"/>
                </a:cubicBezTo>
                <a:cubicBezTo>
                  <a:pt x="8094" y="11786"/>
                  <a:pt x="8161" y="11806"/>
                  <a:pt x="8210" y="11757"/>
                </a:cubicBezTo>
                <a:cubicBezTo>
                  <a:pt x="8237" y="11703"/>
                  <a:pt x="8249" y="11683"/>
                  <a:pt x="8285" y="11658"/>
                </a:cubicBezTo>
              </a:path>
              <a:path w="3101" h="1589">
                <a:moveTo>
                  <a:pt x="8062" y="11534"/>
                </a:moveTo>
                <a:cubicBezTo>
                  <a:pt x="8037" y="11551"/>
                  <a:pt x="8012" y="11567"/>
                  <a:pt x="7987" y="11584"/>
                </a:cubicBezTo>
                <a:cubicBezTo>
                  <a:pt x="8040" y="11571"/>
                  <a:pt x="8116" y="11522"/>
                  <a:pt x="8161" y="11485"/>
                </a:cubicBezTo>
                <a:cubicBezTo>
                  <a:pt x="8177" y="11468"/>
                  <a:pt x="8194" y="11452"/>
                  <a:pt x="8210" y="11435"/>
                </a:cubicBezTo>
              </a:path>
              <a:path w="3101" h="1589">
                <a:moveTo>
                  <a:pt x="8012" y="11286"/>
                </a:moveTo>
                <a:cubicBezTo>
                  <a:pt x="8070" y="11274"/>
                  <a:pt x="8134" y="11244"/>
                  <a:pt x="8186" y="11212"/>
                </a:cubicBezTo>
                <a:cubicBezTo>
                  <a:pt x="8211" y="11195"/>
                  <a:pt x="8235" y="11179"/>
                  <a:pt x="8260" y="11162"/>
                </a:cubicBezTo>
              </a:path>
              <a:path w="3101" h="1589">
                <a:moveTo>
                  <a:pt x="8558" y="11485"/>
                </a:moveTo>
                <a:cubicBezTo>
                  <a:pt x="8558" y="11493"/>
                  <a:pt x="8558" y="11501"/>
                  <a:pt x="8558" y="11509"/>
                </a:cubicBezTo>
                <a:cubicBezTo>
                  <a:pt x="8598" y="11509"/>
                  <a:pt x="8624" y="11499"/>
                  <a:pt x="8657" y="11485"/>
                </a:cubicBezTo>
                <a:cubicBezTo>
                  <a:pt x="8703" y="11465"/>
                  <a:pt x="8738" y="11446"/>
                  <a:pt x="8781" y="11435"/>
                </a:cubicBezTo>
              </a:path>
              <a:path w="3101" h="1589">
                <a:moveTo>
                  <a:pt x="8954" y="11212"/>
                </a:moveTo>
                <a:cubicBezTo>
                  <a:pt x="8890" y="11212"/>
                  <a:pt x="8993" y="11212"/>
                  <a:pt x="9004" y="11212"/>
                </a:cubicBezTo>
                <a:cubicBezTo>
                  <a:pt x="9052" y="11212"/>
                  <a:pt x="9089" y="11268"/>
                  <a:pt x="9103" y="11311"/>
                </a:cubicBezTo>
                <a:cubicBezTo>
                  <a:pt x="9126" y="11383"/>
                  <a:pt x="9033" y="11425"/>
                  <a:pt x="9004" y="11460"/>
                </a:cubicBezTo>
                <a:cubicBezTo>
                  <a:pt x="8983" y="11486"/>
                  <a:pt x="8917" y="11549"/>
                  <a:pt x="8954" y="11534"/>
                </a:cubicBezTo>
                <a:cubicBezTo>
                  <a:pt x="9031" y="11502"/>
                  <a:pt x="9068" y="11485"/>
                  <a:pt x="9153" y="11485"/>
                </a:cubicBezTo>
                <a:cubicBezTo>
                  <a:pt x="9218" y="11485"/>
                  <a:pt x="9247" y="11513"/>
                  <a:pt x="9227" y="11584"/>
                </a:cubicBezTo>
                <a:cubicBezTo>
                  <a:pt x="9201" y="11675"/>
                  <a:pt x="9118" y="11743"/>
                  <a:pt x="9054" y="11807"/>
                </a:cubicBezTo>
                <a:cubicBezTo>
                  <a:pt x="9008" y="11853"/>
                  <a:pt x="8990" y="11869"/>
                  <a:pt x="8930" y="11881"/>
                </a:cubicBezTo>
              </a:path>
              <a:path w="3101" h="1589">
                <a:moveTo>
                  <a:pt x="9252" y="10765"/>
                </a:moveTo>
                <a:cubicBezTo>
                  <a:pt x="9244" y="10757"/>
                  <a:pt x="9235" y="10748"/>
                  <a:pt x="9227" y="10740"/>
                </a:cubicBezTo>
                <a:cubicBezTo>
                  <a:pt x="9284" y="10768"/>
                  <a:pt x="9307" y="10790"/>
                  <a:pt x="9351" y="10840"/>
                </a:cubicBezTo>
                <a:cubicBezTo>
                  <a:pt x="9426" y="10925"/>
                  <a:pt x="9508" y="11030"/>
                  <a:pt x="9550" y="11137"/>
                </a:cubicBezTo>
                <a:cubicBezTo>
                  <a:pt x="9600" y="11264"/>
                  <a:pt x="9617" y="11425"/>
                  <a:pt x="9599" y="11559"/>
                </a:cubicBezTo>
                <a:cubicBezTo>
                  <a:pt x="9577" y="11730"/>
                  <a:pt x="9529" y="11962"/>
                  <a:pt x="9426" y="12105"/>
                </a:cubicBezTo>
                <a:cubicBezTo>
                  <a:pt x="9370" y="12183"/>
                  <a:pt x="9321" y="12239"/>
                  <a:pt x="9277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89640" y="3919680"/>
            <a:ext cx="260280" cy="144360"/>
          </a:xfrm>
          <a:custGeom>
            <a:avLst/>
            <a:gdLst/>
            <a:ahLst/>
            <a:rect l="l" t="t" r="r" b="b"/>
            <a:pathLst>
              <a:path w="720" h="398">
                <a:moveTo>
                  <a:pt x="12750" y="11261"/>
                </a:moveTo>
                <a:cubicBezTo>
                  <a:pt x="12750" y="11269"/>
                  <a:pt x="12750" y="11278"/>
                  <a:pt x="12750" y="11286"/>
                </a:cubicBezTo>
                <a:cubicBezTo>
                  <a:pt x="12785" y="11250"/>
                  <a:pt x="12809" y="11230"/>
                  <a:pt x="12849" y="11212"/>
                </a:cubicBezTo>
                <a:cubicBezTo>
                  <a:pt x="12898" y="11191"/>
                  <a:pt x="12934" y="11191"/>
                  <a:pt x="12973" y="11162"/>
                </a:cubicBezTo>
              </a:path>
              <a:path w="720" h="398">
                <a:moveTo>
                  <a:pt x="12898" y="11063"/>
                </a:moveTo>
                <a:cubicBezTo>
                  <a:pt x="12865" y="11141"/>
                  <a:pt x="12877" y="11122"/>
                  <a:pt x="12898" y="11187"/>
                </a:cubicBezTo>
                <a:cubicBezTo>
                  <a:pt x="12909" y="11223"/>
                  <a:pt x="12918" y="11232"/>
                  <a:pt x="12948" y="11261"/>
                </a:cubicBezTo>
              </a:path>
              <a:path w="720" h="398">
                <a:moveTo>
                  <a:pt x="13196" y="10939"/>
                </a:moveTo>
                <a:cubicBezTo>
                  <a:pt x="13259" y="10912"/>
                  <a:pt x="13327" y="10894"/>
                  <a:pt x="13395" y="10889"/>
                </a:cubicBezTo>
                <a:cubicBezTo>
                  <a:pt x="13419" y="10887"/>
                  <a:pt x="13445" y="10889"/>
                  <a:pt x="13469" y="10889"/>
                </a:cubicBezTo>
                <a:cubicBezTo>
                  <a:pt x="13469" y="10949"/>
                  <a:pt x="13460" y="10937"/>
                  <a:pt x="13419" y="10964"/>
                </a:cubicBezTo>
                <a:cubicBezTo>
                  <a:pt x="13395" y="10988"/>
                  <a:pt x="13386" y="10997"/>
                  <a:pt x="13370" y="11013"/>
                </a:cubicBezTo>
                <a:cubicBezTo>
                  <a:pt x="13411" y="11013"/>
                  <a:pt x="13464" y="10996"/>
                  <a:pt x="13469" y="11038"/>
                </a:cubicBezTo>
                <a:cubicBezTo>
                  <a:pt x="13473" y="11067"/>
                  <a:pt x="13412" y="11139"/>
                  <a:pt x="13395" y="11162"/>
                </a:cubicBezTo>
                <a:cubicBezTo>
                  <a:pt x="13369" y="11197"/>
                  <a:pt x="13320" y="11229"/>
                  <a:pt x="13295" y="112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57240" y="4589640"/>
            <a:ext cx="608040" cy="260280"/>
          </a:xfrm>
          <a:custGeom>
            <a:avLst/>
            <a:gdLst/>
            <a:ahLst/>
            <a:rect l="l" t="t" r="r" b="b"/>
            <a:pathLst>
              <a:path w="1688" h="720">
                <a:moveTo>
                  <a:pt x="5209" y="12874"/>
                </a:moveTo>
                <a:cubicBezTo>
                  <a:pt x="5209" y="12936"/>
                  <a:pt x="5201" y="13015"/>
                  <a:pt x="5184" y="13072"/>
                </a:cubicBezTo>
                <a:cubicBezTo>
                  <a:pt x="5162" y="13149"/>
                  <a:pt x="5159" y="13213"/>
                  <a:pt x="5159" y="13295"/>
                </a:cubicBezTo>
                <a:cubicBezTo>
                  <a:pt x="5159" y="13358"/>
                  <a:pt x="5144" y="13442"/>
                  <a:pt x="5184" y="13469"/>
                </a:cubicBezTo>
              </a:path>
              <a:path w="1688" h="720">
                <a:moveTo>
                  <a:pt x="5457" y="13196"/>
                </a:moveTo>
                <a:cubicBezTo>
                  <a:pt x="5457" y="13229"/>
                  <a:pt x="5457" y="13279"/>
                  <a:pt x="5457" y="13246"/>
                </a:cubicBezTo>
                <a:cubicBezTo>
                  <a:pt x="5457" y="13181"/>
                  <a:pt x="5464" y="13311"/>
                  <a:pt x="5432" y="13246"/>
                </a:cubicBezTo>
              </a:path>
              <a:path w="1688" h="720">
                <a:moveTo>
                  <a:pt x="5829" y="12923"/>
                </a:moveTo>
                <a:cubicBezTo>
                  <a:pt x="5860" y="12923"/>
                  <a:pt x="5829" y="12921"/>
                  <a:pt x="5829" y="12973"/>
                </a:cubicBezTo>
                <a:cubicBezTo>
                  <a:pt x="5829" y="13085"/>
                  <a:pt x="5814" y="13159"/>
                  <a:pt x="5829" y="13271"/>
                </a:cubicBezTo>
                <a:cubicBezTo>
                  <a:pt x="5835" y="13314"/>
                  <a:pt x="5859" y="13391"/>
                  <a:pt x="5928" y="13345"/>
                </a:cubicBezTo>
                <a:cubicBezTo>
                  <a:pt x="5979" y="13311"/>
                  <a:pt x="5999" y="13230"/>
                  <a:pt x="6003" y="13171"/>
                </a:cubicBezTo>
                <a:cubicBezTo>
                  <a:pt x="6008" y="13100"/>
                  <a:pt x="5974" y="13068"/>
                  <a:pt x="5928" y="13022"/>
                </a:cubicBezTo>
                <a:cubicBezTo>
                  <a:pt x="5920" y="13014"/>
                  <a:pt x="5912" y="13006"/>
                  <a:pt x="5904" y="12998"/>
                </a:cubicBezTo>
              </a:path>
              <a:path w="1688" h="720">
                <a:moveTo>
                  <a:pt x="6176" y="12824"/>
                </a:moveTo>
                <a:cubicBezTo>
                  <a:pt x="6214" y="12795"/>
                  <a:pt x="6255" y="12792"/>
                  <a:pt x="6300" y="12774"/>
                </a:cubicBezTo>
                <a:cubicBezTo>
                  <a:pt x="6350" y="12755"/>
                  <a:pt x="6352" y="12750"/>
                  <a:pt x="6400" y="12750"/>
                </a:cubicBezTo>
              </a:path>
              <a:path w="1688" h="720">
                <a:moveTo>
                  <a:pt x="6276" y="12824"/>
                </a:moveTo>
                <a:cubicBezTo>
                  <a:pt x="6231" y="12880"/>
                  <a:pt x="6186" y="12922"/>
                  <a:pt x="6152" y="12973"/>
                </a:cubicBezTo>
                <a:cubicBezTo>
                  <a:pt x="6144" y="12981"/>
                  <a:pt x="6135" y="12990"/>
                  <a:pt x="6127" y="12998"/>
                </a:cubicBezTo>
                <a:cubicBezTo>
                  <a:pt x="6141" y="13040"/>
                  <a:pt x="6155" y="13034"/>
                  <a:pt x="6201" y="13072"/>
                </a:cubicBezTo>
                <a:cubicBezTo>
                  <a:pt x="6242" y="13106"/>
                  <a:pt x="6317" y="13111"/>
                  <a:pt x="6350" y="13146"/>
                </a:cubicBezTo>
                <a:cubicBezTo>
                  <a:pt x="6384" y="13182"/>
                  <a:pt x="6400" y="13224"/>
                  <a:pt x="6400" y="13271"/>
                </a:cubicBezTo>
                <a:cubicBezTo>
                  <a:pt x="6400" y="13313"/>
                  <a:pt x="6363" y="13341"/>
                  <a:pt x="6325" y="13345"/>
                </a:cubicBezTo>
                <a:cubicBezTo>
                  <a:pt x="6317" y="13345"/>
                  <a:pt x="6308" y="13345"/>
                  <a:pt x="6300" y="13345"/>
                </a:cubicBezTo>
              </a:path>
              <a:path w="1688" h="720">
                <a:moveTo>
                  <a:pt x="6722" y="12849"/>
                </a:moveTo>
                <a:cubicBezTo>
                  <a:pt x="6661" y="12899"/>
                  <a:pt x="6633" y="13004"/>
                  <a:pt x="6623" y="13097"/>
                </a:cubicBezTo>
                <a:cubicBezTo>
                  <a:pt x="6610" y="13223"/>
                  <a:pt x="6608" y="13317"/>
                  <a:pt x="6697" y="13395"/>
                </a:cubicBezTo>
                <a:cubicBezTo>
                  <a:pt x="6756" y="13378"/>
                  <a:pt x="6825" y="13323"/>
                  <a:pt x="6846" y="13246"/>
                </a:cubicBezTo>
                <a:cubicBezTo>
                  <a:pt x="6866" y="13172"/>
                  <a:pt x="6838" y="13105"/>
                  <a:pt x="6796" y="13047"/>
                </a:cubicBezTo>
                <a:cubicBezTo>
                  <a:pt x="6760" y="12999"/>
                  <a:pt x="6714" y="12980"/>
                  <a:pt x="6672" y="129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43120" y="4545000"/>
            <a:ext cx="162000" cy="258840"/>
          </a:xfrm>
          <a:custGeom>
            <a:avLst/>
            <a:gdLst/>
            <a:ahLst/>
            <a:rect l="l" t="t" r="r" b="b"/>
            <a:pathLst>
              <a:path w="448" h="720">
                <a:moveTo>
                  <a:pt x="7417" y="12626"/>
                </a:moveTo>
                <a:cubicBezTo>
                  <a:pt x="7417" y="12722"/>
                  <a:pt x="7403" y="12806"/>
                  <a:pt x="7392" y="12898"/>
                </a:cubicBezTo>
                <a:cubicBezTo>
                  <a:pt x="7380" y="12998"/>
                  <a:pt x="7346" y="13095"/>
                  <a:pt x="7342" y="13196"/>
                </a:cubicBezTo>
                <a:cubicBezTo>
                  <a:pt x="7340" y="13245"/>
                  <a:pt x="7342" y="13296"/>
                  <a:pt x="7342" y="13345"/>
                </a:cubicBezTo>
                <a:cubicBezTo>
                  <a:pt x="7415" y="13345"/>
                  <a:pt x="7428" y="13328"/>
                  <a:pt x="7491" y="13295"/>
                </a:cubicBezTo>
                <a:cubicBezTo>
                  <a:pt x="7557" y="13261"/>
                  <a:pt x="7615" y="13225"/>
                  <a:pt x="7689" y="13221"/>
                </a:cubicBezTo>
                <a:cubicBezTo>
                  <a:pt x="7741" y="13218"/>
                  <a:pt x="7746" y="13207"/>
                  <a:pt x="7789" y="131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38760" y="4098960"/>
            <a:ext cx="857160" cy="588960"/>
          </a:xfrm>
          <a:custGeom>
            <a:avLst/>
            <a:gdLst/>
            <a:ahLst/>
            <a:rect l="l" t="t" r="r" b="b"/>
            <a:pathLst>
              <a:path w="2382" h="1638">
                <a:moveTo>
                  <a:pt x="10964" y="11757"/>
                </a:moveTo>
                <a:cubicBezTo>
                  <a:pt x="10956" y="11757"/>
                  <a:pt x="10947" y="11757"/>
                  <a:pt x="10939" y="11757"/>
                </a:cubicBezTo>
                <a:cubicBezTo>
                  <a:pt x="10949" y="11729"/>
                  <a:pt x="11019" y="11693"/>
                  <a:pt x="11063" y="11683"/>
                </a:cubicBezTo>
                <a:cubicBezTo>
                  <a:pt x="11145" y="11665"/>
                  <a:pt x="11226" y="11658"/>
                  <a:pt x="11311" y="11658"/>
                </a:cubicBezTo>
                <a:cubicBezTo>
                  <a:pt x="11352" y="11658"/>
                  <a:pt x="11360" y="11658"/>
                  <a:pt x="11385" y="11658"/>
                </a:cubicBezTo>
              </a:path>
              <a:path w="2382" h="1638">
                <a:moveTo>
                  <a:pt x="10988" y="12005"/>
                </a:moveTo>
                <a:cubicBezTo>
                  <a:pt x="11000" y="12086"/>
                  <a:pt x="11007" y="12080"/>
                  <a:pt x="11088" y="12080"/>
                </a:cubicBezTo>
                <a:cubicBezTo>
                  <a:pt x="11179" y="12080"/>
                  <a:pt x="11249" y="12082"/>
                  <a:pt x="11336" y="12055"/>
                </a:cubicBezTo>
                <a:cubicBezTo>
                  <a:pt x="11400" y="12035"/>
                  <a:pt x="11449" y="12028"/>
                  <a:pt x="11509" y="12005"/>
                </a:cubicBezTo>
              </a:path>
              <a:path w="2382" h="1638">
                <a:moveTo>
                  <a:pt x="12452" y="11584"/>
                </a:moveTo>
                <a:cubicBezTo>
                  <a:pt x="12487" y="11572"/>
                  <a:pt x="12477" y="11577"/>
                  <a:pt x="12477" y="11534"/>
                </a:cubicBezTo>
                <a:cubicBezTo>
                  <a:pt x="12468" y="11507"/>
                  <a:pt x="12441" y="11495"/>
                  <a:pt x="12402" y="11509"/>
                </a:cubicBezTo>
                <a:cubicBezTo>
                  <a:pt x="12339" y="11532"/>
                  <a:pt x="12276" y="11588"/>
                  <a:pt x="12229" y="11633"/>
                </a:cubicBezTo>
                <a:cubicBezTo>
                  <a:pt x="12145" y="11712"/>
                  <a:pt x="12091" y="11841"/>
                  <a:pt x="12080" y="11956"/>
                </a:cubicBezTo>
                <a:cubicBezTo>
                  <a:pt x="12070" y="12057"/>
                  <a:pt x="12080" y="12241"/>
                  <a:pt x="12179" y="12303"/>
                </a:cubicBezTo>
                <a:cubicBezTo>
                  <a:pt x="12260" y="12354"/>
                  <a:pt x="12394" y="12334"/>
                  <a:pt x="12477" y="12303"/>
                </a:cubicBezTo>
                <a:cubicBezTo>
                  <a:pt x="12528" y="12284"/>
                  <a:pt x="12596" y="12252"/>
                  <a:pt x="12626" y="12204"/>
                </a:cubicBezTo>
                <a:cubicBezTo>
                  <a:pt x="12657" y="12154"/>
                  <a:pt x="12670" y="12134"/>
                  <a:pt x="12675" y="12080"/>
                </a:cubicBezTo>
                <a:cubicBezTo>
                  <a:pt x="12678" y="12052"/>
                  <a:pt x="12636" y="11989"/>
                  <a:pt x="12601" y="12005"/>
                </a:cubicBezTo>
                <a:cubicBezTo>
                  <a:pt x="12551" y="12028"/>
                  <a:pt x="12533" y="12106"/>
                  <a:pt x="12551" y="12154"/>
                </a:cubicBezTo>
                <a:cubicBezTo>
                  <a:pt x="12572" y="12207"/>
                  <a:pt x="12640" y="12290"/>
                  <a:pt x="12700" y="12303"/>
                </a:cubicBezTo>
                <a:cubicBezTo>
                  <a:pt x="12766" y="12317"/>
                  <a:pt x="12816" y="12300"/>
                  <a:pt x="12874" y="12278"/>
                </a:cubicBezTo>
              </a:path>
              <a:path w="2382" h="1638">
                <a:moveTo>
                  <a:pt x="12948" y="11410"/>
                </a:moveTo>
                <a:cubicBezTo>
                  <a:pt x="12966" y="11421"/>
                  <a:pt x="12972" y="11447"/>
                  <a:pt x="13022" y="11435"/>
                </a:cubicBezTo>
                <a:cubicBezTo>
                  <a:pt x="13086" y="11420"/>
                  <a:pt x="13127" y="11389"/>
                  <a:pt x="13196" y="11385"/>
                </a:cubicBezTo>
                <a:cubicBezTo>
                  <a:pt x="13253" y="11382"/>
                  <a:pt x="13309" y="11422"/>
                  <a:pt x="13320" y="11485"/>
                </a:cubicBezTo>
                <a:cubicBezTo>
                  <a:pt x="13345" y="11623"/>
                  <a:pt x="13305" y="11771"/>
                  <a:pt x="13295" y="11906"/>
                </a:cubicBezTo>
                <a:cubicBezTo>
                  <a:pt x="13283" y="12058"/>
                  <a:pt x="13303" y="12209"/>
                  <a:pt x="13320" y="12353"/>
                </a:cubicBezTo>
                <a:cubicBezTo>
                  <a:pt x="13328" y="12423"/>
                  <a:pt x="13337" y="12540"/>
                  <a:pt x="13295" y="12601"/>
                </a:cubicBezTo>
                <a:cubicBezTo>
                  <a:pt x="13244" y="12676"/>
                  <a:pt x="13130" y="12748"/>
                  <a:pt x="13047" y="12774"/>
                </a:cubicBezTo>
                <a:cubicBezTo>
                  <a:pt x="12986" y="12793"/>
                  <a:pt x="12898" y="12778"/>
                  <a:pt x="12849" y="12750"/>
                </a:cubicBezTo>
              </a:path>
              <a:path w="2382" h="1638">
                <a:moveTo>
                  <a:pt x="12154" y="11410"/>
                </a:moveTo>
                <a:cubicBezTo>
                  <a:pt x="12088" y="11410"/>
                  <a:pt x="12036" y="11405"/>
                  <a:pt x="11981" y="11435"/>
                </a:cubicBezTo>
                <a:cubicBezTo>
                  <a:pt x="11906" y="11475"/>
                  <a:pt x="11845" y="11501"/>
                  <a:pt x="11782" y="11559"/>
                </a:cubicBezTo>
                <a:cubicBezTo>
                  <a:pt x="11741" y="11597"/>
                  <a:pt x="11716" y="11655"/>
                  <a:pt x="11708" y="11708"/>
                </a:cubicBezTo>
                <a:cubicBezTo>
                  <a:pt x="11692" y="11813"/>
                  <a:pt x="11745" y="11882"/>
                  <a:pt x="11757" y="11981"/>
                </a:cubicBezTo>
                <a:cubicBezTo>
                  <a:pt x="11777" y="12141"/>
                  <a:pt x="11830" y="12314"/>
                  <a:pt x="11807" y="12477"/>
                </a:cubicBezTo>
                <a:cubicBezTo>
                  <a:pt x="11790" y="12595"/>
                  <a:pt x="11748" y="12707"/>
                  <a:pt x="11733" y="12824"/>
                </a:cubicBezTo>
                <a:cubicBezTo>
                  <a:pt x="11727" y="12872"/>
                  <a:pt x="11716" y="12967"/>
                  <a:pt x="11757" y="12998"/>
                </a:cubicBezTo>
                <a:cubicBezTo>
                  <a:pt x="11835" y="13057"/>
                  <a:pt x="11950" y="12994"/>
                  <a:pt x="12030" y="12973"/>
                </a:cubicBezTo>
                <a:cubicBezTo>
                  <a:pt x="12133" y="12946"/>
                  <a:pt x="12231" y="12916"/>
                  <a:pt x="12328" y="128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10120" y="4249800"/>
            <a:ext cx="204840" cy="144360"/>
          </a:xfrm>
          <a:custGeom>
            <a:avLst/>
            <a:gdLst/>
            <a:ahLst/>
            <a:rect l="l" t="t" r="r" b="b"/>
            <a:pathLst>
              <a:path w="572" h="398">
                <a:moveTo>
                  <a:pt x="13915" y="11832"/>
                </a:moveTo>
                <a:cubicBezTo>
                  <a:pt x="13957" y="11843"/>
                  <a:pt x="13991" y="11873"/>
                  <a:pt x="14039" y="11881"/>
                </a:cubicBezTo>
                <a:cubicBezTo>
                  <a:pt x="14127" y="11896"/>
                  <a:pt x="14208" y="11866"/>
                  <a:pt x="14288" y="11832"/>
                </a:cubicBezTo>
                <a:cubicBezTo>
                  <a:pt x="14304" y="11824"/>
                  <a:pt x="14321" y="11815"/>
                  <a:pt x="14337" y="11807"/>
                </a:cubicBezTo>
              </a:path>
              <a:path w="572" h="398">
                <a:moveTo>
                  <a:pt x="13965" y="12154"/>
                </a:moveTo>
                <a:cubicBezTo>
                  <a:pt x="14026" y="12228"/>
                  <a:pt x="14081" y="12204"/>
                  <a:pt x="14188" y="12204"/>
                </a:cubicBezTo>
                <a:cubicBezTo>
                  <a:pt x="14277" y="12204"/>
                  <a:pt x="14362" y="12193"/>
                  <a:pt x="14436" y="12179"/>
                </a:cubicBezTo>
                <a:cubicBezTo>
                  <a:pt x="14453" y="12179"/>
                  <a:pt x="14469" y="12179"/>
                  <a:pt x="14486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91080" y="4394160"/>
            <a:ext cx="19080" cy="27000"/>
          </a:xfrm>
          <a:custGeom>
            <a:avLst/>
            <a:gdLst/>
            <a:ahLst/>
            <a:rect l="l" t="t" r="r" b="b"/>
            <a:pathLst>
              <a:path w="50" h="75">
                <a:moveTo>
                  <a:pt x="15280" y="12229"/>
                </a:moveTo>
                <a:cubicBezTo>
                  <a:pt x="15280" y="12221"/>
                  <a:pt x="15280" y="12212"/>
                  <a:pt x="15280" y="12204"/>
                </a:cubicBezTo>
                <a:cubicBezTo>
                  <a:pt x="15280" y="12247"/>
                  <a:pt x="15288" y="12263"/>
                  <a:pt x="15304" y="12229"/>
                </a:cubicBezTo>
                <a:cubicBezTo>
                  <a:pt x="15318" y="12199"/>
                  <a:pt x="15294" y="12284"/>
                  <a:pt x="15280" y="12254"/>
                </a:cubicBezTo>
                <a:cubicBezTo>
                  <a:pt x="15264" y="12221"/>
                  <a:pt x="15294" y="12196"/>
                  <a:pt x="15280" y="12229"/>
                </a:cubicBezTo>
                <a:cubicBezTo>
                  <a:pt x="15265" y="12265"/>
                  <a:pt x="15268" y="12241"/>
                  <a:pt x="15255" y="122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1000" y="4197240"/>
            <a:ext cx="1170000" cy="250920"/>
          </a:xfrm>
          <a:custGeom>
            <a:avLst/>
            <a:gdLst/>
            <a:ahLst/>
            <a:rect l="l" t="t" r="r" b="b"/>
            <a:pathLst>
              <a:path w="3251" h="696">
                <a:moveTo>
                  <a:pt x="15850" y="11757"/>
                </a:moveTo>
                <a:cubicBezTo>
                  <a:pt x="15771" y="11757"/>
                  <a:pt x="15793" y="11793"/>
                  <a:pt x="15776" y="11857"/>
                </a:cubicBezTo>
                <a:cubicBezTo>
                  <a:pt x="15747" y="11968"/>
                  <a:pt x="15685" y="12112"/>
                  <a:pt x="15726" y="12229"/>
                </a:cubicBezTo>
                <a:cubicBezTo>
                  <a:pt x="15758" y="12322"/>
                  <a:pt x="15820" y="12352"/>
                  <a:pt x="15900" y="12303"/>
                </a:cubicBezTo>
                <a:cubicBezTo>
                  <a:pt x="15965" y="12263"/>
                  <a:pt x="16010" y="12178"/>
                  <a:pt x="16024" y="12105"/>
                </a:cubicBezTo>
                <a:cubicBezTo>
                  <a:pt x="16037" y="12037"/>
                  <a:pt x="16016" y="11960"/>
                  <a:pt x="15974" y="11906"/>
                </a:cubicBezTo>
                <a:cubicBezTo>
                  <a:pt x="15946" y="11870"/>
                  <a:pt x="15895" y="11812"/>
                  <a:pt x="15850" y="11807"/>
                </a:cubicBezTo>
                <a:cubicBezTo>
                  <a:pt x="15810" y="11803"/>
                  <a:pt x="15825" y="11827"/>
                  <a:pt x="15825" y="11857"/>
                </a:cubicBezTo>
              </a:path>
              <a:path w="3251" h="696">
                <a:moveTo>
                  <a:pt x="16446" y="11708"/>
                </a:moveTo>
                <a:cubicBezTo>
                  <a:pt x="16425" y="11644"/>
                  <a:pt x="16391" y="11720"/>
                  <a:pt x="16371" y="11757"/>
                </a:cubicBezTo>
                <a:cubicBezTo>
                  <a:pt x="16327" y="11840"/>
                  <a:pt x="16324" y="11962"/>
                  <a:pt x="16321" y="12055"/>
                </a:cubicBezTo>
                <a:cubicBezTo>
                  <a:pt x="16318" y="12147"/>
                  <a:pt x="16330" y="12196"/>
                  <a:pt x="16421" y="12204"/>
                </a:cubicBezTo>
                <a:cubicBezTo>
                  <a:pt x="16473" y="12208"/>
                  <a:pt x="16521" y="12145"/>
                  <a:pt x="16545" y="12105"/>
                </a:cubicBezTo>
                <a:cubicBezTo>
                  <a:pt x="16582" y="12042"/>
                  <a:pt x="16615" y="11978"/>
                  <a:pt x="16619" y="11906"/>
                </a:cubicBezTo>
                <a:cubicBezTo>
                  <a:pt x="16624" y="11812"/>
                  <a:pt x="16611" y="11799"/>
                  <a:pt x="16545" y="11733"/>
                </a:cubicBezTo>
                <a:cubicBezTo>
                  <a:pt x="16519" y="11707"/>
                  <a:pt x="16459" y="11689"/>
                  <a:pt x="16421" y="11708"/>
                </a:cubicBezTo>
                <a:cubicBezTo>
                  <a:pt x="16413" y="11716"/>
                  <a:pt x="16404" y="11725"/>
                  <a:pt x="16396" y="11733"/>
                </a:cubicBezTo>
              </a:path>
              <a:path w="3251" h="696">
                <a:moveTo>
                  <a:pt x="17041" y="11733"/>
                </a:moveTo>
                <a:cubicBezTo>
                  <a:pt x="17058" y="11663"/>
                  <a:pt x="17105" y="11674"/>
                  <a:pt x="17165" y="11708"/>
                </a:cubicBezTo>
                <a:cubicBezTo>
                  <a:pt x="17270" y="11767"/>
                  <a:pt x="17285" y="11841"/>
                  <a:pt x="17289" y="11956"/>
                </a:cubicBezTo>
                <a:cubicBezTo>
                  <a:pt x="17293" y="12058"/>
                  <a:pt x="17219" y="12124"/>
                  <a:pt x="17140" y="12179"/>
                </a:cubicBezTo>
                <a:cubicBezTo>
                  <a:pt x="17109" y="12201"/>
                  <a:pt x="16964" y="12301"/>
                  <a:pt x="16917" y="12254"/>
                </a:cubicBezTo>
                <a:cubicBezTo>
                  <a:pt x="16909" y="12237"/>
                  <a:pt x="16900" y="12221"/>
                  <a:pt x="16892" y="12204"/>
                </a:cubicBezTo>
                <a:cubicBezTo>
                  <a:pt x="16911" y="12157"/>
                  <a:pt x="16956" y="12094"/>
                  <a:pt x="17016" y="12080"/>
                </a:cubicBezTo>
                <a:cubicBezTo>
                  <a:pt x="17074" y="12067"/>
                  <a:pt x="17194" y="12120"/>
                  <a:pt x="17239" y="12154"/>
                </a:cubicBezTo>
                <a:cubicBezTo>
                  <a:pt x="17283" y="12187"/>
                  <a:pt x="17323" y="12239"/>
                  <a:pt x="17363" y="12278"/>
                </a:cubicBezTo>
              </a:path>
              <a:path w="3251" h="696">
                <a:moveTo>
                  <a:pt x="17760" y="11832"/>
                </a:moveTo>
                <a:cubicBezTo>
                  <a:pt x="17735" y="11795"/>
                  <a:pt x="17682" y="11686"/>
                  <a:pt x="17611" y="11733"/>
                </a:cubicBezTo>
                <a:cubicBezTo>
                  <a:pt x="17566" y="11763"/>
                  <a:pt x="17458" y="11840"/>
                  <a:pt x="17462" y="11906"/>
                </a:cubicBezTo>
                <a:cubicBezTo>
                  <a:pt x="17466" y="11971"/>
                  <a:pt x="17586" y="12010"/>
                  <a:pt x="17636" y="12030"/>
                </a:cubicBezTo>
                <a:cubicBezTo>
                  <a:pt x="17723" y="12064"/>
                  <a:pt x="17793" y="12031"/>
                  <a:pt x="17810" y="12129"/>
                </a:cubicBezTo>
                <a:cubicBezTo>
                  <a:pt x="17822" y="12198"/>
                  <a:pt x="17792" y="12240"/>
                  <a:pt x="17735" y="12278"/>
                </a:cubicBezTo>
                <a:cubicBezTo>
                  <a:pt x="17701" y="12301"/>
                  <a:pt x="17671" y="12319"/>
                  <a:pt x="17636" y="12328"/>
                </a:cubicBezTo>
                <a:cubicBezTo>
                  <a:pt x="17636" y="12230"/>
                  <a:pt x="17647" y="12220"/>
                  <a:pt x="17686" y="12129"/>
                </a:cubicBezTo>
                <a:cubicBezTo>
                  <a:pt x="17726" y="12035"/>
                  <a:pt x="17755" y="11987"/>
                  <a:pt x="17810" y="11906"/>
                </a:cubicBezTo>
                <a:cubicBezTo>
                  <a:pt x="17818" y="11890"/>
                  <a:pt x="17827" y="11873"/>
                  <a:pt x="17835" y="11857"/>
                </a:cubicBezTo>
              </a:path>
              <a:path w="3251" h="696">
                <a:moveTo>
                  <a:pt x="18083" y="11782"/>
                </a:moveTo>
                <a:cubicBezTo>
                  <a:pt x="18158" y="11782"/>
                  <a:pt x="18165" y="11768"/>
                  <a:pt x="18231" y="11733"/>
                </a:cubicBezTo>
                <a:cubicBezTo>
                  <a:pt x="18282" y="11706"/>
                  <a:pt x="18335" y="11706"/>
                  <a:pt x="18380" y="11683"/>
                </a:cubicBezTo>
                <a:cubicBezTo>
                  <a:pt x="18388" y="11675"/>
                  <a:pt x="18397" y="11666"/>
                  <a:pt x="18405" y="11658"/>
                </a:cubicBezTo>
              </a:path>
              <a:path w="3251" h="696">
                <a:moveTo>
                  <a:pt x="18157" y="11807"/>
                </a:moveTo>
                <a:cubicBezTo>
                  <a:pt x="18090" y="11844"/>
                  <a:pt x="18013" y="11857"/>
                  <a:pt x="17983" y="11931"/>
                </a:cubicBezTo>
                <a:cubicBezTo>
                  <a:pt x="17972" y="11959"/>
                  <a:pt x="17980" y="12016"/>
                  <a:pt x="18008" y="12030"/>
                </a:cubicBezTo>
                <a:cubicBezTo>
                  <a:pt x="18080" y="12066"/>
                  <a:pt x="18182" y="12015"/>
                  <a:pt x="18256" y="12055"/>
                </a:cubicBezTo>
                <a:cubicBezTo>
                  <a:pt x="18280" y="12068"/>
                  <a:pt x="18366" y="12105"/>
                  <a:pt x="18331" y="12154"/>
                </a:cubicBezTo>
                <a:cubicBezTo>
                  <a:pt x="18282" y="12222"/>
                  <a:pt x="18227" y="12281"/>
                  <a:pt x="18182" y="12353"/>
                </a:cubicBezTo>
              </a:path>
              <a:path w="3251" h="696">
                <a:moveTo>
                  <a:pt x="18604" y="11807"/>
                </a:moveTo>
                <a:cubicBezTo>
                  <a:pt x="18653" y="11794"/>
                  <a:pt x="18700" y="11780"/>
                  <a:pt x="18752" y="11757"/>
                </a:cubicBezTo>
                <a:cubicBezTo>
                  <a:pt x="18818" y="11728"/>
                  <a:pt x="18853" y="11708"/>
                  <a:pt x="18926" y="11708"/>
                </a:cubicBezTo>
                <a:cubicBezTo>
                  <a:pt x="18988" y="11708"/>
                  <a:pt x="18985" y="11814"/>
                  <a:pt x="18976" y="11857"/>
                </a:cubicBezTo>
                <a:cubicBezTo>
                  <a:pt x="18953" y="11972"/>
                  <a:pt x="18935" y="12089"/>
                  <a:pt x="18901" y="12204"/>
                </a:cubicBezTo>
                <a:cubicBezTo>
                  <a:pt x="18876" y="12277"/>
                  <a:pt x="18868" y="12301"/>
                  <a:pt x="18876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97840" y="3946680"/>
            <a:ext cx="1535040" cy="285480"/>
          </a:xfrm>
          <a:custGeom>
            <a:avLst/>
            <a:gdLst/>
            <a:ahLst/>
            <a:rect l="l" t="t" r="r" b="b"/>
            <a:pathLst>
              <a:path w="4267" h="794">
                <a:moveTo>
                  <a:pt x="20191" y="11112"/>
                </a:moveTo>
                <a:cubicBezTo>
                  <a:pt x="20166" y="11112"/>
                  <a:pt x="20158" y="11112"/>
                  <a:pt x="20166" y="11137"/>
                </a:cubicBezTo>
                <a:cubicBezTo>
                  <a:pt x="20270" y="11137"/>
                  <a:pt x="20364" y="11123"/>
                  <a:pt x="20464" y="11112"/>
                </a:cubicBezTo>
                <a:cubicBezTo>
                  <a:pt x="20522" y="11106"/>
                  <a:pt x="20559" y="11098"/>
                  <a:pt x="20613" y="11088"/>
                </a:cubicBezTo>
              </a:path>
              <a:path w="4267" h="794">
                <a:moveTo>
                  <a:pt x="20290" y="11137"/>
                </a:moveTo>
                <a:cubicBezTo>
                  <a:pt x="20182" y="11209"/>
                  <a:pt x="20083" y="11269"/>
                  <a:pt x="19993" y="11361"/>
                </a:cubicBezTo>
                <a:cubicBezTo>
                  <a:pt x="20007" y="11402"/>
                  <a:pt x="20064" y="11408"/>
                  <a:pt x="20117" y="11410"/>
                </a:cubicBezTo>
                <a:cubicBezTo>
                  <a:pt x="20172" y="11412"/>
                  <a:pt x="20314" y="11414"/>
                  <a:pt x="20340" y="11485"/>
                </a:cubicBezTo>
                <a:cubicBezTo>
                  <a:pt x="20369" y="11565"/>
                  <a:pt x="20261" y="11637"/>
                  <a:pt x="20216" y="11683"/>
                </a:cubicBezTo>
                <a:cubicBezTo>
                  <a:pt x="20174" y="11725"/>
                  <a:pt x="20167" y="11733"/>
                  <a:pt x="20141" y="11757"/>
                </a:cubicBezTo>
              </a:path>
              <a:path w="4267" h="794">
                <a:moveTo>
                  <a:pt x="20662" y="11534"/>
                </a:moveTo>
                <a:cubicBezTo>
                  <a:pt x="20617" y="11554"/>
                  <a:pt x="20574" y="11550"/>
                  <a:pt x="20563" y="11584"/>
                </a:cubicBezTo>
              </a:path>
              <a:path w="4267" h="794">
                <a:moveTo>
                  <a:pt x="20886" y="11112"/>
                </a:moveTo>
                <a:cubicBezTo>
                  <a:pt x="20943" y="11112"/>
                  <a:pt x="21012" y="11113"/>
                  <a:pt x="21059" y="11137"/>
                </a:cubicBezTo>
                <a:cubicBezTo>
                  <a:pt x="21094" y="11155"/>
                  <a:pt x="21145" y="11222"/>
                  <a:pt x="21134" y="11261"/>
                </a:cubicBezTo>
                <a:cubicBezTo>
                  <a:pt x="21113" y="11340"/>
                  <a:pt x="21042" y="11403"/>
                  <a:pt x="21034" y="11485"/>
                </a:cubicBezTo>
                <a:cubicBezTo>
                  <a:pt x="21028" y="11548"/>
                  <a:pt x="21093" y="11534"/>
                  <a:pt x="21134" y="11534"/>
                </a:cubicBezTo>
                <a:cubicBezTo>
                  <a:pt x="21150" y="11534"/>
                  <a:pt x="21167" y="11534"/>
                  <a:pt x="21183" y="11534"/>
                </a:cubicBezTo>
              </a:path>
              <a:path w="4267" h="794">
                <a:moveTo>
                  <a:pt x="21729" y="11063"/>
                </a:moveTo>
                <a:cubicBezTo>
                  <a:pt x="21639" y="11051"/>
                  <a:pt x="21509" y="11034"/>
                  <a:pt x="21431" y="11112"/>
                </a:cubicBezTo>
                <a:cubicBezTo>
                  <a:pt x="21400" y="11143"/>
                  <a:pt x="21406" y="11175"/>
                  <a:pt x="21406" y="11212"/>
                </a:cubicBezTo>
                <a:cubicBezTo>
                  <a:pt x="21468" y="11249"/>
                  <a:pt x="21511" y="11243"/>
                  <a:pt x="21580" y="11212"/>
                </a:cubicBezTo>
                <a:cubicBezTo>
                  <a:pt x="21635" y="11187"/>
                  <a:pt x="21669" y="11162"/>
                  <a:pt x="21729" y="11162"/>
                </a:cubicBezTo>
                <a:cubicBezTo>
                  <a:pt x="21737" y="11162"/>
                  <a:pt x="21746" y="11162"/>
                  <a:pt x="21754" y="11162"/>
                </a:cubicBezTo>
                <a:cubicBezTo>
                  <a:pt x="21754" y="11241"/>
                  <a:pt x="21732" y="11308"/>
                  <a:pt x="21729" y="11385"/>
                </a:cubicBezTo>
                <a:cubicBezTo>
                  <a:pt x="21726" y="11467"/>
                  <a:pt x="21688" y="11516"/>
                  <a:pt x="21729" y="11584"/>
                </a:cubicBezTo>
              </a:path>
              <a:path w="4267" h="794">
                <a:moveTo>
                  <a:pt x="22175" y="11237"/>
                </a:moveTo>
                <a:cubicBezTo>
                  <a:pt x="22141" y="11276"/>
                  <a:pt x="22056" y="11349"/>
                  <a:pt x="22076" y="11410"/>
                </a:cubicBezTo>
                <a:cubicBezTo>
                  <a:pt x="22095" y="11467"/>
                  <a:pt x="22181" y="11460"/>
                  <a:pt x="22225" y="11460"/>
                </a:cubicBezTo>
                <a:cubicBezTo>
                  <a:pt x="22275" y="11460"/>
                  <a:pt x="22291" y="11460"/>
                  <a:pt x="22324" y="11460"/>
                </a:cubicBezTo>
              </a:path>
              <a:path w="4267" h="794">
                <a:moveTo>
                  <a:pt x="22126" y="11410"/>
                </a:moveTo>
                <a:cubicBezTo>
                  <a:pt x="22080" y="11387"/>
                  <a:pt x="22184" y="11352"/>
                  <a:pt x="22225" y="11336"/>
                </a:cubicBezTo>
                <a:cubicBezTo>
                  <a:pt x="22314" y="11301"/>
                  <a:pt x="22377" y="11250"/>
                  <a:pt x="22448" y="11187"/>
                </a:cubicBezTo>
              </a:path>
              <a:path w="4267" h="794">
                <a:moveTo>
                  <a:pt x="22299" y="11038"/>
                </a:moveTo>
                <a:cubicBezTo>
                  <a:pt x="22258" y="11038"/>
                  <a:pt x="22216" y="11038"/>
                  <a:pt x="22175" y="11038"/>
                </a:cubicBezTo>
                <a:cubicBezTo>
                  <a:pt x="22130" y="11038"/>
                  <a:pt x="22315" y="10992"/>
                  <a:pt x="22349" y="10988"/>
                </a:cubicBezTo>
                <a:cubicBezTo>
                  <a:pt x="22441" y="10988"/>
                  <a:pt x="22468" y="10990"/>
                  <a:pt x="22523" y="10964"/>
                </a:cubicBezTo>
              </a:path>
              <a:path w="4267" h="794">
                <a:moveTo>
                  <a:pt x="22721" y="11237"/>
                </a:moveTo>
                <a:cubicBezTo>
                  <a:pt x="22734" y="11275"/>
                  <a:pt x="22796" y="11269"/>
                  <a:pt x="22845" y="11261"/>
                </a:cubicBezTo>
                <a:cubicBezTo>
                  <a:pt x="22924" y="11247"/>
                  <a:pt x="22995" y="11237"/>
                  <a:pt x="23068" y="11212"/>
                </a:cubicBezTo>
              </a:path>
              <a:path w="4267" h="794">
                <a:moveTo>
                  <a:pt x="23564" y="10988"/>
                </a:moveTo>
                <a:cubicBezTo>
                  <a:pt x="23564" y="11047"/>
                  <a:pt x="23542" y="11084"/>
                  <a:pt x="23515" y="11137"/>
                </a:cubicBezTo>
                <a:cubicBezTo>
                  <a:pt x="23465" y="11238"/>
                  <a:pt x="23379" y="11357"/>
                  <a:pt x="23341" y="11460"/>
                </a:cubicBezTo>
                <a:cubicBezTo>
                  <a:pt x="23341" y="11476"/>
                  <a:pt x="23341" y="11493"/>
                  <a:pt x="23341" y="11509"/>
                </a:cubicBezTo>
              </a:path>
              <a:path w="4267" h="794">
                <a:moveTo>
                  <a:pt x="23937" y="11212"/>
                </a:moveTo>
                <a:cubicBezTo>
                  <a:pt x="23881" y="11226"/>
                  <a:pt x="23875" y="11278"/>
                  <a:pt x="23862" y="11336"/>
                </a:cubicBezTo>
                <a:cubicBezTo>
                  <a:pt x="23847" y="11400"/>
                  <a:pt x="23947" y="11408"/>
                  <a:pt x="23986" y="11410"/>
                </a:cubicBezTo>
                <a:cubicBezTo>
                  <a:pt x="24101" y="11415"/>
                  <a:pt x="24140" y="11363"/>
                  <a:pt x="24209" y="11286"/>
                </a:cubicBezTo>
                <a:cubicBezTo>
                  <a:pt x="24273" y="11214"/>
                  <a:pt x="24292" y="11136"/>
                  <a:pt x="24209" y="11063"/>
                </a:cubicBezTo>
                <a:cubicBezTo>
                  <a:pt x="24160" y="11038"/>
                  <a:pt x="24143" y="11029"/>
                  <a:pt x="24110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25800" y="5643720"/>
            <a:ext cx="812520" cy="312480"/>
          </a:xfrm>
          <a:custGeom>
            <a:avLst/>
            <a:gdLst/>
            <a:ahLst/>
            <a:rect l="l" t="t" r="r" b="b"/>
            <a:pathLst>
              <a:path w="2258" h="869">
                <a:moveTo>
                  <a:pt x="5928" y="15925"/>
                </a:moveTo>
                <a:cubicBezTo>
                  <a:pt x="5928" y="15857"/>
                  <a:pt x="5931" y="16033"/>
                  <a:pt x="5928" y="16049"/>
                </a:cubicBezTo>
                <a:cubicBezTo>
                  <a:pt x="5908" y="16168"/>
                  <a:pt x="5904" y="16275"/>
                  <a:pt x="5904" y="16396"/>
                </a:cubicBezTo>
                <a:cubicBezTo>
                  <a:pt x="5904" y="16466"/>
                  <a:pt x="5880" y="16527"/>
                  <a:pt x="5953" y="16545"/>
                </a:cubicBezTo>
              </a:path>
              <a:path w="2258" h="869">
                <a:moveTo>
                  <a:pt x="6300" y="16272"/>
                </a:moveTo>
                <a:cubicBezTo>
                  <a:pt x="6300" y="16313"/>
                  <a:pt x="6300" y="16321"/>
                  <a:pt x="6300" y="16346"/>
                </a:cubicBezTo>
                <a:cubicBezTo>
                  <a:pt x="6347" y="16330"/>
                  <a:pt x="6303" y="16312"/>
                  <a:pt x="6350" y="16297"/>
                </a:cubicBezTo>
              </a:path>
              <a:path w="2258" h="869">
                <a:moveTo>
                  <a:pt x="6796" y="15825"/>
                </a:moveTo>
                <a:cubicBezTo>
                  <a:pt x="6786" y="15907"/>
                  <a:pt x="6750" y="15964"/>
                  <a:pt x="6747" y="16049"/>
                </a:cubicBezTo>
                <a:cubicBezTo>
                  <a:pt x="6744" y="16137"/>
                  <a:pt x="6775" y="16221"/>
                  <a:pt x="6871" y="16247"/>
                </a:cubicBezTo>
                <a:cubicBezTo>
                  <a:pt x="6921" y="16261"/>
                  <a:pt x="7016" y="16214"/>
                  <a:pt x="7045" y="16173"/>
                </a:cubicBezTo>
                <a:cubicBezTo>
                  <a:pt x="7076" y="16129"/>
                  <a:pt x="7087" y="16042"/>
                  <a:pt x="7045" y="15999"/>
                </a:cubicBezTo>
                <a:cubicBezTo>
                  <a:pt x="7002" y="15956"/>
                  <a:pt x="6901" y="15879"/>
                  <a:pt x="6846" y="15850"/>
                </a:cubicBezTo>
                <a:cubicBezTo>
                  <a:pt x="6814" y="15833"/>
                  <a:pt x="6821" y="15847"/>
                  <a:pt x="6821" y="15801"/>
                </a:cubicBezTo>
              </a:path>
              <a:path w="2258" h="869">
                <a:moveTo>
                  <a:pt x="7218" y="15726"/>
                </a:moveTo>
                <a:cubicBezTo>
                  <a:pt x="7280" y="15726"/>
                  <a:pt x="7295" y="15711"/>
                  <a:pt x="7342" y="15701"/>
                </a:cubicBezTo>
                <a:cubicBezTo>
                  <a:pt x="7396" y="15689"/>
                  <a:pt x="7433" y="15677"/>
                  <a:pt x="7491" y="15677"/>
                </a:cubicBezTo>
                <a:cubicBezTo>
                  <a:pt x="7516" y="15677"/>
                  <a:pt x="7524" y="15677"/>
                  <a:pt x="7541" y="15677"/>
                </a:cubicBezTo>
              </a:path>
              <a:path w="2258" h="869">
                <a:moveTo>
                  <a:pt x="7417" y="15726"/>
                </a:moveTo>
                <a:cubicBezTo>
                  <a:pt x="7349" y="15785"/>
                  <a:pt x="7283" y="15835"/>
                  <a:pt x="7218" y="15900"/>
                </a:cubicBezTo>
                <a:cubicBezTo>
                  <a:pt x="7168" y="15950"/>
                  <a:pt x="7144" y="15958"/>
                  <a:pt x="7144" y="16024"/>
                </a:cubicBezTo>
                <a:cubicBezTo>
                  <a:pt x="7249" y="16024"/>
                  <a:pt x="7399" y="15994"/>
                  <a:pt x="7491" y="16049"/>
                </a:cubicBezTo>
                <a:cubicBezTo>
                  <a:pt x="7542" y="16080"/>
                  <a:pt x="7562" y="16119"/>
                  <a:pt x="7565" y="16173"/>
                </a:cubicBezTo>
                <a:cubicBezTo>
                  <a:pt x="7568" y="16218"/>
                  <a:pt x="7535" y="16297"/>
                  <a:pt x="7491" y="16321"/>
                </a:cubicBezTo>
                <a:cubicBezTo>
                  <a:pt x="7483" y="16321"/>
                  <a:pt x="7474" y="16321"/>
                  <a:pt x="7466" y="16321"/>
                </a:cubicBezTo>
              </a:path>
              <a:path w="2258" h="869">
                <a:moveTo>
                  <a:pt x="7764" y="15850"/>
                </a:moveTo>
                <a:cubicBezTo>
                  <a:pt x="7764" y="15934"/>
                  <a:pt x="7741" y="16051"/>
                  <a:pt x="7789" y="16123"/>
                </a:cubicBezTo>
                <a:cubicBezTo>
                  <a:pt x="7837" y="16194"/>
                  <a:pt x="7900" y="16241"/>
                  <a:pt x="7987" y="16222"/>
                </a:cubicBezTo>
                <a:cubicBezTo>
                  <a:pt x="8072" y="16203"/>
                  <a:pt x="8141" y="16137"/>
                  <a:pt x="8161" y="16049"/>
                </a:cubicBezTo>
                <a:cubicBezTo>
                  <a:pt x="8176" y="15983"/>
                  <a:pt x="8152" y="15903"/>
                  <a:pt x="8111" y="15850"/>
                </a:cubicBezTo>
                <a:cubicBezTo>
                  <a:pt x="8064" y="15790"/>
                  <a:pt x="7981" y="15737"/>
                  <a:pt x="7913" y="15726"/>
                </a:cubicBezTo>
                <a:cubicBezTo>
                  <a:pt x="7905" y="15726"/>
                  <a:pt x="7896" y="15726"/>
                  <a:pt x="7888" y="157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86120" y="4759200"/>
            <a:ext cx="1492200" cy="741600"/>
          </a:xfrm>
          <a:custGeom>
            <a:avLst/>
            <a:gdLst/>
            <a:ahLst/>
            <a:rect l="l" t="t" r="r" b="b"/>
            <a:pathLst>
              <a:path w="4144" h="2060">
                <a:moveTo>
                  <a:pt x="10542" y="14263"/>
                </a:moveTo>
                <a:cubicBezTo>
                  <a:pt x="10520" y="14285"/>
                  <a:pt x="10511" y="14290"/>
                  <a:pt x="10517" y="14312"/>
                </a:cubicBezTo>
                <a:cubicBezTo>
                  <a:pt x="10625" y="14312"/>
                  <a:pt x="10732" y="14312"/>
                  <a:pt x="10840" y="14312"/>
                </a:cubicBezTo>
              </a:path>
              <a:path w="4144" h="2060">
                <a:moveTo>
                  <a:pt x="10616" y="14585"/>
                </a:moveTo>
                <a:cubicBezTo>
                  <a:pt x="10597" y="14616"/>
                  <a:pt x="10524" y="14699"/>
                  <a:pt x="10592" y="14734"/>
                </a:cubicBezTo>
                <a:cubicBezTo>
                  <a:pt x="10681" y="14780"/>
                  <a:pt x="10909" y="14734"/>
                  <a:pt x="11013" y="14734"/>
                </a:cubicBezTo>
              </a:path>
              <a:path w="4144" h="2060">
                <a:moveTo>
                  <a:pt x="12179" y="13816"/>
                </a:moveTo>
                <a:cubicBezTo>
                  <a:pt x="12168" y="13825"/>
                  <a:pt x="12136" y="13860"/>
                  <a:pt x="12105" y="13866"/>
                </a:cubicBezTo>
                <a:cubicBezTo>
                  <a:pt x="12012" y="13885"/>
                  <a:pt x="11984" y="13912"/>
                  <a:pt x="11906" y="13965"/>
                </a:cubicBezTo>
                <a:cubicBezTo>
                  <a:pt x="11850" y="14003"/>
                  <a:pt x="11805" y="14041"/>
                  <a:pt x="11757" y="14089"/>
                </a:cubicBezTo>
                <a:cubicBezTo>
                  <a:pt x="11795" y="14121"/>
                  <a:pt x="11816" y="14118"/>
                  <a:pt x="11832" y="14188"/>
                </a:cubicBezTo>
                <a:cubicBezTo>
                  <a:pt x="11856" y="14294"/>
                  <a:pt x="11794" y="14384"/>
                  <a:pt x="11782" y="14486"/>
                </a:cubicBezTo>
                <a:cubicBezTo>
                  <a:pt x="11765" y="14636"/>
                  <a:pt x="11733" y="14780"/>
                  <a:pt x="11733" y="14932"/>
                </a:cubicBezTo>
                <a:cubicBezTo>
                  <a:pt x="11733" y="15009"/>
                  <a:pt x="11747" y="15011"/>
                  <a:pt x="11782" y="15056"/>
                </a:cubicBezTo>
                <a:cubicBezTo>
                  <a:pt x="11818" y="15102"/>
                  <a:pt x="11903" y="15081"/>
                  <a:pt x="11956" y="15081"/>
                </a:cubicBezTo>
                <a:cubicBezTo>
                  <a:pt x="12019" y="15081"/>
                  <a:pt x="12081" y="15094"/>
                  <a:pt x="12129" y="15056"/>
                </a:cubicBezTo>
                <a:cubicBezTo>
                  <a:pt x="12154" y="15056"/>
                  <a:pt x="12162" y="15056"/>
                  <a:pt x="12154" y="15032"/>
                </a:cubicBezTo>
              </a:path>
              <a:path w="4144" h="2060">
                <a:moveTo>
                  <a:pt x="12551" y="14387"/>
                </a:moveTo>
                <a:cubicBezTo>
                  <a:pt x="12551" y="14469"/>
                  <a:pt x="12538" y="14534"/>
                  <a:pt x="12526" y="14610"/>
                </a:cubicBezTo>
                <a:cubicBezTo>
                  <a:pt x="12517" y="14667"/>
                  <a:pt x="12507" y="14818"/>
                  <a:pt x="12551" y="14833"/>
                </a:cubicBezTo>
              </a:path>
              <a:path w="4144" h="2060">
                <a:moveTo>
                  <a:pt x="12477" y="14412"/>
                </a:moveTo>
                <a:cubicBezTo>
                  <a:pt x="12490" y="14372"/>
                  <a:pt x="12530" y="14380"/>
                  <a:pt x="12576" y="14362"/>
                </a:cubicBezTo>
                <a:cubicBezTo>
                  <a:pt x="12653" y="14331"/>
                  <a:pt x="12742" y="14322"/>
                  <a:pt x="12824" y="14312"/>
                </a:cubicBezTo>
              </a:path>
              <a:path w="4144" h="2060">
                <a:moveTo>
                  <a:pt x="12402" y="14883"/>
                </a:moveTo>
                <a:cubicBezTo>
                  <a:pt x="12402" y="14891"/>
                  <a:pt x="12402" y="14900"/>
                  <a:pt x="12402" y="14908"/>
                </a:cubicBezTo>
                <a:cubicBezTo>
                  <a:pt x="12464" y="14908"/>
                  <a:pt x="12493" y="14898"/>
                  <a:pt x="12551" y="14883"/>
                </a:cubicBezTo>
                <a:cubicBezTo>
                  <a:pt x="12612" y="14868"/>
                  <a:pt x="12664" y="14827"/>
                  <a:pt x="12725" y="14808"/>
                </a:cubicBezTo>
                <a:cubicBezTo>
                  <a:pt x="12753" y="14808"/>
                  <a:pt x="12763" y="14806"/>
                  <a:pt x="12774" y="14784"/>
                </a:cubicBezTo>
              </a:path>
              <a:path w="4144" h="2060">
                <a:moveTo>
                  <a:pt x="13122" y="14412"/>
                </a:moveTo>
                <a:cubicBezTo>
                  <a:pt x="13079" y="14454"/>
                  <a:pt x="13068" y="14479"/>
                  <a:pt x="13047" y="14536"/>
                </a:cubicBezTo>
                <a:cubicBezTo>
                  <a:pt x="13017" y="14619"/>
                  <a:pt x="12971" y="14701"/>
                  <a:pt x="13022" y="14784"/>
                </a:cubicBezTo>
                <a:cubicBezTo>
                  <a:pt x="13066" y="14855"/>
                  <a:pt x="13159" y="14792"/>
                  <a:pt x="13196" y="14759"/>
                </a:cubicBezTo>
                <a:cubicBezTo>
                  <a:pt x="13262" y="14701"/>
                  <a:pt x="13353" y="14599"/>
                  <a:pt x="13370" y="14511"/>
                </a:cubicBezTo>
                <a:cubicBezTo>
                  <a:pt x="13383" y="14442"/>
                  <a:pt x="13361" y="14323"/>
                  <a:pt x="13295" y="14288"/>
                </a:cubicBezTo>
                <a:cubicBezTo>
                  <a:pt x="13274" y="14277"/>
                  <a:pt x="13199" y="14288"/>
                  <a:pt x="13171" y="14288"/>
                </a:cubicBezTo>
              </a:path>
              <a:path w="4144" h="2060">
                <a:moveTo>
                  <a:pt x="13519" y="14684"/>
                </a:moveTo>
                <a:cubicBezTo>
                  <a:pt x="13560" y="14684"/>
                  <a:pt x="13602" y="14684"/>
                  <a:pt x="13643" y="14684"/>
                </a:cubicBezTo>
                <a:cubicBezTo>
                  <a:pt x="13643" y="14746"/>
                  <a:pt x="13654" y="14804"/>
                  <a:pt x="13618" y="14858"/>
                </a:cubicBezTo>
                <a:cubicBezTo>
                  <a:pt x="13598" y="14887"/>
                  <a:pt x="13529" y="14917"/>
                  <a:pt x="13519" y="14932"/>
                </a:cubicBezTo>
                <a:cubicBezTo>
                  <a:pt x="13519" y="14940"/>
                  <a:pt x="13519" y="14949"/>
                  <a:pt x="13519" y="14957"/>
                </a:cubicBezTo>
                <a:cubicBezTo>
                  <a:pt x="13560" y="14957"/>
                  <a:pt x="13602" y="14957"/>
                  <a:pt x="13643" y="14957"/>
                </a:cubicBezTo>
                <a:cubicBezTo>
                  <a:pt x="13643" y="15037"/>
                  <a:pt x="13635" y="15037"/>
                  <a:pt x="13593" y="15106"/>
                </a:cubicBezTo>
                <a:cubicBezTo>
                  <a:pt x="13560" y="15161"/>
                  <a:pt x="13500" y="15217"/>
                  <a:pt x="13444" y="15255"/>
                </a:cubicBezTo>
                <a:cubicBezTo>
                  <a:pt x="13428" y="15263"/>
                  <a:pt x="13411" y="15272"/>
                  <a:pt x="13395" y="15280"/>
                </a:cubicBezTo>
              </a:path>
              <a:path w="4144" h="2060">
                <a:moveTo>
                  <a:pt x="13395" y="14015"/>
                </a:moveTo>
                <a:cubicBezTo>
                  <a:pt x="13461" y="14015"/>
                  <a:pt x="13506" y="14004"/>
                  <a:pt x="13568" y="13990"/>
                </a:cubicBezTo>
                <a:cubicBezTo>
                  <a:pt x="13611" y="13980"/>
                  <a:pt x="13633" y="13968"/>
                  <a:pt x="13667" y="13940"/>
                </a:cubicBezTo>
              </a:path>
              <a:path w="4144" h="2060">
                <a:moveTo>
                  <a:pt x="13791" y="13618"/>
                </a:moveTo>
                <a:cubicBezTo>
                  <a:pt x="13896" y="13618"/>
                  <a:pt x="14027" y="13597"/>
                  <a:pt x="14114" y="13643"/>
                </a:cubicBezTo>
                <a:cubicBezTo>
                  <a:pt x="14194" y="13685"/>
                  <a:pt x="14185" y="13748"/>
                  <a:pt x="14188" y="13841"/>
                </a:cubicBezTo>
                <a:cubicBezTo>
                  <a:pt x="14195" y="14050"/>
                  <a:pt x="14181" y="14260"/>
                  <a:pt x="14213" y="14461"/>
                </a:cubicBezTo>
                <a:cubicBezTo>
                  <a:pt x="14224" y="14531"/>
                  <a:pt x="14238" y="14587"/>
                  <a:pt x="14238" y="14660"/>
                </a:cubicBezTo>
                <a:cubicBezTo>
                  <a:pt x="14238" y="14725"/>
                  <a:pt x="14230" y="14778"/>
                  <a:pt x="14188" y="14833"/>
                </a:cubicBezTo>
                <a:cubicBezTo>
                  <a:pt x="14137" y="14899"/>
                  <a:pt x="14073" y="14956"/>
                  <a:pt x="14015" y="15007"/>
                </a:cubicBezTo>
                <a:cubicBezTo>
                  <a:pt x="13958" y="15057"/>
                  <a:pt x="13913" y="15075"/>
                  <a:pt x="13841" y="15081"/>
                </a:cubicBezTo>
                <a:cubicBezTo>
                  <a:pt x="13833" y="15081"/>
                  <a:pt x="13824" y="15081"/>
                  <a:pt x="13816" y="15081"/>
                </a:cubicBezTo>
              </a:path>
              <a:path w="4144" h="2060">
                <a:moveTo>
                  <a:pt x="14312" y="13271"/>
                </a:moveTo>
                <a:cubicBezTo>
                  <a:pt x="14304" y="13263"/>
                  <a:pt x="14296" y="13254"/>
                  <a:pt x="14288" y="13246"/>
                </a:cubicBezTo>
                <a:cubicBezTo>
                  <a:pt x="14334" y="13210"/>
                  <a:pt x="14375" y="13221"/>
                  <a:pt x="14436" y="13221"/>
                </a:cubicBezTo>
                <a:cubicBezTo>
                  <a:pt x="14511" y="13221"/>
                  <a:pt x="14492" y="13301"/>
                  <a:pt x="14461" y="13345"/>
                </a:cubicBezTo>
                <a:cubicBezTo>
                  <a:pt x="14409" y="13418"/>
                  <a:pt x="14376" y="13461"/>
                  <a:pt x="14312" y="13519"/>
                </a:cubicBezTo>
                <a:cubicBezTo>
                  <a:pt x="14304" y="13527"/>
                  <a:pt x="14296" y="13535"/>
                  <a:pt x="14288" y="13543"/>
                </a:cubicBezTo>
                <a:cubicBezTo>
                  <a:pt x="14369" y="13543"/>
                  <a:pt x="14431" y="13522"/>
                  <a:pt x="14511" y="13519"/>
                </a:cubicBezTo>
                <a:cubicBezTo>
                  <a:pt x="14575" y="13517"/>
                  <a:pt x="14682" y="13525"/>
                  <a:pt x="14660" y="13618"/>
                </a:cubicBezTo>
                <a:cubicBezTo>
                  <a:pt x="14641" y="13698"/>
                  <a:pt x="14522" y="13792"/>
                  <a:pt x="14461" y="13841"/>
                </a:cubicBezTo>
                <a:cubicBezTo>
                  <a:pt x="14412" y="13880"/>
                  <a:pt x="14359" y="13902"/>
                  <a:pt x="14312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45240" y="4429080"/>
            <a:ext cx="955800" cy="544680"/>
          </a:xfrm>
          <a:custGeom>
            <a:avLst/>
            <a:gdLst/>
            <a:ahLst/>
            <a:rect l="l" t="t" r="r" b="b"/>
            <a:pathLst>
              <a:path w="2655" h="1514">
                <a:moveTo>
                  <a:pt x="21506" y="12948"/>
                </a:moveTo>
                <a:cubicBezTo>
                  <a:pt x="21454" y="13110"/>
                  <a:pt x="21396" y="13278"/>
                  <a:pt x="21357" y="13444"/>
                </a:cubicBezTo>
                <a:cubicBezTo>
                  <a:pt x="21355" y="13451"/>
                  <a:pt x="21357" y="13537"/>
                  <a:pt x="21357" y="13469"/>
                </a:cubicBezTo>
                <a:cubicBezTo>
                  <a:pt x="21367" y="13354"/>
                  <a:pt x="21393" y="13233"/>
                  <a:pt x="21431" y="13122"/>
                </a:cubicBezTo>
                <a:cubicBezTo>
                  <a:pt x="21476" y="12991"/>
                  <a:pt x="21541" y="12834"/>
                  <a:pt x="21630" y="12725"/>
                </a:cubicBezTo>
                <a:cubicBezTo>
                  <a:pt x="21678" y="12666"/>
                  <a:pt x="21792" y="12582"/>
                  <a:pt x="21878" y="12601"/>
                </a:cubicBezTo>
                <a:cubicBezTo>
                  <a:pt x="21894" y="12609"/>
                  <a:pt x="21911" y="12618"/>
                  <a:pt x="21927" y="12626"/>
                </a:cubicBezTo>
                <a:cubicBezTo>
                  <a:pt x="21916" y="12720"/>
                  <a:pt x="21866" y="12800"/>
                  <a:pt x="21803" y="12874"/>
                </a:cubicBezTo>
                <a:cubicBezTo>
                  <a:pt x="21725" y="12966"/>
                  <a:pt x="21610" y="13014"/>
                  <a:pt x="21506" y="13072"/>
                </a:cubicBezTo>
              </a:path>
              <a:path w="2655" h="1514">
                <a:moveTo>
                  <a:pt x="22076" y="12874"/>
                </a:moveTo>
                <a:cubicBezTo>
                  <a:pt x="22032" y="12988"/>
                  <a:pt x="21985" y="13103"/>
                  <a:pt x="21952" y="13221"/>
                </a:cubicBezTo>
                <a:cubicBezTo>
                  <a:pt x="21927" y="13310"/>
                  <a:pt x="21907" y="13388"/>
                  <a:pt x="21878" y="13469"/>
                </a:cubicBezTo>
                <a:cubicBezTo>
                  <a:pt x="21878" y="13477"/>
                  <a:pt x="21878" y="13486"/>
                  <a:pt x="21878" y="13494"/>
                </a:cubicBezTo>
                <a:cubicBezTo>
                  <a:pt x="21952" y="13419"/>
                  <a:pt x="21985" y="13345"/>
                  <a:pt x="22027" y="13246"/>
                </a:cubicBezTo>
                <a:cubicBezTo>
                  <a:pt x="22091" y="13096"/>
                  <a:pt x="22142" y="12940"/>
                  <a:pt x="22225" y="12799"/>
                </a:cubicBezTo>
                <a:cubicBezTo>
                  <a:pt x="22270" y="12722"/>
                  <a:pt x="22315" y="12692"/>
                  <a:pt x="22399" y="12675"/>
                </a:cubicBezTo>
                <a:cubicBezTo>
                  <a:pt x="22399" y="12741"/>
                  <a:pt x="22394" y="12784"/>
                  <a:pt x="22374" y="12849"/>
                </a:cubicBezTo>
                <a:cubicBezTo>
                  <a:pt x="22339" y="12961"/>
                  <a:pt x="22308" y="13015"/>
                  <a:pt x="22225" y="13097"/>
                </a:cubicBezTo>
                <a:cubicBezTo>
                  <a:pt x="22187" y="13134"/>
                  <a:pt x="22100" y="13223"/>
                  <a:pt x="22051" y="13146"/>
                </a:cubicBezTo>
                <a:cubicBezTo>
                  <a:pt x="22051" y="13138"/>
                  <a:pt x="22051" y="13130"/>
                  <a:pt x="22051" y="13122"/>
                </a:cubicBezTo>
              </a:path>
              <a:path w="2655" h="1514">
                <a:moveTo>
                  <a:pt x="22696" y="12774"/>
                </a:moveTo>
                <a:cubicBezTo>
                  <a:pt x="22677" y="12862"/>
                  <a:pt x="22636" y="12961"/>
                  <a:pt x="22622" y="13047"/>
                </a:cubicBezTo>
                <a:cubicBezTo>
                  <a:pt x="22608" y="13129"/>
                  <a:pt x="22597" y="13211"/>
                  <a:pt x="22597" y="13295"/>
                </a:cubicBezTo>
                <a:cubicBezTo>
                  <a:pt x="22597" y="13337"/>
                  <a:pt x="22597" y="13345"/>
                  <a:pt x="22597" y="13370"/>
                </a:cubicBezTo>
              </a:path>
              <a:path w="2655" h="1514">
                <a:moveTo>
                  <a:pt x="22399" y="12824"/>
                </a:moveTo>
                <a:cubicBezTo>
                  <a:pt x="22473" y="12778"/>
                  <a:pt x="22558" y="12789"/>
                  <a:pt x="22647" y="12774"/>
                </a:cubicBezTo>
                <a:cubicBezTo>
                  <a:pt x="22753" y="12756"/>
                  <a:pt x="22864" y="12737"/>
                  <a:pt x="22969" y="12725"/>
                </a:cubicBezTo>
                <a:cubicBezTo>
                  <a:pt x="23044" y="12725"/>
                  <a:pt x="23068" y="12725"/>
                  <a:pt x="23118" y="12725"/>
                </a:cubicBezTo>
              </a:path>
              <a:path w="2655" h="1514">
                <a:moveTo>
                  <a:pt x="23044" y="12502"/>
                </a:moveTo>
                <a:cubicBezTo>
                  <a:pt x="23053" y="12475"/>
                  <a:pt x="23080" y="12433"/>
                  <a:pt x="23068" y="12402"/>
                </a:cubicBezTo>
                <a:cubicBezTo>
                  <a:pt x="23048" y="12350"/>
                  <a:pt x="23028" y="12350"/>
                  <a:pt x="22969" y="12328"/>
                </a:cubicBezTo>
                <a:cubicBezTo>
                  <a:pt x="22896" y="12301"/>
                  <a:pt x="22823" y="12305"/>
                  <a:pt x="22746" y="12303"/>
                </a:cubicBezTo>
                <a:cubicBezTo>
                  <a:pt x="22528" y="12297"/>
                  <a:pt x="22315" y="12311"/>
                  <a:pt x="22101" y="12328"/>
                </a:cubicBezTo>
                <a:cubicBezTo>
                  <a:pt x="21973" y="12339"/>
                  <a:pt x="21831" y="12332"/>
                  <a:pt x="21704" y="12353"/>
                </a:cubicBezTo>
                <a:cubicBezTo>
                  <a:pt x="21626" y="12366"/>
                  <a:pt x="21528" y="12400"/>
                  <a:pt x="21456" y="12427"/>
                </a:cubicBezTo>
                <a:cubicBezTo>
                  <a:pt x="21383" y="12455"/>
                  <a:pt x="21338" y="12499"/>
                  <a:pt x="21282" y="12551"/>
                </a:cubicBezTo>
                <a:cubicBezTo>
                  <a:pt x="21232" y="12598"/>
                  <a:pt x="21187" y="12647"/>
                  <a:pt x="21134" y="12700"/>
                </a:cubicBezTo>
                <a:cubicBezTo>
                  <a:pt x="21062" y="12772"/>
                  <a:pt x="21018" y="12813"/>
                  <a:pt x="20985" y="12898"/>
                </a:cubicBezTo>
                <a:cubicBezTo>
                  <a:pt x="20970" y="12937"/>
                  <a:pt x="20953" y="12948"/>
                  <a:pt x="20960" y="12998"/>
                </a:cubicBezTo>
                <a:cubicBezTo>
                  <a:pt x="20969" y="13055"/>
                  <a:pt x="20982" y="13091"/>
                  <a:pt x="21010" y="13146"/>
                </a:cubicBezTo>
                <a:cubicBezTo>
                  <a:pt x="21037" y="13198"/>
                  <a:pt x="21061" y="13247"/>
                  <a:pt x="21084" y="13295"/>
                </a:cubicBezTo>
                <a:cubicBezTo>
                  <a:pt x="21121" y="13373"/>
                  <a:pt x="21168" y="13446"/>
                  <a:pt x="21208" y="13519"/>
                </a:cubicBezTo>
                <a:cubicBezTo>
                  <a:pt x="21245" y="13586"/>
                  <a:pt x="21264" y="13629"/>
                  <a:pt x="21332" y="13667"/>
                </a:cubicBezTo>
                <a:cubicBezTo>
                  <a:pt x="21417" y="13714"/>
                  <a:pt x="21493" y="13721"/>
                  <a:pt x="21580" y="13742"/>
                </a:cubicBezTo>
                <a:cubicBezTo>
                  <a:pt x="21672" y="13764"/>
                  <a:pt x="21763" y="13772"/>
                  <a:pt x="21853" y="13791"/>
                </a:cubicBezTo>
                <a:cubicBezTo>
                  <a:pt x="21921" y="13805"/>
                  <a:pt x="21979" y="13814"/>
                  <a:pt x="22051" y="13816"/>
                </a:cubicBezTo>
                <a:cubicBezTo>
                  <a:pt x="22133" y="13818"/>
                  <a:pt x="22202" y="13798"/>
                  <a:pt x="22275" y="13791"/>
                </a:cubicBezTo>
                <a:cubicBezTo>
                  <a:pt x="22349" y="13784"/>
                  <a:pt x="22425" y="13781"/>
                  <a:pt x="22498" y="13767"/>
                </a:cubicBezTo>
                <a:cubicBezTo>
                  <a:pt x="22553" y="13757"/>
                  <a:pt x="22617" y="13731"/>
                  <a:pt x="22671" y="13717"/>
                </a:cubicBezTo>
                <a:cubicBezTo>
                  <a:pt x="22737" y="13700"/>
                  <a:pt x="22785" y="13668"/>
                  <a:pt x="22845" y="13643"/>
                </a:cubicBezTo>
                <a:cubicBezTo>
                  <a:pt x="22897" y="13621"/>
                  <a:pt x="22959" y="13592"/>
                  <a:pt x="23019" y="13568"/>
                </a:cubicBezTo>
                <a:cubicBezTo>
                  <a:pt x="23088" y="13540"/>
                  <a:pt x="23157" y="13495"/>
                  <a:pt x="23217" y="13444"/>
                </a:cubicBezTo>
                <a:cubicBezTo>
                  <a:pt x="23284" y="13387"/>
                  <a:pt x="23321" y="13327"/>
                  <a:pt x="23391" y="13271"/>
                </a:cubicBezTo>
                <a:cubicBezTo>
                  <a:pt x="23433" y="13238"/>
                  <a:pt x="23480" y="13214"/>
                  <a:pt x="23515" y="13171"/>
                </a:cubicBezTo>
                <a:cubicBezTo>
                  <a:pt x="23558" y="13119"/>
                  <a:pt x="23568" y="13077"/>
                  <a:pt x="23589" y="13022"/>
                </a:cubicBezTo>
                <a:cubicBezTo>
                  <a:pt x="23608" y="12970"/>
                  <a:pt x="23612" y="12964"/>
                  <a:pt x="23614" y="12898"/>
                </a:cubicBezTo>
                <a:cubicBezTo>
                  <a:pt x="23616" y="12841"/>
                  <a:pt x="23610" y="12820"/>
                  <a:pt x="23589" y="12774"/>
                </a:cubicBezTo>
                <a:cubicBezTo>
                  <a:pt x="23572" y="12737"/>
                  <a:pt x="23552" y="12705"/>
                  <a:pt x="23515" y="12675"/>
                </a:cubicBezTo>
                <a:cubicBezTo>
                  <a:pt x="23484" y="12650"/>
                  <a:pt x="23423" y="12644"/>
                  <a:pt x="23391" y="12626"/>
                </a:cubicBezTo>
                <a:cubicBezTo>
                  <a:pt x="23352" y="12605"/>
                  <a:pt x="23330" y="12577"/>
                  <a:pt x="23292" y="12551"/>
                </a:cubicBezTo>
                <a:cubicBezTo>
                  <a:pt x="23238" y="12514"/>
                  <a:pt x="23179" y="12478"/>
                  <a:pt x="23118" y="12452"/>
                </a:cubicBezTo>
                <a:cubicBezTo>
                  <a:pt x="23068" y="12430"/>
                  <a:pt x="23022" y="12410"/>
                  <a:pt x="22969" y="12402"/>
                </a:cubicBezTo>
                <a:cubicBezTo>
                  <a:pt x="22909" y="12393"/>
                  <a:pt x="22832" y="12402"/>
                  <a:pt x="22771" y="124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11200" y="5081760"/>
            <a:ext cx="1054080" cy="482400"/>
          </a:xfrm>
          <a:custGeom>
            <a:avLst/>
            <a:gdLst/>
            <a:ahLst/>
            <a:rect l="l" t="t" r="r" b="b"/>
            <a:pathLst>
              <a:path w="2928" h="1340">
                <a:moveTo>
                  <a:pt x="4093" y="14883"/>
                </a:moveTo>
                <a:cubicBezTo>
                  <a:pt x="4061" y="14925"/>
                  <a:pt x="4077" y="14955"/>
                  <a:pt x="4093" y="14908"/>
                </a:cubicBezTo>
                <a:cubicBezTo>
                  <a:pt x="4066" y="14943"/>
                  <a:pt x="4068" y="14938"/>
                  <a:pt x="4068" y="14982"/>
                </a:cubicBezTo>
              </a:path>
              <a:path w="2928" h="1340">
                <a:moveTo>
                  <a:pt x="4291" y="14288"/>
                </a:moveTo>
                <a:cubicBezTo>
                  <a:pt x="4344" y="14288"/>
                  <a:pt x="4376" y="14278"/>
                  <a:pt x="4415" y="14312"/>
                </a:cubicBezTo>
                <a:cubicBezTo>
                  <a:pt x="4460" y="14352"/>
                  <a:pt x="4487" y="14405"/>
                  <a:pt x="4490" y="14461"/>
                </a:cubicBezTo>
                <a:cubicBezTo>
                  <a:pt x="4494" y="14522"/>
                  <a:pt x="4450" y="14641"/>
                  <a:pt x="4415" y="14684"/>
                </a:cubicBezTo>
                <a:cubicBezTo>
                  <a:pt x="4407" y="14692"/>
                  <a:pt x="4398" y="14701"/>
                  <a:pt x="4390" y="14709"/>
                </a:cubicBezTo>
                <a:cubicBezTo>
                  <a:pt x="4434" y="14676"/>
                  <a:pt x="4456" y="14684"/>
                  <a:pt x="4514" y="14684"/>
                </a:cubicBezTo>
                <a:cubicBezTo>
                  <a:pt x="4574" y="14684"/>
                  <a:pt x="4586" y="14736"/>
                  <a:pt x="4589" y="14784"/>
                </a:cubicBezTo>
                <a:cubicBezTo>
                  <a:pt x="4594" y="14867"/>
                  <a:pt x="4590" y="14932"/>
                  <a:pt x="4564" y="15007"/>
                </a:cubicBezTo>
                <a:cubicBezTo>
                  <a:pt x="4548" y="15053"/>
                  <a:pt x="4518" y="15132"/>
                  <a:pt x="4465" y="15156"/>
                </a:cubicBezTo>
                <a:cubicBezTo>
                  <a:pt x="4457" y="15156"/>
                  <a:pt x="4448" y="15156"/>
                  <a:pt x="4440" y="15156"/>
                </a:cubicBezTo>
              </a:path>
              <a:path w="2928" h="1340">
                <a:moveTo>
                  <a:pt x="4911" y="14560"/>
                </a:moveTo>
                <a:cubicBezTo>
                  <a:pt x="4926" y="14560"/>
                  <a:pt x="4907" y="14578"/>
                  <a:pt x="4887" y="14635"/>
                </a:cubicBezTo>
                <a:cubicBezTo>
                  <a:pt x="4854" y="14727"/>
                  <a:pt x="4801" y="14856"/>
                  <a:pt x="4837" y="14957"/>
                </a:cubicBezTo>
                <a:cubicBezTo>
                  <a:pt x="4867" y="15040"/>
                  <a:pt x="4918" y="15107"/>
                  <a:pt x="5011" y="15081"/>
                </a:cubicBezTo>
                <a:cubicBezTo>
                  <a:pt x="5085" y="15060"/>
                  <a:pt x="5131" y="15001"/>
                  <a:pt x="5135" y="14932"/>
                </a:cubicBezTo>
                <a:cubicBezTo>
                  <a:pt x="5140" y="14855"/>
                  <a:pt x="5081" y="14790"/>
                  <a:pt x="5035" y="14734"/>
                </a:cubicBezTo>
                <a:cubicBezTo>
                  <a:pt x="4994" y="14684"/>
                  <a:pt x="4994" y="14678"/>
                  <a:pt x="4961" y="14635"/>
                </a:cubicBezTo>
              </a:path>
              <a:path w="2928" h="1340">
                <a:moveTo>
                  <a:pt x="5333" y="14536"/>
                </a:moveTo>
                <a:cubicBezTo>
                  <a:pt x="5321" y="14581"/>
                  <a:pt x="5308" y="14606"/>
                  <a:pt x="5308" y="14660"/>
                </a:cubicBezTo>
                <a:cubicBezTo>
                  <a:pt x="5308" y="14758"/>
                  <a:pt x="5315" y="14819"/>
                  <a:pt x="5358" y="14908"/>
                </a:cubicBezTo>
                <a:cubicBezTo>
                  <a:pt x="5384" y="14962"/>
                  <a:pt x="5462" y="14991"/>
                  <a:pt x="5507" y="14932"/>
                </a:cubicBezTo>
                <a:cubicBezTo>
                  <a:pt x="5547" y="14879"/>
                  <a:pt x="5570" y="14800"/>
                  <a:pt x="5556" y="14734"/>
                </a:cubicBezTo>
                <a:cubicBezTo>
                  <a:pt x="5540" y="14661"/>
                  <a:pt x="5532" y="14592"/>
                  <a:pt x="5482" y="14536"/>
                </a:cubicBezTo>
                <a:cubicBezTo>
                  <a:pt x="5457" y="14511"/>
                  <a:pt x="5449" y="14503"/>
                  <a:pt x="5432" y="14486"/>
                </a:cubicBezTo>
              </a:path>
              <a:path w="2928" h="1340">
                <a:moveTo>
                  <a:pt x="4118" y="14238"/>
                </a:moveTo>
                <a:cubicBezTo>
                  <a:pt x="4084" y="14238"/>
                  <a:pt x="4015" y="14237"/>
                  <a:pt x="3994" y="14263"/>
                </a:cubicBezTo>
                <a:cubicBezTo>
                  <a:pt x="3953" y="14313"/>
                  <a:pt x="3925" y="14453"/>
                  <a:pt x="3919" y="14511"/>
                </a:cubicBezTo>
                <a:cubicBezTo>
                  <a:pt x="3899" y="14708"/>
                  <a:pt x="3876" y="15017"/>
                  <a:pt x="3944" y="15205"/>
                </a:cubicBezTo>
                <a:cubicBezTo>
                  <a:pt x="3989" y="15329"/>
                  <a:pt x="4061" y="15382"/>
                  <a:pt x="4167" y="15453"/>
                </a:cubicBezTo>
              </a:path>
              <a:path w="2928" h="1340">
                <a:moveTo>
                  <a:pt x="5482" y="14163"/>
                </a:moveTo>
                <a:cubicBezTo>
                  <a:pt x="5523" y="14173"/>
                  <a:pt x="5595" y="14208"/>
                  <a:pt x="5631" y="14238"/>
                </a:cubicBezTo>
                <a:cubicBezTo>
                  <a:pt x="5731" y="14321"/>
                  <a:pt x="5832" y="14465"/>
                  <a:pt x="5879" y="14585"/>
                </a:cubicBezTo>
                <a:cubicBezTo>
                  <a:pt x="5931" y="14717"/>
                  <a:pt x="5908" y="14874"/>
                  <a:pt x="5879" y="15007"/>
                </a:cubicBezTo>
                <a:cubicBezTo>
                  <a:pt x="5860" y="15092"/>
                  <a:pt x="5832" y="15173"/>
                  <a:pt x="5804" y="15255"/>
                </a:cubicBezTo>
              </a:path>
              <a:path w="2928" h="1340">
                <a:moveTo>
                  <a:pt x="6300" y="14114"/>
                </a:moveTo>
                <a:cubicBezTo>
                  <a:pt x="6246" y="14170"/>
                  <a:pt x="6227" y="14213"/>
                  <a:pt x="6201" y="14288"/>
                </a:cubicBezTo>
                <a:cubicBezTo>
                  <a:pt x="6151" y="14431"/>
                  <a:pt x="6162" y="14633"/>
                  <a:pt x="6176" y="14784"/>
                </a:cubicBezTo>
                <a:cubicBezTo>
                  <a:pt x="6192" y="14954"/>
                  <a:pt x="6233" y="15088"/>
                  <a:pt x="6325" y="15230"/>
                </a:cubicBezTo>
                <a:cubicBezTo>
                  <a:pt x="6385" y="15323"/>
                  <a:pt x="6439" y="15322"/>
                  <a:pt x="6524" y="15379"/>
                </a:cubicBezTo>
              </a:path>
              <a:path w="2928" h="1340">
                <a:moveTo>
                  <a:pt x="6821" y="14833"/>
                </a:moveTo>
                <a:cubicBezTo>
                  <a:pt x="6814" y="14876"/>
                  <a:pt x="6777" y="14903"/>
                  <a:pt x="6821" y="14908"/>
                </a:cubicBezTo>
                <a:cubicBezTo>
                  <a:pt x="6843" y="14911"/>
                  <a:pt x="6879" y="14869"/>
                  <a:pt x="6821" y="149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98840" y="4983120"/>
            <a:ext cx="625320" cy="581040"/>
          </a:xfrm>
          <a:custGeom>
            <a:avLst/>
            <a:gdLst/>
            <a:ahLst/>
            <a:rect l="l" t="t" r="r" b="b"/>
            <a:pathLst>
              <a:path w="1737" h="1613">
                <a:moveTo>
                  <a:pt x="7243" y="14486"/>
                </a:moveTo>
                <a:cubicBezTo>
                  <a:pt x="7293" y="14436"/>
                  <a:pt x="7223" y="14541"/>
                  <a:pt x="7218" y="14585"/>
                </a:cubicBezTo>
                <a:cubicBezTo>
                  <a:pt x="7208" y="14670"/>
                  <a:pt x="7197" y="14799"/>
                  <a:pt x="7293" y="14833"/>
                </a:cubicBezTo>
                <a:cubicBezTo>
                  <a:pt x="7402" y="14872"/>
                  <a:pt x="7480" y="14786"/>
                  <a:pt x="7541" y="14709"/>
                </a:cubicBezTo>
                <a:cubicBezTo>
                  <a:pt x="7607" y="14626"/>
                  <a:pt x="7633" y="14556"/>
                  <a:pt x="7590" y="14461"/>
                </a:cubicBezTo>
                <a:cubicBezTo>
                  <a:pt x="7562" y="14398"/>
                  <a:pt x="7483" y="14358"/>
                  <a:pt x="7417" y="14337"/>
                </a:cubicBezTo>
                <a:cubicBezTo>
                  <a:pt x="7392" y="14337"/>
                  <a:pt x="7384" y="14337"/>
                  <a:pt x="7367" y="14337"/>
                </a:cubicBezTo>
              </a:path>
              <a:path w="1737" h="1613">
                <a:moveTo>
                  <a:pt x="7789" y="14312"/>
                </a:moveTo>
                <a:cubicBezTo>
                  <a:pt x="7784" y="14384"/>
                  <a:pt x="7738" y="14513"/>
                  <a:pt x="7764" y="14585"/>
                </a:cubicBezTo>
                <a:cubicBezTo>
                  <a:pt x="7782" y="14635"/>
                  <a:pt x="7896" y="14653"/>
                  <a:pt x="7938" y="14635"/>
                </a:cubicBezTo>
                <a:cubicBezTo>
                  <a:pt x="8007" y="14605"/>
                  <a:pt x="8079" y="14563"/>
                  <a:pt x="8086" y="14486"/>
                </a:cubicBezTo>
                <a:cubicBezTo>
                  <a:pt x="8094" y="14405"/>
                  <a:pt x="8005" y="14425"/>
                  <a:pt x="7962" y="14412"/>
                </a:cubicBezTo>
                <a:cubicBezTo>
                  <a:pt x="7932" y="14403"/>
                  <a:pt x="7806" y="14382"/>
                  <a:pt x="7789" y="14362"/>
                </a:cubicBezTo>
                <a:cubicBezTo>
                  <a:pt x="7759" y="14325"/>
                  <a:pt x="7819" y="14302"/>
                  <a:pt x="7838" y="14288"/>
                </a:cubicBezTo>
              </a:path>
              <a:path w="1737" h="1613">
                <a:moveTo>
                  <a:pt x="7913" y="14486"/>
                </a:moveTo>
                <a:cubicBezTo>
                  <a:pt x="7921" y="14486"/>
                  <a:pt x="7930" y="14486"/>
                  <a:pt x="7938" y="14486"/>
                </a:cubicBezTo>
              </a:path>
              <a:path w="1737" h="1613">
                <a:moveTo>
                  <a:pt x="7913" y="14486"/>
                </a:moveTo>
                <a:cubicBezTo>
                  <a:pt x="7895" y="14433"/>
                  <a:pt x="7870" y="14479"/>
                  <a:pt x="7838" y="14511"/>
                </a:cubicBezTo>
                <a:cubicBezTo>
                  <a:pt x="7783" y="14566"/>
                  <a:pt x="7887" y="14500"/>
                  <a:pt x="7913" y="14486"/>
                </a:cubicBezTo>
                <a:cubicBezTo>
                  <a:pt x="7956" y="14464"/>
                  <a:pt x="7968" y="14460"/>
                  <a:pt x="7987" y="14436"/>
                </a:cubicBezTo>
                <a:cubicBezTo>
                  <a:pt x="7995" y="14428"/>
                  <a:pt x="8004" y="14420"/>
                  <a:pt x="8012" y="14412"/>
                </a:cubicBezTo>
                <a:cubicBezTo>
                  <a:pt x="7983" y="14421"/>
                  <a:pt x="7948" y="14454"/>
                  <a:pt x="7913" y="14486"/>
                </a:cubicBezTo>
                <a:cubicBezTo>
                  <a:pt x="7894" y="14503"/>
                  <a:pt x="7778" y="14612"/>
                  <a:pt x="7888" y="14536"/>
                </a:cubicBezTo>
                <a:cubicBezTo>
                  <a:pt x="7936" y="14503"/>
                  <a:pt x="7951" y="14473"/>
                  <a:pt x="8012" y="14461"/>
                </a:cubicBezTo>
                <a:cubicBezTo>
                  <a:pt x="7965" y="14508"/>
                  <a:pt x="7950" y="14556"/>
                  <a:pt x="7913" y="14610"/>
                </a:cubicBezTo>
                <a:cubicBezTo>
                  <a:pt x="7912" y="14612"/>
                  <a:pt x="7818" y="14717"/>
                  <a:pt x="7888" y="14684"/>
                </a:cubicBezTo>
                <a:cubicBezTo>
                  <a:pt x="7927" y="14665"/>
                  <a:pt x="7980" y="14614"/>
                  <a:pt x="8012" y="14585"/>
                </a:cubicBezTo>
                <a:cubicBezTo>
                  <a:pt x="8034" y="14563"/>
                  <a:pt x="8043" y="14558"/>
                  <a:pt x="8037" y="14536"/>
                </a:cubicBezTo>
                <a:cubicBezTo>
                  <a:pt x="8045" y="14536"/>
                  <a:pt x="8054" y="14536"/>
                  <a:pt x="8062" y="14536"/>
                </a:cubicBezTo>
                <a:cubicBezTo>
                  <a:pt x="8048" y="14507"/>
                  <a:pt x="8029" y="14542"/>
                  <a:pt x="7987" y="14560"/>
                </a:cubicBezTo>
                <a:cubicBezTo>
                  <a:pt x="7921" y="14589"/>
                  <a:pt x="7913" y="14610"/>
                  <a:pt x="7838" y="14610"/>
                </a:cubicBezTo>
                <a:cubicBezTo>
                  <a:pt x="7773" y="14610"/>
                  <a:pt x="7848" y="14516"/>
                  <a:pt x="7863" y="14486"/>
                </a:cubicBezTo>
                <a:cubicBezTo>
                  <a:pt x="7891" y="14430"/>
                  <a:pt x="7917" y="14408"/>
                  <a:pt x="7962" y="14362"/>
                </a:cubicBezTo>
                <a:cubicBezTo>
                  <a:pt x="8003" y="14362"/>
                  <a:pt x="7943" y="14382"/>
                  <a:pt x="7913" y="14412"/>
                </a:cubicBezTo>
                <a:cubicBezTo>
                  <a:pt x="7884" y="14441"/>
                  <a:pt x="7872" y="14449"/>
                  <a:pt x="7863" y="14486"/>
                </a:cubicBezTo>
              </a:path>
              <a:path w="1737" h="1613">
                <a:moveTo>
                  <a:pt x="8285" y="14337"/>
                </a:moveTo>
                <a:cubicBezTo>
                  <a:pt x="8285" y="14312"/>
                  <a:pt x="8285" y="14304"/>
                  <a:pt x="8285" y="14288"/>
                </a:cubicBezTo>
                <a:cubicBezTo>
                  <a:pt x="8327" y="14288"/>
                  <a:pt x="8380" y="14303"/>
                  <a:pt x="8409" y="14337"/>
                </a:cubicBezTo>
                <a:cubicBezTo>
                  <a:pt x="8462" y="14399"/>
                  <a:pt x="8522" y="14472"/>
                  <a:pt x="8508" y="14560"/>
                </a:cubicBezTo>
                <a:cubicBezTo>
                  <a:pt x="8492" y="14661"/>
                  <a:pt x="8397" y="14781"/>
                  <a:pt x="8334" y="14858"/>
                </a:cubicBezTo>
                <a:cubicBezTo>
                  <a:pt x="8297" y="14904"/>
                  <a:pt x="8239" y="14943"/>
                  <a:pt x="8186" y="14957"/>
                </a:cubicBezTo>
                <a:cubicBezTo>
                  <a:pt x="8194" y="14887"/>
                  <a:pt x="8218" y="14819"/>
                  <a:pt x="8260" y="14759"/>
                </a:cubicBezTo>
                <a:cubicBezTo>
                  <a:pt x="8291" y="14715"/>
                  <a:pt x="8336" y="14709"/>
                  <a:pt x="8384" y="14709"/>
                </a:cubicBezTo>
                <a:cubicBezTo>
                  <a:pt x="8445" y="14709"/>
                  <a:pt x="8481" y="14748"/>
                  <a:pt x="8533" y="14759"/>
                </a:cubicBezTo>
                <a:cubicBezTo>
                  <a:pt x="8549" y="14759"/>
                  <a:pt x="8566" y="14759"/>
                  <a:pt x="8582" y="14759"/>
                </a:cubicBezTo>
              </a:path>
              <a:path w="1737" h="1613">
                <a:moveTo>
                  <a:pt x="8384" y="13841"/>
                </a:moveTo>
                <a:cubicBezTo>
                  <a:pt x="8425" y="13895"/>
                  <a:pt x="8485" y="13952"/>
                  <a:pt x="8533" y="14015"/>
                </a:cubicBezTo>
                <a:cubicBezTo>
                  <a:pt x="8635" y="14148"/>
                  <a:pt x="8756" y="14248"/>
                  <a:pt x="8855" y="14387"/>
                </a:cubicBezTo>
                <a:cubicBezTo>
                  <a:pt x="8934" y="14498"/>
                  <a:pt x="8967" y="14648"/>
                  <a:pt x="8954" y="14784"/>
                </a:cubicBezTo>
                <a:cubicBezTo>
                  <a:pt x="8940" y="14928"/>
                  <a:pt x="8881" y="15097"/>
                  <a:pt x="8830" y="15230"/>
                </a:cubicBezTo>
                <a:cubicBezTo>
                  <a:pt x="8801" y="15305"/>
                  <a:pt x="8764" y="15380"/>
                  <a:pt x="8731" y="154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03880" y="4991040"/>
            <a:ext cx="403200" cy="474840"/>
          </a:xfrm>
          <a:custGeom>
            <a:avLst/>
            <a:gdLst/>
            <a:ahLst/>
            <a:rect l="l" t="t" r="r" b="b"/>
            <a:pathLst>
              <a:path w="1117" h="1315">
                <a:moveTo>
                  <a:pt x="14858" y="14362"/>
                </a:moveTo>
                <a:cubicBezTo>
                  <a:pt x="14817" y="14362"/>
                  <a:pt x="14775" y="14362"/>
                  <a:pt x="14734" y="14362"/>
                </a:cubicBezTo>
                <a:cubicBezTo>
                  <a:pt x="14809" y="14351"/>
                  <a:pt x="14847" y="14316"/>
                  <a:pt x="14932" y="14312"/>
                </a:cubicBezTo>
                <a:cubicBezTo>
                  <a:pt x="14980" y="14310"/>
                  <a:pt x="15011" y="14297"/>
                  <a:pt x="15056" y="14288"/>
                </a:cubicBezTo>
              </a:path>
              <a:path w="1117" h="1315">
                <a:moveTo>
                  <a:pt x="14858" y="14610"/>
                </a:moveTo>
                <a:cubicBezTo>
                  <a:pt x="14898" y="14699"/>
                  <a:pt x="14921" y="14701"/>
                  <a:pt x="15032" y="14684"/>
                </a:cubicBezTo>
                <a:cubicBezTo>
                  <a:pt x="15117" y="14671"/>
                  <a:pt x="15199" y="14637"/>
                  <a:pt x="15280" y="14610"/>
                </a:cubicBezTo>
              </a:path>
              <a:path w="1117" h="1315">
                <a:moveTo>
                  <a:pt x="15801" y="14585"/>
                </a:moveTo>
                <a:cubicBezTo>
                  <a:pt x="15776" y="14585"/>
                  <a:pt x="15768" y="14585"/>
                  <a:pt x="15751" y="14585"/>
                </a:cubicBezTo>
                <a:cubicBezTo>
                  <a:pt x="15764" y="14623"/>
                  <a:pt x="15776" y="14606"/>
                  <a:pt x="15776" y="14660"/>
                </a:cubicBezTo>
              </a:path>
              <a:path w="1117" h="1315">
                <a:moveTo>
                  <a:pt x="15776" y="13866"/>
                </a:moveTo>
                <a:cubicBezTo>
                  <a:pt x="15691" y="13951"/>
                  <a:pt x="15673" y="14024"/>
                  <a:pt x="15627" y="14139"/>
                </a:cubicBezTo>
                <a:cubicBezTo>
                  <a:pt x="15555" y="14321"/>
                  <a:pt x="15473" y="14512"/>
                  <a:pt x="15453" y="14709"/>
                </a:cubicBezTo>
                <a:cubicBezTo>
                  <a:pt x="15439" y="14842"/>
                  <a:pt x="15501" y="15057"/>
                  <a:pt x="15627" y="15131"/>
                </a:cubicBezTo>
                <a:cubicBezTo>
                  <a:pt x="15734" y="15158"/>
                  <a:pt x="15775" y="15168"/>
                  <a:pt x="15850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67280" y="5054760"/>
            <a:ext cx="249480" cy="169560"/>
          </a:xfrm>
          <a:custGeom>
            <a:avLst/>
            <a:gdLst/>
            <a:ahLst/>
            <a:rect l="l" t="t" r="r" b="b"/>
            <a:pathLst>
              <a:path w="695" h="473">
                <a:moveTo>
                  <a:pt x="16346" y="14089"/>
                </a:moveTo>
                <a:cubicBezTo>
                  <a:pt x="16301" y="14190"/>
                  <a:pt x="16297" y="14251"/>
                  <a:pt x="16297" y="14362"/>
                </a:cubicBezTo>
                <a:cubicBezTo>
                  <a:pt x="16297" y="14469"/>
                  <a:pt x="16314" y="14503"/>
                  <a:pt x="16421" y="14511"/>
                </a:cubicBezTo>
                <a:cubicBezTo>
                  <a:pt x="16487" y="14516"/>
                  <a:pt x="16553" y="14447"/>
                  <a:pt x="16570" y="14387"/>
                </a:cubicBezTo>
                <a:cubicBezTo>
                  <a:pt x="16591" y="14313"/>
                  <a:pt x="16554" y="14269"/>
                  <a:pt x="16520" y="14213"/>
                </a:cubicBezTo>
                <a:cubicBezTo>
                  <a:pt x="16493" y="14168"/>
                  <a:pt x="16476" y="14120"/>
                  <a:pt x="16421" y="14114"/>
                </a:cubicBezTo>
                <a:cubicBezTo>
                  <a:pt x="16413" y="14114"/>
                  <a:pt x="16404" y="14114"/>
                  <a:pt x="16396" y="14114"/>
                </a:cubicBezTo>
              </a:path>
              <a:path w="695" h="473">
                <a:moveTo>
                  <a:pt x="16818" y="14064"/>
                </a:moveTo>
                <a:cubicBezTo>
                  <a:pt x="16784" y="13996"/>
                  <a:pt x="16772" y="14145"/>
                  <a:pt x="16768" y="14163"/>
                </a:cubicBezTo>
                <a:cubicBezTo>
                  <a:pt x="16752" y="14229"/>
                  <a:pt x="16706" y="14351"/>
                  <a:pt x="16768" y="14412"/>
                </a:cubicBezTo>
                <a:cubicBezTo>
                  <a:pt x="16812" y="14456"/>
                  <a:pt x="16897" y="14440"/>
                  <a:pt x="16942" y="14412"/>
                </a:cubicBezTo>
                <a:cubicBezTo>
                  <a:pt x="16996" y="14379"/>
                  <a:pt x="16991" y="14316"/>
                  <a:pt x="16991" y="14263"/>
                </a:cubicBezTo>
                <a:cubicBezTo>
                  <a:pt x="16991" y="14210"/>
                  <a:pt x="17012" y="14125"/>
                  <a:pt x="16966" y="14089"/>
                </a:cubicBezTo>
                <a:cubicBezTo>
                  <a:pt x="16932" y="14063"/>
                  <a:pt x="16864" y="14016"/>
                  <a:pt x="16818" y="14039"/>
                </a:cubicBezTo>
                <a:cubicBezTo>
                  <a:pt x="16795" y="14062"/>
                  <a:pt x="16787" y="14066"/>
                  <a:pt x="16793" y="140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03960" y="4973760"/>
            <a:ext cx="277920" cy="241200"/>
          </a:xfrm>
          <a:custGeom>
            <a:avLst/>
            <a:gdLst/>
            <a:ahLst/>
            <a:rect l="l" t="t" r="r" b="b"/>
            <a:pathLst>
              <a:path w="770" h="671">
                <a:moveTo>
                  <a:pt x="17661" y="13891"/>
                </a:moveTo>
                <a:cubicBezTo>
                  <a:pt x="17708" y="13856"/>
                  <a:pt x="17748" y="13866"/>
                  <a:pt x="17810" y="13866"/>
                </a:cubicBezTo>
                <a:cubicBezTo>
                  <a:pt x="17874" y="13866"/>
                  <a:pt x="17918" y="13841"/>
                  <a:pt x="17983" y="13841"/>
                </a:cubicBezTo>
              </a:path>
              <a:path w="770" h="671">
                <a:moveTo>
                  <a:pt x="17760" y="13816"/>
                </a:moveTo>
                <a:cubicBezTo>
                  <a:pt x="17600" y="13911"/>
                  <a:pt x="17616" y="13899"/>
                  <a:pt x="17537" y="14039"/>
                </a:cubicBezTo>
                <a:cubicBezTo>
                  <a:pt x="17501" y="14102"/>
                  <a:pt x="17510" y="14112"/>
                  <a:pt x="17562" y="14163"/>
                </a:cubicBezTo>
                <a:cubicBezTo>
                  <a:pt x="17603" y="14203"/>
                  <a:pt x="17655" y="14188"/>
                  <a:pt x="17711" y="14188"/>
                </a:cubicBezTo>
                <a:cubicBezTo>
                  <a:pt x="17754" y="14188"/>
                  <a:pt x="17806" y="14204"/>
                  <a:pt x="17810" y="14238"/>
                </a:cubicBezTo>
                <a:cubicBezTo>
                  <a:pt x="17817" y="14294"/>
                  <a:pt x="17781" y="14329"/>
                  <a:pt x="17735" y="14362"/>
                </a:cubicBezTo>
                <a:cubicBezTo>
                  <a:pt x="17676" y="14404"/>
                  <a:pt x="17601" y="14451"/>
                  <a:pt x="17537" y="14461"/>
                </a:cubicBezTo>
                <a:cubicBezTo>
                  <a:pt x="17529" y="14461"/>
                  <a:pt x="17520" y="14461"/>
                  <a:pt x="17512" y="14461"/>
                </a:cubicBezTo>
              </a:path>
              <a:path w="770" h="671">
                <a:moveTo>
                  <a:pt x="17983" y="14015"/>
                </a:moveTo>
                <a:cubicBezTo>
                  <a:pt x="18035" y="14092"/>
                  <a:pt x="18025" y="14060"/>
                  <a:pt x="18107" y="14039"/>
                </a:cubicBezTo>
                <a:cubicBezTo>
                  <a:pt x="18152" y="14028"/>
                  <a:pt x="18189" y="13995"/>
                  <a:pt x="18231" y="13990"/>
                </a:cubicBezTo>
                <a:cubicBezTo>
                  <a:pt x="18256" y="13990"/>
                  <a:pt x="18264" y="13990"/>
                  <a:pt x="18281" y="13990"/>
                </a:cubicBezTo>
                <a:cubicBezTo>
                  <a:pt x="18281" y="14064"/>
                  <a:pt x="18279" y="14119"/>
                  <a:pt x="18256" y="14188"/>
                </a:cubicBezTo>
                <a:cubicBezTo>
                  <a:pt x="18228" y="14270"/>
                  <a:pt x="18189" y="14352"/>
                  <a:pt x="18182" y="14436"/>
                </a:cubicBezTo>
                <a:cubicBezTo>
                  <a:pt x="18182" y="14461"/>
                  <a:pt x="18182" y="14469"/>
                  <a:pt x="18182" y="144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5054760"/>
            <a:ext cx="36360" cy="152280"/>
          </a:xfrm>
          <a:custGeom>
            <a:avLst/>
            <a:gdLst/>
            <a:ahLst/>
            <a:rect l="l" t="t" r="r" b="b"/>
            <a:pathLst>
              <a:path w="101" h="423">
                <a:moveTo>
                  <a:pt x="18728" y="14039"/>
                </a:moveTo>
                <a:cubicBezTo>
                  <a:pt x="18693" y="14085"/>
                  <a:pt x="18693" y="14107"/>
                  <a:pt x="18678" y="14163"/>
                </a:cubicBezTo>
                <a:cubicBezTo>
                  <a:pt x="18654" y="14250"/>
                  <a:pt x="18628" y="14296"/>
                  <a:pt x="18628" y="14387"/>
                </a:cubicBezTo>
                <a:cubicBezTo>
                  <a:pt x="18628" y="14412"/>
                  <a:pt x="18628" y="14436"/>
                  <a:pt x="18628" y="144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67360" y="4732200"/>
            <a:ext cx="509760" cy="617760"/>
          </a:xfrm>
          <a:custGeom>
            <a:avLst/>
            <a:gdLst/>
            <a:ahLst/>
            <a:rect l="l" t="t" r="r" b="b"/>
            <a:pathLst>
              <a:path w="1415" h="1713">
                <a:moveTo>
                  <a:pt x="19075" y="14039"/>
                </a:moveTo>
                <a:cubicBezTo>
                  <a:pt x="19120" y="14039"/>
                  <a:pt x="19134" y="14019"/>
                  <a:pt x="19174" y="14015"/>
                </a:cubicBezTo>
                <a:cubicBezTo>
                  <a:pt x="19218" y="14010"/>
                  <a:pt x="19161" y="14027"/>
                  <a:pt x="19149" y="14064"/>
                </a:cubicBezTo>
                <a:cubicBezTo>
                  <a:pt x="19126" y="14133"/>
                  <a:pt x="19100" y="14187"/>
                  <a:pt x="19100" y="14263"/>
                </a:cubicBezTo>
                <a:cubicBezTo>
                  <a:pt x="19100" y="14326"/>
                  <a:pt x="19152" y="14312"/>
                  <a:pt x="19199" y="14312"/>
                </a:cubicBezTo>
                <a:cubicBezTo>
                  <a:pt x="19272" y="14312"/>
                  <a:pt x="19327" y="14293"/>
                  <a:pt x="19397" y="14288"/>
                </a:cubicBezTo>
                <a:cubicBezTo>
                  <a:pt x="19441" y="14285"/>
                  <a:pt x="19457" y="14273"/>
                  <a:pt x="19496" y="14263"/>
                </a:cubicBezTo>
              </a:path>
              <a:path w="1415" h="1713">
                <a:moveTo>
                  <a:pt x="19571" y="14039"/>
                </a:moveTo>
                <a:cubicBezTo>
                  <a:pt x="19535" y="14075"/>
                  <a:pt x="19484" y="14111"/>
                  <a:pt x="19472" y="14163"/>
                </a:cubicBezTo>
                <a:cubicBezTo>
                  <a:pt x="19453" y="14246"/>
                  <a:pt x="19447" y="14327"/>
                  <a:pt x="19422" y="14412"/>
                </a:cubicBezTo>
                <a:cubicBezTo>
                  <a:pt x="19398" y="14491"/>
                  <a:pt x="19397" y="14554"/>
                  <a:pt x="19397" y="14635"/>
                </a:cubicBezTo>
              </a:path>
              <a:path w="1415" h="1713">
                <a:moveTo>
                  <a:pt x="19918" y="13717"/>
                </a:moveTo>
                <a:cubicBezTo>
                  <a:pt x="19968" y="13742"/>
                  <a:pt x="20023" y="13854"/>
                  <a:pt x="20042" y="13915"/>
                </a:cubicBezTo>
                <a:cubicBezTo>
                  <a:pt x="20092" y="14079"/>
                  <a:pt x="20113" y="14266"/>
                  <a:pt x="20117" y="14436"/>
                </a:cubicBezTo>
                <a:cubicBezTo>
                  <a:pt x="20120" y="14554"/>
                  <a:pt x="20083" y="14674"/>
                  <a:pt x="19993" y="14759"/>
                </a:cubicBezTo>
                <a:cubicBezTo>
                  <a:pt x="19918" y="14808"/>
                  <a:pt x="19893" y="14824"/>
                  <a:pt x="19844" y="14858"/>
                </a:cubicBezTo>
              </a:path>
              <a:path w="1415" h="1713">
                <a:moveTo>
                  <a:pt x="20166" y="13171"/>
                </a:moveTo>
                <a:cubicBezTo>
                  <a:pt x="20203" y="13155"/>
                  <a:pt x="20271" y="13124"/>
                  <a:pt x="20315" y="13146"/>
                </a:cubicBezTo>
                <a:cubicBezTo>
                  <a:pt x="20369" y="13173"/>
                  <a:pt x="20365" y="13220"/>
                  <a:pt x="20365" y="13271"/>
                </a:cubicBezTo>
                <a:cubicBezTo>
                  <a:pt x="20365" y="13311"/>
                  <a:pt x="20359" y="13351"/>
                  <a:pt x="20315" y="13370"/>
                </a:cubicBezTo>
                <a:cubicBezTo>
                  <a:pt x="20290" y="13370"/>
                  <a:pt x="20282" y="13370"/>
                  <a:pt x="20290" y="13395"/>
                </a:cubicBezTo>
                <a:cubicBezTo>
                  <a:pt x="20339" y="13395"/>
                  <a:pt x="20376" y="13412"/>
                  <a:pt x="20414" y="13419"/>
                </a:cubicBezTo>
                <a:cubicBezTo>
                  <a:pt x="20465" y="13429"/>
                  <a:pt x="20522" y="13441"/>
                  <a:pt x="20489" y="13519"/>
                </a:cubicBezTo>
                <a:cubicBezTo>
                  <a:pt x="20462" y="13583"/>
                  <a:pt x="20400" y="13634"/>
                  <a:pt x="20340" y="13667"/>
                </a:cubicBezTo>
                <a:cubicBezTo>
                  <a:pt x="20267" y="13707"/>
                  <a:pt x="20279" y="13742"/>
                  <a:pt x="20191" y="137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10080" y="5786280"/>
            <a:ext cx="258840" cy="142920"/>
          </a:xfrm>
          <a:custGeom>
            <a:avLst/>
            <a:gdLst/>
            <a:ahLst/>
            <a:rect l="l" t="t" r="r" b="b"/>
            <a:pathLst>
              <a:path w="721" h="398">
                <a:moveTo>
                  <a:pt x="12526" y="16321"/>
                </a:moveTo>
                <a:cubicBezTo>
                  <a:pt x="12544" y="16376"/>
                  <a:pt x="12600" y="16338"/>
                  <a:pt x="12650" y="16321"/>
                </a:cubicBezTo>
                <a:cubicBezTo>
                  <a:pt x="12713" y="16300"/>
                  <a:pt x="12765" y="16277"/>
                  <a:pt x="12824" y="16247"/>
                </a:cubicBezTo>
              </a:path>
              <a:path w="721" h="398">
                <a:moveTo>
                  <a:pt x="12774" y="16148"/>
                </a:moveTo>
                <a:cubicBezTo>
                  <a:pt x="12737" y="16217"/>
                  <a:pt x="12701" y="16286"/>
                  <a:pt x="12725" y="16371"/>
                </a:cubicBezTo>
                <a:cubicBezTo>
                  <a:pt x="12738" y="16416"/>
                  <a:pt x="12768" y="16440"/>
                  <a:pt x="12799" y="16470"/>
                </a:cubicBezTo>
              </a:path>
              <a:path w="721" h="398">
                <a:moveTo>
                  <a:pt x="13072" y="16123"/>
                </a:moveTo>
                <a:cubicBezTo>
                  <a:pt x="13122" y="16094"/>
                  <a:pt x="13141" y="16073"/>
                  <a:pt x="13196" y="16073"/>
                </a:cubicBezTo>
                <a:cubicBezTo>
                  <a:pt x="13204" y="16073"/>
                  <a:pt x="13213" y="16073"/>
                  <a:pt x="13221" y="16073"/>
                </a:cubicBezTo>
                <a:cubicBezTo>
                  <a:pt x="13221" y="16126"/>
                  <a:pt x="13209" y="16135"/>
                  <a:pt x="13171" y="16173"/>
                </a:cubicBezTo>
                <a:cubicBezTo>
                  <a:pt x="13146" y="16197"/>
                  <a:pt x="13138" y="16205"/>
                  <a:pt x="13122" y="16222"/>
                </a:cubicBezTo>
                <a:cubicBezTo>
                  <a:pt x="13177" y="16264"/>
                  <a:pt x="13168" y="16240"/>
                  <a:pt x="13221" y="16222"/>
                </a:cubicBezTo>
                <a:cubicBezTo>
                  <a:pt x="13229" y="16222"/>
                  <a:pt x="13238" y="16222"/>
                  <a:pt x="13246" y="16222"/>
                </a:cubicBezTo>
                <a:cubicBezTo>
                  <a:pt x="13246" y="16268"/>
                  <a:pt x="13239" y="16294"/>
                  <a:pt x="13196" y="16321"/>
                </a:cubicBezTo>
                <a:cubicBezTo>
                  <a:pt x="13160" y="16344"/>
                  <a:pt x="13072" y="16388"/>
                  <a:pt x="13047" y="16421"/>
                </a:cubicBezTo>
                <a:cubicBezTo>
                  <a:pt x="13047" y="16429"/>
                  <a:pt x="13047" y="16438"/>
                  <a:pt x="13047" y="164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05160" y="5911920"/>
            <a:ext cx="322560" cy="374760"/>
          </a:xfrm>
          <a:custGeom>
            <a:avLst/>
            <a:gdLst/>
            <a:ahLst/>
            <a:rect l="l" t="t" r="r" b="b"/>
            <a:pathLst>
              <a:path w="894" h="1042">
                <a:moveTo>
                  <a:pt x="12080" y="16545"/>
                </a:moveTo>
                <a:cubicBezTo>
                  <a:pt x="12106" y="16502"/>
                  <a:pt x="12099" y="16496"/>
                  <a:pt x="12105" y="16446"/>
                </a:cubicBezTo>
                <a:cubicBezTo>
                  <a:pt x="12048" y="16435"/>
                  <a:pt x="12026" y="16389"/>
                  <a:pt x="11956" y="16446"/>
                </a:cubicBezTo>
                <a:cubicBezTo>
                  <a:pt x="11829" y="16548"/>
                  <a:pt x="11748" y="16739"/>
                  <a:pt x="11708" y="16892"/>
                </a:cubicBezTo>
                <a:cubicBezTo>
                  <a:pt x="11665" y="17060"/>
                  <a:pt x="11652" y="17238"/>
                  <a:pt x="11782" y="17363"/>
                </a:cubicBezTo>
                <a:cubicBezTo>
                  <a:pt x="11898" y="17474"/>
                  <a:pt x="12058" y="17393"/>
                  <a:pt x="12179" y="17338"/>
                </a:cubicBezTo>
                <a:cubicBezTo>
                  <a:pt x="12267" y="17298"/>
                  <a:pt x="12398" y="17218"/>
                  <a:pt x="12427" y="17115"/>
                </a:cubicBezTo>
                <a:cubicBezTo>
                  <a:pt x="12427" y="17099"/>
                  <a:pt x="12427" y="17082"/>
                  <a:pt x="12427" y="17066"/>
                </a:cubicBezTo>
                <a:cubicBezTo>
                  <a:pt x="12350" y="17121"/>
                  <a:pt x="12285" y="17218"/>
                  <a:pt x="12254" y="17314"/>
                </a:cubicBezTo>
                <a:cubicBezTo>
                  <a:pt x="12221" y="17418"/>
                  <a:pt x="12330" y="17457"/>
                  <a:pt x="12402" y="17462"/>
                </a:cubicBezTo>
                <a:cubicBezTo>
                  <a:pt x="12486" y="17462"/>
                  <a:pt x="12520" y="17460"/>
                  <a:pt x="12576" y="174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86200" y="6037200"/>
            <a:ext cx="18756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13295" y="16991"/>
                </a:moveTo>
                <a:cubicBezTo>
                  <a:pt x="13311" y="17038"/>
                  <a:pt x="13389" y="17016"/>
                  <a:pt x="13444" y="17016"/>
                </a:cubicBezTo>
                <a:cubicBezTo>
                  <a:pt x="13581" y="17016"/>
                  <a:pt x="13685" y="17007"/>
                  <a:pt x="13816" y="16966"/>
                </a:cubicBezTo>
              </a:path>
              <a:path w="522" h="596">
                <a:moveTo>
                  <a:pt x="13643" y="16768"/>
                </a:moveTo>
                <a:cubicBezTo>
                  <a:pt x="13643" y="16868"/>
                  <a:pt x="13667" y="16944"/>
                  <a:pt x="13692" y="17041"/>
                </a:cubicBezTo>
                <a:cubicBezTo>
                  <a:pt x="13720" y="17149"/>
                  <a:pt x="13733" y="17261"/>
                  <a:pt x="13767" y="173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68960" y="6000840"/>
            <a:ext cx="98280" cy="285840"/>
          </a:xfrm>
          <a:custGeom>
            <a:avLst/>
            <a:gdLst/>
            <a:ahLst/>
            <a:rect l="l" t="t" r="r" b="b"/>
            <a:pathLst>
              <a:path w="274" h="794">
                <a:moveTo>
                  <a:pt x="14635" y="16669"/>
                </a:moveTo>
                <a:cubicBezTo>
                  <a:pt x="14687" y="16677"/>
                  <a:pt x="14719" y="16683"/>
                  <a:pt x="14759" y="16718"/>
                </a:cubicBezTo>
                <a:cubicBezTo>
                  <a:pt x="14784" y="16740"/>
                  <a:pt x="14806" y="16771"/>
                  <a:pt x="14808" y="16793"/>
                </a:cubicBezTo>
                <a:cubicBezTo>
                  <a:pt x="14813" y="16865"/>
                  <a:pt x="14779" y="16831"/>
                  <a:pt x="14759" y="16892"/>
                </a:cubicBezTo>
                <a:cubicBezTo>
                  <a:pt x="14742" y="16943"/>
                  <a:pt x="14778" y="16940"/>
                  <a:pt x="14808" y="16966"/>
                </a:cubicBezTo>
                <a:cubicBezTo>
                  <a:pt x="14858" y="17010"/>
                  <a:pt x="14894" y="17046"/>
                  <a:pt x="14908" y="17115"/>
                </a:cubicBezTo>
                <a:cubicBezTo>
                  <a:pt x="14924" y="17194"/>
                  <a:pt x="14807" y="17329"/>
                  <a:pt x="14759" y="17388"/>
                </a:cubicBezTo>
                <a:cubicBezTo>
                  <a:pt x="14719" y="17437"/>
                  <a:pt x="14692" y="17451"/>
                  <a:pt x="14635" y="174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62720" y="5965920"/>
            <a:ext cx="903240" cy="419040"/>
          </a:xfrm>
          <a:custGeom>
            <a:avLst/>
            <a:gdLst/>
            <a:ahLst/>
            <a:rect l="l" t="t" r="r" b="b"/>
            <a:pathLst>
              <a:path w="2507" h="1166">
                <a:moveTo>
                  <a:pt x="15726" y="16818"/>
                </a:moveTo>
                <a:cubicBezTo>
                  <a:pt x="15743" y="16810"/>
                  <a:pt x="15759" y="16801"/>
                  <a:pt x="15776" y="16793"/>
                </a:cubicBezTo>
                <a:cubicBezTo>
                  <a:pt x="15806" y="16873"/>
                  <a:pt x="15819" y="16979"/>
                  <a:pt x="15825" y="17066"/>
                </a:cubicBezTo>
                <a:cubicBezTo>
                  <a:pt x="15834" y="17192"/>
                  <a:pt x="15801" y="17312"/>
                  <a:pt x="15801" y="17438"/>
                </a:cubicBezTo>
                <a:cubicBezTo>
                  <a:pt x="15801" y="17454"/>
                  <a:pt x="15801" y="17471"/>
                  <a:pt x="15801" y="17487"/>
                </a:cubicBezTo>
              </a:path>
              <a:path w="2507" h="1166">
                <a:moveTo>
                  <a:pt x="15553" y="16768"/>
                </a:moveTo>
                <a:cubicBezTo>
                  <a:pt x="15545" y="16760"/>
                  <a:pt x="15536" y="16751"/>
                  <a:pt x="15528" y="16743"/>
                </a:cubicBezTo>
                <a:cubicBezTo>
                  <a:pt x="15624" y="16743"/>
                  <a:pt x="15707" y="16712"/>
                  <a:pt x="15801" y="16694"/>
                </a:cubicBezTo>
                <a:cubicBezTo>
                  <a:pt x="15943" y="16666"/>
                  <a:pt x="16061" y="16642"/>
                  <a:pt x="16197" y="16594"/>
                </a:cubicBezTo>
              </a:path>
              <a:path w="2507" h="1166">
                <a:moveTo>
                  <a:pt x="15528" y="17438"/>
                </a:moveTo>
                <a:cubicBezTo>
                  <a:pt x="15473" y="17511"/>
                  <a:pt x="15415" y="17544"/>
                  <a:pt x="15478" y="17537"/>
                </a:cubicBezTo>
                <a:cubicBezTo>
                  <a:pt x="15569" y="17519"/>
                  <a:pt x="15657" y="17487"/>
                  <a:pt x="15751" y="17462"/>
                </a:cubicBezTo>
              </a:path>
              <a:path w="2507" h="1166">
                <a:moveTo>
                  <a:pt x="16520" y="17140"/>
                </a:moveTo>
                <a:cubicBezTo>
                  <a:pt x="16479" y="17231"/>
                  <a:pt x="16412" y="17309"/>
                  <a:pt x="16396" y="17413"/>
                </a:cubicBezTo>
                <a:cubicBezTo>
                  <a:pt x="16383" y="17499"/>
                  <a:pt x="16450" y="17570"/>
                  <a:pt x="16545" y="17537"/>
                </a:cubicBezTo>
                <a:cubicBezTo>
                  <a:pt x="16632" y="17507"/>
                  <a:pt x="16780" y="17399"/>
                  <a:pt x="16818" y="17314"/>
                </a:cubicBezTo>
                <a:cubicBezTo>
                  <a:pt x="16865" y="17209"/>
                  <a:pt x="16889" y="17073"/>
                  <a:pt x="16842" y="16966"/>
                </a:cubicBezTo>
                <a:cubicBezTo>
                  <a:pt x="16796" y="16862"/>
                  <a:pt x="16671" y="16938"/>
                  <a:pt x="16619" y="16966"/>
                </a:cubicBezTo>
                <a:cubicBezTo>
                  <a:pt x="16603" y="16974"/>
                  <a:pt x="16586" y="16983"/>
                  <a:pt x="16570" y="16991"/>
                </a:cubicBezTo>
              </a:path>
              <a:path w="2507" h="1166">
                <a:moveTo>
                  <a:pt x="17041" y="17388"/>
                </a:moveTo>
                <a:cubicBezTo>
                  <a:pt x="17016" y="17388"/>
                  <a:pt x="17008" y="17388"/>
                  <a:pt x="17016" y="17363"/>
                </a:cubicBezTo>
                <a:cubicBezTo>
                  <a:pt x="17080" y="17363"/>
                  <a:pt x="17278" y="17330"/>
                  <a:pt x="17314" y="17388"/>
                </a:cubicBezTo>
                <a:cubicBezTo>
                  <a:pt x="17348" y="17442"/>
                  <a:pt x="17264" y="17468"/>
                  <a:pt x="17239" y="17487"/>
                </a:cubicBezTo>
                <a:cubicBezTo>
                  <a:pt x="17202" y="17515"/>
                  <a:pt x="17068" y="17537"/>
                  <a:pt x="17115" y="17537"/>
                </a:cubicBezTo>
                <a:cubicBezTo>
                  <a:pt x="17173" y="17537"/>
                  <a:pt x="17231" y="17537"/>
                  <a:pt x="17289" y="17537"/>
                </a:cubicBezTo>
                <a:cubicBezTo>
                  <a:pt x="17289" y="17587"/>
                  <a:pt x="17298" y="17622"/>
                  <a:pt x="17264" y="17661"/>
                </a:cubicBezTo>
                <a:cubicBezTo>
                  <a:pt x="17207" y="17727"/>
                  <a:pt x="17170" y="17735"/>
                  <a:pt x="17090" y="17735"/>
                </a:cubicBezTo>
              </a:path>
              <a:path w="2507" h="1166">
                <a:moveTo>
                  <a:pt x="17562" y="16619"/>
                </a:moveTo>
                <a:cubicBezTo>
                  <a:pt x="17590" y="16677"/>
                  <a:pt x="17664" y="16683"/>
                  <a:pt x="17735" y="16669"/>
                </a:cubicBezTo>
                <a:cubicBezTo>
                  <a:pt x="17820" y="16653"/>
                  <a:pt x="17886" y="16612"/>
                  <a:pt x="17959" y="165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32720" y="2554200"/>
            <a:ext cx="384120" cy="490680"/>
          </a:xfrm>
          <a:custGeom>
            <a:avLst/>
            <a:gdLst/>
            <a:ahLst/>
            <a:rect l="l" t="t" r="r" b="b"/>
            <a:pathLst>
              <a:path w="1067" h="1365">
                <a:moveTo>
                  <a:pt x="19521" y="7317"/>
                </a:moveTo>
                <a:cubicBezTo>
                  <a:pt x="19458" y="7245"/>
                  <a:pt x="19429" y="7218"/>
                  <a:pt x="19348" y="7169"/>
                </a:cubicBezTo>
                <a:cubicBezTo>
                  <a:pt x="19286" y="7131"/>
                  <a:pt x="19250" y="7098"/>
                  <a:pt x="19174" y="7094"/>
                </a:cubicBezTo>
                <a:cubicBezTo>
                  <a:pt x="19076" y="7089"/>
                  <a:pt x="18971" y="7241"/>
                  <a:pt x="18926" y="7317"/>
                </a:cubicBezTo>
                <a:cubicBezTo>
                  <a:pt x="18819" y="7496"/>
                  <a:pt x="18731" y="7756"/>
                  <a:pt x="18703" y="7962"/>
                </a:cubicBezTo>
                <a:cubicBezTo>
                  <a:pt x="18683" y="8108"/>
                  <a:pt x="18674" y="8311"/>
                  <a:pt x="18802" y="8409"/>
                </a:cubicBezTo>
                <a:cubicBezTo>
                  <a:pt x="18962" y="8532"/>
                  <a:pt x="19170" y="8430"/>
                  <a:pt x="19323" y="8359"/>
                </a:cubicBezTo>
                <a:cubicBezTo>
                  <a:pt x="19521" y="8268"/>
                  <a:pt x="19675" y="8152"/>
                  <a:pt x="19745" y="7938"/>
                </a:cubicBezTo>
                <a:cubicBezTo>
                  <a:pt x="19791" y="7799"/>
                  <a:pt x="19785" y="7576"/>
                  <a:pt x="19670" y="7466"/>
                </a:cubicBezTo>
                <a:cubicBezTo>
                  <a:pt x="19586" y="7386"/>
                  <a:pt x="19437" y="7344"/>
                  <a:pt x="19323" y="7367"/>
                </a:cubicBezTo>
                <a:cubicBezTo>
                  <a:pt x="19306" y="7375"/>
                  <a:pt x="19290" y="7384"/>
                  <a:pt x="19273" y="73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88120" y="5803920"/>
            <a:ext cx="27000" cy="19080"/>
          </a:xfrm>
          <a:custGeom>
            <a:avLst/>
            <a:gdLst/>
            <a:ahLst/>
            <a:rect l="l" t="t" r="r" b="b"/>
            <a:pathLst>
              <a:path w="75" h="51">
                <a:moveTo>
                  <a:pt x="20017" y="16173"/>
                </a:moveTo>
                <a:cubicBezTo>
                  <a:pt x="20000" y="16119"/>
                  <a:pt x="20000" y="16177"/>
                  <a:pt x="20017" y="16123"/>
                </a:cubicBezTo>
                <a:cubicBezTo>
                  <a:pt x="19981" y="16151"/>
                  <a:pt x="19979" y="16140"/>
                  <a:pt x="19968" y="16173"/>
                </a:cubicBezTo>
                <a:cubicBezTo>
                  <a:pt x="20016" y="16161"/>
                  <a:pt x="20025" y="16113"/>
                  <a:pt x="20042" y="161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375680" y="5680080"/>
            <a:ext cx="974520" cy="160200"/>
          </a:xfrm>
          <a:custGeom>
            <a:avLst/>
            <a:gdLst/>
            <a:ahLst/>
            <a:rect l="l" t="t" r="r" b="b"/>
            <a:pathLst>
              <a:path w="2704" h="447">
                <a:moveTo>
                  <a:pt x="20638" y="15949"/>
                </a:moveTo>
                <a:cubicBezTo>
                  <a:pt x="20585" y="15949"/>
                  <a:pt x="20576" y="15961"/>
                  <a:pt x="20538" y="15999"/>
                </a:cubicBezTo>
                <a:cubicBezTo>
                  <a:pt x="20504" y="16033"/>
                  <a:pt x="20465" y="16097"/>
                  <a:pt x="20489" y="16148"/>
                </a:cubicBezTo>
                <a:cubicBezTo>
                  <a:pt x="20517" y="16206"/>
                  <a:pt x="20584" y="16218"/>
                  <a:pt x="20638" y="16222"/>
                </a:cubicBezTo>
                <a:cubicBezTo>
                  <a:pt x="20670" y="16225"/>
                  <a:pt x="20743" y="16201"/>
                  <a:pt x="20762" y="16173"/>
                </a:cubicBezTo>
                <a:cubicBezTo>
                  <a:pt x="20806" y="16109"/>
                  <a:pt x="20811" y="16076"/>
                  <a:pt x="20811" y="15999"/>
                </a:cubicBezTo>
                <a:cubicBezTo>
                  <a:pt x="20811" y="15956"/>
                  <a:pt x="20766" y="15929"/>
                  <a:pt x="20737" y="15900"/>
                </a:cubicBezTo>
              </a:path>
              <a:path w="2704" h="447">
                <a:moveTo>
                  <a:pt x="21109" y="15974"/>
                </a:moveTo>
                <a:cubicBezTo>
                  <a:pt x="21078" y="16005"/>
                  <a:pt x="21039" y="16030"/>
                  <a:pt x="21034" y="16073"/>
                </a:cubicBezTo>
                <a:cubicBezTo>
                  <a:pt x="21029" y="16121"/>
                  <a:pt x="21092" y="16170"/>
                  <a:pt x="21134" y="16173"/>
                </a:cubicBezTo>
                <a:cubicBezTo>
                  <a:pt x="21168" y="16175"/>
                  <a:pt x="21239" y="16187"/>
                  <a:pt x="21258" y="16148"/>
                </a:cubicBezTo>
                <a:cubicBezTo>
                  <a:pt x="21282" y="16099"/>
                  <a:pt x="21244" y="16041"/>
                  <a:pt x="21233" y="15999"/>
                </a:cubicBezTo>
                <a:cubicBezTo>
                  <a:pt x="21224" y="15962"/>
                  <a:pt x="21213" y="15954"/>
                  <a:pt x="21183" y="15925"/>
                </a:cubicBezTo>
              </a:path>
              <a:path w="2704" h="447">
                <a:moveTo>
                  <a:pt x="21481" y="15850"/>
                </a:moveTo>
                <a:cubicBezTo>
                  <a:pt x="21481" y="15842"/>
                  <a:pt x="21481" y="15833"/>
                  <a:pt x="21481" y="15825"/>
                </a:cubicBezTo>
                <a:cubicBezTo>
                  <a:pt x="21518" y="15834"/>
                  <a:pt x="21551" y="15848"/>
                  <a:pt x="21580" y="15875"/>
                </a:cubicBezTo>
                <a:cubicBezTo>
                  <a:pt x="21627" y="15919"/>
                  <a:pt x="21674" y="15957"/>
                  <a:pt x="21679" y="16024"/>
                </a:cubicBezTo>
                <a:cubicBezTo>
                  <a:pt x="21685" y="16107"/>
                  <a:pt x="21620" y="16115"/>
                  <a:pt x="21555" y="16148"/>
                </a:cubicBezTo>
                <a:cubicBezTo>
                  <a:pt x="21507" y="16172"/>
                  <a:pt x="21448" y="16199"/>
                  <a:pt x="21431" y="16148"/>
                </a:cubicBezTo>
              </a:path>
              <a:path w="2704" h="447">
                <a:moveTo>
                  <a:pt x="21555" y="16049"/>
                </a:moveTo>
                <a:cubicBezTo>
                  <a:pt x="21613" y="16072"/>
                  <a:pt x="21661" y="16085"/>
                  <a:pt x="21704" y="16123"/>
                </a:cubicBezTo>
                <a:cubicBezTo>
                  <a:pt x="21712" y="16131"/>
                  <a:pt x="21721" y="16140"/>
                  <a:pt x="21729" y="16148"/>
                </a:cubicBezTo>
              </a:path>
              <a:path w="2704" h="447">
                <a:moveTo>
                  <a:pt x="22200" y="15801"/>
                </a:moveTo>
                <a:cubicBezTo>
                  <a:pt x="22130" y="15774"/>
                  <a:pt x="22078" y="15776"/>
                  <a:pt x="22002" y="15776"/>
                </a:cubicBezTo>
                <a:cubicBezTo>
                  <a:pt x="21949" y="15776"/>
                  <a:pt x="21910" y="15763"/>
                  <a:pt x="21903" y="15825"/>
                </a:cubicBezTo>
                <a:cubicBezTo>
                  <a:pt x="21898" y="15873"/>
                  <a:pt x="21967" y="15904"/>
                  <a:pt x="22002" y="15925"/>
                </a:cubicBezTo>
                <a:cubicBezTo>
                  <a:pt x="22067" y="15964"/>
                  <a:pt x="22124" y="15970"/>
                  <a:pt x="22151" y="16049"/>
                </a:cubicBezTo>
                <a:cubicBezTo>
                  <a:pt x="22164" y="16086"/>
                  <a:pt x="22135" y="16133"/>
                  <a:pt x="22101" y="16148"/>
                </a:cubicBezTo>
                <a:cubicBezTo>
                  <a:pt x="22079" y="16158"/>
                  <a:pt x="22027" y="16148"/>
                  <a:pt x="22002" y="16148"/>
                </a:cubicBezTo>
                <a:cubicBezTo>
                  <a:pt x="22002" y="16106"/>
                  <a:pt x="22017" y="16053"/>
                  <a:pt x="22051" y="16024"/>
                </a:cubicBezTo>
                <a:cubicBezTo>
                  <a:pt x="22095" y="15987"/>
                  <a:pt x="22168" y="15930"/>
                  <a:pt x="22225" y="15925"/>
                </a:cubicBezTo>
                <a:cubicBezTo>
                  <a:pt x="22233" y="15925"/>
                  <a:pt x="22242" y="15925"/>
                  <a:pt x="22250" y="15925"/>
                </a:cubicBezTo>
              </a:path>
              <a:path w="2704" h="447">
                <a:moveTo>
                  <a:pt x="22473" y="15825"/>
                </a:moveTo>
                <a:cubicBezTo>
                  <a:pt x="22545" y="15825"/>
                  <a:pt x="22601" y="15811"/>
                  <a:pt x="22671" y="15801"/>
                </a:cubicBezTo>
                <a:cubicBezTo>
                  <a:pt x="22708" y="15796"/>
                  <a:pt x="22759" y="15801"/>
                  <a:pt x="22796" y="15801"/>
                </a:cubicBezTo>
              </a:path>
              <a:path w="2704" h="447">
                <a:moveTo>
                  <a:pt x="22448" y="15850"/>
                </a:moveTo>
                <a:cubicBezTo>
                  <a:pt x="22379" y="15882"/>
                  <a:pt x="22338" y="15882"/>
                  <a:pt x="22324" y="15925"/>
                </a:cubicBezTo>
                <a:cubicBezTo>
                  <a:pt x="22377" y="15925"/>
                  <a:pt x="22450" y="15935"/>
                  <a:pt x="22498" y="15949"/>
                </a:cubicBezTo>
                <a:cubicBezTo>
                  <a:pt x="22535" y="15960"/>
                  <a:pt x="22604" y="15983"/>
                  <a:pt x="22622" y="16024"/>
                </a:cubicBezTo>
                <a:cubicBezTo>
                  <a:pt x="22622" y="16032"/>
                  <a:pt x="22622" y="16041"/>
                  <a:pt x="22622" y="16049"/>
                </a:cubicBezTo>
                <a:cubicBezTo>
                  <a:pt x="22563" y="16090"/>
                  <a:pt x="22538" y="16135"/>
                  <a:pt x="22473" y="16173"/>
                </a:cubicBezTo>
              </a:path>
              <a:path w="2704" h="447">
                <a:moveTo>
                  <a:pt x="22895" y="15825"/>
                </a:moveTo>
                <a:cubicBezTo>
                  <a:pt x="22994" y="15825"/>
                  <a:pt x="23093" y="15825"/>
                  <a:pt x="23192" y="15825"/>
                </a:cubicBezTo>
                <a:cubicBezTo>
                  <a:pt x="23192" y="15867"/>
                  <a:pt x="23178" y="15919"/>
                  <a:pt x="23143" y="15949"/>
                </a:cubicBezTo>
                <a:cubicBezTo>
                  <a:pt x="23101" y="15985"/>
                  <a:pt x="23035" y="16038"/>
                  <a:pt x="23019" y="16098"/>
                </a:cubicBezTo>
                <a:cubicBezTo>
                  <a:pt x="23019" y="16140"/>
                  <a:pt x="23019" y="16148"/>
                  <a:pt x="23019" y="161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456760" y="5776920"/>
            <a:ext cx="115920" cy="9360"/>
          </a:xfrm>
          <a:custGeom>
            <a:avLst/>
            <a:gdLst/>
            <a:ahLst/>
            <a:rect l="l" t="t" r="r" b="b"/>
            <a:pathLst>
              <a:path w="323" h="25">
                <a:moveTo>
                  <a:pt x="23490" y="16049"/>
                </a:moveTo>
                <a:cubicBezTo>
                  <a:pt x="23573" y="16049"/>
                  <a:pt x="23635" y="16054"/>
                  <a:pt x="23713" y="16073"/>
                </a:cubicBezTo>
                <a:cubicBezTo>
                  <a:pt x="23743" y="16080"/>
                  <a:pt x="23781" y="16073"/>
                  <a:pt x="23812" y="160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04000" y="6000840"/>
            <a:ext cx="250920" cy="9360"/>
          </a:xfrm>
          <a:custGeom>
            <a:avLst/>
            <a:gdLst/>
            <a:ahLst/>
            <a:rect l="l" t="t" r="r" b="b"/>
            <a:pathLst>
              <a:path w="696" h="26">
                <a:moveTo>
                  <a:pt x="18901" y="16669"/>
                </a:moveTo>
                <a:cubicBezTo>
                  <a:pt x="19102" y="16669"/>
                  <a:pt x="19300" y="16667"/>
                  <a:pt x="19496" y="16694"/>
                </a:cubicBezTo>
                <a:cubicBezTo>
                  <a:pt x="19546" y="16694"/>
                  <a:pt x="19563" y="16694"/>
                  <a:pt x="19596" y="166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50040" y="5973840"/>
            <a:ext cx="787320" cy="125280"/>
          </a:xfrm>
          <a:custGeom>
            <a:avLst/>
            <a:gdLst/>
            <a:ahLst/>
            <a:rect l="l" t="t" r="r" b="b"/>
            <a:pathLst>
              <a:path w="2184" h="349">
                <a:moveTo>
                  <a:pt x="20141" y="16818"/>
                </a:moveTo>
                <a:cubicBezTo>
                  <a:pt x="20202" y="16818"/>
                  <a:pt x="20192" y="16790"/>
                  <a:pt x="20241" y="16768"/>
                </a:cubicBezTo>
                <a:cubicBezTo>
                  <a:pt x="20284" y="16749"/>
                  <a:pt x="20245" y="16800"/>
                  <a:pt x="20241" y="16818"/>
                </a:cubicBezTo>
              </a:path>
              <a:path w="2184" h="349">
                <a:moveTo>
                  <a:pt x="20737" y="16619"/>
                </a:moveTo>
                <a:cubicBezTo>
                  <a:pt x="20646" y="16691"/>
                  <a:pt x="20565" y="16735"/>
                  <a:pt x="20538" y="16842"/>
                </a:cubicBezTo>
                <a:cubicBezTo>
                  <a:pt x="20591" y="16905"/>
                  <a:pt x="20667" y="16910"/>
                  <a:pt x="20762" y="16892"/>
                </a:cubicBezTo>
                <a:cubicBezTo>
                  <a:pt x="20834" y="16879"/>
                  <a:pt x="20894" y="16835"/>
                  <a:pt x="20910" y="16768"/>
                </a:cubicBezTo>
                <a:cubicBezTo>
                  <a:pt x="20851" y="16707"/>
                  <a:pt x="20825" y="16699"/>
                  <a:pt x="20737" y="16694"/>
                </a:cubicBezTo>
                <a:cubicBezTo>
                  <a:pt x="20712" y="16694"/>
                  <a:pt x="20704" y="16694"/>
                  <a:pt x="20687" y="16694"/>
                </a:cubicBezTo>
              </a:path>
              <a:path w="2184" h="349">
                <a:moveTo>
                  <a:pt x="21233" y="16619"/>
                </a:moveTo>
                <a:cubicBezTo>
                  <a:pt x="21185" y="16662"/>
                  <a:pt x="21076" y="16722"/>
                  <a:pt x="21059" y="16793"/>
                </a:cubicBezTo>
                <a:cubicBezTo>
                  <a:pt x="21038" y="16882"/>
                  <a:pt x="21123" y="16889"/>
                  <a:pt x="21183" y="16892"/>
                </a:cubicBezTo>
                <a:cubicBezTo>
                  <a:pt x="21253" y="16896"/>
                  <a:pt x="21342" y="16853"/>
                  <a:pt x="21382" y="16793"/>
                </a:cubicBezTo>
                <a:cubicBezTo>
                  <a:pt x="21397" y="16771"/>
                  <a:pt x="21376" y="16679"/>
                  <a:pt x="21357" y="16669"/>
                </a:cubicBezTo>
                <a:cubicBezTo>
                  <a:pt x="21312" y="16669"/>
                  <a:pt x="21299" y="16672"/>
                  <a:pt x="21282" y="16644"/>
                </a:cubicBezTo>
              </a:path>
              <a:path w="2184" h="349">
                <a:moveTo>
                  <a:pt x="21704" y="16594"/>
                </a:moveTo>
                <a:cubicBezTo>
                  <a:pt x="21704" y="16693"/>
                  <a:pt x="21704" y="16793"/>
                  <a:pt x="21704" y="16892"/>
                </a:cubicBezTo>
              </a:path>
              <a:path w="2184" h="349">
                <a:moveTo>
                  <a:pt x="22225" y="16669"/>
                </a:moveTo>
                <a:cubicBezTo>
                  <a:pt x="22177" y="16669"/>
                  <a:pt x="22079" y="16650"/>
                  <a:pt x="22051" y="16694"/>
                </a:cubicBezTo>
                <a:cubicBezTo>
                  <a:pt x="22044" y="16706"/>
                  <a:pt x="22051" y="16754"/>
                  <a:pt x="22051" y="16768"/>
                </a:cubicBezTo>
                <a:cubicBezTo>
                  <a:pt x="22102" y="16768"/>
                  <a:pt x="22137" y="16777"/>
                  <a:pt x="22175" y="16743"/>
                </a:cubicBezTo>
                <a:cubicBezTo>
                  <a:pt x="22210" y="16711"/>
                  <a:pt x="22229" y="16718"/>
                  <a:pt x="22275" y="16718"/>
                </a:cubicBezTo>
                <a:cubicBezTo>
                  <a:pt x="22275" y="16783"/>
                  <a:pt x="22294" y="16828"/>
                  <a:pt x="22299" y="16892"/>
                </a:cubicBezTo>
                <a:cubicBezTo>
                  <a:pt x="22299" y="16920"/>
                  <a:pt x="22301" y="16931"/>
                  <a:pt x="22324" y="169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27920" y="6197760"/>
            <a:ext cx="1643040" cy="36360"/>
          </a:xfrm>
          <a:custGeom>
            <a:avLst/>
            <a:gdLst/>
            <a:ahLst/>
            <a:rect l="l" t="t" r="r" b="b"/>
            <a:pathLst>
              <a:path w="4565" h="101">
                <a:moveTo>
                  <a:pt x="19521" y="17264"/>
                </a:moveTo>
                <a:cubicBezTo>
                  <a:pt x="19624" y="17258"/>
                  <a:pt x="19741" y="17256"/>
                  <a:pt x="19844" y="17239"/>
                </a:cubicBezTo>
                <a:cubicBezTo>
                  <a:pt x="19977" y="17217"/>
                  <a:pt x="20104" y="17214"/>
                  <a:pt x="20241" y="17214"/>
                </a:cubicBezTo>
                <a:cubicBezTo>
                  <a:pt x="20386" y="17214"/>
                  <a:pt x="20520" y="17227"/>
                  <a:pt x="20662" y="17239"/>
                </a:cubicBezTo>
                <a:cubicBezTo>
                  <a:pt x="21040" y="17271"/>
                  <a:pt x="21429" y="17233"/>
                  <a:pt x="21803" y="17264"/>
                </a:cubicBezTo>
                <a:cubicBezTo>
                  <a:pt x="21894" y="17271"/>
                  <a:pt x="21988" y="17282"/>
                  <a:pt x="22076" y="17289"/>
                </a:cubicBezTo>
                <a:cubicBezTo>
                  <a:pt x="22372" y="17313"/>
                  <a:pt x="22677" y="17290"/>
                  <a:pt x="22969" y="17314"/>
                </a:cubicBezTo>
                <a:cubicBezTo>
                  <a:pt x="23136" y="17328"/>
                  <a:pt x="23303" y="17307"/>
                  <a:pt x="23465" y="17289"/>
                </a:cubicBezTo>
                <a:cubicBezTo>
                  <a:pt x="23548" y="17280"/>
                  <a:pt x="23631" y="17269"/>
                  <a:pt x="23713" y="17264"/>
                </a:cubicBezTo>
                <a:cubicBezTo>
                  <a:pt x="23793" y="17259"/>
                  <a:pt x="23860" y="17247"/>
                  <a:pt x="23937" y="17239"/>
                </a:cubicBezTo>
                <a:cubicBezTo>
                  <a:pt x="23994" y="17233"/>
                  <a:pt x="24004" y="17239"/>
                  <a:pt x="24061" y="172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13800" y="6848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704" y="19025"/>
                </a:moveTo>
                <a:lnTo>
                  <a:pt x="21704" y="19025"/>
                </a:lnTo>
              </a:path>
              <a:path w="1" h="1">
                <a:moveTo>
                  <a:pt x="21704" y="19025"/>
                </a:moveTo>
                <a:lnTo>
                  <a:pt x="21704" y="19025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028000" y="6276960"/>
            <a:ext cx="731880" cy="366840"/>
          </a:xfrm>
          <a:custGeom>
            <a:avLst/>
            <a:gdLst/>
            <a:ahLst/>
            <a:rect l="l" t="t" r="r" b="b"/>
            <a:pathLst>
              <a:path w="2035" h="1018">
                <a:moveTo>
                  <a:pt x="22796" y="17686"/>
                </a:moveTo>
                <a:cubicBezTo>
                  <a:pt x="22796" y="17735"/>
                  <a:pt x="22801" y="17657"/>
                  <a:pt x="22771" y="17636"/>
                </a:cubicBezTo>
                <a:cubicBezTo>
                  <a:pt x="22737" y="17613"/>
                  <a:pt x="22636" y="17589"/>
                  <a:pt x="22597" y="17611"/>
                </a:cubicBezTo>
                <a:cubicBezTo>
                  <a:pt x="22506" y="17662"/>
                  <a:pt x="22460" y="17787"/>
                  <a:pt x="22448" y="17884"/>
                </a:cubicBezTo>
                <a:cubicBezTo>
                  <a:pt x="22434" y="18001"/>
                  <a:pt x="22525" y="18131"/>
                  <a:pt x="22647" y="18157"/>
                </a:cubicBezTo>
                <a:cubicBezTo>
                  <a:pt x="22778" y="18185"/>
                  <a:pt x="22921" y="18146"/>
                  <a:pt x="23044" y="18107"/>
                </a:cubicBezTo>
                <a:cubicBezTo>
                  <a:pt x="23132" y="18079"/>
                  <a:pt x="23126" y="18081"/>
                  <a:pt x="23168" y="18008"/>
                </a:cubicBezTo>
                <a:cubicBezTo>
                  <a:pt x="23106" y="17971"/>
                  <a:pt x="23063" y="17977"/>
                  <a:pt x="22994" y="18008"/>
                </a:cubicBezTo>
                <a:cubicBezTo>
                  <a:pt x="22933" y="18035"/>
                  <a:pt x="22944" y="18030"/>
                  <a:pt x="22944" y="18083"/>
                </a:cubicBezTo>
                <a:cubicBezTo>
                  <a:pt x="22995" y="18154"/>
                  <a:pt x="23074" y="18195"/>
                  <a:pt x="23168" y="18207"/>
                </a:cubicBezTo>
                <a:cubicBezTo>
                  <a:pt x="23201" y="18207"/>
                  <a:pt x="23234" y="18207"/>
                  <a:pt x="23267" y="18207"/>
                </a:cubicBezTo>
              </a:path>
              <a:path w="2035" h="1018">
                <a:moveTo>
                  <a:pt x="23316" y="17785"/>
                </a:moveTo>
                <a:cubicBezTo>
                  <a:pt x="23399" y="17785"/>
                  <a:pt x="23481" y="17785"/>
                  <a:pt x="23564" y="17785"/>
                </a:cubicBezTo>
              </a:path>
              <a:path w="2035" h="1018">
                <a:moveTo>
                  <a:pt x="23465" y="17661"/>
                </a:moveTo>
                <a:cubicBezTo>
                  <a:pt x="23443" y="17691"/>
                  <a:pt x="23419" y="17743"/>
                  <a:pt x="23440" y="17785"/>
                </a:cubicBezTo>
                <a:cubicBezTo>
                  <a:pt x="23465" y="17835"/>
                  <a:pt x="23500" y="17854"/>
                  <a:pt x="23540" y="17884"/>
                </a:cubicBezTo>
              </a:path>
              <a:path w="2035" h="1018">
                <a:moveTo>
                  <a:pt x="23713" y="17636"/>
                </a:moveTo>
                <a:cubicBezTo>
                  <a:pt x="23777" y="17636"/>
                  <a:pt x="23787" y="17627"/>
                  <a:pt x="23812" y="17661"/>
                </a:cubicBezTo>
                <a:cubicBezTo>
                  <a:pt x="23820" y="17669"/>
                  <a:pt x="23829" y="17678"/>
                  <a:pt x="23837" y="17686"/>
                </a:cubicBezTo>
                <a:cubicBezTo>
                  <a:pt x="23824" y="17724"/>
                  <a:pt x="23815" y="17714"/>
                  <a:pt x="23788" y="17735"/>
                </a:cubicBezTo>
                <a:cubicBezTo>
                  <a:pt x="23780" y="17743"/>
                  <a:pt x="23771" y="17752"/>
                  <a:pt x="23763" y="17760"/>
                </a:cubicBezTo>
                <a:cubicBezTo>
                  <a:pt x="23790" y="17780"/>
                  <a:pt x="23873" y="17788"/>
                  <a:pt x="23887" y="17810"/>
                </a:cubicBezTo>
                <a:cubicBezTo>
                  <a:pt x="23896" y="17823"/>
                  <a:pt x="23929" y="17853"/>
                  <a:pt x="23912" y="17884"/>
                </a:cubicBezTo>
                <a:cubicBezTo>
                  <a:pt x="23889" y="17925"/>
                  <a:pt x="23842" y="17939"/>
                  <a:pt x="23812" y="17959"/>
                </a:cubicBezTo>
                <a:cubicBezTo>
                  <a:pt x="23804" y="17967"/>
                  <a:pt x="23796" y="17975"/>
                  <a:pt x="23788" y="17983"/>
                </a:cubicBezTo>
              </a:path>
              <a:path w="2035" h="1018">
                <a:moveTo>
                  <a:pt x="23986" y="17537"/>
                </a:moveTo>
                <a:cubicBezTo>
                  <a:pt x="23999" y="17499"/>
                  <a:pt x="24016" y="17512"/>
                  <a:pt x="24061" y="17512"/>
                </a:cubicBezTo>
                <a:cubicBezTo>
                  <a:pt x="24107" y="17512"/>
                  <a:pt x="24151" y="17537"/>
                  <a:pt x="24209" y="17537"/>
                </a:cubicBezTo>
                <a:cubicBezTo>
                  <a:pt x="24254" y="17537"/>
                  <a:pt x="24286" y="17562"/>
                  <a:pt x="24333" y="17562"/>
                </a:cubicBezTo>
                <a:cubicBezTo>
                  <a:pt x="24333" y="17643"/>
                  <a:pt x="24320" y="17707"/>
                  <a:pt x="24309" y="17785"/>
                </a:cubicBezTo>
                <a:cubicBezTo>
                  <a:pt x="24299" y="17855"/>
                  <a:pt x="24284" y="17910"/>
                  <a:pt x="24284" y="17983"/>
                </a:cubicBezTo>
                <a:cubicBezTo>
                  <a:pt x="24284" y="18044"/>
                  <a:pt x="24250" y="18080"/>
                  <a:pt x="24234" y="18132"/>
                </a:cubicBezTo>
                <a:cubicBezTo>
                  <a:pt x="24224" y="18164"/>
                  <a:pt x="24198" y="18215"/>
                  <a:pt x="24160" y="18231"/>
                </a:cubicBezTo>
                <a:cubicBezTo>
                  <a:pt x="24104" y="18255"/>
                  <a:pt x="24020" y="18272"/>
                  <a:pt x="23961" y="18281"/>
                </a:cubicBezTo>
                <a:cubicBezTo>
                  <a:pt x="23914" y="18288"/>
                  <a:pt x="23903" y="18296"/>
                  <a:pt x="23862" y="18306"/>
                </a:cubicBezTo>
              </a:path>
              <a:path w="2035" h="1018">
                <a:moveTo>
                  <a:pt x="22746" y="17462"/>
                </a:moveTo>
                <a:cubicBezTo>
                  <a:pt x="22708" y="17435"/>
                  <a:pt x="22694" y="17438"/>
                  <a:pt x="22647" y="17438"/>
                </a:cubicBezTo>
                <a:cubicBezTo>
                  <a:pt x="22592" y="17438"/>
                  <a:pt x="22542" y="17474"/>
                  <a:pt x="22498" y="17487"/>
                </a:cubicBezTo>
                <a:cubicBezTo>
                  <a:pt x="22478" y="17493"/>
                  <a:pt x="22444" y="17487"/>
                  <a:pt x="22423" y="17487"/>
                </a:cubicBezTo>
                <a:cubicBezTo>
                  <a:pt x="22423" y="17532"/>
                  <a:pt x="22402" y="17547"/>
                  <a:pt x="22399" y="17587"/>
                </a:cubicBezTo>
                <a:cubicBezTo>
                  <a:pt x="22394" y="17659"/>
                  <a:pt x="22365" y="17740"/>
                  <a:pt x="22349" y="17810"/>
                </a:cubicBezTo>
                <a:cubicBezTo>
                  <a:pt x="22327" y="17903"/>
                  <a:pt x="22303" y="17986"/>
                  <a:pt x="22299" y="18083"/>
                </a:cubicBezTo>
                <a:cubicBezTo>
                  <a:pt x="22296" y="18137"/>
                  <a:pt x="22264" y="18400"/>
                  <a:pt x="22324" y="18430"/>
                </a:cubicBezTo>
                <a:cubicBezTo>
                  <a:pt x="22366" y="18451"/>
                  <a:pt x="22395" y="18455"/>
                  <a:pt x="22448" y="18455"/>
                </a:cubicBezTo>
                <a:cubicBezTo>
                  <a:pt x="22539" y="18455"/>
                  <a:pt x="22630" y="18455"/>
                  <a:pt x="22721" y="184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09800" y="4241880"/>
            <a:ext cx="2749320" cy="303120"/>
          </a:xfrm>
          <a:custGeom>
            <a:avLst/>
            <a:gdLst/>
            <a:ahLst/>
            <a:rect l="l" t="t" r="r" b="b"/>
            <a:pathLst>
              <a:path w="7641" h="845">
                <a:moveTo>
                  <a:pt x="2803" y="12626"/>
                </a:moveTo>
                <a:cubicBezTo>
                  <a:pt x="2880" y="12599"/>
                  <a:pt x="2924" y="12592"/>
                  <a:pt x="3001" y="12576"/>
                </a:cubicBezTo>
                <a:cubicBezTo>
                  <a:pt x="3090" y="12558"/>
                  <a:pt x="3182" y="12541"/>
                  <a:pt x="3274" y="12526"/>
                </a:cubicBezTo>
                <a:cubicBezTo>
                  <a:pt x="3399" y="12505"/>
                  <a:pt x="3518" y="12513"/>
                  <a:pt x="3646" y="12502"/>
                </a:cubicBezTo>
                <a:cubicBezTo>
                  <a:pt x="3777" y="12491"/>
                  <a:pt x="3911" y="12488"/>
                  <a:pt x="4043" y="12477"/>
                </a:cubicBezTo>
                <a:cubicBezTo>
                  <a:pt x="4160" y="12467"/>
                  <a:pt x="4273" y="12435"/>
                  <a:pt x="4390" y="12427"/>
                </a:cubicBezTo>
                <a:cubicBezTo>
                  <a:pt x="4492" y="12420"/>
                  <a:pt x="4587" y="12408"/>
                  <a:pt x="4688" y="12402"/>
                </a:cubicBezTo>
                <a:cubicBezTo>
                  <a:pt x="4951" y="12387"/>
                  <a:pt x="5223" y="12391"/>
                  <a:pt x="5482" y="12378"/>
                </a:cubicBezTo>
                <a:cubicBezTo>
                  <a:pt x="5598" y="12372"/>
                  <a:pt x="5715" y="12377"/>
                  <a:pt x="5829" y="12353"/>
                </a:cubicBezTo>
                <a:cubicBezTo>
                  <a:pt x="5956" y="12327"/>
                  <a:pt x="6073" y="12297"/>
                  <a:pt x="6201" y="12278"/>
                </a:cubicBezTo>
                <a:cubicBezTo>
                  <a:pt x="6324" y="12260"/>
                  <a:pt x="6449" y="12246"/>
                  <a:pt x="6573" y="12229"/>
                </a:cubicBezTo>
                <a:cubicBezTo>
                  <a:pt x="6744" y="12206"/>
                  <a:pt x="6926" y="12214"/>
                  <a:pt x="7094" y="12179"/>
                </a:cubicBezTo>
                <a:cubicBezTo>
                  <a:pt x="7220" y="12153"/>
                  <a:pt x="7340" y="12132"/>
                  <a:pt x="7466" y="12105"/>
                </a:cubicBezTo>
                <a:cubicBezTo>
                  <a:pt x="7691" y="12057"/>
                  <a:pt x="7910" y="11989"/>
                  <a:pt x="8136" y="11956"/>
                </a:cubicBezTo>
                <a:cubicBezTo>
                  <a:pt x="8261" y="11938"/>
                  <a:pt x="8384" y="11925"/>
                  <a:pt x="8508" y="11906"/>
                </a:cubicBezTo>
                <a:cubicBezTo>
                  <a:pt x="8608" y="11891"/>
                  <a:pt x="8704" y="11892"/>
                  <a:pt x="8806" y="11881"/>
                </a:cubicBezTo>
                <a:cubicBezTo>
                  <a:pt x="8906" y="11870"/>
                  <a:pt x="9001" y="11840"/>
                  <a:pt x="9103" y="11832"/>
                </a:cubicBezTo>
                <a:cubicBezTo>
                  <a:pt x="9204" y="11825"/>
                  <a:pt x="9301" y="11812"/>
                  <a:pt x="9401" y="11807"/>
                </a:cubicBezTo>
                <a:cubicBezTo>
                  <a:pt x="9484" y="11803"/>
                  <a:pt x="9574" y="11786"/>
                  <a:pt x="9649" y="11782"/>
                </a:cubicBezTo>
                <a:cubicBezTo>
                  <a:pt x="9793" y="11775"/>
                  <a:pt x="9936" y="11800"/>
                  <a:pt x="10071" y="11807"/>
                </a:cubicBezTo>
                <a:cubicBezTo>
                  <a:pt x="10194" y="11813"/>
                  <a:pt x="10319" y="11807"/>
                  <a:pt x="10443" y="118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58920" y="5322960"/>
            <a:ext cx="2367000" cy="330120"/>
          </a:xfrm>
          <a:custGeom>
            <a:avLst/>
            <a:gdLst/>
            <a:ahLst/>
            <a:rect l="l" t="t" r="r" b="b"/>
            <a:pathLst>
              <a:path w="6575" h="918">
                <a:moveTo>
                  <a:pt x="3522" y="15701"/>
                </a:moveTo>
                <a:cubicBezTo>
                  <a:pt x="3565" y="15688"/>
                  <a:pt x="3554" y="15690"/>
                  <a:pt x="3597" y="15677"/>
                </a:cubicBezTo>
                <a:cubicBezTo>
                  <a:pt x="3680" y="15652"/>
                  <a:pt x="3758" y="15642"/>
                  <a:pt x="3845" y="15627"/>
                </a:cubicBezTo>
                <a:cubicBezTo>
                  <a:pt x="3950" y="15609"/>
                  <a:pt x="4064" y="15598"/>
                  <a:pt x="4167" y="15577"/>
                </a:cubicBezTo>
                <a:cubicBezTo>
                  <a:pt x="4302" y="15549"/>
                  <a:pt x="4430" y="15523"/>
                  <a:pt x="4564" y="15503"/>
                </a:cubicBezTo>
                <a:cubicBezTo>
                  <a:pt x="4679" y="15486"/>
                  <a:pt x="4795" y="15468"/>
                  <a:pt x="4911" y="15453"/>
                </a:cubicBezTo>
                <a:cubicBezTo>
                  <a:pt x="5036" y="15437"/>
                  <a:pt x="5160" y="15423"/>
                  <a:pt x="5283" y="15404"/>
                </a:cubicBezTo>
                <a:cubicBezTo>
                  <a:pt x="5383" y="15389"/>
                  <a:pt x="5478" y="15381"/>
                  <a:pt x="5581" y="15379"/>
                </a:cubicBezTo>
                <a:cubicBezTo>
                  <a:pt x="5938" y="15372"/>
                  <a:pt x="6297" y="15378"/>
                  <a:pt x="6648" y="15354"/>
                </a:cubicBezTo>
                <a:cubicBezTo>
                  <a:pt x="6739" y="15348"/>
                  <a:pt x="6807" y="15345"/>
                  <a:pt x="6896" y="15329"/>
                </a:cubicBezTo>
                <a:cubicBezTo>
                  <a:pt x="6979" y="15314"/>
                  <a:pt x="7060" y="15297"/>
                  <a:pt x="7144" y="15280"/>
                </a:cubicBezTo>
                <a:cubicBezTo>
                  <a:pt x="7237" y="15262"/>
                  <a:pt x="7323" y="15258"/>
                  <a:pt x="7417" y="15230"/>
                </a:cubicBezTo>
                <a:cubicBezTo>
                  <a:pt x="7583" y="15181"/>
                  <a:pt x="7746" y="15107"/>
                  <a:pt x="7913" y="15056"/>
                </a:cubicBezTo>
                <a:cubicBezTo>
                  <a:pt x="8026" y="15022"/>
                  <a:pt x="8149" y="14960"/>
                  <a:pt x="8260" y="14932"/>
                </a:cubicBezTo>
                <a:cubicBezTo>
                  <a:pt x="8361" y="14907"/>
                  <a:pt x="8479" y="14900"/>
                  <a:pt x="8582" y="14883"/>
                </a:cubicBezTo>
                <a:cubicBezTo>
                  <a:pt x="8683" y="14866"/>
                  <a:pt x="8777" y="14841"/>
                  <a:pt x="8880" y="14833"/>
                </a:cubicBezTo>
                <a:cubicBezTo>
                  <a:pt x="8989" y="14825"/>
                  <a:pt x="9095" y="14823"/>
                  <a:pt x="9203" y="14808"/>
                </a:cubicBezTo>
                <a:cubicBezTo>
                  <a:pt x="9312" y="14793"/>
                  <a:pt x="9412" y="14786"/>
                  <a:pt x="9525" y="14784"/>
                </a:cubicBezTo>
                <a:cubicBezTo>
                  <a:pt x="9707" y="14781"/>
                  <a:pt x="9889" y="14784"/>
                  <a:pt x="10071" y="147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lective Precipita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o separate mixtures of metal ions in solu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anions that will only precipitate certain metals at a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o purify mix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use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because in acidic solution H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C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i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ll precipitate.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eneral equ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nds for the cation (usually metal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s for the anion (a nonmetal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)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+ bN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 = [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N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[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concentration of a solid doesn’t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[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N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olubility produ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each comp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819520" y="2209680"/>
            <a:ext cx="1296720" cy="382320"/>
            <a:chOff x="2819520" y="2209680"/>
            <a:chExt cx="1296720" cy="382320"/>
          </a:xfrm>
        </p:grpSpPr>
        <p:sp>
          <p:nvSpPr>
            <p:cNvPr id="55" name=""/>
            <p:cNvSpPr/>
            <p:nvPr/>
          </p:nvSpPr>
          <p:spPr>
            <a:xfrm>
              <a:off x="2819520" y="2209680"/>
              <a:ext cx="1296720" cy="153720"/>
            </a:xfrm>
            <a:custGeom>
              <a:avLst/>
              <a:gdLst/>
              <a:ahLst/>
              <a:rect l="l" t="t" r="r" b="b"/>
              <a:pathLst>
                <a:path w="817" h="97">
                  <a:moveTo>
                    <a:pt x="0" y="96"/>
                  </a:moveTo>
                  <a:lnTo>
                    <a:pt x="816" y="96"/>
                  </a:lnTo>
                  <a:lnTo>
                    <a:pt x="67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19520" y="2438280"/>
              <a:ext cx="1296720" cy="153720"/>
            </a:xfrm>
            <a:custGeom>
              <a:avLst/>
              <a:gdLst/>
              <a:ahLst/>
              <a:rect l="l" t="t" r="r" b="b"/>
              <a:pathLst>
                <a:path w="817" h="97">
                  <a:moveTo>
                    <a:pt x="81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lective precipit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 the steps first with insoluble chlorides (Ag, Pb, B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sulfides in Ac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sulfides in b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insoluble carbonate (Ca, Ba, M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 metals and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main in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mplex ion Equilibria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arged ion surrounded by lig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ands are Lewis bases using their lone pair to stabilize the charged metal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ligands are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,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C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rdination number is the number of attached lig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coordination # of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addition of each ligand has its own equilibri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66960"/>
            <a:ext cx="7772400" cy="44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the ligand is in large ex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individual K’s will be large so we can treat them as if they go to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plex ion will be the biggest ion in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concentrations of A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g(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Ag(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solution made by mixing 150.0 mL of AgNO3 with 200.0 mL of 5.00 M 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g(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7.4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(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g(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3.9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733920" y="3352680"/>
            <a:ext cx="1220760" cy="382320"/>
            <a:chOff x="3733920" y="3352680"/>
            <a:chExt cx="1220760" cy="382320"/>
          </a:xfrm>
        </p:grpSpPr>
        <p:sp>
          <p:nvSpPr>
            <p:cNvPr id="412" name=""/>
            <p:cNvSpPr/>
            <p:nvPr/>
          </p:nvSpPr>
          <p:spPr>
            <a:xfrm>
              <a:off x="3733920" y="3352680"/>
              <a:ext cx="1220760" cy="153720"/>
            </a:xfrm>
            <a:custGeom>
              <a:avLst/>
              <a:gdLst/>
              <a:ahLst/>
              <a:rect l="l" t="t" r="r" b="b"/>
              <a:pathLst>
                <a:path w="769" h="97">
                  <a:moveTo>
                    <a:pt x="0" y="96"/>
                  </a:moveTo>
                  <a:lnTo>
                    <a:pt x="768" y="96"/>
                  </a:lnTo>
                  <a:lnTo>
                    <a:pt x="62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33920" y="3581280"/>
              <a:ext cx="1220760" cy="153720"/>
            </a:xfrm>
            <a:custGeom>
              <a:avLst/>
              <a:gdLst/>
              <a:ahLst/>
              <a:rect l="l" t="t" r="r" b="b"/>
              <a:pathLst>
                <a:path w="769" h="97">
                  <a:moveTo>
                    <a:pt x="76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4724280" y="4343400"/>
            <a:ext cx="1220760" cy="382680"/>
            <a:chOff x="4724280" y="4343400"/>
            <a:chExt cx="1220760" cy="382680"/>
          </a:xfrm>
        </p:grpSpPr>
        <p:sp>
          <p:nvSpPr>
            <p:cNvPr id="415" name=""/>
            <p:cNvSpPr/>
            <p:nvPr/>
          </p:nvSpPr>
          <p:spPr>
            <a:xfrm>
              <a:off x="4724280" y="4343400"/>
              <a:ext cx="1220760" cy="154080"/>
            </a:xfrm>
            <a:custGeom>
              <a:avLst/>
              <a:gdLst/>
              <a:ahLst/>
              <a:rect l="l" t="t" r="r" b="b"/>
              <a:pathLst>
                <a:path w="769" h="97">
                  <a:moveTo>
                    <a:pt x="0" y="96"/>
                  </a:moveTo>
                  <a:lnTo>
                    <a:pt x="768" y="96"/>
                  </a:lnTo>
                  <a:lnTo>
                    <a:pt x="62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24280" y="4572000"/>
              <a:ext cx="1220760" cy="154080"/>
            </a:xfrm>
            <a:custGeom>
              <a:avLst/>
              <a:gdLst/>
              <a:ahLst/>
              <a:rect l="l" t="t" r="r" b="b"/>
              <a:pathLst>
                <a:path w="769" h="97">
                  <a:moveTo>
                    <a:pt x="76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581040" y="3517920"/>
            <a:ext cx="517680" cy="2313000"/>
          </a:xfrm>
          <a:custGeom>
            <a:avLst/>
            <a:gdLst/>
            <a:ahLst/>
            <a:rect l="l" t="t" r="r" b="b"/>
            <a:pathLst>
              <a:path w="1440" h="6425">
                <a:moveTo>
                  <a:pt x="2208" y="9798"/>
                </a:moveTo>
                <a:cubicBezTo>
                  <a:pt x="2175" y="9798"/>
                  <a:pt x="2166" y="9767"/>
                  <a:pt x="2133" y="9773"/>
                </a:cubicBezTo>
                <a:cubicBezTo>
                  <a:pt x="2059" y="9786"/>
                  <a:pt x="1981" y="9812"/>
                  <a:pt x="1910" y="9847"/>
                </a:cubicBezTo>
                <a:cubicBezTo>
                  <a:pt x="1844" y="9879"/>
                  <a:pt x="1753" y="9928"/>
                  <a:pt x="1687" y="9971"/>
                </a:cubicBezTo>
                <a:cubicBezTo>
                  <a:pt x="1651" y="9995"/>
                  <a:pt x="1626" y="9982"/>
                  <a:pt x="1612" y="10021"/>
                </a:cubicBezTo>
                <a:cubicBezTo>
                  <a:pt x="1598" y="10060"/>
                  <a:pt x="1629" y="10134"/>
                  <a:pt x="1637" y="10170"/>
                </a:cubicBezTo>
                <a:cubicBezTo>
                  <a:pt x="1658" y="10261"/>
                  <a:pt x="1688" y="10352"/>
                  <a:pt x="1712" y="10443"/>
                </a:cubicBezTo>
                <a:cubicBezTo>
                  <a:pt x="1756" y="10613"/>
                  <a:pt x="1793" y="10765"/>
                  <a:pt x="1811" y="10939"/>
                </a:cubicBezTo>
                <a:cubicBezTo>
                  <a:pt x="1826" y="11079"/>
                  <a:pt x="1844" y="11221"/>
                  <a:pt x="1860" y="11361"/>
                </a:cubicBezTo>
                <a:cubicBezTo>
                  <a:pt x="1876" y="11502"/>
                  <a:pt x="1897" y="11640"/>
                  <a:pt x="1910" y="11782"/>
                </a:cubicBezTo>
                <a:cubicBezTo>
                  <a:pt x="1922" y="11922"/>
                  <a:pt x="1925" y="12062"/>
                  <a:pt x="1935" y="12204"/>
                </a:cubicBezTo>
                <a:cubicBezTo>
                  <a:pt x="1944" y="12342"/>
                  <a:pt x="1950" y="12486"/>
                  <a:pt x="1960" y="12626"/>
                </a:cubicBezTo>
                <a:cubicBezTo>
                  <a:pt x="1969" y="12759"/>
                  <a:pt x="1992" y="12885"/>
                  <a:pt x="1984" y="13022"/>
                </a:cubicBezTo>
                <a:cubicBezTo>
                  <a:pt x="1977" y="13145"/>
                  <a:pt x="1971" y="13271"/>
                  <a:pt x="1960" y="13395"/>
                </a:cubicBezTo>
                <a:cubicBezTo>
                  <a:pt x="1949" y="13510"/>
                  <a:pt x="1947" y="13626"/>
                  <a:pt x="1935" y="13742"/>
                </a:cubicBezTo>
                <a:cubicBezTo>
                  <a:pt x="1925" y="13841"/>
                  <a:pt x="1892" y="13941"/>
                  <a:pt x="1885" y="14039"/>
                </a:cubicBezTo>
                <a:cubicBezTo>
                  <a:pt x="1877" y="14149"/>
                  <a:pt x="1858" y="14229"/>
                  <a:pt x="1836" y="14337"/>
                </a:cubicBezTo>
                <a:cubicBezTo>
                  <a:pt x="1818" y="14426"/>
                  <a:pt x="1801" y="14523"/>
                  <a:pt x="1786" y="14610"/>
                </a:cubicBezTo>
                <a:cubicBezTo>
                  <a:pt x="1768" y="14711"/>
                  <a:pt x="1774" y="14806"/>
                  <a:pt x="1761" y="14908"/>
                </a:cubicBezTo>
                <a:cubicBezTo>
                  <a:pt x="1751" y="14989"/>
                  <a:pt x="1738" y="15068"/>
                  <a:pt x="1736" y="15156"/>
                </a:cubicBezTo>
                <a:cubicBezTo>
                  <a:pt x="1733" y="15314"/>
                  <a:pt x="1719" y="15474"/>
                  <a:pt x="1712" y="15627"/>
                </a:cubicBezTo>
                <a:cubicBezTo>
                  <a:pt x="1705" y="15771"/>
                  <a:pt x="1710" y="15913"/>
                  <a:pt x="1736" y="16049"/>
                </a:cubicBezTo>
                <a:cubicBezTo>
                  <a:pt x="1742" y="16079"/>
                  <a:pt x="1752" y="16094"/>
                  <a:pt x="1761" y="16123"/>
                </a:cubicBezTo>
                <a:cubicBezTo>
                  <a:pt x="1778" y="16103"/>
                  <a:pt x="1817" y="16078"/>
                  <a:pt x="1836" y="16049"/>
                </a:cubicBezTo>
                <a:cubicBezTo>
                  <a:pt x="1875" y="15989"/>
                  <a:pt x="1830" y="15972"/>
                  <a:pt x="1910" y="15925"/>
                </a:cubicBezTo>
                <a:cubicBezTo>
                  <a:pt x="1953" y="15900"/>
                  <a:pt x="2011" y="15893"/>
                  <a:pt x="2059" y="15875"/>
                </a:cubicBezTo>
                <a:cubicBezTo>
                  <a:pt x="2165" y="15836"/>
                  <a:pt x="2272" y="15779"/>
                  <a:pt x="2381" y="15751"/>
                </a:cubicBezTo>
                <a:cubicBezTo>
                  <a:pt x="2514" y="15717"/>
                  <a:pt x="2699" y="15699"/>
                  <a:pt x="2828" y="15751"/>
                </a:cubicBezTo>
                <a:cubicBezTo>
                  <a:pt x="2859" y="15763"/>
                  <a:pt x="2858" y="15791"/>
                  <a:pt x="2877" y="15801"/>
                </a:cubicBezTo>
                <a:cubicBezTo>
                  <a:pt x="2855" y="15768"/>
                  <a:pt x="2866" y="15740"/>
                  <a:pt x="2828" y="15701"/>
                </a:cubicBezTo>
                <a:cubicBezTo>
                  <a:pt x="2782" y="15653"/>
                  <a:pt x="2730" y="15640"/>
                  <a:pt x="2679" y="15602"/>
                </a:cubicBezTo>
                <a:cubicBezTo>
                  <a:pt x="2624" y="15562"/>
                  <a:pt x="2583" y="15553"/>
                  <a:pt x="2530" y="15528"/>
                </a:cubicBezTo>
                <a:cubicBezTo>
                  <a:pt x="2502" y="15528"/>
                  <a:pt x="2491" y="15526"/>
                  <a:pt x="2480" y="15503"/>
                </a:cubicBezTo>
                <a:cubicBezTo>
                  <a:pt x="2523" y="15526"/>
                  <a:pt x="2554" y="15556"/>
                  <a:pt x="2604" y="15577"/>
                </a:cubicBezTo>
                <a:cubicBezTo>
                  <a:pt x="2716" y="15624"/>
                  <a:pt x="2798" y="15627"/>
                  <a:pt x="2927" y="15627"/>
                </a:cubicBezTo>
                <a:cubicBezTo>
                  <a:pt x="2968" y="15627"/>
                  <a:pt x="3010" y="15627"/>
                  <a:pt x="3051" y="15627"/>
                </a:cubicBezTo>
                <a:cubicBezTo>
                  <a:pt x="3044" y="15757"/>
                  <a:pt x="3035" y="15876"/>
                  <a:pt x="3001" y="15999"/>
                </a:cubicBezTo>
                <a:cubicBezTo>
                  <a:pt x="2983" y="16065"/>
                  <a:pt x="2933" y="16129"/>
                  <a:pt x="2927" y="16197"/>
                </a:cubicBezTo>
                <a:cubicBezTo>
                  <a:pt x="2935" y="16197"/>
                  <a:pt x="2944" y="16197"/>
                  <a:pt x="2952" y="161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27840" y="2054160"/>
            <a:ext cx="615960" cy="258840"/>
          </a:xfrm>
          <a:custGeom>
            <a:avLst/>
            <a:gdLst/>
            <a:ahLst/>
            <a:rect l="l" t="t" r="r" b="b"/>
            <a:pathLst>
              <a:path w="1713" h="720">
                <a:moveTo>
                  <a:pt x="17239" y="6176"/>
                </a:moveTo>
                <a:cubicBezTo>
                  <a:pt x="17208" y="6166"/>
                  <a:pt x="17204" y="6156"/>
                  <a:pt x="17214" y="6152"/>
                </a:cubicBezTo>
                <a:cubicBezTo>
                  <a:pt x="17239" y="6152"/>
                  <a:pt x="17247" y="6152"/>
                  <a:pt x="17239" y="6127"/>
                </a:cubicBezTo>
                <a:cubicBezTo>
                  <a:pt x="17251" y="6162"/>
                  <a:pt x="17278" y="6149"/>
                  <a:pt x="17289" y="6127"/>
                </a:cubicBezTo>
                <a:cubicBezTo>
                  <a:pt x="17309" y="6088"/>
                  <a:pt x="17289" y="6122"/>
                  <a:pt x="17289" y="6152"/>
                </a:cubicBezTo>
              </a:path>
              <a:path w="1713" h="720">
                <a:moveTo>
                  <a:pt x="17661" y="5953"/>
                </a:moveTo>
                <a:cubicBezTo>
                  <a:pt x="17661" y="5945"/>
                  <a:pt x="17661" y="5936"/>
                  <a:pt x="17661" y="5928"/>
                </a:cubicBezTo>
                <a:cubicBezTo>
                  <a:pt x="17625" y="5940"/>
                  <a:pt x="17628" y="5964"/>
                  <a:pt x="17611" y="6003"/>
                </a:cubicBezTo>
                <a:cubicBezTo>
                  <a:pt x="17593" y="6045"/>
                  <a:pt x="17564" y="6129"/>
                  <a:pt x="17587" y="6176"/>
                </a:cubicBezTo>
                <a:cubicBezTo>
                  <a:pt x="17603" y="6208"/>
                  <a:pt x="17703" y="6214"/>
                  <a:pt x="17735" y="6201"/>
                </a:cubicBezTo>
                <a:cubicBezTo>
                  <a:pt x="17779" y="6182"/>
                  <a:pt x="17806" y="6119"/>
                  <a:pt x="17810" y="6077"/>
                </a:cubicBezTo>
                <a:cubicBezTo>
                  <a:pt x="17814" y="6036"/>
                  <a:pt x="17774" y="5971"/>
                  <a:pt x="17735" y="5953"/>
                </a:cubicBezTo>
                <a:cubicBezTo>
                  <a:pt x="17699" y="5937"/>
                  <a:pt x="17693" y="5956"/>
                  <a:pt x="17686" y="5978"/>
                </a:cubicBezTo>
              </a:path>
              <a:path w="1713" h="720">
                <a:moveTo>
                  <a:pt x="18058" y="6003"/>
                </a:moveTo>
                <a:cubicBezTo>
                  <a:pt x="18012" y="6015"/>
                  <a:pt x="17992" y="6058"/>
                  <a:pt x="17983" y="6102"/>
                </a:cubicBezTo>
                <a:cubicBezTo>
                  <a:pt x="17977" y="6134"/>
                  <a:pt x="17983" y="6193"/>
                  <a:pt x="17983" y="6226"/>
                </a:cubicBezTo>
                <a:cubicBezTo>
                  <a:pt x="18045" y="6226"/>
                  <a:pt x="18110" y="6241"/>
                  <a:pt x="18157" y="6201"/>
                </a:cubicBezTo>
                <a:cubicBezTo>
                  <a:pt x="18205" y="6160"/>
                  <a:pt x="18252" y="6117"/>
                  <a:pt x="18256" y="6052"/>
                </a:cubicBezTo>
                <a:cubicBezTo>
                  <a:pt x="18262" y="5970"/>
                  <a:pt x="18224" y="5978"/>
                  <a:pt x="18157" y="5978"/>
                </a:cubicBezTo>
                <a:cubicBezTo>
                  <a:pt x="18107" y="5978"/>
                  <a:pt x="18091" y="5978"/>
                  <a:pt x="18058" y="5978"/>
                </a:cubicBezTo>
              </a:path>
              <a:path w="1713" h="720">
                <a:moveTo>
                  <a:pt x="18455" y="5904"/>
                </a:moveTo>
                <a:cubicBezTo>
                  <a:pt x="18455" y="6003"/>
                  <a:pt x="18455" y="6102"/>
                  <a:pt x="18455" y="6201"/>
                </a:cubicBezTo>
              </a:path>
              <a:path w="1713" h="720">
                <a:moveTo>
                  <a:pt x="17041" y="5705"/>
                </a:moveTo>
                <a:cubicBezTo>
                  <a:pt x="16902" y="5765"/>
                  <a:pt x="16820" y="5845"/>
                  <a:pt x="16768" y="6003"/>
                </a:cubicBezTo>
                <a:cubicBezTo>
                  <a:pt x="16707" y="6190"/>
                  <a:pt x="16750" y="6286"/>
                  <a:pt x="16867" y="64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69080" y="2062080"/>
            <a:ext cx="401760" cy="206280"/>
          </a:xfrm>
          <a:custGeom>
            <a:avLst/>
            <a:gdLst/>
            <a:ahLst/>
            <a:rect l="l" t="t" r="r" b="b"/>
            <a:pathLst>
              <a:path w="1117" h="571">
                <a:moveTo>
                  <a:pt x="18926" y="5904"/>
                </a:moveTo>
                <a:cubicBezTo>
                  <a:pt x="18875" y="5940"/>
                  <a:pt x="18882" y="5946"/>
                  <a:pt x="18852" y="6003"/>
                </a:cubicBezTo>
                <a:cubicBezTo>
                  <a:pt x="18827" y="6050"/>
                  <a:pt x="18817" y="6108"/>
                  <a:pt x="18802" y="6152"/>
                </a:cubicBezTo>
                <a:cubicBezTo>
                  <a:pt x="18802" y="6176"/>
                  <a:pt x="18802" y="6185"/>
                  <a:pt x="18802" y="6201"/>
                </a:cubicBezTo>
                <a:cubicBezTo>
                  <a:pt x="18834" y="6158"/>
                  <a:pt x="18850" y="6104"/>
                  <a:pt x="18876" y="6052"/>
                </a:cubicBezTo>
                <a:cubicBezTo>
                  <a:pt x="18906" y="5992"/>
                  <a:pt x="18961" y="5989"/>
                  <a:pt x="18976" y="5928"/>
                </a:cubicBezTo>
                <a:cubicBezTo>
                  <a:pt x="19023" y="5944"/>
                  <a:pt x="18980" y="5998"/>
                  <a:pt x="18976" y="6052"/>
                </a:cubicBezTo>
                <a:cubicBezTo>
                  <a:pt x="18972" y="6101"/>
                  <a:pt x="18962" y="6139"/>
                  <a:pt x="19000" y="6152"/>
                </a:cubicBezTo>
                <a:cubicBezTo>
                  <a:pt x="19059" y="6152"/>
                  <a:pt x="19086" y="6131"/>
                  <a:pt x="19124" y="6077"/>
                </a:cubicBezTo>
                <a:cubicBezTo>
                  <a:pt x="19161" y="6024"/>
                  <a:pt x="19177" y="5975"/>
                  <a:pt x="19224" y="5928"/>
                </a:cubicBezTo>
                <a:cubicBezTo>
                  <a:pt x="19232" y="5920"/>
                  <a:pt x="19240" y="5912"/>
                  <a:pt x="19248" y="5904"/>
                </a:cubicBezTo>
                <a:cubicBezTo>
                  <a:pt x="19248" y="5972"/>
                  <a:pt x="19236" y="6042"/>
                  <a:pt x="19273" y="6102"/>
                </a:cubicBezTo>
                <a:cubicBezTo>
                  <a:pt x="19304" y="6152"/>
                  <a:pt x="19344" y="6172"/>
                  <a:pt x="19397" y="6176"/>
                </a:cubicBezTo>
                <a:cubicBezTo>
                  <a:pt x="19405" y="6176"/>
                  <a:pt x="19414" y="6176"/>
                  <a:pt x="19422" y="6176"/>
                </a:cubicBezTo>
              </a:path>
              <a:path w="1117" h="571">
                <a:moveTo>
                  <a:pt x="19596" y="5730"/>
                </a:moveTo>
                <a:cubicBezTo>
                  <a:pt x="19650" y="5730"/>
                  <a:pt x="19698" y="5721"/>
                  <a:pt x="19745" y="5755"/>
                </a:cubicBezTo>
                <a:cubicBezTo>
                  <a:pt x="19831" y="5817"/>
                  <a:pt x="19854" y="5887"/>
                  <a:pt x="19893" y="5978"/>
                </a:cubicBezTo>
                <a:cubicBezTo>
                  <a:pt x="19931" y="6068"/>
                  <a:pt x="19922" y="6153"/>
                  <a:pt x="19844" y="6226"/>
                </a:cubicBezTo>
                <a:cubicBezTo>
                  <a:pt x="19794" y="6251"/>
                  <a:pt x="19778" y="6259"/>
                  <a:pt x="19769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66920" y="5340240"/>
            <a:ext cx="3232080" cy="660600"/>
          </a:xfrm>
          <a:custGeom>
            <a:avLst/>
            <a:gdLst/>
            <a:ahLst/>
            <a:rect l="l" t="t" r="r" b="b"/>
            <a:pathLst>
              <a:path w="8980" h="1837">
                <a:moveTo>
                  <a:pt x="3969" y="15801"/>
                </a:moveTo>
                <a:cubicBezTo>
                  <a:pt x="3997" y="15810"/>
                  <a:pt x="3996" y="15876"/>
                  <a:pt x="4018" y="15825"/>
                </a:cubicBezTo>
                <a:cubicBezTo>
                  <a:pt x="4018" y="15797"/>
                  <a:pt x="4021" y="15787"/>
                  <a:pt x="4043" y="15776"/>
                </a:cubicBezTo>
                <a:cubicBezTo>
                  <a:pt x="4009" y="15784"/>
                  <a:pt x="3979" y="15781"/>
                  <a:pt x="4018" y="15801"/>
                </a:cubicBezTo>
              </a:path>
              <a:path w="8980" h="1837">
                <a:moveTo>
                  <a:pt x="4341" y="15354"/>
                </a:moveTo>
                <a:cubicBezTo>
                  <a:pt x="4329" y="15416"/>
                  <a:pt x="4316" y="15461"/>
                  <a:pt x="4316" y="15528"/>
                </a:cubicBezTo>
                <a:cubicBezTo>
                  <a:pt x="4316" y="15601"/>
                  <a:pt x="4294" y="15688"/>
                  <a:pt x="4390" y="15701"/>
                </a:cubicBezTo>
                <a:cubicBezTo>
                  <a:pt x="4451" y="15709"/>
                  <a:pt x="4525" y="15707"/>
                  <a:pt x="4564" y="15652"/>
                </a:cubicBezTo>
                <a:cubicBezTo>
                  <a:pt x="4599" y="15603"/>
                  <a:pt x="4602" y="15547"/>
                  <a:pt x="4564" y="15503"/>
                </a:cubicBezTo>
                <a:cubicBezTo>
                  <a:pt x="4514" y="15446"/>
                  <a:pt x="4426" y="15415"/>
                  <a:pt x="4390" y="15379"/>
                </a:cubicBezTo>
                <a:cubicBezTo>
                  <a:pt x="4390" y="15371"/>
                  <a:pt x="4390" y="15362"/>
                  <a:pt x="4390" y="15354"/>
                </a:cubicBezTo>
              </a:path>
              <a:path w="8980" h="1837">
                <a:moveTo>
                  <a:pt x="4787" y="15280"/>
                </a:moveTo>
                <a:cubicBezTo>
                  <a:pt x="4787" y="15377"/>
                  <a:pt x="4743" y="15604"/>
                  <a:pt x="4812" y="15677"/>
                </a:cubicBezTo>
                <a:cubicBezTo>
                  <a:pt x="4865" y="15733"/>
                  <a:pt x="4948" y="15698"/>
                  <a:pt x="4986" y="15652"/>
                </a:cubicBezTo>
                <a:cubicBezTo>
                  <a:pt x="5021" y="15609"/>
                  <a:pt x="5083" y="15459"/>
                  <a:pt x="5060" y="15404"/>
                </a:cubicBezTo>
                <a:cubicBezTo>
                  <a:pt x="5031" y="15334"/>
                  <a:pt x="4972" y="15329"/>
                  <a:pt x="4911" y="15329"/>
                </a:cubicBezTo>
                <a:cubicBezTo>
                  <a:pt x="4855" y="15329"/>
                  <a:pt x="4850" y="15314"/>
                  <a:pt x="4837" y="15354"/>
                </a:cubicBezTo>
              </a:path>
              <a:path w="8980" h="1837">
                <a:moveTo>
                  <a:pt x="5259" y="15255"/>
                </a:moveTo>
                <a:cubicBezTo>
                  <a:pt x="5259" y="15391"/>
                  <a:pt x="5254" y="15523"/>
                  <a:pt x="5283" y="15652"/>
                </a:cubicBezTo>
                <a:cubicBezTo>
                  <a:pt x="5292" y="15692"/>
                  <a:pt x="5302" y="15716"/>
                  <a:pt x="5333" y="15726"/>
                </a:cubicBezTo>
              </a:path>
              <a:path w="8980" h="1837">
                <a:moveTo>
                  <a:pt x="5804" y="14957"/>
                </a:moveTo>
                <a:cubicBezTo>
                  <a:pt x="5711" y="14976"/>
                  <a:pt x="5713" y="15022"/>
                  <a:pt x="5680" y="15106"/>
                </a:cubicBezTo>
                <a:cubicBezTo>
                  <a:pt x="5612" y="15282"/>
                  <a:pt x="5569" y="15487"/>
                  <a:pt x="5606" y="15677"/>
                </a:cubicBezTo>
                <a:cubicBezTo>
                  <a:pt x="5628" y="15790"/>
                  <a:pt x="5683" y="15918"/>
                  <a:pt x="5804" y="15949"/>
                </a:cubicBezTo>
                <a:cubicBezTo>
                  <a:pt x="5821" y="15949"/>
                  <a:pt x="5837" y="15949"/>
                  <a:pt x="5854" y="15949"/>
                </a:cubicBezTo>
              </a:path>
              <a:path w="8980" h="1837">
                <a:moveTo>
                  <a:pt x="6052" y="15652"/>
                </a:moveTo>
                <a:cubicBezTo>
                  <a:pt x="6025" y="15688"/>
                  <a:pt x="6037" y="15690"/>
                  <a:pt x="6003" y="15701"/>
                </a:cubicBezTo>
                <a:cubicBezTo>
                  <a:pt x="6038" y="15713"/>
                  <a:pt x="6028" y="15708"/>
                  <a:pt x="6028" y="15751"/>
                </a:cubicBezTo>
              </a:path>
              <a:path w="8980" h="1837">
                <a:moveTo>
                  <a:pt x="6226" y="15255"/>
                </a:moveTo>
                <a:cubicBezTo>
                  <a:pt x="6226" y="15360"/>
                  <a:pt x="6237" y="15451"/>
                  <a:pt x="6251" y="15553"/>
                </a:cubicBezTo>
                <a:cubicBezTo>
                  <a:pt x="6259" y="15610"/>
                  <a:pt x="6295" y="15651"/>
                  <a:pt x="6300" y="15701"/>
                </a:cubicBezTo>
                <a:cubicBezTo>
                  <a:pt x="6300" y="15726"/>
                  <a:pt x="6300" y="15734"/>
                  <a:pt x="6325" y="15726"/>
                </a:cubicBezTo>
              </a:path>
              <a:path w="8980" h="1837">
                <a:moveTo>
                  <a:pt x="6548" y="15280"/>
                </a:moveTo>
                <a:cubicBezTo>
                  <a:pt x="6580" y="15256"/>
                  <a:pt x="6619" y="15250"/>
                  <a:pt x="6648" y="15230"/>
                </a:cubicBezTo>
                <a:cubicBezTo>
                  <a:pt x="6683" y="15206"/>
                  <a:pt x="6706" y="15190"/>
                  <a:pt x="6747" y="15180"/>
                </a:cubicBezTo>
                <a:cubicBezTo>
                  <a:pt x="6707" y="15220"/>
                  <a:pt x="6666" y="15245"/>
                  <a:pt x="6623" y="15280"/>
                </a:cubicBezTo>
                <a:cubicBezTo>
                  <a:pt x="6572" y="15322"/>
                  <a:pt x="6500" y="15366"/>
                  <a:pt x="6474" y="15429"/>
                </a:cubicBezTo>
                <a:cubicBezTo>
                  <a:pt x="6474" y="15437"/>
                  <a:pt x="6474" y="15445"/>
                  <a:pt x="6474" y="15453"/>
                </a:cubicBezTo>
                <a:cubicBezTo>
                  <a:pt x="6535" y="15453"/>
                  <a:pt x="6539" y="15483"/>
                  <a:pt x="6598" y="15503"/>
                </a:cubicBezTo>
                <a:cubicBezTo>
                  <a:pt x="6648" y="15520"/>
                  <a:pt x="6666" y="15542"/>
                  <a:pt x="6672" y="15602"/>
                </a:cubicBezTo>
                <a:cubicBezTo>
                  <a:pt x="6676" y="15645"/>
                  <a:pt x="6681" y="15665"/>
                  <a:pt x="6648" y="15677"/>
                </a:cubicBezTo>
              </a:path>
              <a:path w="8980" h="1837">
                <a:moveTo>
                  <a:pt x="7094" y="14883"/>
                </a:moveTo>
                <a:cubicBezTo>
                  <a:pt x="7148" y="14856"/>
                  <a:pt x="7198" y="14925"/>
                  <a:pt x="7243" y="14982"/>
                </a:cubicBezTo>
                <a:cubicBezTo>
                  <a:pt x="7315" y="15073"/>
                  <a:pt x="7400" y="15213"/>
                  <a:pt x="7417" y="15329"/>
                </a:cubicBezTo>
                <a:cubicBezTo>
                  <a:pt x="7436" y="15460"/>
                  <a:pt x="7406" y="15543"/>
                  <a:pt x="7342" y="15652"/>
                </a:cubicBezTo>
              </a:path>
              <a:path w="8980" h="1837">
                <a:moveTo>
                  <a:pt x="3820" y="16098"/>
                </a:moveTo>
                <a:cubicBezTo>
                  <a:pt x="3853" y="16098"/>
                  <a:pt x="3837" y="16104"/>
                  <a:pt x="3870" y="16098"/>
                </a:cubicBezTo>
                <a:cubicBezTo>
                  <a:pt x="3955" y="16083"/>
                  <a:pt x="4028" y="16073"/>
                  <a:pt x="4118" y="16073"/>
                </a:cubicBezTo>
                <a:cubicBezTo>
                  <a:pt x="4221" y="16073"/>
                  <a:pt x="4315" y="16033"/>
                  <a:pt x="4415" y="16024"/>
                </a:cubicBezTo>
                <a:cubicBezTo>
                  <a:pt x="4519" y="16014"/>
                  <a:pt x="4611" y="15988"/>
                  <a:pt x="4713" y="15974"/>
                </a:cubicBezTo>
                <a:cubicBezTo>
                  <a:pt x="4802" y="15962"/>
                  <a:pt x="4897" y="15952"/>
                  <a:pt x="4986" y="15949"/>
                </a:cubicBezTo>
                <a:cubicBezTo>
                  <a:pt x="5130" y="15944"/>
                  <a:pt x="5272" y="15962"/>
                  <a:pt x="5407" y="15974"/>
                </a:cubicBezTo>
                <a:cubicBezTo>
                  <a:pt x="5543" y="15986"/>
                  <a:pt x="5673" y="15961"/>
                  <a:pt x="5804" y="15949"/>
                </a:cubicBezTo>
                <a:cubicBezTo>
                  <a:pt x="5918" y="15939"/>
                  <a:pt x="6043" y="15934"/>
                  <a:pt x="6152" y="15925"/>
                </a:cubicBezTo>
                <a:cubicBezTo>
                  <a:pt x="6333" y="15910"/>
                  <a:pt x="6519" y="15916"/>
                  <a:pt x="6697" y="15900"/>
                </a:cubicBezTo>
                <a:cubicBezTo>
                  <a:pt x="6764" y="15894"/>
                  <a:pt x="6835" y="15881"/>
                  <a:pt x="6896" y="15875"/>
                </a:cubicBezTo>
                <a:cubicBezTo>
                  <a:pt x="7110" y="15854"/>
                  <a:pt x="7336" y="15907"/>
                  <a:pt x="7541" y="15850"/>
                </a:cubicBezTo>
                <a:cubicBezTo>
                  <a:pt x="7571" y="15842"/>
                  <a:pt x="7588" y="15834"/>
                  <a:pt x="7615" y="15825"/>
                </a:cubicBezTo>
              </a:path>
              <a:path w="8980" h="1837">
                <a:moveTo>
                  <a:pt x="4837" y="16594"/>
                </a:moveTo>
                <a:cubicBezTo>
                  <a:pt x="4837" y="16619"/>
                  <a:pt x="4837" y="16644"/>
                  <a:pt x="4837" y="16669"/>
                </a:cubicBezTo>
                <a:cubicBezTo>
                  <a:pt x="4855" y="16665"/>
                  <a:pt x="4929" y="16630"/>
                  <a:pt x="4936" y="16619"/>
                </a:cubicBezTo>
                <a:cubicBezTo>
                  <a:pt x="4936" y="16611"/>
                  <a:pt x="4936" y="16602"/>
                  <a:pt x="4936" y="16594"/>
                </a:cubicBezTo>
                <a:cubicBezTo>
                  <a:pt x="4912" y="16548"/>
                  <a:pt x="4906" y="16609"/>
                  <a:pt x="4887" y="16619"/>
                </a:cubicBezTo>
                <a:cubicBezTo>
                  <a:pt x="4856" y="16635"/>
                  <a:pt x="4844" y="16655"/>
                  <a:pt x="4887" y="16669"/>
                </a:cubicBezTo>
              </a:path>
              <a:path w="8980" h="1837">
                <a:moveTo>
                  <a:pt x="5383" y="16024"/>
                </a:moveTo>
                <a:cubicBezTo>
                  <a:pt x="5395" y="15986"/>
                  <a:pt x="5412" y="15999"/>
                  <a:pt x="5457" y="15999"/>
                </a:cubicBezTo>
                <a:cubicBezTo>
                  <a:pt x="5498" y="15999"/>
                  <a:pt x="5536" y="16005"/>
                  <a:pt x="5556" y="16049"/>
                </a:cubicBezTo>
                <a:cubicBezTo>
                  <a:pt x="5579" y="16100"/>
                  <a:pt x="5522" y="16113"/>
                  <a:pt x="5507" y="16148"/>
                </a:cubicBezTo>
                <a:cubicBezTo>
                  <a:pt x="5507" y="16176"/>
                  <a:pt x="5505" y="16187"/>
                  <a:pt x="5482" y="16197"/>
                </a:cubicBezTo>
                <a:cubicBezTo>
                  <a:pt x="5537" y="16197"/>
                  <a:pt x="5576" y="16176"/>
                  <a:pt x="5631" y="16173"/>
                </a:cubicBezTo>
                <a:cubicBezTo>
                  <a:pt x="5679" y="16170"/>
                  <a:pt x="5732" y="16169"/>
                  <a:pt x="5755" y="16222"/>
                </a:cubicBezTo>
                <a:cubicBezTo>
                  <a:pt x="5777" y="16272"/>
                  <a:pt x="5735" y="16358"/>
                  <a:pt x="5705" y="16396"/>
                </a:cubicBezTo>
                <a:cubicBezTo>
                  <a:pt x="5697" y="16406"/>
                  <a:pt x="5606" y="16545"/>
                  <a:pt x="5581" y="16520"/>
                </a:cubicBezTo>
                <a:cubicBezTo>
                  <a:pt x="5581" y="16512"/>
                  <a:pt x="5581" y="16503"/>
                  <a:pt x="5581" y="16495"/>
                </a:cubicBezTo>
              </a:path>
              <a:path w="8980" h="1837">
                <a:moveTo>
                  <a:pt x="6003" y="16024"/>
                </a:moveTo>
                <a:cubicBezTo>
                  <a:pt x="6003" y="16032"/>
                  <a:pt x="6003" y="16041"/>
                  <a:pt x="6003" y="16049"/>
                </a:cubicBezTo>
                <a:cubicBezTo>
                  <a:pt x="6086" y="16049"/>
                  <a:pt x="6156" y="16045"/>
                  <a:pt x="6226" y="16024"/>
                </a:cubicBezTo>
                <a:cubicBezTo>
                  <a:pt x="6251" y="16024"/>
                  <a:pt x="6259" y="16024"/>
                  <a:pt x="6276" y="16024"/>
                </a:cubicBezTo>
              </a:path>
              <a:path w="8980" h="1837">
                <a:moveTo>
                  <a:pt x="6102" y="16098"/>
                </a:moveTo>
                <a:cubicBezTo>
                  <a:pt x="6016" y="16142"/>
                  <a:pt x="5990" y="16176"/>
                  <a:pt x="5928" y="16247"/>
                </a:cubicBezTo>
                <a:cubicBezTo>
                  <a:pt x="5875" y="16308"/>
                  <a:pt x="5879" y="16301"/>
                  <a:pt x="5879" y="16371"/>
                </a:cubicBezTo>
                <a:cubicBezTo>
                  <a:pt x="5953" y="16371"/>
                  <a:pt x="6007" y="16350"/>
                  <a:pt x="6077" y="16346"/>
                </a:cubicBezTo>
                <a:cubicBezTo>
                  <a:pt x="6111" y="16344"/>
                  <a:pt x="6182" y="16332"/>
                  <a:pt x="6201" y="16371"/>
                </a:cubicBezTo>
                <a:cubicBezTo>
                  <a:pt x="6228" y="16425"/>
                  <a:pt x="6174" y="16500"/>
                  <a:pt x="6152" y="16545"/>
                </a:cubicBezTo>
                <a:cubicBezTo>
                  <a:pt x="6133" y="16583"/>
                  <a:pt x="6098" y="16658"/>
                  <a:pt x="6077" y="16594"/>
                </a:cubicBezTo>
              </a:path>
              <a:path w="8980" h="1837">
                <a:moveTo>
                  <a:pt x="6350" y="16197"/>
                </a:moveTo>
                <a:cubicBezTo>
                  <a:pt x="6350" y="16277"/>
                  <a:pt x="6342" y="16348"/>
                  <a:pt x="6375" y="16421"/>
                </a:cubicBezTo>
                <a:cubicBezTo>
                  <a:pt x="6410" y="16500"/>
                  <a:pt x="6480" y="16476"/>
                  <a:pt x="6548" y="16446"/>
                </a:cubicBezTo>
                <a:cubicBezTo>
                  <a:pt x="6623" y="16413"/>
                  <a:pt x="6642" y="16348"/>
                  <a:pt x="6648" y="16272"/>
                </a:cubicBezTo>
                <a:cubicBezTo>
                  <a:pt x="6653" y="16205"/>
                  <a:pt x="6606" y="16179"/>
                  <a:pt x="6548" y="16173"/>
                </a:cubicBezTo>
                <a:cubicBezTo>
                  <a:pt x="6515" y="16170"/>
                  <a:pt x="6482" y="16173"/>
                  <a:pt x="6449" y="16173"/>
                </a:cubicBezTo>
              </a:path>
              <a:path w="8980" h="1837">
                <a:moveTo>
                  <a:pt x="7888" y="15602"/>
                </a:moveTo>
                <a:cubicBezTo>
                  <a:pt x="7888" y="15627"/>
                  <a:pt x="7888" y="15635"/>
                  <a:pt x="7863" y="15627"/>
                </a:cubicBezTo>
                <a:cubicBezTo>
                  <a:pt x="7930" y="15627"/>
                  <a:pt x="7970" y="15590"/>
                  <a:pt x="8037" y="15577"/>
                </a:cubicBezTo>
                <a:cubicBezTo>
                  <a:pt x="8096" y="15566"/>
                  <a:pt x="8158" y="15534"/>
                  <a:pt x="8210" y="15528"/>
                </a:cubicBezTo>
                <a:cubicBezTo>
                  <a:pt x="8218" y="15528"/>
                  <a:pt x="8227" y="15528"/>
                  <a:pt x="8235" y="15528"/>
                </a:cubicBezTo>
              </a:path>
              <a:path w="8980" h="1837">
                <a:moveTo>
                  <a:pt x="7962" y="15850"/>
                </a:moveTo>
                <a:cubicBezTo>
                  <a:pt x="7962" y="15858"/>
                  <a:pt x="7962" y="15867"/>
                  <a:pt x="7962" y="15875"/>
                </a:cubicBezTo>
                <a:cubicBezTo>
                  <a:pt x="8052" y="15875"/>
                  <a:pt x="8126" y="15871"/>
                  <a:pt x="8210" y="15850"/>
                </a:cubicBezTo>
                <a:cubicBezTo>
                  <a:pt x="8247" y="15841"/>
                  <a:pt x="8272" y="15822"/>
                  <a:pt x="8310" y="15801"/>
                </a:cubicBezTo>
              </a:path>
              <a:path w="8980" h="1837">
                <a:moveTo>
                  <a:pt x="8830" y="15652"/>
                </a:moveTo>
                <a:cubicBezTo>
                  <a:pt x="8822" y="15652"/>
                  <a:pt x="8814" y="15652"/>
                  <a:pt x="8806" y="15652"/>
                </a:cubicBezTo>
                <a:cubicBezTo>
                  <a:pt x="8823" y="15688"/>
                  <a:pt x="8891" y="15584"/>
                  <a:pt x="8855" y="15602"/>
                </a:cubicBezTo>
                <a:cubicBezTo>
                  <a:pt x="8850" y="15605"/>
                  <a:pt x="8763" y="15720"/>
                  <a:pt x="8830" y="15652"/>
                </a:cubicBezTo>
                <a:cubicBezTo>
                  <a:pt x="8867" y="15614"/>
                  <a:pt x="8838" y="15591"/>
                  <a:pt x="8880" y="15577"/>
                </a:cubicBezTo>
              </a:path>
              <a:path w="8980" h="1837">
                <a:moveTo>
                  <a:pt x="8632" y="15081"/>
                </a:moveTo>
                <a:cubicBezTo>
                  <a:pt x="8632" y="15073"/>
                  <a:pt x="8632" y="15064"/>
                  <a:pt x="8632" y="15056"/>
                </a:cubicBezTo>
                <a:cubicBezTo>
                  <a:pt x="8581" y="15073"/>
                  <a:pt x="8606" y="15107"/>
                  <a:pt x="8582" y="15156"/>
                </a:cubicBezTo>
                <a:cubicBezTo>
                  <a:pt x="8563" y="15194"/>
                  <a:pt x="8546" y="15240"/>
                  <a:pt x="8533" y="15280"/>
                </a:cubicBezTo>
                <a:cubicBezTo>
                  <a:pt x="8516" y="15331"/>
                  <a:pt x="8578" y="15329"/>
                  <a:pt x="8607" y="15329"/>
                </a:cubicBezTo>
                <a:cubicBezTo>
                  <a:pt x="8673" y="15329"/>
                  <a:pt x="8679" y="15297"/>
                  <a:pt x="8731" y="15280"/>
                </a:cubicBezTo>
                <a:cubicBezTo>
                  <a:pt x="8771" y="15267"/>
                  <a:pt x="8795" y="15264"/>
                  <a:pt x="8806" y="15230"/>
                </a:cubicBezTo>
              </a:path>
              <a:path w="8980" h="1837">
                <a:moveTo>
                  <a:pt x="8830" y="14982"/>
                </a:moveTo>
                <a:cubicBezTo>
                  <a:pt x="8796" y="15017"/>
                  <a:pt x="8763" y="15055"/>
                  <a:pt x="8756" y="15106"/>
                </a:cubicBezTo>
                <a:cubicBezTo>
                  <a:pt x="8741" y="15215"/>
                  <a:pt x="8731" y="15316"/>
                  <a:pt x="8731" y="15429"/>
                </a:cubicBezTo>
                <a:cubicBezTo>
                  <a:pt x="8731" y="15501"/>
                  <a:pt x="8729" y="15634"/>
                  <a:pt x="8706" y="15701"/>
                </a:cubicBezTo>
                <a:cubicBezTo>
                  <a:pt x="8684" y="15724"/>
                  <a:pt x="8676" y="15729"/>
                  <a:pt x="8682" y="15751"/>
                </a:cubicBezTo>
              </a:path>
              <a:path w="8980" h="1837">
                <a:moveTo>
                  <a:pt x="9153" y="15131"/>
                </a:moveTo>
                <a:cubicBezTo>
                  <a:pt x="9206" y="15131"/>
                  <a:pt x="9205" y="15127"/>
                  <a:pt x="9227" y="15156"/>
                </a:cubicBezTo>
                <a:cubicBezTo>
                  <a:pt x="9278" y="15223"/>
                  <a:pt x="9277" y="15243"/>
                  <a:pt x="9277" y="15329"/>
                </a:cubicBezTo>
                <a:cubicBezTo>
                  <a:pt x="9277" y="15417"/>
                  <a:pt x="9227" y="15531"/>
                  <a:pt x="9178" y="15602"/>
                </a:cubicBezTo>
                <a:cubicBezTo>
                  <a:pt x="9149" y="15644"/>
                  <a:pt x="9111" y="15686"/>
                  <a:pt x="9079" y="15726"/>
                </a:cubicBezTo>
                <a:cubicBezTo>
                  <a:pt x="9023" y="15690"/>
                  <a:pt x="9068" y="15640"/>
                  <a:pt x="9079" y="15577"/>
                </a:cubicBezTo>
                <a:cubicBezTo>
                  <a:pt x="9088" y="15524"/>
                  <a:pt x="9090" y="15485"/>
                  <a:pt x="9153" y="15478"/>
                </a:cubicBezTo>
                <a:cubicBezTo>
                  <a:pt x="9201" y="15473"/>
                  <a:pt x="9239" y="15499"/>
                  <a:pt x="9277" y="15528"/>
                </a:cubicBezTo>
                <a:cubicBezTo>
                  <a:pt x="9292" y="15539"/>
                  <a:pt x="9373" y="15598"/>
                  <a:pt x="9376" y="15602"/>
                </a:cubicBezTo>
                <a:cubicBezTo>
                  <a:pt x="9376" y="15627"/>
                  <a:pt x="9376" y="15635"/>
                  <a:pt x="9401" y="15627"/>
                </a:cubicBezTo>
              </a:path>
              <a:path w="8980" h="1837">
                <a:moveTo>
                  <a:pt x="9723" y="15081"/>
                </a:moveTo>
                <a:cubicBezTo>
                  <a:pt x="9711" y="15042"/>
                  <a:pt x="9683" y="15059"/>
                  <a:pt x="9649" y="15081"/>
                </a:cubicBezTo>
                <a:cubicBezTo>
                  <a:pt x="9610" y="15107"/>
                  <a:pt x="9590" y="15144"/>
                  <a:pt x="9575" y="15180"/>
                </a:cubicBezTo>
                <a:cubicBezTo>
                  <a:pt x="9553" y="15232"/>
                  <a:pt x="9550" y="15250"/>
                  <a:pt x="9550" y="15304"/>
                </a:cubicBezTo>
                <a:cubicBezTo>
                  <a:pt x="9602" y="15304"/>
                  <a:pt x="9611" y="15292"/>
                  <a:pt x="9649" y="15255"/>
                </a:cubicBezTo>
                <a:cubicBezTo>
                  <a:pt x="9677" y="15227"/>
                  <a:pt x="9676" y="15211"/>
                  <a:pt x="9699" y="15180"/>
                </a:cubicBezTo>
                <a:cubicBezTo>
                  <a:pt x="9699" y="15117"/>
                  <a:pt x="9722" y="15266"/>
                  <a:pt x="9723" y="15280"/>
                </a:cubicBezTo>
                <a:cubicBezTo>
                  <a:pt x="9728" y="15359"/>
                  <a:pt x="9703" y="15426"/>
                  <a:pt x="9699" y="15503"/>
                </a:cubicBezTo>
                <a:cubicBezTo>
                  <a:pt x="9695" y="15573"/>
                  <a:pt x="9674" y="15627"/>
                  <a:pt x="9674" y="15701"/>
                </a:cubicBezTo>
                <a:cubicBezTo>
                  <a:pt x="9674" y="15709"/>
                  <a:pt x="9674" y="15793"/>
                  <a:pt x="9674" y="15726"/>
                </a:cubicBezTo>
              </a:path>
              <a:path w="8980" h="1837">
                <a:moveTo>
                  <a:pt x="10021" y="15404"/>
                </a:moveTo>
                <a:cubicBezTo>
                  <a:pt x="9996" y="15436"/>
                  <a:pt x="9991" y="15473"/>
                  <a:pt x="9971" y="15503"/>
                </a:cubicBezTo>
                <a:cubicBezTo>
                  <a:pt x="9940" y="15551"/>
                  <a:pt x="9947" y="15592"/>
                  <a:pt x="9947" y="15652"/>
                </a:cubicBezTo>
                <a:cubicBezTo>
                  <a:pt x="9947" y="15695"/>
                  <a:pt x="9982" y="15722"/>
                  <a:pt x="10021" y="15726"/>
                </a:cubicBezTo>
                <a:cubicBezTo>
                  <a:pt x="10076" y="15732"/>
                  <a:pt x="10111" y="15686"/>
                  <a:pt x="10145" y="15652"/>
                </a:cubicBezTo>
                <a:cubicBezTo>
                  <a:pt x="10170" y="15627"/>
                  <a:pt x="10178" y="15619"/>
                  <a:pt x="10195" y="15602"/>
                </a:cubicBezTo>
              </a:path>
              <a:path w="8980" h="1837">
                <a:moveTo>
                  <a:pt x="10046" y="15528"/>
                </a:moveTo>
                <a:cubicBezTo>
                  <a:pt x="10017" y="15541"/>
                  <a:pt x="9938" y="15566"/>
                  <a:pt x="9971" y="15553"/>
                </a:cubicBezTo>
                <a:cubicBezTo>
                  <a:pt x="10010" y="15538"/>
                  <a:pt x="10059" y="15507"/>
                  <a:pt x="10096" y="15478"/>
                </a:cubicBezTo>
                <a:cubicBezTo>
                  <a:pt x="10104" y="15470"/>
                  <a:pt x="10112" y="15461"/>
                  <a:pt x="10120" y="15453"/>
                </a:cubicBezTo>
              </a:path>
              <a:path w="8980" h="1837">
                <a:moveTo>
                  <a:pt x="10021" y="15280"/>
                </a:moveTo>
                <a:cubicBezTo>
                  <a:pt x="10049" y="15259"/>
                  <a:pt x="10112" y="15214"/>
                  <a:pt x="10145" y="15205"/>
                </a:cubicBezTo>
                <a:cubicBezTo>
                  <a:pt x="10197" y="15205"/>
                  <a:pt x="10215" y="15204"/>
                  <a:pt x="10244" y="15180"/>
                </a:cubicBezTo>
              </a:path>
              <a:path w="8980" h="1837">
                <a:moveTo>
                  <a:pt x="10344" y="15404"/>
                </a:moveTo>
                <a:cubicBezTo>
                  <a:pt x="10401" y="15404"/>
                  <a:pt x="10422" y="15395"/>
                  <a:pt x="10468" y="15379"/>
                </a:cubicBezTo>
                <a:cubicBezTo>
                  <a:pt x="10487" y="15373"/>
                  <a:pt x="10522" y="15379"/>
                  <a:pt x="10542" y="15379"/>
                </a:cubicBezTo>
              </a:path>
              <a:path w="8980" h="1837">
                <a:moveTo>
                  <a:pt x="10815" y="15081"/>
                </a:moveTo>
                <a:cubicBezTo>
                  <a:pt x="10803" y="15130"/>
                  <a:pt x="10755" y="15159"/>
                  <a:pt x="10740" y="15205"/>
                </a:cubicBezTo>
                <a:cubicBezTo>
                  <a:pt x="10734" y="15224"/>
                  <a:pt x="10740" y="15260"/>
                  <a:pt x="10740" y="15280"/>
                </a:cubicBezTo>
                <a:cubicBezTo>
                  <a:pt x="10779" y="15289"/>
                  <a:pt x="10796" y="15304"/>
                  <a:pt x="10840" y="15304"/>
                </a:cubicBezTo>
                <a:cubicBezTo>
                  <a:pt x="10878" y="15304"/>
                  <a:pt x="10895" y="15280"/>
                  <a:pt x="10939" y="15280"/>
                </a:cubicBezTo>
                <a:cubicBezTo>
                  <a:pt x="10976" y="15280"/>
                  <a:pt x="11010" y="15251"/>
                  <a:pt x="11038" y="15230"/>
                </a:cubicBezTo>
              </a:path>
              <a:path w="8980" h="1837">
                <a:moveTo>
                  <a:pt x="11112" y="14957"/>
                </a:moveTo>
                <a:cubicBezTo>
                  <a:pt x="11079" y="14991"/>
                  <a:pt x="11059" y="15019"/>
                  <a:pt x="11038" y="15056"/>
                </a:cubicBezTo>
                <a:cubicBezTo>
                  <a:pt x="10996" y="15129"/>
                  <a:pt x="11007" y="15224"/>
                  <a:pt x="10988" y="15304"/>
                </a:cubicBezTo>
                <a:cubicBezTo>
                  <a:pt x="10969" y="15383"/>
                  <a:pt x="10964" y="15447"/>
                  <a:pt x="10964" y="15528"/>
                </a:cubicBezTo>
                <a:cubicBezTo>
                  <a:pt x="10964" y="15569"/>
                  <a:pt x="10964" y="15577"/>
                  <a:pt x="10964" y="15602"/>
                </a:cubicBezTo>
              </a:path>
              <a:path w="8980" h="1837">
                <a:moveTo>
                  <a:pt x="11609" y="15131"/>
                </a:moveTo>
                <a:cubicBezTo>
                  <a:pt x="11581" y="15214"/>
                  <a:pt x="11564" y="15292"/>
                  <a:pt x="11534" y="15379"/>
                </a:cubicBezTo>
                <a:cubicBezTo>
                  <a:pt x="11513" y="15439"/>
                  <a:pt x="11491" y="15515"/>
                  <a:pt x="11485" y="15577"/>
                </a:cubicBezTo>
                <a:cubicBezTo>
                  <a:pt x="11485" y="15585"/>
                  <a:pt x="11485" y="15594"/>
                  <a:pt x="11485" y="15602"/>
                </a:cubicBezTo>
                <a:cubicBezTo>
                  <a:pt x="11511" y="15566"/>
                  <a:pt x="11551" y="15499"/>
                  <a:pt x="11559" y="15453"/>
                </a:cubicBezTo>
                <a:cubicBezTo>
                  <a:pt x="11576" y="15355"/>
                  <a:pt x="11584" y="15258"/>
                  <a:pt x="11584" y="15156"/>
                </a:cubicBezTo>
                <a:cubicBezTo>
                  <a:pt x="11584" y="15128"/>
                  <a:pt x="11587" y="14976"/>
                  <a:pt x="11609" y="14957"/>
                </a:cubicBezTo>
                <a:cubicBezTo>
                  <a:pt x="11617" y="14957"/>
                  <a:pt x="11625" y="14957"/>
                  <a:pt x="11633" y="14957"/>
                </a:cubicBezTo>
                <a:cubicBezTo>
                  <a:pt x="11686" y="15023"/>
                  <a:pt x="11706" y="15099"/>
                  <a:pt x="11733" y="15180"/>
                </a:cubicBezTo>
                <a:cubicBezTo>
                  <a:pt x="11765" y="15276"/>
                  <a:pt x="11792" y="15383"/>
                  <a:pt x="11807" y="15478"/>
                </a:cubicBezTo>
                <a:cubicBezTo>
                  <a:pt x="11813" y="15517"/>
                  <a:pt x="11807" y="15562"/>
                  <a:pt x="11807" y="15602"/>
                </a:cubicBezTo>
              </a:path>
              <a:path w="8980" h="1837">
                <a:moveTo>
                  <a:pt x="11633" y="15503"/>
                </a:moveTo>
                <a:cubicBezTo>
                  <a:pt x="11633" y="15495"/>
                  <a:pt x="11633" y="15486"/>
                  <a:pt x="11633" y="15478"/>
                </a:cubicBezTo>
                <a:cubicBezTo>
                  <a:pt x="11675" y="15468"/>
                  <a:pt x="11715" y="15444"/>
                  <a:pt x="11757" y="15429"/>
                </a:cubicBezTo>
                <a:cubicBezTo>
                  <a:pt x="11837" y="15401"/>
                  <a:pt x="11908" y="15345"/>
                  <a:pt x="11981" y="15304"/>
                </a:cubicBezTo>
              </a:path>
              <a:path w="8980" h="1837">
                <a:moveTo>
                  <a:pt x="12154" y="15255"/>
                </a:moveTo>
                <a:cubicBezTo>
                  <a:pt x="12106" y="15303"/>
                  <a:pt x="12064" y="15344"/>
                  <a:pt x="12030" y="15404"/>
                </a:cubicBezTo>
                <a:cubicBezTo>
                  <a:pt x="12010" y="15444"/>
                  <a:pt x="12001" y="15450"/>
                  <a:pt x="12005" y="15478"/>
                </a:cubicBezTo>
                <a:cubicBezTo>
                  <a:pt x="12060" y="15467"/>
                  <a:pt x="12095" y="15453"/>
                  <a:pt x="12154" y="15453"/>
                </a:cubicBezTo>
                <a:cubicBezTo>
                  <a:pt x="12245" y="15453"/>
                  <a:pt x="12229" y="15507"/>
                  <a:pt x="12229" y="15577"/>
                </a:cubicBezTo>
                <a:cubicBezTo>
                  <a:pt x="12229" y="15658"/>
                  <a:pt x="12198" y="15780"/>
                  <a:pt x="12154" y="15850"/>
                </a:cubicBezTo>
                <a:cubicBezTo>
                  <a:pt x="12130" y="15888"/>
                  <a:pt x="12086" y="15934"/>
                  <a:pt x="12055" y="15949"/>
                </a:cubicBezTo>
                <a:cubicBezTo>
                  <a:pt x="12055" y="15872"/>
                  <a:pt x="12045" y="15799"/>
                  <a:pt x="12080" y="15726"/>
                </a:cubicBezTo>
                <a:cubicBezTo>
                  <a:pt x="12113" y="15658"/>
                  <a:pt x="12166" y="15595"/>
                  <a:pt x="12204" y="15528"/>
                </a:cubicBezTo>
              </a:path>
              <a:path w="8980" h="1837">
                <a:moveTo>
                  <a:pt x="12402" y="14858"/>
                </a:moveTo>
                <a:cubicBezTo>
                  <a:pt x="12417" y="14919"/>
                  <a:pt x="12441" y="14908"/>
                  <a:pt x="12502" y="14908"/>
                </a:cubicBezTo>
                <a:cubicBezTo>
                  <a:pt x="12561" y="14908"/>
                  <a:pt x="12609" y="14865"/>
                  <a:pt x="12675" y="14883"/>
                </a:cubicBezTo>
                <a:cubicBezTo>
                  <a:pt x="12748" y="14903"/>
                  <a:pt x="12763" y="14967"/>
                  <a:pt x="12774" y="15032"/>
                </a:cubicBezTo>
                <a:cubicBezTo>
                  <a:pt x="12803" y="15214"/>
                  <a:pt x="12823" y="15584"/>
                  <a:pt x="12750" y="15751"/>
                </a:cubicBezTo>
                <a:cubicBezTo>
                  <a:pt x="12719" y="15822"/>
                  <a:pt x="12736" y="15871"/>
                  <a:pt x="12650" y="15900"/>
                </a:cubicBezTo>
                <a:cubicBezTo>
                  <a:pt x="12620" y="15910"/>
                  <a:pt x="12556" y="15900"/>
                  <a:pt x="12526" y="15900"/>
                </a:cubicBezTo>
              </a:path>
              <a:path w="8980" h="1837">
                <a:moveTo>
                  <a:pt x="11609" y="14858"/>
                </a:moveTo>
                <a:cubicBezTo>
                  <a:pt x="11553" y="14858"/>
                  <a:pt x="11575" y="14838"/>
                  <a:pt x="11534" y="14833"/>
                </a:cubicBezTo>
                <a:cubicBezTo>
                  <a:pt x="11509" y="14830"/>
                  <a:pt x="11445" y="14843"/>
                  <a:pt x="11435" y="14858"/>
                </a:cubicBezTo>
                <a:cubicBezTo>
                  <a:pt x="11419" y="14883"/>
                  <a:pt x="11399" y="14894"/>
                  <a:pt x="11385" y="14932"/>
                </a:cubicBezTo>
                <a:cubicBezTo>
                  <a:pt x="11373" y="14965"/>
                  <a:pt x="11373" y="14999"/>
                  <a:pt x="11361" y="15032"/>
                </a:cubicBezTo>
                <a:cubicBezTo>
                  <a:pt x="11330" y="15116"/>
                  <a:pt x="11315" y="15214"/>
                  <a:pt x="11311" y="15304"/>
                </a:cubicBezTo>
                <a:cubicBezTo>
                  <a:pt x="11306" y="15399"/>
                  <a:pt x="11290" y="15484"/>
                  <a:pt x="11286" y="15577"/>
                </a:cubicBezTo>
                <a:cubicBezTo>
                  <a:pt x="11283" y="15651"/>
                  <a:pt x="11288" y="15733"/>
                  <a:pt x="11311" y="15801"/>
                </a:cubicBezTo>
                <a:cubicBezTo>
                  <a:pt x="11333" y="15865"/>
                  <a:pt x="11336" y="15905"/>
                  <a:pt x="11336" y="15974"/>
                </a:cubicBezTo>
                <a:cubicBezTo>
                  <a:pt x="11336" y="15999"/>
                  <a:pt x="11336" y="16024"/>
                  <a:pt x="11336" y="16049"/>
                </a:cubicBezTo>
                <a:cubicBezTo>
                  <a:pt x="11460" y="16049"/>
                  <a:pt x="11584" y="16049"/>
                  <a:pt x="11708" y="160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18040" y="5241960"/>
            <a:ext cx="1866960" cy="642960"/>
          </a:xfrm>
          <a:custGeom>
            <a:avLst/>
            <a:gdLst/>
            <a:ahLst/>
            <a:rect l="l" t="t" r="r" b="b"/>
            <a:pathLst>
              <a:path w="5185" h="1787">
                <a:moveTo>
                  <a:pt x="14213" y="15156"/>
                </a:moveTo>
                <a:cubicBezTo>
                  <a:pt x="14146" y="15172"/>
                  <a:pt x="14179" y="15217"/>
                  <a:pt x="14188" y="15205"/>
                </a:cubicBezTo>
                <a:cubicBezTo>
                  <a:pt x="14188" y="15197"/>
                  <a:pt x="14188" y="15188"/>
                  <a:pt x="14188" y="15180"/>
                </a:cubicBezTo>
                <a:cubicBezTo>
                  <a:pt x="14187" y="15184"/>
                  <a:pt x="14167" y="15251"/>
                  <a:pt x="14163" y="15255"/>
                </a:cubicBezTo>
                <a:cubicBezTo>
                  <a:pt x="14135" y="15255"/>
                  <a:pt x="14130" y="15252"/>
                  <a:pt x="14163" y="15230"/>
                </a:cubicBezTo>
              </a:path>
              <a:path w="5185" h="1787">
                <a:moveTo>
                  <a:pt x="14536" y="14808"/>
                </a:moveTo>
                <a:cubicBezTo>
                  <a:pt x="14563" y="14788"/>
                  <a:pt x="14610" y="14759"/>
                  <a:pt x="14635" y="14808"/>
                </a:cubicBezTo>
                <a:cubicBezTo>
                  <a:pt x="14657" y="14852"/>
                  <a:pt x="14671" y="14930"/>
                  <a:pt x="14660" y="14982"/>
                </a:cubicBezTo>
                <a:cubicBezTo>
                  <a:pt x="14642" y="15064"/>
                  <a:pt x="14579" y="15140"/>
                  <a:pt x="14511" y="15180"/>
                </a:cubicBezTo>
                <a:cubicBezTo>
                  <a:pt x="14470" y="15200"/>
                  <a:pt x="14464" y="15209"/>
                  <a:pt x="14436" y="15205"/>
                </a:cubicBezTo>
                <a:cubicBezTo>
                  <a:pt x="14436" y="15163"/>
                  <a:pt x="14452" y="15110"/>
                  <a:pt x="14486" y="15081"/>
                </a:cubicBezTo>
                <a:cubicBezTo>
                  <a:pt x="14541" y="15034"/>
                  <a:pt x="14605" y="15055"/>
                  <a:pt x="14660" y="15081"/>
                </a:cubicBezTo>
                <a:cubicBezTo>
                  <a:pt x="14714" y="15107"/>
                  <a:pt x="14723" y="15137"/>
                  <a:pt x="14759" y="15180"/>
                </a:cubicBezTo>
              </a:path>
              <a:path w="5185" h="1787">
                <a:moveTo>
                  <a:pt x="14139" y="14635"/>
                </a:moveTo>
                <a:cubicBezTo>
                  <a:pt x="14139" y="14627"/>
                  <a:pt x="14139" y="14618"/>
                  <a:pt x="14139" y="14610"/>
                </a:cubicBezTo>
                <a:cubicBezTo>
                  <a:pt x="14116" y="14618"/>
                  <a:pt x="14085" y="14652"/>
                  <a:pt x="14064" y="14684"/>
                </a:cubicBezTo>
                <a:cubicBezTo>
                  <a:pt x="13995" y="14791"/>
                  <a:pt x="13968" y="14848"/>
                  <a:pt x="13965" y="14982"/>
                </a:cubicBezTo>
                <a:cubicBezTo>
                  <a:pt x="13961" y="15140"/>
                  <a:pt x="13956" y="15233"/>
                  <a:pt x="14064" y="15354"/>
                </a:cubicBezTo>
                <a:cubicBezTo>
                  <a:pt x="14081" y="15371"/>
                  <a:pt x="14097" y="15387"/>
                  <a:pt x="14114" y="15404"/>
                </a:cubicBezTo>
              </a:path>
              <a:path w="5185" h="1787">
                <a:moveTo>
                  <a:pt x="14808" y="14610"/>
                </a:moveTo>
                <a:cubicBezTo>
                  <a:pt x="14874" y="14712"/>
                  <a:pt x="14897" y="14791"/>
                  <a:pt x="14932" y="14908"/>
                </a:cubicBezTo>
                <a:cubicBezTo>
                  <a:pt x="14960" y="15002"/>
                  <a:pt x="14986" y="15138"/>
                  <a:pt x="14932" y="15230"/>
                </a:cubicBezTo>
                <a:cubicBezTo>
                  <a:pt x="14893" y="15297"/>
                  <a:pt x="14848" y="15359"/>
                  <a:pt x="14808" y="15429"/>
                </a:cubicBezTo>
              </a:path>
              <a:path w="5185" h="1787">
                <a:moveTo>
                  <a:pt x="15280" y="14585"/>
                </a:moveTo>
                <a:cubicBezTo>
                  <a:pt x="15242" y="14610"/>
                  <a:pt x="15181" y="14662"/>
                  <a:pt x="15156" y="14709"/>
                </a:cubicBezTo>
                <a:cubicBezTo>
                  <a:pt x="15093" y="14825"/>
                  <a:pt x="15106" y="14954"/>
                  <a:pt x="15106" y="15081"/>
                </a:cubicBezTo>
                <a:cubicBezTo>
                  <a:pt x="15106" y="15206"/>
                  <a:pt x="15106" y="15275"/>
                  <a:pt x="15180" y="15379"/>
                </a:cubicBezTo>
                <a:cubicBezTo>
                  <a:pt x="15205" y="15404"/>
                  <a:pt x="15213" y="15412"/>
                  <a:pt x="15230" y="15429"/>
                </a:cubicBezTo>
              </a:path>
              <a:path w="5185" h="1787">
                <a:moveTo>
                  <a:pt x="15404" y="14883"/>
                </a:moveTo>
                <a:cubicBezTo>
                  <a:pt x="15396" y="14883"/>
                  <a:pt x="15387" y="14883"/>
                  <a:pt x="15379" y="14883"/>
                </a:cubicBezTo>
                <a:cubicBezTo>
                  <a:pt x="15393" y="14925"/>
                  <a:pt x="15427" y="14908"/>
                  <a:pt x="15478" y="14908"/>
                </a:cubicBezTo>
                <a:cubicBezTo>
                  <a:pt x="15528" y="14908"/>
                  <a:pt x="15577" y="14908"/>
                  <a:pt x="15627" y="14908"/>
                </a:cubicBezTo>
              </a:path>
              <a:path w="5185" h="1787">
                <a:moveTo>
                  <a:pt x="15429" y="14982"/>
                </a:moveTo>
                <a:cubicBezTo>
                  <a:pt x="15393" y="15003"/>
                  <a:pt x="15323" y="15038"/>
                  <a:pt x="15304" y="15081"/>
                </a:cubicBezTo>
                <a:cubicBezTo>
                  <a:pt x="15304" y="15106"/>
                  <a:pt x="15304" y="15114"/>
                  <a:pt x="15304" y="15131"/>
                </a:cubicBezTo>
                <a:cubicBezTo>
                  <a:pt x="15378" y="15131"/>
                  <a:pt x="15464" y="15114"/>
                  <a:pt x="15528" y="15156"/>
                </a:cubicBezTo>
                <a:cubicBezTo>
                  <a:pt x="15565" y="15180"/>
                  <a:pt x="15571" y="15258"/>
                  <a:pt x="15528" y="15280"/>
                </a:cubicBezTo>
                <a:cubicBezTo>
                  <a:pt x="15506" y="15291"/>
                  <a:pt x="15478" y="15298"/>
                  <a:pt x="15453" y="15304"/>
                </a:cubicBezTo>
              </a:path>
              <a:path w="5185" h="1787">
                <a:moveTo>
                  <a:pt x="15850" y="14560"/>
                </a:moveTo>
                <a:cubicBezTo>
                  <a:pt x="15872" y="14567"/>
                  <a:pt x="15925" y="14632"/>
                  <a:pt x="15949" y="14660"/>
                </a:cubicBezTo>
                <a:cubicBezTo>
                  <a:pt x="16024" y="14748"/>
                  <a:pt x="16067" y="14848"/>
                  <a:pt x="16098" y="14957"/>
                </a:cubicBezTo>
                <a:cubicBezTo>
                  <a:pt x="16132" y="15076"/>
                  <a:pt x="16125" y="15178"/>
                  <a:pt x="16049" y="15280"/>
                </a:cubicBezTo>
                <a:cubicBezTo>
                  <a:pt x="15991" y="15358"/>
                  <a:pt x="15923" y="15419"/>
                  <a:pt x="15850" y="15478"/>
                </a:cubicBezTo>
              </a:path>
              <a:path w="5185" h="1787">
                <a:moveTo>
                  <a:pt x="13940" y="15627"/>
                </a:moveTo>
                <a:cubicBezTo>
                  <a:pt x="14355" y="15627"/>
                  <a:pt x="14768" y="15620"/>
                  <a:pt x="15180" y="15602"/>
                </a:cubicBezTo>
                <a:cubicBezTo>
                  <a:pt x="15567" y="15585"/>
                  <a:pt x="15958" y="15602"/>
                  <a:pt x="16346" y="15602"/>
                </a:cubicBezTo>
              </a:path>
              <a:path w="5185" h="1787">
                <a:moveTo>
                  <a:pt x="14436" y="16297"/>
                </a:moveTo>
                <a:cubicBezTo>
                  <a:pt x="14472" y="16270"/>
                  <a:pt x="14475" y="16280"/>
                  <a:pt x="14486" y="16247"/>
                </a:cubicBezTo>
                <a:cubicBezTo>
                  <a:pt x="14482" y="16261"/>
                  <a:pt x="14440" y="16329"/>
                  <a:pt x="14461" y="16346"/>
                </a:cubicBezTo>
                <a:cubicBezTo>
                  <a:pt x="14487" y="16366"/>
                  <a:pt x="14521" y="16332"/>
                  <a:pt x="14536" y="16321"/>
                </a:cubicBezTo>
              </a:path>
              <a:path w="5185" h="1787">
                <a:moveTo>
                  <a:pt x="14833" y="15850"/>
                </a:moveTo>
                <a:cubicBezTo>
                  <a:pt x="14891" y="15850"/>
                  <a:pt x="14914" y="15843"/>
                  <a:pt x="14932" y="15900"/>
                </a:cubicBezTo>
                <a:cubicBezTo>
                  <a:pt x="14941" y="15927"/>
                  <a:pt x="14900" y="15980"/>
                  <a:pt x="14883" y="15999"/>
                </a:cubicBezTo>
                <a:cubicBezTo>
                  <a:pt x="14850" y="16036"/>
                  <a:pt x="14870" y="16037"/>
                  <a:pt x="14833" y="16049"/>
                </a:cubicBezTo>
                <a:cubicBezTo>
                  <a:pt x="14860" y="16033"/>
                  <a:pt x="14920" y="16003"/>
                  <a:pt x="14957" y="16024"/>
                </a:cubicBezTo>
                <a:cubicBezTo>
                  <a:pt x="14996" y="16046"/>
                  <a:pt x="15048" y="16101"/>
                  <a:pt x="15032" y="16148"/>
                </a:cubicBezTo>
                <a:cubicBezTo>
                  <a:pt x="15017" y="16194"/>
                  <a:pt x="14951" y="16229"/>
                  <a:pt x="14932" y="16272"/>
                </a:cubicBezTo>
                <a:cubicBezTo>
                  <a:pt x="14932" y="16280"/>
                  <a:pt x="14932" y="16289"/>
                  <a:pt x="14932" y="16297"/>
                </a:cubicBezTo>
              </a:path>
              <a:path w="5185" h="1787">
                <a:moveTo>
                  <a:pt x="15329" y="15925"/>
                </a:moveTo>
                <a:cubicBezTo>
                  <a:pt x="15294" y="15925"/>
                  <a:pt x="15256" y="15932"/>
                  <a:pt x="15230" y="15949"/>
                </a:cubicBezTo>
                <a:cubicBezTo>
                  <a:pt x="15187" y="15977"/>
                  <a:pt x="15180" y="16003"/>
                  <a:pt x="15180" y="16049"/>
                </a:cubicBezTo>
                <a:cubicBezTo>
                  <a:pt x="15180" y="16101"/>
                  <a:pt x="15236" y="16105"/>
                  <a:pt x="15255" y="16148"/>
                </a:cubicBezTo>
                <a:cubicBezTo>
                  <a:pt x="15270" y="16182"/>
                  <a:pt x="15280" y="16206"/>
                  <a:pt x="15280" y="16247"/>
                </a:cubicBezTo>
                <a:cubicBezTo>
                  <a:pt x="15280" y="16290"/>
                  <a:pt x="15264" y="16288"/>
                  <a:pt x="15230" y="16297"/>
                </a:cubicBezTo>
              </a:path>
              <a:path w="5185" h="1787">
                <a:moveTo>
                  <a:pt x="15255" y="15974"/>
                </a:moveTo>
                <a:cubicBezTo>
                  <a:pt x="15339" y="15937"/>
                  <a:pt x="15311" y="15959"/>
                  <a:pt x="15379" y="15974"/>
                </a:cubicBezTo>
                <a:cubicBezTo>
                  <a:pt x="15445" y="15988"/>
                  <a:pt x="15534" y="15974"/>
                  <a:pt x="15602" y="15974"/>
                </a:cubicBezTo>
              </a:path>
              <a:path w="5185" h="1787">
                <a:moveTo>
                  <a:pt x="16520" y="15404"/>
                </a:moveTo>
                <a:cubicBezTo>
                  <a:pt x="16583" y="15404"/>
                  <a:pt x="16645" y="15392"/>
                  <a:pt x="16694" y="15429"/>
                </a:cubicBezTo>
              </a:path>
              <a:path w="5185" h="1787">
                <a:moveTo>
                  <a:pt x="16594" y="15602"/>
                </a:moveTo>
                <a:cubicBezTo>
                  <a:pt x="16594" y="15610"/>
                  <a:pt x="16594" y="15619"/>
                  <a:pt x="16594" y="15627"/>
                </a:cubicBezTo>
                <a:cubicBezTo>
                  <a:pt x="16541" y="15645"/>
                  <a:pt x="16582" y="15652"/>
                  <a:pt x="16619" y="15652"/>
                </a:cubicBezTo>
                <a:cubicBezTo>
                  <a:pt x="16678" y="15652"/>
                  <a:pt x="16681" y="15671"/>
                  <a:pt x="16743" y="15652"/>
                </a:cubicBezTo>
                <a:cubicBezTo>
                  <a:pt x="16776" y="15652"/>
                  <a:pt x="16793" y="15652"/>
                  <a:pt x="16818" y="15652"/>
                </a:cubicBezTo>
              </a:path>
              <a:path w="5185" h="1787">
                <a:moveTo>
                  <a:pt x="17363" y="15627"/>
                </a:moveTo>
                <a:cubicBezTo>
                  <a:pt x="17388" y="15627"/>
                  <a:pt x="17396" y="15627"/>
                  <a:pt x="17413" y="15627"/>
                </a:cubicBezTo>
              </a:path>
              <a:path w="5185" h="1787">
                <a:moveTo>
                  <a:pt x="17140" y="15081"/>
                </a:moveTo>
                <a:cubicBezTo>
                  <a:pt x="17160" y="15022"/>
                  <a:pt x="17204" y="15087"/>
                  <a:pt x="17214" y="15131"/>
                </a:cubicBezTo>
                <a:cubicBezTo>
                  <a:pt x="17230" y="15201"/>
                  <a:pt x="17220" y="15316"/>
                  <a:pt x="17190" y="15379"/>
                </a:cubicBezTo>
                <a:cubicBezTo>
                  <a:pt x="17161" y="15439"/>
                  <a:pt x="17055" y="15574"/>
                  <a:pt x="16991" y="15602"/>
                </a:cubicBezTo>
                <a:cubicBezTo>
                  <a:pt x="16949" y="15621"/>
                  <a:pt x="16920" y="15598"/>
                  <a:pt x="16892" y="15577"/>
                </a:cubicBezTo>
                <a:cubicBezTo>
                  <a:pt x="16904" y="15529"/>
                  <a:pt x="16947" y="15505"/>
                  <a:pt x="16991" y="15478"/>
                </a:cubicBezTo>
                <a:cubicBezTo>
                  <a:pt x="17062" y="15435"/>
                  <a:pt x="17104" y="15457"/>
                  <a:pt x="17165" y="15503"/>
                </a:cubicBezTo>
                <a:cubicBezTo>
                  <a:pt x="17193" y="15531"/>
                  <a:pt x="17202" y="15544"/>
                  <a:pt x="17190" y="15577"/>
                </a:cubicBezTo>
              </a:path>
              <a:path w="5185" h="1787">
                <a:moveTo>
                  <a:pt x="17487" y="15577"/>
                </a:moveTo>
                <a:cubicBezTo>
                  <a:pt x="17457" y="15587"/>
                  <a:pt x="17446" y="15598"/>
                  <a:pt x="17413" y="15627"/>
                </a:cubicBezTo>
                <a:cubicBezTo>
                  <a:pt x="17390" y="15650"/>
                  <a:pt x="17382" y="15654"/>
                  <a:pt x="17388" y="15677"/>
                </a:cubicBezTo>
                <a:cubicBezTo>
                  <a:pt x="17440" y="15677"/>
                  <a:pt x="17440" y="15682"/>
                  <a:pt x="17462" y="15652"/>
                </a:cubicBezTo>
                <a:cubicBezTo>
                  <a:pt x="17470" y="15644"/>
                  <a:pt x="17479" y="15635"/>
                  <a:pt x="17487" y="15627"/>
                </a:cubicBezTo>
                <a:cubicBezTo>
                  <a:pt x="17437" y="15627"/>
                  <a:pt x="17429" y="15638"/>
                  <a:pt x="17388" y="15652"/>
                </a:cubicBezTo>
                <a:cubicBezTo>
                  <a:pt x="17363" y="15652"/>
                  <a:pt x="17355" y="15652"/>
                  <a:pt x="17388" y="15652"/>
                </a:cubicBezTo>
              </a:path>
              <a:path w="5185" h="1787">
                <a:moveTo>
                  <a:pt x="17934" y="15180"/>
                </a:moveTo>
                <a:cubicBezTo>
                  <a:pt x="17919" y="15137"/>
                  <a:pt x="17862" y="15156"/>
                  <a:pt x="17810" y="15156"/>
                </a:cubicBezTo>
                <a:cubicBezTo>
                  <a:pt x="17743" y="15156"/>
                  <a:pt x="17667" y="15191"/>
                  <a:pt x="17611" y="15230"/>
                </a:cubicBezTo>
                <a:cubicBezTo>
                  <a:pt x="17587" y="15255"/>
                  <a:pt x="17579" y="15264"/>
                  <a:pt x="17562" y="15280"/>
                </a:cubicBezTo>
                <a:cubicBezTo>
                  <a:pt x="17577" y="15340"/>
                  <a:pt x="17631" y="15351"/>
                  <a:pt x="17686" y="15379"/>
                </a:cubicBezTo>
                <a:cubicBezTo>
                  <a:pt x="17741" y="15407"/>
                  <a:pt x="17818" y="15438"/>
                  <a:pt x="17835" y="15503"/>
                </a:cubicBezTo>
                <a:cubicBezTo>
                  <a:pt x="17846" y="15543"/>
                  <a:pt x="17809" y="15621"/>
                  <a:pt x="17785" y="15627"/>
                </a:cubicBezTo>
                <a:cubicBezTo>
                  <a:pt x="17760" y="15627"/>
                  <a:pt x="17752" y="15627"/>
                  <a:pt x="17735" y="15627"/>
                </a:cubicBezTo>
                <a:cubicBezTo>
                  <a:pt x="17735" y="15557"/>
                  <a:pt x="17727" y="15494"/>
                  <a:pt x="17760" y="15429"/>
                </a:cubicBezTo>
                <a:cubicBezTo>
                  <a:pt x="17808" y="15333"/>
                  <a:pt x="17872" y="15302"/>
                  <a:pt x="17934" y="15230"/>
                </a:cubicBezTo>
                <a:cubicBezTo>
                  <a:pt x="17983" y="15173"/>
                  <a:pt x="18022" y="15153"/>
                  <a:pt x="18083" y="15106"/>
                </a:cubicBezTo>
                <a:cubicBezTo>
                  <a:pt x="18114" y="15082"/>
                  <a:pt x="18125" y="15080"/>
                  <a:pt x="18157" y="15056"/>
                </a:cubicBezTo>
                <a:cubicBezTo>
                  <a:pt x="18193" y="15092"/>
                  <a:pt x="18113" y="15143"/>
                  <a:pt x="18083" y="15205"/>
                </a:cubicBezTo>
                <a:cubicBezTo>
                  <a:pt x="18052" y="15269"/>
                  <a:pt x="18027" y="15459"/>
                  <a:pt x="18058" y="15528"/>
                </a:cubicBezTo>
                <a:cubicBezTo>
                  <a:pt x="18098" y="15617"/>
                  <a:pt x="18239" y="15577"/>
                  <a:pt x="18306" y="15553"/>
                </a:cubicBezTo>
                <a:cubicBezTo>
                  <a:pt x="18375" y="15528"/>
                  <a:pt x="18452" y="15473"/>
                  <a:pt x="18479" y="15404"/>
                </a:cubicBezTo>
                <a:cubicBezTo>
                  <a:pt x="18479" y="15396"/>
                  <a:pt x="18479" y="15387"/>
                  <a:pt x="18479" y="15379"/>
                </a:cubicBezTo>
                <a:cubicBezTo>
                  <a:pt x="18396" y="15379"/>
                  <a:pt x="18349" y="15398"/>
                  <a:pt x="18281" y="15453"/>
                </a:cubicBezTo>
                <a:cubicBezTo>
                  <a:pt x="18236" y="15490"/>
                  <a:pt x="18217" y="15534"/>
                  <a:pt x="18182" y="15577"/>
                </a:cubicBezTo>
              </a:path>
              <a:path w="5185" h="1787">
                <a:moveTo>
                  <a:pt x="18728" y="15156"/>
                </a:moveTo>
                <a:cubicBezTo>
                  <a:pt x="18717" y="15231"/>
                  <a:pt x="18666" y="15275"/>
                  <a:pt x="18653" y="15354"/>
                </a:cubicBezTo>
                <a:cubicBezTo>
                  <a:pt x="18643" y="15415"/>
                  <a:pt x="18628" y="15465"/>
                  <a:pt x="18628" y="15528"/>
                </a:cubicBezTo>
                <a:cubicBezTo>
                  <a:pt x="18628" y="15536"/>
                  <a:pt x="18628" y="15545"/>
                  <a:pt x="18628" y="15553"/>
                </a:cubicBezTo>
                <a:cubicBezTo>
                  <a:pt x="18639" y="15511"/>
                  <a:pt x="18657" y="15473"/>
                  <a:pt x="18678" y="15429"/>
                </a:cubicBezTo>
                <a:cubicBezTo>
                  <a:pt x="18707" y="15367"/>
                  <a:pt x="18756" y="15305"/>
                  <a:pt x="18802" y="15255"/>
                </a:cubicBezTo>
                <a:cubicBezTo>
                  <a:pt x="18810" y="15247"/>
                  <a:pt x="18819" y="15238"/>
                  <a:pt x="18827" y="15230"/>
                </a:cubicBezTo>
                <a:cubicBezTo>
                  <a:pt x="18827" y="15306"/>
                  <a:pt x="18830" y="15365"/>
                  <a:pt x="18852" y="15429"/>
                </a:cubicBezTo>
                <a:cubicBezTo>
                  <a:pt x="18852" y="15437"/>
                  <a:pt x="18852" y="15445"/>
                  <a:pt x="18852" y="15453"/>
                </a:cubicBezTo>
                <a:cubicBezTo>
                  <a:pt x="18923" y="15453"/>
                  <a:pt x="18884" y="15428"/>
                  <a:pt x="18926" y="15379"/>
                </a:cubicBezTo>
                <a:cubicBezTo>
                  <a:pt x="18982" y="15315"/>
                  <a:pt x="19002" y="15248"/>
                  <a:pt x="19050" y="15180"/>
                </a:cubicBezTo>
                <a:cubicBezTo>
                  <a:pt x="19058" y="15172"/>
                  <a:pt x="19067" y="15164"/>
                  <a:pt x="19075" y="15156"/>
                </a:cubicBezTo>
                <a:cubicBezTo>
                  <a:pt x="19075" y="15260"/>
                  <a:pt x="19038" y="15449"/>
                  <a:pt x="19100" y="15528"/>
                </a:cubicBezTo>
                <a:cubicBezTo>
                  <a:pt x="19108" y="15536"/>
                  <a:pt x="19116" y="15545"/>
                  <a:pt x="19124" y="155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72080" y="3813120"/>
            <a:ext cx="536760" cy="250920"/>
          </a:xfrm>
          <a:custGeom>
            <a:avLst/>
            <a:gdLst/>
            <a:ahLst/>
            <a:rect l="l" t="t" r="r" b="b"/>
            <a:pathLst>
              <a:path w="1489" h="695">
                <a:moveTo>
                  <a:pt x="15577" y="10666"/>
                </a:moveTo>
                <a:cubicBezTo>
                  <a:pt x="15577" y="10691"/>
                  <a:pt x="15577" y="10699"/>
                  <a:pt x="15577" y="10716"/>
                </a:cubicBezTo>
                <a:cubicBezTo>
                  <a:pt x="15525" y="10729"/>
                  <a:pt x="15536" y="10753"/>
                  <a:pt x="15503" y="10790"/>
                </a:cubicBezTo>
                <a:cubicBezTo>
                  <a:pt x="15454" y="10845"/>
                  <a:pt x="15489" y="10838"/>
                  <a:pt x="15528" y="10864"/>
                </a:cubicBezTo>
                <a:cubicBezTo>
                  <a:pt x="15566" y="10889"/>
                  <a:pt x="15602" y="10911"/>
                  <a:pt x="15652" y="10914"/>
                </a:cubicBezTo>
                <a:cubicBezTo>
                  <a:pt x="15713" y="10918"/>
                  <a:pt x="15721" y="10913"/>
                  <a:pt x="15776" y="10889"/>
                </a:cubicBezTo>
              </a:path>
              <a:path w="1489" h="695">
                <a:moveTo>
                  <a:pt x="15850" y="10592"/>
                </a:moveTo>
                <a:cubicBezTo>
                  <a:pt x="15818" y="10673"/>
                  <a:pt x="15801" y="10703"/>
                  <a:pt x="15801" y="10790"/>
                </a:cubicBezTo>
                <a:cubicBezTo>
                  <a:pt x="15801" y="10919"/>
                  <a:pt x="15790" y="11038"/>
                  <a:pt x="15776" y="11162"/>
                </a:cubicBezTo>
                <a:cubicBezTo>
                  <a:pt x="15776" y="11228"/>
                  <a:pt x="15776" y="11245"/>
                  <a:pt x="15776" y="11286"/>
                </a:cubicBezTo>
              </a:path>
              <a:path w="1489" h="695">
                <a:moveTo>
                  <a:pt x="16049" y="11063"/>
                </a:moveTo>
                <a:cubicBezTo>
                  <a:pt x="16027" y="11106"/>
                  <a:pt x="16023" y="11118"/>
                  <a:pt x="15999" y="11137"/>
                </a:cubicBezTo>
              </a:path>
              <a:path w="1489" h="695">
                <a:moveTo>
                  <a:pt x="16247" y="10641"/>
                </a:moveTo>
                <a:cubicBezTo>
                  <a:pt x="16283" y="10614"/>
                  <a:pt x="16329" y="10595"/>
                  <a:pt x="16371" y="10641"/>
                </a:cubicBezTo>
                <a:cubicBezTo>
                  <a:pt x="16421" y="10695"/>
                  <a:pt x="16482" y="10759"/>
                  <a:pt x="16495" y="10840"/>
                </a:cubicBezTo>
                <a:cubicBezTo>
                  <a:pt x="16513" y="10949"/>
                  <a:pt x="16488" y="11050"/>
                  <a:pt x="16421" y="11137"/>
                </a:cubicBezTo>
                <a:cubicBezTo>
                  <a:pt x="16379" y="11191"/>
                  <a:pt x="16336" y="11224"/>
                  <a:pt x="16272" y="11237"/>
                </a:cubicBezTo>
                <a:cubicBezTo>
                  <a:pt x="16272" y="11192"/>
                  <a:pt x="16257" y="11143"/>
                  <a:pt x="16297" y="11112"/>
                </a:cubicBezTo>
                <a:cubicBezTo>
                  <a:pt x="16351" y="11071"/>
                  <a:pt x="16380" y="11063"/>
                  <a:pt x="16446" y="11063"/>
                </a:cubicBezTo>
                <a:cubicBezTo>
                  <a:pt x="16499" y="11063"/>
                  <a:pt x="16501" y="11124"/>
                  <a:pt x="16545" y="11137"/>
                </a:cubicBezTo>
                <a:cubicBezTo>
                  <a:pt x="16561" y="11137"/>
                  <a:pt x="16578" y="11137"/>
                  <a:pt x="16594" y="11137"/>
                </a:cubicBezTo>
              </a:path>
              <a:path w="1489" h="695">
                <a:moveTo>
                  <a:pt x="16942" y="10691"/>
                </a:moveTo>
                <a:cubicBezTo>
                  <a:pt x="16889" y="10698"/>
                  <a:pt x="16799" y="10709"/>
                  <a:pt x="16768" y="10765"/>
                </a:cubicBezTo>
                <a:cubicBezTo>
                  <a:pt x="16768" y="10790"/>
                  <a:pt x="16768" y="10798"/>
                  <a:pt x="16768" y="10815"/>
                </a:cubicBezTo>
                <a:cubicBezTo>
                  <a:pt x="16792" y="10807"/>
                  <a:pt x="16815" y="10783"/>
                  <a:pt x="16842" y="10765"/>
                </a:cubicBezTo>
                <a:cubicBezTo>
                  <a:pt x="16865" y="10742"/>
                  <a:pt x="16869" y="10734"/>
                  <a:pt x="16892" y="10740"/>
                </a:cubicBezTo>
                <a:cubicBezTo>
                  <a:pt x="16931" y="10792"/>
                  <a:pt x="16917" y="10846"/>
                  <a:pt x="16917" y="10914"/>
                </a:cubicBezTo>
                <a:cubicBezTo>
                  <a:pt x="16917" y="10982"/>
                  <a:pt x="16901" y="11059"/>
                  <a:pt x="16942" y="11112"/>
                </a:cubicBezTo>
                <a:cubicBezTo>
                  <a:pt x="16950" y="11120"/>
                  <a:pt x="16958" y="11129"/>
                  <a:pt x="16966" y="111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59680" y="3830760"/>
            <a:ext cx="455400" cy="241200"/>
          </a:xfrm>
          <a:custGeom>
            <a:avLst/>
            <a:gdLst/>
            <a:ahLst/>
            <a:rect l="l" t="t" r="r" b="b"/>
            <a:pathLst>
              <a:path w="1266" h="671">
                <a:moveTo>
                  <a:pt x="17413" y="10964"/>
                </a:moveTo>
                <a:cubicBezTo>
                  <a:pt x="17413" y="11019"/>
                  <a:pt x="17391" y="11057"/>
                  <a:pt x="17388" y="11112"/>
                </a:cubicBezTo>
                <a:cubicBezTo>
                  <a:pt x="17386" y="11155"/>
                  <a:pt x="17368" y="11283"/>
                  <a:pt x="17413" y="11311"/>
                </a:cubicBezTo>
                <a:cubicBezTo>
                  <a:pt x="17451" y="11335"/>
                  <a:pt x="17553" y="11313"/>
                  <a:pt x="17562" y="11286"/>
                </a:cubicBezTo>
              </a:path>
              <a:path w="1266" h="671">
                <a:moveTo>
                  <a:pt x="17462" y="11137"/>
                </a:moveTo>
                <a:cubicBezTo>
                  <a:pt x="17446" y="11129"/>
                  <a:pt x="17429" y="11120"/>
                  <a:pt x="17413" y="11112"/>
                </a:cubicBezTo>
                <a:cubicBezTo>
                  <a:pt x="17451" y="11084"/>
                  <a:pt x="17493" y="11081"/>
                  <a:pt x="17537" y="11063"/>
                </a:cubicBezTo>
                <a:cubicBezTo>
                  <a:pt x="17585" y="11039"/>
                  <a:pt x="17599" y="11031"/>
                  <a:pt x="17636" y="11038"/>
                </a:cubicBezTo>
              </a:path>
              <a:path w="1266" h="671">
                <a:moveTo>
                  <a:pt x="17438" y="10864"/>
                </a:moveTo>
                <a:cubicBezTo>
                  <a:pt x="17484" y="10830"/>
                  <a:pt x="17509" y="10834"/>
                  <a:pt x="17562" y="10815"/>
                </a:cubicBezTo>
                <a:cubicBezTo>
                  <a:pt x="17624" y="10793"/>
                  <a:pt x="17667" y="10790"/>
                  <a:pt x="17735" y="10790"/>
                </a:cubicBezTo>
              </a:path>
              <a:path w="1266" h="671">
                <a:moveTo>
                  <a:pt x="17859" y="11013"/>
                </a:moveTo>
                <a:cubicBezTo>
                  <a:pt x="17886" y="11033"/>
                  <a:pt x="17920" y="11052"/>
                  <a:pt x="17959" y="11038"/>
                </a:cubicBezTo>
                <a:cubicBezTo>
                  <a:pt x="18023" y="11015"/>
                  <a:pt x="18015" y="11013"/>
                  <a:pt x="18083" y="11013"/>
                </a:cubicBezTo>
              </a:path>
              <a:path w="1266" h="671">
                <a:moveTo>
                  <a:pt x="18331" y="10740"/>
                </a:moveTo>
                <a:cubicBezTo>
                  <a:pt x="18296" y="10781"/>
                  <a:pt x="18262" y="10812"/>
                  <a:pt x="18256" y="10864"/>
                </a:cubicBezTo>
                <a:cubicBezTo>
                  <a:pt x="18250" y="10914"/>
                  <a:pt x="18299" y="10925"/>
                  <a:pt x="18331" y="10939"/>
                </a:cubicBezTo>
                <a:cubicBezTo>
                  <a:pt x="18398" y="10968"/>
                  <a:pt x="18417" y="10972"/>
                  <a:pt x="18479" y="10939"/>
                </a:cubicBezTo>
                <a:cubicBezTo>
                  <a:pt x="18523" y="10917"/>
                  <a:pt x="18535" y="10914"/>
                  <a:pt x="18554" y="10889"/>
                </a:cubicBezTo>
              </a:path>
              <a:path w="1266" h="671">
                <a:moveTo>
                  <a:pt x="18653" y="10641"/>
                </a:moveTo>
                <a:cubicBezTo>
                  <a:pt x="18616" y="10715"/>
                  <a:pt x="18581" y="10786"/>
                  <a:pt x="18554" y="10864"/>
                </a:cubicBezTo>
                <a:cubicBezTo>
                  <a:pt x="18517" y="10969"/>
                  <a:pt x="18529" y="11077"/>
                  <a:pt x="18529" y="11187"/>
                </a:cubicBezTo>
                <a:cubicBezTo>
                  <a:pt x="18529" y="11245"/>
                  <a:pt x="18529" y="11270"/>
                  <a:pt x="18529" y="113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62200" y="4205160"/>
            <a:ext cx="573120" cy="189000"/>
          </a:xfrm>
          <a:custGeom>
            <a:avLst/>
            <a:gdLst/>
            <a:ahLst/>
            <a:rect l="l" t="t" r="r" b="b"/>
            <a:pathLst>
              <a:path w="1589" h="522">
                <a:moveTo>
                  <a:pt x="9971" y="11708"/>
                </a:moveTo>
                <a:cubicBezTo>
                  <a:pt x="10010" y="11708"/>
                  <a:pt x="10045" y="11697"/>
                  <a:pt x="10071" y="11733"/>
                </a:cubicBezTo>
                <a:cubicBezTo>
                  <a:pt x="10114" y="11795"/>
                  <a:pt x="10139" y="11881"/>
                  <a:pt x="10120" y="11956"/>
                </a:cubicBezTo>
                <a:cubicBezTo>
                  <a:pt x="10099" y="12037"/>
                  <a:pt x="10065" y="12088"/>
                  <a:pt x="9996" y="12129"/>
                </a:cubicBezTo>
                <a:cubicBezTo>
                  <a:pt x="9952" y="12155"/>
                  <a:pt x="9942" y="12154"/>
                  <a:pt x="9897" y="12154"/>
                </a:cubicBezTo>
                <a:cubicBezTo>
                  <a:pt x="9897" y="12097"/>
                  <a:pt x="9911" y="12084"/>
                  <a:pt x="9947" y="12055"/>
                </a:cubicBezTo>
                <a:cubicBezTo>
                  <a:pt x="9991" y="12020"/>
                  <a:pt x="10017" y="12033"/>
                  <a:pt x="10071" y="12055"/>
                </a:cubicBezTo>
                <a:cubicBezTo>
                  <a:pt x="10114" y="12077"/>
                  <a:pt x="10126" y="12081"/>
                  <a:pt x="10145" y="12105"/>
                </a:cubicBezTo>
              </a:path>
              <a:path w="1589" h="522">
                <a:moveTo>
                  <a:pt x="10368" y="12080"/>
                </a:moveTo>
                <a:cubicBezTo>
                  <a:pt x="10376" y="12088"/>
                  <a:pt x="10385" y="12097"/>
                  <a:pt x="10393" y="12105"/>
                </a:cubicBezTo>
              </a:path>
              <a:path w="1589" h="522">
                <a:moveTo>
                  <a:pt x="10716" y="11782"/>
                </a:moveTo>
                <a:cubicBezTo>
                  <a:pt x="10666" y="11744"/>
                  <a:pt x="10645" y="11754"/>
                  <a:pt x="10592" y="11782"/>
                </a:cubicBezTo>
                <a:cubicBezTo>
                  <a:pt x="10556" y="11802"/>
                  <a:pt x="10487" y="11839"/>
                  <a:pt x="10468" y="11881"/>
                </a:cubicBezTo>
                <a:cubicBezTo>
                  <a:pt x="10468" y="11889"/>
                  <a:pt x="10468" y="11898"/>
                  <a:pt x="10468" y="11906"/>
                </a:cubicBezTo>
                <a:cubicBezTo>
                  <a:pt x="10515" y="11942"/>
                  <a:pt x="10561" y="11937"/>
                  <a:pt x="10616" y="11956"/>
                </a:cubicBezTo>
                <a:cubicBezTo>
                  <a:pt x="10666" y="11973"/>
                  <a:pt x="10755" y="12008"/>
                  <a:pt x="10765" y="12055"/>
                </a:cubicBezTo>
                <a:cubicBezTo>
                  <a:pt x="10781" y="12128"/>
                  <a:pt x="10738" y="12127"/>
                  <a:pt x="10716" y="12179"/>
                </a:cubicBezTo>
                <a:cubicBezTo>
                  <a:pt x="10716" y="12204"/>
                  <a:pt x="10716" y="12212"/>
                  <a:pt x="10691" y="12204"/>
                </a:cubicBezTo>
                <a:cubicBezTo>
                  <a:pt x="10640" y="12187"/>
                  <a:pt x="10673" y="12153"/>
                  <a:pt x="10691" y="12105"/>
                </a:cubicBezTo>
                <a:cubicBezTo>
                  <a:pt x="10723" y="12018"/>
                  <a:pt x="10759" y="11953"/>
                  <a:pt x="10815" y="11881"/>
                </a:cubicBezTo>
                <a:cubicBezTo>
                  <a:pt x="10843" y="11845"/>
                  <a:pt x="10882" y="11814"/>
                  <a:pt x="10914" y="11782"/>
                </a:cubicBezTo>
              </a:path>
              <a:path w="1589" h="522">
                <a:moveTo>
                  <a:pt x="11137" y="11683"/>
                </a:moveTo>
                <a:cubicBezTo>
                  <a:pt x="11123" y="11751"/>
                  <a:pt x="11076" y="11810"/>
                  <a:pt x="11063" y="11881"/>
                </a:cubicBezTo>
                <a:cubicBezTo>
                  <a:pt x="11050" y="11952"/>
                  <a:pt x="11050" y="12060"/>
                  <a:pt x="11137" y="12080"/>
                </a:cubicBezTo>
                <a:cubicBezTo>
                  <a:pt x="11232" y="12102"/>
                  <a:pt x="11326" y="12070"/>
                  <a:pt x="11410" y="12030"/>
                </a:cubicBezTo>
                <a:cubicBezTo>
                  <a:pt x="11462" y="12005"/>
                  <a:pt x="11473" y="12004"/>
                  <a:pt x="11485" y="11956"/>
                </a:cubicBezTo>
                <a:cubicBezTo>
                  <a:pt x="11419" y="11906"/>
                  <a:pt x="11427" y="11939"/>
                  <a:pt x="11361" y="11981"/>
                </a:cubicBezTo>
                <a:cubicBezTo>
                  <a:pt x="11314" y="12011"/>
                  <a:pt x="11219" y="12023"/>
                  <a:pt x="11261" y="12105"/>
                </a:cubicBezTo>
                <a:cubicBezTo>
                  <a:pt x="11269" y="12113"/>
                  <a:pt x="11278" y="12121"/>
                  <a:pt x="11286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13120" y="3251160"/>
            <a:ext cx="741240" cy="214200"/>
          </a:xfrm>
          <a:custGeom>
            <a:avLst/>
            <a:gdLst/>
            <a:ahLst/>
            <a:rect l="l" t="t" r="r" b="b"/>
            <a:pathLst>
              <a:path w="2059" h="596">
                <a:moveTo>
                  <a:pt x="10616" y="9252"/>
                </a:moveTo>
                <a:cubicBezTo>
                  <a:pt x="10649" y="9252"/>
                  <a:pt x="10634" y="9244"/>
                  <a:pt x="10666" y="9252"/>
                </a:cubicBezTo>
                <a:cubicBezTo>
                  <a:pt x="10721" y="9265"/>
                  <a:pt x="10757" y="9274"/>
                  <a:pt x="10815" y="9277"/>
                </a:cubicBezTo>
                <a:cubicBezTo>
                  <a:pt x="10885" y="9281"/>
                  <a:pt x="10939" y="9302"/>
                  <a:pt x="11013" y="9302"/>
                </a:cubicBezTo>
                <a:cubicBezTo>
                  <a:pt x="11207" y="9302"/>
                  <a:pt x="11396" y="9300"/>
                  <a:pt x="11584" y="9327"/>
                </a:cubicBezTo>
                <a:cubicBezTo>
                  <a:pt x="11878" y="9369"/>
                  <a:pt x="12203" y="9327"/>
                  <a:pt x="12502" y="9327"/>
                </a:cubicBezTo>
                <a:cubicBezTo>
                  <a:pt x="12479" y="9304"/>
                  <a:pt x="12458" y="9294"/>
                  <a:pt x="12427" y="9277"/>
                </a:cubicBezTo>
                <a:cubicBezTo>
                  <a:pt x="12393" y="9258"/>
                  <a:pt x="12362" y="9243"/>
                  <a:pt x="12328" y="9227"/>
                </a:cubicBezTo>
                <a:cubicBezTo>
                  <a:pt x="12302" y="9214"/>
                  <a:pt x="12248" y="9193"/>
                  <a:pt x="12229" y="9178"/>
                </a:cubicBezTo>
                <a:cubicBezTo>
                  <a:pt x="12192" y="9149"/>
                  <a:pt x="12163" y="9131"/>
                  <a:pt x="12129" y="9103"/>
                </a:cubicBezTo>
                <a:cubicBezTo>
                  <a:pt x="12094" y="9074"/>
                  <a:pt x="12063" y="9050"/>
                  <a:pt x="12030" y="9029"/>
                </a:cubicBezTo>
                <a:cubicBezTo>
                  <a:pt x="11983" y="9000"/>
                  <a:pt x="12066" y="9047"/>
                  <a:pt x="12080" y="9054"/>
                </a:cubicBezTo>
                <a:cubicBezTo>
                  <a:pt x="12136" y="9082"/>
                  <a:pt x="12206" y="9093"/>
                  <a:pt x="12254" y="9128"/>
                </a:cubicBezTo>
                <a:cubicBezTo>
                  <a:pt x="12305" y="9165"/>
                  <a:pt x="12349" y="9201"/>
                  <a:pt x="12402" y="9227"/>
                </a:cubicBezTo>
                <a:cubicBezTo>
                  <a:pt x="12438" y="9245"/>
                  <a:pt x="12499" y="9281"/>
                  <a:pt x="12526" y="9302"/>
                </a:cubicBezTo>
                <a:cubicBezTo>
                  <a:pt x="12561" y="9329"/>
                  <a:pt x="12587" y="9361"/>
                  <a:pt x="12626" y="9376"/>
                </a:cubicBezTo>
                <a:cubicBezTo>
                  <a:pt x="12634" y="9376"/>
                  <a:pt x="12642" y="9376"/>
                  <a:pt x="12650" y="9376"/>
                </a:cubicBezTo>
                <a:cubicBezTo>
                  <a:pt x="12627" y="9400"/>
                  <a:pt x="12632" y="9406"/>
                  <a:pt x="12601" y="9426"/>
                </a:cubicBezTo>
                <a:cubicBezTo>
                  <a:pt x="12562" y="9451"/>
                  <a:pt x="12471" y="9490"/>
                  <a:pt x="12427" y="9500"/>
                </a:cubicBezTo>
                <a:cubicBezTo>
                  <a:pt x="12344" y="9519"/>
                  <a:pt x="12286" y="9578"/>
                  <a:pt x="12204" y="9599"/>
                </a:cubicBezTo>
                <a:cubicBezTo>
                  <a:pt x="12163" y="9610"/>
                  <a:pt x="12142" y="9610"/>
                  <a:pt x="12105" y="96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20920" y="3178080"/>
            <a:ext cx="117360" cy="127080"/>
          </a:xfrm>
          <a:custGeom>
            <a:avLst/>
            <a:gdLst/>
            <a:ahLst/>
            <a:rect l="l" t="t" r="r" b="b"/>
            <a:pathLst>
              <a:path w="324" h="349">
                <a:moveTo>
                  <a:pt x="6449" y="8905"/>
                </a:moveTo>
                <a:cubicBezTo>
                  <a:pt x="6457" y="8856"/>
                  <a:pt x="6463" y="8834"/>
                  <a:pt x="6524" y="8830"/>
                </a:cubicBezTo>
                <a:cubicBezTo>
                  <a:pt x="6580" y="8826"/>
                  <a:pt x="6616" y="8829"/>
                  <a:pt x="6648" y="8880"/>
                </a:cubicBezTo>
                <a:cubicBezTo>
                  <a:pt x="6687" y="8942"/>
                  <a:pt x="6678" y="8998"/>
                  <a:pt x="6648" y="9054"/>
                </a:cubicBezTo>
                <a:cubicBezTo>
                  <a:pt x="6619" y="9109"/>
                  <a:pt x="6587" y="9157"/>
                  <a:pt x="6524" y="9178"/>
                </a:cubicBezTo>
                <a:cubicBezTo>
                  <a:pt x="6516" y="9178"/>
                  <a:pt x="6507" y="9178"/>
                  <a:pt x="6499" y="9178"/>
                </a:cubicBezTo>
                <a:cubicBezTo>
                  <a:pt x="6507" y="9146"/>
                  <a:pt x="6536" y="9095"/>
                  <a:pt x="6573" y="9079"/>
                </a:cubicBezTo>
                <a:cubicBezTo>
                  <a:pt x="6615" y="9061"/>
                  <a:pt x="6691" y="9076"/>
                  <a:pt x="6722" y="9103"/>
                </a:cubicBezTo>
                <a:cubicBezTo>
                  <a:pt x="6747" y="9128"/>
                  <a:pt x="6755" y="9136"/>
                  <a:pt x="6772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44840" y="3152880"/>
            <a:ext cx="304560" cy="152280"/>
          </a:xfrm>
          <a:custGeom>
            <a:avLst/>
            <a:gdLst/>
            <a:ahLst/>
            <a:rect l="l" t="t" r="r" b="b"/>
            <a:pathLst>
              <a:path w="845" h="423">
                <a:moveTo>
                  <a:pt x="7069" y="8979"/>
                </a:moveTo>
                <a:lnTo>
                  <a:pt x="7069" y="8979"/>
                </a:lnTo>
                <a:lnTo>
                  <a:pt x="7069" y="8979"/>
                </a:lnTo>
                <a:lnTo>
                  <a:pt x="7069" y="8979"/>
                </a:lnTo>
                <a:lnTo>
                  <a:pt x="7069" y="8979"/>
                </a:lnTo>
                <a:lnTo>
                  <a:pt x="7069" y="8979"/>
                </a:lnTo>
                <a:lnTo>
                  <a:pt x="7069" y="8979"/>
                </a:lnTo>
              </a:path>
              <a:path w="845" h="423">
                <a:moveTo>
                  <a:pt x="7293" y="8781"/>
                </a:moveTo>
                <a:cubicBezTo>
                  <a:pt x="7238" y="8781"/>
                  <a:pt x="7209" y="8771"/>
                  <a:pt x="7169" y="8806"/>
                </a:cubicBezTo>
                <a:cubicBezTo>
                  <a:pt x="7125" y="8845"/>
                  <a:pt x="7102" y="8858"/>
                  <a:pt x="7144" y="8905"/>
                </a:cubicBezTo>
                <a:cubicBezTo>
                  <a:pt x="7183" y="8949"/>
                  <a:pt x="7223" y="8970"/>
                  <a:pt x="7268" y="9004"/>
                </a:cubicBezTo>
                <a:cubicBezTo>
                  <a:pt x="7308" y="9034"/>
                  <a:pt x="7293" y="9082"/>
                  <a:pt x="7293" y="9128"/>
                </a:cubicBezTo>
                <a:cubicBezTo>
                  <a:pt x="7293" y="9153"/>
                  <a:pt x="7293" y="9161"/>
                  <a:pt x="7293" y="9178"/>
                </a:cubicBezTo>
                <a:cubicBezTo>
                  <a:pt x="7266" y="9169"/>
                  <a:pt x="7254" y="9142"/>
                  <a:pt x="7268" y="9103"/>
                </a:cubicBezTo>
                <a:cubicBezTo>
                  <a:pt x="7291" y="9041"/>
                  <a:pt x="7329" y="8959"/>
                  <a:pt x="7367" y="8905"/>
                </a:cubicBezTo>
                <a:cubicBezTo>
                  <a:pt x="7390" y="8872"/>
                  <a:pt x="7435" y="8855"/>
                  <a:pt x="7466" y="8830"/>
                </a:cubicBezTo>
              </a:path>
              <a:path w="845" h="423">
                <a:moveTo>
                  <a:pt x="7640" y="8756"/>
                </a:moveTo>
                <a:cubicBezTo>
                  <a:pt x="7598" y="8770"/>
                  <a:pt x="7593" y="8826"/>
                  <a:pt x="7590" y="8880"/>
                </a:cubicBezTo>
                <a:cubicBezTo>
                  <a:pt x="7587" y="8931"/>
                  <a:pt x="7586" y="9048"/>
                  <a:pt x="7640" y="9079"/>
                </a:cubicBezTo>
                <a:cubicBezTo>
                  <a:pt x="7693" y="9110"/>
                  <a:pt x="7796" y="9058"/>
                  <a:pt x="7838" y="9029"/>
                </a:cubicBezTo>
                <a:cubicBezTo>
                  <a:pt x="7865" y="9010"/>
                  <a:pt x="7890" y="8977"/>
                  <a:pt x="7913" y="8954"/>
                </a:cubicBezTo>
                <a:cubicBezTo>
                  <a:pt x="7838" y="8954"/>
                  <a:pt x="7834" y="8975"/>
                  <a:pt x="7789" y="9029"/>
                </a:cubicBezTo>
                <a:cubicBezTo>
                  <a:pt x="7764" y="9054"/>
                  <a:pt x="7756" y="9062"/>
                  <a:pt x="7739" y="90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401840" y="911160"/>
            <a:ext cx="366480" cy="473040"/>
          </a:xfrm>
          <a:custGeom>
            <a:avLst/>
            <a:gdLst/>
            <a:ahLst/>
            <a:rect l="l" t="t" r="r" b="b"/>
            <a:pathLst>
              <a:path w="1018" h="1316">
                <a:moveTo>
                  <a:pt x="4118" y="2629"/>
                </a:moveTo>
                <a:cubicBezTo>
                  <a:pt x="4073" y="2729"/>
                  <a:pt x="4021" y="2848"/>
                  <a:pt x="3994" y="2952"/>
                </a:cubicBezTo>
                <a:cubicBezTo>
                  <a:pt x="3955" y="3100"/>
                  <a:pt x="3940" y="3251"/>
                  <a:pt x="3894" y="3398"/>
                </a:cubicBezTo>
                <a:cubicBezTo>
                  <a:pt x="3894" y="3450"/>
                  <a:pt x="3940" y="3196"/>
                  <a:pt x="3944" y="3175"/>
                </a:cubicBezTo>
                <a:cubicBezTo>
                  <a:pt x="3978" y="2996"/>
                  <a:pt x="3976" y="2810"/>
                  <a:pt x="3994" y="2629"/>
                </a:cubicBezTo>
                <a:cubicBezTo>
                  <a:pt x="4000" y="2570"/>
                  <a:pt x="3994" y="2555"/>
                  <a:pt x="4043" y="2530"/>
                </a:cubicBezTo>
                <a:cubicBezTo>
                  <a:pt x="4125" y="2554"/>
                  <a:pt x="4191" y="2668"/>
                  <a:pt x="4242" y="2753"/>
                </a:cubicBezTo>
                <a:cubicBezTo>
                  <a:pt x="4340" y="2917"/>
                  <a:pt x="4369" y="3069"/>
                  <a:pt x="4415" y="3249"/>
                </a:cubicBezTo>
                <a:cubicBezTo>
                  <a:pt x="4439" y="3343"/>
                  <a:pt x="4460" y="3378"/>
                  <a:pt x="4390" y="3448"/>
                </a:cubicBezTo>
              </a:path>
              <a:path w="1018" h="1316">
                <a:moveTo>
                  <a:pt x="4217" y="3225"/>
                </a:moveTo>
                <a:cubicBezTo>
                  <a:pt x="4179" y="3168"/>
                  <a:pt x="4162" y="3165"/>
                  <a:pt x="4167" y="3125"/>
                </a:cubicBezTo>
                <a:cubicBezTo>
                  <a:pt x="4238" y="3102"/>
                  <a:pt x="4319" y="3082"/>
                  <a:pt x="4390" y="3051"/>
                </a:cubicBezTo>
                <a:cubicBezTo>
                  <a:pt x="4494" y="3005"/>
                  <a:pt x="4615" y="2939"/>
                  <a:pt x="4713" y="2902"/>
                </a:cubicBezTo>
                <a:cubicBezTo>
                  <a:pt x="4754" y="2902"/>
                  <a:pt x="4770" y="2910"/>
                  <a:pt x="4762" y="2877"/>
                </a:cubicBezTo>
                <a:cubicBezTo>
                  <a:pt x="4714" y="2912"/>
                  <a:pt x="4632" y="2965"/>
                  <a:pt x="4614" y="3026"/>
                </a:cubicBezTo>
                <a:cubicBezTo>
                  <a:pt x="4591" y="3105"/>
                  <a:pt x="4680" y="3212"/>
                  <a:pt x="4713" y="3274"/>
                </a:cubicBezTo>
                <a:cubicBezTo>
                  <a:pt x="4786" y="3411"/>
                  <a:pt x="4832" y="3516"/>
                  <a:pt x="4837" y="3671"/>
                </a:cubicBezTo>
                <a:cubicBezTo>
                  <a:pt x="4840" y="3768"/>
                  <a:pt x="4821" y="3821"/>
                  <a:pt x="4738" y="3845"/>
                </a:cubicBezTo>
                <a:cubicBezTo>
                  <a:pt x="4691" y="3786"/>
                  <a:pt x="4650" y="3727"/>
                  <a:pt x="4663" y="3646"/>
                </a:cubicBezTo>
                <a:cubicBezTo>
                  <a:pt x="4684" y="3508"/>
                  <a:pt x="4812" y="3428"/>
                  <a:pt x="4911" y="33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41720" y="938160"/>
            <a:ext cx="204480" cy="177840"/>
          </a:xfrm>
          <a:custGeom>
            <a:avLst/>
            <a:gdLst/>
            <a:ahLst/>
            <a:rect l="l" t="t" r="r" b="b"/>
            <a:pathLst>
              <a:path w="571" h="498">
                <a:moveTo>
                  <a:pt x="6226" y="2877"/>
                </a:moveTo>
                <a:cubicBezTo>
                  <a:pt x="6326" y="2877"/>
                  <a:pt x="6402" y="2853"/>
                  <a:pt x="6499" y="2828"/>
                </a:cubicBezTo>
                <a:cubicBezTo>
                  <a:pt x="6602" y="2801"/>
                  <a:pt x="6699" y="2771"/>
                  <a:pt x="6796" y="2729"/>
                </a:cubicBezTo>
              </a:path>
              <a:path w="571" h="498">
                <a:moveTo>
                  <a:pt x="6548" y="2604"/>
                </a:moveTo>
                <a:cubicBezTo>
                  <a:pt x="6478" y="2675"/>
                  <a:pt x="6430" y="2704"/>
                  <a:pt x="6424" y="2803"/>
                </a:cubicBezTo>
                <a:cubicBezTo>
                  <a:pt x="6419" y="2892"/>
                  <a:pt x="6471" y="2983"/>
                  <a:pt x="6524" y="3051"/>
                </a:cubicBezTo>
                <a:cubicBezTo>
                  <a:pt x="6540" y="3068"/>
                  <a:pt x="6557" y="3084"/>
                  <a:pt x="6573" y="31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68760" y="839880"/>
            <a:ext cx="857160" cy="500040"/>
          </a:xfrm>
          <a:custGeom>
            <a:avLst/>
            <a:gdLst/>
            <a:ahLst/>
            <a:rect l="l" t="t" r="r" b="b"/>
            <a:pathLst>
              <a:path w="2383" h="1390">
                <a:moveTo>
                  <a:pt x="7987" y="2480"/>
                </a:moveTo>
                <a:cubicBezTo>
                  <a:pt x="7934" y="2480"/>
                  <a:pt x="7881" y="2496"/>
                  <a:pt x="7838" y="2530"/>
                </a:cubicBezTo>
                <a:cubicBezTo>
                  <a:pt x="7770" y="2583"/>
                  <a:pt x="7676" y="2691"/>
                  <a:pt x="7689" y="2778"/>
                </a:cubicBezTo>
                <a:cubicBezTo>
                  <a:pt x="7702" y="2867"/>
                  <a:pt x="7851" y="2892"/>
                  <a:pt x="7913" y="2927"/>
                </a:cubicBezTo>
                <a:cubicBezTo>
                  <a:pt x="7988" y="2969"/>
                  <a:pt x="8073" y="2998"/>
                  <a:pt x="8086" y="3076"/>
                </a:cubicBezTo>
                <a:cubicBezTo>
                  <a:pt x="8098" y="3151"/>
                  <a:pt x="8015" y="3196"/>
                  <a:pt x="7962" y="3225"/>
                </a:cubicBezTo>
                <a:cubicBezTo>
                  <a:pt x="7922" y="3245"/>
                  <a:pt x="7915" y="3253"/>
                  <a:pt x="7888" y="3249"/>
                </a:cubicBezTo>
              </a:path>
              <a:path w="2383" h="1390">
                <a:moveTo>
                  <a:pt x="8359" y="3026"/>
                </a:moveTo>
                <a:cubicBezTo>
                  <a:pt x="8382" y="3053"/>
                  <a:pt x="8421" y="3134"/>
                  <a:pt x="8458" y="3150"/>
                </a:cubicBezTo>
                <a:cubicBezTo>
                  <a:pt x="8483" y="3150"/>
                  <a:pt x="8491" y="3150"/>
                  <a:pt x="8508" y="3150"/>
                </a:cubicBezTo>
                <a:cubicBezTo>
                  <a:pt x="8498" y="3218"/>
                  <a:pt x="8486" y="3281"/>
                  <a:pt x="8458" y="3349"/>
                </a:cubicBezTo>
                <a:cubicBezTo>
                  <a:pt x="8435" y="3397"/>
                  <a:pt x="8427" y="3411"/>
                  <a:pt x="8434" y="3448"/>
                </a:cubicBezTo>
                <a:cubicBezTo>
                  <a:pt x="8524" y="3448"/>
                  <a:pt x="8554" y="3423"/>
                  <a:pt x="8632" y="3373"/>
                </a:cubicBezTo>
              </a:path>
              <a:path w="2383" h="1390">
                <a:moveTo>
                  <a:pt x="9327" y="2555"/>
                </a:moveTo>
                <a:cubicBezTo>
                  <a:pt x="9335" y="2522"/>
                  <a:pt x="9343" y="2489"/>
                  <a:pt x="9351" y="2456"/>
                </a:cubicBezTo>
                <a:cubicBezTo>
                  <a:pt x="9258" y="2415"/>
                  <a:pt x="9204" y="2490"/>
                  <a:pt x="9153" y="2580"/>
                </a:cubicBezTo>
                <a:cubicBezTo>
                  <a:pt x="9073" y="2721"/>
                  <a:pt x="9015" y="2893"/>
                  <a:pt x="9079" y="3051"/>
                </a:cubicBezTo>
                <a:cubicBezTo>
                  <a:pt x="9130" y="3176"/>
                  <a:pt x="9270" y="3128"/>
                  <a:pt x="9351" y="3051"/>
                </a:cubicBezTo>
                <a:cubicBezTo>
                  <a:pt x="9484" y="2923"/>
                  <a:pt x="9541" y="2756"/>
                  <a:pt x="9550" y="2580"/>
                </a:cubicBezTo>
                <a:cubicBezTo>
                  <a:pt x="9554" y="2496"/>
                  <a:pt x="9558" y="2311"/>
                  <a:pt x="9426" y="2332"/>
                </a:cubicBezTo>
                <a:cubicBezTo>
                  <a:pt x="9376" y="2356"/>
                  <a:pt x="9359" y="2364"/>
                  <a:pt x="9351" y="2406"/>
                </a:cubicBezTo>
              </a:path>
              <a:path w="2383" h="1390">
                <a:moveTo>
                  <a:pt x="9798" y="2877"/>
                </a:moveTo>
                <a:cubicBezTo>
                  <a:pt x="9846" y="2896"/>
                  <a:pt x="9922" y="2921"/>
                  <a:pt x="9947" y="2977"/>
                </a:cubicBezTo>
                <a:cubicBezTo>
                  <a:pt x="9980" y="3050"/>
                  <a:pt x="9905" y="3079"/>
                  <a:pt x="9872" y="3125"/>
                </a:cubicBezTo>
                <a:cubicBezTo>
                  <a:pt x="9846" y="3161"/>
                  <a:pt x="9808" y="3210"/>
                  <a:pt x="9798" y="3249"/>
                </a:cubicBezTo>
                <a:cubicBezTo>
                  <a:pt x="9859" y="3237"/>
                  <a:pt x="9905" y="3225"/>
                  <a:pt x="9971" y="3225"/>
                </a:cubicBezTo>
                <a:cubicBezTo>
                  <a:pt x="10040" y="3225"/>
                  <a:pt x="10084" y="3301"/>
                  <a:pt x="10071" y="3373"/>
                </a:cubicBezTo>
                <a:cubicBezTo>
                  <a:pt x="10051" y="3485"/>
                  <a:pt x="9953" y="3576"/>
                  <a:pt x="9897" y="3671"/>
                </a:cubicBezTo>
                <a:cubicBezTo>
                  <a:pt x="9889" y="3688"/>
                  <a:pt x="9880" y="3704"/>
                  <a:pt x="9872" y="37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87880" y="973080"/>
            <a:ext cx="679320" cy="258840"/>
          </a:xfrm>
          <a:custGeom>
            <a:avLst/>
            <a:gdLst/>
            <a:ahLst/>
            <a:rect l="l" t="t" r="r" b="b"/>
            <a:pathLst>
              <a:path w="1887" h="720">
                <a:moveTo>
                  <a:pt x="11807" y="3051"/>
                </a:moveTo>
                <a:cubicBezTo>
                  <a:pt x="11668" y="3043"/>
                  <a:pt x="11715" y="3048"/>
                  <a:pt x="11633" y="3026"/>
                </a:cubicBezTo>
                <a:cubicBezTo>
                  <a:pt x="12060" y="3026"/>
                  <a:pt x="12500" y="3057"/>
                  <a:pt x="12923" y="3001"/>
                </a:cubicBezTo>
                <a:cubicBezTo>
                  <a:pt x="13055" y="2983"/>
                  <a:pt x="13156" y="2952"/>
                  <a:pt x="13271" y="2902"/>
                </a:cubicBezTo>
                <a:cubicBezTo>
                  <a:pt x="13237" y="2769"/>
                  <a:pt x="13128" y="2779"/>
                  <a:pt x="12998" y="2753"/>
                </a:cubicBezTo>
                <a:cubicBezTo>
                  <a:pt x="12879" y="2729"/>
                  <a:pt x="12771" y="2729"/>
                  <a:pt x="12650" y="2729"/>
                </a:cubicBezTo>
                <a:cubicBezTo>
                  <a:pt x="12482" y="2643"/>
                  <a:pt x="12762" y="2722"/>
                  <a:pt x="12824" y="2729"/>
                </a:cubicBezTo>
                <a:cubicBezTo>
                  <a:pt x="13019" y="2752"/>
                  <a:pt x="13217" y="2774"/>
                  <a:pt x="13395" y="2853"/>
                </a:cubicBezTo>
                <a:cubicBezTo>
                  <a:pt x="13537" y="2916"/>
                  <a:pt x="13550" y="3000"/>
                  <a:pt x="13469" y="3125"/>
                </a:cubicBezTo>
                <a:cubicBezTo>
                  <a:pt x="13390" y="3246"/>
                  <a:pt x="13285" y="3337"/>
                  <a:pt x="13171" y="34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14960" y="884160"/>
            <a:ext cx="1571760" cy="473040"/>
          </a:xfrm>
          <a:custGeom>
            <a:avLst/>
            <a:gdLst/>
            <a:ahLst/>
            <a:rect l="l" t="t" r="r" b="b"/>
            <a:pathLst>
              <a:path w="4367" h="1315">
                <a:moveTo>
                  <a:pt x="14536" y="2729"/>
                </a:moveTo>
                <a:cubicBezTo>
                  <a:pt x="14489" y="2744"/>
                  <a:pt x="14511" y="2823"/>
                  <a:pt x="14511" y="2877"/>
                </a:cubicBezTo>
                <a:cubicBezTo>
                  <a:pt x="14511" y="3007"/>
                  <a:pt x="14502" y="3124"/>
                  <a:pt x="14486" y="3249"/>
                </a:cubicBezTo>
                <a:cubicBezTo>
                  <a:pt x="14486" y="3291"/>
                  <a:pt x="14486" y="3299"/>
                  <a:pt x="14486" y="3324"/>
                </a:cubicBezTo>
                <a:cubicBezTo>
                  <a:pt x="14505" y="3208"/>
                  <a:pt x="14576" y="3114"/>
                  <a:pt x="14610" y="3001"/>
                </a:cubicBezTo>
                <a:cubicBezTo>
                  <a:pt x="14655" y="2850"/>
                  <a:pt x="14684" y="2708"/>
                  <a:pt x="14784" y="2580"/>
                </a:cubicBezTo>
                <a:cubicBezTo>
                  <a:pt x="14822" y="2541"/>
                  <a:pt x="14824" y="2524"/>
                  <a:pt x="14858" y="2530"/>
                </a:cubicBezTo>
                <a:cubicBezTo>
                  <a:pt x="14936" y="2619"/>
                  <a:pt x="14948" y="2708"/>
                  <a:pt x="14957" y="2828"/>
                </a:cubicBezTo>
                <a:cubicBezTo>
                  <a:pt x="14965" y="2934"/>
                  <a:pt x="14957" y="3044"/>
                  <a:pt x="14957" y="3150"/>
                </a:cubicBezTo>
              </a:path>
              <a:path w="4367" h="1315">
                <a:moveTo>
                  <a:pt x="14709" y="3051"/>
                </a:moveTo>
                <a:cubicBezTo>
                  <a:pt x="14693" y="3034"/>
                  <a:pt x="14676" y="3018"/>
                  <a:pt x="14660" y="3001"/>
                </a:cubicBezTo>
                <a:cubicBezTo>
                  <a:pt x="14778" y="2963"/>
                  <a:pt x="14905" y="2977"/>
                  <a:pt x="15032" y="2977"/>
                </a:cubicBezTo>
                <a:cubicBezTo>
                  <a:pt x="15153" y="2977"/>
                  <a:pt x="15262" y="2973"/>
                  <a:pt x="15379" y="3001"/>
                </a:cubicBezTo>
                <a:cubicBezTo>
                  <a:pt x="15366" y="3055"/>
                  <a:pt x="15332" y="3074"/>
                  <a:pt x="15280" y="3101"/>
                </a:cubicBezTo>
                <a:cubicBezTo>
                  <a:pt x="15226" y="3129"/>
                  <a:pt x="15180" y="3152"/>
                  <a:pt x="15205" y="3225"/>
                </a:cubicBezTo>
                <a:cubicBezTo>
                  <a:pt x="15234" y="3312"/>
                  <a:pt x="15328" y="3352"/>
                  <a:pt x="15379" y="3423"/>
                </a:cubicBezTo>
                <a:cubicBezTo>
                  <a:pt x="15420" y="3480"/>
                  <a:pt x="15407" y="3572"/>
                  <a:pt x="15354" y="3621"/>
                </a:cubicBezTo>
                <a:cubicBezTo>
                  <a:pt x="15333" y="3641"/>
                  <a:pt x="15236" y="3702"/>
                  <a:pt x="15205" y="3671"/>
                </a:cubicBezTo>
                <a:cubicBezTo>
                  <a:pt x="15132" y="3598"/>
                  <a:pt x="15216" y="3508"/>
                  <a:pt x="15255" y="3448"/>
                </a:cubicBezTo>
                <a:cubicBezTo>
                  <a:pt x="15304" y="3373"/>
                  <a:pt x="15320" y="3348"/>
                  <a:pt x="15379" y="3324"/>
                </a:cubicBezTo>
              </a:path>
              <a:path w="4367" h="1315">
                <a:moveTo>
                  <a:pt x="16446" y="2580"/>
                </a:moveTo>
                <a:cubicBezTo>
                  <a:pt x="16355" y="2489"/>
                  <a:pt x="16326" y="2490"/>
                  <a:pt x="16197" y="2530"/>
                </a:cubicBezTo>
                <a:cubicBezTo>
                  <a:pt x="16118" y="2555"/>
                  <a:pt x="16023" y="2617"/>
                  <a:pt x="15999" y="2704"/>
                </a:cubicBezTo>
                <a:cubicBezTo>
                  <a:pt x="15977" y="2785"/>
                  <a:pt x="16029" y="2863"/>
                  <a:pt x="16098" y="2902"/>
                </a:cubicBezTo>
                <a:cubicBezTo>
                  <a:pt x="16178" y="2947"/>
                  <a:pt x="16249" y="2972"/>
                  <a:pt x="16272" y="3076"/>
                </a:cubicBezTo>
                <a:cubicBezTo>
                  <a:pt x="16292" y="3163"/>
                  <a:pt x="16211" y="3214"/>
                  <a:pt x="16148" y="3249"/>
                </a:cubicBezTo>
                <a:cubicBezTo>
                  <a:pt x="16131" y="3257"/>
                  <a:pt x="16115" y="3266"/>
                  <a:pt x="16098" y="3274"/>
                </a:cubicBezTo>
              </a:path>
              <a:path w="4367" h="1315">
                <a:moveTo>
                  <a:pt x="16446" y="3076"/>
                </a:moveTo>
                <a:cubicBezTo>
                  <a:pt x="16446" y="3101"/>
                  <a:pt x="16446" y="3109"/>
                  <a:pt x="16421" y="3101"/>
                </a:cubicBezTo>
                <a:cubicBezTo>
                  <a:pt x="16475" y="3101"/>
                  <a:pt x="16493" y="3112"/>
                  <a:pt x="16545" y="3125"/>
                </a:cubicBezTo>
                <a:cubicBezTo>
                  <a:pt x="16598" y="3138"/>
                  <a:pt x="16566" y="3186"/>
                  <a:pt x="16545" y="3225"/>
                </a:cubicBezTo>
                <a:cubicBezTo>
                  <a:pt x="16512" y="3286"/>
                  <a:pt x="16467" y="3347"/>
                  <a:pt x="16421" y="3398"/>
                </a:cubicBezTo>
                <a:cubicBezTo>
                  <a:pt x="16398" y="3421"/>
                  <a:pt x="16390" y="3425"/>
                  <a:pt x="16396" y="3448"/>
                </a:cubicBezTo>
                <a:cubicBezTo>
                  <a:pt x="16465" y="3448"/>
                  <a:pt x="16506" y="3445"/>
                  <a:pt x="16570" y="3423"/>
                </a:cubicBezTo>
                <a:cubicBezTo>
                  <a:pt x="16595" y="3415"/>
                  <a:pt x="16619" y="3406"/>
                  <a:pt x="16644" y="3398"/>
                </a:cubicBezTo>
              </a:path>
              <a:path w="4367" h="1315">
                <a:moveTo>
                  <a:pt x="17239" y="2729"/>
                </a:moveTo>
                <a:cubicBezTo>
                  <a:pt x="17213" y="2650"/>
                  <a:pt x="17131" y="2795"/>
                  <a:pt x="17115" y="2828"/>
                </a:cubicBezTo>
                <a:cubicBezTo>
                  <a:pt x="17055" y="2948"/>
                  <a:pt x="16951" y="3159"/>
                  <a:pt x="16991" y="3299"/>
                </a:cubicBezTo>
                <a:cubicBezTo>
                  <a:pt x="17019" y="3398"/>
                  <a:pt x="17109" y="3428"/>
                  <a:pt x="17190" y="3373"/>
                </a:cubicBezTo>
                <a:cubicBezTo>
                  <a:pt x="17291" y="3304"/>
                  <a:pt x="17350" y="3115"/>
                  <a:pt x="17363" y="3001"/>
                </a:cubicBezTo>
                <a:cubicBezTo>
                  <a:pt x="17377" y="2881"/>
                  <a:pt x="17384" y="2698"/>
                  <a:pt x="17289" y="2604"/>
                </a:cubicBezTo>
                <a:cubicBezTo>
                  <a:pt x="17230" y="2546"/>
                  <a:pt x="17217" y="2588"/>
                  <a:pt x="17190" y="2629"/>
                </a:cubicBezTo>
              </a:path>
              <a:path w="4367" h="1315">
                <a:moveTo>
                  <a:pt x="17487" y="3175"/>
                </a:moveTo>
                <a:cubicBezTo>
                  <a:pt x="17513" y="3182"/>
                  <a:pt x="17572" y="3196"/>
                  <a:pt x="17587" y="3225"/>
                </a:cubicBezTo>
                <a:cubicBezTo>
                  <a:pt x="17606" y="3262"/>
                  <a:pt x="17633" y="3314"/>
                  <a:pt x="17587" y="3349"/>
                </a:cubicBezTo>
                <a:cubicBezTo>
                  <a:pt x="17553" y="3375"/>
                  <a:pt x="17477" y="3419"/>
                  <a:pt x="17438" y="3423"/>
                </a:cubicBezTo>
                <a:cubicBezTo>
                  <a:pt x="17430" y="3423"/>
                  <a:pt x="17421" y="3423"/>
                  <a:pt x="17413" y="3423"/>
                </a:cubicBezTo>
                <a:cubicBezTo>
                  <a:pt x="17426" y="3463"/>
                  <a:pt x="17461" y="3448"/>
                  <a:pt x="17512" y="3448"/>
                </a:cubicBezTo>
                <a:cubicBezTo>
                  <a:pt x="17543" y="3448"/>
                  <a:pt x="17598" y="3483"/>
                  <a:pt x="17587" y="3522"/>
                </a:cubicBezTo>
                <a:cubicBezTo>
                  <a:pt x="17564" y="3602"/>
                  <a:pt x="17480" y="3698"/>
                  <a:pt x="17413" y="3746"/>
                </a:cubicBezTo>
                <a:cubicBezTo>
                  <a:pt x="17365" y="3769"/>
                  <a:pt x="17350" y="3777"/>
                  <a:pt x="17314" y="3770"/>
                </a:cubicBezTo>
              </a:path>
              <a:path w="4367" h="1315">
                <a:moveTo>
                  <a:pt x="18132" y="2456"/>
                </a:moveTo>
                <a:cubicBezTo>
                  <a:pt x="18186" y="2509"/>
                  <a:pt x="18230" y="2533"/>
                  <a:pt x="18306" y="2555"/>
                </a:cubicBezTo>
                <a:cubicBezTo>
                  <a:pt x="18411" y="2586"/>
                  <a:pt x="18544" y="2597"/>
                  <a:pt x="18653" y="2580"/>
                </a:cubicBezTo>
                <a:cubicBezTo>
                  <a:pt x="18731" y="2568"/>
                  <a:pt x="18776" y="2555"/>
                  <a:pt x="18852" y="25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14280" y="1562040"/>
            <a:ext cx="795600" cy="331920"/>
          </a:xfrm>
          <a:custGeom>
            <a:avLst/>
            <a:gdLst/>
            <a:ahLst/>
            <a:rect l="l" t="t" r="r" b="b"/>
            <a:pathLst>
              <a:path w="2209" h="919">
                <a:moveTo>
                  <a:pt x="3398" y="4564"/>
                </a:moveTo>
                <a:cubicBezTo>
                  <a:pt x="3357" y="4632"/>
                  <a:pt x="3386" y="4645"/>
                  <a:pt x="3423" y="4713"/>
                </a:cubicBezTo>
                <a:cubicBezTo>
                  <a:pt x="3465" y="4792"/>
                  <a:pt x="3533" y="4808"/>
                  <a:pt x="3621" y="4812"/>
                </a:cubicBezTo>
                <a:cubicBezTo>
                  <a:pt x="3690" y="4812"/>
                  <a:pt x="3709" y="4815"/>
                  <a:pt x="3746" y="4787"/>
                </a:cubicBezTo>
              </a:path>
              <a:path w="2209" h="919">
                <a:moveTo>
                  <a:pt x="3894" y="4490"/>
                </a:moveTo>
                <a:cubicBezTo>
                  <a:pt x="3854" y="4470"/>
                  <a:pt x="3848" y="4461"/>
                  <a:pt x="3820" y="4465"/>
                </a:cubicBezTo>
                <a:cubicBezTo>
                  <a:pt x="3780" y="4569"/>
                  <a:pt x="3773" y="4673"/>
                  <a:pt x="3770" y="4787"/>
                </a:cubicBezTo>
                <a:cubicBezTo>
                  <a:pt x="3767" y="4921"/>
                  <a:pt x="3776" y="5083"/>
                  <a:pt x="3820" y="5209"/>
                </a:cubicBezTo>
                <a:cubicBezTo>
                  <a:pt x="3828" y="5226"/>
                  <a:pt x="3837" y="5242"/>
                  <a:pt x="3845" y="5259"/>
                </a:cubicBezTo>
              </a:path>
              <a:path w="2209" h="919">
                <a:moveTo>
                  <a:pt x="4242" y="4862"/>
                </a:moveTo>
                <a:cubicBezTo>
                  <a:pt x="4189" y="4915"/>
                  <a:pt x="4192" y="4935"/>
                  <a:pt x="4192" y="5011"/>
                </a:cubicBezTo>
                <a:cubicBezTo>
                  <a:pt x="4192" y="5103"/>
                  <a:pt x="4250" y="5170"/>
                  <a:pt x="4341" y="5184"/>
                </a:cubicBezTo>
                <a:cubicBezTo>
                  <a:pt x="4414" y="5196"/>
                  <a:pt x="4453" y="5165"/>
                  <a:pt x="4514" y="5135"/>
                </a:cubicBezTo>
              </a:path>
              <a:path w="2209" h="919">
                <a:moveTo>
                  <a:pt x="4266" y="4911"/>
                </a:moveTo>
                <a:cubicBezTo>
                  <a:pt x="4250" y="4911"/>
                  <a:pt x="4233" y="4911"/>
                  <a:pt x="4217" y="4911"/>
                </a:cubicBezTo>
                <a:cubicBezTo>
                  <a:pt x="4274" y="4897"/>
                  <a:pt x="4320" y="4855"/>
                  <a:pt x="4366" y="4812"/>
                </a:cubicBezTo>
                <a:cubicBezTo>
                  <a:pt x="4374" y="4804"/>
                  <a:pt x="4382" y="4795"/>
                  <a:pt x="4390" y="4787"/>
                </a:cubicBezTo>
              </a:path>
              <a:path w="2209" h="919">
                <a:moveTo>
                  <a:pt x="4316" y="4663"/>
                </a:moveTo>
                <a:cubicBezTo>
                  <a:pt x="4299" y="4663"/>
                  <a:pt x="4283" y="4663"/>
                  <a:pt x="4266" y="4663"/>
                </a:cubicBezTo>
                <a:cubicBezTo>
                  <a:pt x="4317" y="4623"/>
                  <a:pt x="4378" y="4588"/>
                  <a:pt x="4440" y="4564"/>
                </a:cubicBezTo>
                <a:cubicBezTo>
                  <a:pt x="4465" y="4556"/>
                  <a:pt x="4489" y="4547"/>
                  <a:pt x="4514" y="4539"/>
                </a:cubicBezTo>
              </a:path>
              <a:path w="2209" h="919">
                <a:moveTo>
                  <a:pt x="4812" y="4812"/>
                </a:moveTo>
                <a:cubicBezTo>
                  <a:pt x="4804" y="4820"/>
                  <a:pt x="4795" y="4829"/>
                  <a:pt x="4787" y="4837"/>
                </a:cubicBezTo>
                <a:cubicBezTo>
                  <a:pt x="4828" y="4837"/>
                  <a:pt x="4853" y="4827"/>
                  <a:pt x="4887" y="4812"/>
                </a:cubicBezTo>
                <a:cubicBezTo>
                  <a:pt x="4927" y="4792"/>
                  <a:pt x="4933" y="4783"/>
                  <a:pt x="4961" y="4787"/>
                </a:cubicBezTo>
              </a:path>
              <a:path w="2209" h="919">
                <a:moveTo>
                  <a:pt x="5184" y="4465"/>
                </a:moveTo>
                <a:cubicBezTo>
                  <a:pt x="5148" y="4525"/>
                  <a:pt x="5159" y="4588"/>
                  <a:pt x="5159" y="4663"/>
                </a:cubicBezTo>
                <a:cubicBezTo>
                  <a:pt x="5159" y="4745"/>
                  <a:pt x="5191" y="4797"/>
                  <a:pt x="5259" y="4837"/>
                </a:cubicBezTo>
                <a:cubicBezTo>
                  <a:pt x="5350" y="4891"/>
                  <a:pt x="5380" y="4835"/>
                  <a:pt x="5457" y="4787"/>
                </a:cubicBezTo>
              </a:path>
              <a:path w="2209" h="919">
                <a:moveTo>
                  <a:pt x="5581" y="4341"/>
                </a:moveTo>
                <a:cubicBezTo>
                  <a:pt x="5522" y="4467"/>
                  <a:pt x="5489" y="4577"/>
                  <a:pt x="5457" y="4713"/>
                </a:cubicBezTo>
                <a:cubicBezTo>
                  <a:pt x="5428" y="4836"/>
                  <a:pt x="5421" y="4939"/>
                  <a:pt x="5457" y="5060"/>
                </a:cubicBezTo>
                <a:cubicBezTo>
                  <a:pt x="5465" y="5085"/>
                  <a:pt x="5474" y="5110"/>
                  <a:pt x="5482" y="51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20960" y="1517760"/>
            <a:ext cx="733320" cy="27756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7962" y="4291"/>
                </a:moveTo>
                <a:cubicBezTo>
                  <a:pt x="7970" y="4275"/>
                  <a:pt x="7979" y="4258"/>
                  <a:pt x="7987" y="4242"/>
                </a:cubicBezTo>
                <a:cubicBezTo>
                  <a:pt x="8056" y="4242"/>
                  <a:pt x="8083" y="4277"/>
                  <a:pt x="8111" y="4341"/>
                </a:cubicBezTo>
                <a:cubicBezTo>
                  <a:pt x="8173" y="4483"/>
                  <a:pt x="8115" y="4606"/>
                  <a:pt x="8062" y="4738"/>
                </a:cubicBezTo>
                <a:cubicBezTo>
                  <a:pt x="8012" y="4861"/>
                  <a:pt x="7963" y="4955"/>
                  <a:pt x="7838" y="4986"/>
                </a:cubicBezTo>
                <a:cubicBezTo>
                  <a:pt x="7850" y="4887"/>
                  <a:pt x="7906" y="4826"/>
                  <a:pt x="7987" y="4762"/>
                </a:cubicBezTo>
                <a:cubicBezTo>
                  <a:pt x="8077" y="4691"/>
                  <a:pt x="8157" y="4669"/>
                  <a:pt x="8260" y="4713"/>
                </a:cubicBezTo>
                <a:cubicBezTo>
                  <a:pt x="8310" y="4738"/>
                  <a:pt x="8326" y="4746"/>
                  <a:pt x="8334" y="4787"/>
                </a:cubicBezTo>
              </a:path>
              <a:path w="2035" h="770">
                <a:moveTo>
                  <a:pt x="8706" y="4812"/>
                </a:moveTo>
                <a:cubicBezTo>
                  <a:pt x="8682" y="4812"/>
                  <a:pt x="8673" y="4812"/>
                  <a:pt x="8657" y="4812"/>
                </a:cubicBezTo>
              </a:path>
              <a:path w="2035" h="770">
                <a:moveTo>
                  <a:pt x="9103" y="4266"/>
                </a:moveTo>
                <a:cubicBezTo>
                  <a:pt x="8983" y="4277"/>
                  <a:pt x="8953" y="4323"/>
                  <a:pt x="8855" y="4390"/>
                </a:cubicBezTo>
                <a:cubicBezTo>
                  <a:pt x="8804" y="4425"/>
                  <a:pt x="8777" y="4478"/>
                  <a:pt x="8855" y="4514"/>
                </a:cubicBezTo>
                <a:cubicBezTo>
                  <a:pt x="8948" y="4558"/>
                  <a:pt x="9059" y="4554"/>
                  <a:pt x="9128" y="4638"/>
                </a:cubicBezTo>
                <a:cubicBezTo>
                  <a:pt x="9195" y="4719"/>
                  <a:pt x="9169" y="4777"/>
                  <a:pt x="9128" y="4862"/>
                </a:cubicBezTo>
                <a:cubicBezTo>
                  <a:pt x="9104" y="4913"/>
                  <a:pt x="9101" y="4924"/>
                  <a:pt x="9054" y="4936"/>
                </a:cubicBezTo>
                <a:cubicBezTo>
                  <a:pt x="9066" y="4844"/>
                  <a:pt x="9099" y="4767"/>
                  <a:pt x="9153" y="4688"/>
                </a:cubicBezTo>
                <a:cubicBezTo>
                  <a:pt x="9178" y="4655"/>
                  <a:pt x="9202" y="4622"/>
                  <a:pt x="9227" y="4589"/>
                </a:cubicBezTo>
              </a:path>
              <a:path w="2035" h="770">
                <a:moveTo>
                  <a:pt x="9575" y="4217"/>
                </a:moveTo>
                <a:cubicBezTo>
                  <a:pt x="9533" y="4290"/>
                  <a:pt x="9526" y="4332"/>
                  <a:pt x="9500" y="4415"/>
                </a:cubicBezTo>
                <a:cubicBezTo>
                  <a:pt x="9477" y="4488"/>
                  <a:pt x="9456" y="4626"/>
                  <a:pt x="9525" y="4688"/>
                </a:cubicBezTo>
                <a:cubicBezTo>
                  <a:pt x="9571" y="4729"/>
                  <a:pt x="9704" y="4794"/>
                  <a:pt x="9773" y="4762"/>
                </a:cubicBezTo>
                <a:cubicBezTo>
                  <a:pt x="9823" y="4738"/>
                  <a:pt x="9867" y="4665"/>
                  <a:pt x="9872" y="4614"/>
                </a:cubicBezTo>
                <a:cubicBezTo>
                  <a:pt x="9872" y="4606"/>
                  <a:pt x="9872" y="4597"/>
                  <a:pt x="9872" y="4589"/>
                </a:cubicBezTo>
                <a:cubicBezTo>
                  <a:pt x="9790" y="4610"/>
                  <a:pt x="9695" y="4677"/>
                  <a:pt x="9624" y="4738"/>
                </a:cubicBezTo>
                <a:cubicBezTo>
                  <a:pt x="9561" y="4801"/>
                  <a:pt x="9544" y="4811"/>
                  <a:pt x="9525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72080" y="1509840"/>
            <a:ext cx="258840" cy="125280"/>
          </a:xfrm>
          <a:custGeom>
            <a:avLst/>
            <a:gdLst/>
            <a:ahLst/>
            <a:rect l="l" t="t" r="r" b="b"/>
            <a:pathLst>
              <a:path w="720" h="348">
                <a:moveTo>
                  <a:pt x="15875" y="4192"/>
                </a:moveTo>
                <a:cubicBezTo>
                  <a:pt x="15750" y="4295"/>
                  <a:pt x="15688" y="4344"/>
                  <a:pt x="15627" y="4490"/>
                </a:cubicBezTo>
                <a:cubicBezTo>
                  <a:pt x="15697" y="4559"/>
                  <a:pt x="15841" y="4564"/>
                  <a:pt x="15949" y="4514"/>
                </a:cubicBezTo>
                <a:cubicBezTo>
                  <a:pt x="16049" y="4468"/>
                  <a:pt x="16128" y="4393"/>
                  <a:pt x="16197" y="4316"/>
                </a:cubicBezTo>
                <a:cubicBezTo>
                  <a:pt x="16159" y="4162"/>
                  <a:pt x="16038" y="4197"/>
                  <a:pt x="15900" y="4217"/>
                </a:cubicBezTo>
                <a:cubicBezTo>
                  <a:pt x="15741" y="4239"/>
                  <a:pt x="15619" y="4295"/>
                  <a:pt x="15478" y="43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19080" y="1608120"/>
            <a:ext cx="216000" cy="766800"/>
          </a:xfrm>
          <a:custGeom>
            <a:avLst/>
            <a:gdLst/>
            <a:ahLst/>
            <a:rect l="l" t="t" r="r" b="b"/>
            <a:pathLst>
              <a:path w="596" h="2134">
                <a:moveTo>
                  <a:pt x="2704" y="4539"/>
                </a:moveTo>
                <a:cubicBezTo>
                  <a:pt x="2704" y="4693"/>
                  <a:pt x="2711" y="4835"/>
                  <a:pt x="2729" y="4986"/>
                </a:cubicBezTo>
                <a:cubicBezTo>
                  <a:pt x="2735" y="5031"/>
                  <a:pt x="2745" y="5066"/>
                  <a:pt x="2753" y="5110"/>
                </a:cubicBezTo>
              </a:path>
              <a:path w="596" h="2134">
                <a:moveTo>
                  <a:pt x="2580" y="4614"/>
                </a:moveTo>
                <a:cubicBezTo>
                  <a:pt x="2572" y="4606"/>
                  <a:pt x="2563" y="4597"/>
                  <a:pt x="2555" y="4589"/>
                </a:cubicBezTo>
                <a:cubicBezTo>
                  <a:pt x="2621" y="4589"/>
                  <a:pt x="2664" y="4584"/>
                  <a:pt x="2729" y="4564"/>
                </a:cubicBezTo>
                <a:cubicBezTo>
                  <a:pt x="2841" y="4529"/>
                  <a:pt x="2941" y="4483"/>
                  <a:pt x="3051" y="4465"/>
                </a:cubicBezTo>
              </a:path>
              <a:path w="596" h="2134">
                <a:moveTo>
                  <a:pt x="2704" y="4911"/>
                </a:moveTo>
                <a:cubicBezTo>
                  <a:pt x="2655" y="4998"/>
                  <a:pt x="2598" y="5067"/>
                  <a:pt x="2580" y="5159"/>
                </a:cubicBezTo>
                <a:cubicBezTo>
                  <a:pt x="2655" y="5159"/>
                  <a:pt x="2705" y="5154"/>
                  <a:pt x="2778" y="5135"/>
                </a:cubicBezTo>
                <a:cubicBezTo>
                  <a:pt x="2866" y="5112"/>
                  <a:pt x="2937" y="5093"/>
                  <a:pt x="3026" y="5085"/>
                </a:cubicBezTo>
              </a:path>
              <a:path w="596" h="2134">
                <a:moveTo>
                  <a:pt x="2877" y="6077"/>
                </a:moveTo>
                <a:cubicBezTo>
                  <a:pt x="2829" y="6143"/>
                  <a:pt x="2806" y="6209"/>
                  <a:pt x="2828" y="6300"/>
                </a:cubicBezTo>
                <a:cubicBezTo>
                  <a:pt x="2849" y="6390"/>
                  <a:pt x="2877" y="6468"/>
                  <a:pt x="2927" y="6548"/>
                </a:cubicBezTo>
                <a:cubicBezTo>
                  <a:pt x="2980" y="6632"/>
                  <a:pt x="3047" y="6596"/>
                  <a:pt x="3101" y="6548"/>
                </a:cubicBezTo>
                <a:cubicBezTo>
                  <a:pt x="3117" y="6532"/>
                  <a:pt x="3134" y="6515"/>
                  <a:pt x="3150" y="6499"/>
                </a:cubicBezTo>
              </a:path>
              <a:path w="596" h="2134">
                <a:moveTo>
                  <a:pt x="2977" y="6201"/>
                </a:moveTo>
                <a:cubicBezTo>
                  <a:pt x="2904" y="6256"/>
                  <a:pt x="2904" y="6281"/>
                  <a:pt x="2853" y="6276"/>
                </a:cubicBezTo>
                <a:cubicBezTo>
                  <a:pt x="2827" y="6251"/>
                  <a:pt x="2908" y="6237"/>
                  <a:pt x="2952" y="6201"/>
                </a:cubicBezTo>
                <a:cubicBezTo>
                  <a:pt x="2968" y="6185"/>
                  <a:pt x="2985" y="6168"/>
                  <a:pt x="3001" y="6152"/>
                </a:cubicBezTo>
              </a:path>
              <a:path w="596" h="2134">
                <a:moveTo>
                  <a:pt x="2803" y="5953"/>
                </a:moveTo>
                <a:cubicBezTo>
                  <a:pt x="2786" y="5961"/>
                  <a:pt x="2770" y="5970"/>
                  <a:pt x="2753" y="5978"/>
                </a:cubicBezTo>
                <a:cubicBezTo>
                  <a:pt x="2814" y="5929"/>
                  <a:pt x="2890" y="5921"/>
                  <a:pt x="2952" y="5879"/>
                </a:cubicBezTo>
                <a:cubicBezTo>
                  <a:pt x="2996" y="5834"/>
                  <a:pt x="3006" y="5817"/>
                  <a:pt x="3051" y="58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60680" y="2133720"/>
            <a:ext cx="179280" cy="223560"/>
          </a:xfrm>
          <a:custGeom>
            <a:avLst/>
            <a:gdLst/>
            <a:ahLst/>
            <a:rect l="l" t="t" r="r" b="b"/>
            <a:pathLst>
              <a:path w="497" h="621">
                <a:moveTo>
                  <a:pt x="4787" y="6052"/>
                </a:moveTo>
                <a:cubicBezTo>
                  <a:pt x="4758" y="5967"/>
                  <a:pt x="4703" y="6098"/>
                  <a:pt x="4688" y="6127"/>
                </a:cubicBezTo>
                <a:cubicBezTo>
                  <a:pt x="4637" y="6228"/>
                  <a:pt x="4557" y="6413"/>
                  <a:pt x="4638" y="6524"/>
                </a:cubicBezTo>
                <a:cubicBezTo>
                  <a:pt x="4711" y="6625"/>
                  <a:pt x="4915" y="6477"/>
                  <a:pt x="4961" y="6424"/>
                </a:cubicBezTo>
                <a:cubicBezTo>
                  <a:pt x="5053" y="6317"/>
                  <a:pt x="5127" y="6164"/>
                  <a:pt x="5085" y="6028"/>
                </a:cubicBezTo>
                <a:cubicBezTo>
                  <a:pt x="5047" y="5905"/>
                  <a:pt x="4909" y="5908"/>
                  <a:pt x="4812" y="5953"/>
                </a:cubicBezTo>
                <a:cubicBezTo>
                  <a:pt x="4722" y="5995"/>
                  <a:pt x="4648" y="6042"/>
                  <a:pt x="4738" y="61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14760" y="2017800"/>
            <a:ext cx="1643040" cy="411120"/>
          </a:xfrm>
          <a:custGeom>
            <a:avLst/>
            <a:gdLst/>
            <a:ahLst/>
            <a:rect l="l" t="t" r="r" b="b"/>
            <a:pathLst>
              <a:path w="4565" h="1142">
                <a:moveTo>
                  <a:pt x="7565" y="6226"/>
                </a:moveTo>
                <a:cubicBezTo>
                  <a:pt x="7565" y="6201"/>
                  <a:pt x="7565" y="6177"/>
                  <a:pt x="7565" y="6152"/>
                </a:cubicBezTo>
                <a:cubicBezTo>
                  <a:pt x="7565" y="6108"/>
                  <a:pt x="7544" y="6170"/>
                  <a:pt x="7541" y="6176"/>
                </a:cubicBezTo>
                <a:cubicBezTo>
                  <a:pt x="7530" y="6199"/>
                  <a:pt x="7558" y="6204"/>
                  <a:pt x="7565" y="6226"/>
                </a:cubicBezTo>
                <a:cubicBezTo>
                  <a:pt x="7513" y="6208"/>
                  <a:pt x="7559" y="6203"/>
                  <a:pt x="7590" y="6176"/>
                </a:cubicBezTo>
                <a:cubicBezTo>
                  <a:pt x="7634" y="6138"/>
                  <a:pt x="7702" y="6103"/>
                  <a:pt x="7764" y="6127"/>
                </a:cubicBezTo>
                <a:cubicBezTo>
                  <a:pt x="7849" y="6160"/>
                  <a:pt x="7812" y="6347"/>
                  <a:pt x="7789" y="6400"/>
                </a:cubicBezTo>
                <a:cubicBezTo>
                  <a:pt x="7742" y="6508"/>
                  <a:pt x="7662" y="6628"/>
                  <a:pt x="7590" y="6722"/>
                </a:cubicBezTo>
                <a:cubicBezTo>
                  <a:pt x="7582" y="6730"/>
                  <a:pt x="7573" y="6739"/>
                  <a:pt x="7565" y="6747"/>
                </a:cubicBezTo>
                <a:cubicBezTo>
                  <a:pt x="7652" y="6679"/>
                  <a:pt x="7758" y="6619"/>
                  <a:pt x="7863" y="6573"/>
                </a:cubicBezTo>
                <a:cubicBezTo>
                  <a:pt x="7938" y="6541"/>
                  <a:pt x="8007" y="6548"/>
                  <a:pt x="8086" y="6548"/>
                </a:cubicBezTo>
              </a:path>
              <a:path w="4565" h="1142">
                <a:moveTo>
                  <a:pt x="8260" y="6474"/>
                </a:moveTo>
                <a:cubicBezTo>
                  <a:pt x="8302" y="6474"/>
                  <a:pt x="8318" y="6482"/>
                  <a:pt x="8310" y="6449"/>
                </a:cubicBezTo>
              </a:path>
              <a:path w="4565" h="1142">
                <a:moveTo>
                  <a:pt x="8657" y="5879"/>
                </a:moveTo>
                <a:cubicBezTo>
                  <a:pt x="8649" y="5854"/>
                  <a:pt x="8640" y="5829"/>
                  <a:pt x="8632" y="5804"/>
                </a:cubicBezTo>
                <a:cubicBezTo>
                  <a:pt x="8567" y="5845"/>
                  <a:pt x="8473" y="5908"/>
                  <a:pt x="8434" y="5978"/>
                </a:cubicBezTo>
                <a:cubicBezTo>
                  <a:pt x="8396" y="6044"/>
                  <a:pt x="8395" y="6126"/>
                  <a:pt x="8458" y="6176"/>
                </a:cubicBezTo>
                <a:cubicBezTo>
                  <a:pt x="8531" y="6234"/>
                  <a:pt x="8606" y="6224"/>
                  <a:pt x="8682" y="6276"/>
                </a:cubicBezTo>
                <a:cubicBezTo>
                  <a:pt x="8726" y="6306"/>
                  <a:pt x="8712" y="6366"/>
                  <a:pt x="8682" y="6400"/>
                </a:cubicBezTo>
                <a:cubicBezTo>
                  <a:pt x="8634" y="6455"/>
                  <a:pt x="8638" y="6449"/>
                  <a:pt x="8582" y="6449"/>
                </a:cubicBezTo>
                <a:cubicBezTo>
                  <a:pt x="8534" y="6367"/>
                  <a:pt x="8564" y="6334"/>
                  <a:pt x="8607" y="6251"/>
                </a:cubicBezTo>
                <a:cubicBezTo>
                  <a:pt x="8664" y="6140"/>
                  <a:pt x="8723" y="6046"/>
                  <a:pt x="8806" y="5953"/>
                </a:cubicBezTo>
              </a:path>
              <a:path w="4565" h="1142">
                <a:moveTo>
                  <a:pt x="9079" y="5755"/>
                </a:moveTo>
                <a:cubicBezTo>
                  <a:pt x="9032" y="5848"/>
                  <a:pt x="8991" y="5947"/>
                  <a:pt x="8979" y="6052"/>
                </a:cubicBezTo>
                <a:cubicBezTo>
                  <a:pt x="8968" y="6147"/>
                  <a:pt x="8959" y="6294"/>
                  <a:pt x="9079" y="6325"/>
                </a:cubicBezTo>
                <a:cubicBezTo>
                  <a:pt x="9168" y="6348"/>
                  <a:pt x="9244" y="6280"/>
                  <a:pt x="9302" y="6226"/>
                </a:cubicBezTo>
                <a:cubicBezTo>
                  <a:pt x="9325" y="6203"/>
                  <a:pt x="9333" y="6199"/>
                  <a:pt x="9327" y="6176"/>
                </a:cubicBezTo>
                <a:cubicBezTo>
                  <a:pt x="9274" y="6138"/>
                  <a:pt x="9240" y="6149"/>
                  <a:pt x="9178" y="6176"/>
                </a:cubicBezTo>
                <a:cubicBezTo>
                  <a:pt x="9120" y="6201"/>
                  <a:pt x="9069" y="6242"/>
                  <a:pt x="9054" y="6300"/>
                </a:cubicBezTo>
              </a:path>
              <a:path w="4565" h="1142">
                <a:moveTo>
                  <a:pt x="9674" y="5953"/>
                </a:moveTo>
                <a:cubicBezTo>
                  <a:pt x="9612" y="5953"/>
                  <a:pt x="9758" y="5930"/>
                  <a:pt x="9773" y="5928"/>
                </a:cubicBezTo>
                <a:cubicBezTo>
                  <a:pt x="9841" y="5917"/>
                  <a:pt x="9899" y="5904"/>
                  <a:pt x="9971" y="5904"/>
                </a:cubicBezTo>
              </a:path>
              <a:path w="4565" h="1142">
                <a:moveTo>
                  <a:pt x="10244" y="5779"/>
                </a:moveTo>
                <a:cubicBezTo>
                  <a:pt x="10277" y="5801"/>
                  <a:pt x="10280" y="5895"/>
                  <a:pt x="10269" y="5953"/>
                </a:cubicBezTo>
                <a:cubicBezTo>
                  <a:pt x="10259" y="6004"/>
                  <a:pt x="10206" y="6121"/>
                  <a:pt x="10294" y="6152"/>
                </a:cubicBezTo>
                <a:cubicBezTo>
                  <a:pt x="10388" y="6186"/>
                  <a:pt x="10456" y="6107"/>
                  <a:pt x="10517" y="6052"/>
                </a:cubicBezTo>
              </a:path>
              <a:path w="4565" h="1142">
                <a:moveTo>
                  <a:pt x="10592" y="5755"/>
                </a:moveTo>
                <a:cubicBezTo>
                  <a:pt x="10489" y="5826"/>
                  <a:pt x="10473" y="5849"/>
                  <a:pt x="10468" y="5978"/>
                </a:cubicBezTo>
                <a:cubicBezTo>
                  <a:pt x="10464" y="6086"/>
                  <a:pt x="10455" y="6198"/>
                  <a:pt x="10492" y="6300"/>
                </a:cubicBezTo>
                <a:cubicBezTo>
                  <a:pt x="10517" y="6350"/>
                  <a:pt x="10525" y="6367"/>
                  <a:pt x="10542" y="6400"/>
                </a:cubicBezTo>
              </a:path>
              <a:path w="4565" h="1142">
                <a:moveTo>
                  <a:pt x="10889" y="6003"/>
                </a:moveTo>
                <a:cubicBezTo>
                  <a:pt x="10834" y="6072"/>
                  <a:pt x="10840" y="6113"/>
                  <a:pt x="10840" y="6201"/>
                </a:cubicBezTo>
                <a:cubicBezTo>
                  <a:pt x="10840" y="6236"/>
                  <a:pt x="10857" y="6316"/>
                  <a:pt x="10914" y="6300"/>
                </a:cubicBezTo>
                <a:cubicBezTo>
                  <a:pt x="10931" y="6292"/>
                  <a:pt x="10947" y="6284"/>
                  <a:pt x="10964" y="6276"/>
                </a:cubicBezTo>
              </a:path>
              <a:path w="4565" h="1142">
                <a:moveTo>
                  <a:pt x="10889" y="5978"/>
                </a:moveTo>
                <a:cubicBezTo>
                  <a:pt x="10864" y="5978"/>
                  <a:pt x="10840" y="5978"/>
                  <a:pt x="10815" y="5978"/>
                </a:cubicBezTo>
                <a:cubicBezTo>
                  <a:pt x="10873" y="5978"/>
                  <a:pt x="10909" y="5978"/>
                  <a:pt x="10964" y="5953"/>
                </a:cubicBezTo>
                <a:cubicBezTo>
                  <a:pt x="10980" y="5945"/>
                  <a:pt x="10997" y="5936"/>
                  <a:pt x="11013" y="5928"/>
                </a:cubicBezTo>
              </a:path>
              <a:path w="4565" h="1142">
                <a:moveTo>
                  <a:pt x="10939" y="5779"/>
                </a:moveTo>
                <a:cubicBezTo>
                  <a:pt x="10875" y="5779"/>
                  <a:pt x="11026" y="5757"/>
                  <a:pt x="11038" y="5755"/>
                </a:cubicBezTo>
                <a:cubicBezTo>
                  <a:pt x="11063" y="5755"/>
                  <a:pt x="11087" y="5755"/>
                  <a:pt x="11112" y="5755"/>
                </a:cubicBezTo>
              </a:path>
              <a:path w="4565" h="1142">
                <a:moveTo>
                  <a:pt x="11286" y="5978"/>
                </a:moveTo>
                <a:cubicBezTo>
                  <a:pt x="11286" y="5986"/>
                  <a:pt x="11286" y="5995"/>
                  <a:pt x="11286" y="6003"/>
                </a:cubicBezTo>
                <a:cubicBezTo>
                  <a:pt x="11344" y="6003"/>
                  <a:pt x="11389" y="5987"/>
                  <a:pt x="11435" y="5978"/>
                </a:cubicBezTo>
                <a:cubicBezTo>
                  <a:pt x="11498" y="5965"/>
                  <a:pt x="11529" y="5947"/>
                  <a:pt x="11584" y="5904"/>
                </a:cubicBezTo>
              </a:path>
              <a:path w="4565" h="1142">
                <a:moveTo>
                  <a:pt x="11683" y="5779"/>
                </a:moveTo>
                <a:cubicBezTo>
                  <a:pt x="11645" y="5817"/>
                  <a:pt x="11633" y="5826"/>
                  <a:pt x="11633" y="5879"/>
                </a:cubicBezTo>
                <a:cubicBezTo>
                  <a:pt x="11633" y="5920"/>
                  <a:pt x="11669" y="5950"/>
                  <a:pt x="11708" y="5953"/>
                </a:cubicBezTo>
                <a:cubicBezTo>
                  <a:pt x="11819" y="5961"/>
                  <a:pt x="11847" y="5941"/>
                  <a:pt x="11931" y="5879"/>
                </a:cubicBezTo>
                <a:cubicBezTo>
                  <a:pt x="12000" y="5832"/>
                  <a:pt x="12020" y="5820"/>
                  <a:pt x="12055" y="5779"/>
                </a:cubicBezTo>
              </a:path>
              <a:path w="4565" h="1142">
                <a:moveTo>
                  <a:pt x="12105" y="5655"/>
                </a:moveTo>
                <a:cubicBezTo>
                  <a:pt x="12105" y="5639"/>
                  <a:pt x="12105" y="5622"/>
                  <a:pt x="12105" y="5606"/>
                </a:cubicBezTo>
                <a:cubicBezTo>
                  <a:pt x="12041" y="5622"/>
                  <a:pt x="12020" y="5673"/>
                  <a:pt x="11981" y="5730"/>
                </a:cubicBezTo>
                <a:cubicBezTo>
                  <a:pt x="11913" y="5829"/>
                  <a:pt x="11881" y="5955"/>
                  <a:pt x="11906" y="6077"/>
                </a:cubicBezTo>
                <a:cubicBezTo>
                  <a:pt x="11931" y="6127"/>
                  <a:pt x="11939" y="6143"/>
                  <a:pt x="11956" y="61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73800" y="1901880"/>
            <a:ext cx="965160" cy="277920"/>
          </a:xfrm>
          <a:custGeom>
            <a:avLst/>
            <a:gdLst/>
            <a:ahLst/>
            <a:rect l="l" t="t" r="r" b="b"/>
            <a:pathLst>
              <a:path w="2680" h="770">
                <a:moveTo>
                  <a:pt x="15230" y="5556"/>
                </a:moveTo>
                <a:cubicBezTo>
                  <a:pt x="15224" y="5600"/>
                  <a:pt x="15179" y="5683"/>
                  <a:pt x="15205" y="5730"/>
                </a:cubicBezTo>
                <a:cubicBezTo>
                  <a:pt x="15244" y="5800"/>
                  <a:pt x="15328" y="5839"/>
                  <a:pt x="15404" y="5829"/>
                </a:cubicBezTo>
                <a:cubicBezTo>
                  <a:pt x="15527" y="5813"/>
                  <a:pt x="15588" y="5756"/>
                  <a:pt x="15677" y="5680"/>
                </a:cubicBezTo>
              </a:path>
              <a:path w="2680" h="770">
                <a:moveTo>
                  <a:pt x="15875" y="5383"/>
                </a:moveTo>
                <a:cubicBezTo>
                  <a:pt x="15760" y="5421"/>
                  <a:pt x="15654" y="5457"/>
                  <a:pt x="15602" y="5581"/>
                </a:cubicBezTo>
                <a:cubicBezTo>
                  <a:pt x="15561" y="5678"/>
                  <a:pt x="15558" y="5833"/>
                  <a:pt x="15602" y="5928"/>
                </a:cubicBezTo>
                <a:cubicBezTo>
                  <a:pt x="15619" y="5953"/>
                  <a:pt x="15635" y="5978"/>
                  <a:pt x="15652" y="6003"/>
                </a:cubicBezTo>
              </a:path>
              <a:path w="2680" h="770">
                <a:moveTo>
                  <a:pt x="16247" y="5531"/>
                </a:moveTo>
                <a:cubicBezTo>
                  <a:pt x="16225" y="5589"/>
                  <a:pt x="16183" y="5669"/>
                  <a:pt x="16173" y="5730"/>
                </a:cubicBezTo>
                <a:cubicBezTo>
                  <a:pt x="16162" y="5793"/>
                  <a:pt x="16202" y="5928"/>
                  <a:pt x="16272" y="5953"/>
                </a:cubicBezTo>
                <a:cubicBezTo>
                  <a:pt x="16338" y="5953"/>
                  <a:pt x="16355" y="5953"/>
                  <a:pt x="16396" y="5953"/>
                </a:cubicBezTo>
              </a:path>
              <a:path w="2680" h="770">
                <a:moveTo>
                  <a:pt x="16247" y="5606"/>
                </a:moveTo>
                <a:cubicBezTo>
                  <a:pt x="16200" y="5606"/>
                  <a:pt x="16385" y="5590"/>
                  <a:pt x="16421" y="5581"/>
                </a:cubicBezTo>
                <a:cubicBezTo>
                  <a:pt x="16454" y="5573"/>
                  <a:pt x="16487" y="5564"/>
                  <a:pt x="16520" y="5556"/>
                </a:cubicBezTo>
              </a:path>
              <a:path w="2680" h="770">
                <a:moveTo>
                  <a:pt x="16470" y="5333"/>
                </a:moveTo>
                <a:cubicBezTo>
                  <a:pt x="16445" y="5350"/>
                  <a:pt x="16421" y="5366"/>
                  <a:pt x="16396" y="5383"/>
                </a:cubicBezTo>
                <a:cubicBezTo>
                  <a:pt x="16505" y="5373"/>
                  <a:pt x="16608" y="5336"/>
                  <a:pt x="16718" y="5308"/>
                </a:cubicBezTo>
              </a:path>
              <a:path w="2680" h="770">
                <a:moveTo>
                  <a:pt x="16818" y="5631"/>
                </a:moveTo>
                <a:cubicBezTo>
                  <a:pt x="16801" y="5639"/>
                  <a:pt x="16785" y="5647"/>
                  <a:pt x="16768" y="5655"/>
                </a:cubicBezTo>
                <a:cubicBezTo>
                  <a:pt x="16865" y="5655"/>
                  <a:pt x="16947" y="5654"/>
                  <a:pt x="17041" y="5631"/>
                </a:cubicBezTo>
              </a:path>
              <a:path w="2680" h="770">
                <a:moveTo>
                  <a:pt x="17413" y="5383"/>
                </a:moveTo>
                <a:cubicBezTo>
                  <a:pt x="17404" y="5418"/>
                  <a:pt x="17370" y="5450"/>
                  <a:pt x="17363" y="5482"/>
                </a:cubicBezTo>
                <a:cubicBezTo>
                  <a:pt x="17351" y="5538"/>
                  <a:pt x="17409" y="5615"/>
                  <a:pt x="17462" y="5631"/>
                </a:cubicBezTo>
                <a:cubicBezTo>
                  <a:pt x="17512" y="5631"/>
                  <a:pt x="17529" y="5631"/>
                  <a:pt x="17562" y="5631"/>
                </a:cubicBezTo>
              </a:path>
              <a:path w="2680" h="770">
                <a:moveTo>
                  <a:pt x="17884" y="5283"/>
                </a:moveTo>
                <a:cubicBezTo>
                  <a:pt x="17762" y="5362"/>
                  <a:pt x="17705" y="5435"/>
                  <a:pt x="17661" y="5581"/>
                </a:cubicBezTo>
                <a:cubicBezTo>
                  <a:pt x="17616" y="5731"/>
                  <a:pt x="17636" y="5897"/>
                  <a:pt x="17636" y="60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01840" y="2813040"/>
            <a:ext cx="1519200" cy="455760"/>
          </a:xfrm>
          <a:custGeom>
            <a:avLst/>
            <a:gdLst/>
            <a:ahLst/>
            <a:rect l="l" t="t" r="r" b="b"/>
            <a:pathLst>
              <a:path w="4218" h="1267">
                <a:moveTo>
                  <a:pt x="3894" y="8161"/>
                </a:moveTo>
                <a:cubicBezTo>
                  <a:pt x="3967" y="8137"/>
                  <a:pt x="3900" y="8295"/>
                  <a:pt x="3894" y="8359"/>
                </a:cubicBezTo>
                <a:cubicBezTo>
                  <a:pt x="3886" y="8448"/>
                  <a:pt x="3894" y="8542"/>
                  <a:pt x="3894" y="8632"/>
                </a:cubicBezTo>
                <a:cubicBezTo>
                  <a:pt x="3907" y="8527"/>
                  <a:pt x="3928" y="8417"/>
                  <a:pt x="3944" y="8310"/>
                </a:cubicBezTo>
                <a:cubicBezTo>
                  <a:pt x="3963" y="8189"/>
                  <a:pt x="3987" y="8079"/>
                  <a:pt x="4018" y="7962"/>
                </a:cubicBezTo>
                <a:cubicBezTo>
                  <a:pt x="4018" y="7954"/>
                  <a:pt x="4018" y="7946"/>
                  <a:pt x="4018" y="7938"/>
                </a:cubicBezTo>
                <a:cubicBezTo>
                  <a:pt x="4122" y="7979"/>
                  <a:pt x="4124" y="8040"/>
                  <a:pt x="4167" y="8136"/>
                </a:cubicBezTo>
                <a:cubicBezTo>
                  <a:pt x="4218" y="8250"/>
                  <a:pt x="4316" y="8390"/>
                  <a:pt x="4341" y="8508"/>
                </a:cubicBezTo>
                <a:cubicBezTo>
                  <a:pt x="4351" y="8556"/>
                  <a:pt x="4341" y="8630"/>
                  <a:pt x="4341" y="8682"/>
                </a:cubicBezTo>
              </a:path>
              <a:path w="4218" h="1267">
                <a:moveTo>
                  <a:pt x="3994" y="8558"/>
                </a:moveTo>
                <a:cubicBezTo>
                  <a:pt x="3971" y="8535"/>
                  <a:pt x="3963" y="8531"/>
                  <a:pt x="3969" y="8508"/>
                </a:cubicBezTo>
                <a:cubicBezTo>
                  <a:pt x="4067" y="8458"/>
                  <a:pt x="4167" y="8426"/>
                  <a:pt x="4266" y="8384"/>
                </a:cubicBezTo>
                <a:cubicBezTo>
                  <a:pt x="4370" y="8332"/>
                  <a:pt x="4408" y="8314"/>
                  <a:pt x="4490" y="8310"/>
                </a:cubicBezTo>
              </a:path>
              <a:path w="4218" h="1267">
                <a:moveTo>
                  <a:pt x="4738" y="8384"/>
                </a:moveTo>
                <a:cubicBezTo>
                  <a:pt x="4707" y="8491"/>
                  <a:pt x="4678" y="8532"/>
                  <a:pt x="4713" y="8632"/>
                </a:cubicBezTo>
                <a:cubicBezTo>
                  <a:pt x="4745" y="8722"/>
                  <a:pt x="4801" y="8772"/>
                  <a:pt x="4837" y="8855"/>
                </a:cubicBezTo>
                <a:cubicBezTo>
                  <a:pt x="4861" y="8911"/>
                  <a:pt x="4889" y="9027"/>
                  <a:pt x="4837" y="9079"/>
                </a:cubicBezTo>
                <a:cubicBezTo>
                  <a:pt x="4829" y="9079"/>
                  <a:pt x="4820" y="9079"/>
                  <a:pt x="4812" y="9079"/>
                </a:cubicBezTo>
                <a:cubicBezTo>
                  <a:pt x="4755" y="9032"/>
                  <a:pt x="4743" y="8989"/>
                  <a:pt x="4738" y="8905"/>
                </a:cubicBezTo>
                <a:cubicBezTo>
                  <a:pt x="4733" y="8814"/>
                  <a:pt x="4781" y="8726"/>
                  <a:pt x="4837" y="8657"/>
                </a:cubicBezTo>
                <a:cubicBezTo>
                  <a:pt x="4854" y="8640"/>
                  <a:pt x="4870" y="8624"/>
                  <a:pt x="4887" y="8607"/>
                </a:cubicBezTo>
              </a:path>
              <a:path w="4218" h="1267">
                <a:moveTo>
                  <a:pt x="5432" y="7863"/>
                </a:moveTo>
                <a:cubicBezTo>
                  <a:pt x="5299" y="7908"/>
                  <a:pt x="5219" y="7947"/>
                  <a:pt x="5135" y="8062"/>
                </a:cubicBezTo>
                <a:cubicBezTo>
                  <a:pt x="5079" y="8139"/>
                  <a:pt x="5029" y="8220"/>
                  <a:pt x="5085" y="8310"/>
                </a:cubicBezTo>
                <a:cubicBezTo>
                  <a:pt x="5126" y="8376"/>
                  <a:pt x="5245" y="8368"/>
                  <a:pt x="5308" y="8384"/>
                </a:cubicBezTo>
                <a:cubicBezTo>
                  <a:pt x="5401" y="8407"/>
                  <a:pt x="5427" y="8440"/>
                  <a:pt x="5432" y="8533"/>
                </a:cubicBezTo>
                <a:cubicBezTo>
                  <a:pt x="5436" y="8602"/>
                  <a:pt x="5399" y="8655"/>
                  <a:pt x="5358" y="8706"/>
                </a:cubicBezTo>
              </a:path>
              <a:path w="4218" h="1267">
                <a:moveTo>
                  <a:pt x="5631" y="8483"/>
                </a:moveTo>
                <a:cubicBezTo>
                  <a:pt x="5688" y="8483"/>
                  <a:pt x="5711" y="8477"/>
                  <a:pt x="5730" y="8533"/>
                </a:cubicBezTo>
                <a:cubicBezTo>
                  <a:pt x="5755" y="8608"/>
                  <a:pt x="5700" y="8692"/>
                  <a:pt x="5755" y="8756"/>
                </a:cubicBezTo>
                <a:cubicBezTo>
                  <a:pt x="5800" y="8808"/>
                  <a:pt x="5894" y="8724"/>
                  <a:pt x="5928" y="8682"/>
                </a:cubicBezTo>
                <a:cubicBezTo>
                  <a:pt x="5945" y="8657"/>
                  <a:pt x="5961" y="8632"/>
                  <a:pt x="5978" y="8607"/>
                </a:cubicBezTo>
              </a:path>
              <a:path w="4218" h="1267">
                <a:moveTo>
                  <a:pt x="6251" y="7913"/>
                </a:moveTo>
                <a:cubicBezTo>
                  <a:pt x="6155" y="7885"/>
                  <a:pt x="6160" y="7941"/>
                  <a:pt x="6127" y="8037"/>
                </a:cubicBezTo>
                <a:cubicBezTo>
                  <a:pt x="6079" y="8174"/>
                  <a:pt x="6104" y="8261"/>
                  <a:pt x="6152" y="8384"/>
                </a:cubicBezTo>
                <a:cubicBezTo>
                  <a:pt x="6185" y="8469"/>
                  <a:pt x="6208" y="8546"/>
                  <a:pt x="6300" y="8508"/>
                </a:cubicBezTo>
                <a:cubicBezTo>
                  <a:pt x="6392" y="8470"/>
                  <a:pt x="6397" y="8348"/>
                  <a:pt x="6400" y="8260"/>
                </a:cubicBezTo>
                <a:cubicBezTo>
                  <a:pt x="6404" y="8122"/>
                  <a:pt x="6410" y="8004"/>
                  <a:pt x="6325" y="7888"/>
                </a:cubicBezTo>
                <a:cubicBezTo>
                  <a:pt x="6274" y="7819"/>
                  <a:pt x="6244" y="7797"/>
                  <a:pt x="6176" y="7838"/>
                </a:cubicBezTo>
              </a:path>
              <a:path w="4218" h="1267">
                <a:moveTo>
                  <a:pt x="6648" y="8409"/>
                </a:moveTo>
                <a:cubicBezTo>
                  <a:pt x="6656" y="8409"/>
                  <a:pt x="6664" y="8409"/>
                  <a:pt x="6672" y="8409"/>
                </a:cubicBezTo>
                <a:cubicBezTo>
                  <a:pt x="6682" y="8450"/>
                  <a:pt x="6718" y="8501"/>
                  <a:pt x="6747" y="8533"/>
                </a:cubicBezTo>
                <a:cubicBezTo>
                  <a:pt x="6783" y="8574"/>
                  <a:pt x="6796" y="8577"/>
                  <a:pt x="6796" y="8632"/>
                </a:cubicBezTo>
                <a:cubicBezTo>
                  <a:pt x="6796" y="8695"/>
                  <a:pt x="6804" y="8729"/>
                  <a:pt x="6821" y="8781"/>
                </a:cubicBezTo>
                <a:cubicBezTo>
                  <a:pt x="6828" y="8801"/>
                  <a:pt x="6782" y="8885"/>
                  <a:pt x="6772" y="8905"/>
                </a:cubicBezTo>
                <a:cubicBezTo>
                  <a:pt x="6751" y="8950"/>
                  <a:pt x="6731" y="8970"/>
                  <a:pt x="6697" y="9004"/>
                </a:cubicBezTo>
              </a:path>
              <a:path w="4218" h="1267">
                <a:moveTo>
                  <a:pt x="7615" y="8359"/>
                </a:moveTo>
                <a:cubicBezTo>
                  <a:pt x="7689" y="8378"/>
                  <a:pt x="7657" y="8370"/>
                  <a:pt x="7739" y="8359"/>
                </a:cubicBezTo>
                <a:cubicBezTo>
                  <a:pt x="7839" y="8345"/>
                  <a:pt x="7918" y="8327"/>
                  <a:pt x="8012" y="8285"/>
                </a:cubicBezTo>
              </a:path>
              <a:path w="4218" h="1267">
                <a:moveTo>
                  <a:pt x="7913" y="8012"/>
                </a:moveTo>
                <a:cubicBezTo>
                  <a:pt x="7913" y="8112"/>
                  <a:pt x="7915" y="8187"/>
                  <a:pt x="7938" y="8285"/>
                </a:cubicBezTo>
                <a:cubicBezTo>
                  <a:pt x="7965" y="8403"/>
                  <a:pt x="7990" y="8534"/>
                  <a:pt x="8062" y="8632"/>
                </a:cubicBezTo>
                <a:cubicBezTo>
                  <a:pt x="8078" y="8649"/>
                  <a:pt x="8095" y="8665"/>
                  <a:pt x="8111" y="8682"/>
                </a:cubicBezTo>
              </a:path>
              <a:path w="4218" h="1267">
                <a:moveTo>
                  <a:pt x="6722" y="7863"/>
                </a:moveTo>
                <a:cubicBezTo>
                  <a:pt x="6775" y="7916"/>
                  <a:pt x="6795" y="7913"/>
                  <a:pt x="6871" y="7913"/>
                </a:cubicBezTo>
                <a:cubicBezTo>
                  <a:pt x="6978" y="7913"/>
                  <a:pt x="7086" y="7913"/>
                  <a:pt x="7193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33800" y="2830680"/>
            <a:ext cx="608040" cy="393480"/>
          </a:xfrm>
          <a:custGeom>
            <a:avLst/>
            <a:gdLst/>
            <a:ahLst/>
            <a:rect l="l" t="t" r="r" b="b"/>
            <a:pathLst>
              <a:path w="1688" h="1092">
                <a:moveTo>
                  <a:pt x="9079" y="7938"/>
                </a:moveTo>
                <a:cubicBezTo>
                  <a:pt x="9000" y="7874"/>
                  <a:pt x="8938" y="7821"/>
                  <a:pt x="8830" y="7888"/>
                </a:cubicBezTo>
                <a:cubicBezTo>
                  <a:pt x="8773" y="7924"/>
                  <a:pt x="8689" y="8011"/>
                  <a:pt x="8706" y="8086"/>
                </a:cubicBezTo>
                <a:cubicBezTo>
                  <a:pt x="8723" y="8161"/>
                  <a:pt x="8806" y="8216"/>
                  <a:pt x="8855" y="8260"/>
                </a:cubicBezTo>
                <a:cubicBezTo>
                  <a:pt x="8923" y="8321"/>
                  <a:pt x="8905" y="8373"/>
                  <a:pt x="8905" y="8458"/>
                </a:cubicBezTo>
                <a:cubicBezTo>
                  <a:pt x="8905" y="8510"/>
                  <a:pt x="8904" y="8528"/>
                  <a:pt x="8880" y="8558"/>
                </a:cubicBezTo>
              </a:path>
              <a:path w="1688" h="1092">
                <a:moveTo>
                  <a:pt x="9153" y="8359"/>
                </a:moveTo>
                <a:cubicBezTo>
                  <a:pt x="9231" y="8370"/>
                  <a:pt x="9215" y="8380"/>
                  <a:pt x="9252" y="8434"/>
                </a:cubicBezTo>
                <a:cubicBezTo>
                  <a:pt x="9292" y="8492"/>
                  <a:pt x="9264" y="8499"/>
                  <a:pt x="9252" y="8558"/>
                </a:cubicBezTo>
                <a:cubicBezTo>
                  <a:pt x="9252" y="8599"/>
                  <a:pt x="9252" y="8607"/>
                  <a:pt x="9252" y="8632"/>
                </a:cubicBezTo>
                <a:cubicBezTo>
                  <a:pt x="9307" y="8632"/>
                  <a:pt x="9326" y="8611"/>
                  <a:pt x="9376" y="8582"/>
                </a:cubicBezTo>
              </a:path>
              <a:path w="1688" h="1092">
                <a:moveTo>
                  <a:pt x="9872" y="7938"/>
                </a:moveTo>
                <a:cubicBezTo>
                  <a:pt x="9815" y="7909"/>
                  <a:pt x="9752" y="7993"/>
                  <a:pt x="9723" y="8062"/>
                </a:cubicBezTo>
                <a:cubicBezTo>
                  <a:pt x="9676" y="8176"/>
                  <a:pt x="9659" y="8292"/>
                  <a:pt x="9699" y="8409"/>
                </a:cubicBezTo>
                <a:cubicBezTo>
                  <a:pt x="9735" y="8514"/>
                  <a:pt x="9809" y="8490"/>
                  <a:pt x="9872" y="8434"/>
                </a:cubicBezTo>
                <a:cubicBezTo>
                  <a:pt x="9966" y="8351"/>
                  <a:pt x="9990" y="8290"/>
                  <a:pt x="9971" y="8161"/>
                </a:cubicBezTo>
                <a:cubicBezTo>
                  <a:pt x="9957" y="8067"/>
                  <a:pt x="9926" y="7922"/>
                  <a:pt x="9823" y="7888"/>
                </a:cubicBezTo>
                <a:cubicBezTo>
                  <a:pt x="9781" y="7888"/>
                  <a:pt x="9773" y="7888"/>
                  <a:pt x="9748" y="7888"/>
                </a:cubicBezTo>
              </a:path>
              <a:path w="1688" h="1092">
                <a:moveTo>
                  <a:pt x="10269" y="8359"/>
                </a:moveTo>
                <a:cubicBezTo>
                  <a:pt x="10269" y="8384"/>
                  <a:pt x="10269" y="8392"/>
                  <a:pt x="10269" y="8409"/>
                </a:cubicBezTo>
                <a:cubicBezTo>
                  <a:pt x="10309" y="8409"/>
                  <a:pt x="10362" y="8399"/>
                  <a:pt x="10393" y="8434"/>
                </a:cubicBezTo>
                <a:cubicBezTo>
                  <a:pt x="10415" y="8459"/>
                  <a:pt x="10376" y="8542"/>
                  <a:pt x="10368" y="8558"/>
                </a:cubicBezTo>
                <a:cubicBezTo>
                  <a:pt x="10334" y="8631"/>
                  <a:pt x="10269" y="8676"/>
                  <a:pt x="10244" y="8756"/>
                </a:cubicBezTo>
                <a:cubicBezTo>
                  <a:pt x="10244" y="8764"/>
                  <a:pt x="10244" y="8773"/>
                  <a:pt x="10244" y="8781"/>
                </a:cubicBezTo>
                <a:cubicBezTo>
                  <a:pt x="10278" y="8756"/>
                  <a:pt x="10304" y="8741"/>
                  <a:pt x="10344" y="8731"/>
                </a:cubicBezTo>
                <a:cubicBezTo>
                  <a:pt x="10344" y="8796"/>
                  <a:pt x="10298" y="8844"/>
                  <a:pt x="10269" y="8905"/>
                </a:cubicBezTo>
                <a:cubicBezTo>
                  <a:pt x="10261" y="8921"/>
                  <a:pt x="10252" y="8938"/>
                  <a:pt x="10244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17960" y="2741760"/>
            <a:ext cx="608040" cy="268200"/>
          </a:xfrm>
          <a:custGeom>
            <a:avLst/>
            <a:gdLst/>
            <a:ahLst/>
            <a:rect l="l" t="t" r="r" b="b"/>
            <a:pathLst>
              <a:path w="1688" h="745">
                <a:moveTo>
                  <a:pt x="11584" y="8285"/>
                </a:moveTo>
                <a:cubicBezTo>
                  <a:pt x="11655" y="8258"/>
                  <a:pt x="11755" y="8241"/>
                  <a:pt x="11832" y="8235"/>
                </a:cubicBezTo>
                <a:cubicBezTo>
                  <a:pt x="12005" y="8222"/>
                  <a:pt x="12162" y="8192"/>
                  <a:pt x="12328" y="8136"/>
                </a:cubicBezTo>
                <a:cubicBezTo>
                  <a:pt x="12451" y="8095"/>
                  <a:pt x="12593" y="8037"/>
                  <a:pt x="12700" y="7962"/>
                </a:cubicBezTo>
                <a:cubicBezTo>
                  <a:pt x="12725" y="7938"/>
                  <a:pt x="12733" y="7930"/>
                  <a:pt x="12700" y="7913"/>
                </a:cubicBezTo>
                <a:cubicBezTo>
                  <a:pt x="12612" y="7913"/>
                  <a:pt x="12537" y="7934"/>
                  <a:pt x="12452" y="7938"/>
                </a:cubicBezTo>
                <a:cubicBezTo>
                  <a:pt x="12403" y="7940"/>
                  <a:pt x="12352" y="7938"/>
                  <a:pt x="12303" y="7938"/>
                </a:cubicBezTo>
                <a:cubicBezTo>
                  <a:pt x="12407" y="7926"/>
                  <a:pt x="12494" y="7892"/>
                  <a:pt x="12601" y="7888"/>
                </a:cubicBezTo>
                <a:cubicBezTo>
                  <a:pt x="12687" y="7885"/>
                  <a:pt x="12814" y="7862"/>
                  <a:pt x="12849" y="7962"/>
                </a:cubicBezTo>
                <a:cubicBezTo>
                  <a:pt x="12876" y="8039"/>
                  <a:pt x="12834" y="8167"/>
                  <a:pt x="12799" y="8235"/>
                </a:cubicBezTo>
                <a:cubicBezTo>
                  <a:pt x="12757" y="8299"/>
                  <a:pt x="12741" y="8310"/>
                  <a:pt x="12750" y="8359"/>
                </a:cubicBezTo>
              </a:path>
              <a:path w="1688" h="745">
                <a:moveTo>
                  <a:pt x="12402" y="7615"/>
                </a:moveTo>
                <a:cubicBezTo>
                  <a:pt x="12372" y="7630"/>
                  <a:pt x="12421" y="7610"/>
                  <a:pt x="12353" y="7640"/>
                </a:cubicBezTo>
                <a:cubicBezTo>
                  <a:pt x="12243" y="7689"/>
                  <a:pt x="12100" y="7727"/>
                  <a:pt x="11981" y="7739"/>
                </a:cubicBezTo>
                <a:cubicBezTo>
                  <a:pt x="11853" y="7752"/>
                  <a:pt x="11735" y="7795"/>
                  <a:pt x="11609" y="7813"/>
                </a:cubicBezTo>
                <a:cubicBezTo>
                  <a:pt x="11539" y="7823"/>
                  <a:pt x="11489" y="7819"/>
                  <a:pt x="11435" y="7863"/>
                </a:cubicBezTo>
                <a:cubicBezTo>
                  <a:pt x="11393" y="7898"/>
                  <a:pt x="11353" y="7913"/>
                  <a:pt x="11311" y="7938"/>
                </a:cubicBezTo>
                <a:cubicBezTo>
                  <a:pt x="11290" y="7951"/>
                  <a:pt x="11209" y="8016"/>
                  <a:pt x="11187" y="8012"/>
                </a:cubicBezTo>
                <a:cubicBezTo>
                  <a:pt x="11187" y="8004"/>
                  <a:pt x="11187" y="7995"/>
                  <a:pt x="11187" y="7987"/>
                </a:cubicBezTo>
                <a:cubicBezTo>
                  <a:pt x="11209" y="7965"/>
                  <a:pt x="11236" y="7958"/>
                  <a:pt x="11261" y="7938"/>
                </a:cubicBezTo>
                <a:cubicBezTo>
                  <a:pt x="11312" y="7897"/>
                  <a:pt x="11355" y="7846"/>
                  <a:pt x="11385" y="7789"/>
                </a:cubicBezTo>
                <a:cubicBezTo>
                  <a:pt x="11413" y="7736"/>
                  <a:pt x="11439" y="7693"/>
                  <a:pt x="11460" y="7640"/>
                </a:cubicBezTo>
                <a:cubicBezTo>
                  <a:pt x="11411" y="7701"/>
                  <a:pt x="11402" y="7776"/>
                  <a:pt x="11361" y="7838"/>
                </a:cubicBezTo>
                <a:cubicBezTo>
                  <a:pt x="11311" y="7913"/>
                  <a:pt x="11248" y="7996"/>
                  <a:pt x="11187" y="8062"/>
                </a:cubicBezTo>
                <a:cubicBezTo>
                  <a:pt x="11154" y="8097"/>
                  <a:pt x="11168" y="8093"/>
                  <a:pt x="11162" y="8136"/>
                </a:cubicBezTo>
                <a:cubicBezTo>
                  <a:pt x="11242" y="8166"/>
                  <a:pt x="11304" y="8142"/>
                  <a:pt x="11385" y="8161"/>
                </a:cubicBezTo>
                <a:cubicBezTo>
                  <a:pt x="11430" y="8172"/>
                  <a:pt x="11473" y="8189"/>
                  <a:pt x="11509" y="82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32240" y="2482920"/>
            <a:ext cx="1689120" cy="696960"/>
          </a:xfrm>
          <a:custGeom>
            <a:avLst/>
            <a:gdLst/>
            <a:ahLst/>
            <a:rect l="l" t="t" r="r" b="b"/>
            <a:pathLst>
              <a:path w="4689" h="1935">
                <a:moveTo>
                  <a:pt x="14610" y="7789"/>
                </a:moveTo>
                <a:cubicBezTo>
                  <a:pt x="14740" y="7802"/>
                  <a:pt x="14709" y="7836"/>
                  <a:pt x="14709" y="7962"/>
                </a:cubicBezTo>
                <a:cubicBezTo>
                  <a:pt x="14709" y="8077"/>
                  <a:pt x="14677" y="8167"/>
                  <a:pt x="14610" y="8260"/>
                </a:cubicBezTo>
                <a:cubicBezTo>
                  <a:pt x="14585" y="8285"/>
                  <a:pt x="14577" y="8293"/>
                  <a:pt x="14560" y="8310"/>
                </a:cubicBezTo>
                <a:cubicBezTo>
                  <a:pt x="14517" y="8236"/>
                  <a:pt x="14556" y="8145"/>
                  <a:pt x="14585" y="8062"/>
                </a:cubicBezTo>
                <a:cubicBezTo>
                  <a:pt x="14648" y="7884"/>
                  <a:pt x="14736" y="7703"/>
                  <a:pt x="14833" y="7541"/>
                </a:cubicBezTo>
                <a:cubicBezTo>
                  <a:pt x="14885" y="7455"/>
                  <a:pt x="14894" y="7452"/>
                  <a:pt x="14982" y="7441"/>
                </a:cubicBezTo>
                <a:cubicBezTo>
                  <a:pt x="15027" y="7530"/>
                  <a:pt x="15007" y="7659"/>
                  <a:pt x="15007" y="7764"/>
                </a:cubicBezTo>
                <a:cubicBezTo>
                  <a:pt x="15007" y="7910"/>
                  <a:pt x="15001" y="8045"/>
                  <a:pt x="14982" y="8186"/>
                </a:cubicBezTo>
                <a:cubicBezTo>
                  <a:pt x="14982" y="8202"/>
                  <a:pt x="14982" y="8219"/>
                  <a:pt x="14982" y="8235"/>
                </a:cubicBezTo>
              </a:path>
              <a:path w="4689" h="1935">
                <a:moveTo>
                  <a:pt x="14709" y="8012"/>
                </a:moveTo>
                <a:cubicBezTo>
                  <a:pt x="14676" y="8004"/>
                  <a:pt x="14643" y="7995"/>
                  <a:pt x="14610" y="7987"/>
                </a:cubicBezTo>
                <a:cubicBezTo>
                  <a:pt x="14713" y="7987"/>
                  <a:pt x="14806" y="7970"/>
                  <a:pt x="14908" y="7962"/>
                </a:cubicBezTo>
                <a:cubicBezTo>
                  <a:pt x="15030" y="7953"/>
                  <a:pt x="15188" y="7952"/>
                  <a:pt x="15304" y="7913"/>
                </a:cubicBezTo>
                <a:cubicBezTo>
                  <a:pt x="15327" y="7890"/>
                  <a:pt x="15331" y="7882"/>
                  <a:pt x="15354" y="7888"/>
                </a:cubicBezTo>
                <a:cubicBezTo>
                  <a:pt x="15337" y="7957"/>
                  <a:pt x="15272" y="7964"/>
                  <a:pt x="15230" y="8012"/>
                </a:cubicBezTo>
                <a:cubicBezTo>
                  <a:pt x="15189" y="8059"/>
                  <a:pt x="15163" y="8149"/>
                  <a:pt x="15180" y="8210"/>
                </a:cubicBezTo>
                <a:cubicBezTo>
                  <a:pt x="15201" y="8286"/>
                  <a:pt x="15280" y="8332"/>
                  <a:pt x="15304" y="8384"/>
                </a:cubicBezTo>
                <a:cubicBezTo>
                  <a:pt x="15338" y="8457"/>
                  <a:pt x="15287" y="8508"/>
                  <a:pt x="15255" y="8558"/>
                </a:cubicBezTo>
                <a:cubicBezTo>
                  <a:pt x="15230" y="8607"/>
                  <a:pt x="15221" y="8624"/>
                  <a:pt x="15180" y="8632"/>
                </a:cubicBezTo>
              </a:path>
              <a:path w="4689" h="1935">
                <a:moveTo>
                  <a:pt x="16024" y="7615"/>
                </a:moveTo>
                <a:cubicBezTo>
                  <a:pt x="16012" y="7565"/>
                  <a:pt x="16000" y="7565"/>
                  <a:pt x="15949" y="7565"/>
                </a:cubicBezTo>
                <a:cubicBezTo>
                  <a:pt x="15864" y="7565"/>
                  <a:pt x="15811" y="7609"/>
                  <a:pt x="15751" y="7665"/>
                </a:cubicBezTo>
                <a:cubicBezTo>
                  <a:pt x="15666" y="7744"/>
                  <a:pt x="15695" y="7805"/>
                  <a:pt x="15751" y="7888"/>
                </a:cubicBezTo>
                <a:cubicBezTo>
                  <a:pt x="15812" y="7978"/>
                  <a:pt x="15897" y="8042"/>
                  <a:pt x="15949" y="8136"/>
                </a:cubicBezTo>
                <a:cubicBezTo>
                  <a:pt x="15980" y="8192"/>
                  <a:pt x="15985" y="8242"/>
                  <a:pt x="15925" y="8285"/>
                </a:cubicBezTo>
                <a:cubicBezTo>
                  <a:pt x="15908" y="8293"/>
                  <a:pt x="15892" y="8302"/>
                  <a:pt x="15875" y="8310"/>
                </a:cubicBezTo>
              </a:path>
              <a:path w="4689" h="1935">
                <a:moveTo>
                  <a:pt x="16148" y="8111"/>
                </a:moveTo>
                <a:cubicBezTo>
                  <a:pt x="16222" y="8092"/>
                  <a:pt x="16229" y="8084"/>
                  <a:pt x="16272" y="8086"/>
                </a:cubicBezTo>
                <a:cubicBezTo>
                  <a:pt x="16272" y="8144"/>
                  <a:pt x="16272" y="8180"/>
                  <a:pt x="16247" y="8235"/>
                </a:cubicBezTo>
                <a:cubicBezTo>
                  <a:pt x="16224" y="8287"/>
                  <a:pt x="16222" y="8305"/>
                  <a:pt x="16222" y="8359"/>
                </a:cubicBezTo>
                <a:cubicBezTo>
                  <a:pt x="16320" y="8359"/>
                  <a:pt x="16345" y="8350"/>
                  <a:pt x="16421" y="8285"/>
                </a:cubicBezTo>
              </a:path>
              <a:path w="4689" h="1935">
                <a:moveTo>
                  <a:pt x="16917" y="7590"/>
                </a:moveTo>
                <a:cubicBezTo>
                  <a:pt x="16800" y="7633"/>
                  <a:pt x="16757" y="7663"/>
                  <a:pt x="16718" y="7789"/>
                </a:cubicBezTo>
                <a:cubicBezTo>
                  <a:pt x="16685" y="7895"/>
                  <a:pt x="16680" y="8006"/>
                  <a:pt x="16718" y="8111"/>
                </a:cubicBezTo>
                <a:cubicBezTo>
                  <a:pt x="16726" y="8128"/>
                  <a:pt x="16735" y="8144"/>
                  <a:pt x="16743" y="8161"/>
                </a:cubicBezTo>
                <a:cubicBezTo>
                  <a:pt x="16847" y="8149"/>
                  <a:pt x="16931" y="8109"/>
                  <a:pt x="16991" y="8012"/>
                </a:cubicBezTo>
                <a:cubicBezTo>
                  <a:pt x="17060" y="7901"/>
                  <a:pt x="17047" y="7758"/>
                  <a:pt x="17016" y="7640"/>
                </a:cubicBezTo>
                <a:cubicBezTo>
                  <a:pt x="17005" y="7596"/>
                  <a:pt x="16948" y="7420"/>
                  <a:pt x="16867" y="7466"/>
                </a:cubicBezTo>
                <a:cubicBezTo>
                  <a:pt x="16867" y="7491"/>
                  <a:pt x="16867" y="7499"/>
                  <a:pt x="16867" y="7516"/>
                </a:cubicBezTo>
              </a:path>
              <a:path w="4689" h="1935">
                <a:moveTo>
                  <a:pt x="17314" y="8037"/>
                </a:moveTo>
                <a:cubicBezTo>
                  <a:pt x="17314" y="8106"/>
                  <a:pt x="17315" y="8113"/>
                  <a:pt x="17363" y="8161"/>
                </a:cubicBezTo>
                <a:cubicBezTo>
                  <a:pt x="17375" y="8173"/>
                  <a:pt x="17413" y="8240"/>
                  <a:pt x="17388" y="8260"/>
                </a:cubicBezTo>
                <a:cubicBezTo>
                  <a:pt x="17374" y="8271"/>
                  <a:pt x="17333" y="8280"/>
                  <a:pt x="17314" y="8285"/>
                </a:cubicBezTo>
                <a:cubicBezTo>
                  <a:pt x="17323" y="8322"/>
                  <a:pt x="17350" y="8346"/>
                  <a:pt x="17388" y="8359"/>
                </a:cubicBezTo>
                <a:cubicBezTo>
                  <a:pt x="17451" y="8380"/>
                  <a:pt x="17465" y="8391"/>
                  <a:pt x="17438" y="8458"/>
                </a:cubicBezTo>
                <a:cubicBezTo>
                  <a:pt x="17400" y="8551"/>
                  <a:pt x="17271" y="8603"/>
                  <a:pt x="17190" y="8657"/>
                </a:cubicBezTo>
              </a:path>
              <a:path w="4689" h="1935">
                <a:moveTo>
                  <a:pt x="15553" y="7218"/>
                </a:moveTo>
                <a:cubicBezTo>
                  <a:pt x="15489" y="7226"/>
                  <a:pt x="15439" y="7214"/>
                  <a:pt x="15404" y="7293"/>
                </a:cubicBezTo>
                <a:cubicBezTo>
                  <a:pt x="15335" y="7448"/>
                  <a:pt x="15319" y="7673"/>
                  <a:pt x="15329" y="7838"/>
                </a:cubicBezTo>
                <a:cubicBezTo>
                  <a:pt x="15344" y="8084"/>
                  <a:pt x="15394" y="8350"/>
                  <a:pt x="15627" y="8483"/>
                </a:cubicBezTo>
                <a:cubicBezTo>
                  <a:pt x="15774" y="8532"/>
                  <a:pt x="15822" y="8549"/>
                  <a:pt x="15925" y="8558"/>
                </a:cubicBezTo>
              </a:path>
              <a:path w="4689" h="1935">
                <a:moveTo>
                  <a:pt x="17587" y="7268"/>
                </a:moveTo>
                <a:cubicBezTo>
                  <a:pt x="17651" y="7300"/>
                  <a:pt x="17703" y="7419"/>
                  <a:pt x="17735" y="7491"/>
                </a:cubicBezTo>
                <a:cubicBezTo>
                  <a:pt x="17805" y="7647"/>
                  <a:pt x="17869" y="7815"/>
                  <a:pt x="17884" y="7987"/>
                </a:cubicBezTo>
                <a:cubicBezTo>
                  <a:pt x="17898" y="8143"/>
                  <a:pt x="17891" y="8276"/>
                  <a:pt x="17810" y="8409"/>
                </a:cubicBezTo>
                <a:cubicBezTo>
                  <a:pt x="17764" y="8478"/>
                  <a:pt x="17751" y="8498"/>
                  <a:pt x="17711" y="8533"/>
                </a:cubicBezTo>
              </a:path>
              <a:path w="4689" h="1935">
                <a:moveTo>
                  <a:pt x="18008" y="8434"/>
                </a:moveTo>
                <a:cubicBezTo>
                  <a:pt x="18024" y="8494"/>
                  <a:pt x="18085" y="8488"/>
                  <a:pt x="18107" y="8533"/>
                </a:cubicBezTo>
                <a:cubicBezTo>
                  <a:pt x="18141" y="8601"/>
                  <a:pt x="18083" y="8693"/>
                  <a:pt x="18033" y="8731"/>
                </a:cubicBezTo>
                <a:cubicBezTo>
                  <a:pt x="17968" y="8781"/>
                  <a:pt x="17918" y="8824"/>
                  <a:pt x="17835" y="8830"/>
                </a:cubicBezTo>
                <a:cubicBezTo>
                  <a:pt x="17827" y="8830"/>
                  <a:pt x="17818" y="8830"/>
                  <a:pt x="17810" y="8830"/>
                </a:cubicBezTo>
                <a:cubicBezTo>
                  <a:pt x="17826" y="8767"/>
                  <a:pt x="17870" y="8760"/>
                  <a:pt x="17934" y="8756"/>
                </a:cubicBezTo>
                <a:cubicBezTo>
                  <a:pt x="17994" y="8753"/>
                  <a:pt x="18048" y="8774"/>
                  <a:pt x="18107" y="8781"/>
                </a:cubicBezTo>
              </a:path>
              <a:path w="4689" h="1935">
                <a:moveTo>
                  <a:pt x="18380" y="7268"/>
                </a:moveTo>
                <a:cubicBezTo>
                  <a:pt x="18438" y="7268"/>
                  <a:pt x="18496" y="7268"/>
                  <a:pt x="18554" y="7268"/>
                </a:cubicBezTo>
              </a:path>
              <a:path w="4689" h="1935">
                <a:moveTo>
                  <a:pt x="18901" y="6921"/>
                </a:moveTo>
                <a:cubicBezTo>
                  <a:pt x="18988" y="6884"/>
                  <a:pt x="18957" y="6902"/>
                  <a:pt x="19025" y="6945"/>
                </a:cubicBezTo>
                <a:cubicBezTo>
                  <a:pt x="19082" y="6981"/>
                  <a:pt x="19132" y="7011"/>
                  <a:pt x="19100" y="7094"/>
                </a:cubicBezTo>
                <a:cubicBezTo>
                  <a:pt x="19069" y="7175"/>
                  <a:pt x="18963" y="7178"/>
                  <a:pt x="18901" y="7218"/>
                </a:cubicBezTo>
                <a:cubicBezTo>
                  <a:pt x="18893" y="7226"/>
                  <a:pt x="18884" y="7235"/>
                  <a:pt x="18876" y="7243"/>
                </a:cubicBezTo>
                <a:cubicBezTo>
                  <a:pt x="18812" y="7243"/>
                  <a:pt x="19015" y="7264"/>
                  <a:pt x="19025" y="7268"/>
                </a:cubicBezTo>
                <a:cubicBezTo>
                  <a:pt x="19089" y="7295"/>
                  <a:pt x="19208" y="7393"/>
                  <a:pt x="19224" y="7466"/>
                </a:cubicBezTo>
                <a:cubicBezTo>
                  <a:pt x="19247" y="7571"/>
                  <a:pt x="19177" y="7654"/>
                  <a:pt x="19100" y="7714"/>
                </a:cubicBezTo>
                <a:cubicBezTo>
                  <a:pt x="19075" y="7731"/>
                  <a:pt x="19050" y="7747"/>
                  <a:pt x="19025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081080" y="3402000"/>
            <a:ext cx="150840" cy="285840"/>
          </a:xfrm>
          <a:custGeom>
            <a:avLst/>
            <a:gdLst/>
            <a:ahLst/>
            <a:rect l="l" t="t" r="r" b="b"/>
            <a:pathLst>
              <a:path w="423" h="794">
                <a:moveTo>
                  <a:pt x="3076" y="9525"/>
                </a:moveTo>
                <a:cubicBezTo>
                  <a:pt x="3076" y="9723"/>
                  <a:pt x="3076" y="9922"/>
                  <a:pt x="3076" y="10120"/>
                </a:cubicBezTo>
              </a:path>
              <a:path w="423" h="794">
                <a:moveTo>
                  <a:pt x="3026" y="9550"/>
                </a:moveTo>
                <a:cubicBezTo>
                  <a:pt x="3038" y="9514"/>
                  <a:pt x="3097" y="9484"/>
                  <a:pt x="3150" y="9475"/>
                </a:cubicBezTo>
                <a:cubicBezTo>
                  <a:pt x="3234" y="9462"/>
                  <a:pt x="3311" y="9451"/>
                  <a:pt x="3398" y="9451"/>
                </a:cubicBezTo>
              </a:path>
              <a:path w="423" h="794">
                <a:moveTo>
                  <a:pt x="3051" y="10096"/>
                </a:moveTo>
                <a:cubicBezTo>
                  <a:pt x="3015" y="10186"/>
                  <a:pt x="2998" y="10191"/>
                  <a:pt x="3001" y="10244"/>
                </a:cubicBezTo>
                <a:cubicBezTo>
                  <a:pt x="3076" y="10244"/>
                  <a:pt x="3127" y="10242"/>
                  <a:pt x="3200" y="10220"/>
                </a:cubicBezTo>
                <a:cubicBezTo>
                  <a:pt x="3286" y="10194"/>
                  <a:pt x="3347" y="10165"/>
                  <a:pt x="3423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85960" y="3367080"/>
            <a:ext cx="857160" cy="339840"/>
          </a:xfrm>
          <a:custGeom>
            <a:avLst/>
            <a:gdLst/>
            <a:ahLst/>
            <a:rect l="l" t="t" r="r" b="b"/>
            <a:pathLst>
              <a:path w="2382" h="944">
                <a:moveTo>
                  <a:pt x="4986" y="9674"/>
                </a:moveTo>
                <a:cubicBezTo>
                  <a:pt x="4973" y="9727"/>
                  <a:pt x="4961" y="9759"/>
                  <a:pt x="4961" y="9823"/>
                </a:cubicBezTo>
                <a:cubicBezTo>
                  <a:pt x="4961" y="9896"/>
                  <a:pt x="5037" y="9937"/>
                  <a:pt x="5110" y="9922"/>
                </a:cubicBezTo>
                <a:cubicBezTo>
                  <a:pt x="5194" y="9905"/>
                  <a:pt x="5270" y="9852"/>
                  <a:pt x="5333" y="9798"/>
                </a:cubicBezTo>
              </a:path>
              <a:path w="2382" h="944">
                <a:moveTo>
                  <a:pt x="5283" y="9500"/>
                </a:moveTo>
                <a:cubicBezTo>
                  <a:pt x="5212" y="9512"/>
                  <a:pt x="5220" y="9564"/>
                  <a:pt x="5234" y="9649"/>
                </a:cubicBezTo>
                <a:cubicBezTo>
                  <a:pt x="5259" y="9805"/>
                  <a:pt x="5273" y="9967"/>
                  <a:pt x="5308" y="10120"/>
                </a:cubicBezTo>
                <a:cubicBezTo>
                  <a:pt x="5323" y="10184"/>
                  <a:pt x="5348" y="10242"/>
                  <a:pt x="5383" y="10294"/>
                </a:cubicBezTo>
              </a:path>
              <a:path w="2382" h="944">
                <a:moveTo>
                  <a:pt x="5755" y="9872"/>
                </a:moveTo>
                <a:cubicBezTo>
                  <a:pt x="5722" y="9916"/>
                  <a:pt x="5730" y="9938"/>
                  <a:pt x="5730" y="9996"/>
                </a:cubicBezTo>
                <a:cubicBezTo>
                  <a:pt x="5730" y="10064"/>
                  <a:pt x="5825" y="10099"/>
                  <a:pt x="5879" y="10120"/>
                </a:cubicBezTo>
                <a:cubicBezTo>
                  <a:pt x="5962" y="10152"/>
                  <a:pt x="5976" y="10149"/>
                  <a:pt x="6052" y="10120"/>
                </a:cubicBezTo>
              </a:path>
              <a:path w="2382" h="944">
                <a:moveTo>
                  <a:pt x="5879" y="9872"/>
                </a:moveTo>
                <a:cubicBezTo>
                  <a:pt x="5792" y="9898"/>
                  <a:pt x="5753" y="9927"/>
                  <a:pt x="5854" y="9897"/>
                </a:cubicBezTo>
                <a:cubicBezTo>
                  <a:pt x="5904" y="9882"/>
                  <a:pt x="5956" y="9846"/>
                  <a:pt x="6003" y="9823"/>
                </a:cubicBezTo>
              </a:path>
              <a:path w="2382" h="944">
                <a:moveTo>
                  <a:pt x="5854" y="9649"/>
                </a:moveTo>
                <a:cubicBezTo>
                  <a:pt x="5837" y="9649"/>
                  <a:pt x="5821" y="9649"/>
                  <a:pt x="5804" y="9649"/>
                </a:cubicBezTo>
                <a:cubicBezTo>
                  <a:pt x="5883" y="9596"/>
                  <a:pt x="5941" y="9595"/>
                  <a:pt x="6028" y="9575"/>
                </a:cubicBezTo>
                <a:cubicBezTo>
                  <a:pt x="6053" y="9567"/>
                  <a:pt x="6077" y="9558"/>
                  <a:pt x="6102" y="9550"/>
                </a:cubicBezTo>
              </a:path>
              <a:path w="2382" h="944">
                <a:moveTo>
                  <a:pt x="6424" y="9798"/>
                </a:moveTo>
                <a:cubicBezTo>
                  <a:pt x="6408" y="9806"/>
                  <a:pt x="6391" y="9815"/>
                  <a:pt x="6375" y="9823"/>
                </a:cubicBezTo>
                <a:cubicBezTo>
                  <a:pt x="6432" y="9798"/>
                  <a:pt x="6492" y="9796"/>
                  <a:pt x="6548" y="9773"/>
                </a:cubicBezTo>
                <a:cubicBezTo>
                  <a:pt x="6592" y="9751"/>
                  <a:pt x="6604" y="9748"/>
                  <a:pt x="6623" y="9723"/>
                </a:cubicBezTo>
              </a:path>
              <a:path w="2382" h="944">
                <a:moveTo>
                  <a:pt x="6921" y="9451"/>
                </a:moveTo>
                <a:cubicBezTo>
                  <a:pt x="6890" y="9471"/>
                  <a:pt x="6874" y="9522"/>
                  <a:pt x="6871" y="9575"/>
                </a:cubicBezTo>
                <a:cubicBezTo>
                  <a:pt x="6867" y="9639"/>
                  <a:pt x="6899" y="9710"/>
                  <a:pt x="6970" y="9723"/>
                </a:cubicBezTo>
                <a:cubicBezTo>
                  <a:pt x="7048" y="9737"/>
                  <a:pt x="7119" y="9717"/>
                  <a:pt x="7193" y="9699"/>
                </a:cubicBezTo>
              </a:path>
              <a:path w="2382" h="944">
                <a:moveTo>
                  <a:pt x="7342" y="9351"/>
                </a:moveTo>
                <a:cubicBezTo>
                  <a:pt x="7277" y="9417"/>
                  <a:pt x="7206" y="9476"/>
                  <a:pt x="7193" y="9575"/>
                </a:cubicBezTo>
                <a:cubicBezTo>
                  <a:pt x="7178" y="9687"/>
                  <a:pt x="7187" y="9816"/>
                  <a:pt x="7218" y="9922"/>
                </a:cubicBezTo>
                <a:cubicBezTo>
                  <a:pt x="7241" y="9989"/>
                  <a:pt x="7246" y="10007"/>
                  <a:pt x="7268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43160" y="3313080"/>
            <a:ext cx="1536840" cy="268200"/>
          </a:xfrm>
          <a:custGeom>
            <a:avLst/>
            <a:gdLst/>
            <a:ahLst/>
            <a:rect l="l" t="t" r="r" b="b"/>
            <a:pathLst>
              <a:path w="4268" h="745">
                <a:moveTo>
                  <a:pt x="8855" y="9500"/>
                </a:moveTo>
                <a:cubicBezTo>
                  <a:pt x="8864" y="9446"/>
                  <a:pt x="8882" y="9428"/>
                  <a:pt x="8954" y="9451"/>
                </a:cubicBezTo>
                <a:cubicBezTo>
                  <a:pt x="9042" y="9479"/>
                  <a:pt x="9089" y="9529"/>
                  <a:pt x="9103" y="9624"/>
                </a:cubicBezTo>
                <a:cubicBezTo>
                  <a:pt x="9119" y="9731"/>
                  <a:pt x="9030" y="9816"/>
                  <a:pt x="8979" y="9897"/>
                </a:cubicBezTo>
                <a:cubicBezTo>
                  <a:pt x="8959" y="9937"/>
                  <a:pt x="8961" y="9954"/>
                  <a:pt x="8930" y="9947"/>
                </a:cubicBezTo>
                <a:cubicBezTo>
                  <a:pt x="9004" y="9934"/>
                  <a:pt x="9083" y="9903"/>
                  <a:pt x="9153" y="9872"/>
                </a:cubicBezTo>
                <a:cubicBezTo>
                  <a:pt x="9254" y="9827"/>
                  <a:pt x="9342" y="9810"/>
                  <a:pt x="9451" y="9798"/>
                </a:cubicBezTo>
              </a:path>
              <a:path w="4268" h="745">
                <a:moveTo>
                  <a:pt x="9723" y="9649"/>
                </a:moveTo>
                <a:cubicBezTo>
                  <a:pt x="9723" y="9694"/>
                  <a:pt x="9727" y="9707"/>
                  <a:pt x="9699" y="9723"/>
                </a:cubicBezTo>
              </a:path>
              <a:path w="4268" h="745">
                <a:moveTo>
                  <a:pt x="10021" y="9302"/>
                </a:moveTo>
                <a:cubicBezTo>
                  <a:pt x="9926" y="9311"/>
                  <a:pt x="9873" y="9316"/>
                  <a:pt x="9823" y="9401"/>
                </a:cubicBezTo>
                <a:cubicBezTo>
                  <a:pt x="9769" y="9494"/>
                  <a:pt x="9816" y="9509"/>
                  <a:pt x="9897" y="9550"/>
                </a:cubicBezTo>
                <a:cubicBezTo>
                  <a:pt x="9957" y="9580"/>
                  <a:pt x="10043" y="9592"/>
                  <a:pt x="10096" y="9624"/>
                </a:cubicBezTo>
                <a:cubicBezTo>
                  <a:pt x="10140" y="9651"/>
                  <a:pt x="10121" y="9695"/>
                  <a:pt x="10096" y="9723"/>
                </a:cubicBezTo>
                <a:cubicBezTo>
                  <a:pt x="10068" y="9751"/>
                  <a:pt x="10054" y="9760"/>
                  <a:pt x="10021" y="9748"/>
                </a:cubicBezTo>
                <a:cubicBezTo>
                  <a:pt x="10013" y="9748"/>
                  <a:pt x="10004" y="9748"/>
                  <a:pt x="9996" y="9748"/>
                </a:cubicBezTo>
                <a:cubicBezTo>
                  <a:pt x="9996" y="9667"/>
                  <a:pt x="10006" y="9599"/>
                  <a:pt x="10046" y="9525"/>
                </a:cubicBezTo>
                <a:cubicBezTo>
                  <a:pt x="10097" y="9431"/>
                  <a:pt x="10156" y="9334"/>
                  <a:pt x="10220" y="9252"/>
                </a:cubicBezTo>
              </a:path>
              <a:path w="4268" h="745">
                <a:moveTo>
                  <a:pt x="10517" y="9302"/>
                </a:moveTo>
                <a:cubicBezTo>
                  <a:pt x="10576" y="9243"/>
                  <a:pt x="10478" y="9368"/>
                  <a:pt x="10468" y="9401"/>
                </a:cubicBezTo>
                <a:cubicBezTo>
                  <a:pt x="10432" y="9512"/>
                  <a:pt x="10365" y="9627"/>
                  <a:pt x="10393" y="9748"/>
                </a:cubicBezTo>
                <a:cubicBezTo>
                  <a:pt x="10401" y="9765"/>
                  <a:pt x="10410" y="9781"/>
                  <a:pt x="10418" y="9798"/>
                </a:cubicBezTo>
                <a:cubicBezTo>
                  <a:pt x="10507" y="9798"/>
                  <a:pt x="10579" y="9795"/>
                  <a:pt x="10641" y="9723"/>
                </a:cubicBezTo>
                <a:cubicBezTo>
                  <a:pt x="10684" y="9673"/>
                  <a:pt x="10703" y="9623"/>
                  <a:pt x="10666" y="9575"/>
                </a:cubicBezTo>
                <a:cubicBezTo>
                  <a:pt x="10601" y="9575"/>
                  <a:pt x="10560" y="9593"/>
                  <a:pt x="10517" y="9649"/>
                </a:cubicBezTo>
                <a:cubicBezTo>
                  <a:pt x="10492" y="9699"/>
                  <a:pt x="10484" y="9715"/>
                  <a:pt x="10468" y="9748"/>
                </a:cubicBezTo>
              </a:path>
              <a:path w="4268" h="745">
                <a:moveTo>
                  <a:pt x="10988" y="9575"/>
                </a:moveTo>
                <a:cubicBezTo>
                  <a:pt x="10988" y="9583"/>
                  <a:pt x="10988" y="9591"/>
                  <a:pt x="10988" y="9599"/>
                </a:cubicBezTo>
                <a:cubicBezTo>
                  <a:pt x="11046" y="9599"/>
                  <a:pt x="11091" y="9608"/>
                  <a:pt x="11137" y="9575"/>
                </a:cubicBezTo>
              </a:path>
              <a:path w="4268" h="745">
                <a:moveTo>
                  <a:pt x="11435" y="9327"/>
                </a:moveTo>
                <a:cubicBezTo>
                  <a:pt x="11375" y="9342"/>
                  <a:pt x="11385" y="9366"/>
                  <a:pt x="11385" y="9426"/>
                </a:cubicBezTo>
                <a:cubicBezTo>
                  <a:pt x="11385" y="9471"/>
                  <a:pt x="11407" y="9580"/>
                  <a:pt x="11460" y="9599"/>
                </a:cubicBezTo>
                <a:cubicBezTo>
                  <a:pt x="11507" y="9616"/>
                  <a:pt x="11549" y="9595"/>
                  <a:pt x="11584" y="9575"/>
                </a:cubicBezTo>
              </a:path>
              <a:path w="4268" h="745">
                <a:moveTo>
                  <a:pt x="11683" y="9252"/>
                </a:moveTo>
                <a:cubicBezTo>
                  <a:pt x="11601" y="9365"/>
                  <a:pt x="11563" y="9406"/>
                  <a:pt x="11559" y="9550"/>
                </a:cubicBezTo>
                <a:cubicBezTo>
                  <a:pt x="11556" y="9638"/>
                  <a:pt x="11549" y="9766"/>
                  <a:pt x="11584" y="9847"/>
                </a:cubicBezTo>
                <a:cubicBezTo>
                  <a:pt x="11592" y="9855"/>
                  <a:pt x="11601" y="9864"/>
                  <a:pt x="11609" y="9872"/>
                </a:cubicBezTo>
              </a:path>
              <a:path w="4268" h="745">
                <a:moveTo>
                  <a:pt x="11832" y="9624"/>
                </a:moveTo>
                <a:cubicBezTo>
                  <a:pt x="11822" y="9663"/>
                  <a:pt x="11807" y="9679"/>
                  <a:pt x="11807" y="9723"/>
                </a:cubicBezTo>
                <a:cubicBezTo>
                  <a:pt x="11807" y="9790"/>
                  <a:pt x="11879" y="9794"/>
                  <a:pt x="11931" y="9798"/>
                </a:cubicBezTo>
                <a:cubicBezTo>
                  <a:pt x="11966" y="9798"/>
                  <a:pt x="11983" y="9793"/>
                  <a:pt x="12005" y="9773"/>
                </a:cubicBezTo>
              </a:path>
              <a:path w="4268" h="745">
                <a:moveTo>
                  <a:pt x="11857" y="9599"/>
                </a:moveTo>
                <a:cubicBezTo>
                  <a:pt x="11840" y="9599"/>
                  <a:pt x="11824" y="9599"/>
                  <a:pt x="11807" y="9599"/>
                </a:cubicBezTo>
                <a:cubicBezTo>
                  <a:pt x="11860" y="9586"/>
                  <a:pt x="11956" y="9556"/>
                  <a:pt x="12005" y="9525"/>
                </a:cubicBezTo>
                <a:cubicBezTo>
                  <a:pt x="12057" y="9473"/>
                  <a:pt x="12076" y="9456"/>
                  <a:pt x="12129" y="9451"/>
                </a:cubicBezTo>
              </a:path>
              <a:path w="4268" h="745">
                <a:moveTo>
                  <a:pt x="12005" y="9351"/>
                </a:moveTo>
                <a:cubicBezTo>
                  <a:pt x="11997" y="9343"/>
                  <a:pt x="11989" y="9335"/>
                  <a:pt x="11981" y="9327"/>
                </a:cubicBezTo>
                <a:cubicBezTo>
                  <a:pt x="12020" y="9297"/>
                  <a:pt x="12058" y="9277"/>
                  <a:pt x="12105" y="9252"/>
                </a:cubicBezTo>
                <a:cubicBezTo>
                  <a:pt x="12121" y="9244"/>
                  <a:pt x="12138" y="9235"/>
                  <a:pt x="12154" y="9227"/>
                </a:cubicBezTo>
              </a:path>
              <a:path w="4268" h="745">
                <a:moveTo>
                  <a:pt x="12378" y="9525"/>
                </a:moveTo>
                <a:cubicBezTo>
                  <a:pt x="12378" y="9533"/>
                  <a:pt x="12378" y="9542"/>
                  <a:pt x="12378" y="9550"/>
                </a:cubicBezTo>
                <a:cubicBezTo>
                  <a:pt x="12417" y="9540"/>
                  <a:pt x="12441" y="9512"/>
                  <a:pt x="12477" y="9500"/>
                </a:cubicBezTo>
                <a:cubicBezTo>
                  <a:pt x="12502" y="9500"/>
                  <a:pt x="12510" y="9500"/>
                  <a:pt x="12526" y="9500"/>
                </a:cubicBezTo>
              </a:path>
              <a:path w="4268" h="745">
                <a:moveTo>
                  <a:pt x="12774" y="9203"/>
                </a:moveTo>
                <a:cubicBezTo>
                  <a:pt x="12736" y="9241"/>
                  <a:pt x="12704" y="9270"/>
                  <a:pt x="12700" y="9327"/>
                </a:cubicBezTo>
                <a:cubicBezTo>
                  <a:pt x="12697" y="9373"/>
                  <a:pt x="12688" y="9458"/>
                  <a:pt x="12750" y="9475"/>
                </a:cubicBezTo>
                <a:cubicBezTo>
                  <a:pt x="12797" y="9488"/>
                  <a:pt x="12833" y="9468"/>
                  <a:pt x="12874" y="9451"/>
                </a:cubicBezTo>
              </a:path>
              <a:path w="4268" h="745">
                <a:moveTo>
                  <a:pt x="12998" y="9203"/>
                </a:moveTo>
                <a:cubicBezTo>
                  <a:pt x="12935" y="9273"/>
                  <a:pt x="12901" y="9333"/>
                  <a:pt x="12874" y="9426"/>
                </a:cubicBezTo>
                <a:cubicBezTo>
                  <a:pt x="12838" y="9552"/>
                  <a:pt x="12851" y="9628"/>
                  <a:pt x="12898" y="9748"/>
                </a:cubicBezTo>
              </a:path>
              <a:path w="4268" h="745">
                <a:moveTo>
                  <a:pt x="8781" y="9823"/>
                </a:moveTo>
                <a:cubicBezTo>
                  <a:pt x="8758" y="9845"/>
                  <a:pt x="8753" y="9853"/>
                  <a:pt x="8731" y="9847"/>
                </a:cubicBezTo>
                <a:cubicBezTo>
                  <a:pt x="8739" y="9844"/>
                  <a:pt x="8795" y="9804"/>
                  <a:pt x="8830" y="9798"/>
                </a:cubicBezTo>
                <a:cubicBezTo>
                  <a:pt x="8961" y="9777"/>
                  <a:pt x="9093" y="9745"/>
                  <a:pt x="9227" y="9723"/>
                </a:cubicBezTo>
                <a:cubicBezTo>
                  <a:pt x="9587" y="9665"/>
                  <a:pt x="9955" y="9605"/>
                  <a:pt x="10319" y="9599"/>
                </a:cubicBezTo>
                <a:cubicBezTo>
                  <a:pt x="10530" y="9596"/>
                  <a:pt x="10753" y="9595"/>
                  <a:pt x="10964" y="9575"/>
                </a:cubicBezTo>
                <a:cubicBezTo>
                  <a:pt x="11136" y="9559"/>
                  <a:pt x="11314" y="9548"/>
                  <a:pt x="11485" y="9525"/>
                </a:cubicBezTo>
                <a:cubicBezTo>
                  <a:pt x="11618" y="9507"/>
                  <a:pt x="11753" y="9467"/>
                  <a:pt x="11881" y="9426"/>
                </a:cubicBezTo>
                <a:cubicBezTo>
                  <a:pt x="11957" y="9401"/>
                  <a:pt x="12002" y="9383"/>
                  <a:pt x="12080" y="9376"/>
                </a:cubicBezTo>
                <a:cubicBezTo>
                  <a:pt x="12105" y="9376"/>
                  <a:pt x="12113" y="9376"/>
                  <a:pt x="12129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88000" y="3340080"/>
            <a:ext cx="241200" cy="133200"/>
          </a:xfrm>
          <a:custGeom>
            <a:avLst/>
            <a:gdLst/>
            <a:ahLst/>
            <a:rect l="l" t="t" r="r" b="b"/>
            <a:pathLst>
              <a:path w="670" h="373">
                <a:moveTo>
                  <a:pt x="15999" y="9302"/>
                </a:moveTo>
                <a:cubicBezTo>
                  <a:pt x="16046" y="9231"/>
                  <a:pt x="15951" y="9303"/>
                  <a:pt x="15925" y="9327"/>
                </a:cubicBezTo>
                <a:cubicBezTo>
                  <a:pt x="15869" y="9379"/>
                  <a:pt x="15754" y="9509"/>
                  <a:pt x="15801" y="9599"/>
                </a:cubicBezTo>
                <a:cubicBezTo>
                  <a:pt x="15861" y="9713"/>
                  <a:pt x="16110" y="9598"/>
                  <a:pt x="16173" y="9575"/>
                </a:cubicBezTo>
                <a:cubicBezTo>
                  <a:pt x="16265" y="9542"/>
                  <a:pt x="16487" y="9455"/>
                  <a:pt x="16470" y="9327"/>
                </a:cubicBezTo>
                <a:cubicBezTo>
                  <a:pt x="16462" y="9319"/>
                  <a:pt x="16454" y="9310"/>
                  <a:pt x="16446" y="9302"/>
                </a:cubicBezTo>
                <a:cubicBezTo>
                  <a:pt x="16277" y="9263"/>
                  <a:pt x="16163" y="9297"/>
                  <a:pt x="15999" y="93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71800" y="3803760"/>
            <a:ext cx="393480" cy="152280"/>
          </a:xfrm>
          <a:custGeom>
            <a:avLst/>
            <a:gdLst/>
            <a:ahLst/>
            <a:rect l="l" t="t" r="r" b="b"/>
            <a:pathLst>
              <a:path w="1092" h="422">
                <a:moveTo>
                  <a:pt x="5755" y="10790"/>
                </a:moveTo>
                <a:cubicBezTo>
                  <a:pt x="5780" y="10829"/>
                  <a:pt x="5806" y="10854"/>
                  <a:pt x="5854" y="10864"/>
                </a:cubicBezTo>
                <a:cubicBezTo>
                  <a:pt x="5937" y="10881"/>
                  <a:pt x="6051" y="10871"/>
                  <a:pt x="6127" y="10840"/>
                </a:cubicBezTo>
              </a:path>
              <a:path w="1092" h="422">
                <a:moveTo>
                  <a:pt x="6648" y="10567"/>
                </a:moveTo>
                <a:cubicBezTo>
                  <a:pt x="6621" y="10647"/>
                  <a:pt x="6586" y="10735"/>
                  <a:pt x="6573" y="10815"/>
                </a:cubicBezTo>
                <a:cubicBezTo>
                  <a:pt x="6562" y="10878"/>
                  <a:pt x="6555" y="10936"/>
                  <a:pt x="6524" y="10988"/>
                </a:cubicBezTo>
              </a:path>
              <a:path w="1092" h="422">
                <a:moveTo>
                  <a:pt x="6424" y="10840"/>
                </a:moveTo>
                <a:cubicBezTo>
                  <a:pt x="6480" y="10840"/>
                  <a:pt x="6504" y="10877"/>
                  <a:pt x="6548" y="10889"/>
                </a:cubicBezTo>
                <a:cubicBezTo>
                  <a:pt x="6622" y="10909"/>
                  <a:pt x="6702" y="10919"/>
                  <a:pt x="6772" y="10964"/>
                </a:cubicBezTo>
                <a:cubicBezTo>
                  <a:pt x="6800" y="10992"/>
                  <a:pt x="6813" y="11000"/>
                  <a:pt x="6846" y="109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51160" y="3714840"/>
            <a:ext cx="214200" cy="187200"/>
          </a:xfrm>
          <a:custGeom>
            <a:avLst/>
            <a:gdLst/>
            <a:ahLst/>
            <a:rect l="l" t="t" r="r" b="b"/>
            <a:pathLst>
              <a:path w="596" h="522">
                <a:moveTo>
                  <a:pt x="9029" y="10368"/>
                </a:moveTo>
                <a:lnTo>
                  <a:pt x="9103" y="10319"/>
                </a:lnTo>
                <a:lnTo>
                  <a:pt x="9153" y="10319"/>
                </a:lnTo>
                <a:lnTo>
                  <a:pt x="9203" y="10319"/>
                </a:lnTo>
                <a:lnTo>
                  <a:pt x="9252" y="10344"/>
                </a:lnTo>
                <a:lnTo>
                  <a:pt x="9277" y="10393"/>
                </a:lnTo>
                <a:lnTo>
                  <a:pt x="9302" y="10443"/>
                </a:lnTo>
                <a:lnTo>
                  <a:pt x="9302" y="10517"/>
                </a:lnTo>
                <a:lnTo>
                  <a:pt x="9277" y="10616"/>
                </a:lnTo>
                <a:lnTo>
                  <a:pt x="9252" y="10691"/>
                </a:lnTo>
                <a:lnTo>
                  <a:pt x="9203" y="10765"/>
                </a:lnTo>
                <a:lnTo>
                  <a:pt x="9153" y="10815"/>
                </a:lnTo>
                <a:lnTo>
                  <a:pt x="9128" y="10840"/>
                </a:lnTo>
                <a:lnTo>
                  <a:pt x="9128" y="10840"/>
                </a:lnTo>
                <a:lnTo>
                  <a:pt x="9128" y="10840"/>
                </a:lnTo>
                <a:lnTo>
                  <a:pt x="9153" y="10815"/>
                </a:lnTo>
                <a:lnTo>
                  <a:pt x="9203" y="10790"/>
                </a:lnTo>
                <a:lnTo>
                  <a:pt x="9277" y="10765"/>
                </a:lnTo>
                <a:lnTo>
                  <a:pt x="9351" y="10740"/>
                </a:lnTo>
                <a:lnTo>
                  <a:pt x="9426" y="10716"/>
                </a:lnTo>
                <a:lnTo>
                  <a:pt x="9500" y="10716"/>
                </a:lnTo>
                <a:lnTo>
                  <a:pt x="9550" y="10716"/>
                </a:lnTo>
                <a:lnTo>
                  <a:pt x="9624" y="10716"/>
                </a:lnTo>
                <a:lnTo>
                  <a:pt x="9624" y="1071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16200" y="3652920"/>
            <a:ext cx="465120" cy="231840"/>
          </a:xfrm>
          <a:custGeom>
            <a:avLst/>
            <a:gdLst/>
            <a:ahLst/>
            <a:rect l="l" t="t" r="r" b="b"/>
            <a:pathLst>
              <a:path w="1291" h="646">
                <a:moveTo>
                  <a:pt x="10145" y="10542"/>
                </a:moveTo>
                <a:cubicBezTo>
                  <a:pt x="10121" y="10590"/>
                  <a:pt x="10115" y="10607"/>
                  <a:pt x="10071" y="10592"/>
                </a:cubicBezTo>
                <a:cubicBezTo>
                  <a:pt x="10058" y="10631"/>
                  <a:pt x="10059" y="10602"/>
                  <a:pt x="10046" y="10641"/>
                </a:cubicBezTo>
              </a:path>
              <a:path w="1291" h="646">
                <a:moveTo>
                  <a:pt x="10592" y="10244"/>
                </a:moveTo>
                <a:cubicBezTo>
                  <a:pt x="10496" y="10244"/>
                  <a:pt x="10453" y="10251"/>
                  <a:pt x="10368" y="10294"/>
                </a:cubicBezTo>
                <a:cubicBezTo>
                  <a:pt x="10306" y="10325"/>
                  <a:pt x="10303" y="10334"/>
                  <a:pt x="10269" y="10393"/>
                </a:cubicBezTo>
                <a:cubicBezTo>
                  <a:pt x="10324" y="10448"/>
                  <a:pt x="10370" y="10444"/>
                  <a:pt x="10443" y="10468"/>
                </a:cubicBezTo>
                <a:cubicBezTo>
                  <a:pt x="10500" y="10487"/>
                  <a:pt x="10632" y="10501"/>
                  <a:pt x="10641" y="10567"/>
                </a:cubicBezTo>
                <a:cubicBezTo>
                  <a:pt x="10651" y="10640"/>
                  <a:pt x="10638" y="10688"/>
                  <a:pt x="10567" y="10716"/>
                </a:cubicBezTo>
                <a:cubicBezTo>
                  <a:pt x="10516" y="10736"/>
                  <a:pt x="10486" y="10648"/>
                  <a:pt x="10492" y="10616"/>
                </a:cubicBezTo>
                <a:cubicBezTo>
                  <a:pt x="10508" y="10528"/>
                  <a:pt x="10570" y="10422"/>
                  <a:pt x="10641" y="10368"/>
                </a:cubicBezTo>
                <a:cubicBezTo>
                  <a:pt x="10679" y="10339"/>
                  <a:pt x="10727" y="10325"/>
                  <a:pt x="10765" y="10294"/>
                </a:cubicBezTo>
              </a:path>
              <a:path w="1291" h="646">
                <a:moveTo>
                  <a:pt x="11088" y="10220"/>
                </a:moveTo>
                <a:cubicBezTo>
                  <a:pt x="11101" y="10180"/>
                  <a:pt x="11135" y="10173"/>
                  <a:pt x="11187" y="10170"/>
                </a:cubicBezTo>
                <a:cubicBezTo>
                  <a:pt x="11251" y="10166"/>
                  <a:pt x="11276" y="10168"/>
                  <a:pt x="11336" y="10145"/>
                </a:cubicBezTo>
              </a:path>
              <a:path w="1291" h="646">
                <a:moveTo>
                  <a:pt x="11311" y="10170"/>
                </a:moveTo>
                <a:cubicBezTo>
                  <a:pt x="11258" y="10170"/>
                  <a:pt x="11208" y="10161"/>
                  <a:pt x="11162" y="10195"/>
                </a:cubicBezTo>
                <a:cubicBezTo>
                  <a:pt x="11087" y="10252"/>
                  <a:pt x="10999" y="10356"/>
                  <a:pt x="10964" y="10443"/>
                </a:cubicBezTo>
                <a:cubicBezTo>
                  <a:pt x="10933" y="10519"/>
                  <a:pt x="10899" y="10690"/>
                  <a:pt x="10988" y="10740"/>
                </a:cubicBezTo>
                <a:cubicBezTo>
                  <a:pt x="11073" y="10788"/>
                  <a:pt x="11195" y="10702"/>
                  <a:pt x="11261" y="10666"/>
                </a:cubicBezTo>
                <a:cubicBezTo>
                  <a:pt x="11335" y="10626"/>
                  <a:pt x="11336" y="10597"/>
                  <a:pt x="11336" y="10517"/>
                </a:cubicBezTo>
                <a:cubicBezTo>
                  <a:pt x="11249" y="10517"/>
                  <a:pt x="11229" y="10508"/>
                  <a:pt x="11162" y="10567"/>
                </a:cubicBezTo>
                <a:cubicBezTo>
                  <a:pt x="11082" y="10637"/>
                  <a:pt x="11088" y="10690"/>
                  <a:pt x="11088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4098960"/>
            <a:ext cx="152280" cy="258840"/>
          </a:xfrm>
          <a:custGeom>
            <a:avLst/>
            <a:gdLst/>
            <a:ahLst/>
            <a:rect l="l" t="t" r="r" b="b"/>
            <a:pathLst>
              <a:path w="422" h="721">
                <a:moveTo>
                  <a:pt x="3125" y="11609"/>
                </a:moveTo>
                <a:cubicBezTo>
                  <a:pt x="3125" y="11673"/>
                  <a:pt x="3091" y="11714"/>
                  <a:pt x="3101" y="11782"/>
                </a:cubicBezTo>
                <a:cubicBezTo>
                  <a:pt x="3112" y="11858"/>
                  <a:pt x="3111" y="11996"/>
                  <a:pt x="3175" y="12055"/>
                </a:cubicBezTo>
                <a:cubicBezTo>
                  <a:pt x="3229" y="12105"/>
                  <a:pt x="3284" y="12120"/>
                  <a:pt x="3349" y="12080"/>
                </a:cubicBezTo>
                <a:cubicBezTo>
                  <a:pt x="3378" y="12050"/>
                  <a:pt x="3389" y="12035"/>
                  <a:pt x="3398" y="12005"/>
                </a:cubicBezTo>
              </a:path>
              <a:path w="422" h="721">
                <a:moveTo>
                  <a:pt x="3150" y="11857"/>
                </a:moveTo>
                <a:cubicBezTo>
                  <a:pt x="3134" y="11857"/>
                  <a:pt x="3117" y="11857"/>
                  <a:pt x="3101" y="11857"/>
                </a:cubicBezTo>
                <a:cubicBezTo>
                  <a:pt x="3118" y="11831"/>
                  <a:pt x="3184" y="11798"/>
                  <a:pt x="3225" y="11757"/>
                </a:cubicBezTo>
                <a:cubicBezTo>
                  <a:pt x="3274" y="11708"/>
                  <a:pt x="3291" y="11691"/>
                  <a:pt x="3324" y="11658"/>
                </a:cubicBezTo>
              </a:path>
              <a:path w="422" h="721">
                <a:moveTo>
                  <a:pt x="3101" y="11534"/>
                </a:moveTo>
                <a:cubicBezTo>
                  <a:pt x="3150" y="11521"/>
                  <a:pt x="3196" y="11503"/>
                  <a:pt x="3249" y="11485"/>
                </a:cubicBezTo>
                <a:cubicBezTo>
                  <a:pt x="3342" y="11453"/>
                  <a:pt x="3428" y="11415"/>
                  <a:pt x="3522" y="113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95320" y="4259160"/>
            <a:ext cx="187560" cy="108000"/>
          </a:xfrm>
          <a:custGeom>
            <a:avLst/>
            <a:gdLst/>
            <a:ahLst/>
            <a:rect l="l" t="t" r="r" b="b"/>
            <a:pathLst>
              <a:path w="522" h="298">
                <a:moveTo>
                  <a:pt x="4986" y="12080"/>
                </a:moveTo>
                <a:cubicBezTo>
                  <a:pt x="4986" y="12088"/>
                  <a:pt x="4986" y="12097"/>
                  <a:pt x="4986" y="12105"/>
                </a:cubicBezTo>
                <a:cubicBezTo>
                  <a:pt x="5026" y="12092"/>
                  <a:pt x="5031" y="12028"/>
                  <a:pt x="5060" y="11981"/>
                </a:cubicBezTo>
                <a:cubicBezTo>
                  <a:pt x="5077" y="11953"/>
                  <a:pt x="5172" y="11787"/>
                  <a:pt x="5234" y="11832"/>
                </a:cubicBezTo>
                <a:cubicBezTo>
                  <a:pt x="5299" y="11879"/>
                  <a:pt x="5293" y="12018"/>
                  <a:pt x="5333" y="12080"/>
                </a:cubicBezTo>
                <a:cubicBezTo>
                  <a:pt x="5383" y="12157"/>
                  <a:pt x="5438" y="12130"/>
                  <a:pt x="5507" y="121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70080" y="4160880"/>
            <a:ext cx="160200" cy="250920"/>
          </a:xfrm>
          <a:custGeom>
            <a:avLst/>
            <a:gdLst/>
            <a:ahLst/>
            <a:rect l="l" t="t" r="r" b="b"/>
            <a:pathLst>
              <a:path w="447" h="696">
                <a:moveTo>
                  <a:pt x="6325" y="11683"/>
                </a:moveTo>
                <a:cubicBezTo>
                  <a:pt x="6306" y="11669"/>
                  <a:pt x="6256" y="11637"/>
                  <a:pt x="6226" y="11658"/>
                </a:cubicBezTo>
                <a:cubicBezTo>
                  <a:pt x="6116" y="11737"/>
                  <a:pt x="6082" y="11910"/>
                  <a:pt x="6052" y="12030"/>
                </a:cubicBezTo>
                <a:cubicBezTo>
                  <a:pt x="6036" y="12095"/>
                  <a:pt x="6015" y="12294"/>
                  <a:pt x="6152" y="12254"/>
                </a:cubicBezTo>
                <a:cubicBezTo>
                  <a:pt x="6292" y="12214"/>
                  <a:pt x="6399" y="12059"/>
                  <a:pt x="6449" y="11931"/>
                </a:cubicBezTo>
                <a:cubicBezTo>
                  <a:pt x="6497" y="11807"/>
                  <a:pt x="6485" y="11705"/>
                  <a:pt x="6400" y="11609"/>
                </a:cubicBezTo>
                <a:cubicBezTo>
                  <a:pt x="6356" y="11560"/>
                  <a:pt x="6251" y="11519"/>
                  <a:pt x="6201" y="11584"/>
                </a:cubicBezTo>
                <a:cubicBezTo>
                  <a:pt x="6181" y="11624"/>
                  <a:pt x="6172" y="11630"/>
                  <a:pt x="6176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48000" y="4010040"/>
            <a:ext cx="750960" cy="330120"/>
          </a:xfrm>
          <a:custGeom>
            <a:avLst/>
            <a:gdLst/>
            <a:ahLst/>
            <a:rect l="l" t="t" r="r" b="b"/>
            <a:pathLst>
              <a:path w="2084" h="919">
                <a:moveTo>
                  <a:pt x="9351" y="11633"/>
                </a:moveTo>
                <a:cubicBezTo>
                  <a:pt x="9336" y="11680"/>
                  <a:pt x="9318" y="11636"/>
                  <a:pt x="9302" y="11683"/>
                </a:cubicBezTo>
                <a:cubicBezTo>
                  <a:pt x="9343" y="11673"/>
                  <a:pt x="9364" y="11654"/>
                  <a:pt x="9401" y="11633"/>
                </a:cubicBezTo>
                <a:cubicBezTo>
                  <a:pt x="9425" y="11620"/>
                  <a:pt x="9493" y="11592"/>
                  <a:pt x="9525" y="11609"/>
                </a:cubicBezTo>
                <a:cubicBezTo>
                  <a:pt x="9591" y="11644"/>
                  <a:pt x="9515" y="11761"/>
                  <a:pt x="9500" y="11807"/>
                </a:cubicBezTo>
                <a:cubicBezTo>
                  <a:pt x="9475" y="11883"/>
                  <a:pt x="9439" y="11952"/>
                  <a:pt x="9426" y="12030"/>
                </a:cubicBezTo>
                <a:cubicBezTo>
                  <a:pt x="9512" y="12082"/>
                  <a:pt x="9562" y="12048"/>
                  <a:pt x="9649" y="12005"/>
                </a:cubicBezTo>
                <a:cubicBezTo>
                  <a:pt x="9743" y="11958"/>
                  <a:pt x="9833" y="11911"/>
                  <a:pt x="9922" y="11857"/>
                </a:cubicBezTo>
              </a:path>
              <a:path w="2084" h="919">
                <a:moveTo>
                  <a:pt x="10120" y="11807"/>
                </a:moveTo>
                <a:cubicBezTo>
                  <a:pt x="10178" y="11807"/>
                  <a:pt x="10201" y="11799"/>
                  <a:pt x="10244" y="11832"/>
                </a:cubicBezTo>
              </a:path>
              <a:path w="2084" h="919">
                <a:moveTo>
                  <a:pt x="10740" y="11385"/>
                </a:moveTo>
                <a:cubicBezTo>
                  <a:pt x="10748" y="11369"/>
                  <a:pt x="10757" y="11352"/>
                  <a:pt x="10765" y="11336"/>
                </a:cubicBezTo>
                <a:cubicBezTo>
                  <a:pt x="10685" y="11346"/>
                  <a:pt x="10630" y="11383"/>
                  <a:pt x="10567" y="11435"/>
                </a:cubicBezTo>
                <a:cubicBezTo>
                  <a:pt x="10532" y="11464"/>
                  <a:pt x="10500" y="11501"/>
                  <a:pt x="10468" y="11534"/>
                </a:cubicBezTo>
                <a:cubicBezTo>
                  <a:pt x="10504" y="11571"/>
                  <a:pt x="10539" y="11600"/>
                  <a:pt x="10592" y="11609"/>
                </a:cubicBezTo>
                <a:cubicBezTo>
                  <a:pt x="10644" y="11618"/>
                  <a:pt x="10714" y="11622"/>
                  <a:pt x="10740" y="11683"/>
                </a:cubicBezTo>
                <a:cubicBezTo>
                  <a:pt x="10757" y="11722"/>
                  <a:pt x="10691" y="11773"/>
                  <a:pt x="10666" y="11782"/>
                </a:cubicBezTo>
                <a:cubicBezTo>
                  <a:pt x="10641" y="11782"/>
                  <a:pt x="10633" y="11782"/>
                  <a:pt x="10616" y="11782"/>
                </a:cubicBezTo>
                <a:cubicBezTo>
                  <a:pt x="10616" y="11722"/>
                  <a:pt x="10630" y="11660"/>
                  <a:pt x="10666" y="11609"/>
                </a:cubicBezTo>
                <a:cubicBezTo>
                  <a:pt x="10726" y="11524"/>
                  <a:pt x="10814" y="11452"/>
                  <a:pt x="10889" y="11385"/>
                </a:cubicBezTo>
                <a:cubicBezTo>
                  <a:pt x="10906" y="11369"/>
                  <a:pt x="10922" y="11352"/>
                  <a:pt x="10939" y="11336"/>
                </a:cubicBezTo>
              </a:path>
              <a:path w="2084" h="919">
                <a:moveTo>
                  <a:pt x="11237" y="11137"/>
                </a:moveTo>
                <a:cubicBezTo>
                  <a:pt x="11258" y="11148"/>
                  <a:pt x="11188" y="11233"/>
                  <a:pt x="11162" y="11286"/>
                </a:cubicBezTo>
                <a:cubicBezTo>
                  <a:pt x="11123" y="11367"/>
                  <a:pt x="11040" y="11513"/>
                  <a:pt x="11088" y="11609"/>
                </a:cubicBezTo>
                <a:cubicBezTo>
                  <a:pt x="11125" y="11683"/>
                  <a:pt x="11213" y="11702"/>
                  <a:pt x="11286" y="11683"/>
                </a:cubicBezTo>
                <a:cubicBezTo>
                  <a:pt x="11356" y="11665"/>
                  <a:pt x="11380" y="11594"/>
                  <a:pt x="11385" y="11534"/>
                </a:cubicBezTo>
                <a:cubicBezTo>
                  <a:pt x="11385" y="11506"/>
                  <a:pt x="11383" y="11496"/>
                  <a:pt x="11361" y="11485"/>
                </a:cubicBezTo>
                <a:cubicBezTo>
                  <a:pt x="11303" y="11499"/>
                  <a:pt x="11258" y="11541"/>
                  <a:pt x="11212" y="11584"/>
                </a:cubicBezTo>
                <a:cubicBezTo>
                  <a:pt x="11165" y="11630"/>
                  <a:pt x="11151" y="11642"/>
                  <a:pt x="11137" y="116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99080" y="3946680"/>
            <a:ext cx="893880" cy="241200"/>
          </a:xfrm>
          <a:custGeom>
            <a:avLst/>
            <a:gdLst/>
            <a:ahLst/>
            <a:rect l="l" t="t" r="r" b="b"/>
            <a:pathLst>
              <a:path w="2481" h="670">
                <a:moveTo>
                  <a:pt x="15652" y="11162"/>
                </a:moveTo>
                <a:cubicBezTo>
                  <a:pt x="15598" y="11216"/>
                  <a:pt x="15599" y="11244"/>
                  <a:pt x="15577" y="11311"/>
                </a:cubicBezTo>
                <a:cubicBezTo>
                  <a:pt x="15561" y="11361"/>
                  <a:pt x="15553" y="11382"/>
                  <a:pt x="15553" y="11435"/>
                </a:cubicBezTo>
                <a:cubicBezTo>
                  <a:pt x="15626" y="11435"/>
                  <a:pt x="15683" y="11439"/>
                  <a:pt x="15751" y="11410"/>
                </a:cubicBezTo>
                <a:cubicBezTo>
                  <a:pt x="15808" y="11382"/>
                  <a:pt x="15831" y="11371"/>
                  <a:pt x="15875" y="11361"/>
                </a:cubicBezTo>
              </a:path>
              <a:path w="2481" h="670">
                <a:moveTo>
                  <a:pt x="15999" y="11063"/>
                </a:moveTo>
                <a:cubicBezTo>
                  <a:pt x="15982" y="11055"/>
                  <a:pt x="15966" y="11046"/>
                  <a:pt x="15949" y="11038"/>
                </a:cubicBezTo>
                <a:cubicBezTo>
                  <a:pt x="15917" y="11082"/>
                  <a:pt x="15884" y="11155"/>
                  <a:pt x="15875" y="11212"/>
                </a:cubicBezTo>
                <a:cubicBezTo>
                  <a:pt x="15854" y="11345"/>
                  <a:pt x="15875" y="11498"/>
                  <a:pt x="15875" y="11633"/>
                </a:cubicBezTo>
              </a:path>
              <a:path w="2481" h="670">
                <a:moveTo>
                  <a:pt x="16396" y="11237"/>
                </a:moveTo>
                <a:cubicBezTo>
                  <a:pt x="16363" y="11302"/>
                  <a:pt x="16323" y="11367"/>
                  <a:pt x="16297" y="11435"/>
                </a:cubicBezTo>
                <a:cubicBezTo>
                  <a:pt x="16259" y="11532"/>
                  <a:pt x="16257" y="11562"/>
                  <a:pt x="16346" y="11609"/>
                </a:cubicBezTo>
                <a:cubicBezTo>
                  <a:pt x="16413" y="11644"/>
                  <a:pt x="16428" y="11633"/>
                  <a:pt x="16495" y="11609"/>
                </a:cubicBezTo>
              </a:path>
              <a:path w="2481" h="670">
                <a:moveTo>
                  <a:pt x="16371" y="11385"/>
                </a:moveTo>
                <a:cubicBezTo>
                  <a:pt x="16184" y="11448"/>
                  <a:pt x="16418" y="11371"/>
                  <a:pt x="16446" y="11361"/>
                </a:cubicBezTo>
              </a:path>
              <a:path w="2481" h="670">
                <a:moveTo>
                  <a:pt x="16495" y="11038"/>
                </a:moveTo>
                <a:cubicBezTo>
                  <a:pt x="16593" y="11038"/>
                  <a:pt x="16673" y="11016"/>
                  <a:pt x="16768" y="10988"/>
                </a:cubicBezTo>
                <a:cubicBezTo>
                  <a:pt x="16793" y="10980"/>
                  <a:pt x="16817" y="10972"/>
                  <a:pt x="16842" y="10964"/>
                </a:cubicBezTo>
              </a:path>
              <a:path w="2481" h="670">
                <a:moveTo>
                  <a:pt x="17016" y="11311"/>
                </a:moveTo>
                <a:cubicBezTo>
                  <a:pt x="17036" y="11390"/>
                  <a:pt x="17054" y="11347"/>
                  <a:pt x="17115" y="11336"/>
                </a:cubicBezTo>
                <a:cubicBezTo>
                  <a:pt x="17175" y="11325"/>
                  <a:pt x="17207" y="11315"/>
                  <a:pt x="17264" y="11286"/>
                </a:cubicBezTo>
              </a:path>
              <a:path w="2481" h="670">
                <a:moveTo>
                  <a:pt x="17562" y="11088"/>
                </a:moveTo>
                <a:cubicBezTo>
                  <a:pt x="17550" y="11136"/>
                  <a:pt x="17502" y="11166"/>
                  <a:pt x="17487" y="11212"/>
                </a:cubicBezTo>
                <a:cubicBezTo>
                  <a:pt x="17463" y="11285"/>
                  <a:pt x="17526" y="11268"/>
                  <a:pt x="17562" y="11286"/>
                </a:cubicBezTo>
                <a:cubicBezTo>
                  <a:pt x="17633" y="11322"/>
                  <a:pt x="17681" y="11313"/>
                  <a:pt x="17760" y="11286"/>
                </a:cubicBezTo>
              </a:path>
              <a:path w="2481" h="670">
                <a:moveTo>
                  <a:pt x="18033" y="10988"/>
                </a:moveTo>
                <a:cubicBezTo>
                  <a:pt x="17963" y="11059"/>
                  <a:pt x="17895" y="11133"/>
                  <a:pt x="17835" y="11212"/>
                </a:cubicBezTo>
                <a:cubicBezTo>
                  <a:pt x="17776" y="11290"/>
                  <a:pt x="17706" y="11388"/>
                  <a:pt x="17686" y="11485"/>
                </a:cubicBezTo>
                <a:cubicBezTo>
                  <a:pt x="17686" y="11534"/>
                  <a:pt x="17686" y="11551"/>
                  <a:pt x="17686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83040" y="4919760"/>
            <a:ext cx="776160" cy="268200"/>
          </a:xfrm>
          <a:custGeom>
            <a:avLst/>
            <a:gdLst/>
            <a:ahLst/>
            <a:rect l="l" t="t" r="r" b="b"/>
            <a:pathLst>
              <a:path w="2159" h="746">
                <a:moveTo>
                  <a:pt x="11088" y="13866"/>
                </a:moveTo>
                <a:cubicBezTo>
                  <a:pt x="11088" y="13929"/>
                  <a:pt x="11066" y="13974"/>
                  <a:pt x="11063" y="14039"/>
                </a:cubicBezTo>
                <a:cubicBezTo>
                  <a:pt x="11060" y="14111"/>
                  <a:pt x="11052" y="14188"/>
                  <a:pt x="11137" y="14213"/>
                </a:cubicBezTo>
                <a:cubicBezTo>
                  <a:pt x="11214" y="14236"/>
                  <a:pt x="11316" y="14191"/>
                  <a:pt x="11385" y="14163"/>
                </a:cubicBezTo>
                <a:cubicBezTo>
                  <a:pt x="11402" y="14155"/>
                  <a:pt x="11418" y="14147"/>
                  <a:pt x="11435" y="14139"/>
                </a:cubicBezTo>
              </a:path>
              <a:path w="2159" h="746">
                <a:moveTo>
                  <a:pt x="11435" y="13791"/>
                </a:moveTo>
                <a:cubicBezTo>
                  <a:pt x="11385" y="13879"/>
                  <a:pt x="11403" y="13915"/>
                  <a:pt x="11385" y="14015"/>
                </a:cubicBezTo>
                <a:cubicBezTo>
                  <a:pt x="11368" y="14109"/>
                  <a:pt x="11361" y="14190"/>
                  <a:pt x="11361" y="14288"/>
                </a:cubicBezTo>
                <a:cubicBezTo>
                  <a:pt x="11361" y="14345"/>
                  <a:pt x="11359" y="14366"/>
                  <a:pt x="11385" y="14412"/>
                </a:cubicBezTo>
              </a:path>
              <a:path w="2159" h="746">
                <a:moveTo>
                  <a:pt x="11807" y="13990"/>
                </a:moveTo>
                <a:cubicBezTo>
                  <a:pt x="11779" y="14041"/>
                  <a:pt x="11728" y="14119"/>
                  <a:pt x="11757" y="14188"/>
                </a:cubicBezTo>
                <a:cubicBezTo>
                  <a:pt x="11776" y="14234"/>
                  <a:pt x="11869" y="14213"/>
                  <a:pt x="11906" y="14213"/>
                </a:cubicBezTo>
                <a:cubicBezTo>
                  <a:pt x="11967" y="14213"/>
                  <a:pt x="12001" y="14190"/>
                  <a:pt x="12055" y="14163"/>
                </a:cubicBezTo>
              </a:path>
              <a:path w="2159" h="746">
                <a:moveTo>
                  <a:pt x="11832" y="14089"/>
                </a:moveTo>
                <a:cubicBezTo>
                  <a:pt x="11807" y="14089"/>
                  <a:pt x="11782" y="14089"/>
                  <a:pt x="11757" y="14089"/>
                </a:cubicBezTo>
                <a:cubicBezTo>
                  <a:pt x="11825" y="14035"/>
                  <a:pt x="11906" y="14012"/>
                  <a:pt x="11981" y="13965"/>
                </a:cubicBezTo>
                <a:cubicBezTo>
                  <a:pt x="12006" y="13948"/>
                  <a:pt x="12030" y="13932"/>
                  <a:pt x="12055" y="13915"/>
                </a:cubicBezTo>
              </a:path>
              <a:path w="2159" h="746">
                <a:moveTo>
                  <a:pt x="11857" y="13791"/>
                </a:moveTo>
                <a:cubicBezTo>
                  <a:pt x="11792" y="13791"/>
                  <a:pt x="11990" y="13770"/>
                  <a:pt x="12005" y="13767"/>
                </a:cubicBezTo>
                <a:cubicBezTo>
                  <a:pt x="12076" y="13751"/>
                  <a:pt x="12132" y="13725"/>
                  <a:pt x="12204" y="13717"/>
                </a:cubicBezTo>
              </a:path>
              <a:path w="2159" h="746">
                <a:moveTo>
                  <a:pt x="12378" y="13891"/>
                </a:moveTo>
                <a:cubicBezTo>
                  <a:pt x="12423" y="13960"/>
                  <a:pt x="12446" y="13950"/>
                  <a:pt x="12526" y="13915"/>
                </a:cubicBezTo>
                <a:cubicBezTo>
                  <a:pt x="12583" y="13890"/>
                  <a:pt x="12614" y="13874"/>
                  <a:pt x="12675" y="13866"/>
                </a:cubicBezTo>
              </a:path>
              <a:path w="2159" h="746">
                <a:moveTo>
                  <a:pt x="12898" y="13717"/>
                </a:moveTo>
                <a:cubicBezTo>
                  <a:pt x="12887" y="13761"/>
                  <a:pt x="12852" y="13791"/>
                  <a:pt x="12849" y="13841"/>
                </a:cubicBezTo>
                <a:cubicBezTo>
                  <a:pt x="12846" y="13888"/>
                  <a:pt x="12810" y="13958"/>
                  <a:pt x="12849" y="13990"/>
                </a:cubicBezTo>
                <a:cubicBezTo>
                  <a:pt x="12882" y="14017"/>
                  <a:pt x="12958" y="14029"/>
                  <a:pt x="12998" y="14015"/>
                </a:cubicBezTo>
                <a:cubicBezTo>
                  <a:pt x="13052" y="13997"/>
                  <a:pt x="13083" y="13954"/>
                  <a:pt x="13122" y="13915"/>
                </a:cubicBezTo>
              </a:path>
              <a:path w="2159" h="746">
                <a:moveTo>
                  <a:pt x="13221" y="13667"/>
                </a:moveTo>
                <a:cubicBezTo>
                  <a:pt x="13123" y="13716"/>
                  <a:pt x="13109" y="13736"/>
                  <a:pt x="13072" y="13841"/>
                </a:cubicBezTo>
                <a:cubicBezTo>
                  <a:pt x="13039" y="13935"/>
                  <a:pt x="13033" y="14023"/>
                  <a:pt x="13072" y="14114"/>
                </a:cubicBezTo>
                <a:cubicBezTo>
                  <a:pt x="13080" y="14130"/>
                  <a:pt x="13089" y="14147"/>
                  <a:pt x="13097" y="141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89000" y="4973760"/>
            <a:ext cx="322200" cy="544320"/>
          </a:xfrm>
          <a:custGeom>
            <a:avLst/>
            <a:gdLst/>
            <a:ahLst/>
            <a:rect l="l" t="t" r="r" b="b"/>
            <a:pathLst>
              <a:path w="894" h="1514">
                <a:moveTo>
                  <a:pt x="3026" y="13940"/>
                </a:moveTo>
                <a:cubicBezTo>
                  <a:pt x="3026" y="13930"/>
                  <a:pt x="3026" y="13775"/>
                  <a:pt x="3026" y="13841"/>
                </a:cubicBezTo>
                <a:cubicBezTo>
                  <a:pt x="3068" y="13966"/>
                  <a:pt x="3051" y="14104"/>
                  <a:pt x="3051" y="14238"/>
                </a:cubicBezTo>
                <a:cubicBezTo>
                  <a:pt x="3051" y="14431"/>
                  <a:pt x="3059" y="14621"/>
                  <a:pt x="3026" y="14808"/>
                </a:cubicBezTo>
                <a:cubicBezTo>
                  <a:pt x="3026" y="14816"/>
                  <a:pt x="3026" y="14825"/>
                  <a:pt x="3026" y="14833"/>
                </a:cubicBezTo>
              </a:path>
              <a:path w="894" h="1514">
                <a:moveTo>
                  <a:pt x="3373" y="14064"/>
                </a:moveTo>
                <a:cubicBezTo>
                  <a:pt x="3319" y="14120"/>
                  <a:pt x="3275" y="14179"/>
                  <a:pt x="3225" y="14238"/>
                </a:cubicBezTo>
                <a:cubicBezTo>
                  <a:pt x="3168" y="14305"/>
                  <a:pt x="3083" y="14377"/>
                  <a:pt x="3051" y="14461"/>
                </a:cubicBezTo>
                <a:cubicBezTo>
                  <a:pt x="3023" y="14533"/>
                  <a:pt x="3101" y="14573"/>
                  <a:pt x="3150" y="14610"/>
                </a:cubicBezTo>
                <a:cubicBezTo>
                  <a:pt x="3230" y="14670"/>
                  <a:pt x="3320" y="14723"/>
                  <a:pt x="3398" y="14784"/>
                </a:cubicBezTo>
                <a:cubicBezTo>
                  <a:pt x="3444" y="14820"/>
                  <a:pt x="3463" y="14864"/>
                  <a:pt x="3497" y="14908"/>
                </a:cubicBezTo>
              </a:path>
              <a:path w="894" h="1514">
                <a:moveTo>
                  <a:pt x="3721" y="14883"/>
                </a:moveTo>
                <a:cubicBezTo>
                  <a:pt x="3739" y="14828"/>
                  <a:pt x="3783" y="14875"/>
                  <a:pt x="3820" y="14908"/>
                </a:cubicBezTo>
                <a:cubicBezTo>
                  <a:pt x="3862" y="14945"/>
                  <a:pt x="3856" y="15052"/>
                  <a:pt x="3845" y="15106"/>
                </a:cubicBezTo>
                <a:cubicBezTo>
                  <a:pt x="3829" y="15182"/>
                  <a:pt x="3761" y="15261"/>
                  <a:pt x="3696" y="15304"/>
                </a:cubicBezTo>
                <a:cubicBezTo>
                  <a:pt x="3655" y="15324"/>
                  <a:pt x="3649" y="15333"/>
                  <a:pt x="3621" y="15329"/>
                </a:cubicBezTo>
                <a:cubicBezTo>
                  <a:pt x="3590" y="15286"/>
                  <a:pt x="3582" y="15250"/>
                  <a:pt x="3621" y="15205"/>
                </a:cubicBezTo>
                <a:cubicBezTo>
                  <a:pt x="3683" y="15133"/>
                  <a:pt x="3756" y="15156"/>
                  <a:pt x="3845" y="15156"/>
                </a:cubicBezTo>
                <a:cubicBezTo>
                  <a:pt x="3889" y="15156"/>
                  <a:pt x="3902" y="15153"/>
                  <a:pt x="3919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3160" y="5205240"/>
            <a:ext cx="465120" cy="295560"/>
          </a:xfrm>
          <a:custGeom>
            <a:avLst/>
            <a:gdLst/>
            <a:ahLst/>
            <a:rect l="l" t="t" r="r" b="b"/>
            <a:pathLst>
              <a:path w="1291" h="820">
                <a:moveTo>
                  <a:pt x="5531" y="14511"/>
                </a:moveTo>
                <a:cubicBezTo>
                  <a:pt x="5507" y="14511"/>
                  <a:pt x="5498" y="14511"/>
                  <a:pt x="5482" y="14511"/>
                </a:cubicBezTo>
                <a:cubicBezTo>
                  <a:pt x="5535" y="14511"/>
                  <a:pt x="5551" y="14489"/>
                  <a:pt x="5606" y="14486"/>
                </a:cubicBezTo>
                <a:cubicBezTo>
                  <a:pt x="5662" y="14483"/>
                  <a:pt x="5714" y="14474"/>
                  <a:pt x="5755" y="14511"/>
                </a:cubicBezTo>
                <a:cubicBezTo>
                  <a:pt x="5805" y="14556"/>
                  <a:pt x="5778" y="14631"/>
                  <a:pt x="5755" y="14684"/>
                </a:cubicBezTo>
                <a:cubicBezTo>
                  <a:pt x="5735" y="14729"/>
                  <a:pt x="5674" y="14834"/>
                  <a:pt x="5631" y="14858"/>
                </a:cubicBezTo>
                <a:cubicBezTo>
                  <a:pt x="5579" y="14887"/>
                  <a:pt x="5710" y="14840"/>
                  <a:pt x="5730" y="14833"/>
                </a:cubicBezTo>
                <a:cubicBezTo>
                  <a:pt x="5814" y="14803"/>
                  <a:pt x="5894" y="14757"/>
                  <a:pt x="5978" y="14808"/>
                </a:cubicBezTo>
                <a:cubicBezTo>
                  <a:pt x="6027" y="14838"/>
                  <a:pt x="6005" y="14919"/>
                  <a:pt x="5978" y="14957"/>
                </a:cubicBezTo>
                <a:cubicBezTo>
                  <a:pt x="5934" y="15018"/>
                  <a:pt x="5871" y="15095"/>
                  <a:pt x="5804" y="15131"/>
                </a:cubicBezTo>
                <a:cubicBezTo>
                  <a:pt x="5783" y="15143"/>
                  <a:pt x="5755" y="15150"/>
                  <a:pt x="5730" y="15156"/>
                </a:cubicBezTo>
              </a:path>
              <a:path w="1291" h="820">
                <a:moveTo>
                  <a:pt x="6251" y="15081"/>
                </a:moveTo>
                <a:cubicBezTo>
                  <a:pt x="6276" y="15081"/>
                  <a:pt x="6300" y="15081"/>
                  <a:pt x="6325" y="15081"/>
                </a:cubicBezTo>
              </a:path>
              <a:path w="1291" h="820">
                <a:moveTo>
                  <a:pt x="6697" y="14461"/>
                </a:moveTo>
                <a:cubicBezTo>
                  <a:pt x="6635" y="14493"/>
                  <a:pt x="6544" y="14533"/>
                  <a:pt x="6499" y="14585"/>
                </a:cubicBezTo>
                <a:cubicBezTo>
                  <a:pt x="6456" y="14635"/>
                  <a:pt x="6467" y="14691"/>
                  <a:pt x="6499" y="14734"/>
                </a:cubicBezTo>
                <a:cubicBezTo>
                  <a:pt x="6555" y="14723"/>
                  <a:pt x="6623" y="14694"/>
                  <a:pt x="6672" y="14660"/>
                </a:cubicBezTo>
                <a:cubicBezTo>
                  <a:pt x="6694" y="14645"/>
                  <a:pt x="6754" y="14603"/>
                  <a:pt x="6772" y="14660"/>
                </a:cubicBezTo>
                <a:cubicBezTo>
                  <a:pt x="6809" y="14779"/>
                  <a:pt x="6757" y="14939"/>
                  <a:pt x="6747" y="15056"/>
                </a:cubicBezTo>
                <a:cubicBezTo>
                  <a:pt x="6741" y="15129"/>
                  <a:pt x="6747" y="15206"/>
                  <a:pt x="6747" y="152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62120" y="5214960"/>
            <a:ext cx="117720" cy="23328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7144" y="14808"/>
                </a:moveTo>
                <a:cubicBezTo>
                  <a:pt x="7144" y="14875"/>
                  <a:pt x="7114" y="15038"/>
                  <a:pt x="7169" y="15081"/>
                </a:cubicBezTo>
                <a:cubicBezTo>
                  <a:pt x="7222" y="15122"/>
                  <a:pt x="7263" y="15150"/>
                  <a:pt x="7317" y="15106"/>
                </a:cubicBezTo>
                <a:cubicBezTo>
                  <a:pt x="7325" y="15098"/>
                  <a:pt x="7334" y="15089"/>
                  <a:pt x="7342" y="15081"/>
                </a:cubicBezTo>
              </a:path>
              <a:path w="323" h="646">
                <a:moveTo>
                  <a:pt x="7169" y="14957"/>
                </a:moveTo>
                <a:cubicBezTo>
                  <a:pt x="7152" y="14957"/>
                  <a:pt x="7136" y="14957"/>
                  <a:pt x="7119" y="14957"/>
                </a:cubicBezTo>
                <a:cubicBezTo>
                  <a:pt x="7131" y="14921"/>
                  <a:pt x="7174" y="14911"/>
                  <a:pt x="7218" y="14883"/>
                </a:cubicBezTo>
                <a:cubicBezTo>
                  <a:pt x="7277" y="14845"/>
                  <a:pt x="7330" y="14814"/>
                  <a:pt x="7392" y="14784"/>
                </a:cubicBezTo>
              </a:path>
              <a:path w="323" h="646">
                <a:moveTo>
                  <a:pt x="7169" y="14610"/>
                </a:moveTo>
                <a:cubicBezTo>
                  <a:pt x="7161" y="14610"/>
                  <a:pt x="7152" y="14610"/>
                  <a:pt x="7144" y="14610"/>
                </a:cubicBezTo>
                <a:cubicBezTo>
                  <a:pt x="7152" y="14585"/>
                  <a:pt x="7200" y="14544"/>
                  <a:pt x="7243" y="14536"/>
                </a:cubicBezTo>
                <a:cubicBezTo>
                  <a:pt x="7319" y="14522"/>
                  <a:pt x="7368" y="14519"/>
                  <a:pt x="7441" y="144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11320" y="5187960"/>
            <a:ext cx="160560" cy="250920"/>
          </a:xfrm>
          <a:custGeom>
            <a:avLst/>
            <a:gdLst/>
            <a:ahLst/>
            <a:rect l="l" t="t" r="r" b="b"/>
            <a:pathLst>
              <a:path w="448" h="695">
                <a:moveTo>
                  <a:pt x="8111" y="14560"/>
                </a:moveTo>
                <a:cubicBezTo>
                  <a:pt x="8082" y="14598"/>
                  <a:pt x="8086" y="14611"/>
                  <a:pt x="8086" y="14660"/>
                </a:cubicBezTo>
                <a:cubicBezTo>
                  <a:pt x="8086" y="14734"/>
                  <a:pt x="8123" y="14755"/>
                  <a:pt x="8186" y="14759"/>
                </a:cubicBezTo>
                <a:cubicBezTo>
                  <a:pt x="8283" y="14765"/>
                  <a:pt x="8312" y="14747"/>
                  <a:pt x="8384" y="14684"/>
                </a:cubicBezTo>
              </a:path>
              <a:path w="448" h="695">
                <a:moveTo>
                  <a:pt x="8533" y="14412"/>
                </a:moveTo>
                <a:cubicBezTo>
                  <a:pt x="8450" y="14458"/>
                  <a:pt x="8441" y="14493"/>
                  <a:pt x="8409" y="14585"/>
                </a:cubicBezTo>
                <a:cubicBezTo>
                  <a:pt x="8366" y="14708"/>
                  <a:pt x="8338" y="14851"/>
                  <a:pt x="8359" y="14982"/>
                </a:cubicBezTo>
                <a:cubicBezTo>
                  <a:pt x="8382" y="15049"/>
                  <a:pt x="8387" y="15067"/>
                  <a:pt x="8409" y="151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303720" y="5241960"/>
            <a:ext cx="241200" cy="98280"/>
          </a:xfrm>
          <a:custGeom>
            <a:avLst/>
            <a:gdLst/>
            <a:ahLst/>
            <a:rect l="l" t="t" r="r" b="b"/>
            <a:pathLst>
              <a:path w="670" h="274">
                <a:moveTo>
                  <a:pt x="9178" y="14585"/>
                </a:moveTo>
                <a:cubicBezTo>
                  <a:pt x="9282" y="14585"/>
                  <a:pt x="9375" y="14571"/>
                  <a:pt x="9475" y="14560"/>
                </a:cubicBezTo>
                <a:cubicBezTo>
                  <a:pt x="9550" y="14560"/>
                  <a:pt x="9574" y="14560"/>
                  <a:pt x="9624" y="14560"/>
                </a:cubicBezTo>
              </a:path>
              <a:path w="670" h="274">
                <a:moveTo>
                  <a:pt x="9401" y="14833"/>
                </a:moveTo>
                <a:cubicBezTo>
                  <a:pt x="9497" y="14833"/>
                  <a:pt x="9581" y="14821"/>
                  <a:pt x="9674" y="14808"/>
                </a:cubicBezTo>
                <a:cubicBezTo>
                  <a:pt x="9732" y="14800"/>
                  <a:pt x="9788" y="14790"/>
                  <a:pt x="9847" y="147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40120" y="5375160"/>
            <a:ext cx="857160" cy="403200"/>
          </a:xfrm>
          <a:custGeom>
            <a:avLst/>
            <a:gdLst/>
            <a:ahLst/>
            <a:rect l="l" t="t" r="r" b="b"/>
            <a:pathLst>
              <a:path w="2382" h="1118">
                <a:moveTo>
                  <a:pt x="10988" y="15131"/>
                </a:moveTo>
                <a:cubicBezTo>
                  <a:pt x="11015" y="15111"/>
                  <a:pt x="11049" y="15092"/>
                  <a:pt x="11088" y="15106"/>
                </a:cubicBezTo>
                <a:cubicBezTo>
                  <a:pt x="11169" y="15135"/>
                  <a:pt x="11226" y="15219"/>
                  <a:pt x="11237" y="15304"/>
                </a:cubicBezTo>
                <a:cubicBezTo>
                  <a:pt x="11252" y="15417"/>
                  <a:pt x="11205" y="15539"/>
                  <a:pt x="11137" y="15627"/>
                </a:cubicBezTo>
                <a:cubicBezTo>
                  <a:pt x="11101" y="15674"/>
                  <a:pt x="11040" y="15713"/>
                  <a:pt x="10988" y="15726"/>
                </a:cubicBezTo>
                <a:cubicBezTo>
                  <a:pt x="10988" y="15661"/>
                  <a:pt x="10984" y="15577"/>
                  <a:pt x="11038" y="15528"/>
                </a:cubicBezTo>
                <a:cubicBezTo>
                  <a:pt x="11100" y="15471"/>
                  <a:pt x="11167" y="15472"/>
                  <a:pt x="11237" y="15503"/>
                </a:cubicBezTo>
                <a:cubicBezTo>
                  <a:pt x="11308" y="15535"/>
                  <a:pt x="11354" y="15560"/>
                  <a:pt x="11385" y="15627"/>
                </a:cubicBezTo>
                <a:cubicBezTo>
                  <a:pt x="11393" y="15644"/>
                  <a:pt x="11402" y="15660"/>
                  <a:pt x="11410" y="15677"/>
                </a:cubicBezTo>
              </a:path>
              <a:path w="2382" h="1118">
                <a:moveTo>
                  <a:pt x="11658" y="15627"/>
                </a:moveTo>
                <a:cubicBezTo>
                  <a:pt x="11658" y="15619"/>
                  <a:pt x="11658" y="15610"/>
                  <a:pt x="11658" y="15602"/>
                </a:cubicBezTo>
                <a:cubicBezTo>
                  <a:pt x="11633" y="15635"/>
                  <a:pt x="11619" y="15662"/>
                  <a:pt x="11609" y="15701"/>
                </a:cubicBezTo>
                <a:cubicBezTo>
                  <a:pt x="11633" y="15701"/>
                  <a:pt x="11642" y="15701"/>
                  <a:pt x="11658" y="15701"/>
                </a:cubicBezTo>
              </a:path>
              <a:path w="2382" h="1118">
                <a:moveTo>
                  <a:pt x="12030" y="15255"/>
                </a:moveTo>
                <a:cubicBezTo>
                  <a:pt x="11986" y="15221"/>
                  <a:pt x="11959" y="15219"/>
                  <a:pt x="11906" y="15255"/>
                </a:cubicBezTo>
                <a:cubicBezTo>
                  <a:pt x="11860" y="15286"/>
                  <a:pt x="11823" y="15353"/>
                  <a:pt x="11807" y="15404"/>
                </a:cubicBezTo>
                <a:cubicBezTo>
                  <a:pt x="11788" y="15466"/>
                  <a:pt x="11866" y="15507"/>
                  <a:pt x="11906" y="15528"/>
                </a:cubicBezTo>
                <a:cubicBezTo>
                  <a:pt x="11966" y="15560"/>
                  <a:pt x="12028" y="15571"/>
                  <a:pt x="12080" y="15602"/>
                </a:cubicBezTo>
                <a:cubicBezTo>
                  <a:pt x="12080" y="15655"/>
                  <a:pt x="12068" y="15663"/>
                  <a:pt x="12030" y="15701"/>
                </a:cubicBezTo>
                <a:cubicBezTo>
                  <a:pt x="12008" y="15723"/>
                  <a:pt x="12003" y="15732"/>
                  <a:pt x="11981" y="15726"/>
                </a:cubicBezTo>
                <a:cubicBezTo>
                  <a:pt x="11952" y="15687"/>
                  <a:pt x="11941" y="15629"/>
                  <a:pt x="11956" y="15577"/>
                </a:cubicBezTo>
                <a:cubicBezTo>
                  <a:pt x="11972" y="15520"/>
                  <a:pt x="12015" y="15447"/>
                  <a:pt x="12055" y="15404"/>
                </a:cubicBezTo>
                <a:cubicBezTo>
                  <a:pt x="12094" y="15365"/>
                  <a:pt x="12111" y="15363"/>
                  <a:pt x="12105" y="15329"/>
                </a:cubicBezTo>
              </a:path>
              <a:path w="2382" h="1118">
                <a:moveTo>
                  <a:pt x="12551" y="15156"/>
                </a:moveTo>
                <a:cubicBezTo>
                  <a:pt x="12477" y="15214"/>
                  <a:pt x="12460" y="15234"/>
                  <a:pt x="12427" y="15329"/>
                </a:cubicBezTo>
                <a:cubicBezTo>
                  <a:pt x="12401" y="15404"/>
                  <a:pt x="12334" y="15529"/>
                  <a:pt x="12402" y="15602"/>
                </a:cubicBezTo>
                <a:cubicBezTo>
                  <a:pt x="12448" y="15652"/>
                  <a:pt x="12527" y="15666"/>
                  <a:pt x="12576" y="15627"/>
                </a:cubicBezTo>
                <a:cubicBezTo>
                  <a:pt x="12600" y="15608"/>
                  <a:pt x="12625" y="15543"/>
                  <a:pt x="12576" y="15528"/>
                </a:cubicBezTo>
                <a:cubicBezTo>
                  <a:pt x="12520" y="15511"/>
                  <a:pt x="12469" y="15540"/>
                  <a:pt x="12427" y="15553"/>
                </a:cubicBezTo>
                <a:cubicBezTo>
                  <a:pt x="12419" y="15553"/>
                  <a:pt x="12410" y="15553"/>
                  <a:pt x="12402" y="15553"/>
                </a:cubicBezTo>
              </a:path>
              <a:path w="2382" h="1118">
                <a:moveTo>
                  <a:pt x="12849" y="14932"/>
                </a:moveTo>
                <a:cubicBezTo>
                  <a:pt x="12898" y="14981"/>
                  <a:pt x="12944" y="15043"/>
                  <a:pt x="12973" y="15106"/>
                </a:cubicBezTo>
                <a:cubicBezTo>
                  <a:pt x="13026" y="15220"/>
                  <a:pt x="13043" y="15355"/>
                  <a:pt x="13047" y="15478"/>
                </a:cubicBezTo>
                <a:cubicBezTo>
                  <a:pt x="13051" y="15601"/>
                  <a:pt x="13001" y="15663"/>
                  <a:pt x="12923" y="15751"/>
                </a:cubicBezTo>
              </a:path>
              <a:path w="2382" h="1118">
                <a:moveTo>
                  <a:pt x="10988" y="15106"/>
                </a:moveTo>
                <a:cubicBezTo>
                  <a:pt x="10943" y="15106"/>
                  <a:pt x="10929" y="15085"/>
                  <a:pt x="10889" y="15081"/>
                </a:cubicBezTo>
                <a:cubicBezTo>
                  <a:pt x="10837" y="15075"/>
                  <a:pt x="10791" y="15108"/>
                  <a:pt x="10765" y="15156"/>
                </a:cubicBezTo>
                <a:cubicBezTo>
                  <a:pt x="10682" y="15307"/>
                  <a:pt x="10669" y="15458"/>
                  <a:pt x="10666" y="15627"/>
                </a:cubicBezTo>
                <a:cubicBezTo>
                  <a:pt x="10662" y="15820"/>
                  <a:pt x="10669" y="15946"/>
                  <a:pt x="10864" y="16024"/>
                </a:cubicBezTo>
                <a:cubicBezTo>
                  <a:pt x="10897" y="16032"/>
                  <a:pt x="10931" y="16041"/>
                  <a:pt x="10964" y="160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67200" y="5330880"/>
            <a:ext cx="507960" cy="393480"/>
          </a:xfrm>
          <a:custGeom>
            <a:avLst/>
            <a:gdLst/>
            <a:ahLst/>
            <a:rect l="l" t="t" r="r" b="b"/>
            <a:pathLst>
              <a:path w="1414" h="1093">
                <a:moveTo>
                  <a:pt x="13767" y="14932"/>
                </a:moveTo>
                <a:cubicBezTo>
                  <a:pt x="13666" y="15033"/>
                  <a:pt x="13577" y="15110"/>
                  <a:pt x="13543" y="15255"/>
                </a:cubicBezTo>
                <a:cubicBezTo>
                  <a:pt x="13510" y="15393"/>
                  <a:pt x="13474" y="15630"/>
                  <a:pt x="13568" y="15751"/>
                </a:cubicBezTo>
                <a:cubicBezTo>
                  <a:pt x="13633" y="15834"/>
                  <a:pt x="13752" y="15820"/>
                  <a:pt x="13841" y="15825"/>
                </a:cubicBezTo>
              </a:path>
              <a:path w="1414" h="1093">
                <a:moveTo>
                  <a:pt x="14312" y="15156"/>
                </a:moveTo>
                <a:cubicBezTo>
                  <a:pt x="14236" y="15280"/>
                  <a:pt x="14157" y="15399"/>
                  <a:pt x="14089" y="15528"/>
                </a:cubicBezTo>
                <a:cubicBezTo>
                  <a:pt x="14067" y="15570"/>
                  <a:pt x="14048" y="15607"/>
                  <a:pt x="14039" y="15652"/>
                </a:cubicBezTo>
              </a:path>
              <a:path w="1414" h="1093">
                <a:moveTo>
                  <a:pt x="14039" y="15180"/>
                </a:moveTo>
                <a:cubicBezTo>
                  <a:pt x="14048" y="15279"/>
                  <a:pt x="14085" y="15358"/>
                  <a:pt x="14163" y="15429"/>
                </a:cubicBezTo>
                <a:cubicBezTo>
                  <a:pt x="14245" y="15504"/>
                  <a:pt x="14357" y="15519"/>
                  <a:pt x="14461" y="15528"/>
                </a:cubicBezTo>
              </a:path>
              <a:path w="1414" h="1093">
                <a:moveTo>
                  <a:pt x="14610" y="14808"/>
                </a:moveTo>
                <a:cubicBezTo>
                  <a:pt x="14689" y="14936"/>
                  <a:pt x="14751" y="15065"/>
                  <a:pt x="14808" y="15205"/>
                </a:cubicBezTo>
                <a:cubicBezTo>
                  <a:pt x="14869" y="15355"/>
                  <a:pt x="14952" y="15509"/>
                  <a:pt x="14932" y="15677"/>
                </a:cubicBezTo>
                <a:cubicBezTo>
                  <a:pt x="14921" y="15767"/>
                  <a:pt x="14881" y="15832"/>
                  <a:pt x="14833" y="159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84920" y="5133960"/>
            <a:ext cx="142920" cy="162000"/>
          </a:xfrm>
          <a:custGeom>
            <a:avLst/>
            <a:gdLst/>
            <a:ahLst/>
            <a:rect l="l" t="t" r="r" b="b"/>
            <a:pathLst>
              <a:path w="398" h="447">
                <a:moveTo>
                  <a:pt x="16346" y="14263"/>
                </a:moveTo>
                <a:cubicBezTo>
                  <a:pt x="16458" y="14270"/>
                  <a:pt x="16539" y="14296"/>
                  <a:pt x="16644" y="14312"/>
                </a:cubicBezTo>
                <a:cubicBezTo>
                  <a:pt x="16661" y="14312"/>
                  <a:pt x="16677" y="14312"/>
                  <a:pt x="16694" y="14312"/>
                </a:cubicBezTo>
              </a:path>
              <a:path w="398" h="447">
                <a:moveTo>
                  <a:pt x="16396" y="14610"/>
                </a:moveTo>
                <a:cubicBezTo>
                  <a:pt x="16442" y="14724"/>
                  <a:pt x="16448" y="14709"/>
                  <a:pt x="16570" y="14709"/>
                </a:cubicBezTo>
                <a:cubicBezTo>
                  <a:pt x="16652" y="14709"/>
                  <a:pt x="16685" y="14709"/>
                  <a:pt x="16743" y="147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296040" y="5106960"/>
            <a:ext cx="955800" cy="287280"/>
          </a:xfrm>
          <a:custGeom>
            <a:avLst/>
            <a:gdLst/>
            <a:ahLst/>
            <a:rect l="l" t="t" r="r" b="b"/>
            <a:pathLst>
              <a:path w="2655" h="795">
                <a:moveTo>
                  <a:pt x="17562" y="14213"/>
                </a:moveTo>
                <a:cubicBezTo>
                  <a:pt x="17625" y="14185"/>
                  <a:pt x="17664" y="14188"/>
                  <a:pt x="17735" y="14188"/>
                </a:cubicBezTo>
                <a:cubicBezTo>
                  <a:pt x="17760" y="14188"/>
                  <a:pt x="17768" y="14188"/>
                  <a:pt x="17785" y="14188"/>
                </a:cubicBezTo>
                <a:cubicBezTo>
                  <a:pt x="17785" y="14273"/>
                  <a:pt x="17771" y="14298"/>
                  <a:pt x="17711" y="14362"/>
                </a:cubicBezTo>
                <a:cubicBezTo>
                  <a:pt x="17657" y="14420"/>
                  <a:pt x="17613" y="14480"/>
                  <a:pt x="17562" y="14536"/>
                </a:cubicBezTo>
                <a:cubicBezTo>
                  <a:pt x="17554" y="14544"/>
                  <a:pt x="17545" y="14552"/>
                  <a:pt x="17537" y="14560"/>
                </a:cubicBezTo>
                <a:cubicBezTo>
                  <a:pt x="17550" y="14599"/>
                  <a:pt x="17576" y="14586"/>
                  <a:pt x="17611" y="14610"/>
                </a:cubicBezTo>
                <a:cubicBezTo>
                  <a:pt x="17653" y="14638"/>
                  <a:pt x="17661" y="14663"/>
                  <a:pt x="17661" y="14709"/>
                </a:cubicBezTo>
                <a:cubicBezTo>
                  <a:pt x="17661" y="14785"/>
                  <a:pt x="17633" y="14822"/>
                  <a:pt x="17587" y="14883"/>
                </a:cubicBezTo>
                <a:cubicBezTo>
                  <a:pt x="17553" y="14927"/>
                  <a:pt x="17539" y="14969"/>
                  <a:pt x="17487" y="14982"/>
                </a:cubicBezTo>
              </a:path>
              <a:path w="2655" h="795">
                <a:moveTo>
                  <a:pt x="17909" y="14759"/>
                </a:moveTo>
                <a:cubicBezTo>
                  <a:pt x="17901" y="14811"/>
                  <a:pt x="17901" y="14844"/>
                  <a:pt x="17859" y="14858"/>
                </a:cubicBezTo>
                <a:cubicBezTo>
                  <a:pt x="17896" y="14849"/>
                  <a:pt x="17905" y="14837"/>
                  <a:pt x="17934" y="14808"/>
                </a:cubicBezTo>
              </a:path>
              <a:path w="2655" h="795">
                <a:moveTo>
                  <a:pt x="18281" y="14387"/>
                </a:moveTo>
                <a:cubicBezTo>
                  <a:pt x="18237" y="14321"/>
                  <a:pt x="18227" y="14325"/>
                  <a:pt x="18157" y="14362"/>
                </a:cubicBezTo>
                <a:cubicBezTo>
                  <a:pt x="18117" y="14382"/>
                  <a:pt x="18110" y="14391"/>
                  <a:pt x="18083" y="14387"/>
                </a:cubicBezTo>
                <a:cubicBezTo>
                  <a:pt x="18083" y="14445"/>
                  <a:pt x="18103" y="14440"/>
                  <a:pt x="18132" y="14486"/>
                </a:cubicBezTo>
                <a:cubicBezTo>
                  <a:pt x="18179" y="14559"/>
                  <a:pt x="18216" y="14599"/>
                  <a:pt x="18256" y="14684"/>
                </a:cubicBezTo>
                <a:cubicBezTo>
                  <a:pt x="18278" y="14730"/>
                  <a:pt x="18297" y="14812"/>
                  <a:pt x="18306" y="14833"/>
                </a:cubicBezTo>
                <a:cubicBezTo>
                  <a:pt x="18306" y="14841"/>
                  <a:pt x="18306" y="14850"/>
                  <a:pt x="18306" y="14858"/>
                </a:cubicBezTo>
                <a:cubicBezTo>
                  <a:pt x="18277" y="14848"/>
                  <a:pt x="18263" y="14816"/>
                  <a:pt x="18231" y="14784"/>
                </a:cubicBezTo>
                <a:cubicBezTo>
                  <a:pt x="18202" y="14754"/>
                  <a:pt x="18195" y="14678"/>
                  <a:pt x="18207" y="14635"/>
                </a:cubicBezTo>
                <a:cubicBezTo>
                  <a:pt x="18226" y="14569"/>
                  <a:pt x="18330" y="14511"/>
                  <a:pt x="18380" y="14461"/>
                </a:cubicBezTo>
                <a:cubicBezTo>
                  <a:pt x="18420" y="14420"/>
                  <a:pt x="18456" y="14392"/>
                  <a:pt x="18504" y="14362"/>
                </a:cubicBezTo>
              </a:path>
              <a:path w="2655" h="795">
                <a:moveTo>
                  <a:pt x="18703" y="14312"/>
                </a:moveTo>
                <a:cubicBezTo>
                  <a:pt x="18703" y="14423"/>
                  <a:pt x="18670" y="14588"/>
                  <a:pt x="18728" y="14684"/>
                </a:cubicBezTo>
                <a:cubicBezTo>
                  <a:pt x="18753" y="14726"/>
                  <a:pt x="18831" y="14756"/>
                  <a:pt x="18876" y="14759"/>
                </a:cubicBezTo>
                <a:cubicBezTo>
                  <a:pt x="18935" y="14763"/>
                  <a:pt x="18938" y="14747"/>
                  <a:pt x="18976" y="14709"/>
                </a:cubicBezTo>
              </a:path>
              <a:path w="2655" h="795">
                <a:moveTo>
                  <a:pt x="18876" y="14660"/>
                </a:moveTo>
                <a:cubicBezTo>
                  <a:pt x="18783" y="14660"/>
                  <a:pt x="18744" y="14675"/>
                  <a:pt x="18678" y="14635"/>
                </a:cubicBezTo>
                <a:cubicBezTo>
                  <a:pt x="18695" y="14602"/>
                  <a:pt x="18784" y="14533"/>
                  <a:pt x="18827" y="14511"/>
                </a:cubicBezTo>
                <a:cubicBezTo>
                  <a:pt x="18892" y="14477"/>
                  <a:pt x="18959" y="14448"/>
                  <a:pt x="19025" y="14412"/>
                </a:cubicBezTo>
              </a:path>
              <a:path w="2655" h="795">
                <a:moveTo>
                  <a:pt x="18728" y="14387"/>
                </a:moveTo>
                <a:cubicBezTo>
                  <a:pt x="18812" y="14333"/>
                  <a:pt x="18885" y="14302"/>
                  <a:pt x="18976" y="14263"/>
                </a:cubicBezTo>
                <a:cubicBezTo>
                  <a:pt x="19034" y="14238"/>
                  <a:pt x="19091" y="14214"/>
                  <a:pt x="19149" y="14188"/>
                </a:cubicBezTo>
              </a:path>
              <a:path w="2655" h="795">
                <a:moveTo>
                  <a:pt x="19273" y="14486"/>
                </a:moveTo>
                <a:cubicBezTo>
                  <a:pt x="19311" y="14514"/>
                  <a:pt x="19324" y="14511"/>
                  <a:pt x="19372" y="14511"/>
                </a:cubicBezTo>
                <a:cubicBezTo>
                  <a:pt x="19447" y="14511"/>
                  <a:pt x="19505" y="14469"/>
                  <a:pt x="19571" y="14436"/>
                </a:cubicBezTo>
              </a:path>
              <a:path w="2655" h="795">
                <a:moveTo>
                  <a:pt x="20067" y="14238"/>
                </a:moveTo>
                <a:cubicBezTo>
                  <a:pt x="20052" y="14192"/>
                  <a:pt x="19987" y="14206"/>
                  <a:pt x="19943" y="14238"/>
                </a:cubicBezTo>
                <a:cubicBezTo>
                  <a:pt x="19893" y="14274"/>
                  <a:pt x="19806" y="14327"/>
                  <a:pt x="19794" y="14387"/>
                </a:cubicBezTo>
                <a:cubicBezTo>
                  <a:pt x="19794" y="14395"/>
                  <a:pt x="19794" y="14404"/>
                  <a:pt x="19794" y="14412"/>
                </a:cubicBezTo>
                <a:cubicBezTo>
                  <a:pt x="19883" y="14444"/>
                  <a:pt x="19908" y="14430"/>
                  <a:pt x="19993" y="14387"/>
                </a:cubicBezTo>
                <a:cubicBezTo>
                  <a:pt x="20022" y="14372"/>
                  <a:pt x="20127" y="14333"/>
                  <a:pt x="20141" y="14312"/>
                </a:cubicBezTo>
                <a:cubicBezTo>
                  <a:pt x="20141" y="14304"/>
                  <a:pt x="20141" y="14296"/>
                  <a:pt x="20141" y="14288"/>
                </a:cubicBezTo>
                <a:cubicBezTo>
                  <a:pt x="20141" y="14366"/>
                  <a:pt x="20114" y="14411"/>
                  <a:pt x="20092" y="14486"/>
                </a:cubicBezTo>
                <a:cubicBezTo>
                  <a:pt x="20064" y="14581"/>
                  <a:pt x="20042" y="14661"/>
                  <a:pt x="20042" y="14759"/>
                </a:cubicBezTo>
                <a:cubicBezTo>
                  <a:pt x="20042" y="14800"/>
                  <a:pt x="20034" y="14816"/>
                  <a:pt x="20067" y="148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402680" y="5187960"/>
            <a:ext cx="250560" cy="214200"/>
          </a:xfrm>
          <a:custGeom>
            <a:avLst/>
            <a:gdLst/>
            <a:ahLst/>
            <a:rect l="l" t="t" r="r" b="b"/>
            <a:pathLst>
              <a:path w="696" h="596">
                <a:moveTo>
                  <a:pt x="20712" y="14412"/>
                </a:moveTo>
                <a:cubicBezTo>
                  <a:pt x="20745" y="14428"/>
                  <a:pt x="20683" y="14459"/>
                  <a:pt x="20662" y="14511"/>
                </a:cubicBezTo>
                <a:cubicBezTo>
                  <a:pt x="20632" y="14584"/>
                  <a:pt x="20580" y="14683"/>
                  <a:pt x="20563" y="14759"/>
                </a:cubicBezTo>
                <a:cubicBezTo>
                  <a:pt x="20563" y="14775"/>
                  <a:pt x="20563" y="14792"/>
                  <a:pt x="20563" y="14808"/>
                </a:cubicBezTo>
                <a:cubicBezTo>
                  <a:pt x="20609" y="14797"/>
                  <a:pt x="20657" y="14751"/>
                  <a:pt x="20687" y="14709"/>
                </a:cubicBezTo>
                <a:cubicBezTo>
                  <a:pt x="20735" y="14641"/>
                  <a:pt x="20774" y="14561"/>
                  <a:pt x="20811" y="14486"/>
                </a:cubicBezTo>
                <a:cubicBezTo>
                  <a:pt x="20871" y="14506"/>
                  <a:pt x="20820" y="14559"/>
                  <a:pt x="20811" y="14610"/>
                </a:cubicBezTo>
                <a:cubicBezTo>
                  <a:pt x="20802" y="14664"/>
                  <a:pt x="20811" y="14729"/>
                  <a:pt x="20811" y="14784"/>
                </a:cubicBezTo>
                <a:cubicBezTo>
                  <a:pt x="20871" y="14769"/>
                  <a:pt x="20899" y="14736"/>
                  <a:pt x="20935" y="14684"/>
                </a:cubicBezTo>
                <a:cubicBezTo>
                  <a:pt x="20989" y="14606"/>
                  <a:pt x="21052" y="14535"/>
                  <a:pt x="21109" y="14461"/>
                </a:cubicBezTo>
                <a:cubicBezTo>
                  <a:pt x="21131" y="14439"/>
                  <a:pt x="21136" y="14430"/>
                  <a:pt x="21158" y="14436"/>
                </a:cubicBezTo>
                <a:cubicBezTo>
                  <a:pt x="21158" y="14606"/>
                  <a:pt x="21127" y="14794"/>
                  <a:pt x="21208" y="14932"/>
                </a:cubicBezTo>
                <a:cubicBezTo>
                  <a:pt x="21230" y="14976"/>
                  <a:pt x="21233" y="14988"/>
                  <a:pt x="21258" y="150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858080" y="5170320"/>
            <a:ext cx="1036800" cy="339840"/>
          </a:xfrm>
          <a:custGeom>
            <a:avLst/>
            <a:gdLst/>
            <a:ahLst/>
            <a:rect l="l" t="t" r="r" b="b"/>
            <a:pathLst>
              <a:path w="2878" h="943">
                <a:moveTo>
                  <a:pt x="21927" y="14560"/>
                </a:moveTo>
                <a:cubicBezTo>
                  <a:pt x="21927" y="14495"/>
                  <a:pt x="21908" y="14645"/>
                  <a:pt x="21903" y="14660"/>
                </a:cubicBezTo>
                <a:cubicBezTo>
                  <a:pt x="21881" y="14727"/>
                  <a:pt x="21839" y="14797"/>
                  <a:pt x="21828" y="14858"/>
                </a:cubicBezTo>
                <a:cubicBezTo>
                  <a:pt x="21828" y="14875"/>
                  <a:pt x="21828" y="14891"/>
                  <a:pt x="21828" y="14908"/>
                </a:cubicBezTo>
                <a:cubicBezTo>
                  <a:pt x="21851" y="14929"/>
                  <a:pt x="21872" y="14835"/>
                  <a:pt x="21903" y="14784"/>
                </a:cubicBezTo>
                <a:cubicBezTo>
                  <a:pt x="21962" y="14687"/>
                  <a:pt x="21985" y="14591"/>
                  <a:pt x="22027" y="14486"/>
                </a:cubicBezTo>
                <a:cubicBezTo>
                  <a:pt x="22048" y="14434"/>
                  <a:pt x="22040" y="14424"/>
                  <a:pt x="22076" y="14412"/>
                </a:cubicBezTo>
                <a:cubicBezTo>
                  <a:pt x="22101" y="14420"/>
                  <a:pt x="22143" y="14469"/>
                  <a:pt x="22151" y="14511"/>
                </a:cubicBezTo>
                <a:cubicBezTo>
                  <a:pt x="22166" y="14593"/>
                  <a:pt x="22187" y="14679"/>
                  <a:pt x="22200" y="14759"/>
                </a:cubicBezTo>
                <a:cubicBezTo>
                  <a:pt x="22205" y="14789"/>
                  <a:pt x="22200" y="14827"/>
                  <a:pt x="22200" y="14858"/>
                </a:cubicBezTo>
              </a:path>
              <a:path w="2878" h="943">
                <a:moveTo>
                  <a:pt x="21878" y="14734"/>
                </a:moveTo>
                <a:cubicBezTo>
                  <a:pt x="21931" y="14654"/>
                  <a:pt x="21936" y="14703"/>
                  <a:pt x="22027" y="14684"/>
                </a:cubicBezTo>
                <a:cubicBezTo>
                  <a:pt x="22095" y="14670"/>
                  <a:pt x="22131" y="14660"/>
                  <a:pt x="22200" y="14660"/>
                </a:cubicBezTo>
              </a:path>
              <a:path w="2878" h="943">
                <a:moveTo>
                  <a:pt x="22572" y="14759"/>
                </a:moveTo>
                <a:cubicBezTo>
                  <a:pt x="22524" y="14759"/>
                  <a:pt x="22484" y="14761"/>
                  <a:pt x="22448" y="14784"/>
                </a:cubicBezTo>
                <a:cubicBezTo>
                  <a:pt x="22414" y="14806"/>
                  <a:pt x="22378" y="14846"/>
                  <a:pt x="22374" y="14883"/>
                </a:cubicBezTo>
                <a:cubicBezTo>
                  <a:pt x="22374" y="14908"/>
                  <a:pt x="22374" y="14916"/>
                  <a:pt x="22374" y="14932"/>
                </a:cubicBezTo>
                <a:cubicBezTo>
                  <a:pt x="22419" y="14932"/>
                  <a:pt x="22438" y="14938"/>
                  <a:pt x="22473" y="14908"/>
                </a:cubicBezTo>
                <a:cubicBezTo>
                  <a:pt x="22500" y="14884"/>
                  <a:pt x="22547" y="14859"/>
                  <a:pt x="22572" y="14908"/>
                </a:cubicBezTo>
                <a:cubicBezTo>
                  <a:pt x="22597" y="14957"/>
                  <a:pt x="22541" y="15064"/>
                  <a:pt x="22523" y="15106"/>
                </a:cubicBezTo>
                <a:cubicBezTo>
                  <a:pt x="22497" y="15166"/>
                  <a:pt x="22466" y="15232"/>
                  <a:pt x="22423" y="15280"/>
                </a:cubicBezTo>
                <a:cubicBezTo>
                  <a:pt x="22415" y="15288"/>
                  <a:pt x="22407" y="15296"/>
                  <a:pt x="22399" y="15304"/>
                </a:cubicBezTo>
                <a:cubicBezTo>
                  <a:pt x="22399" y="15268"/>
                  <a:pt x="22409" y="15209"/>
                  <a:pt x="22423" y="15180"/>
                </a:cubicBezTo>
                <a:cubicBezTo>
                  <a:pt x="22442" y="15143"/>
                  <a:pt x="22493" y="15111"/>
                  <a:pt x="22523" y="15081"/>
                </a:cubicBezTo>
              </a:path>
              <a:path w="2878" h="943">
                <a:moveTo>
                  <a:pt x="23118" y="14387"/>
                </a:moveTo>
                <a:cubicBezTo>
                  <a:pt x="23076" y="14355"/>
                  <a:pt x="23050" y="14362"/>
                  <a:pt x="22994" y="14362"/>
                </a:cubicBezTo>
                <a:cubicBezTo>
                  <a:pt x="22927" y="14362"/>
                  <a:pt x="22898" y="14366"/>
                  <a:pt x="22845" y="14412"/>
                </a:cubicBezTo>
                <a:cubicBezTo>
                  <a:pt x="22804" y="14448"/>
                  <a:pt x="22815" y="14492"/>
                  <a:pt x="22845" y="14536"/>
                </a:cubicBezTo>
                <a:cubicBezTo>
                  <a:pt x="22879" y="14585"/>
                  <a:pt x="22935" y="14604"/>
                  <a:pt x="22969" y="14660"/>
                </a:cubicBezTo>
                <a:cubicBezTo>
                  <a:pt x="23002" y="14714"/>
                  <a:pt x="23005" y="14754"/>
                  <a:pt x="22969" y="14808"/>
                </a:cubicBezTo>
                <a:cubicBezTo>
                  <a:pt x="22941" y="14850"/>
                  <a:pt x="22889" y="14897"/>
                  <a:pt x="22845" y="14908"/>
                </a:cubicBezTo>
              </a:path>
              <a:path w="2878" h="943">
                <a:moveTo>
                  <a:pt x="23118" y="14833"/>
                </a:moveTo>
                <a:cubicBezTo>
                  <a:pt x="23159" y="14833"/>
                  <a:pt x="23201" y="14833"/>
                  <a:pt x="23242" y="14833"/>
                </a:cubicBezTo>
                <a:cubicBezTo>
                  <a:pt x="23242" y="14882"/>
                  <a:pt x="23247" y="14912"/>
                  <a:pt x="23217" y="14957"/>
                </a:cubicBezTo>
                <a:cubicBezTo>
                  <a:pt x="23192" y="14994"/>
                  <a:pt x="23168" y="15023"/>
                  <a:pt x="23143" y="15056"/>
                </a:cubicBezTo>
                <a:cubicBezTo>
                  <a:pt x="23196" y="15056"/>
                  <a:pt x="23225" y="15041"/>
                  <a:pt x="23267" y="15032"/>
                </a:cubicBezTo>
                <a:cubicBezTo>
                  <a:pt x="23283" y="15032"/>
                  <a:pt x="23300" y="15032"/>
                  <a:pt x="23316" y="15032"/>
                </a:cubicBezTo>
              </a:path>
              <a:path w="2878" h="943">
                <a:moveTo>
                  <a:pt x="23738" y="14536"/>
                </a:moveTo>
                <a:cubicBezTo>
                  <a:pt x="23653" y="14548"/>
                  <a:pt x="23654" y="14582"/>
                  <a:pt x="23614" y="14660"/>
                </a:cubicBezTo>
                <a:cubicBezTo>
                  <a:pt x="23567" y="14752"/>
                  <a:pt x="23567" y="14764"/>
                  <a:pt x="23589" y="14858"/>
                </a:cubicBezTo>
                <a:cubicBezTo>
                  <a:pt x="23597" y="14891"/>
                  <a:pt x="23647" y="14931"/>
                  <a:pt x="23688" y="14908"/>
                </a:cubicBezTo>
                <a:cubicBezTo>
                  <a:pt x="23773" y="14860"/>
                  <a:pt x="23770" y="14811"/>
                  <a:pt x="23788" y="14734"/>
                </a:cubicBezTo>
                <a:cubicBezTo>
                  <a:pt x="23810" y="14640"/>
                  <a:pt x="23812" y="14559"/>
                  <a:pt x="23812" y="14461"/>
                </a:cubicBezTo>
                <a:cubicBezTo>
                  <a:pt x="23812" y="14445"/>
                  <a:pt x="23788" y="14325"/>
                  <a:pt x="23788" y="14387"/>
                </a:cubicBezTo>
                <a:cubicBezTo>
                  <a:pt x="23788" y="14420"/>
                  <a:pt x="23788" y="14436"/>
                  <a:pt x="23788" y="14461"/>
                </a:cubicBezTo>
              </a:path>
              <a:path w="2878" h="943">
                <a:moveTo>
                  <a:pt x="24036" y="14833"/>
                </a:moveTo>
                <a:cubicBezTo>
                  <a:pt x="24079" y="14833"/>
                  <a:pt x="24095" y="14839"/>
                  <a:pt x="24110" y="14883"/>
                </a:cubicBezTo>
                <a:cubicBezTo>
                  <a:pt x="24110" y="14891"/>
                  <a:pt x="24110" y="14900"/>
                  <a:pt x="24110" y="14908"/>
                </a:cubicBezTo>
                <a:cubicBezTo>
                  <a:pt x="24071" y="14917"/>
                  <a:pt x="24021" y="14956"/>
                  <a:pt x="23986" y="14982"/>
                </a:cubicBezTo>
                <a:cubicBezTo>
                  <a:pt x="23978" y="14990"/>
                  <a:pt x="23969" y="14999"/>
                  <a:pt x="23961" y="15007"/>
                </a:cubicBezTo>
                <a:cubicBezTo>
                  <a:pt x="23999" y="15007"/>
                  <a:pt x="24065" y="14991"/>
                  <a:pt x="24085" y="15032"/>
                </a:cubicBezTo>
                <a:cubicBezTo>
                  <a:pt x="24103" y="15068"/>
                  <a:pt x="24075" y="15106"/>
                  <a:pt x="24061" y="15131"/>
                </a:cubicBezTo>
                <a:cubicBezTo>
                  <a:pt x="24031" y="15183"/>
                  <a:pt x="24001" y="15235"/>
                  <a:pt x="23961" y="15280"/>
                </a:cubicBezTo>
                <a:cubicBezTo>
                  <a:pt x="23930" y="15315"/>
                  <a:pt x="23900" y="15316"/>
                  <a:pt x="23887" y="15280"/>
                </a:cubicBezTo>
              </a:path>
              <a:path w="2878" h="943">
                <a:moveTo>
                  <a:pt x="24433" y="14436"/>
                </a:moveTo>
                <a:cubicBezTo>
                  <a:pt x="24416" y="14436"/>
                  <a:pt x="24400" y="14436"/>
                  <a:pt x="24383" y="14436"/>
                </a:cubicBezTo>
                <a:cubicBezTo>
                  <a:pt x="24392" y="14463"/>
                  <a:pt x="24417" y="14483"/>
                  <a:pt x="24457" y="14486"/>
                </a:cubicBezTo>
                <a:cubicBezTo>
                  <a:pt x="24542" y="14492"/>
                  <a:pt x="24634" y="14485"/>
                  <a:pt x="24681" y="14461"/>
                </a:cubicBezTo>
                <a:cubicBezTo>
                  <a:pt x="24689" y="14461"/>
                  <a:pt x="24697" y="14461"/>
                  <a:pt x="24705" y="144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724200" y="5205240"/>
            <a:ext cx="1714680" cy="911520"/>
          </a:xfrm>
          <a:custGeom>
            <a:avLst/>
            <a:gdLst/>
            <a:ahLst/>
            <a:rect l="l" t="t" r="r" b="b"/>
            <a:pathLst>
              <a:path w="4763" h="2531">
                <a:moveTo>
                  <a:pt x="10344" y="14585"/>
                </a:moveTo>
                <a:cubicBezTo>
                  <a:pt x="10627" y="14585"/>
                  <a:pt x="10907" y="14603"/>
                  <a:pt x="11187" y="14610"/>
                </a:cubicBezTo>
                <a:cubicBezTo>
                  <a:pt x="11328" y="14614"/>
                  <a:pt x="11466" y="14585"/>
                  <a:pt x="11609" y="14585"/>
                </a:cubicBezTo>
                <a:cubicBezTo>
                  <a:pt x="11760" y="14585"/>
                  <a:pt x="11902" y="14560"/>
                  <a:pt x="12055" y="14560"/>
                </a:cubicBezTo>
                <a:cubicBezTo>
                  <a:pt x="12197" y="14560"/>
                  <a:pt x="12334" y="14536"/>
                  <a:pt x="12477" y="14536"/>
                </a:cubicBezTo>
                <a:cubicBezTo>
                  <a:pt x="12728" y="14536"/>
                  <a:pt x="12974" y="14529"/>
                  <a:pt x="13221" y="14511"/>
                </a:cubicBezTo>
                <a:cubicBezTo>
                  <a:pt x="13371" y="14500"/>
                  <a:pt x="13517" y="14473"/>
                  <a:pt x="13667" y="14461"/>
                </a:cubicBezTo>
                <a:cubicBezTo>
                  <a:pt x="14024" y="14433"/>
                  <a:pt x="14408" y="14453"/>
                  <a:pt x="14759" y="14486"/>
                </a:cubicBezTo>
                <a:cubicBezTo>
                  <a:pt x="14871" y="14497"/>
                  <a:pt x="14975" y="14492"/>
                  <a:pt x="15081" y="14511"/>
                </a:cubicBezTo>
                <a:cubicBezTo>
                  <a:pt x="15048" y="14511"/>
                  <a:pt x="15065" y="14511"/>
                  <a:pt x="15032" y="14511"/>
                </a:cubicBezTo>
                <a:cubicBezTo>
                  <a:pt x="15007" y="14511"/>
                  <a:pt x="14999" y="14511"/>
                  <a:pt x="14982" y="14511"/>
                </a:cubicBezTo>
              </a:path>
              <a:path w="4763" h="2531">
                <a:moveTo>
                  <a:pt x="10418" y="16991"/>
                </a:moveTo>
                <a:cubicBezTo>
                  <a:pt x="10441" y="16982"/>
                  <a:pt x="10463" y="16975"/>
                  <a:pt x="10517" y="16966"/>
                </a:cubicBezTo>
                <a:cubicBezTo>
                  <a:pt x="10628" y="16947"/>
                  <a:pt x="10747" y="16903"/>
                  <a:pt x="10864" y="16892"/>
                </a:cubicBezTo>
                <a:cubicBezTo>
                  <a:pt x="11045" y="16875"/>
                  <a:pt x="11229" y="16852"/>
                  <a:pt x="11410" y="16842"/>
                </a:cubicBezTo>
                <a:cubicBezTo>
                  <a:pt x="11649" y="16829"/>
                  <a:pt x="11890" y="16832"/>
                  <a:pt x="12129" y="16818"/>
                </a:cubicBezTo>
                <a:cubicBezTo>
                  <a:pt x="12395" y="16802"/>
                  <a:pt x="12658" y="16833"/>
                  <a:pt x="12923" y="16793"/>
                </a:cubicBezTo>
                <a:cubicBezTo>
                  <a:pt x="13117" y="16764"/>
                  <a:pt x="13323" y="16731"/>
                  <a:pt x="13519" y="16718"/>
                </a:cubicBezTo>
                <a:cubicBezTo>
                  <a:pt x="13730" y="16704"/>
                  <a:pt x="13929" y="16679"/>
                  <a:pt x="14139" y="16644"/>
                </a:cubicBezTo>
                <a:cubicBezTo>
                  <a:pt x="14317" y="16614"/>
                  <a:pt x="14480" y="16594"/>
                  <a:pt x="14660" y="16594"/>
                </a:cubicBezTo>
                <a:cubicBezTo>
                  <a:pt x="14674" y="16594"/>
                  <a:pt x="14897" y="16582"/>
                  <a:pt x="14883" y="16619"/>
                </a:cubicBezTo>
                <a:cubicBezTo>
                  <a:pt x="14863" y="16671"/>
                  <a:pt x="14871" y="16623"/>
                  <a:pt x="14808" y="166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0" y="5626080"/>
            <a:ext cx="1204920" cy="517680"/>
          </a:xfrm>
          <a:custGeom>
            <a:avLst/>
            <a:gdLst/>
            <a:ahLst/>
            <a:rect l="l" t="t" r="r" b="b"/>
            <a:pathLst>
              <a:path w="3350" h="1440">
                <a:moveTo>
                  <a:pt x="16098" y="16321"/>
                </a:moveTo>
                <a:cubicBezTo>
                  <a:pt x="16206" y="16321"/>
                  <a:pt x="16313" y="16321"/>
                  <a:pt x="16421" y="16321"/>
                </a:cubicBezTo>
              </a:path>
              <a:path w="3350" h="1440">
                <a:moveTo>
                  <a:pt x="16321" y="16470"/>
                </a:moveTo>
                <a:cubicBezTo>
                  <a:pt x="16315" y="16491"/>
                  <a:pt x="16264" y="16602"/>
                  <a:pt x="16321" y="16619"/>
                </a:cubicBezTo>
                <a:cubicBezTo>
                  <a:pt x="16405" y="16645"/>
                  <a:pt x="16494" y="16596"/>
                  <a:pt x="16570" y="16570"/>
                </a:cubicBezTo>
                <a:cubicBezTo>
                  <a:pt x="16595" y="16562"/>
                  <a:pt x="16619" y="16553"/>
                  <a:pt x="16644" y="16545"/>
                </a:cubicBezTo>
              </a:path>
              <a:path w="3350" h="1440">
                <a:moveTo>
                  <a:pt x="17537" y="16073"/>
                </a:moveTo>
                <a:cubicBezTo>
                  <a:pt x="17521" y="16153"/>
                  <a:pt x="17486" y="16241"/>
                  <a:pt x="17462" y="16321"/>
                </a:cubicBezTo>
                <a:cubicBezTo>
                  <a:pt x="17442" y="16390"/>
                  <a:pt x="17417" y="16455"/>
                  <a:pt x="17388" y="16520"/>
                </a:cubicBezTo>
                <a:cubicBezTo>
                  <a:pt x="17388" y="16583"/>
                  <a:pt x="17425" y="16396"/>
                  <a:pt x="17438" y="16371"/>
                </a:cubicBezTo>
                <a:cubicBezTo>
                  <a:pt x="17500" y="16250"/>
                  <a:pt x="17528" y="16133"/>
                  <a:pt x="17562" y="15999"/>
                </a:cubicBezTo>
                <a:cubicBezTo>
                  <a:pt x="17585" y="15906"/>
                  <a:pt x="17622" y="15803"/>
                  <a:pt x="17661" y="15726"/>
                </a:cubicBezTo>
                <a:cubicBezTo>
                  <a:pt x="17696" y="15738"/>
                  <a:pt x="17707" y="15851"/>
                  <a:pt x="17711" y="15900"/>
                </a:cubicBezTo>
                <a:cubicBezTo>
                  <a:pt x="17724" y="16057"/>
                  <a:pt x="17747" y="16215"/>
                  <a:pt x="17760" y="16371"/>
                </a:cubicBezTo>
                <a:cubicBezTo>
                  <a:pt x="17760" y="16454"/>
                  <a:pt x="17760" y="16470"/>
                  <a:pt x="17760" y="16520"/>
                </a:cubicBezTo>
              </a:path>
              <a:path w="3350" h="1440">
                <a:moveTo>
                  <a:pt x="17512" y="16321"/>
                </a:moveTo>
                <a:cubicBezTo>
                  <a:pt x="17616" y="16321"/>
                  <a:pt x="17709" y="16301"/>
                  <a:pt x="17810" y="16272"/>
                </a:cubicBezTo>
                <a:cubicBezTo>
                  <a:pt x="17884" y="16247"/>
                  <a:pt x="17909" y="16238"/>
                  <a:pt x="17959" y="16222"/>
                </a:cubicBezTo>
              </a:path>
              <a:path w="3350" h="1440">
                <a:moveTo>
                  <a:pt x="18107" y="16173"/>
                </a:moveTo>
                <a:cubicBezTo>
                  <a:pt x="18068" y="16253"/>
                  <a:pt x="18004" y="16288"/>
                  <a:pt x="17983" y="16371"/>
                </a:cubicBezTo>
                <a:cubicBezTo>
                  <a:pt x="17966" y="16438"/>
                  <a:pt x="17995" y="16516"/>
                  <a:pt x="18033" y="16570"/>
                </a:cubicBezTo>
                <a:cubicBezTo>
                  <a:pt x="18083" y="16642"/>
                  <a:pt x="18103" y="16677"/>
                  <a:pt x="18107" y="16768"/>
                </a:cubicBezTo>
                <a:cubicBezTo>
                  <a:pt x="18110" y="16841"/>
                  <a:pt x="18079" y="16893"/>
                  <a:pt x="18008" y="16917"/>
                </a:cubicBezTo>
                <a:cubicBezTo>
                  <a:pt x="17934" y="16942"/>
                  <a:pt x="17913" y="16904"/>
                  <a:pt x="17909" y="16842"/>
                </a:cubicBezTo>
                <a:cubicBezTo>
                  <a:pt x="17904" y="16756"/>
                  <a:pt x="17969" y="16695"/>
                  <a:pt x="18033" y="16644"/>
                </a:cubicBezTo>
                <a:cubicBezTo>
                  <a:pt x="18058" y="16627"/>
                  <a:pt x="18082" y="16611"/>
                  <a:pt x="18107" y="16594"/>
                </a:cubicBezTo>
              </a:path>
              <a:path w="3350" h="1440">
                <a:moveTo>
                  <a:pt x="18380" y="15776"/>
                </a:moveTo>
                <a:cubicBezTo>
                  <a:pt x="18380" y="15801"/>
                  <a:pt x="18380" y="15809"/>
                  <a:pt x="18380" y="15825"/>
                </a:cubicBezTo>
                <a:cubicBezTo>
                  <a:pt x="18434" y="15819"/>
                  <a:pt x="18450" y="15825"/>
                  <a:pt x="18504" y="15801"/>
                </a:cubicBezTo>
                <a:cubicBezTo>
                  <a:pt x="18548" y="15782"/>
                  <a:pt x="18630" y="15746"/>
                  <a:pt x="18678" y="15751"/>
                </a:cubicBezTo>
                <a:cubicBezTo>
                  <a:pt x="18742" y="15757"/>
                  <a:pt x="18725" y="15797"/>
                  <a:pt x="18728" y="15850"/>
                </a:cubicBezTo>
                <a:cubicBezTo>
                  <a:pt x="18741" y="16077"/>
                  <a:pt x="18690" y="16326"/>
                  <a:pt x="18752" y="16545"/>
                </a:cubicBezTo>
                <a:cubicBezTo>
                  <a:pt x="18777" y="16632"/>
                  <a:pt x="18777" y="16702"/>
                  <a:pt x="18777" y="16793"/>
                </a:cubicBezTo>
                <a:cubicBezTo>
                  <a:pt x="18777" y="16861"/>
                  <a:pt x="18764" y="16956"/>
                  <a:pt x="18728" y="17016"/>
                </a:cubicBezTo>
                <a:cubicBezTo>
                  <a:pt x="18714" y="17039"/>
                  <a:pt x="18653" y="17067"/>
                  <a:pt x="18628" y="17066"/>
                </a:cubicBezTo>
                <a:cubicBezTo>
                  <a:pt x="18600" y="17066"/>
                  <a:pt x="18590" y="17063"/>
                  <a:pt x="18579" y="17041"/>
                </a:cubicBezTo>
              </a:path>
              <a:path w="3350" h="1440">
                <a:moveTo>
                  <a:pt x="17363" y="15652"/>
                </a:moveTo>
                <a:cubicBezTo>
                  <a:pt x="17345" y="15641"/>
                  <a:pt x="17339" y="15615"/>
                  <a:pt x="17289" y="15627"/>
                </a:cubicBezTo>
                <a:cubicBezTo>
                  <a:pt x="17247" y="15637"/>
                  <a:pt x="17226" y="15656"/>
                  <a:pt x="17190" y="15677"/>
                </a:cubicBezTo>
                <a:cubicBezTo>
                  <a:pt x="17141" y="15706"/>
                  <a:pt x="17101" y="15719"/>
                  <a:pt x="17090" y="15776"/>
                </a:cubicBezTo>
                <a:cubicBezTo>
                  <a:pt x="17079" y="15834"/>
                  <a:pt x="17086" y="15899"/>
                  <a:pt x="17115" y="15949"/>
                </a:cubicBezTo>
                <a:cubicBezTo>
                  <a:pt x="17180" y="16064"/>
                  <a:pt x="17203" y="16164"/>
                  <a:pt x="17214" y="16297"/>
                </a:cubicBezTo>
                <a:cubicBezTo>
                  <a:pt x="17224" y="16424"/>
                  <a:pt x="17178" y="16547"/>
                  <a:pt x="17165" y="16669"/>
                </a:cubicBezTo>
                <a:cubicBezTo>
                  <a:pt x="17158" y="16738"/>
                  <a:pt x="17153" y="16831"/>
                  <a:pt x="17190" y="16892"/>
                </a:cubicBezTo>
                <a:cubicBezTo>
                  <a:pt x="17219" y="16941"/>
                  <a:pt x="17272" y="16959"/>
                  <a:pt x="17314" y="16991"/>
                </a:cubicBezTo>
                <a:cubicBezTo>
                  <a:pt x="17371" y="17034"/>
                  <a:pt x="17414" y="17062"/>
                  <a:pt x="17487" y="17066"/>
                </a:cubicBezTo>
                <a:cubicBezTo>
                  <a:pt x="17504" y="17066"/>
                  <a:pt x="17520" y="17066"/>
                  <a:pt x="17537" y="17066"/>
                </a:cubicBezTo>
              </a:path>
              <a:path w="3350" h="1440">
                <a:moveTo>
                  <a:pt x="19174" y="16346"/>
                </a:moveTo>
                <a:cubicBezTo>
                  <a:pt x="19174" y="16338"/>
                  <a:pt x="19174" y="16329"/>
                  <a:pt x="19174" y="16321"/>
                </a:cubicBezTo>
                <a:cubicBezTo>
                  <a:pt x="19246" y="16321"/>
                  <a:pt x="19305" y="16308"/>
                  <a:pt x="19372" y="16297"/>
                </a:cubicBezTo>
                <a:cubicBezTo>
                  <a:pt x="19414" y="16297"/>
                  <a:pt x="19422" y="16297"/>
                  <a:pt x="19447" y="16297"/>
                </a:cubicBezTo>
              </a:path>
              <a:path w="3350" h="1440">
                <a:moveTo>
                  <a:pt x="19298" y="16570"/>
                </a:moveTo>
                <a:cubicBezTo>
                  <a:pt x="19298" y="16578"/>
                  <a:pt x="19298" y="16586"/>
                  <a:pt x="19298" y="16594"/>
                </a:cubicBezTo>
                <a:cubicBezTo>
                  <a:pt x="19352" y="16594"/>
                  <a:pt x="19394" y="16576"/>
                  <a:pt x="19447" y="165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161120" y="5884920"/>
            <a:ext cx="795600" cy="268200"/>
          </a:xfrm>
          <a:custGeom>
            <a:avLst/>
            <a:gdLst/>
            <a:ahLst/>
            <a:rect l="l" t="t" r="r" b="b"/>
            <a:pathLst>
              <a:path w="2209" h="745">
                <a:moveTo>
                  <a:pt x="20117" y="16346"/>
                </a:moveTo>
                <a:cubicBezTo>
                  <a:pt x="20103" y="16414"/>
                  <a:pt x="20062" y="16476"/>
                  <a:pt x="20042" y="16545"/>
                </a:cubicBezTo>
                <a:cubicBezTo>
                  <a:pt x="20006" y="16670"/>
                  <a:pt x="19963" y="16773"/>
                  <a:pt x="19918" y="16892"/>
                </a:cubicBezTo>
                <a:cubicBezTo>
                  <a:pt x="19896" y="16957"/>
                  <a:pt x="19888" y="16972"/>
                  <a:pt x="19893" y="17016"/>
                </a:cubicBezTo>
              </a:path>
              <a:path w="2209" h="745">
                <a:moveTo>
                  <a:pt x="20315" y="16917"/>
                </a:moveTo>
                <a:cubicBezTo>
                  <a:pt x="20274" y="16964"/>
                  <a:pt x="20237" y="16973"/>
                  <a:pt x="20290" y="16991"/>
                </a:cubicBezTo>
              </a:path>
              <a:path w="2209" h="745">
                <a:moveTo>
                  <a:pt x="20836" y="16594"/>
                </a:moveTo>
                <a:cubicBezTo>
                  <a:pt x="20742" y="16571"/>
                  <a:pt x="20690" y="16550"/>
                  <a:pt x="20613" y="16619"/>
                </a:cubicBezTo>
                <a:cubicBezTo>
                  <a:pt x="20553" y="16673"/>
                  <a:pt x="20610" y="16731"/>
                  <a:pt x="20662" y="16768"/>
                </a:cubicBezTo>
                <a:cubicBezTo>
                  <a:pt x="20702" y="16797"/>
                  <a:pt x="20818" y="16816"/>
                  <a:pt x="20836" y="16867"/>
                </a:cubicBezTo>
                <a:cubicBezTo>
                  <a:pt x="20855" y="16921"/>
                  <a:pt x="20775" y="17012"/>
                  <a:pt x="20737" y="17041"/>
                </a:cubicBezTo>
                <a:cubicBezTo>
                  <a:pt x="20699" y="17070"/>
                  <a:pt x="20679" y="17066"/>
                  <a:pt x="20638" y="17066"/>
                </a:cubicBezTo>
                <a:cubicBezTo>
                  <a:pt x="20696" y="16972"/>
                  <a:pt x="20769" y="16883"/>
                  <a:pt x="20836" y="16793"/>
                </a:cubicBezTo>
                <a:cubicBezTo>
                  <a:pt x="20910" y="16693"/>
                  <a:pt x="20975" y="16586"/>
                  <a:pt x="21059" y="16495"/>
                </a:cubicBezTo>
                <a:cubicBezTo>
                  <a:pt x="21067" y="16487"/>
                  <a:pt x="21076" y="16478"/>
                  <a:pt x="21084" y="16470"/>
                </a:cubicBezTo>
              </a:path>
              <a:path w="2209" h="745">
                <a:moveTo>
                  <a:pt x="21332" y="16669"/>
                </a:moveTo>
                <a:cubicBezTo>
                  <a:pt x="21305" y="16763"/>
                  <a:pt x="21272" y="16852"/>
                  <a:pt x="21233" y="16942"/>
                </a:cubicBezTo>
                <a:cubicBezTo>
                  <a:pt x="21201" y="17016"/>
                  <a:pt x="21185" y="17081"/>
                  <a:pt x="21282" y="17090"/>
                </a:cubicBezTo>
                <a:cubicBezTo>
                  <a:pt x="21367" y="17098"/>
                  <a:pt x="21449" y="17063"/>
                  <a:pt x="21530" y="17041"/>
                </a:cubicBezTo>
              </a:path>
              <a:path w="2209" h="745">
                <a:moveTo>
                  <a:pt x="21282" y="16867"/>
                </a:moveTo>
                <a:cubicBezTo>
                  <a:pt x="21266" y="16867"/>
                  <a:pt x="21249" y="16867"/>
                  <a:pt x="21233" y="16867"/>
                </a:cubicBezTo>
                <a:cubicBezTo>
                  <a:pt x="21312" y="16804"/>
                  <a:pt x="21408" y="16793"/>
                  <a:pt x="21506" y="16768"/>
                </a:cubicBezTo>
              </a:path>
              <a:path w="2209" h="745">
                <a:moveTo>
                  <a:pt x="21481" y="16619"/>
                </a:moveTo>
                <a:cubicBezTo>
                  <a:pt x="21423" y="16600"/>
                  <a:pt x="21398" y="16610"/>
                  <a:pt x="21406" y="16570"/>
                </a:cubicBezTo>
                <a:cubicBezTo>
                  <a:pt x="21496" y="16530"/>
                  <a:pt x="21605" y="16482"/>
                  <a:pt x="21704" y="16470"/>
                </a:cubicBezTo>
                <a:cubicBezTo>
                  <a:pt x="21737" y="16470"/>
                  <a:pt x="21770" y="16470"/>
                  <a:pt x="21803" y="16470"/>
                </a:cubicBezTo>
              </a:path>
              <a:path w="2209" h="745">
                <a:moveTo>
                  <a:pt x="21853" y="16768"/>
                </a:moveTo>
                <a:cubicBezTo>
                  <a:pt x="21907" y="16760"/>
                  <a:pt x="21949" y="16739"/>
                  <a:pt x="22002" y="16718"/>
                </a:cubicBezTo>
                <a:cubicBezTo>
                  <a:pt x="22050" y="16695"/>
                  <a:pt x="22064" y="16687"/>
                  <a:pt x="22101" y="166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072280" y="5983200"/>
            <a:ext cx="660600" cy="330120"/>
          </a:xfrm>
          <a:custGeom>
            <a:avLst/>
            <a:gdLst/>
            <a:ahLst/>
            <a:rect l="l" t="t" r="r" b="b"/>
            <a:pathLst>
              <a:path w="1837" h="919">
                <a:moveTo>
                  <a:pt x="22597" y="16619"/>
                </a:moveTo>
                <a:cubicBezTo>
                  <a:pt x="22557" y="16672"/>
                  <a:pt x="22542" y="16751"/>
                  <a:pt x="22523" y="16818"/>
                </a:cubicBezTo>
                <a:cubicBezTo>
                  <a:pt x="22496" y="16914"/>
                  <a:pt x="22477" y="17023"/>
                  <a:pt x="22448" y="17115"/>
                </a:cubicBezTo>
                <a:cubicBezTo>
                  <a:pt x="22440" y="17132"/>
                  <a:pt x="22431" y="17148"/>
                  <a:pt x="22423" y="17165"/>
                </a:cubicBezTo>
              </a:path>
              <a:path w="1837" h="919">
                <a:moveTo>
                  <a:pt x="22920" y="16842"/>
                </a:moveTo>
                <a:cubicBezTo>
                  <a:pt x="22830" y="16818"/>
                  <a:pt x="22794" y="16802"/>
                  <a:pt x="22721" y="16867"/>
                </a:cubicBezTo>
                <a:cubicBezTo>
                  <a:pt x="22652" y="16929"/>
                  <a:pt x="22720" y="16981"/>
                  <a:pt x="22771" y="17016"/>
                </a:cubicBezTo>
                <a:cubicBezTo>
                  <a:pt x="22831" y="17057"/>
                  <a:pt x="22984" y="17100"/>
                  <a:pt x="23019" y="17165"/>
                </a:cubicBezTo>
                <a:cubicBezTo>
                  <a:pt x="23019" y="17181"/>
                  <a:pt x="23019" y="17198"/>
                  <a:pt x="23019" y="17214"/>
                </a:cubicBezTo>
                <a:cubicBezTo>
                  <a:pt x="22965" y="17262"/>
                  <a:pt x="22895" y="17322"/>
                  <a:pt x="22820" y="17338"/>
                </a:cubicBezTo>
                <a:cubicBezTo>
                  <a:pt x="22804" y="17338"/>
                  <a:pt x="22787" y="17338"/>
                  <a:pt x="22771" y="17338"/>
                </a:cubicBezTo>
                <a:cubicBezTo>
                  <a:pt x="22788" y="17254"/>
                  <a:pt x="22828" y="17198"/>
                  <a:pt x="22895" y="17140"/>
                </a:cubicBezTo>
                <a:cubicBezTo>
                  <a:pt x="23007" y="17043"/>
                  <a:pt x="23117" y="16969"/>
                  <a:pt x="23242" y="16892"/>
                </a:cubicBezTo>
              </a:path>
              <a:path w="1837" h="919">
                <a:moveTo>
                  <a:pt x="23540" y="16966"/>
                </a:moveTo>
                <a:cubicBezTo>
                  <a:pt x="23540" y="17082"/>
                  <a:pt x="23505" y="17075"/>
                  <a:pt x="23440" y="17165"/>
                </a:cubicBezTo>
                <a:cubicBezTo>
                  <a:pt x="23395" y="17228"/>
                  <a:pt x="23365" y="17303"/>
                  <a:pt x="23316" y="17363"/>
                </a:cubicBezTo>
                <a:cubicBezTo>
                  <a:pt x="23378" y="17348"/>
                  <a:pt x="23469" y="17255"/>
                  <a:pt x="23515" y="17214"/>
                </a:cubicBezTo>
                <a:cubicBezTo>
                  <a:pt x="23610" y="17129"/>
                  <a:pt x="23697" y="17032"/>
                  <a:pt x="23788" y="16942"/>
                </a:cubicBezTo>
                <a:cubicBezTo>
                  <a:pt x="23860" y="16892"/>
                  <a:pt x="23755" y="17038"/>
                  <a:pt x="23738" y="17066"/>
                </a:cubicBezTo>
                <a:cubicBezTo>
                  <a:pt x="23694" y="17142"/>
                  <a:pt x="23631" y="17203"/>
                  <a:pt x="23614" y="17289"/>
                </a:cubicBezTo>
                <a:cubicBezTo>
                  <a:pt x="23704" y="17289"/>
                  <a:pt x="23772" y="17234"/>
                  <a:pt x="23837" y="17165"/>
                </a:cubicBezTo>
                <a:cubicBezTo>
                  <a:pt x="23945" y="17050"/>
                  <a:pt x="24047" y="16952"/>
                  <a:pt x="24185" y="16867"/>
                </a:cubicBezTo>
                <a:cubicBezTo>
                  <a:pt x="24201" y="16859"/>
                  <a:pt x="24218" y="16850"/>
                  <a:pt x="24234" y="16842"/>
                </a:cubicBezTo>
                <a:cubicBezTo>
                  <a:pt x="24293" y="16940"/>
                  <a:pt x="24191" y="17035"/>
                  <a:pt x="24160" y="17140"/>
                </a:cubicBezTo>
                <a:cubicBezTo>
                  <a:pt x="24114" y="17296"/>
                  <a:pt x="24143" y="17389"/>
                  <a:pt x="24185" y="175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60640" y="5823000"/>
            <a:ext cx="331560" cy="392040"/>
          </a:xfrm>
          <a:custGeom>
            <a:avLst/>
            <a:gdLst/>
            <a:ahLst/>
            <a:rect l="l" t="t" r="r" b="b"/>
            <a:pathLst>
              <a:path w="918" h="1092">
                <a:moveTo>
                  <a:pt x="3225" y="16197"/>
                </a:moveTo>
                <a:cubicBezTo>
                  <a:pt x="3225" y="16412"/>
                  <a:pt x="3225" y="16627"/>
                  <a:pt x="3225" y="16842"/>
                </a:cubicBezTo>
              </a:path>
              <a:path w="918" h="1092">
                <a:moveTo>
                  <a:pt x="3646" y="16173"/>
                </a:moveTo>
                <a:cubicBezTo>
                  <a:pt x="3620" y="16265"/>
                  <a:pt x="3581" y="16334"/>
                  <a:pt x="3547" y="16421"/>
                </a:cubicBezTo>
                <a:cubicBezTo>
                  <a:pt x="3513" y="16508"/>
                  <a:pt x="3454" y="16591"/>
                  <a:pt x="3398" y="16669"/>
                </a:cubicBezTo>
                <a:cubicBezTo>
                  <a:pt x="3360" y="16722"/>
                  <a:pt x="3325" y="16701"/>
                  <a:pt x="3349" y="16718"/>
                </a:cubicBezTo>
                <a:cubicBezTo>
                  <a:pt x="3401" y="16756"/>
                  <a:pt x="3435" y="16726"/>
                  <a:pt x="3497" y="16743"/>
                </a:cubicBezTo>
                <a:cubicBezTo>
                  <a:pt x="3555" y="16759"/>
                  <a:pt x="3623" y="16793"/>
                  <a:pt x="3671" y="16818"/>
                </a:cubicBezTo>
                <a:cubicBezTo>
                  <a:pt x="3716" y="16842"/>
                  <a:pt x="3725" y="16842"/>
                  <a:pt x="3770" y="16842"/>
                </a:cubicBezTo>
              </a:path>
              <a:path w="918" h="1092">
                <a:moveTo>
                  <a:pt x="4068" y="16867"/>
                </a:moveTo>
                <a:cubicBezTo>
                  <a:pt x="4068" y="16948"/>
                  <a:pt x="4082" y="17012"/>
                  <a:pt x="4093" y="17090"/>
                </a:cubicBezTo>
                <a:cubicBezTo>
                  <a:pt x="4097" y="17117"/>
                  <a:pt x="4103" y="17248"/>
                  <a:pt x="4118" y="17264"/>
                </a:cubicBezTo>
                <a:cubicBezTo>
                  <a:pt x="4126" y="17264"/>
                  <a:pt x="4134" y="17264"/>
                  <a:pt x="4142" y="172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089080" y="5884920"/>
            <a:ext cx="125640" cy="187200"/>
          </a:xfrm>
          <a:custGeom>
            <a:avLst/>
            <a:gdLst/>
            <a:ahLst/>
            <a:rect l="l" t="t" r="r" b="b"/>
            <a:pathLst>
              <a:path w="349" h="522">
                <a:moveTo>
                  <a:pt x="5879" y="16446"/>
                </a:moveTo>
                <a:cubicBezTo>
                  <a:pt x="5852" y="16446"/>
                  <a:pt x="5782" y="16466"/>
                  <a:pt x="5829" y="16446"/>
                </a:cubicBezTo>
                <a:cubicBezTo>
                  <a:pt x="5893" y="16419"/>
                  <a:pt x="5940" y="16399"/>
                  <a:pt x="6003" y="16371"/>
                </a:cubicBezTo>
                <a:cubicBezTo>
                  <a:pt x="6058" y="16346"/>
                  <a:pt x="6094" y="16346"/>
                  <a:pt x="6152" y="16346"/>
                </a:cubicBezTo>
                <a:cubicBezTo>
                  <a:pt x="6152" y="16421"/>
                  <a:pt x="6150" y="16472"/>
                  <a:pt x="6127" y="16545"/>
                </a:cubicBezTo>
                <a:cubicBezTo>
                  <a:pt x="6100" y="16633"/>
                  <a:pt x="6084" y="16727"/>
                  <a:pt x="6077" y="16818"/>
                </a:cubicBezTo>
                <a:cubicBezTo>
                  <a:pt x="6073" y="16877"/>
                  <a:pt x="6083" y="16875"/>
                  <a:pt x="6127" y="168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40000" y="5786280"/>
            <a:ext cx="428760" cy="268560"/>
          </a:xfrm>
          <a:custGeom>
            <a:avLst/>
            <a:gdLst/>
            <a:ahLst/>
            <a:rect l="l" t="t" r="r" b="b"/>
            <a:pathLst>
              <a:path w="1191" h="746">
                <a:moveTo>
                  <a:pt x="6499" y="16694"/>
                </a:moveTo>
                <a:cubicBezTo>
                  <a:pt x="6499" y="16737"/>
                  <a:pt x="6499" y="16669"/>
                  <a:pt x="6499" y="16743"/>
                </a:cubicBezTo>
                <a:cubicBezTo>
                  <a:pt x="6499" y="16751"/>
                  <a:pt x="6499" y="16760"/>
                  <a:pt x="6499" y="16768"/>
                </a:cubicBezTo>
              </a:path>
              <a:path w="1191" h="746">
                <a:moveTo>
                  <a:pt x="6722" y="16321"/>
                </a:moveTo>
                <a:cubicBezTo>
                  <a:pt x="6722" y="16329"/>
                  <a:pt x="6722" y="16338"/>
                  <a:pt x="6722" y="16346"/>
                </a:cubicBezTo>
                <a:cubicBezTo>
                  <a:pt x="6684" y="16359"/>
                  <a:pt x="6697" y="16376"/>
                  <a:pt x="6697" y="16421"/>
                </a:cubicBezTo>
                <a:cubicBezTo>
                  <a:pt x="6697" y="16453"/>
                  <a:pt x="6714" y="16465"/>
                  <a:pt x="6722" y="16495"/>
                </a:cubicBezTo>
                <a:cubicBezTo>
                  <a:pt x="6771" y="16495"/>
                  <a:pt x="6859" y="16511"/>
                  <a:pt x="6896" y="16470"/>
                </a:cubicBezTo>
                <a:cubicBezTo>
                  <a:pt x="6896" y="16442"/>
                  <a:pt x="6899" y="16432"/>
                  <a:pt x="6921" y="16421"/>
                </a:cubicBezTo>
              </a:path>
              <a:path w="1191" h="746">
                <a:moveTo>
                  <a:pt x="7045" y="16073"/>
                </a:moveTo>
                <a:cubicBezTo>
                  <a:pt x="6983" y="16144"/>
                  <a:pt x="6974" y="16187"/>
                  <a:pt x="6945" y="16272"/>
                </a:cubicBezTo>
                <a:cubicBezTo>
                  <a:pt x="6911" y="16370"/>
                  <a:pt x="6921" y="16467"/>
                  <a:pt x="6921" y="16570"/>
                </a:cubicBezTo>
                <a:cubicBezTo>
                  <a:pt x="6921" y="16618"/>
                  <a:pt x="6942" y="16756"/>
                  <a:pt x="6970" y="16793"/>
                </a:cubicBezTo>
                <a:cubicBezTo>
                  <a:pt x="6978" y="16793"/>
                  <a:pt x="6987" y="16793"/>
                  <a:pt x="6995" y="16793"/>
                </a:cubicBezTo>
              </a:path>
              <a:path w="1191" h="746">
                <a:moveTo>
                  <a:pt x="7367" y="16570"/>
                </a:moveTo>
                <a:cubicBezTo>
                  <a:pt x="7354" y="16622"/>
                  <a:pt x="7342" y="16655"/>
                  <a:pt x="7342" y="16718"/>
                </a:cubicBezTo>
                <a:cubicBezTo>
                  <a:pt x="7342" y="16793"/>
                  <a:pt x="7378" y="16813"/>
                  <a:pt x="7441" y="16818"/>
                </a:cubicBezTo>
                <a:cubicBezTo>
                  <a:pt x="7523" y="16825"/>
                  <a:pt x="7533" y="16800"/>
                  <a:pt x="7590" y="16743"/>
                </a:cubicBezTo>
                <a:cubicBezTo>
                  <a:pt x="7598" y="16735"/>
                  <a:pt x="7607" y="16726"/>
                  <a:pt x="7615" y="16718"/>
                </a:cubicBezTo>
              </a:path>
              <a:path w="1191" h="746">
                <a:moveTo>
                  <a:pt x="7441" y="16669"/>
                </a:moveTo>
                <a:cubicBezTo>
                  <a:pt x="7388" y="16669"/>
                  <a:pt x="7496" y="16642"/>
                  <a:pt x="7516" y="16619"/>
                </a:cubicBezTo>
                <a:cubicBezTo>
                  <a:pt x="7558" y="16571"/>
                  <a:pt x="7592" y="16518"/>
                  <a:pt x="7640" y="16470"/>
                </a:cubicBezTo>
              </a:path>
              <a:path w="1191" h="746">
                <a:moveTo>
                  <a:pt x="7516" y="16371"/>
                </a:moveTo>
                <a:cubicBezTo>
                  <a:pt x="7508" y="16371"/>
                  <a:pt x="7499" y="16371"/>
                  <a:pt x="7491" y="16371"/>
                </a:cubicBezTo>
                <a:cubicBezTo>
                  <a:pt x="7539" y="16323"/>
                  <a:pt x="7580" y="16280"/>
                  <a:pt x="7640" y="16247"/>
                </a:cubicBezTo>
                <a:cubicBezTo>
                  <a:pt x="7656" y="16239"/>
                  <a:pt x="7673" y="16230"/>
                  <a:pt x="7689" y="162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63880" y="5830920"/>
            <a:ext cx="162000" cy="214200"/>
          </a:xfrm>
          <a:custGeom>
            <a:avLst/>
            <a:gdLst/>
            <a:ahLst/>
            <a:rect l="l" t="t" r="r" b="b"/>
            <a:pathLst>
              <a:path w="448" h="597">
                <a:moveTo>
                  <a:pt x="8409" y="16297"/>
                </a:moveTo>
                <a:cubicBezTo>
                  <a:pt x="8417" y="16280"/>
                  <a:pt x="8426" y="16264"/>
                  <a:pt x="8434" y="16247"/>
                </a:cubicBezTo>
                <a:cubicBezTo>
                  <a:pt x="8405" y="16254"/>
                  <a:pt x="8331" y="16297"/>
                  <a:pt x="8310" y="16321"/>
                </a:cubicBezTo>
                <a:cubicBezTo>
                  <a:pt x="8284" y="16352"/>
                  <a:pt x="8244" y="16410"/>
                  <a:pt x="8235" y="16446"/>
                </a:cubicBezTo>
                <a:cubicBezTo>
                  <a:pt x="8279" y="16471"/>
                  <a:pt x="8355" y="16486"/>
                  <a:pt x="8409" y="16495"/>
                </a:cubicBezTo>
                <a:cubicBezTo>
                  <a:pt x="8477" y="16506"/>
                  <a:pt x="8559" y="16513"/>
                  <a:pt x="8582" y="16594"/>
                </a:cubicBezTo>
                <a:cubicBezTo>
                  <a:pt x="8595" y="16640"/>
                  <a:pt x="8580" y="16731"/>
                  <a:pt x="8558" y="16768"/>
                </a:cubicBezTo>
                <a:cubicBezTo>
                  <a:pt x="8550" y="16776"/>
                  <a:pt x="8541" y="16785"/>
                  <a:pt x="8533" y="16793"/>
                </a:cubicBezTo>
                <a:cubicBezTo>
                  <a:pt x="8465" y="16776"/>
                  <a:pt x="8483" y="16740"/>
                  <a:pt x="8483" y="16669"/>
                </a:cubicBezTo>
                <a:cubicBezTo>
                  <a:pt x="8483" y="16573"/>
                  <a:pt x="8513" y="16457"/>
                  <a:pt x="8558" y="16371"/>
                </a:cubicBezTo>
                <a:cubicBezTo>
                  <a:pt x="8592" y="16304"/>
                  <a:pt x="8634" y="16252"/>
                  <a:pt x="8682" y="161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5946840"/>
            <a:ext cx="152280" cy="108000"/>
          </a:xfrm>
          <a:custGeom>
            <a:avLst/>
            <a:gdLst/>
            <a:ahLst/>
            <a:rect l="l" t="t" r="r" b="b"/>
            <a:pathLst>
              <a:path w="423" h="299">
                <a:moveTo>
                  <a:pt x="9525" y="16570"/>
                </a:moveTo>
                <a:cubicBezTo>
                  <a:pt x="9591" y="16570"/>
                  <a:pt x="9634" y="16565"/>
                  <a:pt x="9699" y="16545"/>
                </a:cubicBezTo>
                <a:cubicBezTo>
                  <a:pt x="9767" y="16524"/>
                  <a:pt x="9803" y="16520"/>
                  <a:pt x="9872" y="16520"/>
                </a:cubicBezTo>
              </a:path>
              <a:path w="423" h="299">
                <a:moveTo>
                  <a:pt x="9674" y="16768"/>
                </a:moveTo>
                <a:cubicBezTo>
                  <a:pt x="9666" y="16785"/>
                  <a:pt x="9657" y="16801"/>
                  <a:pt x="9649" y="16818"/>
                </a:cubicBezTo>
                <a:cubicBezTo>
                  <a:pt x="9722" y="16818"/>
                  <a:pt x="9780" y="16804"/>
                  <a:pt x="9847" y="16793"/>
                </a:cubicBezTo>
                <a:cubicBezTo>
                  <a:pt x="9899" y="16793"/>
                  <a:pt x="9917" y="16792"/>
                  <a:pt x="9947" y="167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973680" y="5823000"/>
            <a:ext cx="928440" cy="222120"/>
          </a:xfrm>
          <a:custGeom>
            <a:avLst/>
            <a:gdLst/>
            <a:ahLst/>
            <a:rect l="l" t="t" r="r" b="b"/>
            <a:pathLst>
              <a:path w="2581" h="621">
                <a:moveTo>
                  <a:pt x="11038" y="16446"/>
                </a:moveTo>
                <a:cubicBezTo>
                  <a:pt x="11051" y="16394"/>
                  <a:pt x="11075" y="16396"/>
                  <a:pt x="11112" y="16371"/>
                </a:cubicBezTo>
                <a:cubicBezTo>
                  <a:pt x="11157" y="16341"/>
                  <a:pt x="11204" y="16326"/>
                  <a:pt x="11212" y="16396"/>
                </a:cubicBezTo>
                <a:cubicBezTo>
                  <a:pt x="11216" y="16429"/>
                  <a:pt x="11163" y="16525"/>
                  <a:pt x="11137" y="16545"/>
                </a:cubicBezTo>
                <a:cubicBezTo>
                  <a:pt x="11112" y="16545"/>
                  <a:pt x="11104" y="16545"/>
                  <a:pt x="11112" y="16570"/>
                </a:cubicBezTo>
                <a:cubicBezTo>
                  <a:pt x="11139" y="16561"/>
                  <a:pt x="11198" y="16538"/>
                  <a:pt x="11237" y="16520"/>
                </a:cubicBezTo>
                <a:cubicBezTo>
                  <a:pt x="11282" y="16499"/>
                  <a:pt x="11331" y="16476"/>
                  <a:pt x="11361" y="16545"/>
                </a:cubicBezTo>
                <a:cubicBezTo>
                  <a:pt x="11386" y="16602"/>
                  <a:pt x="11334" y="16671"/>
                  <a:pt x="11311" y="16718"/>
                </a:cubicBezTo>
                <a:cubicBezTo>
                  <a:pt x="11289" y="16762"/>
                  <a:pt x="11286" y="16774"/>
                  <a:pt x="11261" y="16793"/>
                </a:cubicBezTo>
              </a:path>
              <a:path w="2581" h="621">
                <a:moveTo>
                  <a:pt x="11584" y="16545"/>
                </a:moveTo>
                <a:cubicBezTo>
                  <a:pt x="11584" y="16547"/>
                  <a:pt x="11559" y="16715"/>
                  <a:pt x="11559" y="16644"/>
                </a:cubicBezTo>
              </a:path>
              <a:path w="2581" h="621">
                <a:moveTo>
                  <a:pt x="12154" y="16321"/>
                </a:moveTo>
                <a:cubicBezTo>
                  <a:pt x="12050" y="16303"/>
                  <a:pt x="12027" y="16323"/>
                  <a:pt x="11931" y="16371"/>
                </a:cubicBezTo>
                <a:cubicBezTo>
                  <a:pt x="11868" y="16402"/>
                  <a:pt x="11866" y="16410"/>
                  <a:pt x="11832" y="16470"/>
                </a:cubicBezTo>
                <a:cubicBezTo>
                  <a:pt x="11886" y="16484"/>
                  <a:pt x="11916" y="16517"/>
                  <a:pt x="11981" y="16520"/>
                </a:cubicBezTo>
                <a:cubicBezTo>
                  <a:pt x="12058" y="16523"/>
                  <a:pt x="12108" y="16531"/>
                  <a:pt x="12179" y="16545"/>
                </a:cubicBezTo>
                <a:cubicBezTo>
                  <a:pt x="12179" y="16591"/>
                  <a:pt x="12175" y="16643"/>
                  <a:pt x="12129" y="16669"/>
                </a:cubicBezTo>
                <a:cubicBezTo>
                  <a:pt x="12116" y="16676"/>
                  <a:pt x="12070" y="16669"/>
                  <a:pt x="12055" y="16669"/>
                </a:cubicBezTo>
                <a:cubicBezTo>
                  <a:pt x="12065" y="16598"/>
                  <a:pt x="12105" y="16531"/>
                  <a:pt x="12154" y="16470"/>
                </a:cubicBezTo>
                <a:cubicBezTo>
                  <a:pt x="12204" y="16408"/>
                  <a:pt x="12271" y="16353"/>
                  <a:pt x="12328" y="16297"/>
                </a:cubicBezTo>
                <a:cubicBezTo>
                  <a:pt x="12336" y="16289"/>
                  <a:pt x="12345" y="16280"/>
                  <a:pt x="12353" y="16272"/>
                </a:cubicBezTo>
              </a:path>
              <a:path w="2581" h="621">
                <a:moveTo>
                  <a:pt x="12526" y="16421"/>
                </a:moveTo>
                <a:cubicBezTo>
                  <a:pt x="12526" y="16495"/>
                  <a:pt x="12526" y="16570"/>
                  <a:pt x="12526" y="16644"/>
                </a:cubicBezTo>
                <a:cubicBezTo>
                  <a:pt x="12583" y="16644"/>
                  <a:pt x="12625" y="16652"/>
                  <a:pt x="12675" y="16619"/>
                </a:cubicBezTo>
                <a:cubicBezTo>
                  <a:pt x="12700" y="16594"/>
                  <a:pt x="12708" y="16586"/>
                  <a:pt x="12725" y="16570"/>
                </a:cubicBezTo>
              </a:path>
              <a:path w="2581" h="621">
                <a:moveTo>
                  <a:pt x="12477" y="16545"/>
                </a:moveTo>
                <a:cubicBezTo>
                  <a:pt x="12541" y="16508"/>
                  <a:pt x="12586" y="16457"/>
                  <a:pt x="12650" y="16421"/>
                </a:cubicBezTo>
                <a:cubicBezTo>
                  <a:pt x="12667" y="16413"/>
                  <a:pt x="12683" y="16404"/>
                  <a:pt x="12700" y="16396"/>
                </a:cubicBezTo>
              </a:path>
              <a:path w="2581" h="621">
                <a:moveTo>
                  <a:pt x="12551" y="16297"/>
                </a:moveTo>
                <a:cubicBezTo>
                  <a:pt x="12607" y="16265"/>
                  <a:pt x="12661" y="16230"/>
                  <a:pt x="12725" y="16222"/>
                </a:cubicBezTo>
                <a:cubicBezTo>
                  <a:pt x="12798" y="16212"/>
                  <a:pt x="12817" y="16231"/>
                  <a:pt x="12874" y="16197"/>
                </a:cubicBezTo>
              </a:path>
              <a:path w="2581" h="621">
                <a:moveTo>
                  <a:pt x="12998" y="16371"/>
                </a:moveTo>
                <a:cubicBezTo>
                  <a:pt x="13037" y="16381"/>
                  <a:pt x="13052" y="16396"/>
                  <a:pt x="13097" y="16396"/>
                </a:cubicBezTo>
                <a:cubicBezTo>
                  <a:pt x="13156" y="16396"/>
                  <a:pt x="13200" y="16380"/>
                  <a:pt x="13246" y="16371"/>
                </a:cubicBezTo>
                <a:cubicBezTo>
                  <a:pt x="13262" y="16371"/>
                  <a:pt x="13279" y="16371"/>
                  <a:pt x="13295" y="16371"/>
                </a:cubicBezTo>
              </a:path>
              <a:path w="2581" h="621">
                <a:moveTo>
                  <a:pt x="13568" y="16222"/>
                </a:moveTo>
                <a:cubicBezTo>
                  <a:pt x="13556" y="16187"/>
                  <a:pt x="13531" y="16168"/>
                  <a:pt x="13494" y="16197"/>
                </a:cubicBezTo>
                <a:cubicBezTo>
                  <a:pt x="13437" y="16241"/>
                  <a:pt x="13399" y="16278"/>
                  <a:pt x="13395" y="16346"/>
                </a:cubicBezTo>
                <a:cubicBezTo>
                  <a:pt x="13393" y="16387"/>
                  <a:pt x="13395" y="16429"/>
                  <a:pt x="13395" y="16470"/>
                </a:cubicBezTo>
                <a:cubicBezTo>
                  <a:pt x="13450" y="16470"/>
                  <a:pt x="13486" y="16473"/>
                  <a:pt x="13519" y="16421"/>
                </a:cubicBezTo>
                <a:cubicBezTo>
                  <a:pt x="13542" y="16384"/>
                  <a:pt x="13601" y="16334"/>
                  <a:pt x="13618" y="16297"/>
                </a:cubicBezTo>
                <a:cubicBezTo>
                  <a:pt x="13618" y="16289"/>
                  <a:pt x="13618" y="16280"/>
                  <a:pt x="13618" y="16272"/>
                </a:cubicBezTo>
                <a:cubicBezTo>
                  <a:pt x="13618" y="16346"/>
                  <a:pt x="13616" y="16401"/>
                  <a:pt x="13593" y="16470"/>
                </a:cubicBezTo>
                <a:cubicBezTo>
                  <a:pt x="13564" y="16556"/>
                  <a:pt x="13575" y="16635"/>
                  <a:pt x="13543" y="167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037040" y="6054840"/>
            <a:ext cx="1347840" cy="392040"/>
          </a:xfrm>
          <a:custGeom>
            <a:avLst/>
            <a:gdLst/>
            <a:ahLst/>
            <a:rect l="l" t="t" r="r" b="b"/>
            <a:pathLst>
              <a:path w="3746" h="1092">
                <a:moveTo>
                  <a:pt x="11658" y="17140"/>
                </a:moveTo>
                <a:cubicBezTo>
                  <a:pt x="11734" y="17150"/>
                  <a:pt x="11784" y="17172"/>
                  <a:pt x="11832" y="17239"/>
                </a:cubicBezTo>
                <a:cubicBezTo>
                  <a:pt x="11853" y="17269"/>
                  <a:pt x="11883" y="17404"/>
                  <a:pt x="11857" y="17438"/>
                </a:cubicBezTo>
                <a:cubicBezTo>
                  <a:pt x="11825" y="17479"/>
                  <a:pt x="11742" y="17549"/>
                  <a:pt x="11683" y="17562"/>
                </a:cubicBezTo>
                <a:cubicBezTo>
                  <a:pt x="11633" y="17562"/>
                  <a:pt x="11617" y="17562"/>
                  <a:pt x="11584" y="17562"/>
                </a:cubicBezTo>
                <a:cubicBezTo>
                  <a:pt x="11584" y="17498"/>
                  <a:pt x="11599" y="17493"/>
                  <a:pt x="11658" y="17462"/>
                </a:cubicBezTo>
                <a:cubicBezTo>
                  <a:pt x="11737" y="17421"/>
                  <a:pt x="11818" y="17400"/>
                  <a:pt x="11906" y="17388"/>
                </a:cubicBezTo>
                <a:cubicBezTo>
                  <a:pt x="11923" y="17388"/>
                  <a:pt x="11939" y="17388"/>
                  <a:pt x="11956" y="17388"/>
                </a:cubicBezTo>
              </a:path>
              <a:path w="3746" h="1092">
                <a:moveTo>
                  <a:pt x="12229" y="17562"/>
                </a:moveTo>
                <a:cubicBezTo>
                  <a:pt x="12254" y="17562"/>
                  <a:pt x="12262" y="17562"/>
                  <a:pt x="12278" y="17562"/>
                </a:cubicBezTo>
              </a:path>
              <a:path w="3746" h="1092">
                <a:moveTo>
                  <a:pt x="12700" y="17214"/>
                </a:moveTo>
                <a:cubicBezTo>
                  <a:pt x="12613" y="17214"/>
                  <a:pt x="12551" y="17212"/>
                  <a:pt x="12477" y="17264"/>
                </a:cubicBezTo>
                <a:cubicBezTo>
                  <a:pt x="12433" y="17295"/>
                  <a:pt x="12449" y="17332"/>
                  <a:pt x="12477" y="17363"/>
                </a:cubicBezTo>
                <a:cubicBezTo>
                  <a:pt x="12515" y="17405"/>
                  <a:pt x="12597" y="17401"/>
                  <a:pt x="12650" y="17438"/>
                </a:cubicBezTo>
                <a:cubicBezTo>
                  <a:pt x="12692" y="17467"/>
                  <a:pt x="12718" y="17510"/>
                  <a:pt x="12700" y="17562"/>
                </a:cubicBezTo>
                <a:cubicBezTo>
                  <a:pt x="12679" y="17623"/>
                  <a:pt x="12658" y="17636"/>
                  <a:pt x="12601" y="17636"/>
                </a:cubicBezTo>
                <a:cubicBezTo>
                  <a:pt x="12601" y="17578"/>
                  <a:pt x="12602" y="17542"/>
                  <a:pt x="12626" y="17487"/>
                </a:cubicBezTo>
                <a:cubicBezTo>
                  <a:pt x="12658" y="17414"/>
                  <a:pt x="12726" y="17369"/>
                  <a:pt x="12774" y="17314"/>
                </a:cubicBezTo>
                <a:cubicBezTo>
                  <a:pt x="12821" y="17267"/>
                  <a:pt x="12833" y="17253"/>
                  <a:pt x="12874" y="17239"/>
                </a:cubicBezTo>
              </a:path>
              <a:path w="3746" h="1092">
                <a:moveTo>
                  <a:pt x="12923" y="17190"/>
                </a:moveTo>
                <a:cubicBezTo>
                  <a:pt x="12940" y="17190"/>
                  <a:pt x="12956" y="17190"/>
                  <a:pt x="12973" y="17190"/>
                </a:cubicBezTo>
                <a:cubicBezTo>
                  <a:pt x="12973" y="17264"/>
                  <a:pt x="12957" y="17321"/>
                  <a:pt x="12948" y="17388"/>
                </a:cubicBezTo>
                <a:cubicBezTo>
                  <a:pt x="12938" y="17462"/>
                  <a:pt x="12966" y="17543"/>
                  <a:pt x="13047" y="17562"/>
                </a:cubicBezTo>
                <a:cubicBezTo>
                  <a:pt x="13114" y="17578"/>
                  <a:pt x="13170" y="17551"/>
                  <a:pt x="13221" y="17512"/>
                </a:cubicBezTo>
                <a:cubicBezTo>
                  <a:pt x="13261" y="17482"/>
                  <a:pt x="13246" y="17433"/>
                  <a:pt x="13246" y="17388"/>
                </a:cubicBezTo>
                <a:cubicBezTo>
                  <a:pt x="13200" y="17388"/>
                  <a:pt x="13153" y="17373"/>
                  <a:pt x="13122" y="17413"/>
                </a:cubicBezTo>
                <a:cubicBezTo>
                  <a:pt x="13097" y="17462"/>
                  <a:pt x="13088" y="17479"/>
                  <a:pt x="13072" y="17512"/>
                </a:cubicBezTo>
              </a:path>
              <a:path w="3746" h="1092">
                <a:moveTo>
                  <a:pt x="13370" y="17140"/>
                </a:moveTo>
                <a:cubicBezTo>
                  <a:pt x="13408" y="17150"/>
                  <a:pt x="13443" y="17179"/>
                  <a:pt x="13469" y="17214"/>
                </a:cubicBezTo>
                <a:cubicBezTo>
                  <a:pt x="13557" y="17332"/>
                  <a:pt x="13589" y="17415"/>
                  <a:pt x="13593" y="17562"/>
                </a:cubicBezTo>
                <a:cubicBezTo>
                  <a:pt x="13597" y="17702"/>
                  <a:pt x="13545" y="17771"/>
                  <a:pt x="13469" y="17884"/>
                </a:cubicBezTo>
              </a:path>
              <a:path w="3746" h="1092">
                <a:moveTo>
                  <a:pt x="11286" y="17115"/>
                </a:moveTo>
                <a:cubicBezTo>
                  <a:pt x="11210" y="17154"/>
                  <a:pt x="11214" y="17252"/>
                  <a:pt x="11212" y="17338"/>
                </a:cubicBezTo>
                <a:cubicBezTo>
                  <a:pt x="11208" y="17494"/>
                  <a:pt x="11210" y="17722"/>
                  <a:pt x="11336" y="17835"/>
                </a:cubicBezTo>
                <a:cubicBezTo>
                  <a:pt x="11433" y="17883"/>
                  <a:pt x="11463" y="17898"/>
                  <a:pt x="11534" y="17909"/>
                </a:cubicBezTo>
              </a:path>
              <a:path w="3746" h="1092">
                <a:moveTo>
                  <a:pt x="14238" y="17090"/>
                </a:moveTo>
                <a:cubicBezTo>
                  <a:pt x="14190" y="17186"/>
                  <a:pt x="14126" y="17266"/>
                  <a:pt x="14089" y="17363"/>
                </a:cubicBezTo>
                <a:cubicBezTo>
                  <a:pt x="14056" y="17449"/>
                  <a:pt x="14039" y="17520"/>
                  <a:pt x="14039" y="17611"/>
                </a:cubicBezTo>
              </a:path>
              <a:path w="3746" h="1092">
                <a:moveTo>
                  <a:pt x="13965" y="17190"/>
                </a:moveTo>
                <a:cubicBezTo>
                  <a:pt x="13997" y="17253"/>
                  <a:pt x="14025" y="17350"/>
                  <a:pt x="14089" y="17388"/>
                </a:cubicBezTo>
                <a:cubicBezTo>
                  <a:pt x="14180" y="17442"/>
                  <a:pt x="14269" y="17444"/>
                  <a:pt x="14362" y="17413"/>
                </a:cubicBezTo>
              </a:path>
              <a:path w="3746" h="1092">
                <a:moveTo>
                  <a:pt x="14461" y="16818"/>
                </a:moveTo>
                <a:cubicBezTo>
                  <a:pt x="14512" y="16909"/>
                  <a:pt x="14567" y="17010"/>
                  <a:pt x="14635" y="17090"/>
                </a:cubicBezTo>
                <a:cubicBezTo>
                  <a:pt x="14728" y="17200"/>
                  <a:pt x="14835" y="17285"/>
                  <a:pt x="14908" y="17413"/>
                </a:cubicBezTo>
                <a:cubicBezTo>
                  <a:pt x="14967" y="17515"/>
                  <a:pt x="14971" y="17583"/>
                  <a:pt x="14932" y="17686"/>
                </a:cubicBezTo>
              </a:path>
              <a:path w="3746" h="1092">
                <a:moveTo>
                  <a:pt x="13891" y="16991"/>
                </a:moveTo>
                <a:cubicBezTo>
                  <a:pt x="13829" y="17001"/>
                  <a:pt x="13826" y="17003"/>
                  <a:pt x="13791" y="17066"/>
                </a:cubicBezTo>
                <a:cubicBezTo>
                  <a:pt x="13741" y="17156"/>
                  <a:pt x="13680" y="17228"/>
                  <a:pt x="13667" y="17338"/>
                </a:cubicBezTo>
                <a:cubicBezTo>
                  <a:pt x="13650" y="17478"/>
                  <a:pt x="13698" y="17610"/>
                  <a:pt x="13816" y="17686"/>
                </a:cubicBezTo>
                <a:cubicBezTo>
                  <a:pt x="13927" y="17741"/>
                  <a:pt x="13973" y="17760"/>
                  <a:pt x="14064" y="177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f you’re not part of the solutio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n you’re part of the precipitat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atch ou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bility is not the same as solubility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bility product is an equilibrium cons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oesn’t change except with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bility is an equilibrium position for how much can dissol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ion can change th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lubility of iron(II) oxalate Fe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65.9 mg/L (MM= 143.8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lculating K</a:t>
            </a:r>
            <a:r>
              <a:rPr b="0" lang="en-US" sz="5400" spc="-1" strike="noStrike" baseline="-25000">
                <a:solidFill>
                  <a:srgbClr val="fafd00"/>
                </a:solidFill>
                <a:latin typeface="Arial"/>
              </a:rPr>
              <a:t>sp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lubility of iron(II) oxalate Fe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65.9 mg/L (MM= 143.8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411280"/>
            <a:ext cx="1482480" cy="339840"/>
          </a:xfrm>
          <a:custGeom>
            <a:avLst/>
            <a:gdLst/>
            <a:ahLst/>
            <a:rect l="l" t="t" r="r" b="b"/>
            <a:pathLst>
              <a:path w="4119" h="944">
                <a:moveTo>
                  <a:pt x="15677" y="6772"/>
                </a:moveTo>
                <a:cubicBezTo>
                  <a:pt x="15635" y="6845"/>
                  <a:pt x="15588" y="6917"/>
                  <a:pt x="15553" y="6995"/>
                </a:cubicBezTo>
                <a:cubicBezTo>
                  <a:pt x="15517" y="7076"/>
                  <a:pt x="15474" y="7141"/>
                  <a:pt x="15453" y="7218"/>
                </a:cubicBezTo>
                <a:cubicBezTo>
                  <a:pt x="15453" y="7226"/>
                  <a:pt x="15453" y="7235"/>
                  <a:pt x="15453" y="7243"/>
                </a:cubicBezTo>
              </a:path>
              <a:path w="4119" h="944">
                <a:moveTo>
                  <a:pt x="15652" y="6747"/>
                </a:moveTo>
                <a:cubicBezTo>
                  <a:pt x="15837" y="6747"/>
                  <a:pt x="16016" y="6739"/>
                  <a:pt x="16197" y="6722"/>
                </a:cubicBezTo>
                <a:cubicBezTo>
                  <a:pt x="16265" y="6722"/>
                  <a:pt x="16284" y="6725"/>
                  <a:pt x="16321" y="6697"/>
                </a:cubicBezTo>
              </a:path>
              <a:path w="4119" h="944">
                <a:moveTo>
                  <a:pt x="15801" y="6846"/>
                </a:moveTo>
                <a:cubicBezTo>
                  <a:pt x="15776" y="6863"/>
                  <a:pt x="15751" y="6879"/>
                  <a:pt x="15726" y="6896"/>
                </a:cubicBezTo>
                <a:cubicBezTo>
                  <a:pt x="15850" y="6896"/>
                  <a:pt x="15974" y="6896"/>
                  <a:pt x="16098" y="6896"/>
                </a:cubicBezTo>
              </a:path>
              <a:path w="4119" h="944">
                <a:moveTo>
                  <a:pt x="15999" y="7243"/>
                </a:moveTo>
                <a:cubicBezTo>
                  <a:pt x="16094" y="7216"/>
                  <a:pt x="16183" y="7187"/>
                  <a:pt x="16272" y="7144"/>
                </a:cubicBezTo>
                <a:cubicBezTo>
                  <a:pt x="16317" y="7123"/>
                  <a:pt x="16337" y="7103"/>
                  <a:pt x="16371" y="7069"/>
                </a:cubicBezTo>
                <a:cubicBezTo>
                  <a:pt x="16316" y="7056"/>
                  <a:pt x="16293" y="7028"/>
                  <a:pt x="16222" y="7045"/>
                </a:cubicBezTo>
                <a:cubicBezTo>
                  <a:pt x="16143" y="7064"/>
                  <a:pt x="16095" y="7114"/>
                  <a:pt x="16049" y="7169"/>
                </a:cubicBezTo>
                <a:cubicBezTo>
                  <a:pt x="15994" y="7235"/>
                  <a:pt x="16034" y="7280"/>
                  <a:pt x="16098" y="7317"/>
                </a:cubicBezTo>
                <a:cubicBezTo>
                  <a:pt x="16177" y="7363"/>
                  <a:pt x="16232" y="7361"/>
                  <a:pt x="16321" y="7367"/>
                </a:cubicBezTo>
              </a:path>
              <a:path w="4119" h="944">
                <a:moveTo>
                  <a:pt x="17066" y="6796"/>
                </a:moveTo>
                <a:cubicBezTo>
                  <a:pt x="17054" y="6761"/>
                  <a:pt x="16989" y="6759"/>
                  <a:pt x="16942" y="6772"/>
                </a:cubicBezTo>
                <a:cubicBezTo>
                  <a:pt x="16809" y="6808"/>
                  <a:pt x="16708" y="6945"/>
                  <a:pt x="16669" y="7069"/>
                </a:cubicBezTo>
                <a:cubicBezTo>
                  <a:pt x="16641" y="7158"/>
                  <a:pt x="16651" y="7283"/>
                  <a:pt x="16743" y="7342"/>
                </a:cubicBezTo>
                <a:cubicBezTo>
                  <a:pt x="16807" y="7383"/>
                  <a:pt x="16895" y="7367"/>
                  <a:pt x="16966" y="7367"/>
                </a:cubicBezTo>
              </a:path>
              <a:path w="4119" h="944">
                <a:moveTo>
                  <a:pt x="17165" y="7268"/>
                </a:moveTo>
                <a:cubicBezTo>
                  <a:pt x="17218" y="7268"/>
                  <a:pt x="17247" y="7262"/>
                  <a:pt x="17289" y="7293"/>
                </a:cubicBezTo>
                <a:cubicBezTo>
                  <a:pt x="17275" y="7349"/>
                  <a:pt x="17210" y="7376"/>
                  <a:pt x="17165" y="7417"/>
                </a:cubicBezTo>
                <a:cubicBezTo>
                  <a:pt x="17141" y="7439"/>
                  <a:pt x="17092" y="7475"/>
                  <a:pt x="17115" y="7516"/>
                </a:cubicBezTo>
                <a:cubicBezTo>
                  <a:pt x="17139" y="7558"/>
                  <a:pt x="17254" y="7549"/>
                  <a:pt x="17289" y="7541"/>
                </a:cubicBezTo>
                <a:cubicBezTo>
                  <a:pt x="17305" y="7533"/>
                  <a:pt x="17322" y="7524"/>
                  <a:pt x="17338" y="7516"/>
                </a:cubicBezTo>
              </a:path>
              <a:path w="4119" h="944">
                <a:moveTo>
                  <a:pt x="17810" y="6945"/>
                </a:moveTo>
                <a:cubicBezTo>
                  <a:pt x="17796" y="6906"/>
                  <a:pt x="17752" y="6913"/>
                  <a:pt x="17711" y="6945"/>
                </a:cubicBezTo>
                <a:cubicBezTo>
                  <a:pt x="17639" y="7000"/>
                  <a:pt x="17558" y="7080"/>
                  <a:pt x="17537" y="7169"/>
                </a:cubicBezTo>
                <a:cubicBezTo>
                  <a:pt x="17519" y="7246"/>
                  <a:pt x="17592" y="7305"/>
                  <a:pt x="17661" y="7317"/>
                </a:cubicBezTo>
                <a:cubicBezTo>
                  <a:pt x="17756" y="7333"/>
                  <a:pt x="17853" y="7265"/>
                  <a:pt x="17909" y="7193"/>
                </a:cubicBezTo>
                <a:cubicBezTo>
                  <a:pt x="17956" y="7134"/>
                  <a:pt x="17977" y="7019"/>
                  <a:pt x="17959" y="6945"/>
                </a:cubicBezTo>
                <a:cubicBezTo>
                  <a:pt x="17953" y="6921"/>
                  <a:pt x="17892" y="6812"/>
                  <a:pt x="17884" y="6871"/>
                </a:cubicBezTo>
                <a:cubicBezTo>
                  <a:pt x="17884" y="6879"/>
                  <a:pt x="17884" y="6888"/>
                  <a:pt x="17884" y="6896"/>
                </a:cubicBezTo>
              </a:path>
              <a:path w="4119" h="944">
                <a:moveTo>
                  <a:pt x="18058" y="7218"/>
                </a:moveTo>
                <a:cubicBezTo>
                  <a:pt x="18058" y="7256"/>
                  <a:pt x="18042" y="7321"/>
                  <a:pt x="18083" y="7342"/>
                </a:cubicBezTo>
                <a:cubicBezTo>
                  <a:pt x="18128" y="7365"/>
                  <a:pt x="18248" y="7346"/>
                  <a:pt x="18281" y="7317"/>
                </a:cubicBezTo>
                <a:cubicBezTo>
                  <a:pt x="18316" y="7287"/>
                  <a:pt x="18306" y="7261"/>
                  <a:pt x="18306" y="7218"/>
                </a:cubicBezTo>
                <a:cubicBezTo>
                  <a:pt x="18252" y="7272"/>
                  <a:pt x="18253" y="7300"/>
                  <a:pt x="18231" y="7367"/>
                </a:cubicBezTo>
                <a:cubicBezTo>
                  <a:pt x="18207" y="7442"/>
                  <a:pt x="18186" y="7517"/>
                  <a:pt x="18231" y="7590"/>
                </a:cubicBezTo>
                <a:cubicBezTo>
                  <a:pt x="18256" y="7615"/>
                  <a:pt x="18264" y="7623"/>
                  <a:pt x="18281" y="7640"/>
                </a:cubicBezTo>
              </a:path>
              <a:path w="4119" h="944">
                <a:moveTo>
                  <a:pt x="18678" y="7144"/>
                </a:moveTo>
                <a:cubicBezTo>
                  <a:pt x="18741" y="7144"/>
                  <a:pt x="18756" y="7166"/>
                  <a:pt x="18827" y="7169"/>
                </a:cubicBezTo>
                <a:cubicBezTo>
                  <a:pt x="19026" y="7177"/>
                  <a:pt x="19232" y="7174"/>
                  <a:pt x="19422" y="7144"/>
                </a:cubicBezTo>
                <a:cubicBezTo>
                  <a:pt x="19451" y="7139"/>
                  <a:pt x="19490" y="7144"/>
                  <a:pt x="19521" y="7144"/>
                </a:cubicBezTo>
                <a:cubicBezTo>
                  <a:pt x="19502" y="7115"/>
                  <a:pt x="19424" y="7094"/>
                  <a:pt x="19372" y="7069"/>
                </a:cubicBezTo>
                <a:cubicBezTo>
                  <a:pt x="19320" y="7043"/>
                  <a:pt x="19272" y="6991"/>
                  <a:pt x="19224" y="6970"/>
                </a:cubicBezTo>
                <a:cubicBezTo>
                  <a:pt x="19216" y="6970"/>
                  <a:pt x="19207" y="6970"/>
                  <a:pt x="19199" y="6970"/>
                </a:cubicBezTo>
                <a:cubicBezTo>
                  <a:pt x="19259" y="6970"/>
                  <a:pt x="19316" y="6980"/>
                  <a:pt x="19372" y="6995"/>
                </a:cubicBezTo>
                <a:cubicBezTo>
                  <a:pt x="19422" y="7008"/>
                  <a:pt x="19536" y="7050"/>
                  <a:pt x="19571" y="7094"/>
                </a:cubicBezTo>
                <a:cubicBezTo>
                  <a:pt x="19608" y="7142"/>
                  <a:pt x="19549" y="7202"/>
                  <a:pt x="19521" y="7218"/>
                </a:cubicBezTo>
                <a:cubicBezTo>
                  <a:pt x="19453" y="7257"/>
                  <a:pt x="19404" y="7285"/>
                  <a:pt x="19348" y="73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24840" y="2374920"/>
            <a:ext cx="1911240" cy="455760"/>
          </a:xfrm>
          <a:custGeom>
            <a:avLst/>
            <a:gdLst/>
            <a:ahLst/>
            <a:rect l="l" t="t" r="r" b="b"/>
            <a:pathLst>
              <a:path w="5309" h="1266">
                <a:moveTo>
                  <a:pt x="20191" y="6821"/>
                </a:moveTo>
                <a:cubicBezTo>
                  <a:pt x="20227" y="6833"/>
                  <a:pt x="20229" y="6895"/>
                  <a:pt x="20216" y="6945"/>
                </a:cubicBezTo>
                <a:cubicBezTo>
                  <a:pt x="20190" y="7048"/>
                  <a:pt x="20115" y="7138"/>
                  <a:pt x="20092" y="7243"/>
                </a:cubicBezTo>
                <a:cubicBezTo>
                  <a:pt x="20083" y="7285"/>
                  <a:pt x="20075" y="7325"/>
                  <a:pt x="20067" y="7367"/>
                </a:cubicBezTo>
              </a:path>
              <a:path w="5309" h="1266">
                <a:moveTo>
                  <a:pt x="20092" y="6846"/>
                </a:moveTo>
                <a:cubicBezTo>
                  <a:pt x="20160" y="6711"/>
                  <a:pt x="20179" y="6759"/>
                  <a:pt x="20315" y="6772"/>
                </a:cubicBezTo>
                <a:cubicBezTo>
                  <a:pt x="20446" y="6784"/>
                  <a:pt x="20563" y="6795"/>
                  <a:pt x="20687" y="6846"/>
                </a:cubicBezTo>
                <a:cubicBezTo>
                  <a:pt x="20704" y="6854"/>
                  <a:pt x="20720" y="6863"/>
                  <a:pt x="20737" y="6871"/>
                </a:cubicBezTo>
              </a:path>
              <a:path w="5309" h="1266">
                <a:moveTo>
                  <a:pt x="20241" y="6995"/>
                </a:moveTo>
                <a:cubicBezTo>
                  <a:pt x="20233" y="7012"/>
                  <a:pt x="20224" y="7028"/>
                  <a:pt x="20216" y="7045"/>
                </a:cubicBezTo>
                <a:cubicBezTo>
                  <a:pt x="20332" y="7045"/>
                  <a:pt x="20447" y="7045"/>
                  <a:pt x="20563" y="7045"/>
                </a:cubicBezTo>
              </a:path>
              <a:path w="5309" h="1266">
                <a:moveTo>
                  <a:pt x="20489" y="7243"/>
                </a:moveTo>
                <a:cubicBezTo>
                  <a:pt x="20587" y="7297"/>
                  <a:pt x="20627" y="7310"/>
                  <a:pt x="20737" y="7268"/>
                </a:cubicBezTo>
                <a:cubicBezTo>
                  <a:pt x="20805" y="7242"/>
                  <a:pt x="20880" y="7218"/>
                  <a:pt x="20935" y="7169"/>
                </a:cubicBezTo>
                <a:cubicBezTo>
                  <a:pt x="20966" y="7141"/>
                  <a:pt x="20960" y="7132"/>
                  <a:pt x="20960" y="7094"/>
                </a:cubicBezTo>
                <a:cubicBezTo>
                  <a:pt x="20895" y="7094"/>
                  <a:pt x="20870" y="7104"/>
                  <a:pt x="20811" y="7119"/>
                </a:cubicBezTo>
                <a:cubicBezTo>
                  <a:pt x="20755" y="7133"/>
                  <a:pt x="20749" y="7178"/>
                  <a:pt x="20786" y="7218"/>
                </a:cubicBezTo>
                <a:cubicBezTo>
                  <a:pt x="20868" y="7307"/>
                  <a:pt x="20943" y="7309"/>
                  <a:pt x="21059" y="7317"/>
                </a:cubicBezTo>
              </a:path>
              <a:path w="5309" h="1266">
                <a:moveTo>
                  <a:pt x="21233" y="6772"/>
                </a:moveTo>
                <a:cubicBezTo>
                  <a:pt x="21289" y="6772"/>
                  <a:pt x="21330" y="6788"/>
                  <a:pt x="21382" y="6796"/>
                </a:cubicBezTo>
                <a:cubicBezTo>
                  <a:pt x="21429" y="6804"/>
                  <a:pt x="21482" y="6796"/>
                  <a:pt x="21530" y="6796"/>
                </a:cubicBezTo>
              </a:path>
              <a:path w="5309" h="1266">
                <a:moveTo>
                  <a:pt x="21506" y="6598"/>
                </a:moveTo>
                <a:cubicBezTo>
                  <a:pt x="21472" y="6665"/>
                  <a:pt x="21434" y="6721"/>
                  <a:pt x="21431" y="6796"/>
                </a:cubicBezTo>
                <a:cubicBezTo>
                  <a:pt x="21428" y="6854"/>
                  <a:pt x="21431" y="6912"/>
                  <a:pt x="21431" y="6970"/>
                </a:cubicBezTo>
              </a:path>
              <a:path w="5309" h="1266">
                <a:moveTo>
                  <a:pt x="21803" y="6697"/>
                </a:moveTo>
                <a:cubicBezTo>
                  <a:pt x="21856" y="6697"/>
                  <a:pt x="21877" y="6713"/>
                  <a:pt x="21927" y="6722"/>
                </a:cubicBezTo>
                <a:cubicBezTo>
                  <a:pt x="21977" y="6731"/>
                  <a:pt x="22038" y="6738"/>
                  <a:pt x="22051" y="6796"/>
                </a:cubicBezTo>
                <a:cubicBezTo>
                  <a:pt x="22060" y="6839"/>
                  <a:pt x="22038" y="6873"/>
                  <a:pt x="22002" y="6896"/>
                </a:cubicBezTo>
                <a:cubicBezTo>
                  <a:pt x="21957" y="6925"/>
                  <a:pt x="21909" y="6937"/>
                  <a:pt x="21903" y="6995"/>
                </a:cubicBezTo>
                <a:cubicBezTo>
                  <a:pt x="21897" y="7048"/>
                  <a:pt x="21965" y="7073"/>
                  <a:pt x="22002" y="7094"/>
                </a:cubicBezTo>
              </a:path>
              <a:path w="5309" h="1266">
                <a:moveTo>
                  <a:pt x="22151" y="7317"/>
                </a:moveTo>
                <a:cubicBezTo>
                  <a:pt x="22300" y="7317"/>
                  <a:pt x="22448" y="7317"/>
                  <a:pt x="22597" y="7317"/>
                </a:cubicBezTo>
              </a:path>
              <a:path w="5309" h="1266">
                <a:moveTo>
                  <a:pt x="22622" y="7069"/>
                </a:moveTo>
                <a:cubicBezTo>
                  <a:pt x="22528" y="7096"/>
                  <a:pt x="22553" y="7147"/>
                  <a:pt x="22523" y="7243"/>
                </a:cubicBezTo>
                <a:cubicBezTo>
                  <a:pt x="22498" y="7324"/>
                  <a:pt x="22479" y="7407"/>
                  <a:pt x="22473" y="7491"/>
                </a:cubicBezTo>
                <a:cubicBezTo>
                  <a:pt x="22473" y="7499"/>
                  <a:pt x="22473" y="7508"/>
                  <a:pt x="22473" y="7516"/>
                </a:cubicBezTo>
              </a:path>
              <a:path w="5309" h="1266">
                <a:moveTo>
                  <a:pt x="23366" y="6921"/>
                </a:moveTo>
                <a:cubicBezTo>
                  <a:pt x="23366" y="6992"/>
                  <a:pt x="23369" y="6874"/>
                  <a:pt x="23366" y="6871"/>
                </a:cubicBezTo>
                <a:cubicBezTo>
                  <a:pt x="23283" y="6796"/>
                  <a:pt x="23143" y="6879"/>
                  <a:pt x="23068" y="6921"/>
                </a:cubicBezTo>
                <a:cubicBezTo>
                  <a:pt x="22924" y="7002"/>
                  <a:pt x="22848" y="7160"/>
                  <a:pt x="22920" y="7317"/>
                </a:cubicBezTo>
                <a:cubicBezTo>
                  <a:pt x="22975" y="7437"/>
                  <a:pt x="23079" y="7493"/>
                  <a:pt x="23192" y="7541"/>
                </a:cubicBezTo>
              </a:path>
              <a:path w="5309" h="1266">
                <a:moveTo>
                  <a:pt x="23391" y="7417"/>
                </a:moveTo>
                <a:cubicBezTo>
                  <a:pt x="23413" y="7400"/>
                  <a:pt x="23456" y="7373"/>
                  <a:pt x="23490" y="7392"/>
                </a:cubicBezTo>
                <a:cubicBezTo>
                  <a:pt x="23518" y="7407"/>
                  <a:pt x="23560" y="7455"/>
                  <a:pt x="23540" y="7491"/>
                </a:cubicBezTo>
                <a:cubicBezTo>
                  <a:pt x="23516" y="7534"/>
                  <a:pt x="23470" y="7567"/>
                  <a:pt x="23465" y="7615"/>
                </a:cubicBezTo>
                <a:cubicBezTo>
                  <a:pt x="23457" y="7683"/>
                  <a:pt x="23544" y="7684"/>
                  <a:pt x="23589" y="7689"/>
                </a:cubicBezTo>
              </a:path>
              <a:path w="5309" h="1266">
                <a:moveTo>
                  <a:pt x="24259" y="7094"/>
                </a:moveTo>
                <a:cubicBezTo>
                  <a:pt x="24197" y="7048"/>
                  <a:pt x="24139" y="7013"/>
                  <a:pt x="24061" y="7069"/>
                </a:cubicBezTo>
                <a:cubicBezTo>
                  <a:pt x="23974" y="7131"/>
                  <a:pt x="23966" y="7225"/>
                  <a:pt x="24011" y="7317"/>
                </a:cubicBezTo>
                <a:cubicBezTo>
                  <a:pt x="24064" y="7426"/>
                  <a:pt x="24144" y="7482"/>
                  <a:pt x="24259" y="7491"/>
                </a:cubicBezTo>
                <a:cubicBezTo>
                  <a:pt x="24362" y="7499"/>
                  <a:pt x="24440" y="7450"/>
                  <a:pt x="24457" y="7342"/>
                </a:cubicBezTo>
                <a:cubicBezTo>
                  <a:pt x="24480" y="7196"/>
                  <a:pt x="24429" y="7062"/>
                  <a:pt x="24408" y="6921"/>
                </a:cubicBezTo>
                <a:cubicBezTo>
                  <a:pt x="24402" y="6882"/>
                  <a:pt x="24383" y="6767"/>
                  <a:pt x="24383" y="6871"/>
                </a:cubicBezTo>
              </a:path>
              <a:path w="5309" h="1266">
                <a:moveTo>
                  <a:pt x="24532" y="7392"/>
                </a:moveTo>
                <a:cubicBezTo>
                  <a:pt x="24524" y="7400"/>
                  <a:pt x="24515" y="7409"/>
                  <a:pt x="24507" y="7417"/>
                </a:cubicBezTo>
                <a:cubicBezTo>
                  <a:pt x="24532" y="7466"/>
                  <a:pt x="24571" y="7487"/>
                  <a:pt x="24631" y="7491"/>
                </a:cubicBezTo>
                <a:cubicBezTo>
                  <a:pt x="24652" y="7492"/>
                  <a:pt x="24805" y="7487"/>
                  <a:pt x="24805" y="7466"/>
                </a:cubicBezTo>
                <a:cubicBezTo>
                  <a:pt x="24805" y="7445"/>
                  <a:pt x="24662" y="7509"/>
                  <a:pt x="24656" y="7516"/>
                </a:cubicBezTo>
                <a:cubicBezTo>
                  <a:pt x="24591" y="7586"/>
                  <a:pt x="24600" y="7685"/>
                  <a:pt x="24631" y="7764"/>
                </a:cubicBezTo>
                <a:cubicBezTo>
                  <a:pt x="24663" y="7848"/>
                  <a:pt x="24729" y="7855"/>
                  <a:pt x="24805" y="7863"/>
                </a:cubicBezTo>
              </a:path>
              <a:path w="5309" h="1266">
                <a:moveTo>
                  <a:pt x="24954" y="6846"/>
                </a:moveTo>
                <a:cubicBezTo>
                  <a:pt x="24976" y="6863"/>
                  <a:pt x="25028" y="6891"/>
                  <a:pt x="25053" y="6896"/>
                </a:cubicBezTo>
                <a:cubicBezTo>
                  <a:pt x="25097" y="6896"/>
                  <a:pt x="25111" y="6893"/>
                  <a:pt x="25127" y="6921"/>
                </a:cubicBezTo>
              </a:path>
              <a:path w="5309" h="1266">
                <a:moveTo>
                  <a:pt x="25375" y="6871"/>
                </a:moveTo>
                <a:cubicBezTo>
                  <a:pt x="25375" y="6940"/>
                  <a:pt x="25395" y="7042"/>
                  <a:pt x="25350" y="7094"/>
                </a:cubicBezTo>
                <a:cubicBezTo>
                  <a:pt x="25326" y="7122"/>
                  <a:pt x="25307" y="7179"/>
                  <a:pt x="25326" y="7218"/>
                </a:cubicBezTo>
                <a:cubicBezTo>
                  <a:pt x="25350" y="7243"/>
                  <a:pt x="25358" y="7252"/>
                  <a:pt x="25375" y="7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1160" y="2652840"/>
            <a:ext cx="4044960" cy="687240"/>
          </a:xfrm>
          <a:custGeom>
            <a:avLst/>
            <a:gdLst/>
            <a:ahLst/>
            <a:rect l="l" t="t" r="r" b="b"/>
            <a:pathLst>
              <a:path w="11238" h="1911">
                <a:moveTo>
                  <a:pt x="2530" y="7367"/>
                </a:moveTo>
                <a:cubicBezTo>
                  <a:pt x="2530" y="7576"/>
                  <a:pt x="2544" y="7780"/>
                  <a:pt x="2555" y="7987"/>
                </a:cubicBezTo>
                <a:cubicBezTo>
                  <a:pt x="2565" y="8187"/>
                  <a:pt x="2515" y="8416"/>
                  <a:pt x="2580" y="8607"/>
                </a:cubicBezTo>
                <a:cubicBezTo>
                  <a:pt x="2600" y="8648"/>
                  <a:pt x="2608" y="8654"/>
                  <a:pt x="2604" y="8682"/>
                </a:cubicBezTo>
              </a:path>
              <a:path w="11238" h="1911">
                <a:moveTo>
                  <a:pt x="3150" y="7863"/>
                </a:moveTo>
                <a:cubicBezTo>
                  <a:pt x="3079" y="7899"/>
                  <a:pt x="2973" y="7913"/>
                  <a:pt x="2902" y="7962"/>
                </a:cubicBezTo>
                <a:cubicBezTo>
                  <a:pt x="2779" y="8047"/>
                  <a:pt x="2658" y="8159"/>
                  <a:pt x="2629" y="8310"/>
                </a:cubicBezTo>
                <a:cubicBezTo>
                  <a:pt x="2604" y="8440"/>
                  <a:pt x="2693" y="8516"/>
                  <a:pt x="2803" y="8558"/>
                </a:cubicBezTo>
                <a:cubicBezTo>
                  <a:pt x="2910" y="8599"/>
                  <a:pt x="3087" y="8600"/>
                  <a:pt x="3200" y="8582"/>
                </a:cubicBezTo>
                <a:cubicBezTo>
                  <a:pt x="3274" y="8558"/>
                  <a:pt x="3299" y="8550"/>
                  <a:pt x="3349" y="8533"/>
                </a:cubicBezTo>
              </a:path>
              <a:path w="11238" h="1911">
                <a:moveTo>
                  <a:pt x="3795" y="8359"/>
                </a:moveTo>
                <a:cubicBezTo>
                  <a:pt x="3705" y="8359"/>
                  <a:pt x="3658" y="8384"/>
                  <a:pt x="3572" y="8409"/>
                </a:cubicBezTo>
                <a:cubicBezTo>
                  <a:pt x="3492" y="8432"/>
                  <a:pt x="3458" y="8435"/>
                  <a:pt x="3398" y="8483"/>
                </a:cubicBezTo>
                <a:cubicBezTo>
                  <a:pt x="3431" y="8533"/>
                  <a:pt x="3528" y="8514"/>
                  <a:pt x="3597" y="8533"/>
                </a:cubicBezTo>
                <a:cubicBezTo>
                  <a:pt x="3643" y="8546"/>
                  <a:pt x="3685" y="8579"/>
                  <a:pt x="3721" y="8607"/>
                </a:cubicBezTo>
                <a:cubicBezTo>
                  <a:pt x="3690" y="8685"/>
                  <a:pt x="3637" y="8725"/>
                  <a:pt x="3572" y="8781"/>
                </a:cubicBezTo>
                <a:cubicBezTo>
                  <a:pt x="3547" y="8806"/>
                  <a:pt x="3539" y="8814"/>
                  <a:pt x="3522" y="8830"/>
                </a:cubicBezTo>
              </a:path>
              <a:path w="11238" h="1911">
                <a:moveTo>
                  <a:pt x="3870" y="8682"/>
                </a:moveTo>
                <a:cubicBezTo>
                  <a:pt x="4014" y="8753"/>
                  <a:pt x="4038" y="8765"/>
                  <a:pt x="4043" y="8930"/>
                </a:cubicBezTo>
                <a:cubicBezTo>
                  <a:pt x="4046" y="9027"/>
                  <a:pt x="4049" y="9161"/>
                  <a:pt x="4018" y="9252"/>
                </a:cubicBezTo>
                <a:cubicBezTo>
                  <a:pt x="3996" y="9275"/>
                  <a:pt x="3991" y="9283"/>
                  <a:pt x="3969" y="9277"/>
                </a:cubicBezTo>
                <a:cubicBezTo>
                  <a:pt x="3980" y="9129"/>
                  <a:pt x="4005" y="8967"/>
                  <a:pt x="4068" y="8830"/>
                </a:cubicBezTo>
                <a:cubicBezTo>
                  <a:pt x="4138" y="8677"/>
                  <a:pt x="4242" y="8508"/>
                  <a:pt x="4415" y="8458"/>
                </a:cubicBezTo>
                <a:cubicBezTo>
                  <a:pt x="4475" y="8441"/>
                  <a:pt x="4567" y="8455"/>
                  <a:pt x="4614" y="8483"/>
                </a:cubicBezTo>
                <a:cubicBezTo>
                  <a:pt x="4549" y="8586"/>
                  <a:pt x="4464" y="8656"/>
                  <a:pt x="4366" y="8731"/>
                </a:cubicBezTo>
                <a:cubicBezTo>
                  <a:pt x="4297" y="8784"/>
                  <a:pt x="4268" y="8815"/>
                  <a:pt x="4192" y="8830"/>
                </a:cubicBezTo>
              </a:path>
              <a:path w="11238" h="1911">
                <a:moveTo>
                  <a:pt x="5060" y="8186"/>
                </a:moveTo>
                <a:cubicBezTo>
                  <a:pt x="5122" y="8238"/>
                  <a:pt x="5113" y="8235"/>
                  <a:pt x="5184" y="8235"/>
                </a:cubicBezTo>
                <a:cubicBezTo>
                  <a:pt x="5242" y="8235"/>
                  <a:pt x="5300" y="8235"/>
                  <a:pt x="5358" y="8235"/>
                </a:cubicBezTo>
              </a:path>
              <a:path w="11238" h="1911">
                <a:moveTo>
                  <a:pt x="5135" y="8582"/>
                </a:moveTo>
                <a:cubicBezTo>
                  <a:pt x="5135" y="8599"/>
                  <a:pt x="5135" y="8615"/>
                  <a:pt x="5135" y="8632"/>
                </a:cubicBezTo>
                <a:cubicBezTo>
                  <a:pt x="5232" y="8620"/>
                  <a:pt x="5294" y="8572"/>
                  <a:pt x="5383" y="8533"/>
                </a:cubicBezTo>
                <a:cubicBezTo>
                  <a:pt x="5465" y="8505"/>
                  <a:pt x="5497" y="8495"/>
                  <a:pt x="5556" y="8483"/>
                </a:cubicBezTo>
              </a:path>
              <a:path w="11238" h="1911">
                <a:moveTo>
                  <a:pt x="6499" y="7813"/>
                </a:moveTo>
                <a:cubicBezTo>
                  <a:pt x="6459" y="7782"/>
                  <a:pt x="6429" y="7766"/>
                  <a:pt x="6375" y="7764"/>
                </a:cubicBezTo>
                <a:cubicBezTo>
                  <a:pt x="6210" y="7756"/>
                  <a:pt x="6044" y="7764"/>
                  <a:pt x="5879" y="7764"/>
                </a:cubicBezTo>
                <a:cubicBezTo>
                  <a:pt x="5886" y="7836"/>
                  <a:pt x="5906" y="7870"/>
                  <a:pt x="5928" y="7938"/>
                </a:cubicBezTo>
                <a:cubicBezTo>
                  <a:pt x="5969" y="8068"/>
                  <a:pt x="5978" y="8174"/>
                  <a:pt x="5978" y="8310"/>
                </a:cubicBezTo>
                <a:cubicBezTo>
                  <a:pt x="5978" y="8438"/>
                  <a:pt x="5944" y="8558"/>
                  <a:pt x="5928" y="8682"/>
                </a:cubicBezTo>
                <a:cubicBezTo>
                  <a:pt x="5920" y="8746"/>
                  <a:pt x="5946" y="8810"/>
                  <a:pt x="6003" y="8830"/>
                </a:cubicBezTo>
                <a:cubicBezTo>
                  <a:pt x="6054" y="8848"/>
                  <a:pt x="6180" y="8819"/>
                  <a:pt x="6226" y="8806"/>
                </a:cubicBezTo>
                <a:cubicBezTo>
                  <a:pt x="6301" y="8785"/>
                  <a:pt x="6371" y="8766"/>
                  <a:pt x="6449" y="8756"/>
                </a:cubicBezTo>
              </a:path>
              <a:path w="11238" h="1911">
                <a:moveTo>
                  <a:pt x="6672" y="8086"/>
                </a:moveTo>
                <a:cubicBezTo>
                  <a:pt x="6650" y="8064"/>
                  <a:pt x="6642" y="8059"/>
                  <a:pt x="6648" y="8037"/>
                </a:cubicBezTo>
                <a:cubicBezTo>
                  <a:pt x="6597" y="8054"/>
                  <a:pt x="6623" y="8152"/>
                  <a:pt x="6623" y="8210"/>
                </a:cubicBezTo>
                <a:cubicBezTo>
                  <a:pt x="6623" y="8325"/>
                  <a:pt x="6611" y="8473"/>
                  <a:pt x="6648" y="8582"/>
                </a:cubicBezTo>
                <a:cubicBezTo>
                  <a:pt x="6656" y="8590"/>
                  <a:pt x="6664" y="8599"/>
                  <a:pt x="6672" y="8607"/>
                </a:cubicBezTo>
                <a:cubicBezTo>
                  <a:pt x="6713" y="8539"/>
                  <a:pt x="6707" y="8416"/>
                  <a:pt x="6697" y="8334"/>
                </a:cubicBezTo>
                <a:cubicBezTo>
                  <a:pt x="6688" y="8255"/>
                  <a:pt x="6615" y="8036"/>
                  <a:pt x="6648" y="7962"/>
                </a:cubicBezTo>
                <a:cubicBezTo>
                  <a:pt x="6679" y="7892"/>
                  <a:pt x="6809" y="7903"/>
                  <a:pt x="6871" y="7913"/>
                </a:cubicBezTo>
                <a:cubicBezTo>
                  <a:pt x="6961" y="7928"/>
                  <a:pt x="7027" y="7938"/>
                  <a:pt x="7119" y="7938"/>
                </a:cubicBezTo>
              </a:path>
              <a:path w="11238" h="1911">
                <a:moveTo>
                  <a:pt x="6772" y="8161"/>
                </a:moveTo>
                <a:cubicBezTo>
                  <a:pt x="6739" y="8194"/>
                  <a:pt x="6705" y="8227"/>
                  <a:pt x="6672" y="8260"/>
                </a:cubicBezTo>
                <a:cubicBezTo>
                  <a:pt x="6745" y="8319"/>
                  <a:pt x="6825" y="8324"/>
                  <a:pt x="6921" y="8310"/>
                </a:cubicBezTo>
                <a:cubicBezTo>
                  <a:pt x="6954" y="8302"/>
                  <a:pt x="6987" y="8293"/>
                  <a:pt x="7020" y="8285"/>
                </a:cubicBezTo>
              </a:path>
              <a:path w="11238" h="1911">
                <a:moveTo>
                  <a:pt x="7020" y="8533"/>
                </a:moveTo>
                <a:cubicBezTo>
                  <a:pt x="7084" y="8609"/>
                  <a:pt x="7124" y="8579"/>
                  <a:pt x="7218" y="8533"/>
                </a:cubicBezTo>
                <a:cubicBezTo>
                  <a:pt x="7347" y="8470"/>
                  <a:pt x="7404" y="8417"/>
                  <a:pt x="7491" y="8310"/>
                </a:cubicBezTo>
                <a:cubicBezTo>
                  <a:pt x="7499" y="8302"/>
                  <a:pt x="7508" y="8293"/>
                  <a:pt x="7516" y="8285"/>
                </a:cubicBezTo>
                <a:cubicBezTo>
                  <a:pt x="7458" y="8215"/>
                  <a:pt x="7412" y="8223"/>
                  <a:pt x="7317" y="8260"/>
                </a:cubicBezTo>
                <a:cubicBezTo>
                  <a:pt x="7234" y="8292"/>
                  <a:pt x="7175" y="8365"/>
                  <a:pt x="7193" y="8458"/>
                </a:cubicBezTo>
                <a:cubicBezTo>
                  <a:pt x="7212" y="8560"/>
                  <a:pt x="7338" y="8599"/>
                  <a:pt x="7417" y="8632"/>
                </a:cubicBezTo>
              </a:path>
              <a:path w="11238" h="1911">
                <a:moveTo>
                  <a:pt x="7789" y="7863"/>
                </a:moveTo>
                <a:cubicBezTo>
                  <a:pt x="7802" y="7903"/>
                  <a:pt x="7836" y="7911"/>
                  <a:pt x="7888" y="7913"/>
                </a:cubicBezTo>
                <a:cubicBezTo>
                  <a:pt x="7962" y="7913"/>
                  <a:pt x="7987" y="7913"/>
                  <a:pt x="8037" y="7913"/>
                </a:cubicBezTo>
              </a:path>
              <a:path w="11238" h="1911">
                <a:moveTo>
                  <a:pt x="8012" y="7764"/>
                </a:moveTo>
                <a:cubicBezTo>
                  <a:pt x="8002" y="7841"/>
                  <a:pt x="7973" y="7909"/>
                  <a:pt x="7962" y="7987"/>
                </a:cubicBezTo>
                <a:cubicBezTo>
                  <a:pt x="7955" y="8034"/>
                  <a:pt x="7962" y="8089"/>
                  <a:pt x="7962" y="8136"/>
                </a:cubicBezTo>
              </a:path>
              <a:path w="11238" h="1911">
                <a:moveTo>
                  <a:pt x="8235" y="7913"/>
                </a:moveTo>
                <a:cubicBezTo>
                  <a:pt x="8227" y="7913"/>
                  <a:pt x="8218" y="7913"/>
                  <a:pt x="8210" y="7913"/>
                </a:cubicBezTo>
                <a:cubicBezTo>
                  <a:pt x="8260" y="7883"/>
                  <a:pt x="8297" y="7888"/>
                  <a:pt x="8359" y="7888"/>
                </a:cubicBezTo>
                <a:cubicBezTo>
                  <a:pt x="8415" y="7888"/>
                  <a:pt x="8421" y="7873"/>
                  <a:pt x="8434" y="7913"/>
                </a:cubicBezTo>
                <a:cubicBezTo>
                  <a:pt x="8386" y="7960"/>
                  <a:pt x="8334" y="7991"/>
                  <a:pt x="8285" y="8037"/>
                </a:cubicBezTo>
                <a:cubicBezTo>
                  <a:pt x="8255" y="8065"/>
                  <a:pt x="8244" y="8075"/>
                  <a:pt x="8235" y="8111"/>
                </a:cubicBezTo>
                <a:cubicBezTo>
                  <a:pt x="8311" y="8111"/>
                  <a:pt x="8364" y="8112"/>
                  <a:pt x="8434" y="8086"/>
                </a:cubicBezTo>
              </a:path>
              <a:path w="11238" h="1911">
                <a:moveTo>
                  <a:pt x="8582" y="7615"/>
                </a:moveTo>
                <a:cubicBezTo>
                  <a:pt x="8623" y="7656"/>
                  <a:pt x="8629" y="7662"/>
                  <a:pt x="8657" y="7714"/>
                </a:cubicBezTo>
                <a:cubicBezTo>
                  <a:pt x="8733" y="7856"/>
                  <a:pt x="8812" y="8024"/>
                  <a:pt x="8830" y="8186"/>
                </a:cubicBezTo>
                <a:cubicBezTo>
                  <a:pt x="8849" y="8356"/>
                  <a:pt x="8786" y="8511"/>
                  <a:pt x="8706" y="8657"/>
                </a:cubicBezTo>
                <a:cubicBezTo>
                  <a:pt x="8646" y="8766"/>
                  <a:pt x="8571" y="8849"/>
                  <a:pt x="8508" y="8954"/>
                </a:cubicBezTo>
              </a:path>
              <a:path w="11238" h="1911">
                <a:moveTo>
                  <a:pt x="8310" y="7615"/>
                </a:moveTo>
                <a:cubicBezTo>
                  <a:pt x="8406" y="7615"/>
                  <a:pt x="8487" y="7618"/>
                  <a:pt x="8582" y="7640"/>
                </a:cubicBezTo>
                <a:cubicBezTo>
                  <a:pt x="8687" y="7664"/>
                  <a:pt x="8798" y="7684"/>
                  <a:pt x="8905" y="7689"/>
                </a:cubicBezTo>
                <a:cubicBezTo>
                  <a:pt x="8921" y="7689"/>
                  <a:pt x="8938" y="7689"/>
                  <a:pt x="8954" y="7689"/>
                </a:cubicBezTo>
                <a:cubicBezTo>
                  <a:pt x="8954" y="7740"/>
                  <a:pt x="8943" y="7772"/>
                  <a:pt x="8930" y="7813"/>
                </a:cubicBezTo>
                <a:cubicBezTo>
                  <a:pt x="8892" y="7937"/>
                  <a:pt x="8865" y="8055"/>
                  <a:pt x="8855" y="8186"/>
                </a:cubicBezTo>
                <a:cubicBezTo>
                  <a:pt x="8844" y="8331"/>
                  <a:pt x="8866" y="8465"/>
                  <a:pt x="8830" y="8607"/>
                </a:cubicBezTo>
                <a:cubicBezTo>
                  <a:pt x="8803" y="8712"/>
                  <a:pt x="8776" y="8823"/>
                  <a:pt x="8756" y="8930"/>
                </a:cubicBezTo>
                <a:cubicBezTo>
                  <a:pt x="8746" y="8982"/>
                  <a:pt x="8735" y="9026"/>
                  <a:pt x="8731" y="9079"/>
                </a:cubicBezTo>
                <a:cubicBezTo>
                  <a:pt x="8731" y="9087"/>
                  <a:pt x="8731" y="9095"/>
                  <a:pt x="8731" y="9103"/>
                </a:cubicBezTo>
                <a:cubicBezTo>
                  <a:pt x="8688" y="9087"/>
                  <a:pt x="8631" y="9060"/>
                  <a:pt x="8582" y="9054"/>
                </a:cubicBezTo>
                <a:cubicBezTo>
                  <a:pt x="8414" y="9032"/>
                  <a:pt x="8232" y="9054"/>
                  <a:pt x="8062" y="9054"/>
                </a:cubicBezTo>
              </a:path>
              <a:path w="11238" h="1911">
                <a:moveTo>
                  <a:pt x="10170" y="7739"/>
                </a:moveTo>
                <a:cubicBezTo>
                  <a:pt x="10146" y="7753"/>
                  <a:pt x="10148" y="7761"/>
                  <a:pt x="10096" y="7764"/>
                </a:cubicBezTo>
                <a:cubicBezTo>
                  <a:pt x="9944" y="7773"/>
                  <a:pt x="9795" y="7766"/>
                  <a:pt x="9649" y="7789"/>
                </a:cubicBezTo>
                <a:cubicBezTo>
                  <a:pt x="9583" y="7799"/>
                  <a:pt x="9586" y="7794"/>
                  <a:pt x="9550" y="7863"/>
                </a:cubicBezTo>
                <a:cubicBezTo>
                  <a:pt x="9503" y="7951"/>
                  <a:pt x="9525" y="8063"/>
                  <a:pt x="9525" y="8161"/>
                </a:cubicBezTo>
                <a:cubicBezTo>
                  <a:pt x="9525" y="8318"/>
                  <a:pt x="9489" y="8463"/>
                  <a:pt x="9426" y="8607"/>
                </a:cubicBezTo>
                <a:cubicBezTo>
                  <a:pt x="9380" y="8712"/>
                  <a:pt x="9281" y="8821"/>
                  <a:pt x="9252" y="8930"/>
                </a:cubicBezTo>
                <a:cubicBezTo>
                  <a:pt x="9231" y="9010"/>
                  <a:pt x="9251" y="9049"/>
                  <a:pt x="9327" y="9054"/>
                </a:cubicBezTo>
                <a:cubicBezTo>
                  <a:pt x="9432" y="9060"/>
                  <a:pt x="9500" y="9019"/>
                  <a:pt x="9599" y="9004"/>
                </a:cubicBezTo>
                <a:cubicBezTo>
                  <a:pt x="9691" y="8990"/>
                  <a:pt x="9777" y="8979"/>
                  <a:pt x="9872" y="8979"/>
                </a:cubicBezTo>
                <a:cubicBezTo>
                  <a:pt x="9928" y="8979"/>
                  <a:pt x="9942" y="8962"/>
                  <a:pt x="9996" y="8954"/>
                </a:cubicBezTo>
              </a:path>
              <a:path w="11238" h="1911">
                <a:moveTo>
                  <a:pt x="10517" y="8285"/>
                </a:moveTo>
                <a:cubicBezTo>
                  <a:pt x="10543" y="8250"/>
                  <a:pt x="10542" y="8254"/>
                  <a:pt x="10542" y="8210"/>
                </a:cubicBezTo>
                <a:cubicBezTo>
                  <a:pt x="10497" y="8177"/>
                  <a:pt x="10452" y="8164"/>
                  <a:pt x="10393" y="8161"/>
                </a:cubicBezTo>
                <a:cubicBezTo>
                  <a:pt x="10306" y="8156"/>
                  <a:pt x="10224" y="8221"/>
                  <a:pt x="10170" y="8285"/>
                </a:cubicBezTo>
                <a:cubicBezTo>
                  <a:pt x="10113" y="8354"/>
                  <a:pt x="10062" y="8466"/>
                  <a:pt x="10096" y="8558"/>
                </a:cubicBezTo>
                <a:cubicBezTo>
                  <a:pt x="10128" y="8646"/>
                  <a:pt x="10227" y="8719"/>
                  <a:pt x="10319" y="8731"/>
                </a:cubicBezTo>
                <a:cubicBezTo>
                  <a:pt x="10412" y="8743"/>
                  <a:pt x="10482" y="8710"/>
                  <a:pt x="10567" y="8682"/>
                </a:cubicBezTo>
              </a:path>
              <a:path w="11238" h="1911">
                <a:moveTo>
                  <a:pt x="10716" y="8607"/>
                </a:moveTo>
                <a:cubicBezTo>
                  <a:pt x="10772" y="8607"/>
                  <a:pt x="10907" y="8582"/>
                  <a:pt x="10939" y="8632"/>
                </a:cubicBezTo>
                <a:cubicBezTo>
                  <a:pt x="10970" y="8682"/>
                  <a:pt x="10870" y="8759"/>
                  <a:pt x="10840" y="8781"/>
                </a:cubicBezTo>
                <a:cubicBezTo>
                  <a:pt x="10784" y="8822"/>
                  <a:pt x="10748" y="8854"/>
                  <a:pt x="10740" y="8930"/>
                </a:cubicBezTo>
                <a:cubicBezTo>
                  <a:pt x="10740" y="8938"/>
                  <a:pt x="10740" y="8946"/>
                  <a:pt x="10740" y="8954"/>
                </a:cubicBezTo>
                <a:cubicBezTo>
                  <a:pt x="10829" y="8954"/>
                  <a:pt x="10912" y="8945"/>
                  <a:pt x="10988" y="8930"/>
                </a:cubicBezTo>
                <a:cubicBezTo>
                  <a:pt x="11030" y="8930"/>
                  <a:pt x="11038" y="8930"/>
                  <a:pt x="11063" y="8930"/>
                </a:cubicBezTo>
              </a:path>
              <a:path w="11238" h="1911">
                <a:moveTo>
                  <a:pt x="11410" y="8186"/>
                </a:moveTo>
                <a:cubicBezTo>
                  <a:pt x="11323" y="8148"/>
                  <a:pt x="11298" y="8182"/>
                  <a:pt x="11237" y="8260"/>
                </a:cubicBezTo>
                <a:cubicBezTo>
                  <a:pt x="11173" y="8342"/>
                  <a:pt x="11118" y="8476"/>
                  <a:pt x="11137" y="8582"/>
                </a:cubicBezTo>
                <a:cubicBezTo>
                  <a:pt x="11150" y="8656"/>
                  <a:pt x="11239" y="8718"/>
                  <a:pt x="11311" y="8706"/>
                </a:cubicBezTo>
                <a:cubicBezTo>
                  <a:pt x="11429" y="8686"/>
                  <a:pt x="11494" y="8611"/>
                  <a:pt x="11534" y="8508"/>
                </a:cubicBezTo>
                <a:cubicBezTo>
                  <a:pt x="11578" y="8395"/>
                  <a:pt x="11567" y="8274"/>
                  <a:pt x="11534" y="8161"/>
                </a:cubicBezTo>
                <a:cubicBezTo>
                  <a:pt x="11516" y="8098"/>
                  <a:pt x="11478" y="8006"/>
                  <a:pt x="11460" y="8111"/>
                </a:cubicBezTo>
              </a:path>
              <a:path w="11238" h="1911">
                <a:moveTo>
                  <a:pt x="11733" y="8533"/>
                </a:moveTo>
                <a:cubicBezTo>
                  <a:pt x="11733" y="8615"/>
                  <a:pt x="11721" y="8632"/>
                  <a:pt x="11782" y="8682"/>
                </a:cubicBezTo>
                <a:cubicBezTo>
                  <a:pt x="11820" y="8713"/>
                  <a:pt x="11905" y="8720"/>
                  <a:pt x="11956" y="8706"/>
                </a:cubicBezTo>
                <a:cubicBezTo>
                  <a:pt x="12009" y="8692"/>
                  <a:pt x="12073" y="8632"/>
                  <a:pt x="12080" y="8582"/>
                </a:cubicBezTo>
                <a:cubicBezTo>
                  <a:pt x="12080" y="8541"/>
                  <a:pt x="12080" y="8533"/>
                  <a:pt x="12080" y="8508"/>
                </a:cubicBezTo>
                <a:cubicBezTo>
                  <a:pt x="12009" y="8565"/>
                  <a:pt x="11970" y="8617"/>
                  <a:pt x="11931" y="8706"/>
                </a:cubicBezTo>
                <a:cubicBezTo>
                  <a:pt x="11889" y="8801"/>
                  <a:pt x="11893" y="8918"/>
                  <a:pt x="11956" y="9004"/>
                </a:cubicBezTo>
                <a:cubicBezTo>
                  <a:pt x="11972" y="9021"/>
                  <a:pt x="11989" y="9037"/>
                  <a:pt x="12005" y="9054"/>
                </a:cubicBezTo>
              </a:path>
              <a:path w="11238" h="1911">
                <a:moveTo>
                  <a:pt x="12353" y="8086"/>
                </a:moveTo>
                <a:cubicBezTo>
                  <a:pt x="12418" y="8086"/>
                  <a:pt x="12463" y="8107"/>
                  <a:pt x="12526" y="8111"/>
                </a:cubicBezTo>
                <a:cubicBezTo>
                  <a:pt x="12559" y="8113"/>
                  <a:pt x="12593" y="8111"/>
                  <a:pt x="12626" y="8111"/>
                </a:cubicBezTo>
              </a:path>
              <a:path w="11238" h="1911">
                <a:moveTo>
                  <a:pt x="12874" y="7962"/>
                </a:moveTo>
                <a:cubicBezTo>
                  <a:pt x="12911" y="7972"/>
                  <a:pt x="12943" y="7985"/>
                  <a:pt x="12973" y="8012"/>
                </a:cubicBezTo>
                <a:cubicBezTo>
                  <a:pt x="12995" y="8034"/>
                  <a:pt x="13000" y="8043"/>
                  <a:pt x="13022" y="8037"/>
                </a:cubicBezTo>
                <a:cubicBezTo>
                  <a:pt x="13010" y="8085"/>
                  <a:pt x="12975" y="8094"/>
                  <a:pt x="12948" y="8136"/>
                </a:cubicBezTo>
                <a:cubicBezTo>
                  <a:pt x="12925" y="8172"/>
                  <a:pt x="12886" y="8223"/>
                  <a:pt x="12874" y="8260"/>
                </a:cubicBezTo>
                <a:cubicBezTo>
                  <a:pt x="12854" y="8323"/>
                  <a:pt x="12900" y="8331"/>
                  <a:pt x="12948" y="8334"/>
                </a:cubicBezTo>
                <a:cubicBezTo>
                  <a:pt x="13010" y="8338"/>
                  <a:pt x="13040" y="8331"/>
                  <a:pt x="13097" y="8310"/>
                </a:cubicBezTo>
              </a:path>
              <a:path w="11238" h="1911">
                <a:moveTo>
                  <a:pt x="13395" y="7764"/>
                </a:moveTo>
                <a:cubicBezTo>
                  <a:pt x="13444" y="7751"/>
                  <a:pt x="13505" y="7721"/>
                  <a:pt x="13568" y="7739"/>
                </a:cubicBezTo>
                <a:cubicBezTo>
                  <a:pt x="13608" y="7750"/>
                  <a:pt x="13690" y="7789"/>
                  <a:pt x="13717" y="7813"/>
                </a:cubicBezTo>
                <a:cubicBezTo>
                  <a:pt x="13782" y="7870"/>
                  <a:pt x="13761" y="7920"/>
                  <a:pt x="13742" y="7987"/>
                </a:cubicBezTo>
                <a:cubicBezTo>
                  <a:pt x="13703" y="8122"/>
                  <a:pt x="13616" y="8226"/>
                  <a:pt x="13568" y="8359"/>
                </a:cubicBezTo>
                <a:cubicBezTo>
                  <a:pt x="13528" y="8469"/>
                  <a:pt x="13519" y="8567"/>
                  <a:pt x="13519" y="8682"/>
                </a:cubicBezTo>
                <a:cubicBezTo>
                  <a:pt x="13519" y="8812"/>
                  <a:pt x="13520" y="8932"/>
                  <a:pt x="13494" y="9054"/>
                </a:cubicBezTo>
                <a:cubicBezTo>
                  <a:pt x="13494" y="9062"/>
                  <a:pt x="13494" y="9071"/>
                  <a:pt x="13494" y="9079"/>
                </a:cubicBezTo>
                <a:cubicBezTo>
                  <a:pt x="13428" y="9055"/>
                  <a:pt x="13372" y="9042"/>
                  <a:pt x="13295" y="9029"/>
                </a:cubicBezTo>
                <a:cubicBezTo>
                  <a:pt x="13120" y="9000"/>
                  <a:pt x="12951" y="9004"/>
                  <a:pt x="12774" y="9004"/>
                </a:cubicBezTo>
                <a:cubicBezTo>
                  <a:pt x="12716" y="9004"/>
                  <a:pt x="12659" y="9004"/>
                  <a:pt x="12601" y="90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73840" y="2776680"/>
            <a:ext cx="866520" cy="250560"/>
          </a:xfrm>
          <a:custGeom>
            <a:avLst/>
            <a:gdLst/>
            <a:ahLst/>
            <a:rect l="l" t="t" r="r" b="b"/>
            <a:pathLst>
              <a:path w="2407" h="696">
                <a:moveTo>
                  <a:pt x="16694" y="7863"/>
                </a:moveTo>
                <a:cubicBezTo>
                  <a:pt x="16847" y="7834"/>
                  <a:pt x="16908" y="7797"/>
                  <a:pt x="17041" y="7739"/>
                </a:cubicBezTo>
                <a:cubicBezTo>
                  <a:pt x="17049" y="7739"/>
                  <a:pt x="17058" y="7739"/>
                  <a:pt x="17066" y="7739"/>
                </a:cubicBezTo>
                <a:cubicBezTo>
                  <a:pt x="17021" y="7784"/>
                  <a:pt x="16989" y="7828"/>
                  <a:pt x="16966" y="7888"/>
                </a:cubicBezTo>
                <a:cubicBezTo>
                  <a:pt x="16937" y="7963"/>
                  <a:pt x="16921" y="8058"/>
                  <a:pt x="16917" y="8136"/>
                </a:cubicBezTo>
                <a:cubicBezTo>
                  <a:pt x="16917" y="8177"/>
                  <a:pt x="16917" y="8185"/>
                  <a:pt x="16917" y="8210"/>
                </a:cubicBezTo>
              </a:path>
              <a:path w="2407" h="696">
                <a:moveTo>
                  <a:pt x="16594" y="8235"/>
                </a:moveTo>
                <a:cubicBezTo>
                  <a:pt x="16698" y="8287"/>
                  <a:pt x="16754" y="8269"/>
                  <a:pt x="16867" y="8285"/>
                </a:cubicBezTo>
                <a:cubicBezTo>
                  <a:pt x="17029" y="8308"/>
                  <a:pt x="17128" y="8280"/>
                  <a:pt x="17289" y="8260"/>
                </a:cubicBezTo>
                <a:cubicBezTo>
                  <a:pt x="17314" y="8260"/>
                  <a:pt x="17338" y="8260"/>
                  <a:pt x="17363" y="8260"/>
                </a:cubicBezTo>
              </a:path>
              <a:path w="2407" h="696">
                <a:moveTo>
                  <a:pt x="18504" y="7913"/>
                </a:moveTo>
                <a:cubicBezTo>
                  <a:pt x="18549" y="7913"/>
                  <a:pt x="18562" y="7916"/>
                  <a:pt x="18579" y="7888"/>
                </a:cubicBezTo>
                <a:cubicBezTo>
                  <a:pt x="18490" y="7888"/>
                  <a:pt x="18414" y="7899"/>
                  <a:pt x="18331" y="7913"/>
                </a:cubicBezTo>
                <a:cubicBezTo>
                  <a:pt x="18286" y="7913"/>
                  <a:pt x="18273" y="7910"/>
                  <a:pt x="18256" y="7938"/>
                </a:cubicBezTo>
                <a:cubicBezTo>
                  <a:pt x="18270" y="7990"/>
                  <a:pt x="18325" y="8003"/>
                  <a:pt x="18380" y="8012"/>
                </a:cubicBezTo>
                <a:cubicBezTo>
                  <a:pt x="18439" y="8022"/>
                  <a:pt x="18456" y="8024"/>
                  <a:pt x="18504" y="8062"/>
                </a:cubicBezTo>
                <a:cubicBezTo>
                  <a:pt x="18451" y="8114"/>
                  <a:pt x="18414" y="8108"/>
                  <a:pt x="18355" y="8136"/>
                </a:cubicBezTo>
                <a:cubicBezTo>
                  <a:pt x="18347" y="8144"/>
                  <a:pt x="18339" y="8153"/>
                  <a:pt x="18331" y="8161"/>
                </a:cubicBezTo>
              </a:path>
              <a:path w="2407" h="696">
                <a:moveTo>
                  <a:pt x="18827" y="7938"/>
                </a:moveTo>
                <a:cubicBezTo>
                  <a:pt x="18875" y="7965"/>
                  <a:pt x="18946" y="7989"/>
                  <a:pt x="18976" y="8037"/>
                </a:cubicBezTo>
                <a:cubicBezTo>
                  <a:pt x="19009" y="8088"/>
                  <a:pt x="19009" y="8181"/>
                  <a:pt x="18976" y="8235"/>
                </a:cubicBezTo>
                <a:cubicBezTo>
                  <a:pt x="18931" y="8308"/>
                  <a:pt x="18865" y="8354"/>
                  <a:pt x="18802" y="8409"/>
                </a:cubicBezTo>
              </a:path>
              <a:path w="2407" h="696">
                <a:moveTo>
                  <a:pt x="18182" y="7714"/>
                </a:moveTo>
                <a:cubicBezTo>
                  <a:pt x="18138" y="7725"/>
                  <a:pt x="18095" y="7755"/>
                  <a:pt x="18058" y="7789"/>
                </a:cubicBezTo>
                <a:cubicBezTo>
                  <a:pt x="17982" y="7859"/>
                  <a:pt x="17925" y="7957"/>
                  <a:pt x="17909" y="8062"/>
                </a:cubicBezTo>
                <a:cubicBezTo>
                  <a:pt x="17909" y="8144"/>
                  <a:pt x="17909" y="8177"/>
                  <a:pt x="17909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96120" y="2786040"/>
            <a:ext cx="268200" cy="223920"/>
          </a:xfrm>
          <a:custGeom>
            <a:avLst/>
            <a:gdLst/>
            <a:ahLst/>
            <a:rect l="l" t="t" r="r" b="b"/>
            <a:pathLst>
              <a:path w="746" h="621">
                <a:moveTo>
                  <a:pt x="20414" y="7938"/>
                </a:moveTo>
                <a:cubicBezTo>
                  <a:pt x="20371" y="7917"/>
                  <a:pt x="20450" y="7884"/>
                  <a:pt x="20489" y="7863"/>
                </a:cubicBezTo>
                <a:cubicBezTo>
                  <a:pt x="20557" y="7827"/>
                  <a:pt x="20629" y="7816"/>
                  <a:pt x="20687" y="7764"/>
                </a:cubicBezTo>
                <a:cubicBezTo>
                  <a:pt x="20710" y="7741"/>
                  <a:pt x="20714" y="7733"/>
                  <a:pt x="20737" y="7739"/>
                </a:cubicBezTo>
                <a:cubicBezTo>
                  <a:pt x="20725" y="7834"/>
                  <a:pt x="20678" y="7876"/>
                  <a:pt x="20638" y="7962"/>
                </a:cubicBezTo>
                <a:cubicBezTo>
                  <a:pt x="20600" y="8044"/>
                  <a:pt x="20563" y="8149"/>
                  <a:pt x="20538" y="8235"/>
                </a:cubicBezTo>
                <a:cubicBezTo>
                  <a:pt x="20538" y="8268"/>
                  <a:pt x="20538" y="8285"/>
                  <a:pt x="20538" y="8310"/>
                </a:cubicBezTo>
              </a:path>
              <a:path w="746" h="621">
                <a:moveTo>
                  <a:pt x="20265" y="8359"/>
                </a:moveTo>
                <a:cubicBezTo>
                  <a:pt x="20513" y="8359"/>
                  <a:pt x="20762" y="8359"/>
                  <a:pt x="21010" y="83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23200" y="2901960"/>
            <a:ext cx="293760" cy="214200"/>
          </a:xfrm>
          <a:custGeom>
            <a:avLst/>
            <a:gdLst/>
            <a:ahLst/>
            <a:rect l="l" t="t" r="r" b="b"/>
            <a:pathLst>
              <a:path w="820" h="596">
                <a:moveTo>
                  <a:pt x="23316" y="8235"/>
                </a:moveTo>
                <a:cubicBezTo>
                  <a:pt x="23336" y="8294"/>
                  <a:pt x="23391" y="8229"/>
                  <a:pt x="23440" y="8210"/>
                </a:cubicBezTo>
                <a:cubicBezTo>
                  <a:pt x="23551" y="8167"/>
                  <a:pt x="23655" y="8135"/>
                  <a:pt x="23763" y="8086"/>
                </a:cubicBezTo>
                <a:cubicBezTo>
                  <a:pt x="23838" y="8052"/>
                  <a:pt x="23837" y="8040"/>
                  <a:pt x="23788" y="8086"/>
                </a:cubicBezTo>
                <a:cubicBezTo>
                  <a:pt x="23703" y="8164"/>
                  <a:pt x="23660" y="8257"/>
                  <a:pt x="23614" y="8359"/>
                </a:cubicBezTo>
                <a:cubicBezTo>
                  <a:pt x="23589" y="8415"/>
                  <a:pt x="23576" y="8474"/>
                  <a:pt x="23564" y="8533"/>
                </a:cubicBezTo>
              </a:path>
              <a:path w="820" h="596">
                <a:moveTo>
                  <a:pt x="23118" y="8582"/>
                </a:moveTo>
                <a:cubicBezTo>
                  <a:pt x="23249" y="8582"/>
                  <a:pt x="23386" y="8590"/>
                  <a:pt x="23515" y="8607"/>
                </a:cubicBezTo>
                <a:cubicBezTo>
                  <a:pt x="23640" y="8623"/>
                  <a:pt x="23764" y="8640"/>
                  <a:pt x="23887" y="8657"/>
                </a:cubicBezTo>
                <a:cubicBezTo>
                  <a:pt x="23904" y="8657"/>
                  <a:pt x="23920" y="8657"/>
                  <a:pt x="23937" y="86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65200" y="3544920"/>
            <a:ext cx="2670120" cy="509400"/>
          </a:xfrm>
          <a:custGeom>
            <a:avLst/>
            <a:gdLst/>
            <a:ahLst/>
            <a:rect l="l" t="t" r="r" b="b"/>
            <a:pathLst>
              <a:path w="7418" h="1415">
                <a:moveTo>
                  <a:pt x="4093" y="10344"/>
                </a:moveTo>
                <a:cubicBezTo>
                  <a:pt x="4080" y="10395"/>
                  <a:pt x="4054" y="10393"/>
                  <a:pt x="4118" y="10393"/>
                </a:cubicBezTo>
                <a:cubicBezTo>
                  <a:pt x="4077" y="10434"/>
                  <a:pt x="4049" y="10443"/>
                  <a:pt x="4118" y="10443"/>
                </a:cubicBezTo>
                <a:cubicBezTo>
                  <a:pt x="4156" y="10443"/>
                  <a:pt x="4142" y="10425"/>
                  <a:pt x="4142" y="10393"/>
                </a:cubicBezTo>
                <a:cubicBezTo>
                  <a:pt x="4118" y="10393"/>
                  <a:pt x="4110" y="10393"/>
                  <a:pt x="4118" y="10418"/>
                </a:cubicBezTo>
              </a:path>
              <a:path w="7418" h="1415">
                <a:moveTo>
                  <a:pt x="4812" y="10046"/>
                </a:moveTo>
                <a:cubicBezTo>
                  <a:pt x="4787" y="9972"/>
                  <a:pt x="4734" y="10081"/>
                  <a:pt x="4713" y="10120"/>
                </a:cubicBezTo>
                <a:cubicBezTo>
                  <a:pt x="4661" y="10217"/>
                  <a:pt x="4563" y="10349"/>
                  <a:pt x="4614" y="10468"/>
                </a:cubicBezTo>
                <a:cubicBezTo>
                  <a:pt x="4661" y="10576"/>
                  <a:pt x="4830" y="10549"/>
                  <a:pt x="4911" y="10517"/>
                </a:cubicBezTo>
                <a:cubicBezTo>
                  <a:pt x="4994" y="10485"/>
                  <a:pt x="5129" y="10384"/>
                  <a:pt x="5159" y="10294"/>
                </a:cubicBezTo>
                <a:cubicBezTo>
                  <a:pt x="5184" y="10218"/>
                  <a:pt x="5122" y="10102"/>
                  <a:pt x="5060" y="10071"/>
                </a:cubicBezTo>
                <a:cubicBezTo>
                  <a:pt x="5002" y="10042"/>
                  <a:pt x="4970" y="10046"/>
                  <a:pt x="4911" y="10046"/>
                </a:cubicBezTo>
              </a:path>
              <a:path w="7418" h="1415">
                <a:moveTo>
                  <a:pt x="5755" y="9996"/>
                </a:moveTo>
                <a:cubicBezTo>
                  <a:pt x="5742" y="9957"/>
                  <a:pt x="5743" y="9986"/>
                  <a:pt x="5730" y="9947"/>
                </a:cubicBezTo>
                <a:cubicBezTo>
                  <a:pt x="5661" y="9960"/>
                  <a:pt x="5596" y="10009"/>
                  <a:pt x="5556" y="10071"/>
                </a:cubicBezTo>
                <a:cubicBezTo>
                  <a:pt x="5501" y="10157"/>
                  <a:pt x="5421" y="10364"/>
                  <a:pt x="5457" y="10468"/>
                </a:cubicBezTo>
                <a:cubicBezTo>
                  <a:pt x="5483" y="10542"/>
                  <a:pt x="5607" y="10604"/>
                  <a:pt x="5680" y="10592"/>
                </a:cubicBezTo>
                <a:cubicBezTo>
                  <a:pt x="5756" y="10579"/>
                  <a:pt x="5829" y="10517"/>
                  <a:pt x="5854" y="10443"/>
                </a:cubicBezTo>
                <a:cubicBezTo>
                  <a:pt x="5854" y="10418"/>
                  <a:pt x="5854" y="10410"/>
                  <a:pt x="5854" y="10393"/>
                </a:cubicBezTo>
                <a:cubicBezTo>
                  <a:pt x="5773" y="10358"/>
                  <a:pt x="5759" y="10378"/>
                  <a:pt x="5680" y="10418"/>
                </a:cubicBezTo>
                <a:cubicBezTo>
                  <a:pt x="5657" y="10429"/>
                  <a:pt x="5562" y="10502"/>
                  <a:pt x="5606" y="10542"/>
                </a:cubicBezTo>
                <a:cubicBezTo>
                  <a:pt x="5622" y="10550"/>
                  <a:pt x="5639" y="10559"/>
                  <a:pt x="5655" y="10567"/>
                </a:cubicBezTo>
              </a:path>
              <a:path w="7418" h="1415">
                <a:moveTo>
                  <a:pt x="6350" y="10046"/>
                </a:moveTo>
                <a:cubicBezTo>
                  <a:pt x="6457" y="10046"/>
                  <a:pt x="6565" y="10046"/>
                  <a:pt x="6672" y="10046"/>
                </a:cubicBezTo>
              </a:path>
              <a:path w="7418" h="1415">
                <a:moveTo>
                  <a:pt x="6350" y="10046"/>
                </a:moveTo>
                <a:cubicBezTo>
                  <a:pt x="6304" y="10083"/>
                  <a:pt x="6246" y="10108"/>
                  <a:pt x="6201" y="10145"/>
                </a:cubicBezTo>
                <a:cubicBezTo>
                  <a:pt x="6156" y="10183"/>
                  <a:pt x="6059" y="10259"/>
                  <a:pt x="6052" y="10319"/>
                </a:cubicBezTo>
                <a:cubicBezTo>
                  <a:pt x="6052" y="10327"/>
                  <a:pt x="6052" y="10336"/>
                  <a:pt x="6052" y="10344"/>
                </a:cubicBezTo>
                <a:cubicBezTo>
                  <a:pt x="6125" y="10344"/>
                  <a:pt x="6177" y="10323"/>
                  <a:pt x="6251" y="10319"/>
                </a:cubicBezTo>
                <a:cubicBezTo>
                  <a:pt x="6299" y="10317"/>
                  <a:pt x="6395" y="10298"/>
                  <a:pt x="6424" y="10344"/>
                </a:cubicBezTo>
                <a:cubicBezTo>
                  <a:pt x="6444" y="10376"/>
                  <a:pt x="6420" y="10465"/>
                  <a:pt x="6400" y="10492"/>
                </a:cubicBezTo>
                <a:cubicBezTo>
                  <a:pt x="6346" y="10563"/>
                  <a:pt x="6260" y="10636"/>
                  <a:pt x="6176" y="10666"/>
                </a:cubicBezTo>
                <a:cubicBezTo>
                  <a:pt x="6137" y="10680"/>
                  <a:pt x="6111" y="10668"/>
                  <a:pt x="6102" y="10641"/>
                </a:cubicBezTo>
              </a:path>
              <a:path w="7418" h="1415">
                <a:moveTo>
                  <a:pt x="7169" y="10120"/>
                </a:moveTo>
                <a:cubicBezTo>
                  <a:pt x="7098" y="10091"/>
                  <a:pt x="7068" y="10088"/>
                  <a:pt x="6995" y="10120"/>
                </a:cubicBezTo>
                <a:cubicBezTo>
                  <a:pt x="6937" y="10146"/>
                  <a:pt x="6900" y="10177"/>
                  <a:pt x="6896" y="10244"/>
                </a:cubicBezTo>
                <a:cubicBezTo>
                  <a:pt x="6891" y="10313"/>
                  <a:pt x="6946" y="10361"/>
                  <a:pt x="7020" y="10344"/>
                </a:cubicBezTo>
                <a:cubicBezTo>
                  <a:pt x="7079" y="10331"/>
                  <a:pt x="7151" y="10310"/>
                  <a:pt x="7169" y="10244"/>
                </a:cubicBezTo>
                <a:cubicBezTo>
                  <a:pt x="7186" y="10180"/>
                  <a:pt x="7156" y="10196"/>
                  <a:pt x="7193" y="10145"/>
                </a:cubicBezTo>
                <a:cubicBezTo>
                  <a:pt x="7193" y="10203"/>
                  <a:pt x="7181" y="10263"/>
                  <a:pt x="7169" y="10319"/>
                </a:cubicBezTo>
                <a:cubicBezTo>
                  <a:pt x="7148" y="10420"/>
                  <a:pt x="7116" y="10549"/>
                  <a:pt x="7069" y="10641"/>
                </a:cubicBezTo>
                <a:cubicBezTo>
                  <a:pt x="7036" y="10705"/>
                  <a:pt x="6971" y="10775"/>
                  <a:pt x="6945" y="10840"/>
                </a:cubicBezTo>
                <a:cubicBezTo>
                  <a:pt x="6945" y="10848"/>
                  <a:pt x="6945" y="10856"/>
                  <a:pt x="6945" y="10864"/>
                </a:cubicBezTo>
              </a:path>
              <a:path w="7418" h="1415">
                <a:moveTo>
                  <a:pt x="8409" y="9847"/>
                </a:moveTo>
                <a:cubicBezTo>
                  <a:pt x="8377" y="9898"/>
                  <a:pt x="8334" y="9947"/>
                  <a:pt x="8285" y="9996"/>
                </a:cubicBezTo>
                <a:cubicBezTo>
                  <a:pt x="8137" y="10144"/>
                  <a:pt x="7982" y="10293"/>
                  <a:pt x="7838" y="10443"/>
                </a:cubicBezTo>
                <a:cubicBezTo>
                  <a:pt x="7696" y="10591"/>
                  <a:pt x="7564" y="10774"/>
                  <a:pt x="7441" y="10939"/>
                </a:cubicBezTo>
                <a:cubicBezTo>
                  <a:pt x="7382" y="11018"/>
                  <a:pt x="7322" y="11106"/>
                  <a:pt x="7268" y="11187"/>
                </a:cubicBezTo>
                <a:cubicBezTo>
                  <a:pt x="7248" y="11227"/>
                  <a:pt x="7239" y="11234"/>
                  <a:pt x="7243" y="11261"/>
                </a:cubicBezTo>
              </a:path>
              <a:path w="7418" h="1415">
                <a:moveTo>
                  <a:pt x="8235" y="10567"/>
                </a:moveTo>
                <a:cubicBezTo>
                  <a:pt x="8212" y="10544"/>
                  <a:pt x="8177" y="10660"/>
                  <a:pt x="8161" y="10716"/>
                </a:cubicBezTo>
                <a:cubicBezTo>
                  <a:pt x="8132" y="10817"/>
                  <a:pt x="8136" y="10909"/>
                  <a:pt x="8136" y="11013"/>
                </a:cubicBezTo>
                <a:cubicBezTo>
                  <a:pt x="8136" y="11021"/>
                  <a:pt x="8136" y="11030"/>
                  <a:pt x="8136" y="11038"/>
                </a:cubicBezTo>
              </a:path>
              <a:path w="7418" h="1415">
                <a:moveTo>
                  <a:pt x="8558" y="10542"/>
                </a:moveTo>
                <a:cubicBezTo>
                  <a:pt x="8590" y="10559"/>
                  <a:pt x="8539" y="10582"/>
                  <a:pt x="8558" y="10641"/>
                </a:cubicBezTo>
                <a:cubicBezTo>
                  <a:pt x="8589" y="10737"/>
                  <a:pt x="8621" y="10751"/>
                  <a:pt x="8706" y="10790"/>
                </a:cubicBezTo>
                <a:cubicBezTo>
                  <a:pt x="8804" y="10834"/>
                  <a:pt x="8851" y="10808"/>
                  <a:pt x="8930" y="10740"/>
                </a:cubicBezTo>
                <a:cubicBezTo>
                  <a:pt x="8969" y="10707"/>
                  <a:pt x="9021" y="10620"/>
                  <a:pt x="9004" y="10567"/>
                </a:cubicBezTo>
                <a:cubicBezTo>
                  <a:pt x="8996" y="10559"/>
                  <a:pt x="8987" y="10550"/>
                  <a:pt x="8979" y="10542"/>
                </a:cubicBezTo>
                <a:cubicBezTo>
                  <a:pt x="8926" y="10542"/>
                  <a:pt x="8878" y="10589"/>
                  <a:pt x="8855" y="10641"/>
                </a:cubicBezTo>
                <a:cubicBezTo>
                  <a:pt x="8807" y="10751"/>
                  <a:pt x="8821" y="10903"/>
                  <a:pt x="8855" y="11013"/>
                </a:cubicBezTo>
                <a:cubicBezTo>
                  <a:pt x="8875" y="11079"/>
                  <a:pt x="8903" y="11100"/>
                  <a:pt x="8954" y="11137"/>
                </a:cubicBezTo>
              </a:path>
              <a:path w="7418" h="1415">
                <a:moveTo>
                  <a:pt x="9426" y="10517"/>
                </a:moveTo>
                <a:cubicBezTo>
                  <a:pt x="9508" y="10481"/>
                  <a:pt x="9493" y="10496"/>
                  <a:pt x="9575" y="10517"/>
                </a:cubicBezTo>
                <a:cubicBezTo>
                  <a:pt x="9617" y="10528"/>
                  <a:pt x="9668" y="10559"/>
                  <a:pt x="9649" y="10616"/>
                </a:cubicBezTo>
                <a:cubicBezTo>
                  <a:pt x="9626" y="10685"/>
                  <a:pt x="9527" y="10704"/>
                  <a:pt x="9475" y="10740"/>
                </a:cubicBezTo>
                <a:cubicBezTo>
                  <a:pt x="9451" y="10765"/>
                  <a:pt x="9443" y="10774"/>
                  <a:pt x="9426" y="10790"/>
                </a:cubicBezTo>
                <a:cubicBezTo>
                  <a:pt x="9478" y="10830"/>
                  <a:pt x="9517" y="10792"/>
                  <a:pt x="9575" y="10815"/>
                </a:cubicBezTo>
                <a:cubicBezTo>
                  <a:pt x="9606" y="10827"/>
                  <a:pt x="9674" y="10869"/>
                  <a:pt x="9649" y="10914"/>
                </a:cubicBezTo>
                <a:cubicBezTo>
                  <a:pt x="9615" y="10975"/>
                  <a:pt x="9533" y="11030"/>
                  <a:pt x="9475" y="11063"/>
                </a:cubicBezTo>
                <a:cubicBezTo>
                  <a:pt x="9459" y="11071"/>
                  <a:pt x="9442" y="11080"/>
                  <a:pt x="9426" y="11088"/>
                </a:cubicBezTo>
              </a:path>
              <a:path w="7418" h="1415">
                <a:moveTo>
                  <a:pt x="9823" y="11038"/>
                </a:moveTo>
                <a:cubicBezTo>
                  <a:pt x="9815" y="11038"/>
                  <a:pt x="9806" y="11038"/>
                  <a:pt x="9798" y="11038"/>
                </a:cubicBezTo>
              </a:path>
              <a:path w="7418" h="1415">
                <a:moveTo>
                  <a:pt x="10468" y="10567"/>
                </a:moveTo>
                <a:cubicBezTo>
                  <a:pt x="10393" y="10530"/>
                  <a:pt x="10352" y="10517"/>
                  <a:pt x="10269" y="10517"/>
                </a:cubicBezTo>
                <a:cubicBezTo>
                  <a:pt x="10214" y="10517"/>
                  <a:pt x="10071" y="10522"/>
                  <a:pt x="10046" y="10592"/>
                </a:cubicBezTo>
                <a:cubicBezTo>
                  <a:pt x="10009" y="10696"/>
                  <a:pt x="10138" y="10732"/>
                  <a:pt x="10195" y="10765"/>
                </a:cubicBezTo>
                <a:cubicBezTo>
                  <a:pt x="10270" y="10808"/>
                  <a:pt x="10340" y="10850"/>
                  <a:pt x="10418" y="10889"/>
                </a:cubicBezTo>
                <a:cubicBezTo>
                  <a:pt x="10405" y="10942"/>
                  <a:pt x="10353" y="10997"/>
                  <a:pt x="10294" y="11013"/>
                </a:cubicBezTo>
                <a:cubicBezTo>
                  <a:pt x="10270" y="11020"/>
                  <a:pt x="10222" y="11013"/>
                  <a:pt x="10195" y="11013"/>
                </a:cubicBezTo>
                <a:cubicBezTo>
                  <a:pt x="10208" y="10947"/>
                  <a:pt x="10298" y="10836"/>
                  <a:pt x="10344" y="10790"/>
                </a:cubicBezTo>
                <a:cubicBezTo>
                  <a:pt x="10437" y="10697"/>
                  <a:pt x="10534" y="10570"/>
                  <a:pt x="10641" y="10492"/>
                </a:cubicBezTo>
                <a:cubicBezTo>
                  <a:pt x="10671" y="10470"/>
                  <a:pt x="10708" y="10451"/>
                  <a:pt x="10740" y="10443"/>
                </a:cubicBezTo>
              </a:path>
              <a:path w="7418" h="1415">
                <a:moveTo>
                  <a:pt x="11162" y="10468"/>
                </a:moveTo>
                <a:cubicBezTo>
                  <a:pt x="11267" y="10468"/>
                  <a:pt x="11370" y="10473"/>
                  <a:pt x="11460" y="10443"/>
                </a:cubicBezTo>
                <a:cubicBezTo>
                  <a:pt x="11468" y="10443"/>
                  <a:pt x="11477" y="10443"/>
                  <a:pt x="11485" y="10443"/>
                </a:cubicBezTo>
              </a:path>
              <a:path w="7418" h="1415">
                <a:moveTo>
                  <a:pt x="11212" y="10492"/>
                </a:moveTo>
                <a:cubicBezTo>
                  <a:pt x="11130" y="10508"/>
                  <a:pt x="10957" y="10519"/>
                  <a:pt x="10889" y="10592"/>
                </a:cubicBezTo>
                <a:cubicBezTo>
                  <a:pt x="10842" y="10642"/>
                  <a:pt x="10858" y="10708"/>
                  <a:pt x="10914" y="10740"/>
                </a:cubicBezTo>
                <a:cubicBezTo>
                  <a:pt x="10989" y="10783"/>
                  <a:pt x="11083" y="10804"/>
                  <a:pt x="11162" y="10840"/>
                </a:cubicBezTo>
                <a:cubicBezTo>
                  <a:pt x="11179" y="10848"/>
                  <a:pt x="11195" y="10856"/>
                  <a:pt x="11212" y="10864"/>
                </a:cubicBezTo>
                <a:cubicBezTo>
                  <a:pt x="11212" y="10940"/>
                  <a:pt x="11171" y="10949"/>
                  <a:pt x="11112" y="10988"/>
                </a:cubicBezTo>
                <a:cubicBezTo>
                  <a:pt x="11018" y="11049"/>
                  <a:pt x="10916" y="11064"/>
                  <a:pt x="10815" y="11112"/>
                </a:cubicBezTo>
                <a:cubicBezTo>
                  <a:pt x="10798" y="11120"/>
                  <a:pt x="10782" y="11129"/>
                  <a:pt x="10765" y="111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21080" y="3660840"/>
            <a:ext cx="108000" cy="1350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12005" y="10220"/>
                </a:moveTo>
                <a:cubicBezTo>
                  <a:pt x="12005" y="10195"/>
                  <a:pt x="12005" y="10187"/>
                  <a:pt x="12005" y="10170"/>
                </a:cubicBezTo>
                <a:cubicBezTo>
                  <a:pt x="12104" y="10170"/>
                  <a:pt x="12204" y="10170"/>
                  <a:pt x="12303" y="10170"/>
                </a:cubicBezTo>
              </a:path>
              <a:path w="299" h="373">
                <a:moveTo>
                  <a:pt x="12055" y="10468"/>
                </a:moveTo>
                <a:cubicBezTo>
                  <a:pt x="12055" y="10484"/>
                  <a:pt x="12055" y="10501"/>
                  <a:pt x="12055" y="10517"/>
                </a:cubicBezTo>
                <a:cubicBezTo>
                  <a:pt x="12120" y="10517"/>
                  <a:pt x="12166" y="10538"/>
                  <a:pt x="12229" y="10542"/>
                </a:cubicBezTo>
                <a:cubicBezTo>
                  <a:pt x="12270" y="10542"/>
                  <a:pt x="12278" y="10542"/>
                  <a:pt x="12303" y="105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06920" y="3527280"/>
            <a:ext cx="2430360" cy="633600"/>
          </a:xfrm>
          <a:custGeom>
            <a:avLst/>
            <a:gdLst/>
            <a:ahLst/>
            <a:rect l="l" t="t" r="r" b="b"/>
            <a:pathLst>
              <a:path w="6748" h="1762">
                <a:moveTo>
                  <a:pt x="12824" y="10517"/>
                </a:moveTo>
                <a:cubicBezTo>
                  <a:pt x="12817" y="10538"/>
                  <a:pt x="12795" y="10572"/>
                  <a:pt x="12849" y="10542"/>
                </a:cubicBezTo>
                <a:cubicBezTo>
                  <a:pt x="12919" y="10503"/>
                  <a:pt x="12842" y="10549"/>
                  <a:pt x="12824" y="10567"/>
                </a:cubicBezTo>
              </a:path>
              <a:path w="6748" h="1762">
                <a:moveTo>
                  <a:pt x="12998" y="9847"/>
                </a:moveTo>
                <a:cubicBezTo>
                  <a:pt x="12998" y="9823"/>
                  <a:pt x="12998" y="9814"/>
                  <a:pt x="12998" y="9798"/>
                </a:cubicBezTo>
                <a:cubicBezTo>
                  <a:pt x="12958" y="9811"/>
                  <a:pt x="12951" y="9875"/>
                  <a:pt x="12923" y="9922"/>
                </a:cubicBezTo>
                <a:cubicBezTo>
                  <a:pt x="12881" y="9992"/>
                  <a:pt x="12805" y="10080"/>
                  <a:pt x="12824" y="10170"/>
                </a:cubicBezTo>
                <a:cubicBezTo>
                  <a:pt x="12840" y="10247"/>
                  <a:pt x="12907" y="10265"/>
                  <a:pt x="12973" y="10269"/>
                </a:cubicBezTo>
                <a:cubicBezTo>
                  <a:pt x="13059" y="10274"/>
                  <a:pt x="13093" y="10243"/>
                  <a:pt x="13171" y="10220"/>
                </a:cubicBezTo>
                <a:cubicBezTo>
                  <a:pt x="13196" y="10220"/>
                  <a:pt x="13204" y="10220"/>
                  <a:pt x="13221" y="10220"/>
                </a:cubicBezTo>
              </a:path>
              <a:path w="6748" h="1762">
                <a:moveTo>
                  <a:pt x="13370" y="9823"/>
                </a:moveTo>
                <a:cubicBezTo>
                  <a:pt x="13309" y="9882"/>
                  <a:pt x="13271" y="9952"/>
                  <a:pt x="13221" y="10021"/>
                </a:cubicBezTo>
                <a:cubicBezTo>
                  <a:pt x="13126" y="10152"/>
                  <a:pt x="13071" y="10298"/>
                  <a:pt x="12998" y="10443"/>
                </a:cubicBezTo>
                <a:cubicBezTo>
                  <a:pt x="12977" y="10484"/>
                  <a:pt x="12871" y="10647"/>
                  <a:pt x="12948" y="10666"/>
                </a:cubicBezTo>
                <a:cubicBezTo>
                  <a:pt x="12973" y="10666"/>
                  <a:pt x="12981" y="10666"/>
                  <a:pt x="12998" y="10666"/>
                </a:cubicBezTo>
              </a:path>
              <a:path w="6748" h="1762">
                <a:moveTo>
                  <a:pt x="13444" y="10443"/>
                </a:moveTo>
                <a:cubicBezTo>
                  <a:pt x="13498" y="10443"/>
                  <a:pt x="13481" y="10455"/>
                  <a:pt x="13519" y="10468"/>
                </a:cubicBezTo>
                <a:cubicBezTo>
                  <a:pt x="13486" y="10492"/>
                  <a:pt x="13442" y="10500"/>
                  <a:pt x="13494" y="10517"/>
                </a:cubicBezTo>
              </a:path>
              <a:path w="6748" h="1762">
                <a:moveTo>
                  <a:pt x="14188" y="9897"/>
                </a:moveTo>
                <a:cubicBezTo>
                  <a:pt x="14207" y="9926"/>
                  <a:pt x="14284" y="9937"/>
                  <a:pt x="14337" y="9922"/>
                </a:cubicBezTo>
                <a:cubicBezTo>
                  <a:pt x="14396" y="9905"/>
                  <a:pt x="14422" y="9897"/>
                  <a:pt x="14486" y="9897"/>
                </a:cubicBezTo>
              </a:path>
              <a:path w="6748" h="1762">
                <a:moveTo>
                  <a:pt x="14213" y="9971"/>
                </a:moveTo>
                <a:cubicBezTo>
                  <a:pt x="14142" y="9995"/>
                  <a:pt x="13952" y="10030"/>
                  <a:pt x="13891" y="10096"/>
                </a:cubicBezTo>
                <a:cubicBezTo>
                  <a:pt x="13839" y="10152"/>
                  <a:pt x="13875" y="10180"/>
                  <a:pt x="13915" y="10220"/>
                </a:cubicBezTo>
                <a:cubicBezTo>
                  <a:pt x="13985" y="10289"/>
                  <a:pt x="14059" y="10293"/>
                  <a:pt x="14139" y="10344"/>
                </a:cubicBezTo>
                <a:cubicBezTo>
                  <a:pt x="14168" y="10362"/>
                  <a:pt x="14220" y="10429"/>
                  <a:pt x="14188" y="10468"/>
                </a:cubicBezTo>
                <a:cubicBezTo>
                  <a:pt x="14135" y="10531"/>
                  <a:pt x="14031" y="10588"/>
                  <a:pt x="13965" y="10641"/>
                </a:cubicBezTo>
              </a:path>
              <a:path w="6748" h="1762">
                <a:moveTo>
                  <a:pt x="14833" y="10096"/>
                </a:moveTo>
                <a:cubicBezTo>
                  <a:pt x="14818" y="10036"/>
                  <a:pt x="14794" y="10046"/>
                  <a:pt x="14734" y="10046"/>
                </a:cubicBezTo>
                <a:cubicBezTo>
                  <a:pt x="14678" y="10046"/>
                  <a:pt x="14618" y="10075"/>
                  <a:pt x="14635" y="10145"/>
                </a:cubicBezTo>
                <a:cubicBezTo>
                  <a:pt x="14654" y="10224"/>
                  <a:pt x="14721" y="10285"/>
                  <a:pt x="14734" y="10368"/>
                </a:cubicBezTo>
                <a:cubicBezTo>
                  <a:pt x="14747" y="10453"/>
                  <a:pt x="14730" y="10544"/>
                  <a:pt x="14684" y="10616"/>
                </a:cubicBezTo>
                <a:cubicBezTo>
                  <a:pt x="14663" y="10649"/>
                  <a:pt x="14642" y="10658"/>
                  <a:pt x="14610" y="10666"/>
                </a:cubicBezTo>
                <a:cubicBezTo>
                  <a:pt x="14610" y="10595"/>
                  <a:pt x="14600" y="10533"/>
                  <a:pt x="14635" y="10468"/>
                </a:cubicBezTo>
                <a:cubicBezTo>
                  <a:pt x="14698" y="10350"/>
                  <a:pt x="14823" y="10309"/>
                  <a:pt x="14932" y="10244"/>
                </a:cubicBezTo>
                <a:cubicBezTo>
                  <a:pt x="15004" y="10197"/>
                  <a:pt x="15025" y="10182"/>
                  <a:pt x="15081" y="10170"/>
                </a:cubicBezTo>
              </a:path>
              <a:path w="6748" h="1762">
                <a:moveTo>
                  <a:pt x="15478" y="10120"/>
                </a:moveTo>
                <a:cubicBezTo>
                  <a:pt x="15435" y="10208"/>
                  <a:pt x="15344" y="10321"/>
                  <a:pt x="15329" y="10418"/>
                </a:cubicBezTo>
                <a:cubicBezTo>
                  <a:pt x="15313" y="10519"/>
                  <a:pt x="15320" y="10611"/>
                  <a:pt x="15404" y="10666"/>
                </a:cubicBezTo>
                <a:cubicBezTo>
                  <a:pt x="15460" y="10702"/>
                  <a:pt x="15513" y="10691"/>
                  <a:pt x="15577" y="10691"/>
                </a:cubicBezTo>
              </a:path>
              <a:path w="6748" h="1762">
                <a:moveTo>
                  <a:pt x="15503" y="10393"/>
                </a:moveTo>
                <a:cubicBezTo>
                  <a:pt x="15495" y="10401"/>
                  <a:pt x="15486" y="10410"/>
                  <a:pt x="15478" y="10418"/>
                </a:cubicBezTo>
                <a:cubicBezTo>
                  <a:pt x="15553" y="10418"/>
                  <a:pt x="15609" y="10424"/>
                  <a:pt x="15677" y="10393"/>
                </a:cubicBezTo>
                <a:cubicBezTo>
                  <a:pt x="15693" y="10385"/>
                  <a:pt x="15710" y="10376"/>
                  <a:pt x="15726" y="10368"/>
                </a:cubicBezTo>
              </a:path>
              <a:path w="6748" h="1762">
                <a:moveTo>
                  <a:pt x="15577" y="10071"/>
                </a:moveTo>
                <a:cubicBezTo>
                  <a:pt x="15517" y="10071"/>
                  <a:pt x="15688" y="10049"/>
                  <a:pt x="15701" y="10046"/>
                </a:cubicBezTo>
                <a:cubicBezTo>
                  <a:pt x="15820" y="10015"/>
                  <a:pt x="15927" y="9980"/>
                  <a:pt x="16049" y="9971"/>
                </a:cubicBezTo>
              </a:path>
              <a:path w="6748" h="1762">
                <a:moveTo>
                  <a:pt x="16123" y="10294"/>
                </a:moveTo>
                <a:cubicBezTo>
                  <a:pt x="16229" y="10294"/>
                  <a:pt x="16319" y="10284"/>
                  <a:pt x="16421" y="10269"/>
                </a:cubicBezTo>
                <a:cubicBezTo>
                  <a:pt x="16437" y="10269"/>
                  <a:pt x="16454" y="10269"/>
                  <a:pt x="16470" y="10269"/>
                </a:cubicBezTo>
              </a:path>
              <a:path w="6748" h="1762">
                <a:moveTo>
                  <a:pt x="16793" y="10021"/>
                </a:moveTo>
                <a:cubicBezTo>
                  <a:pt x="16762" y="10029"/>
                  <a:pt x="16682" y="10059"/>
                  <a:pt x="16669" y="10096"/>
                </a:cubicBezTo>
                <a:cubicBezTo>
                  <a:pt x="16649" y="10151"/>
                  <a:pt x="16672" y="10226"/>
                  <a:pt x="16694" y="10269"/>
                </a:cubicBezTo>
                <a:cubicBezTo>
                  <a:pt x="16741" y="10360"/>
                  <a:pt x="16797" y="10344"/>
                  <a:pt x="16892" y="10344"/>
                </a:cubicBezTo>
                <a:cubicBezTo>
                  <a:pt x="16966" y="10344"/>
                  <a:pt x="16991" y="10344"/>
                  <a:pt x="17041" y="10344"/>
                </a:cubicBezTo>
              </a:path>
              <a:path w="6748" h="1762">
                <a:moveTo>
                  <a:pt x="17314" y="10046"/>
                </a:moveTo>
                <a:cubicBezTo>
                  <a:pt x="17224" y="10127"/>
                  <a:pt x="17151" y="10186"/>
                  <a:pt x="17090" y="10294"/>
                </a:cubicBezTo>
                <a:cubicBezTo>
                  <a:pt x="17023" y="10412"/>
                  <a:pt x="17002" y="10544"/>
                  <a:pt x="16966" y="10666"/>
                </a:cubicBezTo>
                <a:cubicBezTo>
                  <a:pt x="16958" y="10683"/>
                  <a:pt x="16950" y="10699"/>
                  <a:pt x="16942" y="10716"/>
                </a:cubicBezTo>
              </a:path>
              <a:path w="6748" h="1762">
                <a:moveTo>
                  <a:pt x="17537" y="10492"/>
                </a:moveTo>
                <a:cubicBezTo>
                  <a:pt x="17501" y="10533"/>
                  <a:pt x="17466" y="10570"/>
                  <a:pt x="17438" y="10616"/>
                </a:cubicBezTo>
                <a:cubicBezTo>
                  <a:pt x="17418" y="10657"/>
                  <a:pt x="17409" y="10663"/>
                  <a:pt x="17413" y="10691"/>
                </a:cubicBezTo>
                <a:cubicBezTo>
                  <a:pt x="17467" y="10651"/>
                  <a:pt x="17512" y="10614"/>
                  <a:pt x="17562" y="10567"/>
                </a:cubicBezTo>
                <a:cubicBezTo>
                  <a:pt x="17602" y="10529"/>
                  <a:pt x="17657" y="10471"/>
                  <a:pt x="17686" y="10443"/>
                </a:cubicBezTo>
                <a:cubicBezTo>
                  <a:pt x="17680" y="10500"/>
                  <a:pt x="17645" y="10543"/>
                  <a:pt x="17636" y="10592"/>
                </a:cubicBezTo>
                <a:cubicBezTo>
                  <a:pt x="17636" y="10616"/>
                  <a:pt x="17636" y="10625"/>
                  <a:pt x="17636" y="10641"/>
                </a:cubicBezTo>
                <a:cubicBezTo>
                  <a:pt x="17701" y="10635"/>
                  <a:pt x="17754" y="10635"/>
                  <a:pt x="17810" y="10592"/>
                </a:cubicBezTo>
                <a:cubicBezTo>
                  <a:pt x="17872" y="10544"/>
                  <a:pt x="17927" y="10458"/>
                  <a:pt x="17983" y="10418"/>
                </a:cubicBezTo>
                <a:cubicBezTo>
                  <a:pt x="17991" y="10418"/>
                  <a:pt x="18000" y="10418"/>
                  <a:pt x="18008" y="10418"/>
                </a:cubicBezTo>
                <a:cubicBezTo>
                  <a:pt x="17988" y="10458"/>
                  <a:pt x="17945" y="10519"/>
                  <a:pt x="17934" y="10567"/>
                </a:cubicBezTo>
                <a:cubicBezTo>
                  <a:pt x="17915" y="10654"/>
                  <a:pt x="17934" y="10678"/>
                  <a:pt x="18008" y="10691"/>
                </a:cubicBezTo>
                <a:cubicBezTo>
                  <a:pt x="18095" y="10706"/>
                  <a:pt x="18167" y="10632"/>
                  <a:pt x="18231" y="10592"/>
                </a:cubicBezTo>
                <a:cubicBezTo>
                  <a:pt x="18277" y="10563"/>
                  <a:pt x="18261" y="10572"/>
                  <a:pt x="18306" y="10542"/>
                </a:cubicBezTo>
                <a:cubicBezTo>
                  <a:pt x="18273" y="10608"/>
                  <a:pt x="18259" y="10643"/>
                  <a:pt x="18256" y="10716"/>
                </a:cubicBezTo>
                <a:cubicBezTo>
                  <a:pt x="18256" y="10732"/>
                  <a:pt x="18256" y="10749"/>
                  <a:pt x="18256" y="10765"/>
                </a:cubicBezTo>
                <a:cubicBezTo>
                  <a:pt x="18298" y="10760"/>
                  <a:pt x="18326" y="10780"/>
                  <a:pt x="18355" y="10740"/>
                </a:cubicBezTo>
                <a:cubicBezTo>
                  <a:pt x="18384" y="10699"/>
                  <a:pt x="18395" y="10621"/>
                  <a:pt x="18380" y="10567"/>
                </a:cubicBezTo>
                <a:cubicBezTo>
                  <a:pt x="18363" y="10505"/>
                  <a:pt x="18321" y="10464"/>
                  <a:pt x="18281" y="10418"/>
                </a:cubicBezTo>
                <a:cubicBezTo>
                  <a:pt x="18366" y="10447"/>
                  <a:pt x="18435" y="10466"/>
                  <a:pt x="18529" y="10468"/>
                </a:cubicBezTo>
                <a:cubicBezTo>
                  <a:pt x="18679" y="10472"/>
                  <a:pt x="18796" y="10411"/>
                  <a:pt x="18926" y="10344"/>
                </a:cubicBezTo>
                <a:cubicBezTo>
                  <a:pt x="19008" y="10302"/>
                  <a:pt x="19143" y="10190"/>
                  <a:pt x="19174" y="10096"/>
                </a:cubicBezTo>
                <a:cubicBezTo>
                  <a:pt x="19202" y="10013"/>
                  <a:pt x="19166" y="10023"/>
                  <a:pt x="19149" y="9971"/>
                </a:cubicBezTo>
                <a:cubicBezTo>
                  <a:pt x="19064" y="10041"/>
                  <a:pt x="19029" y="10092"/>
                  <a:pt x="18976" y="10195"/>
                </a:cubicBezTo>
                <a:cubicBezTo>
                  <a:pt x="18915" y="10314"/>
                  <a:pt x="18858" y="10479"/>
                  <a:pt x="18876" y="10616"/>
                </a:cubicBezTo>
                <a:cubicBezTo>
                  <a:pt x="18885" y="10683"/>
                  <a:pt x="18956" y="10816"/>
                  <a:pt x="19025" y="10840"/>
                </a:cubicBezTo>
                <a:cubicBezTo>
                  <a:pt x="19086" y="10861"/>
                  <a:pt x="19129" y="10825"/>
                  <a:pt x="19174" y="10815"/>
                </a:cubicBezTo>
                <a:cubicBezTo>
                  <a:pt x="19182" y="10815"/>
                  <a:pt x="19191" y="10815"/>
                  <a:pt x="19199" y="10815"/>
                </a:cubicBezTo>
              </a:path>
              <a:path w="6748" h="1762">
                <a:moveTo>
                  <a:pt x="19149" y="11237"/>
                </a:moveTo>
                <a:cubicBezTo>
                  <a:pt x="19179" y="11244"/>
                  <a:pt x="19244" y="11249"/>
                  <a:pt x="19273" y="11261"/>
                </a:cubicBezTo>
                <a:cubicBezTo>
                  <a:pt x="19281" y="11269"/>
                  <a:pt x="19290" y="11278"/>
                  <a:pt x="19298" y="11286"/>
                </a:cubicBezTo>
              </a:path>
              <a:path w="6748" h="1762">
                <a:moveTo>
                  <a:pt x="19199" y="11460"/>
                </a:moveTo>
                <a:cubicBezTo>
                  <a:pt x="19160" y="11498"/>
                  <a:pt x="19143" y="11500"/>
                  <a:pt x="19149" y="11534"/>
                </a:cubicBezTo>
                <a:cubicBezTo>
                  <a:pt x="19211" y="11550"/>
                  <a:pt x="19247" y="11559"/>
                  <a:pt x="19323" y="11559"/>
                </a:cubicBezTo>
                <a:cubicBezTo>
                  <a:pt x="19407" y="11559"/>
                  <a:pt x="19467" y="11536"/>
                  <a:pt x="19546" y="115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59760" y="3867120"/>
            <a:ext cx="1785960" cy="411120"/>
          </a:xfrm>
          <a:custGeom>
            <a:avLst/>
            <a:gdLst/>
            <a:ahLst/>
            <a:rect l="l" t="t" r="r" b="b"/>
            <a:pathLst>
              <a:path w="4962" h="1142">
                <a:moveTo>
                  <a:pt x="20315" y="10765"/>
                </a:moveTo>
                <a:cubicBezTo>
                  <a:pt x="20275" y="10752"/>
                  <a:pt x="20305" y="10753"/>
                  <a:pt x="20265" y="10740"/>
                </a:cubicBezTo>
                <a:cubicBezTo>
                  <a:pt x="20235" y="10771"/>
                  <a:pt x="20177" y="10825"/>
                  <a:pt x="20166" y="10864"/>
                </a:cubicBezTo>
                <a:cubicBezTo>
                  <a:pt x="20143" y="10948"/>
                  <a:pt x="20186" y="11010"/>
                  <a:pt x="20265" y="11038"/>
                </a:cubicBezTo>
                <a:cubicBezTo>
                  <a:pt x="20371" y="11076"/>
                  <a:pt x="20500" y="11108"/>
                  <a:pt x="20613" y="11088"/>
                </a:cubicBezTo>
                <a:cubicBezTo>
                  <a:pt x="20638" y="11080"/>
                  <a:pt x="20662" y="11071"/>
                  <a:pt x="20687" y="11063"/>
                </a:cubicBezTo>
              </a:path>
              <a:path w="4962" h="1142">
                <a:moveTo>
                  <a:pt x="20737" y="10790"/>
                </a:moveTo>
                <a:cubicBezTo>
                  <a:pt x="20692" y="10845"/>
                  <a:pt x="20654" y="10904"/>
                  <a:pt x="20613" y="10964"/>
                </a:cubicBezTo>
                <a:cubicBezTo>
                  <a:pt x="20548" y="11060"/>
                  <a:pt x="20488" y="11181"/>
                  <a:pt x="20439" y="11286"/>
                </a:cubicBezTo>
                <a:cubicBezTo>
                  <a:pt x="20417" y="11351"/>
                  <a:pt x="20409" y="11366"/>
                  <a:pt x="20414" y="11410"/>
                </a:cubicBezTo>
              </a:path>
              <a:path w="4962" h="1142">
                <a:moveTo>
                  <a:pt x="20836" y="11311"/>
                </a:moveTo>
                <a:cubicBezTo>
                  <a:pt x="20836" y="11336"/>
                  <a:pt x="20836" y="11344"/>
                  <a:pt x="20861" y="11336"/>
                </a:cubicBezTo>
              </a:path>
              <a:path w="4962" h="1142">
                <a:moveTo>
                  <a:pt x="21555" y="10815"/>
                </a:moveTo>
                <a:cubicBezTo>
                  <a:pt x="21514" y="10815"/>
                  <a:pt x="21498" y="10823"/>
                  <a:pt x="21506" y="10790"/>
                </a:cubicBezTo>
                <a:cubicBezTo>
                  <a:pt x="21551" y="10802"/>
                  <a:pt x="21576" y="10815"/>
                  <a:pt x="21630" y="10815"/>
                </a:cubicBezTo>
                <a:cubicBezTo>
                  <a:pt x="21712" y="10815"/>
                  <a:pt x="21773" y="10836"/>
                  <a:pt x="21853" y="10840"/>
                </a:cubicBezTo>
                <a:cubicBezTo>
                  <a:pt x="21870" y="10840"/>
                  <a:pt x="21886" y="10840"/>
                  <a:pt x="21903" y="10840"/>
                </a:cubicBezTo>
              </a:path>
              <a:path w="4962" h="1142">
                <a:moveTo>
                  <a:pt x="21357" y="10889"/>
                </a:moveTo>
                <a:cubicBezTo>
                  <a:pt x="21274" y="10889"/>
                  <a:pt x="21297" y="10921"/>
                  <a:pt x="21233" y="10939"/>
                </a:cubicBezTo>
                <a:cubicBezTo>
                  <a:pt x="21188" y="10939"/>
                  <a:pt x="21175" y="10936"/>
                  <a:pt x="21158" y="10964"/>
                </a:cubicBezTo>
                <a:cubicBezTo>
                  <a:pt x="21175" y="11031"/>
                  <a:pt x="21218" y="11013"/>
                  <a:pt x="21282" y="11013"/>
                </a:cubicBezTo>
                <a:cubicBezTo>
                  <a:pt x="21341" y="11013"/>
                  <a:pt x="21419" y="11037"/>
                  <a:pt x="21456" y="11088"/>
                </a:cubicBezTo>
                <a:cubicBezTo>
                  <a:pt x="21508" y="11161"/>
                  <a:pt x="21480" y="11191"/>
                  <a:pt x="21431" y="11237"/>
                </a:cubicBezTo>
                <a:cubicBezTo>
                  <a:pt x="21358" y="11306"/>
                  <a:pt x="21339" y="11284"/>
                  <a:pt x="21258" y="11311"/>
                </a:cubicBezTo>
                <a:cubicBezTo>
                  <a:pt x="21217" y="11331"/>
                  <a:pt x="21211" y="11340"/>
                  <a:pt x="21183" y="11336"/>
                </a:cubicBezTo>
              </a:path>
              <a:path w="4962" h="1142">
                <a:moveTo>
                  <a:pt x="22200" y="11038"/>
                </a:moveTo>
                <a:cubicBezTo>
                  <a:pt x="22191" y="11003"/>
                  <a:pt x="22184" y="10968"/>
                  <a:pt x="22151" y="10964"/>
                </a:cubicBezTo>
                <a:cubicBezTo>
                  <a:pt x="22092" y="10957"/>
                  <a:pt x="22049" y="10963"/>
                  <a:pt x="22002" y="10988"/>
                </a:cubicBezTo>
                <a:cubicBezTo>
                  <a:pt x="21935" y="11023"/>
                  <a:pt x="21905" y="11083"/>
                  <a:pt x="21927" y="11162"/>
                </a:cubicBezTo>
                <a:cubicBezTo>
                  <a:pt x="21945" y="11226"/>
                  <a:pt x="22004" y="11279"/>
                  <a:pt x="22027" y="11336"/>
                </a:cubicBezTo>
                <a:cubicBezTo>
                  <a:pt x="22046" y="11382"/>
                  <a:pt x="21927" y="11361"/>
                  <a:pt x="21903" y="11361"/>
                </a:cubicBezTo>
                <a:cubicBezTo>
                  <a:pt x="21861" y="11361"/>
                  <a:pt x="22011" y="11309"/>
                  <a:pt x="22051" y="11286"/>
                </a:cubicBezTo>
                <a:cubicBezTo>
                  <a:pt x="22132" y="11240"/>
                  <a:pt x="22241" y="11138"/>
                  <a:pt x="22299" y="11063"/>
                </a:cubicBezTo>
                <a:cubicBezTo>
                  <a:pt x="22326" y="11028"/>
                  <a:pt x="22362" y="10958"/>
                  <a:pt x="22399" y="10939"/>
                </a:cubicBezTo>
                <a:cubicBezTo>
                  <a:pt x="22423" y="10939"/>
                  <a:pt x="22432" y="10939"/>
                  <a:pt x="22448" y="10939"/>
                </a:cubicBezTo>
              </a:path>
              <a:path w="4962" h="1142">
                <a:moveTo>
                  <a:pt x="22622" y="11187"/>
                </a:moveTo>
                <a:cubicBezTo>
                  <a:pt x="22565" y="11232"/>
                  <a:pt x="22541" y="11254"/>
                  <a:pt x="22498" y="11311"/>
                </a:cubicBezTo>
                <a:cubicBezTo>
                  <a:pt x="22455" y="11368"/>
                  <a:pt x="22461" y="11396"/>
                  <a:pt x="22523" y="11435"/>
                </a:cubicBezTo>
                <a:cubicBezTo>
                  <a:pt x="22593" y="11479"/>
                  <a:pt x="22688" y="11509"/>
                  <a:pt x="22771" y="11485"/>
                </a:cubicBezTo>
                <a:cubicBezTo>
                  <a:pt x="22779" y="11477"/>
                  <a:pt x="22788" y="11468"/>
                  <a:pt x="22796" y="11460"/>
                </a:cubicBezTo>
              </a:path>
              <a:path w="4962" h="1142">
                <a:moveTo>
                  <a:pt x="22473" y="11286"/>
                </a:moveTo>
                <a:cubicBezTo>
                  <a:pt x="22573" y="11286"/>
                  <a:pt x="22628" y="11256"/>
                  <a:pt x="22721" y="11237"/>
                </a:cubicBezTo>
                <a:cubicBezTo>
                  <a:pt x="22773" y="11237"/>
                  <a:pt x="22791" y="11236"/>
                  <a:pt x="22820" y="11212"/>
                </a:cubicBezTo>
              </a:path>
              <a:path w="4962" h="1142">
                <a:moveTo>
                  <a:pt x="22721" y="11063"/>
                </a:moveTo>
                <a:cubicBezTo>
                  <a:pt x="22738" y="11013"/>
                  <a:pt x="22811" y="11016"/>
                  <a:pt x="22870" y="11013"/>
                </a:cubicBezTo>
                <a:cubicBezTo>
                  <a:pt x="22957" y="11009"/>
                  <a:pt x="23034" y="10997"/>
                  <a:pt x="23118" y="10988"/>
                </a:cubicBezTo>
              </a:path>
              <a:path w="4962" h="1142">
                <a:moveTo>
                  <a:pt x="23316" y="11237"/>
                </a:moveTo>
                <a:cubicBezTo>
                  <a:pt x="23411" y="11262"/>
                  <a:pt x="23435" y="11253"/>
                  <a:pt x="23515" y="11237"/>
                </a:cubicBezTo>
                <a:cubicBezTo>
                  <a:pt x="23543" y="11232"/>
                  <a:pt x="23584" y="11237"/>
                  <a:pt x="23614" y="11237"/>
                </a:cubicBezTo>
              </a:path>
              <a:path w="4962" h="1142">
                <a:moveTo>
                  <a:pt x="23961" y="10988"/>
                </a:moveTo>
                <a:cubicBezTo>
                  <a:pt x="23906" y="11036"/>
                  <a:pt x="23887" y="11026"/>
                  <a:pt x="23887" y="11088"/>
                </a:cubicBezTo>
                <a:cubicBezTo>
                  <a:pt x="23887" y="11150"/>
                  <a:pt x="23876" y="11208"/>
                  <a:pt x="23912" y="11261"/>
                </a:cubicBezTo>
                <a:cubicBezTo>
                  <a:pt x="23936" y="11297"/>
                  <a:pt x="24021" y="11309"/>
                  <a:pt x="24061" y="11311"/>
                </a:cubicBezTo>
                <a:cubicBezTo>
                  <a:pt x="24112" y="11311"/>
                  <a:pt x="24131" y="11310"/>
                  <a:pt x="24160" y="11286"/>
                </a:cubicBezTo>
              </a:path>
              <a:path w="4962" h="1142">
                <a:moveTo>
                  <a:pt x="24383" y="11038"/>
                </a:moveTo>
                <a:cubicBezTo>
                  <a:pt x="24345" y="11043"/>
                  <a:pt x="24258" y="11074"/>
                  <a:pt x="24234" y="11112"/>
                </a:cubicBezTo>
                <a:cubicBezTo>
                  <a:pt x="24180" y="11198"/>
                  <a:pt x="24135" y="11295"/>
                  <a:pt x="24085" y="11385"/>
                </a:cubicBezTo>
                <a:cubicBezTo>
                  <a:pt x="24056" y="11437"/>
                  <a:pt x="24023" y="11489"/>
                  <a:pt x="23986" y="11534"/>
                </a:cubicBezTo>
              </a:path>
              <a:path w="4962" h="1142">
                <a:moveTo>
                  <a:pt x="24656" y="11212"/>
                </a:moveTo>
                <a:cubicBezTo>
                  <a:pt x="24696" y="11232"/>
                  <a:pt x="24611" y="11268"/>
                  <a:pt x="24581" y="11311"/>
                </a:cubicBezTo>
                <a:cubicBezTo>
                  <a:pt x="24533" y="11380"/>
                  <a:pt x="24491" y="11447"/>
                  <a:pt x="24433" y="11509"/>
                </a:cubicBezTo>
                <a:cubicBezTo>
                  <a:pt x="24405" y="11540"/>
                  <a:pt x="24392" y="11546"/>
                  <a:pt x="24383" y="11584"/>
                </a:cubicBezTo>
                <a:cubicBezTo>
                  <a:pt x="24456" y="11542"/>
                  <a:pt x="24511" y="11484"/>
                  <a:pt x="24581" y="11435"/>
                </a:cubicBezTo>
                <a:cubicBezTo>
                  <a:pt x="24673" y="11371"/>
                  <a:pt x="24763" y="11299"/>
                  <a:pt x="24854" y="11237"/>
                </a:cubicBezTo>
                <a:cubicBezTo>
                  <a:pt x="24895" y="11217"/>
                  <a:pt x="24901" y="11208"/>
                  <a:pt x="24929" y="11212"/>
                </a:cubicBezTo>
                <a:cubicBezTo>
                  <a:pt x="24888" y="11253"/>
                  <a:pt x="24842" y="11302"/>
                  <a:pt x="24829" y="11361"/>
                </a:cubicBezTo>
                <a:cubicBezTo>
                  <a:pt x="24818" y="11412"/>
                  <a:pt x="24829" y="11481"/>
                  <a:pt x="24829" y="11534"/>
                </a:cubicBezTo>
                <a:cubicBezTo>
                  <a:pt x="24880" y="11534"/>
                  <a:pt x="24888" y="11532"/>
                  <a:pt x="24929" y="11509"/>
                </a:cubicBezTo>
                <a:cubicBezTo>
                  <a:pt x="24995" y="11472"/>
                  <a:pt x="25031" y="11418"/>
                  <a:pt x="25078" y="11361"/>
                </a:cubicBezTo>
                <a:cubicBezTo>
                  <a:pt x="25100" y="11338"/>
                  <a:pt x="25105" y="11330"/>
                  <a:pt x="25127" y="11336"/>
                </a:cubicBezTo>
                <a:cubicBezTo>
                  <a:pt x="25112" y="11410"/>
                  <a:pt x="25081" y="11454"/>
                  <a:pt x="25078" y="11534"/>
                </a:cubicBezTo>
                <a:cubicBezTo>
                  <a:pt x="25074" y="11636"/>
                  <a:pt x="25053" y="11729"/>
                  <a:pt x="25053" y="11832"/>
                </a:cubicBezTo>
                <a:cubicBezTo>
                  <a:pt x="25053" y="11848"/>
                  <a:pt x="25053" y="11865"/>
                  <a:pt x="25053" y="118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45080" y="4133880"/>
            <a:ext cx="571680" cy="233280"/>
          </a:xfrm>
          <a:custGeom>
            <a:avLst/>
            <a:gdLst/>
            <a:ahLst/>
            <a:rect l="l" t="t" r="r" b="b"/>
            <a:pathLst>
              <a:path w="1588" h="645">
                <a:moveTo>
                  <a:pt x="15404" y="11733"/>
                </a:moveTo>
                <a:cubicBezTo>
                  <a:pt x="15480" y="11695"/>
                  <a:pt x="15555" y="11654"/>
                  <a:pt x="15627" y="11609"/>
                </a:cubicBezTo>
                <a:cubicBezTo>
                  <a:pt x="15699" y="11564"/>
                  <a:pt x="15742" y="11501"/>
                  <a:pt x="15825" y="11485"/>
                </a:cubicBezTo>
                <a:cubicBezTo>
                  <a:pt x="15811" y="11558"/>
                  <a:pt x="15776" y="11635"/>
                  <a:pt x="15751" y="11708"/>
                </a:cubicBezTo>
                <a:cubicBezTo>
                  <a:pt x="15718" y="11806"/>
                  <a:pt x="15701" y="11878"/>
                  <a:pt x="15701" y="11981"/>
                </a:cubicBezTo>
                <a:cubicBezTo>
                  <a:pt x="15701" y="11997"/>
                  <a:pt x="15701" y="12014"/>
                  <a:pt x="15701" y="12030"/>
                </a:cubicBezTo>
              </a:path>
              <a:path w="1588" h="645">
                <a:moveTo>
                  <a:pt x="15429" y="12030"/>
                </a:moveTo>
                <a:cubicBezTo>
                  <a:pt x="15484" y="12030"/>
                  <a:pt x="15528" y="12010"/>
                  <a:pt x="15577" y="12005"/>
                </a:cubicBezTo>
                <a:cubicBezTo>
                  <a:pt x="15721" y="11989"/>
                  <a:pt x="15855" y="12015"/>
                  <a:pt x="15999" y="11981"/>
                </a:cubicBezTo>
                <a:cubicBezTo>
                  <a:pt x="16071" y="11964"/>
                  <a:pt x="16122" y="11956"/>
                  <a:pt x="16197" y="11956"/>
                </a:cubicBezTo>
              </a:path>
              <a:path w="1588" h="645">
                <a:moveTo>
                  <a:pt x="16669" y="11658"/>
                </a:moveTo>
                <a:cubicBezTo>
                  <a:pt x="16648" y="11701"/>
                  <a:pt x="16580" y="11755"/>
                  <a:pt x="16545" y="11807"/>
                </a:cubicBezTo>
                <a:cubicBezTo>
                  <a:pt x="16481" y="11901"/>
                  <a:pt x="16435" y="12018"/>
                  <a:pt x="16421" y="12129"/>
                </a:cubicBezTo>
                <a:cubicBezTo>
                  <a:pt x="16523" y="12129"/>
                  <a:pt x="16621" y="12140"/>
                  <a:pt x="16718" y="12105"/>
                </a:cubicBezTo>
                <a:cubicBezTo>
                  <a:pt x="16787" y="12080"/>
                  <a:pt x="16870" y="12067"/>
                  <a:pt x="16942" y="12055"/>
                </a:cubicBezTo>
                <a:cubicBezTo>
                  <a:pt x="16958" y="12055"/>
                  <a:pt x="16975" y="12055"/>
                  <a:pt x="16991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98720" y="4572000"/>
            <a:ext cx="741240" cy="642960"/>
          </a:xfrm>
          <a:custGeom>
            <a:avLst/>
            <a:gdLst/>
            <a:ahLst/>
            <a:rect l="l" t="t" r="r" b="b"/>
            <a:pathLst>
              <a:path w="2060" h="1787">
                <a:moveTo>
                  <a:pt x="3175" y="12700"/>
                </a:moveTo>
                <a:cubicBezTo>
                  <a:pt x="3175" y="12790"/>
                  <a:pt x="3133" y="12859"/>
                  <a:pt x="3125" y="12948"/>
                </a:cubicBezTo>
                <a:cubicBezTo>
                  <a:pt x="3107" y="13155"/>
                  <a:pt x="3070" y="13361"/>
                  <a:pt x="3051" y="13568"/>
                </a:cubicBezTo>
                <a:cubicBezTo>
                  <a:pt x="3044" y="13649"/>
                  <a:pt x="3051" y="13734"/>
                  <a:pt x="3051" y="13816"/>
                </a:cubicBezTo>
              </a:path>
              <a:path w="2060" h="1787">
                <a:moveTo>
                  <a:pt x="3621" y="12973"/>
                </a:moveTo>
                <a:cubicBezTo>
                  <a:pt x="3572" y="13013"/>
                  <a:pt x="3524" y="13058"/>
                  <a:pt x="3473" y="13097"/>
                </a:cubicBezTo>
                <a:cubicBezTo>
                  <a:pt x="3358" y="13185"/>
                  <a:pt x="3211" y="13320"/>
                  <a:pt x="3175" y="13469"/>
                </a:cubicBezTo>
                <a:cubicBezTo>
                  <a:pt x="3155" y="13552"/>
                  <a:pt x="3195" y="13695"/>
                  <a:pt x="3274" y="13742"/>
                </a:cubicBezTo>
                <a:cubicBezTo>
                  <a:pt x="3370" y="13799"/>
                  <a:pt x="3499" y="13767"/>
                  <a:pt x="3597" y="13742"/>
                </a:cubicBezTo>
              </a:path>
              <a:path w="2060" h="1787">
                <a:moveTo>
                  <a:pt x="4291" y="13444"/>
                </a:moveTo>
                <a:cubicBezTo>
                  <a:pt x="4211" y="13485"/>
                  <a:pt x="4135" y="13509"/>
                  <a:pt x="4068" y="13568"/>
                </a:cubicBezTo>
                <a:cubicBezTo>
                  <a:pt x="4027" y="13604"/>
                  <a:pt x="3981" y="13643"/>
                  <a:pt x="3969" y="13692"/>
                </a:cubicBezTo>
                <a:cubicBezTo>
                  <a:pt x="4029" y="13728"/>
                  <a:pt x="4075" y="13698"/>
                  <a:pt x="4142" y="13717"/>
                </a:cubicBezTo>
                <a:cubicBezTo>
                  <a:pt x="4217" y="13738"/>
                  <a:pt x="4234" y="13778"/>
                  <a:pt x="4192" y="13841"/>
                </a:cubicBezTo>
                <a:cubicBezTo>
                  <a:pt x="4169" y="13875"/>
                  <a:pt x="4143" y="13908"/>
                  <a:pt x="4118" y="13940"/>
                </a:cubicBezTo>
              </a:path>
              <a:path w="2060" h="1787">
                <a:moveTo>
                  <a:pt x="4713" y="13593"/>
                </a:moveTo>
                <a:cubicBezTo>
                  <a:pt x="4658" y="13731"/>
                  <a:pt x="4652" y="13872"/>
                  <a:pt x="4614" y="14015"/>
                </a:cubicBezTo>
                <a:cubicBezTo>
                  <a:pt x="4570" y="14181"/>
                  <a:pt x="4539" y="14314"/>
                  <a:pt x="4539" y="14486"/>
                </a:cubicBezTo>
                <a:cubicBezTo>
                  <a:pt x="4558" y="14351"/>
                  <a:pt x="4581" y="14196"/>
                  <a:pt x="4614" y="14064"/>
                </a:cubicBezTo>
                <a:cubicBezTo>
                  <a:pt x="4654" y="13903"/>
                  <a:pt x="4714" y="13712"/>
                  <a:pt x="4837" y="13593"/>
                </a:cubicBezTo>
                <a:cubicBezTo>
                  <a:pt x="4903" y="13529"/>
                  <a:pt x="5008" y="13520"/>
                  <a:pt x="5085" y="13568"/>
                </a:cubicBezTo>
                <a:cubicBezTo>
                  <a:pt x="5093" y="13576"/>
                  <a:pt x="5102" y="13585"/>
                  <a:pt x="5110" y="13593"/>
                </a:cubicBezTo>
                <a:cubicBezTo>
                  <a:pt x="5110" y="13688"/>
                  <a:pt x="5094" y="13731"/>
                  <a:pt x="5011" y="13791"/>
                </a:cubicBezTo>
                <a:cubicBezTo>
                  <a:pt x="4940" y="13842"/>
                  <a:pt x="4887" y="13886"/>
                  <a:pt x="4812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44800" y="4724280"/>
            <a:ext cx="179280" cy="14292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5680" y="13221"/>
                </a:moveTo>
                <a:cubicBezTo>
                  <a:pt x="5697" y="13169"/>
                  <a:pt x="5745" y="13211"/>
                  <a:pt x="5804" y="13196"/>
                </a:cubicBezTo>
                <a:cubicBezTo>
                  <a:pt x="5883" y="13176"/>
                  <a:pt x="5952" y="13159"/>
                  <a:pt x="6028" y="13122"/>
                </a:cubicBezTo>
              </a:path>
              <a:path w="497" h="398">
                <a:moveTo>
                  <a:pt x="5804" y="13519"/>
                </a:moveTo>
                <a:cubicBezTo>
                  <a:pt x="5857" y="13506"/>
                  <a:pt x="5925" y="13475"/>
                  <a:pt x="5978" y="13444"/>
                </a:cubicBezTo>
                <a:cubicBezTo>
                  <a:pt x="6051" y="13402"/>
                  <a:pt x="6097" y="13374"/>
                  <a:pt x="6176" y="133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82920" y="4483080"/>
            <a:ext cx="1911240" cy="581040"/>
          </a:xfrm>
          <a:custGeom>
            <a:avLst/>
            <a:gdLst/>
            <a:ahLst/>
            <a:rect l="l" t="t" r="r" b="b"/>
            <a:pathLst>
              <a:path w="5309" h="1613">
                <a:moveTo>
                  <a:pt x="7392" y="12948"/>
                </a:moveTo>
                <a:cubicBezTo>
                  <a:pt x="7327" y="12981"/>
                  <a:pt x="7320" y="13045"/>
                  <a:pt x="7317" y="13122"/>
                </a:cubicBezTo>
                <a:cubicBezTo>
                  <a:pt x="7313" y="13222"/>
                  <a:pt x="7297" y="13331"/>
                  <a:pt x="7417" y="13370"/>
                </a:cubicBezTo>
                <a:cubicBezTo>
                  <a:pt x="7526" y="13405"/>
                  <a:pt x="7647" y="13356"/>
                  <a:pt x="7739" y="13320"/>
                </a:cubicBezTo>
                <a:cubicBezTo>
                  <a:pt x="7764" y="13312"/>
                  <a:pt x="7788" y="13303"/>
                  <a:pt x="7813" y="13295"/>
                </a:cubicBezTo>
              </a:path>
              <a:path w="5309" h="1613">
                <a:moveTo>
                  <a:pt x="7962" y="12923"/>
                </a:moveTo>
                <a:cubicBezTo>
                  <a:pt x="7875" y="12978"/>
                  <a:pt x="7842" y="13020"/>
                  <a:pt x="7813" y="13122"/>
                </a:cubicBezTo>
                <a:cubicBezTo>
                  <a:pt x="7764" y="13294"/>
                  <a:pt x="7692" y="13492"/>
                  <a:pt x="7665" y="13667"/>
                </a:cubicBezTo>
                <a:cubicBezTo>
                  <a:pt x="7665" y="13692"/>
                  <a:pt x="7665" y="13717"/>
                  <a:pt x="7665" y="13742"/>
                </a:cubicBezTo>
              </a:path>
              <a:path w="5309" h="1613">
                <a:moveTo>
                  <a:pt x="8062" y="13643"/>
                </a:moveTo>
                <a:cubicBezTo>
                  <a:pt x="8070" y="13643"/>
                  <a:pt x="8078" y="13643"/>
                  <a:pt x="8086" y="13643"/>
                </a:cubicBezTo>
              </a:path>
              <a:path w="5309" h="1613">
                <a:moveTo>
                  <a:pt x="8756" y="13171"/>
                </a:moveTo>
                <a:cubicBezTo>
                  <a:pt x="8747" y="13086"/>
                  <a:pt x="8750" y="13052"/>
                  <a:pt x="8657" y="13047"/>
                </a:cubicBezTo>
                <a:cubicBezTo>
                  <a:pt x="8587" y="13043"/>
                  <a:pt x="8526" y="13030"/>
                  <a:pt x="8483" y="13097"/>
                </a:cubicBezTo>
                <a:cubicBezTo>
                  <a:pt x="8439" y="13165"/>
                  <a:pt x="8536" y="13228"/>
                  <a:pt x="8558" y="13271"/>
                </a:cubicBezTo>
                <a:cubicBezTo>
                  <a:pt x="8601" y="13355"/>
                  <a:pt x="8624" y="13475"/>
                  <a:pt x="8607" y="13568"/>
                </a:cubicBezTo>
                <a:cubicBezTo>
                  <a:pt x="8595" y="13634"/>
                  <a:pt x="8571" y="13701"/>
                  <a:pt x="8508" y="13717"/>
                </a:cubicBezTo>
                <a:cubicBezTo>
                  <a:pt x="8508" y="13643"/>
                  <a:pt x="8506" y="13590"/>
                  <a:pt x="8533" y="13519"/>
                </a:cubicBezTo>
                <a:cubicBezTo>
                  <a:pt x="8568" y="13428"/>
                  <a:pt x="8701" y="13323"/>
                  <a:pt x="8781" y="13271"/>
                </a:cubicBezTo>
                <a:cubicBezTo>
                  <a:pt x="8868" y="13214"/>
                  <a:pt x="8945" y="13160"/>
                  <a:pt x="9029" y="13097"/>
                </a:cubicBezTo>
              </a:path>
              <a:path w="5309" h="1613">
                <a:moveTo>
                  <a:pt x="8260" y="13122"/>
                </a:moveTo>
                <a:cubicBezTo>
                  <a:pt x="8350" y="13122"/>
                  <a:pt x="8423" y="13117"/>
                  <a:pt x="8508" y="13097"/>
                </a:cubicBezTo>
                <a:cubicBezTo>
                  <a:pt x="8533" y="13097"/>
                  <a:pt x="8541" y="13097"/>
                  <a:pt x="8558" y="13097"/>
                </a:cubicBezTo>
              </a:path>
              <a:path w="5309" h="1613">
                <a:moveTo>
                  <a:pt x="8285" y="13171"/>
                </a:moveTo>
                <a:cubicBezTo>
                  <a:pt x="8227" y="13206"/>
                  <a:pt x="8162" y="13230"/>
                  <a:pt x="8136" y="13295"/>
                </a:cubicBezTo>
                <a:cubicBezTo>
                  <a:pt x="8118" y="13340"/>
                  <a:pt x="8159" y="13368"/>
                  <a:pt x="8186" y="13395"/>
                </a:cubicBezTo>
                <a:cubicBezTo>
                  <a:pt x="8214" y="13423"/>
                  <a:pt x="8351" y="13528"/>
                  <a:pt x="8334" y="13568"/>
                </a:cubicBezTo>
                <a:cubicBezTo>
                  <a:pt x="8322" y="13597"/>
                  <a:pt x="8260" y="13635"/>
                  <a:pt x="8235" y="13643"/>
                </a:cubicBezTo>
                <a:cubicBezTo>
                  <a:pt x="8210" y="13643"/>
                  <a:pt x="8202" y="13643"/>
                  <a:pt x="8186" y="13643"/>
                </a:cubicBezTo>
              </a:path>
              <a:path w="5309" h="1613">
                <a:moveTo>
                  <a:pt x="7913" y="13717"/>
                </a:moveTo>
                <a:cubicBezTo>
                  <a:pt x="7872" y="13727"/>
                  <a:pt x="7873" y="13726"/>
                  <a:pt x="7863" y="13767"/>
                </a:cubicBezTo>
                <a:cubicBezTo>
                  <a:pt x="7927" y="13767"/>
                  <a:pt x="7906" y="13739"/>
                  <a:pt x="7938" y="13717"/>
                </a:cubicBezTo>
                <a:cubicBezTo>
                  <a:pt x="7962" y="13717"/>
                  <a:pt x="7970" y="13717"/>
                  <a:pt x="7962" y="13692"/>
                </a:cubicBezTo>
                <a:cubicBezTo>
                  <a:pt x="7928" y="13701"/>
                  <a:pt x="7858" y="13709"/>
                  <a:pt x="7838" y="13742"/>
                </a:cubicBezTo>
                <a:cubicBezTo>
                  <a:pt x="7838" y="13775"/>
                  <a:pt x="7846" y="13784"/>
                  <a:pt x="7888" y="13767"/>
                </a:cubicBezTo>
              </a:path>
              <a:path w="5309" h="1613">
                <a:moveTo>
                  <a:pt x="9302" y="13419"/>
                </a:moveTo>
                <a:cubicBezTo>
                  <a:pt x="9292" y="13488"/>
                  <a:pt x="9277" y="13540"/>
                  <a:pt x="9277" y="13618"/>
                </a:cubicBezTo>
                <a:cubicBezTo>
                  <a:pt x="9277" y="13709"/>
                  <a:pt x="9345" y="13738"/>
                  <a:pt x="9426" y="13742"/>
                </a:cubicBezTo>
                <a:cubicBezTo>
                  <a:pt x="9494" y="13742"/>
                  <a:pt x="9513" y="13745"/>
                  <a:pt x="9550" y="13717"/>
                </a:cubicBezTo>
              </a:path>
              <a:path w="5309" h="1613">
                <a:moveTo>
                  <a:pt x="9302" y="13593"/>
                </a:moveTo>
                <a:cubicBezTo>
                  <a:pt x="9376" y="13519"/>
                  <a:pt x="9451" y="13484"/>
                  <a:pt x="9550" y="13444"/>
                </a:cubicBezTo>
                <a:cubicBezTo>
                  <a:pt x="9634" y="13416"/>
                  <a:pt x="9669" y="13402"/>
                  <a:pt x="9723" y="13370"/>
                </a:cubicBezTo>
              </a:path>
              <a:path w="5309" h="1613">
                <a:moveTo>
                  <a:pt x="9500" y="13271"/>
                </a:moveTo>
                <a:cubicBezTo>
                  <a:pt x="9475" y="13254"/>
                  <a:pt x="9451" y="13238"/>
                  <a:pt x="9426" y="13221"/>
                </a:cubicBezTo>
                <a:cubicBezTo>
                  <a:pt x="9491" y="13156"/>
                  <a:pt x="9514" y="13170"/>
                  <a:pt x="9599" y="13146"/>
                </a:cubicBezTo>
                <a:cubicBezTo>
                  <a:pt x="9673" y="13125"/>
                  <a:pt x="9719" y="13104"/>
                  <a:pt x="9798" y="13097"/>
                </a:cubicBezTo>
              </a:path>
              <a:path w="5309" h="1613">
                <a:moveTo>
                  <a:pt x="10071" y="13543"/>
                </a:moveTo>
                <a:cubicBezTo>
                  <a:pt x="10109" y="13506"/>
                  <a:pt x="10150" y="13471"/>
                  <a:pt x="10195" y="13444"/>
                </a:cubicBezTo>
                <a:cubicBezTo>
                  <a:pt x="10235" y="13420"/>
                  <a:pt x="10276" y="13413"/>
                  <a:pt x="10319" y="13395"/>
                </a:cubicBezTo>
              </a:path>
              <a:path w="5309" h="1613">
                <a:moveTo>
                  <a:pt x="10641" y="13171"/>
                </a:moveTo>
                <a:cubicBezTo>
                  <a:pt x="10591" y="13184"/>
                  <a:pt x="10571" y="13214"/>
                  <a:pt x="10567" y="13271"/>
                </a:cubicBezTo>
                <a:cubicBezTo>
                  <a:pt x="10562" y="13343"/>
                  <a:pt x="10566" y="13390"/>
                  <a:pt x="10616" y="13444"/>
                </a:cubicBezTo>
                <a:cubicBezTo>
                  <a:pt x="10685" y="13518"/>
                  <a:pt x="10768" y="13494"/>
                  <a:pt x="10864" y="13494"/>
                </a:cubicBezTo>
                <a:cubicBezTo>
                  <a:pt x="10932" y="13494"/>
                  <a:pt x="10951" y="13497"/>
                  <a:pt x="10988" y="13469"/>
                </a:cubicBezTo>
              </a:path>
              <a:path w="5309" h="1613">
                <a:moveTo>
                  <a:pt x="11088" y="13171"/>
                </a:moveTo>
                <a:cubicBezTo>
                  <a:pt x="11028" y="13254"/>
                  <a:pt x="10931" y="13363"/>
                  <a:pt x="10914" y="13469"/>
                </a:cubicBezTo>
                <a:cubicBezTo>
                  <a:pt x="10900" y="13558"/>
                  <a:pt x="10890" y="13736"/>
                  <a:pt x="10939" y="13816"/>
                </a:cubicBezTo>
                <a:cubicBezTo>
                  <a:pt x="10947" y="13824"/>
                  <a:pt x="10956" y="13833"/>
                  <a:pt x="10964" y="13841"/>
                </a:cubicBezTo>
              </a:path>
              <a:path w="5309" h="1613">
                <a:moveTo>
                  <a:pt x="11385" y="12725"/>
                </a:moveTo>
                <a:cubicBezTo>
                  <a:pt x="11483" y="12805"/>
                  <a:pt x="11561" y="12915"/>
                  <a:pt x="11584" y="13047"/>
                </a:cubicBezTo>
                <a:cubicBezTo>
                  <a:pt x="11609" y="13191"/>
                  <a:pt x="11603" y="13403"/>
                  <a:pt x="11559" y="13543"/>
                </a:cubicBezTo>
                <a:cubicBezTo>
                  <a:pt x="11515" y="13683"/>
                  <a:pt x="11396" y="13818"/>
                  <a:pt x="11286" y="13915"/>
                </a:cubicBezTo>
                <a:cubicBezTo>
                  <a:pt x="11187" y="13990"/>
                  <a:pt x="11154" y="14015"/>
                  <a:pt x="11088" y="14064"/>
                </a:cubicBezTo>
              </a:path>
              <a:path w="5309" h="1613">
                <a:moveTo>
                  <a:pt x="7317" y="12477"/>
                </a:moveTo>
                <a:cubicBezTo>
                  <a:pt x="7249" y="12511"/>
                  <a:pt x="7219" y="12526"/>
                  <a:pt x="7169" y="12601"/>
                </a:cubicBezTo>
                <a:cubicBezTo>
                  <a:pt x="7053" y="12777"/>
                  <a:pt x="6970" y="12992"/>
                  <a:pt x="6921" y="13196"/>
                </a:cubicBezTo>
                <a:cubicBezTo>
                  <a:pt x="6874" y="13390"/>
                  <a:pt x="6909" y="13548"/>
                  <a:pt x="7069" y="13667"/>
                </a:cubicBezTo>
                <a:cubicBezTo>
                  <a:pt x="7195" y="13743"/>
                  <a:pt x="7238" y="13768"/>
                  <a:pt x="7342" y="13767"/>
                </a:cubicBezTo>
              </a:path>
              <a:path w="5309" h="1613">
                <a:moveTo>
                  <a:pt x="11931" y="12452"/>
                </a:moveTo>
                <a:cubicBezTo>
                  <a:pt x="12039" y="12452"/>
                  <a:pt x="12074" y="12450"/>
                  <a:pt x="12154" y="12526"/>
                </a:cubicBezTo>
                <a:cubicBezTo>
                  <a:pt x="12217" y="12586"/>
                  <a:pt x="12224" y="12680"/>
                  <a:pt x="12154" y="12750"/>
                </a:cubicBezTo>
                <a:cubicBezTo>
                  <a:pt x="12082" y="12822"/>
                  <a:pt x="11957" y="12880"/>
                  <a:pt x="11857" y="12898"/>
                </a:cubicBezTo>
                <a:cubicBezTo>
                  <a:pt x="11812" y="12898"/>
                  <a:pt x="11799" y="12902"/>
                  <a:pt x="11782" y="12874"/>
                </a:cubicBezTo>
                <a:cubicBezTo>
                  <a:pt x="11782" y="12784"/>
                  <a:pt x="11802" y="12789"/>
                  <a:pt x="11881" y="12750"/>
                </a:cubicBezTo>
                <a:cubicBezTo>
                  <a:pt x="11965" y="12708"/>
                  <a:pt x="12031" y="12746"/>
                  <a:pt x="12105" y="12799"/>
                </a:cubicBezTo>
                <a:cubicBezTo>
                  <a:pt x="12154" y="12849"/>
                  <a:pt x="12170" y="12866"/>
                  <a:pt x="12204" y="128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08160" y="5402160"/>
            <a:ext cx="133560" cy="12564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5904" y="15007"/>
                </a:moveTo>
                <a:cubicBezTo>
                  <a:pt x="5887" y="15007"/>
                  <a:pt x="5871" y="15007"/>
                  <a:pt x="5854" y="15007"/>
                </a:cubicBezTo>
                <a:cubicBezTo>
                  <a:pt x="5904" y="15037"/>
                  <a:pt x="5965" y="15053"/>
                  <a:pt x="6028" y="15056"/>
                </a:cubicBezTo>
                <a:cubicBezTo>
                  <a:pt x="6086" y="15056"/>
                  <a:pt x="6094" y="15056"/>
                  <a:pt x="6127" y="15056"/>
                </a:cubicBezTo>
              </a:path>
              <a:path w="373" h="348">
                <a:moveTo>
                  <a:pt x="5953" y="15304"/>
                </a:moveTo>
                <a:cubicBezTo>
                  <a:pt x="5967" y="15346"/>
                  <a:pt x="6023" y="15351"/>
                  <a:pt x="6077" y="15354"/>
                </a:cubicBezTo>
                <a:cubicBezTo>
                  <a:pt x="6126" y="15357"/>
                  <a:pt x="6177" y="15354"/>
                  <a:pt x="6226" y="153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6120" y="5340240"/>
            <a:ext cx="304920" cy="285840"/>
          </a:xfrm>
          <a:custGeom>
            <a:avLst/>
            <a:gdLst/>
            <a:ahLst/>
            <a:rect l="l" t="t" r="r" b="b"/>
            <a:pathLst>
              <a:path w="844" h="795">
                <a:moveTo>
                  <a:pt x="7367" y="14932"/>
                </a:moveTo>
                <a:cubicBezTo>
                  <a:pt x="7367" y="14862"/>
                  <a:pt x="7419" y="14844"/>
                  <a:pt x="7491" y="14833"/>
                </a:cubicBezTo>
                <a:cubicBezTo>
                  <a:pt x="7600" y="14816"/>
                  <a:pt x="7715" y="14917"/>
                  <a:pt x="7764" y="15007"/>
                </a:cubicBezTo>
                <a:cubicBezTo>
                  <a:pt x="7844" y="15155"/>
                  <a:pt x="7750" y="15246"/>
                  <a:pt x="7665" y="15354"/>
                </a:cubicBezTo>
                <a:cubicBezTo>
                  <a:pt x="7586" y="15454"/>
                  <a:pt x="7487" y="15579"/>
                  <a:pt x="7367" y="15627"/>
                </a:cubicBezTo>
                <a:cubicBezTo>
                  <a:pt x="7350" y="15627"/>
                  <a:pt x="7334" y="15627"/>
                  <a:pt x="7317" y="15627"/>
                </a:cubicBezTo>
                <a:cubicBezTo>
                  <a:pt x="7226" y="15565"/>
                  <a:pt x="7299" y="15524"/>
                  <a:pt x="7367" y="15453"/>
                </a:cubicBezTo>
                <a:cubicBezTo>
                  <a:pt x="7443" y="15373"/>
                  <a:pt x="7537" y="15346"/>
                  <a:pt x="7640" y="15379"/>
                </a:cubicBezTo>
                <a:cubicBezTo>
                  <a:pt x="7709" y="15401"/>
                  <a:pt x="7705" y="15418"/>
                  <a:pt x="7714" y="15478"/>
                </a:cubicBezTo>
              </a:path>
              <a:path w="844" h="795">
                <a:moveTo>
                  <a:pt x="8086" y="15478"/>
                </a:moveTo>
                <a:cubicBezTo>
                  <a:pt x="8106" y="15519"/>
                  <a:pt x="8125" y="15535"/>
                  <a:pt x="8086" y="155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98880" y="5330880"/>
            <a:ext cx="642960" cy="330120"/>
          </a:xfrm>
          <a:custGeom>
            <a:avLst/>
            <a:gdLst/>
            <a:ahLst/>
            <a:rect l="l" t="t" r="r" b="b"/>
            <a:pathLst>
              <a:path w="1787" h="919">
                <a:moveTo>
                  <a:pt x="8731" y="14982"/>
                </a:moveTo>
                <a:cubicBezTo>
                  <a:pt x="8656" y="14982"/>
                  <a:pt x="8653" y="15035"/>
                  <a:pt x="8632" y="15106"/>
                </a:cubicBezTo>
                <a:cubicBezTo>
                  <a:pt x="8602" y="15209"/>
                  <a:pt x="8562" y="15397"/>
                  <a:pt x="8657" y="15478"/>
                </a:cubicBezTo>
                <a:cubicBezTo>
                  <a:pt x="8761" y="15567"/>
                  <a:pt x="8932" y="15482"/>
                  <a:pt x="9004" y="15404"/>
                </a:cubicBezTo>
                <a:cubicBezTo>
                  <a:pt x="9078" y="15324"/>
                  <a:pt x="9134" y="15234"/>
                  <a:pt x="9079" y="15131"/>
                </a:cubicBezTo>
                <a:cubicBezTo>
                  <a:pt x="9020" y="15021"/>
                  <a:pt x="8900" y="14956"/>
                  <a:pt x="8781" y="14932"/>
                </a:cubicBezTo>
                <a:cubicBezTo>
                  <a:pt x="8716" y="14919"/>
                  <a:pt x="8659" y="14916"/>
                  <a:pt x="8706" y="14982"/>
                </a:cubicBezTo>
              </a:path>
              <a:path w="1787" h="919">
                <a:moveTo>
                  <a:pt x="9699" y="14883"/>
                </a:moveTo>
                <a:cubicBezTo>
                  <a:pt x="9699" y="14837"/>
                  <a:pt x="9701" y="14814"/>
                  <a:pt x="9649" y="14808"/>
                </a:cubicBezTo>
                <a:cubicBezTo>
                  <a:pt x="9566" y="14799"/>
                  <a:pt x="9533" y="14828"/>
                  <a:pt x="9475" y="14883"/>
                </a:cubicBezTo>
                <a:cubicBezTo>
                  <a:pt x="9424" y="14931"/>
                  <a:pt x="9357" y="15012"/>
                  <a:pt x="9426" y="15081"/>
                </a:cubicBezTo>
                <a:cubicBezTo>
                  <a:pt x="9490" y="15145"/>
                  <a:pt x="9576" y="15137"/>
                  <a:pt x="9649" y="15106"/>
                </a:cubicBezTo>
                <a:cubicBezTo>
                  <a:pt x="9700" y="15085"/>
                  <a:pt x="9742" y="15035"/>
                  <a:pt x="9748" y="14982"/>
                </a:cubicBezTo>
                <a:cubicBezTo>
                  <a:pt x="9748" y="14974"/>
                  <a:pt x="9748" y="14965"/>
                  <a:pt x="9748" y="14957"/>
                </a:cubicBezTo>
                <a:cubicBezTo>
                  <a:pt x="9698" y="14982"/>
                  <a:pt x="9681" y="15067"/>
                  <a:pt x="9674" y="15131"/>
                </a:cubicBezTo>
                <a:cubicBezTo>
                  <a:pt x="9662" y="15235"/>
                  <a:pt x="9668" y="15351"/>
                  <a:pt x="9649" y="15453"/>
                </a:cubicBezTo>
                <a:cubicBezTo>
                  <a:pt x="9636" y="15525"/>
                  <a:pt x="9582" y="15581"/>
                  <a:pt x="9575" y="15652"/>
                </a:cubicBezTo>
                <a:cubicBezTo>
                  <a:pt x="9575" y="15660"/>
                  <a:pt x="9575" y="15669"/>
                  <a:pt x="9575" y="15677"/>
                </a:cubicBezTo>
              </a:path>
              <a:path w="1787" h="919">
                <a:moveTo>
                  <a:pt x="10393" y="15032"/>
                </a:moveTo>
                <a:cubicBezTo>
                  <a:pt x="10393" y="14990"/>
                  <a:pt x="10393" y="14982"/>
                  <a:pt x="10393" y="14957"/>
                </a:cubicBezTo>
                <a:cubicBezTo>
                  <a:pt x="10305" y="14957"/>
                  <a:pt x="10263" y="14970"/>
                  <a:pt x="10195" y="15032"/>
                </a:cubicBezTo>
                <a:cubicBezTo>
                  <a:pt x="10129" y="15093"/>
                  <a:pt x="10088" y="15145"/>
                  <a:pt x="10071" y="15230"/>
                </a:cubicBezTo>
                <a:cubicBezTo>
                  <a:pt x="10121" y="15268"/>
                  <a:pt x="10167" y="15246"/>
                  <a:pt x="10220" y="15205"/>
                </a:cubicBezTo>
                <a:cubicBezTo>
                  <a:pt x="10283" y="15156"/>
                  <a:pt x="10321" y="15091"/>
                  <a:pt x="10368" y="15032"/>
                </a:cubicBezTo>
                <a:cubicBezTo>
                  <a:pt x="10331" y="15116"/>
                  <a:pt x="10259" y="15242"/>
                  <a:pt x="10244" y="15329"/>
                </a:cubicBezTo>
                <a:cubicBezTo>
                  <a:pt x="10230" y="15406"/>
                  <a:pt x="10192" y="15597"/>
                  <a:pt x="10220" y="15677"/>
                </a:cubicBezTo>
                <a:cubicBezTo>
                  <a:pt x="10244" y="15701"/>
                  <a:pt x="10253" y="15710"/>
                  <a:pt x="10269" y="157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11760" y="5357880"/>
            <a:ext cx="714240" cy="295200"/>
          </a:xfrm>
          <a:custGeom>
            <a:avLst/>
            <a:gdLst/>
            <a:ahLst/>
            <a:rect l="l" t="t" r="r" b="b"/>
            <a:pathLst>
              <a:path w="1986" h="819">
                <a:moveTo>
                  <a:pt x="10964" y="15304"/>
                </a:moveTo>
                <a:cubicBezTo>
                  <a:pt x="10918" y="15350"/>
                  <a:pt x="10875" y="15412"/>
                  <a:pt x="10864" y="15478"/>
                </a:cubicBezTo>
                <a:cubicBezTo>
                  <a:pt x="10851" y="15553"/>
                  <a:pt x="10844" y="15680"/>
                  <a:pt x="10939" y="15701"/>
                </a:cubicBezTo>
                <a:cubicBezTo>
                  <a:pt x="11041" y="15724"/>
                  <a:pt x="11143" y="15683"/>
                  <a:pt x="11237" y="15652"/>
                </a:cubicBezTo>
              </a:path>
              <a:path w="1986" h="819">
                <a:moveTo>
                  <a:pt x="10964" y="15503"/>
                </a:moveTo>
                <a:cubicBezTo>
                  <a:pt x="10956" y="15503"/>
                  <a:pt x="10947" y="15503"/>
                  <a:pt x="10939" y="15503"/>
                </a:cubicBezTo>
                <a:cubicBezTo>
                  <a:pt x="10953" y="15460"/>
                  <a:pt x="11035" y="15447"/>
                  <a:pt x="11088" y="15429"/>
                </a:cubicBezTo>
                <a:cubicBezTo>
                  <a:pt x="11166" y="15403"/>
                  <a:pt x="11194" y="15392"/>
                  <a:pt x="11237" y="15354"/>
                </a:cubicBezTo>
              </a:path>
              <a:path w="1986" h="819">
                <a:moveTo>
                  <a:pt x="10988" y="15106"/>
                </a:moveTo>
                <a:cubicBezTo>
                  <a:pt x="11053" y="15106"/>
                  <a:pt x="11125" y="15096"/>
                  <a:pt x="11187" y="15081"/>
                </a:cubicBezTo>
                <a:cubicBezTo>
                  <a:pt x="11252" y="15059"/>
                  <a:pt x="11267" y="15051"/>
                  <a:pt x="11311" y="15056"/>
                </a:cubicBezTo>
              </a:path>
              <a:path w="1986" h="819">
                <a:moveTo>
                  <a:pt x="11683" y="15429"/>
                </a:moveTo>
                <a:cubicBezTo>
                  <a:pt x="11730" y="15463"/>
                  <a:pt x="11771" y="15453"/>
                  <a:pt x="11832" y="15453"/>
                </a:cubicBezTo>
                <a:cubicBezTo>
                  <a:pt x="11906" y="15453"/>
                  <a:pt x="11981" y="15453"/>
                  <a:pt x="12055" y="15453"/>
                </a:cubicBezTo>
              </a:path>
              <a:path w="1986" h="819">
                <a:moveTo>
                  <a:pt x="12427" y="15007"/>
                </a:moveTo>
                <a:cubicBezTo>
                  <a:pt x="12392" y="15034"/>
                  <a:pt x="12358" y="15032"/>
                  <a:pt x="12353" y="15081"/>
                </a:cubicBezTo>
                <a:cubicBezTo>
                  <a:pt x="12346" y="15140"/>
                  <a:pt x="12361" y="15131"/>
                  <a:pt x="12378" y="15081"/>
                </a:cubicBezTo>
                <a:cubicBezTo>
                  <a:pt x="12399" y="15019"/>
                  <a:pt x="12366" y="14934"/>
                  <a:pt x="12353" y="14908"/>
                </a:cubicBezTo>
                <a:cubicBezTo>
                  <a:pt x="12353" y="14900"/>
                  <a:pt x="12353" y="14891"/>
                  <a:pt x="12353" y="14883"/>
                </a:cubicBezTo>
                <a:cubicBezTo>
                  <a:pt x="12490" y="14883"/>
                  <a:pt x="12707" y="14837"/>
                  <a:pt x="12824" y="14908"/>
                </a:cubicBezTo>
                <a:cubicBezTo>
                  <a:pt x="12877" y="14940"/>
                  <a:pt x="12839" y="14992"/>
                  <a:pt x="12824" y="15032"/>
                </a:cubicBezTo>
                <a:cubicBezTo>
                  <a:pt x="12785" y="15138"/>
                  <a:pt x="12720" y="15227"/>
                  <a:pt x="12675" y="15329"/>
                </a:cubicBezTo>
                <a:cubicBezTo>
                  <a:pt x="12642" y="15403"/>
                  <a:pt x="12605" y="15498"/>
                  <a:pt x="12601" y="15577"/>
                </a:cubicBezTo>
                <a:cubicBezTo>
                  <a:pt x="12601" y="15594"/>
                  <a:pt x="12601" y="15610"/>
                  <a:pt x="12601" y="156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14920" y="3973680"/>
            <a:ext cx="1946160" cy="117360"/>
          </a:xfrm>
          <a:custGeom>
            <a:avLst/>
            <a:gdLst/>
            <a:ahLst/>
            <a:rect l="l" t="t" r="r" b="b"/>
            <a:pathLst>
              <a:path w="5408" h="324">
                <a:moveTo>
                  <a:pt x="13097" y="11038"/>
                </a:moveTo>
                <a:cubicBezTo>
                  <a:pt x="13629" y="11038"/>
                  <a:pt x="14155" y="11063"/>
                  <a:pt x="14684" y="11088"/>
                </a:cubicBezTo>
                <a:cubicBezTo>
                  <a:pt x="14900" y="11098"/>
                  <a:pt x="15114" y="11125"/>
                  <a:pt x="15329" y="11137"/>
                </a:cubicBezTo>
                <a:cubicBezTo>
                  <a:pt x="15500" y="11147"/>
                  <a:pt x="15657" y="11196"/>
                  <a:pt x="15825" y="11212"/>
                </a:cubicBezTo>
                <a:cubicBezTo>
                  <a:pt x="15989" y="11228"/>
                  <a:pt x="16157" y="11219"/>
                  <a:pt x="16321" y="11237"/>
                </a:cubicBezTo>
                <a:cubicBezTo>
                  <a:pt x="16481" y="11254"/>
                  <a:pt x="16631" y="11261"/>
                  <a:pt x="16793" y="11261"/>
                </a:cubicBezTo>
                <a:cubicBezTo>
                  <a:pt x="17043" y="11261"/>
                  <a:pt x="17291" y="11251"/>
                  <a:pt x="17537" y="11237"/>
                </a:cubicBezTo>
                <a:cubicBezTo>
                  <a:pt x="17641" y="11231"/>
                  <a:pt x="17760" y="11236"/>
                  <a:pt x="17859" y="11261"/>
                </a:cubicBezTo>
                <a:cubicBezTo>
                  <a:pt x="17976" y="11290"/>
                  <a:pt x="18086" y="11329"/>
                  <a:pt x="18207" y="11336"/>
                </a:cubicBezTo>
                <a:cubicBezTo>
                  <a:pt x="18310" y="11342"/>
                  <a:pt x="18404" y="11345"/>
                  <a:pt x="18504" y="113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lubility of L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5.48 g/L (MM=73.8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lubility of L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5.48 g/L (MM=73.8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04920" y="2500200"/>
            <a:ext cx="2009880" cy="465120"/>
          </a:xfrm>
          <a:custGeom>
            <a:avLst/>
            <a:gdLst/>
            <a:ahLst/>
            <a:rect l="l" t="t" r="r" b="b"/>
            <a:pathLst>
              <a:path w="5582" h="1291">
                <a:moveTo>
                  <a:pt x="3497" y="6995"/>
                </a:moveTo>
                <a:cubicBezTo>
                  <a:pt x="3481" y="7077"/>
                  <a:pt x="3468" y="7158"/>
                  <a:pt x="3448" y="7243"/>
                </a:cubicBezTo>
                <a:cubicBezTo>
                  <a:pt x="3416" y="7382"/>
                  <a:pt x="3370" y="7524"/>
                  <a:pt x="3349" y="7665"/>
                </a:cubicBezTo>
                <a:cubicBezTo>
                  <a:pt x="3337" y="7746"/>
                  <a:pt x="3377" y="7786"/>
                  <a:pt x="3448" y="7789"/>
                </a:cubicBezTo>
                <a:cubicBezTo>
                  <a:pt x="3567" y="7794"/>
                  <a:pt x="3657" y="7735"/>
                  <a:pt x="3770" y="7714"/>
                </a:cubicBezTo>
                <a:cubicBezTo>
                  <a:pt x="3808" y="7707"/>
                  <a:pt x="3855" y="7714"/>
                  <a:pt x="3894" y="7714"/>
                </a:cubicBezTo>
              </a:path>
              <a:path w="5582" h="1291">
                <a:moveTo>
                  <a:pt x="4217" y="7466"/>
                </a:moveTo>
                <a:cubicBezTo>
                  <a:pt x="4167" y="7537"/>
                  <a:pt x="4110" y="7600"/>
                  <a:pt x="4093" y="7689"/>
                </a:cubicBezTo>
                <a:cubicBezTo>
                  <a:pt x="4083" y="7743"/>
                  <a:pt x="4093" y="7808"/>
                  <a:pt x="4093" y="7863"/>
                </a:cubicBezTo>
              </a:path>
              <a:path w="5582" h="1291">
                <a:moveTo>
                  <a:pt x="4465" y="7863"/>
                </a:moveTo>
                <a:cubicBezTo>
                  <a:pt x="4504" y="7853"/>
                  <a:pt x="4519" y="7838"/>
                  <a:pt x="4564" y="7838"/>
                </a:cubicBezTo>
                <a:cubicBezTo>
                  <a:pt x="4616" y="7838"/>
                  <a:pt x="4659" y="7826"/>
                  <a:pt x="4663" y="7888"/>
                </a:cubicBezTo>
                <a:cubicBezTo>
                  <a:pt x="4670" y="7990"/>
                  <a:pt x="4591" y="8014"/>
                  <a:pt x="4539" y="8086"/>
                </a:cubicBezTo>
                <a:cubicBezTo>
                  <a:pt x="4510" y="8126"/>
                  <a:pt x="4476" y="8192"/>
                  <a:pt x="4465" y="8235"/>
                </a:cubicBezTo>
                <a:cubicBezTo>
                  <a:pt x="4529" y="8235"/>
                  <a:pt x="4608" y="8223"/>
                  <a:pt x="4663" y="8186"/>
                </a:cubicBezTo>
                <a:cubicBezTo>
                  <a:pt x="4680" y="8169"/>
                  <a:pt x="4696" y="8153"/>
                  <a:pt x="4713" y="8136"/>
                </a:cubicBezTo>
              </a:path>
              <a:path w="5582" h="1291">
                <a:moveTo>
                  <a:pt x="5432" y="6945"/>
                </a:moveTo>
                <a:cubicBezTo>
                  <a:pt x="5344" y="7023"/>
                  <a:pt x="5278" y="7074"/>
                  <a:pt x="5234" y="7193"/>
                </a:cubicBezTo>
                <a:cubicBezTo>
                  <a:pt x="5194" y="7300"/>
                  <a:pt x="5147" y="7501"/>
                  <a:pt x="5184" y="7615"/>
                </a:cubicBezTo>
                <a:cubicBezTo>
                  <a:pt x="5226" y="7744"/>
                  <a:pt x="5351" y="7762"/>
                  <a:pt x="5457" y="7739"/>
                </a:cubicBezTo>
                <a:cubicBezTo>
                  <a:pt x="5490" y="7731"/>
                  <a:pt x="5523" y="7722"/>
                  <a:pt x="5556" y="7714"/>
                </a:cubicBezTo>
              </a:path>
              <a:path w="5582" h="1291">
                <a:moveTo>
                  <a:pt x="5978" y="7193"/>
                </a:moveTo>
                <a:cubicBezTo>
                  <a:pt x="5970" y="7177"/>
                  <a:pt x="5961" y="7160"/>
                  <a:pt x="5953" y="7144"/>
                </a:cubicBezTo>
                <a:cubicBezTo>
                  <a:pt x="5904" y="7168"/>
                  <a:pt x="5885" y="7254"/>
                  <a:pt x="5879" y="7317"/>
                </a:cubicBezTo>
                <a:cubicBezTo>
                  <a:pt x="5866" y="7447"/>
                  <a:pt x="5868" y="7566"/>
                  <a:pt x="5953" y="7665"/>
                </a:cubicBezTo>
                <a:cubicBezTo>
                  <a:pt x="6035" y="7761"/>
                  <a:pt x="6129" y="7693"/>
                  <a:pt x="6201" y="7615"/>
                </a:cubicBezTo>
                <a:cubicBezTo>
                  <a:pt x="6301" y="7506"/>
                  <a:pt x="6280" y="7373"/>
                  <a:pt x="6251" y="7243"/>
                </a:cubicBezTo>
                <a:cubicBezTo>
                  <a:pt x="6227" y="7137"/>
                  <a:pt x="6192" y="7033"/>
                  <a:pt x="6077" y="7020"/>
                </a:cubicBezTo>
                <a:cubicBezTo>
                  <a:pt x="6036" y="7020"/>
                  <a:pt x="6020" y="7012"/>
                  <a:pt x="6028" y="7045"/>
                </a:cubicBezTo>
              </a:path>
              <a:path w="5582" h="1291">
                <a:moveTo>
                  <a:pt x="6573" y="7640"/>
                </a:moveTo>
                <a:cubicBezTo>
                  <a:pt x="6625" y="7640"/>
                  <a:pt x="6626" y="7635"/>
                  <a:pt x="6648" y="7665"/>
                </a:cubicBezTo>
                <a:cubicBezTo>
                  <a:pt x="6677" y="7704"/>
                  <a:pt x="6721" y="7757"/>
                  <a:pt x="6697" y="7813"/>
                </a:cubicBezTo>
                <a:cubicBezTo>
                  <a:pt x="6677" y="7860"/>
                  <a:pt x="6608" y="7882"/>
                  <a:pt x="6573" y="7913"/>
                </a:cubicBezTo>
                <a:cubicBezTo>
                  <a:pt x="6551" y="7935"/>
                  <a:pt x="6546" y="7944"/>
                  <a:pt x="6524" y="7938"/>
                </a:cubicBezTo>
                <a:cubicBezTo>
                  <a:pt x="6573" y="7938"/>
                  <a:pt x="6610" y="7955"/>
                  <a:pt x="6648" y="7962"/>
                </a:cubicBezTo>
                <a:cubicBezTo>
                  <a:pt x="6672" y="7967"/>
                  <a:pt x="6773" y="7979"/>
                  <a:pt x="6747" y="8037"/>
                </a:cubicBezTo>
                <a:cubicBezTo>
                  <a:pt x="6716" y="8107"/>
                  <a:pt x="6638" y="8149"/>
                  <a:pt x="6573" y="8186"/>
                </a:cubicBezTo>
                <a:cubicBezTo>
                  <a:pt x="6557" y="8194"/>
                  <a:pt x="6540" y="8202"/>
                  <a:pt x="6524" y="8210"/>
                </a:cubicBezTo>
              </a:path>
              <a:path w="5582" h="1291">
                <a:moveTo>
                  <a:pt x="5705" y="7144"/>
                </a:moveTo>
                <a:cubicBezTo>
                  <a:pt x="5713" y="7144"/>
                  <a:pt x="5722" y="7144"/>
                  <a:pt x="5730" y="7144"/>
                </a:cubicBezTo>
                <a:cubicBezTo>
                  <a:pt x="5699" y="7102"/>
                  <a:pt x="5694" y="7095"/>
                  <a:pt x="5655" y="7069"/>
                </a:cubicBezTo>
                <a:cubicBezTo>
                  <a:pt x="5618" y="7045"/>
                  <a:pt x="5571" y="7032"/>
                  <a:pt x="5531" y="7020"/>
                </a:cubicBezTo>
                <a:cubicBezTo>
                  <a:pt x="5523" y="7020"/>
                  <a:pt x="5515" y="7020"/>
                  <a:pt x="5507" y="7020"/>
                </a:cubicBezTo>
              </a:path>
              <a:path w="5582" h="1291">
                <a:moveTo>
                  <a:pt x="7317" y="7392"/>
                </a:moveTo>
                <a:cubicBezTo>
                  <a:pt x="7402" y="7371"/>
                  <a:pt x="7472" y="7367"/>
                  <a:pt x="7565" y="7367"/>
                </a:cubicBezTo>
                <a:cubicBezTo>
                  <a:pt x="7864" y="7367"/>
                  <a:pt x="8164" y="7378"/>
                  <a:pt x="8458" y="7342"/>
                </a:cubicBezTo>
                <a:cubicBezTo>
                  <a:pt x="8504" y="7336"/>
                  <a:pt x="8597" y="7322"/>
                  <a:pt x="8632" y="7293"/>
                </a:cubicBezTo>
                <a:cubicBezTo>
                  <a:pt x="8632" y="7285"/>
                  <a:pt x="8632" y="7276"/>
                  <a:pt x="8632" y="7268"/>
                </a:cubicBezTo>
                <a:cubicBezTo>
                  <a:pt x="8581" y="7217"/>
                  <a:pt x="8533" y="7180"/>
                  <a:pt x="8458" y="7169"/>
                </a:cubicBezTo>
                <a:cubicBezTo>
                  <a:pt x="8362" y="7155"/>
                  <a:pt x="8256" y="7151"/>
                  <a:pt x="8161" y="7144"/>
                </a:cubicBezTo>
                <a:cubicBezTo>
                  <a:pt x="8153" y="7144"/>
                  <a:pt x="8144" y="7144"/>
                  <a:pt x="8136" y="7144"/>
                </a:cubicBezTo>
                <a:cubicBezTo>
                  <a:pt x="8177" y="7164"/>
                  <a:pt x="8253" y="7169"/>
                  <a:pt x="8334" y="7169"/>
                </a:cubicBezTo>
                <a:cubicBezTo>
                  <a:pt x="8497" y="7169"/>
                  <a:pt x="8672" y="7147"/>
                  <a:pt x="8830" y="7193"/>
                </a:cubicBezTo>
                <a:cubicBezTo>
                  <a:pt x="8880" y="7218"/>
                  <a:pt x="8897" y="7226"/>
                  <a:pt x="8930" y="7243"/>
                </a:cubicBezTo>
                <a:cubicBezTo>
                  <a:pt x="8909" y="7327"/>
                  <a:pt x="8825" y="7405"/>
                  <a:pt x="8756" y="7466"/>
                </a:cubicBezTo>
                <a:cubicBezTo>
                  <a:pt x="8682" y="7516"/>
                  <a:pt x="8657" y="7533"/>
                  <a:pt x="8632" y="75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56000" y="2463840"/>
            <a:ext cx="822240" cy="295200"/>
          </a:xfrm>
          <a:custGeom>
            <a:avLst/>
            <a:gdLst/>
            <a:ahLst/>
            <a:rect l="l" t="t" r="r" b="b"/>
            <a:pathLst>
              <a:path w="2283" h="820">
                <a:moveTo>
                  <a:pt x="9649" y="6995"/>
                </a:moveTo>
                <a:cubicBezTo>
                  <a:pt x="9793" y="6966"/>
                  <a:pt x="9881" y="6954"/>
                  <a:pt x="9996" y="7069"/>
                </a:cubicBezTo>
                <a:cubicBezTo>
                  <a:pt x="10094" y="7167"/>
                  <a:pt x="10126" y="7287"/>
                  <a:pt x="10071" y="7417"/>
                </a:cubicBezTo>
                <a:cubicBezTo>
                  <a:pt x="10026" y="7524"/>
                  <a:pt x="9873" y="7596"/>
                  <a:pt x="9773" y="7640"/>
                </a:cubicBezTo>
                <a:cubicBezTo>
                  <a:pt x="9692" y="7675"/>
                  <a:pt x="9673" y="7668"/>
                  <a:pt x="9599" y="7640"/>
                </a:cubicBezTo>
                <a:cubicBezTo>
                  <a:pt x="9599" y="7578"/>
                  <a:pt x="9632" y="7531"/>
                  <a:pt x="9699" y="7516"/>
                </a:cubicBezTo>
                <a:cubicBezTo>
                  <a:pt x="9787" y="7497"/>
                  <a:pt x="9939" y="7502"/>
                  <a:pt x="10021" y="7541"/>
                </a:cubicBezTo>
                <a:cubicBezTo>
                  <a:pt x="10086" y="7584"/>
                  <a:pt x="10101" y="7595"/>
                  <a:pt x="10145" y="7615"/>
                </a:cubicBezTo>
              </a:path>
              <a:path w="2283" h="820">
                <a:moveTo>
                  <a:pt x="10641" y="6995"/>
                </a:moveTo>
                <a:cubicBezTo>
                  <a:pt x="10657" y="7003"/>
                  <a:pt x="10632" y="7046"/>
                  <a:pt x="10616" y="7094"/>
                </a:cubicBezTo>
                <a:cubicBezTo>
                  <a:pt x="10582" y="7193"/>
                  <a:pt x="10545" y="7290"/>
                  <a:pt x="10517" y="7392"/>
                </a:cubicBezTo>
                <a:cubicBezTo>
                  <a:pt x="10501" y="7450"/>
                  <a:pt x="10463" y="7595"/>
                  <a:pt x="10542" y="7640"/>
                </a:cubicBezTo>
                <a:cubicBezTo>
                  <a:pt x="10615" y="7682"/>
                  <a:pt x="10791" y="7625"/>
                  <a:pt x="10864" y="7615"/>
                </a:cubicBezTo>
                <a:cubicBezTo>
                  <a:pt x="10917" y="7608"/>
                  <a:pt x="10959" y="7590"/>
                  <a:pt x="11013" y="7590"/>
                </a:cubicBezTo>
                <a:cubicBezTo>
                  <a:pt x="11021" y="7590"/>
                  <a:pt x="11030" y="7590"/>
                  <a:pt x="11038" y="7590"/>
                </a:cubicBezTo>
              </a:path>
              <a:path w="2283" h="820">
                <a:moveTo>
                  <a:pt x="11212" y="7367"/>
                </a:moveTo>
                <a:cubicBezTo>
                  <a:pt x="11186" y="7459"/>
                  <a:pt x="11162" y="7521"/>
                  <a:pt x="11162" y="7615"/>
                </a:cubicBezTo>
                <a:cubicBezTo>
                  <a:pt x="11162" y="7640"/>
                  <a:pt x="11162" y="7648"/>
                  <a:pt x="11162" y="7665"/>
                </a:cubicBezTo>
              </a:path>
              <a:path w="2283" h="820">
                <a:moveTo>
                  <a:pt x="11609" y="6995"/>
                </a:moveTo>
                <a:cubicBezTo>
                  <a:pt x="11609" y="7003"/>
                  <a:pt x="11609" y="7012"/>
                  <a:pt x="11609" y="7020"/>
                </a:cubicBezTo>
                <a:cubicBezTo>
                  <a:pt x="11683" y="7020"/>
                  <a:pt x="11738" y="7011"/>
                  <a:pt x="11807" y="6995"/>
                </a:cubicBezTo>
                <a:cubicBezTo>
                  <a:pt x="11842" y="6995"/>
                  <a:pt x="11859" y="6990"/>
                  <a:pt x="11881" y="6970"/>
                </a:cubicBezTo>
              </a:path>
              <a:path w="2283" h="820">
                <a:moveTo>
                  <a:pt x="11757" y="6846"/>
                </a:moveTo>
                <a:cubicBezTo>
                  <a:pt x="11722" y="6909"/>
                  <a:pt x="11687" y="6945"/>
                  <a:pt x="11683" y="7020"/>
                </a:cubicBezTo>
                <a:cubicBezTo>
                  <a:pt x="11678" y="7109"/>
                  <a:pt x="11690" y="7145"/>
                  <a:pt x="11733" y="72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62640" y="2482920"/>
            <a:ext cx="1760400" cy="401400"/>
          </a:xfrm>
          <a:custGeom>
            <a:avLst/>
            <a:gdLst/>
            <a:ahLst/>
            <a:rect l="l" t="t" r="r" b="b"/>
            <a:pathLst>
              <a:path w="4888" h="1117">
                <a:moveTo>
                  <a:pt x="12675" y="7317"/>
                </a:moveTo>
                <a:cubicBezTo>
                  <a:pt x="12813" y="7317"/>
                  <a:pt x="12968" y="7339"/>
                  <a:pt x="13097" y="7293"/>
                </a:cubicBezTo>
              </a:path>
              <a:path w="4888" h="1117">
                <a:moveTo>
                  <a:pt x="12948" y="7094"/>
                </a:moveTo>
                <a:cubicBezTo>
                  <a:pt x="12891" y="7189"/>
                  <a:pt x="12898" y="7206"/>
                  <a:pt x="12898" y="7317"/>
                </a:cubicBezTo>
                <a:cubicBezTo>
                  <a:pt x="12898" y="7401"/>
                  <a:pt x="12894" y="7464"/>
                  <a:pt x="12923" y="7541"/>
                </a:cubicBezTo>
              </a:path>
              <a:path w="4888" h="1117">
                <a:moveTo>
                  <a:pt x="13717" y="7169"/>
                </a:moveTo>
                <a:cubicBezTo>
                  <a:pt x="13754" y="7160"/>
                  <a:pt x="13809" y="7120"/>
                  <a:pt x="13841" y="7094"/>
                </a:cubicBezTo>
                <a:cubicBezTo>
                  <a:pt x="13888" y="7056"/>
                  <a:pt x="13927" y="6998"/>
                  <a:pt x="13940" y="6945"/>
                </a:cubicBezTo>
                <a:cubicBezTo>
                  <a:pt x="13896" y="7033"/>
                  <a:pt x="13876" y="7119"/>
                  <a:pt x="13866" y="7218"/>
                </a:cubicBezTo>
                <a:cubicBezTo>
                  <a:pt x="13855" y="7325"/>
                  <a:pt x="13885" y="7415"/>
                  <a:pt x="13891" y="7516"/>
                </a:cubicBezTo>
                <a:cubicBezTo>
                  <a:pt x="13891" y="7524"/>
                  <a:pt x="13891" y="7533"/>
                  <a:pt x="13891" y="7541"/>
                </a:cubicBezTo>
              </a:path>
              <a:path w="4888" h="1117">
                <a:moveTo>
                  <a:pt x="13618" y="7665"/>
                </a:moveTo>
                <a:cubicBezTo>
                  <a:pt x="13694" y="7603"/>
                  <a:pt x="13741" y="7615"/>
                  <a:pt x="13841" y="7615"/>
                </a:cubicBezTo>
                <a:cubicBezTo>
                  <a:pt x="13970" y="7615"/>
                  <a:pt x="14089" y="7603"/>
                  <a:pt x="14213" y="7590"/>
                </a:cubicBezTo>
                <a:cubicBezTo>
                  <a:pt x="14238" y="7590"/>
                  <a:pt x="14263" y="7590"/>
                  <a:pt x="14288" y="7590"/>
                </a:cubicBezTo>
              </a:path>
              <a:path w="4888" h="1117">
                <a:moveTo>
                  <a:pt x="15056" y="7020"/>
                </a:moveTo>
                <a:cubicBezTo>
                  <a:pt x="15048" y="6965"/>
                  <a:pt x="15035" y="6903"/>
                  <a:pt x="14957" y="6921"/>
                </a:cubicBezTo>
                <a:cubicBezTo>
                  <a:pt x="14853" y="6945"/>
                  <a:pt x="14727" y="7079"/>
                  <a:pt x="14684" y="7169"/>
                </a:cubicBezTo>
                <a:cubicBezTo>
                  <a:pt x="14624" y="7293"/>
                  <a:pt x="14625" y="7408"/>
                  <a:pt x="14709" y="7516"/>
                </a:cubicBezTo>
                <a:cubicBezTo>
                  <a:pt x="14780" y="7608"/>
                  <a:pt x="14879" y="7585"/>
                  <a:pt x="14982" y="7590"/>
                </a:cubicBezTo>
              </a:path>
              <a:path w="4888" h="1117">
                <a:moveTo>
                  <a:pt x="15652" y="7119"/>
                </a:moveTo>
                <a:cubicBezTo>
                  <a:pt x="15560" y="7064"/>
                  <a:pt x="15533" y="7138"/>
                  <a:pt x="15478" y="7218"/>
                </a:cubicBezTo>
                <a:cubicBezTo>
                  <a:pt x="15411" y="7315"/>
                  <a:pt x="15391" y="7470"/>
                  <a:pt x="15478" y="7565"/>
                </a:cubicBezTo>
                <a:cubicBezTo>
                  <a:pt x="15571" y="7667"/>
                  <a:pt x="15720" y="7657"/>
                  <a:pt x="15825" y="7590"/>
                </a:cubicBezTo>
                <a:cubicBezTo>
                  <a:pt x="15921" y="7529"/>
                  <a:pt x="15976" y="7377"/>
                  <a:pt x="15949" y="7268"/>
                </a:cubicBezTo>
                <a:cubicBezTo>
                  <a:pt x="15928" y="7184"/>
                  <a:pt x="15843" y="7045"/>
                  <a:pt x="15751" y="7020"/>
                </a:cubicBezTo>
                <a:cubicBezTo>
                  <a:pt x="15734" y="7020"/>
                  <a:pt x="15718" y="7020"/>
                  <a:pt x="15701" y="7020"/>
                </a:cubicBezTo>
              </a:path>
              <a:path w="4888" h="1117">
                <a:moveTo>
                  <a:pt x="16247" y="7590"/>
                </a:moveTo>
                <a:cubicBezTo>
                  <a:pt x="16280" y="7590"/>
                  <a:pt x="16313" y="7590"/>
                  <a:pt x="16346" y="7590"/>
                </a:cubicBezTo>
                <a:cubicBezTo>
                  <a:pt x="16346" y="7662"/>
                  <a:pt x="16324" y="7610"/>
                  <a:pt x="16297" y="7665"/>
                </a:cubicBezTo>
                <a:cubicBezTo>
                  <a:pt x="16281" y="7698"/>
                  <a:pt x="16284" y="7678"/>
                  <a:pt x="16272" y="7714"/>
                </a:cubicBezTo>
                <a:cubicBezTo>
                  <a:pt x="16285" y="7753"/>
                  <a:pt x="16311" y="7741"/>
                  <a:pt x="16346" y="7764"/>
                </a:cubicBezTo>
                <a:cubicBezTo>
                  <a:pt x="16373" y="7782"/>
                  <a:pt x="16398" y="7815"/>
                  <a:pt x="16421" y="7838"/>
                </a:cubicBezTo>
                <a:cubicBezTo>
                  <a:pt x="16384" y="7931"/>
                  <a:pt x="16346" y="7910"/>
                  <a:pt x="16272" y="7962"/>
                </a:cubicBezTo>
                <a:cubicBezTo>
                  <a:pt x="16205" y="8009"/>
                  <a:pt x="16225" y="8012"/>
                  <a:pt x="16148" y="8012"/>
                </a:cubicBezTo>
              </a:path>
              <a:path w="4888" h="1117">
                <a:moveTo>
                  <a:pt x="16718" y="7020"/>
                </a:moveTo>
                <a:cubicBezTo>
                  <a:pt x="16762" y="7053"/>
                  <a:pt x="16784" y="7045"/>
                  <a:pt x="16842" y="7045"/>
                </a:cubicBezTo>
                <a:cubicBezTo>
                  <a:pt x="16900" y="7045"/>
                  <a:pt x="16921" y="7048"/>
                  <a:pt x="16966" y="7020"/>
                </a:cubicBezTo>
              </a:path>
              <a:path w="4888" h="1117">
                <a:moveTo>
                  <a:pt x="17239" y="6896"/>
                </a:moveTo>
                <a:cubicBezTo>
                  <a:pt x="17312" y="6896"/>
                  <a:pt x="17394" y="6902"/>
                  <a:pt x="17462" y="6921"/>
                </a:cubicBezTo>
                <a:cubicBezTo>
                  <a:pt x="17493" y="6930"/>
                  <a:pt x="17575" y="6976"/>
                  <a:pt x="17562" y="7020"/>
                </a:cubicBezTo>
                <a:cubicBezTo>
                  <a:pt x="17539" y="7099"/>
                  <a:pt x="17429" y="7138"/>
                  <a:pt x="17363" y="7169"/>
                </a:cubicBezTo>
                <a:cubicBezTo>
                  <a:pt x="17304" y="7197"/>
                  <a:pt x="17314" y="7189"/>
                  <a:pt x="17314" y="7243"/>
                </a:cubicBezTo>
                <a:cubicBezTo>
                  <a:pt x="17388" y="7243"/>
                  <a:pt x="17463" y="7243"/>
                  <a:pt x="17537" y="72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94080" y="3044880"/>
            <a:ext cx="54000" cy="36360"/>
          </a:xfrm>
          <a:custGeom>
            <a:avLst/>
            <a:gdLst/>
            <a:ahLst/>
            <a:rect l="l" t="t" r="r" b="b"/>
            <a:pathLst>
              <a:path w="150" h="101">
                <a:moveTo>
                  <a:pt x="9451" y="8458"/>
                </a:moveTo>
                <a:cubicBezTo>
                  <a:pt x="9444" y="8506"/>
                  <a:pt x="9436" y="8516"/>
                  <a:pt x="9426" y="8558"/>
                </a:cubicBezTo>
                <a:cubicBezTo>
                  <a:pt x="9459" y="8550"/>
                  <a:pt x="9521" y="8526"/>
                  <a:pt x="9550" y="8508"/>
                </a:cubicBezTo>
                <a:cubicBezTo>
                  <a:pt x="9558" y="8500"/>
                  <a:pt x="9567" y="8491"/>
                  <a:pt x="9575" y="8483"/>
                </a:cubicBezTo>
                <a:cubicBezTo>
                  <a:pt x="9549" y="8483"/>
                  <a:pt x="9487" y="8490"/>
                  <a:pt x="9475" y="8508"/>
                </a:cubicBezTo>
                <a:cubicBezTo>
                  <a:pt x="9475" y="8516"/>
                  <a:pt x="9475" y="8525"/>
                  <a:pt x="9475" y="85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06840" y="2901960"/>
            <a:ext cx="804960" cy="179280"/>
          </a:xfrm>
          <a:custGeom>
            <a:avLst/>
            <a:gdLst/>
            <a:ahLst/>
            <a:rect l="l" t="t" r="r" b="b"/>
            <a:pathLst>
              <a:path w="2234" h="497">
                <a:moveTo>
                  <a:pt x="10120" y="8062"/>
                </a:moveTo>
                <a:cubicBezTo>
                  <a:pt x="10085" y="8109"/>
                  <a:pt x="10089" y="8156"/>
                  <a:pt x="10071" y="8210"/>
                </a:cubicBezTo>
                <a:cubicBezTo>
                  <a:pt x="10047" y="8280"/>
                  <a:pt x="10033" y="8362"/>
                  <a:pt x="10021" y="8434"/>
                </a:cubicBezTo>
                <a:cubicBezTo>
                  <a:pt x="10021" y="8475"/>
                  <a:pt x="10021" y="8483"/>
                  <a:pt x="10021" y="8508"/>
                </a:cubicBezTo>
              </a:path>
              <a:path w="2234" h="497">
                <a:moveTo>
                  <a:pt x="10368" y="8161"/>
                </a:moveTo>
                <a:cubicBezTo>
                  <a:pt x="10360" y="8161"/>
                  <a:pt x="10352" y="8161"/>
                  <a:pt x="10344" y="8161"/>
                </a:cubicBezTo>
                <a:cubicBezTo>
                  <a:pt x="10337" y="8187"/>
                  <a:pt x="10301" y="8228"/>
                  <a:pt x="10319" y="8260"/>
                </a:cubicBezTo>
                <a:cubicBezTo>
                  <a:pt x="10349" y="8315"/>
                  <a:pt x="10381" y="8343"/>
                  <a:pt x="10443" y="8359"/>
                </a:cubicBezTo>
                <a:cubicBezTo>
                  <a:pt x="10468" y="8365"/>
                  <a:pt x="10519" y="8359"/>
                  <a:pt x="10542" y="8359"/>
                </a:cubicBezTo>
              </a:path>
              <a:path w="2234" h="497">
                <a:moveTo>
                  <a:pt x="10641" y="8136"/>
                </a:moveTo>
                <a:cubicBezTo>
                  <a:pt x="10617" y="8193"/>
                  <a:pt x="10611" y="8232"/>
                  <a:pt x="10592" y="8285"/>
                </a:cubicBezTo>
                <a:cubicBezTo>
                  <a:pt x="10567" y="8355"/>
                  <a:pt x="10567" y="8407"/>
                  <a:pt x="10567" y="8483"/>
                </a:cubicBezTo>
                <a:cubicBezTo>
                  <a:pt x="10567" y="8525"/>
                  <a:pt x="10567" y="8533"/>
                  <a:pt x="10567" y="8558"/>
                </a:cubicBezTo>
              </a:path>
              <a:path w="2234" h="497">
                <a:moveTo>
                  <a:pt x="11112" y="8210"/>
                </a:moveTo>
                <a:cubicBezTo>
                  <a:pt x="11082" y="8188"/>
                  <a:pt x="11051" y="8164"/>
                  <a:pt x="11013" y="8161"/>
                </a:cubicBezTo>
                <a:cubicBezTo>
                  <a:pt x="10940" y="8156"/>
                  <a:pt x="10914" y="8160"/>
                  <a:pt x="10864" y="8210"/>
                </a:cubicBezTo>
                <a:cubicBezTo>
                  <a:pt x="10825" y="8250"/>
                  <a:pt x="10843" y="8281"/>
                  <a:pt x="10889" y="8310"/>
                </a:cubicBezTo>
                <a:cubicBezTo>
                  <a:pt x="10934" y="8339"/>
                  <a:pt x="11014" y="8380"/>
                  <a:pt x="11038" y="8434"/>
                </a:cubicBezTo>
                <a:cubicBezTo>
                  <a:pt x="11054" y="8469"/>
                  <a:pt x="11033" y="8510"/>
                  <a:pt x="11013" y="8533"/>
                </a:cubicBezTo>
                <a:cubicBezTo>
                  <a:pt x="10991" y="8555"/>
                  <a:pt x="10986" y="8564"/>
                  <a:pt x="10964" y="8558"/>
                </a:cubicBezTo>
                <a:cubicBezTo>
                  <a:pt x="10964" y="8510"/>
                  <a:pt x="10959" y="8478"/>
                  <a:pt x="10988" y="8434"/>
                </a:cubicBezTo>
                <a:cubicBezTo>
                  <a:pt x="11024" y="8379"/>
                  <a:pt x="11090" y="8332"/>
                  <a:pt x="11137" y="8285"/>
                </a:cubicBezTo>
              </a:path>
              <a:path w="2234" h="497">
                <a:moveTo>
                  <a:pt x="11410" y="8111"/>
                </a:moveTo>
                <a:cubicBezTo>
                  <a:pt x="11443" y="8116"/>
                  <a:pt x="11520" y="8125"/>
                  <a:pt x="11485" y="8186"/>
                </a:cubicBezTo>
                <a:cubicBezTo>
                  <a:pt x="11466" y="8219"/>
                  <a:pt x="11394" y="8269"/>
                  <a:pt x="11385" y="8285"/>
                </a:cubicBezTo>
                <a:cubicBezTo>
                  <a:pt x="11385" y="8293"/>
                  <a:pt x="11385" y="8302"/>
                  <a:pt x="11385" y="8310"/>
                </a:cubicBezTo>
                <a:cubicBezTo>
                  <a:pt x="11398" y="8346"/>
                  <a:pt x="11416" y="8334"/>
                  <a:pt x="11460" y="8334"/>
                </a:cubicBezTo>
                <a:cubicBezTo>
                  <a:pt x="11506" y="8334"/>
                  <a:pt x="11528" y="8333"/>
                  <a:pt x="11534" y="8384"/>
                </a:cubicBezTo>
                <a:cubicBezTo>
                  <a:pt x="11537" y="8407"/>
                  <a:pt x="11476" y="8494"/>
                  <a:pt x="11460" y="8508"/>
                </a:cubicBezTo>
                <a:cubicBezTo>
                  <a:pt x="11405" y="8555"/>
                  <a:pt x="11402" y="8508"/>
                  <a:pt x="11385" y="8558"/>
                </a:cubicBezTo>
              </a:path>
              <a:path w="2234" h="497">
                <a:moveTo>
                  <a:pt x="11757" y="8260"/>
                </a:moveTo>
                <a:cubicBezTo>
                  <a:pt x="11757" y="8296"/>
                  <a:pt x="11751" y="8333"/>
                  <a:pt x="11733" y="8359"/>
                </a:cubicBezTo>
                <a:cubicBezTo>
                  <a:pt x="11710" y="8394"/>
                  <a:pt x="11696" y="8445"/>
                  <a:pt x="11683" y="8483"/>
                </a:cubicBezTo>
                <a:cubicBezTo>
                  <a:pt x="11683" y="8491"/>
                  <a:pt x="11683" y="8500"/>
                  <a:pt x="11683" y="8508"/>
                </a:cubicBezTo>
                <a:cubicBezTo>
                  <a:pt x="11710" y="8471"/>
                  <a:pt x="11762" y="8417"/>
                  <a:pt x="11782" y="8384"/>
                </a:cubicBezTo>
                <a:cubicBezTo>
                  <a:pt x="11826" y="8311"/>
                  <a:pt x="11865" y="8238"/>
                  <a:pt x="11931" y="8186"/>
                </a:cubicBezTo>
                <a:cubicBezTo>
                  <a:pt x="11971" y="8166"/>
                  <a:pt x="11978" y="8157"/>
                  <a:pt x="12005" y="8161"/>
                </a:cubicBezTo>
                <a:cubicBezTo>
                  <a:pt x="12005" y="8241"/>
                  <a:pt x="11983" y="8347"/>
                  <a:pt x="12030" y="8409"/>
                </a:cubicBezTo>
                <a:cubicBezTo>
                  <a:pt x="12068" y="8400"/>
                  <a:pt x="12105" y="8371"/>
                  <a:pt x="12129" y="8334"/>
                </a:cubicBezTo>
                <a:cubicBezTo>
                  <a:pt x="12166" y="8276"/>
                  <a:pt x="12190" y="8235"/>
                  <a:pt x="12229" y="8186"/>
                </a:cubicBezTo>
                <a:cubicBezTo>
                  <a:pt x="12252" y="8163"/>
                  <a:pt x="12260" y="8159"/>
                  <a:pt x="12254" y="8136"/>
                </a:cubicBezTo>
                <a:cubicBezTo>
                  <a:pt x="12254" y="8260"/>
                  <a:pt x="12254" y="8384"/>
                  <a:pt x="12254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10120" y="3054240"/>
            <a:ext cx="44640" cy="27000"/>
          </a:xfrm>
          <a:custGeom>
            <a:avLst/>
            <a:gdLst/>
            <a:ahLst/>
            <a:rect l="l" t="t" r="r" b="b"/>
            <a:pathLst>
              <a:path w="125" h="76">
                <a:moveTo>
                  <a:pt x="13965" y="8483"/>
                </a:moveTo>
                <a:cubicBezTo>
                  <a:pt x="13936" y="8512"/>
                  <a:pt x="13924" y="8521"/>
                  <a:pt x="13915" y="8558"/>
                </a:cubicBezTo>
                <a:cubicBezTo>
                  <a:pt x="13951" y="8558"/>
                  <a:pt x="13989" y="8551"/>
                  <a:pt x="14015" y="8533"/>
                </a:cubicBezTo>
                <a:cubicBezTo>
                  <a:pt x="14023" y="8525"/>
                  <a:pt x="14031" y="8516"/>
                  <a:pt x="14039" y="8508"/>
                </a:cubicBezTo>
                <a:cubicBezTo>
                  <a:pt x="13992" y="8508"/>
                  <a:pt x="13953" y="8493"/>
                  <a:pt x="13940" y="85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97320" y="2982960"/>
            <a:ext cx="758880" cy="187200"/>
          </a:xfrm>
          <a:custGeom>
            <a:avLst/>
            <a:gdLst/>
            <a:ahLst/>
            <a:rect l="l" t="t" r="r" b="b"/>
            <a:pathLst>
              <a:path w="2110" h="522">
                <a:moveTo>
                  <a:pt x="14585" y="8359"/>
                </a:moveTo>
                <a:cubicBezTo>
                  <a:pt x="14577" y="8351"/>
                  <a:pt x="14568" y="8342"/>
                  <a:pt x="14560" y="8334"/>
                </a:cubicBezTo>
                <a:cubicBezTo>
                  <a:pt x="14522" y="8353"/>
                  <a:pt x="14481" y="8409"/>
                  <a:pt x="14461" y="8458"/>
                </a:cubicBezTo>
                <a:cubicBezTo>
                  <a:pt x="14431" y="8530"/>
                  <a:pt x="14451" y="8622"/>
                  <a:pt x="14536" y="8657"/>
                </a:cubicBezTo>
                <a:cubicBezTo>
                  <a:pt x="14592" y="8680"/>
                  <a:pt x="14719" y="8647"/>
                  <a:pt x="14759" y="8607"/>
                </a:cubicBezTo>
                <a:cubicBezTo>
                  <a:pt x="14822" y="8545"/>
                  <a:pt x="14804" y="8451"/>
                  <a:pt x="14759" y="8384"/>
                </a:cubicBezTo>
                <a:cubicBezTo>
                  <a:pt x="14726" y="8334"/>
                  <a:pt x="14668" y="8291"/>
                  <a:pt x="14610" y="8285"/>
                </a:cubicBezTo>
                <a:cubicBezTo>
                  <a:pt x="14585" y="8285"/>
                  <a:pt x="14577" y="8285"/>
                  <a:pt x="14585" y="8310"/>
                </a:cubicBezTo>
              </a:path>
              <a:path w="2110" h="522">
                <a:moveTo>
                  <a:pt x="14957" y="8359"/>
                </a:moveTo>
                <a:cubicBezTo>
                  <a:pt x="15008" y="8359"/>
                  <a:pt x="15058" y="8346"/>
                  <a:pt x="15106" y="8334"/>
                </a:cubicBezTo>
                <a:cubicBezTo>
                  <a:pt x="15182" y="8315"/>
                  <a:pt x="15226" y="8285"/>
                  <a:pt x="15304" y="8285"/>
                </a:cubicBezTo>
                <a:cubicBezTo>
                  <a:pt x="15304" y="8347"/>
                  <a:pt x="15309" y="8399"/>
                  <a:pt x="15280" y="8458"/>
                </a:cubicBezTo>
                <a:cubicBezTo>
                  <a:pt x="15238" y="8542"/>
                  <a:pt x="15182" y="8614"/>
                  <a:pt x="15156" y="8706"/>
                </a:cubicBezTo>
                <a:cubicBezTo>
                  <a:pt x="15150" y="8727"/>
                  <a:pt x="15156" y="8760"/>
                  <a:pt x="15156" y="8781"/>
                </a:cubicBezTo>
              </a:path>
              <a:path w="2110" h="522">
                <a:moveTo>
                  <a:pt x="15602" y="8409"/>
                </a:moveTo>
                <a:cubicBezTo>
                  <a:pt x="15577" y="8452"/>
                  <a:pt x="15530" y="8502"/>
                  <a:pt x="15553" y="8558"/>
                </a:cubicBezTo>
                <a:cubicBezTo>
                  <a:pt x="15578" y="8620"/>
                  <a:pt x="15613" y="8653"/>
                  <a:pt x="15677" y="8657"/>
                </a:cubicBezTo>
                <a:cubicBezTo>
                  <a:pt x="15718" y="8657"/>
                  <a:pt x="15726" y="8657"/>
                  <a:pt x="15751" y="8657"/>
                </a:cubicBezTo>
              </a:path>
              <a:path w="2110" h="522">
                <a:moveTo>
                  <a:pt x="15850" y="8434"/>
                </a:moveTo>
                <a:cubicBezTo>
                  <a:pt x="15807" y="8476"/>
                  <a:pt x="15786" y="8522"/>
                  <a:pt x="15776" y="8582"/>
                </a:cubicBezTo>
                <a:cubicBezTo>
                  <a:pt x="15764" y="8652"/>
                  <a:pt x="15779" y="8704"/>
                  <a:pt x="15825" y="8756"/>
                </a:cubicBezTo>
                <a:cubicBezTo>
                  <a:pt x="15833" y="8764"/>
                  <a:pt x="15842" y="8773"/>
                  <a:pt x="15850" y="8781"/>
                </a:cubicBezTo>
              </a:path>
              <a:path w="2110" h="522">
                <a:moveTo>
                  <a:pt x="16148" y="8508"/>
                </a:moveTo>
                <a:cubicBezTo>
                  <a:pt x="16221" y="8488"/>
                  <a:pt x="16271" y="8483"/>
                  <a:pt x="16346" y="8483"/>
                </a:cubicBezTo>
                <a:cubicBezTo>
                  <a:pt x="16363" y="8483"/>
                  <a:pt x="16379" y="8483"/>
                  <a:pt x="16396" y="8483"/>
                </a:cubicBezTo>
                <a:cubicBezTo>
                  <a:pt x="16396" y="8529"/>
                  <a:pt x="16403" y="8548"/>
                  <a:pt x="16371" y="8582"/>
                </a:cubicBezTo>
                <a:cubicBezTo>
                  <a:pt x="16315" y="8642"/>
                  <a:pt x="16229" y="8655"/>
                  <a:pt x="16197" y="8731"/>
                </a:cubicBezTo>
                <a:cubicBezTo>
                  <a:pt x="16172" y="8791"/>
                  <a:pt x="16254" y="8800"/>
                  <a:pt x="16297" y="8806"/>
                </a:cubicBezTo>
                <a:cubicBezTo>
                  <a:pt x="16390" y="8820"/>
                  <a:pt x="16463" y="8793"/>
                  <a:pt x="16545" y="87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89760" y="3044880"/>
            <a:ext cx="268200" cy="169920"/>
          </a:xfrm>
          <a:custGeom>
            <a:avLst/>
            <a:gdLst/>
            <a:ahLst/>
            <a:rect l="l" t="t" r="r" b="b"/>
            <a:pathLst>
              <a:path w="745" h="473">
                <a:moveTo>
                  <a:pt x="17016" y="8533"/>
                </a:moveTo>
                <a:cubicBezTo>
                  <a:pt x="16991" y="8483"/>
                  <a:pt x="16983" y="8594"/>
                  <a:pt x="16966" y="8632"/>
                </a:cubicBezTo>
                <a:cubicBezTo>
                  <a:pt x="16938" y="8695"/>
                  <a:pt x="16926" y="8690"/>
                  <a:pt x="16917" y="8756"/>
                </a:cubicBezTo>
                <a:cubicBezTo>
                  <a:pt x="16917" y="8796"/>
                  <a:pt x="16945" y="8738"/>
                  <a:pt x="16966" y="8706"/>
                </a:cubicBezTo>
                <a:cubicBezTo>
                  <a:pt x="17010" y="8638"/>
                  <a:pt x="17070" y="8590"/>
                  <a:pt x="17115" y="8533"/>
                </a:cubicBezTo>
                <a:cubicBezTo>
                  <a:pt x="17137" y="8489"/>
                  <a:pt x="17140" y="8477"/>
                  <a:pt x="17165" y="8458"/>
                </a:cubicBezTo>
                <a:cubicBezTo>
                  <a:pt x="17205" y="8471"/>
                  <a:pt x="17190" y="8507"/>
                  <a:pt x="17190" y="8558"/>
                </a:cubicBezTo>
                <a:cubicBezTo>
                  <a:pt x="17190" y="8616"/>
                  <a:pt x="17183" y="8655"/>
                  <a:pt x="17214" y="8682"/>
                </a:cubicBezTo>
                <a:cubicBezTo>
                  <a:pt x="17260" y="8722"/>
                  <a:pt x="17290" y="8693"/>
                  <a:pt x="17338" y="8657"/>
                </a:cubicBezTo>
                <a:cubicBezTo>
                  <a:pt x="17400" y="8610"/>
                  <a:pt x="17455" y="8565"/>
                  <a:pt x="17512" y="8508"/>
                </a:cubicBezTo>
                <a:cubicBezTo>
                  <a:pt x="17520" y="8500"/>
                  <a:pt x="17529" y="8491"/>
                  <a:pt x="17537" y="8483"/>
                </a:cubicBezTo>
                <a:cubicBezTo>
                  <a:pt x="17537" y="8577"/>
                  <a:pt x="17526" y="8670"/>
                  <a:pt x="17562" y="8756"/>
                </a:cubicBezTo>
                <a:cubicBezTo>
                  <a:pt x="17588" y="8818"/>
                  <a:pt x="17620" y="8878"/>
                  <a:pt x="17661" y="89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38160" y="3295800"/>
            <a:ext cx="1724040" cy="401400"/>
          </a:xfrm>
          <a:custGeom>
            <a:avLst/>
            <a:gdLst/>
            <a:ahLst/>
            <a:rect l="l" t="t" r="r" b="b"/>
            <a:pathLst>
              <a:path w="4789" h="1117">
                <a:moveTo>
                  <a:pt x="2778" y="9227"/>
                </a:moveTo>
                <a:cubicBezTo>
                  <a:pt x="2860" y="9227"/>
                  <a:pt x="2925" y="9215"/>
                  <a:pt x="3001" y="9203"/>
                </a:cubicBezTo>
                <a:cubicBezTo>
                  <a:pt x="3039" y="9197"/>
                  <a:pt x="3086" y="9203"/>
                  <a:pt x="3125" y="9203"/>
                </a:cubicBezTo>
              </a:path>
              <a:path w="4789" h="1117">
                <a:moveTo>
                  <a:pt x="2753" y="9252"/>
                </a:moveTo>
                <a:cubicBezTo>
                  <a:pt x="2697" y="9309"/>
                  <a:pt x="2623" y="9368"/>
                  <a:pt x="2604" y="9451"/>
                </a:cubicBezTo>
                <a:cubicBezTo>
                  <a:pt x="2594" y="9496"/>
                  <a:pt x="2604" y="9553"/>
                  <a:pt x="2604" y="9599"/>
                </a:cubicBezTo>
                <a:cubicBezTo>
                  <a:pt x="2668" y="9599"/>
                  <a:pt x="2715" y="9584"/>
                  <a:pt x="2778" y="9575"/>
                </a:cubicBezTo>
                <a:cubicBezTo>
                  <a:pt x="2807" y="9571"/>
                  <a:pt x="2914" y="9557"/>
                  <a:pt x="2927" y="9599"/>
                </a:cubicBezTo>
                <a:cubicBezTo>
                  <a:pt x="2953" y="9682"/>
                  <a:pt x="2849" y="9775"/>
                  <a:pt x="2803" y="9823"/>
                </a:cubicBezTo>
                <a:cubicBezTo>
                  <a:pt x="2748" y="9880"/>
                  <a:pt x="2707" y="9931"/>
                  <a:pt x="2629" y="9947"/>
                </a:cubicBezTo>
              </a:path>
              <a:path w="4789" h="1117">
                <a:moveTo>
                  <a:pt x="3249" y="9897"/>
                </a:moveTo>
                <a:cubicBezTo>
                  <a:pt x="3285" y="9897"/>
                  <a:pt x="3260" y="9905"/>
                  <a:pt x="3249" y="9872"/>
                </a:cubicBezTo>
              </a:path>
              <a:path w="4789" h="1117">
                <a:moveTo>
                  <a:pt x="3621" y="9203"/>
                </a:moveTo>
                <a:cubicBezTo>
                  <a:pt x="3596" y="9262"/>
                  <a:pt x="3576" y="9312"/>
                  <a:pt x="3572" y="9376"/>
                </a:cubicBezTo>
                <a:cubicBezTo>
                  <a:pt x="3568" y="9443"/>
                  <a:pt x="3600" y="9508"/>
                  <a:pt x="3671" y="9525"/>
                </a:cubicBezTo>
                <a:cubicBezTo>
                  <a:pt x="3759" y="9546"/>
                  <a:pt x="3839" y="9504"/>
                  <a:pt x="3919" y="9475"/>
                </a:cubicBezTo>
              </a:path>
              <a:path w="4789" h="1117">
                <a:moveTo>
                  <a:pt x="3969" y="9153"/>
                </a:moveTo>
                <a:cubicBezTo>
                  <a:pt x="3929" y="9261"/>
                  <a:pt x="3913" y="9339"/>
                  <a:pt x="3894" y="9451"/>
                </a:cubicBezTo>
                <a:cubicBezTo>
                  <a:pt x="3875" y="9568"/>
                  <a:pt x="3850" y="9681"/>
                  <a:pt x="3845" y="9798"/>
                </a:cubicBezTo>
                <a:cubicBezTo>
                  <a:pt x="3845" y="9842"/>
                  <a:pt x="3842" y="9856"/>
                  <a:pt x="3870" y="9872"/>
                </a:cubicBezTo>
              </a:path>
              <a:path w="4789" h="1117">
                <a:moveTo>
                  <a:pt x="4465" y="9327"/>
                </a:moveTo>
                <a:cubicBezTo>
                  <a:pt x="4445" y="9286"/>
                  <a:pt x="4447" y="9270"/>
                  <a:pt x="4415" y="9277"/>
                </a:cubicBezTo>
                <a:cubicBezTo>
                  <a:pt x="4356" y="9294"/>
                  <a:pt x="4319" y="9328"/>
                  <a:pt x="4266" y="9376"/>
                </a:cubicBezTo>
                <a:cubicBezTo>
                  <a:pt x="4222" y="9417"/>
                  <a:pt x="4249" y="9489"/>
                  <a:pt x="4291" y="9525"/>
                </a:cubicBezTo>
                <a:cubicBezTo>
                  <a:pt x="4349" y="9575"/>
                  <a:pt x="4397" y="9578"/>
                  <a:pt x="4440" y="9649"/>
                </a:cubicBezTo>
                <a:cubicBezTo>
                  <a:pt x="4487" y="9727"/>
                  <a:pt x="4464" y="9801"/>
                  <a:pt x="4415" y="9872"/>
                </a:cubicBezTo>
                <a:cubicBezTo>
                  <a:pt x="4407" y="9880"/>
                  <a:pt x="4398" y="9889"/>
                  <a:pt x="4390" y="9897"/>
                </a:cubicBezTo>
                <a:cubicBezTo>
                  <a:pt x="4353" y="9884"/>
                  <a:pt x="4356" y="9821"/>
                  <a:pt x="4366" y="9773"/>
                </a:cubicBezTo>
                <a:cubicBezTo>
                  <a:pt x="4388" y="9668"/>
                  <a:pt x="4467" y="9576"/>
                  <a:pt x="4539" y="9500"/>
                </a:cubicBezTo>
                <a:cubicBezTo>
                  <a:pt x="4585" y="9454"/>
                  <a:pt x="4598" y="9440"/>
                  <a:pt x="4638" y="9426"/>
                </a:cubicBezTo>
              </a:path>
              <a:path w="4789" h="1117">
                <a:moveTo>
                  <a:pt x="5581" y="9178"/>
                </a:moveTo>
                <a:cubicBezTo>
                  <a:pt x="5639" y="9120"/>
                  <a:pt x="5515" y="9244"/>
                  <a:pt x="5457" y="9302"/>
                </a:cubicBezTo>
                <a:cubicBezTo>
                  <a:pt x="5319" y="9440"/>
                  <a:pt x="5163" y="9553"/>
                  <a:pt x="5011" y="9674"/>
                </a:cubicBezTo>
                <a:cubicBezTo>
                  <a:pt x="4840" y="9809"/>
                  <a:pt x="4655" y="9952"/>
                  <a:pt x="4514" y="10120"/>
                </a:cubicBezTo>
                <a:cubicBezTo>
                  <a:pt x="4469" y="10190"/>
                  <a:pt x="4457" y="10210"/>
                  <a:pt x="4415" y="10244"/>
                </a:cubicBezTo>
              </a:path>
              <a:path w="4789" h="1117">
                <a:moveTo>
                  <a:pt x="5110" y="9922"/>
                </a:moveTo>
                <a:cubicBezTo>
                  <a:pt x="5155" y="9911"/>
                  <a:pt x="5212" y="9888"/>
                  <a:pt x="5259" y="9872"/>
                </a:cubicBezTo>
                <a:cubicBezTo>
                  <a:pt x="5329" y="9848"/>
                  <a:pt x="5356" y="9823"/>
                  <a:pt x="5432" y="9823"/>
                </a:cubicBezTo>
                <a:cubicBezTo>
                  <a:pt x="5457" y="9823"/>
                  <a:pt x="5465" y="9823"/>
                  <a:pt x="5482" y="9823"/>
                </a:cubicBezTo>
                <a:cubicBezTo>
                  <a:pt x="5482" y="9912"/>
                  <a:pt x="5462" y="9962"/>
                  <a:pt x="5432" y="10046"/>
                </a:cubicBezTo>
                <a:cubicBezTo>
                  <a:pt x="5406" y="10119"/>
                  <a:pt x="5383" y="10167"/>
                  <a:pt x="5383" y="10244"/>
                </a:cubicBezTo>
                <a:cubicBezTo>
                  <a:pt x="5383" y="10252"/>
                  <a:pt x="5383" y="10261"/>
                  <a:pt x="5383" y="10269"/>
                </a:cubicBezTo>
              </a:path>
              <a:path w="4789" h="1117">
                <a:moveTo>
                  <a:pt x="5854" y="9723"/>
                </a:moveTo>
                <a:cubicBezTo>
                  <a:pt x="5921" y="9723"/>
                  <a:pt x="5977" y="9710"/>
                  <a:pt x="6028" y="9748"/>
                </a:cubicBezTo>
                <a:cubicBezTo>
                  <a:pt x="6015" y="9801"/>
                  <a:pt x="5969" y="9831"/>
                  <a:pt x="5928" y="9872"/>
                </a:cubicBezTo>
                <a:cubicBezTo>
                  <a:pt x="5895" y="9906"/>
                  <a:pt x="5839" y="9942"/>
                  <a:pt x="5829" y="9971"/>
                </a:cubicBezTo>
                <a:cubicBezTo>
                  <a:pt x="5867" y="9971"/>
                  <a:pt x="5932" y="9953"/>
                  <a:pt x="5953" y="9996"/>
                </a:cubicBezTo>
                <a:cubicBezTo>
                  <a:pt x="5978" y="10046"/>
                  <a:pt x="5931" y="10091"/>
                  <a:pt x="5904" y="10120"/>
                </a:cubicBezTo>
                <a:cubicBezTo>
                  <a:pt x="5862" y="10162"/>
                  <a:pt x="5854" y="10170"/>
                  <a:pt x="5829" y="10195"/>
                </a:cubicBezTo>
              </a:path>
              <a:path w="4789" h="1117">
                <a:moveTo>
                  <a:pt x="6276" y="10021"/>
                </a:moveTo>
                <a:cubicBezTo>
                  <a:pt x="6299" y="10104"/>
                  <a:pt x="6286" y="10077"/>
                  <a:pt x="6226" y="10120"/>
                </a:cubicBezTo>
              </a:path>
              <a:path w="4789" h="1117">
                <a:moveTo>
                  <a:pt x="6772" y="9773"/>
                </a:moveTo>
                <a:cubicBezTo>
                  <a:pt x="6734" y="9735"/>
                  <a:pt x="6725" y="9723"/>
                  <a:pt x="6672" y="9723"/>
                </a:cubicBezTo>
                <a:cubicBezTo>
                  <a:pt x="6610" y="9723"/>
                  <a:pt x="6549" y="9741"/>
                  <a:pt x="6524" y="9798"/>
                </a:cubicBezTo>
                <a:cubicBezTo>
                  <a:pt x="6504" y="9842"/>
                  <a:pt x="6546" y="9894"/>
                  <a:pt x="6573" y="9922"/>
                </a:cubicBezTo>
                <a:cubicBezTo>
                  <a:pt x="6613" y="9964"/>
                  <a:pt x="6656" y="10005"/>
                  <a:pt x="6697" y="10046"/>
                </a:cubicBezTo>
                <a:cubicBezTo>
                  <a:pt x="6720" y="10069"/>
                  <a:pt x="6728" y="10073"/>
                  <a:pt x="6722" y="10096"/>
                </a:cubicBezTo>
                <a:cubicBezTo>
                  <a:pt x="6677" y="10096"/>
                  <a:pt x="6652" y="10098"/>
                  <a:pt x="6648" y="10046"/>
                </a:cubicBezTo>
                <a:cubicBezTo>
                  <a:pt x="6643" y="9974"/>
                  <a:pt x="6699" y="9946"/>
                  <a:pt x="6747" y="9897"/>
                </a:cubicBezTo>
                <a:cubicBezTo>
                  <a:pt x="6763" y="9880"/>
                  <a:pt x="6780" y="9864"/>
                  <a:pt x="6796" y="9847"/>
                </a:cubicBezTo>
              </a:path>
              <a:path w="4789" h="1117">
                <a:moveTo>
                  <a:pt x="7243" y="9500"/>
                </a:moveTo>
                <a:cubicBezTo>
                  <a:pt x="7178" y="9542"/>
                  <a:pt x="7095" y="9570"/>
                  <a:pt x="7069" y="9649"/>
                </a:cubicBezTo>
                <a:cubicBezTo>
                  <a:pt x="7051" y="9703"/>
                  <a:pt x="7148" y="9746"/>
                  <a:pt x="7169" y="9773"/>
                </a:cubicBezTo>
                <a:cubicBezTo>
                  <a:pt x="7210" y="9825"/>
                  <a:pt x="7239" y="9907"/>
                  <a:pt x="7243" y="9971"/>
                </a:cubicBezTo>
                <a:cubicBezTo>
                  <a:pt x="7247" y="10044"/>
                  <a:pt x="7212" y="10116"/>
                  <a:pt x="7144" y="10145"/>
                </a:cubicBezTo>
                <a:cubicBezTo>
                  <a:pt x="7136" y="10145"/>
                  <a:pt x="7127" y="10145"/>
                  <a:pt x="7119" y="10145"/>
                </a:cubicBezTo>
                <a:cubicBezTo>
                  <a:pt x="7119" y="10078"/>
                  <a:pt x="7131" y="10004"/>
                  <a:pt x="7169" y="9947"/>
                </a:cubicBezTo>
                <a:cubicBezTo>
                  <a:pt x="7224" y="9864"/>
                  <a:pt x="7322" y="9794"/>
                  <a:pt x="7392" y="97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9240" y="3429000"/>
            <a:ext cx="98640" cy="12528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8111" y="9550"/>
                </a:moveTo>
                <a:cubicBezTo>
                  <a:pt x="8189" y="9550"/>
                  <a:pt x="8236" y="9529"/>
                  <a:pt x="8310" y="9525"/>
                </a:cubicBezTo>
                <a:cubicBezTo>
                  <a:pt x="8351" y="9525"/>
                  <a:pt x="8359" y="9525"/>
                  <a:pt x="8384" y="9525"/>
                </a:cubicBezTo>
              </a:path>
              <a:path w="274" h="348">
                <a:moveTo>
                  <a:pt x="8186" y="9847"/>
                </a:moveTo>
                <a:cubicBezTo>
                  <a:pt x="8186" y="9855"/>
                  <a:pt x="8186" y="9864"/>
                  <a:pt x="8186" y="9872"/>
                </a:cubicBezTo>
                <a:cubicBezTo>
                  <a:pt x="8252" y="9872"/>
                  <a:pt x="8318" y="9872"/>
                  <a:pt x="8384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7720" y="3606840"/>
            <a:ext cx="44280" cy="460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9351" y="10096"/>
                </a:moveTo>
                <a:cubicBezTo>
                  <a:pt x="9343" y="10112"/>
                  <a:pt x="9335" y="10129"/>
                  <a:pt x="9327" y="10145"/>
                </a:cubicBezTo>
                <a:cubicBezTo>
                  <a:pt x="9361" y="10110"/>
                  <a:pt x="9429" y="10086"/>
                  <a:pt x="9451" y="10046"/>
                </a:cubicBezTo>
                <a:cubicBezTo>
                  <a:pt x="9451" y="10038"/>
                  <a:pt x="9451" y="10029"/>
                  <a:pt x="9451" y="10021"/>
                </a:cubicBezTo>
                <a:cubicBezTo>
                  <a:pt x="9410" y="10031"/>
                  <a:pt x="9392" y="10061"/>
                  <a:pt x="9351" y="100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3367080"/>
            <a:ext cx="1276560" cy="258840"/>
          </a:xfrm>
          <a:custGeom>
            <a:avLst/>
            <a:gdLst/>
            <a:ahLst/>
            <a:rect l="l" t="t" r="r" b="b"/>
            <a:pathLst>
              <a:path w="3548" h="721">
                <a:moveTo>
                  <a:pt x="10120" y="9550"/>
                </a:moveTo>
                <a:cubicBezTo>
                  <a:pt x="10031" y="9614"/>
                  <a:pt x="9968" y="9658"/>
                  <a:pt x="9947" y="9773"/>
                </a:cubicBezTo>
                <a:cubicBezTo>
                  <a:pt x="9929" y="9868"/>
                  <a:pt x="10015" y="9909"/>
                  <a:pt x="10096" y="9922"/>
                </a:cubicBezTo>
                <a:cubicBezTo>
                  <a:pt x="10180" y="9935"/>
                  <a:pt x="10311" y="9941"/>
                  <a:pt x="10344" y="9847"/>
                </a:cubicBezTo>
                <a:cubicBezTo>
                  <a:pt x="10370" y="9776"/>
                  <a:pt x="10318" y="9671"/>
                  <a:pt x="10269" y="9624"/>
                </a:cubicBezTo>
                <a:cubicBezTo>
                  <a:pt x="10208" y="9566"/>
                  <a:pt x="10124" y="9535"/>
                  <a:pt x="10046" y="9525"/>
                </a:cubicBezTo>
              </a:path>
              <a:path w="3548" h="721">
                <a:moveTo>
                  <a:pt x="10542" y="9550"/>
                </a:moveTo>
                <a:cubicBezTo>
                  <a:pt x="10598" y="9550"/>
                  <a:pt x="10640" y="9532"/>
                  <a:pt x="10691" y="9525"/>
                </a:cubicBezTo>
                <a:cubicBezTo>
                  <a:pt x="10748" y="9517"/>
                  <a:pt x="10889" y="9486"/>
                  <a:pt x="10939" y="9500"/>
                </a:cubicBezTo>
                <a:cubicBezTo>
                  <a:pt x="11020" y="9523"/>
                  <a:pt x="10976" y="9630"/>
                  <a:pt x="10964" y="9674"/>
                </a:cubicBezTo>
                <a:cubicBezTo>
                  <a:pt x="10932" y="9786"/>
                  <a:pt x="10861" y="9879"/>
                  <a:pt x="10840" y="9996"/>
                </a:cubicBezTo>
                <a:cubicBezTo>
                  <a:pt x="10840" y="10038"/>
                  <a:pt x="10840" y="10046"/>
                  <a:pt x="10840" y="10071"/>
                </a:cubicBezTo>
              </a:path>
              <a:path w="3548" h="721">
                <a:moveTo>
                  <a:pt x="11311" y="9550"/>
                </a:moveTo>
                <a:cubicBezTo>
                  <a:pt x="11278" y="9575"/>
                  <a:pt x="11251" y="9581"/>
                  <a:pt x="11237" y="9624"/>
                </a:cubicBezTo>
                <a:cubicBezTo>
                  <a:pt x="11218" y="9684"/>
                  <a:pt x="11293" y="9731"/>
                  <a:pt x="11336" y="9748"/>
                </a:cubicBezTo>
                <a:cubicBezTo>
                  <a:pt x="11434" y="9788"/>
                  <a:pt x="11510" y="9773"/>
                  <a:pt x="11609" y="9748"/>
                </a:cubicBezTo>
              </a:path>
              <a:path w="3548" h="721">
                <a:moveTo>
                  <a:pt x="11708" y="9451"/>
                </a:moveTo>
                <a:cubicBezTo>
                  <a:pt x="11621" y="9549"/>
                  <a:pt x="11635" y="9575"/>
                  <a:pt x="11609" y="9699"/>
                </a:cubicBezTo>
                <a:cubicBezTo>
                  <a:pt x="11589" y="9793"/>
                  <a:pt x="11584" y="9873"/>
                  <a:pt x="11584" y="9971"/>
                </a:cubicBezTo>
                <a:cubicBezTo>
                  <a:pt x="11584" y="9988"/>
                  <a:pt x="11584" y="10004"/>
                  <a:pt x="11584" y="10021"/>
                </a:cubicBezTo>
              </a:path>
              <a:path w="3548" h="721">
                <a:moveTo>
                  <a:pt x="12105" y="9599"/>
                </a:moveTo>
                <a:cubicBezTo>
                  <a:pt x="12159" y="9580"/>
                  <a:pt x="12269" y="9507"/>
                  <a:pt x="12328" y="9525"/>
                </a:cubicBezTo>
                <a:cubicBezTo>
                  <a:pt x="12403" y="9548"/>
                  <a:pt x="12380" y="9679"/>
                  <a:pt x="12353" y="9723"/>
                </a:cubicBezTo>
                <a:cubicBezTo>
                  <a:pt x="12302" y="9805"/>
                  <a:pt x="12170" y="9898"/>
                  <a:pt x="12080" y="9922"/>
                </a:cubicBezTo>
                <a:cubicBezTo>
                  <a:pt x="12022" y="9937"/>
                  <a:pt x="11943" y="9922"/>
                  <a:pt x="11881" y="9922"/>
                </a:cubicBezTo>
                <a:cubicBezTo>
                  <a:pt x="11891" y="9849"/>
                  <a:pt x="11902" y="9828"/>
                  <a:pt x="11981" y="9823"/>
                </a:cubicBezTo>
                <a:cubicBezTo>
                  <a:pt x="12071" y="9818"/>
                  <a:pt x="12091" y="9834"/>
                  <a:pt x="12154" y="9897"/>
                </a:cubicBezTo>
                <a:cubicBezTo>
                  <a:pt x="12187" y="9930"/>
                  <a:pt x="12204" y="9947"/>
                  <a:pt x="12229" y="9971"/>
                </a:cubicBezTo>
              </a:path>
              <a:path w="3548" h="721">
                <a:moveTo>
                  <a:pt x="12824" y="9525"/>
                </a:moveTo>
                <a:cubicBezTo>
                  <a:pt x="12762" y="9494"/>
                  <a:pt x="12758" y="9579"/>
                  <a:pt x="12750" y="9649"/>
                </a:cubicBezTo>
                <a:cubicBezTo>
                  <a:pt x="12740" y="9742"/>
                  <a:pt x="12725" y="9827"/>
                  <a:pt x="12725" y="9922"/>
                </a:cubicBezTo>
                <a:cubicBezTo>
                  <a:pt x="12725" y="9947"/>
                  <a:pt x="12725" y="9971"/>
                  <a:pt x="12725" y="9996"/>
                </a:cubicBezTo>
                <a:cubicBezTo>
                  <a:pt x="12774" y="9935"/>
                  <a:pt x="12787" y="9868"/>
                  <a:pt x="12824" y="9798"/>
                </a:cubicBezTo>
                <a:cubicBezTo>
                  <a:pt x="12878" y="9696"/>
                  <a:pt x="12902" y="9580"/>
                  <a:pt x="12948" y="9475"/>
                </a:cubicBezTo>
                <a:cubicBezTo>
                  <a:pt x="12972" y="9419"/>
                  <a:pt x="12998" y="9410"/>
                  <a:pt x="12998" y="9351"/>
                </a:cubicBezTo>
                <a:cubicBezTo>
                  <a:pt x="13043" y="9382"/>
                  <a:pt x="13031" y="9435"/>
                  <a:pt x="13047" y="9500"/>
                </a:cubicBezTo>
                <a:cubicBezTo>
                  <a:pt x="13068" y="9585"/>
                  <a:pt x="13099" y="9699"/>
                  <a:pt x="13146" y="9773"/>
                </a:cubicBezTo>
                <a:cubicBezTo>
                  <a:pt x="13171" y="9798"/>
                  <a:pt x="13179" y="9806"/>
                  <a:pt x="13196" y="9823"/>
                </a:cubicBezTo>
                <a:cubicBezTo>
                  <a:pt x="13249" y="9810"/>
                  <a:pt x="13252" y="9771"/>
                  <a:pt x="13271" y="9723"/>
                </a:cubicBezTo>
                <a:cubicBezTo>
                  <a:pt x="13300" y="9649"/>
                  <a:pt x="13324" y="9566"/>
                  <a:pt x="13370" y="9500"/>
                </a:cubicBezTo>
                <a:cubicBezTo>
                  <a:pt x="13392" y="9478"/>
                  <a:pt x="13397" y="9469"/>
                  <a:pt x="13419" y="9475"/>
                </a:cubicBezTo>
                <a:cubicBezTo>
                  <a:pt x="13448" y="9553"/>
                  <a:pt x="13444" y="9614"/>
                  <a:pt x="13444" y="9699"/>
                </a:cubicBezTo>
                <a:cubicBezTo>
                  <a:pt x="13444" y="9763"/>
                  <a:pt x="13449" y="9862"/>
                  <a:pt x="13469" y="9922"/>
                </a:cubicBezTo>
                <a:cubicBezTo>
                  <a:pt x="13489" y="9962"/>
                  <a:pt x="13498" y="9968"/>
                  <a:pt x="13494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71760" y="3867120"/>
            <a:ext cx="785520" cy="482760"/>
          </a:xfrm>
          <a:custGeom>
            <a:avLst/>
            <a:gdLst/>
            <a:ahLst/>
            <a:rect l="l" t="t" r="r" b="b"/>
            <a:pathLst>
              <a:path w="2183" h="1341">
                <a:moveTo>
                  <a:pt x="4366" y="10740"/>
                </a:moveTo>
                <a:cubicBezTo>
                  <a:pt x="4366" y="11021"/>
                  <a:pt x="4366" y="11303"/>
                  <a:pt x="4366" y="11584"/>
                </a:cubicBezTo>
              </a:path>
              <a:path w="2183" h="1341">
                <a:moveTo>
                  <a:pt x="4812" y="10914"/>
                </a:moveTo>
                <a:cubicBezTo>
                  <a:pt x="4829" y="10922"/>
                  <a:pt x="4845" y="10931"/>
                  <a:pt x="4862" y="10939"/>
                </a:cubicBezTo>
                <a:cubicBezTo>
                  <a:pt x="4847" y="11000"/>
                  <a:pt x="4763" y="11072"/>
                  <a:pt x="4713" y="11112"/>
                </a:cubicBezTo>
                <a:cubicBezTo>
                  <a:pt x="4635" y="11175"/>
                  <a:pt x="4543" y="11225"/>
                  <a:pt x="4465" y="11286"/>
                </a:cubicBezTo>
                <a:cubicBezTo>
                  <a:pt x="4457" y="11294"/>
                  <a:pt x="4448" y="11303"/>
                  <a:pt x="4440" y="11311"/>
                </a:cubicBezTo>
                <a:cubicBezTo>
                  <a:pt x="4520" y="11341"/>
                  <a:pt x="4604" y="11357"/>
                  <a:pt x="4688" y="11385"/>
                </a:cubicBezTo>
                <a:cubicBezTo>
                  <a:pt x="4787" y="11418"/>
                  <a:pt x="4860" y="11439"/>
                  <a:pt x="4936" y="11509"/>
                </a:cubicBezTo>
                <a:cubicBezTo>
                  <a:pt x="4944" y="11517"/>
                  <a:pt x="4953" y="11526"/>
                  <a:pt x="4961" y="11534"/>
                </a:cubicBezTo>
              </a:path>
              <a:path w="2183" h="1341">
                <a:moveTo>
                  <a:pt x="5358" y="11435"/>
                </a:moveTo>
                <a:cubicBezTo>
                  <a:pt x="5349" y="11408"/>
                  <a:pt x="5322" y="11396"/>
                  <a:pt x="5283" y="11410"/>
                </a:cubicBezTo>
                <a:cubicBezTo>
                  <a:pt x="5211" y="11436"/>
                  <a:pt x="5144" y="11489"/>
                  <a:pt x="5085" y="11534"/>
                </a:cubicBezTo>
                <a:cubicBezTo>
                  <a:pt x="5077" y="11542"/>
                  <a:pt x="5068" y="11551"/>
                  <a:pt x="5060" y="11559"/>
                </a:cubicBezTo>
                <a:cubicBezTo>
                  <a:pt x="5076" y="11606"/>
                  <a:pt x="5108" y="11592"/>
                  <a:pt x="5159" y="11609"/>
                </a:cubicBezTo>
                <a:cubicBezTo>
                  <a:pt x="5220" y="11630"/>
                  <a:pt x="5292" y="11664"/>
                  <a:pt x="5308" y="11733"/>
                </a:cubicBezTo>
                <a:cubicBezTo>
                  <a:pt x="5329" y="11824"/>
                  <a:pt x="5237" y="11919"/>
                  <a:pt x="5184" y="11981"/>
                </a:cubicBezTo>
                <a:cubicBezTo>
                  <a:pt x="5143" y="12029"/>
                  <a:pt x="5117" y="12044"/>
                  <a:pt x="5060" y="12055"/>
                </a:cubicBezTo>
              </a:path>
              <a:path w="2183" h="1341">
                <a:moveTo>
                  <a:pt x="5556" y="11559"/>
                </a:moveTo>
                <a:cubicBezTo>
                  <a:pt x="5532" y="11648"/>
                  <a:pt x="5531" y="11714"/>
                  <a:pt x="5531" y="11807"/>
                </a:cubicBezTo>
                <a:cubicBezTo>
                  <a:pt x="5531" y="11896"/>
                  <a:pt x="5550" y="11969"/>
                  <a:pt x="5556" y="12055"/>
                </a:cubicBezTo>
                <a:cubicBezTo>
                  <a:pt x="5556" y="12063"/>
                  <a:pt x="5556" y="12072"/>
                  <a:pt x="5556" y="12080"/>
                </a:cubicBezTo>
                <a:cubicBezTo>
                  <a:pt x="5556" y="11906"/>
                  <a:pt x="5541" y="11729"/>
                  <a:pt x="5581" y="11559"/>
                </a:cubicBezTo>
                <a:cubicBezTo>
                  <a:pt x="5606" y="11452"/>
                  <a:pt x="5635" y="11389"/>
                  <a:pt x="5730" y="11336"/>
                </a:cubicBezTo>
                <a:cubicBezTo>
                  <a:pt x="5788" y="11303"/>
                  <a:pt x="5853" y="11294"/>
                  <a:pt x="5904" y="11336"/>
                </a:cubicBezTo>
                <a:cubicBezTo>
                  <a:pt x="5912" y="11344"/>
                  <a:pt x="5920" y="11353"/>
                  <a:pt x="5928" y="11361"/>
                </a:cubicBezTo>
                <a:cubicBezTo>
                  <a:pt x="5910" y="11424"/>
                  <a:pt x="5876" y="11456"/>
                  <a:pt x="5804" y="11485"/>
                </a:cubicBezTo>
                <a:cubicBezTo>
                  <a:pt x="5737" y="11507"/>
                  <a:pt x="5719" y="11511"/>
                  <a:pt x="5680" y="11534"/>
                </a:cubicBezTo>
              </a:path>
              <a:path w="2183" h="1341">
                <a:moveTo>
                  <a:pt x="6226" y="11088"/>
                </a:moveTo>
                <a:cubicBezTo>
                  <a:pt x="6290" y="11114"/>
                  <a:pt x="6330" y="11112"/>
                  <a:pt x="6400" y="11112"/>
                </a:cubicBezTo>
                <a:cubicBezTo>
                  <a:pt x="6449" y="11112"/>
                  <a:pt x="6499" y="11112"/>
                  <a:pt x="6548" y="11112"/>
                </a:cubicBezTo>
              </a:path>
              <a:path w="2183" h="1341">
                <a:moveTo>
                  <a:pt x="6276" y="11509"/>
                </a:moveTo>
                <a:cubicBezTo>
                  <a:pt x="6268" y="11526"/>
                  <a:pt x="6259" y="11542"/>
                  <a:pt x="6251" y="11559"/>
                </a:cubicBezTo>
                <a:cubicBezTo>
                  <a:pt x="6316" y="11559"/>
                  <a:pt x="6364" y="11544"/>
                  <a:pt x="6424" y="11534"/>
                </a:cubicBezTo>
                <a:cubicBezTo>
                  <a:pt x="6474" y="11534"/>
                  <a:pt x="6491" y="11534"/>
                  <a:pt x="6524" y="115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4200" y="3741840"/>
            <a:ext cx="2705040" cy="517320"/>
          </a:xfrm>
          <a:custGeom>
            <a:avLst/>
            <a:gdLst/>
            <a:ahLst/>
            <a:rect l="l" t="t" r="r" b="b"/>
            <a:pathLst>
              <a:path w="7517" h="1440">
                <a:moveTo>
                  <a:pt x="7466" y="10790"/>
                </a:moveTo>
                <a:cubicBezTo>
                  <a:pt x="7422" y="10849"/>
                  <a:pt x="7411" y="10938"/>
                  <a:pt x="7392" y="11013"/>
                </a:cubicBezTo>
                <a:cubicBezTo>
                  <a:pt x="7367" y="11109"/>
                  <a:pt x="7315" y="11235"/>
                  <a:pt x="7342" y="11336"/>
                </a:cubicBezTo>
                <a:cubicBezTo>
                  <a:pt x="7362" y="11412"/>
                  <a:pt x="7422" y="11431"/>
                  <a:pt x="7491" y="11435"/>
                </a:cubicBezTo>
                <a:cubicBezTo>
                  <a:pt x="7566" y="11439"/>
                  <a:pt x="7618" y="11414"/>
                  <a:pt x="7689" y="11410"/>
                </a:cubicBezTo>
                <a:cubicBezTo>
                  <a:pt x="7751" y="11407"/>
                  <a:pt x="7744" y="11419"/>
                  <a:pt x="7789" y="11385"/>
                </a:cubicBezTo>
              </a:path>
              <a:path w="7517" h="1440">
                <a:moveTo>
                  <a:pt x="7962" y="11237"/>
                </a:moveTo>
                <a:cubicBezTo>
                  <a:pt x="7914" y="11302"/>
                  <a:pt x="7893" y="11350"/>
                  <a:pt x="7888" y="11435"/>
                </a:cubicBezTo>
                <a:cubicBezTo>
                  <a:pt x="7886" y="11468"/>
                  <a:pt x="7888" y="11501"/>
                  <a:pt x="7888" y="11534"/>
                </a:cubicBezTo>
              </a:path>
              <a:path w="7517" h="1440">
                <a:moveTo>
                  <a:pt x="8210" y="10815"/>
                </a:moveTo>
                <a:cubicBezTo>
                  <a:pt x="8202" y="10815"/>
                  <a:pt x="8194" y="10815"/>
                  <a:pt x="8186" y="10815"/>
                </a:cubicBezTo>
                <a:cubicBezTo>
                  <a:pt x="8245" y="10815"/>
                  <a:pt x="8289" y="10800"/>
                  <a:pt x="8334" y="10790"/>
                </a:cubicBezTo>
                <a:cubicBezTo>
                  <a:pt x="8361" y="10784"/>
                  <a:pt x="8404" y="10790"/>
                  <a:pt x="8434" y="10790"/>
                </a:cubicBezTo>
              </a:path>
              <a:path w="7517" h="1440">
                <a:moveTo>
                  <a:pt x="8334" y="10691"/>
                </a:moveTo>
                <a:cubicBezTo>
                  <a:pt x="8301" y="10736"/>
                  <a:pt x="8288" y="10781"/>
                  <a:pt x="8285" y="10840"/>
                </a:cubicBezTo>
                <a:cubicBezTo>
                  <a:pt x="8281" y="10911"/>
                  <a:pt x="8301" y="10950"/>
                  <a:pt x="8310" y="11013"/>
                </a:cubicBezTo>
              </a:path>
              <a:path w="7517" h="1440">
                <a:moveTo>
                  <a:pt x="8706" y="10666"/>
                </a:moveTo>
                <a:cubicBezTo>
                  <a:pt x="8665" y="10666"/>
                  <a:pt x="8657" y="10666"/>
                  <a:pt x="8632" y="10666"/>
                </a:cubicBezTo>
                <a:cubicBezTo>
                  <a:pt x="8664" y="10640"/>
                  <a:pt x="8692" y="10625"/>
                  <a:pt x="8731" y="10616"/>
                </a:cubicBezTo>
                <a:cubicBezTo>
                  <a:pt x="8762" y="10609"/>
                  <a:pt x="8847" y="10573"/>
                  <a:pt x="8880" y="10592"/>
                </a:cubicBezTo>
                <a:cubicBezTo>
                  <a:pt x="8928" y="10621"/>
                  <a:pt x="8911" y="10777"/>
                  <a:pt x="8905" y="10815"/>
                </a:cubicBezTo>
                <a:cubicBezTo>
                  <a:pt x="8880" y="10973"/>
                  <a:pt x="8842" y="11126"/>
                  <a:pt x="8830" y="11286"/>
                </a:cubicBezTo>
                <a:cubicBezTo>
                  <a:pt x="8822" y="11393"/>
                  <a:pt x="8839" y="11485"/>
                  <a:pt x="8855" y="11584"/>
                </a:cubicBezTo>
                <a:cubicBezTo>
                  <a:pt x="8865" y="11645"/>
                  <a:pt x="8831" y="11656"/>
                  <a:pt x="8781" y="11683"/>
                </a:cubicBezTo>
                <a:cubicBezTo>
                  <a:pt x="8662" y="11746"/>
                  <a:pt x="8583" y="11757"/>
                  <a:pt x="8458" y="11782"/>
                </a:cubicBezTo>
                <a:cubicBezTo>
                  <a:pt x="8357" y="11802"/>
                  <a:pt x="8319" y="11824"/>
                  <a:pt x="8235" y="11757"/>
                </a:cubicBezTo>
              </a:path>
              <a:path w="7517" h="1440">
                <a:moveTo>
                  <a:pt x="7590" y="10567"/>
                </a:moveTo>
                <a:cubicBezTo>
                  <a:pt x="7559" y="10536"/>
                  <a:pt x="7569" y="10493"/>
                  <a:pt x="7491" y="10517"/>
                </a:cubicBezTo>
                <a:cubicBezTo>
                  <a:pt x="7455" y="10528"/>
                  <a:pt x="7397" y="10543"/>
                  <a:pt x="7367" y="10567"/>
                </a:cubicBezTo>
                <a:cubicBezTo>
                  <a:pt x="7340" y="10589"/>
                  <a:pt x="7304" y="10601"/>
                  <a:pt x="7293" y="10616"/>
                </a:cubicBezTo>
                <a:cubicBezTo>
                  <a:pt x="7264" y="10656"/>
                  <a:pt x="7259" y="10718"/>
                  <a:pt x="7243" y="10765"/>
                </a:cubicBezTo>
                <a:cubicBezTo>
                  <a:pt x="7200" y="10893"/>
                  <a:pt x="7137" y="11026"/>
                  <a:pt x="7119" y="11162"/>
                </a:cubicBezTo>
                <a:cubicBezTo>
                  <a:pt x="7106" y="11258"/>
                  <a:pt x="7098" y="11365"/>
                  <a:pt x="7094" y="11460"/>
                </a:cubicBezTo>
                <a:cubicBezTo>
                  <a:pt x="7091" y="11531"/>
                  <a:pt x="7083" y="11596"/>
                  <a:pt x="7119" y="11658"/>
                </a:cubicBezTo>
                <a:cubicBezTo>
                  <a:pt x="7135" y="11686"/>
                  <a:pt x="7181" y="11772"/>
                  <a:pt x="7218" y="11782"/>
                </a:cubicBezTo>
                <a:cubicBezTo>
                  <a:pt x="7312" y="11809"/>
                  <a:pt x="7461" y="11781"/>
                  <a:pt x="7541" y="11757"/>
                </a:cubicBezTo>
                <a:cubicBezTo>
                  <a:pt x="7549" y="11757"/>
                  <a:pt x="7557" y="11757"/>
                  <a:pt x="7565" y="11757"/>
                </a:cubicBezTo>
              </a:path>
              <a:path w="7517" h="1440">
                <a:moveTo>
                  <a:pt x="9128" y="10418"/>
                </a:moveTo>
                <a:cubicBezTo>
                  <a:pt x="9184" y="10407"/>
                  <a:pt x="9218" y="10393"/>
                  <a:pt x="9277" y="10393"/>
                </a:cubicBezTo>
                <a:cubicBezTo>
                  <a:pt x="9319" y="10393"/>
                  <a:pt x="9385" y="10387"/>
                  <a:pt x="9401" y="10443"/>
                </a:cubicBezTo>
                <a:cubicBezTo>
                  <a:pt x="9417" y="10499"/>
                  <a:pt x="9335" y="10577"/>
                  <a:pt x="9302" y="10616"/>
                </a:cubicBezTo>
                <a:cubicBezTo>
                  <a:pt x="9263" y="10663"/>
                  <a:pt x="9185" y="10703"/>
                  <a:pt x="9178" y="10765"/>
                </a:cubicBezTo>
                <a:cubicBezTo>
                  <a:pt x="9172" y="10818"/>
                  <a:pt x="9214" y="10815"/>
                  <a:pt x="9252" y="10815"/>
                </a:cubicBezTo>
                <a:cubicBezTo>
                  <a:pt x="9287" y="10815"/>
                  <a:pt x="9379" y="10816"/>
                  <a:pt x="9401" y="10790"/>
                </a:cubicBezTo>
                <a:cubicBezTo>
                  <a:pt x="9401" y="10782"/>
                  <a:pt x="9401" y="10773"/>
                  <a:pt x="9401" y="10765"/>
                </a:cubicBezTo>
              </a:path>
              <a:path w="7517" h="1440">
                <a:moveTo>
                  <a:pt x="10244" y="10641"/>
                </a:moveTo>
                <a:cubicBezTo>
                  <a:pt x="10232" y="10591"/>
                  <a:pt x="10220" y="10592"/>
                  <a:pt x="10170" y="10592"/>
                </a:cubicBezTo>
                <a:cubicBezTo>
                  <a:pt x="10116" y="10592"/>
                  <a:pt x="10065" y="10628"/>
                  <a:pt x="10021" y="10641"/>
                </a:cubicBezTo>
                <a:cubicBezTo>
                  <a:pt x="9977" y="10654"/>
                  <a:pt x="9954" y="10629"/>
                  <a:pt x="9947" y="10691"/>
                </a:cubicBezTo>
                <a:cubicBezTo>
                  <a:pt x="9938" y="10779"/>
                  <a:pt x="9945" y="10851"/>
                  <a:pt x="9922" y="10939"/>
                </a:cubicBezTo>
                <a:cubicBezTo>
                  <a:pt x="9890" y="11064"/>
                  <a:pt x="9847" y="11171"/>
                  <a:pt x="9798" y="11286"/>
                </a:cubicBezTo>
                <a:cubicBezTo>
                  <a:pt x="9786" y="11315"/>
                  <a:pt x="9727" y="11421"/>
                  <a:pt x="9748" y="11460"/>
                </a:cubicBezTo>
                <a:cubicBezTo>
                  <a:pt x="9775" y="11509"/>
                  <a:pt x="9877" y="11507"/>
                  <a:pt x="9922" y="11509"/>
                </a:cubicBezTo>
                <a:cubicBezTo>
                  <a:pt x="10013" y="11513"/>
                  <a:pt x="10104" y="11509"/>
                  <a:pt x="10195" y="11509"/>
                </a:cubicBezTo>
              </a:path>
              <a:path w="7517" h="1440">
                <a:moveTo>
                  <a:pt x="10666" y="10864"/>
                </a:moveTo>
                <a:cubicBezTo>
                  <a:pt x="10666" y="10889"/>
                  <a:pt x="10666" y="10897"/>
                  <a:pt x="10666" y="10914"/>
                </a:cubicBezTo>
                <a:cubicBezTo>
                  <a:pt x="10657" y="10887"/>
                  <a:pt x="10631" y="10875"/>
                  <a:pt x="10592" y="10889"/>
                </a:cubicBezTo>
                <a:cubicBezTo>
                  <a:pt x="10478" y="10930"/>
                  <a:pt x="10433" y="11005"/>
                  <a:pt x="10393" y="11112"/>
                </a:cubicBezTo>
                <a:cubicBezTo>
                  <a:pt x="10364" y="11190"/>
                  <a:pt x="10332" y="11308"/>
                  <a:pt x="10418" y="11361"/>
                </a:cubicBezTo>
                <a:cubicBezTo>
                  <a:pt x="10512" y="11419"/>
                  <a:pt x="10591" y="11410"/>
                  <a:pt x="10691" y="11385"/>
                </a:cubicBezTo>
              </a:path>
              <a:path w="7517" h="1440">
                <a:moveTo>
                  <a:pt x="11112" y="10988"/>
                </a:moveTo>
                <a:cubicBezTo>
                  <a:pt x="11053" y="10997"/>
                  <a:pt x="10997" y="11027"/>
                  <a:pt x="10964" y="11088"/>
                </a:cubicBezTo>
                <a:cubicBezTo>
                  <a:pt x="10931" y="11149"/>
                  <a:pt x="10915" y="11300"/>
                  <a:pt x="10964" y="11361"/>
                </a:cubicBezTo>
                <a:cubicBezTo>
                  <a:pt x="11021" y="11432"/>
                  <a:pt x="11149" y="11403"/>
                  <a:pt x="11212" y="11361"/>
                </a:cubicBezTo>
                <a:cubicBezTo>
                  <a:pt x="11293" y="11307"/>
                  <a:pt x="11331" y="11234"/>
                  <a:pt x="11311" y="11137"/>
                </a:cubicBezTo>
                <a:cubicBezTo>
                  <a:pt x="11289" y="11032"/>
                  <a:pt x="11213" y="10998"/>
                  <a:pt x="11137" y="10939"/>
                </a:cubicBezTo>
                <a:cubicBezTo>
                  <a:pt x="11115" y="10917"/>
                  <a:pt x="11110" y="10908"/>
                  <a:pt x="11088" y="10914"/>
                </a:cubicBezTo>
              </a:path>
              <a:path w="7517" h="1440">
                <a:moveTo>
                  <a:pt x="11435" y="11361"/>
                </a:moveTo>
                <a:cubicBezTo>
                  <a:pt x="11495" y="11361"/>
                  <a:pt x="11557" y="11349"/>
                  <a:pt x="11584" y="11385"/>
                </a:cubicBezTo>
                <a:cubicBezTo>
                  <a:pt x="11592" y="11393"/>
                  <a:pt x="11601" y="11402"/>
                  <a:pt x="11609" y="11410"/>
                </a:cubicBezTo>
                <a:cubicBezTo>
                  <a:pt x="11555" y="11453"/>
                  <a:pt x="11518" y="11500"/>
                  <a:pt x="11460" y="11534"/>
                </a:cubicBezTo>
                <a:cubicBezTo>
                  <a:pt x="11419" y="11554"/>
                  <a:pt x="11403" y="11552"/>
                  <a:pt x="11410" y="11584"/>
                </a:cubicBezTo>
                <a:cubicBezTo>
                  <a:pt x="11424" y="11626"/>
                  <a:pt x="11458" y="11609"/>
                  <a:pt x="11509" y="11609"/>
                </a:cubicBezTo>
                <a:cubicBezTo>
                  <a:pt x="11517" y="11609"/>
                  <a:pt x="11526" y="11609"/>
                  <a:pt x="11534" y="11609"/>
                </a:cubicBezTo>
                <a:cubicBezTo>
                  <a:pt x="11516" y="11679"/>
                  <a:pt x="11476" y="11678"/>
                  <a:pt x="11410" y="11708"/>
                </a:cubicBezTo>
                <a:cubicBezTo>
                  <a:pt x="11341" y="11740"/>
                  <a:pt x="11288" y="11757"/>
                  <a:pt x="11212" y="11757"/>
                </a:cubicBezTo>
              </a:path>
              <a:path w="7517" h="1440">
                <a:moveTo>
                  <a:pt x="11633" y="10939"/>
                </a:moveTo>
                <a:cubicBezTo>
                  <a:pt x="11699" y="10939"/>
                  <a:pt x="11766" y="10939"/>
                  <a:pt x="11832" y="10939"/>
                </a:cubicBezTo>
              </a:path>
              <a:path w="7517" h="1440">
                <a:moveTo>
                  <a:pt x="12055" y="10815"/>
                </a:moveTo>
                <a:cubicBezTo>
                  <a:pt x="12094" y="10815"/>
                  <a:pt x="12182" y="10797"/>
                  <a:pt x="12204" y="10840"/>
                </a:cubicBezTo>
                <a:cubicBezTo>
                  <a:pt x="12224" y="10880"/>
                  <a:pt x="12188" y="10912"/>
                  <a:pt x="12179" y="10939"/>
                </a:cubicBezTo>
                <a:cubicBezTo>
                  <a:pt x="12166" y="10977"/>
                  <a:pt x="12134" y="10997"/>
                  <a:pt x="12129" y="11038"/>
                </a:cubicBezTo>
                <a:cubicBezTo>
                  <a:pt x="12123" y="11091"/>
                  <a:pt x="12166" y="11088"/>
                  <a:pt x="12204" y="11088"/>
                </a:cubicBezTo>
                <a:cubicBezTo>
                  <a:pt x="12212" y="11088"/>
                  <a:pt x="12221" y="11088"/>
                  <a:pt x="12229" y="11088"/>
                </a:cubicBezTo>
              </a:path>
              <a:path w="7517" h="1440">
                <a:moveTo>
                  <a:pt x="12477" y="10641"/>
                </a:moveTo>
                <a:cubicBezTo>
                  <a:pt x="12495" y="10629"/>
                  <a:pt x="12526" y="10598"/>
                  <a:pt x="12576" y="10592"/>
                </a:cubicBezTo>
                <a:cubicBezTo>
                  <a:pt x="12632" y="10585"/>
                  <a:pt x="12708" y="10582"/>
                  <a:pt x="12750" y="10616"/>
                </a:cubicBezTo>
                <a:cubicBezTo>
                  <a:pt x="12813" y="10667"/>
                  <a:pt x="12799" y="10712"/>
                  <a:pt x="12799" y="10790"/>
                </a:cubicBezTo>
                <a:cubicBezTo>
                  <a:pt x="12799" y="10921"/>
                  <a:pt x="12778" y="11059"/>
                  <a:pt x="12750" y="11187"/>
                </a:cubicBezTo>
                <a:cubicBezTo>
                  <a:pt x="12726" y="11296"/>
                  <a:pt x="12672" y="11404"/>
                  <a:pt x="12650" y="11509"/>
                </a:cubicBezTo>
                <a:cubicBezTo>
                  <a:pt x="12636" y="11575"/>
                  <a:pt x="12612" y="11598"/>
                  <a:pt x="12576" y="11658"/>
                </a:cubicBezTo>
                <a:cubicBezTo>
                  <a:pt x="12544" y="11711"/>
                  <a:pt x="12551" y="11683"/>
                  <a:pt x="12502" y="11708"/>
                </a:cubicBezTo>
                <a:cubicBezTo>
                  <a:pt x="12447" y="11736"/>
                  <a:pt x="12398" y="11724"/>
                  <a:pt x="12328" y="11708"/>
                </a:cubicBezTo>
                <a:cubicBezTo>
                  <a:pt x="12241" y="11688"/>
                  <a:pt x="12170" y="11683"/>
                  <a:pt x="12080" y="11683"/>
                </a:cubicBezTo>
              </a:path>
              <a:path w="7517" h="1440">
                <a:moveTo>
                  <a:pt x="13171" y="11162"/>
                </a:moveTo>
                <a:cubicBezTo>
                  <a:pt x="13201" y="11117"/>
                  <a:pt x="13279" y="11125"/>
                  <a:pt x="13345" y="11112"/>
                </a:cubicBezTo>
                <a:cubicBezTo>
                  <a:pt x="13441" y="11094"/>
                  <a:pt x="13521" y="11088"/>
                  <a:pt x="13618" y="11088"/>
                </a:cubicBezTo>
              </a:path>
              <a:path w="7517" h="1440">
                <a:moveTo>
                  <a:pt x="13271" y="11435"/>
                </a:moveTo>
                <a:cubicBezTo>
                  <a:pt x="13314" y="11468"/>
                  <a:pt x="13337" y="11460"/>
                  <a:pt x="13395" y="11460"/>
                </a:cubicBezTo>
                <a:cubicBezTo>
                  <a:pt x="13442" y="11460"/>
                  <a:pt x="13474" y="11440"/>
                  <a:pt x="13519" y="11435"/>
                </a:cubicBezTo>
                <a:cubicBezTo>
                  <a:pt x="13527" y="11435"/>
                  <a:pt x="13535" y="11435"/>
                  <a:pt x="13543" y="11435"/>
                </a:cubicBezTo>
              </a:path>
              <a:path w="7517" h="1440">
                <a:moveTo>
                  <a:pt x="14536" y="11460"/>
                </a:moveTo>
                <a:cubicBezTo>
                  <a:pt x="14457" y="11460"/>
                  <a:pt x="14504" y="11429"/>
                  <a:pt x="14560" y="11410"/>
                </a:cubicBezTo>
                <a:cubicBezTo>
                  <a:pt x="14588" y="11410"/>
                  <a:pt x="14599" y="11408"/>
                  <a:pt x="14610" y="11385"/>
                </a:cubicBezTo>
                <a:cubicBezTo>
                  <a:pt x="14565" y="11396"/>
                  <a:pt x="14523" y="11426"/>
                  <a:pt x="14486" y="11460"/>
                </a:cubicBezTo>
                <a:cubicBezTo>
                  <a:pt x="14478" y="11468"/>
                  <a:pt x="14469" y="11477"/>
                  <a:pt x="14461" y="11485"/>
                </a:cubicBezTo>
              </a:path>
              <a:path w="7517" h="1440">
                <a:moveTo>
                  <a:pt x="14610" y="10716"/>
                </a:moveTo>
                <a:cubicBezTo>
                  <a:pt x="14610" y="10674"/>
                  <a:pt x="14610" y="10666"/>
                  <a:pt x="14610" y="10641"/>
                </a:cubicBezTo>
                <a:cubicBezTo>
                  <a:pt x="14539" y="10650"/>
                  <a:pt x="14497" y="10664"/>
                  <a:pt x="14436" y="10716"/>
                </a:cubicBezTo>
                <a:cubicBezTo>
                  <a:pt x="14299" y="10832"/>
                  <a:pt x="14191" y="11003"/>
                  <a:pt x="14114" y="11162"/>
                </a:cubicBezTo>
                <a:cubicBezTo>
                  <a:pt x="14035" y="11326"/>
                  <a:pt x="13964" y="11571"/>
                  <a:pt x="14015" y="11757"/>
                </a:cubicBezTo>
                <a:cubicBezTo>
                  <a:pt x="14031" y="11782"/>
                  <a:pt x="14048" y="11807"/>
                  <a:pt x="14064" y="118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29160" y="3670200"/>
            <a:ext cx="2305080" cy="544680"/>
          </a:xfrm>
          <a:custGeom>
            <a:avLst/>
            <a:gdLst/>
            <a:ahLst/>
            <a:rect l="l" t="t" r="r" b="b"/>
            <a:pathLst>
              <a:path w="6401" h="1514">
                <a:moveTo>
                  <a:pt x="15304" y="10840"/>
                </a:moveTo>
                <a:cubicBezTo>
                  <a:pt x="15296" y="10872"/>
                  <a:pt x="15269" y="10936"/>
                  <a:pt x="15255" y="10964"/>
                </a:cubicBezTo>
                <a:cubicBezTo>
                  <a:pt x="15196" y="11081"/>
                  <a:pt x="15174" y="11186"/>
                  <a:pt x="15131" y="11311"/>
                </a:cubicBezTo>
                <a:cubicBezTo>
                  <a:pt x="15113" y="11362"/>
                  <a:pt x="15090" y="11405"/>
                  <a:pt x="15081" y="11460"/>
                </a:cubicBezTo>
              </a:path>
              <a:path w="6401" h="1514">
                <a:moveTo>
                  <a:pt x="15726" y="10964"/>
                </a:moveTo>
                <a:cubicBezTo>
                  <a:pt x="15695" y="10981"/>
                  <a:pt x="15614" y="11022"/>
                  <a:pt x="15602" y="11063"/>
                </a:cubicBezTo>
                <a:cubicBezTo>
                  <a:pt x="15581" y="11136"/>
                  <a:pt x="15621" y="11179"/>
                  <a:pt x="15677" y="11212"/>
                </a:cubicBezTo>
                <a:cubicBezTo>
                  <a:pt x="15755" y="11258"/>
                  <a:pt x="15839" y="11288"/>
                  <a:pt x="15925" y="11237"/>
                </a:cubicBezTo>
                <a:cubicBezTo>
                  <a:pt x="15941" y="11220"/>
                  <a:pt x="15958" y="11204"/>
                  <a:pt x="15974" y="11187"/>
                </a:cubicBezTo>
              </a:path>
              <a:path w="6401" h="1514">
                <a:moveTo>
                  <a:pt x="16098" y="10914"/>
                </a:moveTo>
                <a:cubicBezTo>
                  <a:pt x="15979" y="11007"/>
                  <a:pt x="15897" y="11078"/>
                  <a:pt x="15825" y="11212"/>
                </a:cubicBezTo>
                <a:cubicBezTo>
                  <a:pt x="15776" y="11303"/>
                  <a:pt x="15711" y="11436"/>
                  <a:pt x="15701" y="11534"/>
                </a:cubicBezTo>
                <a:cubicBezTo>
                  <a:pt x="15701" y="11551"/>
                  <a:pt x="15701" y="11567"/>
                  <a:pt x="15701" y="11584"/>
                </a:cubicBezTo>
              </a:path>
              <a:path w="6401" h="1514">
                <a:moveTo>
                  <a:pt x="16694" y="11013"/>
                </a:moveTo>
                <a:cubicBezTo>
                  <a:pt x="16694" y="10969"/>
                  <a:pt x="16696" y="10943"/>
                  <a:pt x="16644" y="10939"/>
                </a:cubicBezTo>
                <a:cubicBezTo>
                  <a:pt x="16558" y="10933"/>
                  <a:pt x="16547" y="10952"/>
                  <a:pt x="16495" y="11013"/>
                </a:cubicBezTo>
                <a:cubicBezTo>
                  <a:pt x="16440" y="11078"/>
                  <a:pt x="16446" y="11128"/>
                  <a:pt x="16446" y="11212"/>
                </a:cubicBezTo>
                <a:cubicBezTo>
                  <a:pt x="16446" y="11294"/>
                  <a:pt x="16491" y="11356"/>
                  <a:pt x="16495" y="11435"/>
                </a:cubicBezTo>
                <a:cubicBezTo>
                  <a:pt x="16498" y="11487"/>
                  <a:pt x="16484" y="11546"/>
                  <a:pt x="16446" y="11559"/>
                </a:cubicBezTo>
                <a:cubicBezTo>
                  <a:pt x="16412" y="11514"/>
                  <a:pt x="16399" y="11470"/>
                  <a:pt x="16396" y="11410"/>
                </a:cubicBezTo>
                <a:cubicBezTo>
                  <a:pt x="16392" y="11332"/>
                  <a:pt x="16453" y="11250"/>
                  <a:pt x="16520" y="11212"/>
                </a:cubicBezTo>
                <a:cubicBezTo>
                  <a:pt x="16578" y="11179"/>
                  <a:pt x="16656" y="11165"/>
                  <a:pt x="16718" y="11137"/>
                </a:cubicBezTo>
              </a:path>
              <a:path w="6401" h="1514">
                <a:moveTo>
                  <a:pt x="17140" y="10914"/>
                </a:moveTo>
                <a:cubicBezTo>
                  <a:pt x="17174" y="10948"/>
                  <a:pt x="17193" y="10981"/>
                  <a:pt x="17214" y="11013"/>
                </a:cubicBezTo>
                <a:cubicBezTo>
                  <a:pt x="17242" y="11055"/>
                  <a:pt x="17239" y="11095"/>
                  <a:pt x="17190" y="11137"/>
                </a:cubicBezTo>
                <a:cubicBezTo>
                  <a:pt x="17160" y="11163"/>
                  <a:pt x="17083" y="11177"/>
                  <a:pt x="17066" y="11212"/>
                </a:cubicBezTo>
                <a:cubicBezTo>
                  <a:pt x="17066" y="11220"/>
                  <a:pt x="17066" y="11229"/>
                  <a:pt x="17066" y="11237"/>
                </a:cubicBezTo>
                <a:cubicBezTo>
                  <a:pt x="17105" y="11247"/>
                  <a:pt x="17129" y="11274"/>
                  <a:pt x="17165" y="11286"/>
                </a:cubicBezTo>
                <a:cubicBezTo>
                  <a:pt x="17208" y="11300"/>
                  <a:pt x="17246" y="11333"/>
                  <a:pt x="17190" y="11385"/>
                </a:cubicBezTo>
                <a:cubicBezTo>
                  <a:pt x="17133" y="11438"/>
                  <a:pt x="17055" y="11465"/>
                  <a:pt x="16991" y="11509"/>
                </a:cubicBezTo>
                <a:cubicBezTo>
                  <a:pt x="16983" y="11517"/>
                  <a:pt x="16974" y="11526"/>
                  <a:pt x="16966" y="11534"/>
                </a:cubicBezTo>
              </a:path>
              <a:path w="6401" h="1514">
                <a:moveTo>
                  <a:pt x="17611" y="10567"/>
                </a:moveTo>
                <a:cubicBezTo>
                  <a:pt x="17684" y="10585"/>
                  <a:pt x="17682" y="10650"/>
                  <a:pt x="17711" y="10716"/>
                </a:cubicBezTo>
                <a:cubicBezTo>
                  <a:pt x="17771" y="10850"/>
                  <a:pt x="17792" y="11039"/>
                  <a:pt x="17760" y="11187"/>
                </a:cubicBezTo>
                <a:cubicBezTo>
                  <a:pt x="17726" y="11345"/>
                  <a:pt x="17620" y="11472"/>
                  <a:pt x="17512" y="11584"/>
                </a:cubicBezTo>
                <a:cubicBezTo>
                  <a:pt x="17441" y="11655"/>
                  <a:pt x="17421" y="11677"/>
                  <a:pt x="17363" y="11708"/>
                </a:cubicBezTo>
              </a:path>
              <a:path w="6401" h="1514">
                <a:moveTo>
                  <a:pt x="17959" y="10195"/>
                </a:moveTo>
                <a:cubicBezTo>
                  <a:pt x="18033" y="10195"/>
                  <a:pt x="18027" y="10219"/>
                  <a:pt x="18083" y="10244"/>
                </a:cubicBezTo>
                <a:cubicBezTo>
                  <a:pt x="18146" y="10272"/>
                  <a:pt x="18134" y="10295"/>
                  <a:pt x="18107" y="10344"/>
                </a:cubicBezTo>
                <a:cubicBezTo>
                  <a:pt x="18061" y="10425"/>
                  <a:pt x="18000" y="10456"/>
                  <a:pt x="17934" y="10517"/>
                </a:cubicBezTo>
                <a:cubicBezTo>
                  <a:pt x="17903" y="10546"/>
                  <a:pt x="17909" y="10553"/>
                  <a:pt x="17909" y="10592"/>
                </a:cubicBezTo>
                <a:cubicBezTo>
                  <a:pt x="17983" y="10592"/>
                  <a:pt x="18058" y="10592"/>
                  <a:pt x="18132" y="10592"/>
                </a:cubicBezTo>
              </a:path>
              <a:path w="6401" h="1514">
                <a:moveTo>
                  <a:pt x="18579" y="10517"/>
                </a:moveTo>
                <a:cubicBezTo>
                  <a:pt x="18502" y="10517"/>
                  <a:pt x="18465" y="10572"/>
                  <a:pt x="18430" y="10641"/>
                </a:cubicBezTo>
                <a:cubicBezTo>
                  <a:pt x="18342" y="10817"/>
                  <a:pt x="18258" y="10995"/>
                  <a:pt x="18207" y="11187"/>
                </a:cubicBezTo>
                <a:cubicBezTo>
                  <a:pt x="18169" y="11330"/>
                  <a:pt x="18170" y="11398"/>
                  <a:pt x="18256" y="11509"/>
                </a:cubicBezTo>
              </a:path>
              <a:path w="6401" h="1514">
                <a:moveTo>
                  <a:pt x="18703" y="11212"/>
                </a:moveTo>
                <a:cubicBezTo>
                  <a:pt x="18681" y="11234"/>
                  <a:pt x="18672" y="11239"/>
                  <a:pt x="18678" y="11261"/>
                </a:cubicBezTo>
                <a:cubicBezTo>
                  <a:pt x="18730" y="11248"/>
                  <a:pt x="18739" y="11237"/>
                  <a:pt x="18678" y="11237"/>
                </a:cubicBezTo>
              </a:path>
              <a:path w="6401" h="1514">
                <a:moveTo>
                  <a:pt x="19248" y="10914"/>
                </a:moveTo>
                <a:cubicBezTo>
                  <a:pt x="19152" y="10958"/>
                  <a:pt x="19115" y="10987"/>
                  <a:pt x="19075" y="11088"/>
                </a:cubicBezTo>
                <a:cubicBezTo>
                  <a:pt x="19042" y="11173"/>
                  <a:pt x="19062" y="11247"/>
                  <a:pt x="19149" y="11286"/>
                </a:cubicBezTo>
                <a:cubicBezTo>
                  <a:pt x="19220" y="11318"/>
                  <a:pt x="19317" y="11331"/>
                  <a:pt x="19372" y="11261"/>
                </a:cubicBezTo>
                <a:cubicBezTo>
                  <a:pt x="19422" y="11198"/>
                  <a:pt x="19397" y="11104"/>
                  <a:pt x="19372" y="11038"/>
                </a:cubicBezTo>
                <a:cubicBezTo>
                  <a:pt x="19355" y="10994"/>
                  <a:pt x="19322" y="10911"/>
                  <a:pt x="19273" y="10889"/>
                </a:cubicBezTo>
                <a:cubicBezTo>
                  <a:pt x="19265" y="10889"/>
                  <a:pt x="19256" y="10889"/>
                  <a:pt x="19248" y="10889"/>
                </a:cubicBezTo>
              </a:path>
              <a:path w="6401" h="1514">
                <a:moveTo>
                  <a:pt x="19521" y="10864"/>
                </a:moveTo>
                <a:cubicBezTo>
                  <a:pt x="19593" y="10854"/>
                  <a:pt x="19638" y="10840"/>
                  <a:pt x="19720" y="10840"/>
                </a:cubicBezTo>
                <a:cubicBezTo>
                  <a:pt x="19772" y="10840"/>
                  <a:pt x="19844" y="10859"/>
                  <a:pt x="19869" y="10914"/>
                </a:cubicBezTo>
                <a:cubicBezTo>
                  <a:pt x="19883" y="10945"/>
                  <a:pt x="19858" y="11065"/>
                  <a:pt x="19844" y="11088"/>
                </a:cubicBezTo>
                <a:cubicBezTo>
                  <a:pt x="19803" y="11155"/>
                  <a:pt x="19757" y="11212"/>
                  <a:pt x="19720" y="11286"/>
                </a:cubicBezTo>
              </a:path>
              <a:path w="6401" h="1514">
                <a:moveTo>
                  <a:pt x="20117" y="10964"/>
                </a:moveTo>
                <a:cubicBezTo>
                  <a:pt x="20059" y="11001"/>
                  <a:pt x="20067" y="10978"/>
                  <a:pt x="20067" y="11038"/>
                </a:cubicBezTo>
                <a:cubicBezTo>
                  <a:pt x="20128" y="11088"/>
                  <a:pt x="20163" y="11088"/>
                  <a:pt x="20241" y="11088"/>
                </a:cubicBezTo>
                <a:cubicBezTo>
                  <a:pt x="20305" y="11088"/>
                  <a:pt x="20371" y="11098"/>
                  <a:pt x="20414" y="11038"/>
                </a:cubicBezTo>
                <a:cubicBezTo>
                  <a:pt x="20450" y="10988"/>
                  <a:pt x="20456" y="10970"/>
                  <a:pt x="20464" y="10914"/>
                </a:cubicBezTo>
                <a:cubicBezTo>
                  <a:pt x="20449" y="10869"/>
                  <a:pt x="20404" y="10882"/>
                  <a:pt x="20365" y="10914"/>
                </a:cubicBezTo>
                <a:cubicBezTo>
                  <a:pt x="20283" y="10981"/>
                  <a:pt x="20267" y="11091"/>
                  <a:pt x="20241" y="11187"/>
                </a:cubicBezTo>
                <a:cubicBezTo>
                  <a:pt x="20217" y="11276"/>
                  <a:pt x="20216" y="11344"/>
                  <a:pt x="20216" y="11435"/>
                </a:cubicBezTo>
              </a:path>
              <a:path w="6401" h="1514">
                <a:moveTo>
                  <a:pt x="20811" y="10964"/>
                </a:moveTo>
                <a:cubicBezTo>
                  <a:pt x="20823" y="11000"/>
                  <a:pt x="20869" y="10991"/>
                  <a:pt x="20910" y="11013"/>
                </a:cubicBezTo>
                <a:cubicBezTo>
                  <a:pt x="20923" y="11020"/>
                  <a:pt x="21030" y="11072"/>
                  <a:pt x="20985" y="11112"/>
                </a:cubicBezTo>
                <a:cubicBezTo>
                  <a:pt x="20919" y="11170"/>
                  <a:pt x="20857" y="11210"/>
                  <a:pt x="20786" y="11261"/>
                </a:cubicBezTo>
                <a:cubicBezTo>
                  <a:pt x="20752" y="11285"/>
                  <a:pt x="20718" y="11330"/>
                  <a:pt x="20687" y="11361"/>
                </a:cubicBezTo>
                <a:cubicBezTo>
                  <a:pt x="20704" y="11410"/>
                  <a:pt x="20750" y="11404"/>
                  <a:pt x="20811" y="11410"/>
                </a:cubicBezTo>
              </a:path>
              <a:path w="6401" h="1514">
                <a:moveTo>
                  <a:pt x="21307" y="10443"/>
                </a:moveTo>
                <a:cubicBezTo>
                  <a:pt x="21395" y="10513"/>
                  <a:pt x="21401" y="10549"/>
                  <a:pt x="21431" y="10666"/>
                </a:cubicBezTo>
                <a:cubicBezTo>
                  <a:pt x="21478" y="10848"/>
                  <a:pt x="21506" y="11027"/>
                  <a:pt x="21456" y="11212"/>
                </a:cubicBezTo>
                <a:cubicBezTo>
                  <a:pt x="21407" y="11395"/>
                  <a:pt x="21279" y="11547"/>
                  <a:pt x="21158" y="116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9920" y="4394160"/>
            <a:ext cx="830160" cy="544680"/>
          </a:xfrm>
          <a:custGeom>
            <a:avLst/>
            <a:gdLst/>
            <a:ahLst/>
            <a:rect l="l" t="t" r="r" b="b"/>
            <a:pathLst>
              <a:path w="2308" h="1514">
                <a:moveTo>
                  <a:pt x="7541" y="12898"/>
                </a:moveTo>
                <a:cubicBezTo>
                  <a:pt x="7541" y="12853"/>
                  <a:pt x="7548" y="12826"/>
                  <a:pt x="7590" y="12799"/>
                </a:cubicBezTo>
                <a:cubicBezTo>
                  <a:pt x="7639" y="12768"/>
                  <a:pt x="7742" y="12751"/>
                  <a:pt x="7789" y="12799"/>
                </a:cubicBezTo>
                <a:cubicBezTo>
                  <a:pt x="7874" y="12886"/>
                  <a:pt x="7831" y="12988"/>
                  <a:pt x="7789" y="13072"/>
                </a:cubicBezTo>
                <a:cubicBezTo>
                  <a:pt x="7723" y="13204"/>
                  <a:pt x="7668" y="13270"/>
                  <a:pt x="7541" y="13345"/>
                </a:cubicBezTo>
                <a:cubicBezTo>
                  <a:pt x="7497" y="13371"/>
                  <a:pt x="7458" y="13420"/>
                  <a:pt x="7441" y="13370"/>
                </a:cubicBezTo>
                <a:cubicBezTo>
                  <a:pt x="7454" y="13317"/>
                  <a:pt x="7499" y="13218"/>
                  <a:pt x="7565" y="13196"/>
                </a:cubicBezTo>
                <a:cubicBezTo>
                  <a:pt x="7655" y="13166"/>
                  <a:pt x="7671" y="13215"/>
                  <a:pt x="7714" y="13271"/>
                </a:cubicBezTo>
                <a:cubicBezTo>
                  <a:pt x="7753" y="13322"/>
                  <a:pt x="7754" y="13301"/>
                  <a:pt x="7764" y="13370"/>
                </a:cubicBezTo>
              </a:path>
              <a:path w="2308" h="1514">
                <a:moveTo>
                  <a:pt x="8359" y="13022"/>
                </a:moveTo>
                <a:cubicBezTo>
                  <a:pt x="8359" y="12988"/>
                  <a:pt x="8313" y="13060"/>
                  <a:pt x="8285" y="13097"/>
                </a:cubicBezTo>
                <a:cubicBezTo>
                  <a:pt x="8212" y="13192"/>
                  <a:pt x="8151" y="13316"/>
                  <a:pt x="8062" y="13395"/>
                </a:cubicBezTo>
                <a:cubicBezTo>
                  <a:pt x="8018" y="13416"/>
                  <a:pt x="8006" y="13419"/>
                  <a:pt x="7987" y="13444"/>
                </a:cubicBezTo>
              </a:path>
              <a:path w="2308" h="1514">
                <a:moveTo>
                  <a:pt x="8086" y="13097"/>
                </a:moveTo>
                <a:cubicBezTo>
                  <a:pt x="8118" y="13149"/>
                  <a:pt x="8117" y="13245"/>
                  <a:pt x="8161" y="13295"/>
                </a:cubicBezTo>
                <a:cubicBezTo>
                  <a:pt x="8216" y="13358"/>
                  <a:pt x="8280" y="13370"/>
                  <a:pt x="8359" y="13370"/>
                </a:cubicBezTo>
              </a:path>
              <a:path w="2308" h="1514">
                <a:moveTo>
                  <a:pt x="8533" y="12477"/>
                </a:moveTo>
                <a:cubicBezTo>
                  <a:pt x="8563" y="12418"/>
                  <a:pt x="8612" y="12567"/>
                  <a:pt x="8632" y="12601"/>
                </a:cubicBezTo>
                <a:cubicBezTo>
                  <a:pt x="8701" y="12720"/>
                  <a:pt x="8765" y="12831"/>
                  <a:pt x="8781" y="12973"/>
                </a:cubicBezTo>
                <a:cubicBezTo>
                  <a:pt x="8797" y="13114"/>
                  <a:pt x="8778" y="13226"/>
                  <a:pt x="8706" y="13345"/>
                </a:cubicBezTo>
                <a:cubicBezTo>
                  <a:pt x="8657" y="13419"/>
                  <a:pt x="8640" y="13444"/>
                  <a:pt x="8607" y="13494"/>
                </a:cubicBezTo>
              </a:path>
              <a:path w="2308" h="1514">
                <a:moveTo>
                  <a:pt x="7144" y="12626"/>
                </a:moveTo>
                <a:cubicBezTo>
                  <a:pt x="7070" y="12699"/>
                  <a:pt x="7025" y="12747"/>
                  <a:pt x="6995" y="12849"/>
                </a:cubicBezTo>
                <a:cubicBezTo>
                  <a:pt x="6944" y="13023"/>
                  <a:pt x="6979" y="13154"/>
                  <a:pt x="7020" y="13320"/>
                </a:cubicBezTo>
                <a:cubicBezTo>
                  <a:pt x="7062" y="13491"/>
                  <a:pt x="7149" y="13589"/>
                  <a:pt x="7268" y="13717"/>
                </a:cubicBezTo>
              </a:path>
              <a:path w="2308" h="1514">
                <a:moveTo>
                  <a:pt x="8830" y="12229"/>
                </a:moveTo>
                <a:cubicBezTo>
                  <a:pt x="8768" y="12229"/>
                  <a:pt x="8900" y="12205"/>
                  <a:pt x="8905" y="12204"/>
                </a:cubicBezTo>
                <a:cubicBezTo>
                  <a:pt x="8962" y="12194"/>
                  <a:pt x="9037" y="12195"/>
                  <a:pt x="9079" y="12229"/>
                </a:cubicBezTo>
                <a:cubicBezTo>
                  <a:pt x="9135" y="12275"/>
                  <a:pt x="9063" y="12337"/>
                  <a:pt x="9029" y="12378"/>
                </a:cubicBezTo>
                <a:cubicBezTo>
                  <a:pt x="8980" y="12437"/>
                  <a:pt x="8945" y="12475"/>
                  <a:pt x="8930" y="12551"/>
                </a:cubicBezTo>
                <a:cubicBezTo>
                  <a:pt x="8988" y="12596"/>
                  <a:pt x="9035" y="12574"/>
                  <a:pt x="9103" y="12551"/>
                </a:cubicBezTo>
                <a:cubicBezTo>
                  <a:pt x="9166" y="12530"/>
                  <a:pt x="9216" y="12524"/>
                  <a:pt x="9277" y="125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44920" y="4456080"/>
            <a:ext cx="500040" cy="374760"/>
          </a:xfrm>
          <a:custGeom>
            <a:avLst/>
            <a:gdLst/>
            <a:ahLst/>
            <a:rect l="l" t="t" r="r" b="b"/>
            <a:pathLst>
              <a:path w="1391" h="1042">
                <a:moveTo>
                  <a:pt x="10120" y="12402"/>
                </a:moveTo>
                <a:cubicBezTo>
                  <a:pt x="10066" y="12535"/>
                  <a:pt x="9997" y="12661"/>
                  <a:pt x="9947" y="12799"/>
                </a:cubicBezTo>
                <a:cubicBezTo>
                  <a:pt x="9900" y="12930"/>
                  <a:pt x="9790" y="13149"/>
                  <a:pt x="9847" y="13295"/>
                </a:cubicBezTo>
                <a:cubicBezTo>
                  <a:pt x="9873" y="13363"/>
                  <a:pt x="9989" y="13376"/>
                  <a:pt x="10046" y="13395"/>
                </a:cubicBezTo>
              </a:path>
              <a:path w="1391" h="1042">
                <a:moveTo>
                  <a:pt x="10740" y="12799"/>
                </a:moveTo>
                <a:cubicBezTo>
                  <a:pt x="10678" y="12862"/>
                  <a:pt x="10615" y="12926"/>
                  <a:pt x="10567" y="12998"/>
                </a:cubicBezTo>
                <a:cubicBezTo>
                  <a:pt x="10530" y="13053"/>
                  <a:pt x="10500" y="13113"/>
                  <a:pt x="10468" y="13171"/>
                </a:cubicBezTo>
              </a:path>
              <a:path w="1391" h="1042">
                <a:moveTo>
                  <a:pt x="10393" y="12973"/>
                </a:moveTo>
                <a:cubicBezTo>
                  <a:pt x="10451" y="12988"/>
                  <a:pt x="10500" y="13034"/>
                  <a:pt x="10567" y="13047"/>
                </a:cubicBezTo>
                <a:cubicBezTo>
                  <a:pt x="10628" y="13059"/>
                  <a:pt x="10703" y="13047"/>
                  <a:pt x="10765" y="13047"/>
                </a:cubicBezTo>
              </a:path>
              <a:path w="1391" h="1042">
                <a:moveTo>
                  <a:pt x="11013" y="12402"/>
                </a:moveTo>
                <a:cubicBezTo>
                  <a:pt x="11095" y="12380"/>
                  <a:pt x="11148" y="12433"/>
                  <a:pt x="11187" y="12526"/>
                </a:cubicBezTo>
                <a:cubicBezTo>
                  <a:pt x="11248" y="12672"/>
                  <a:pt x="11243" y="12823"/>
                  <a:pt x="11212" y="12973"/>
                </a:cubicBezTo>
                <a:cubicBezTo>
                  <a:pt x="11181" y="13121"/>
                  <a:pt x="11146" y="13221"/>
                  <a:pt x="11063" y="13345"/>
                </a:cubicBezTo>
                <a:cubicBezTo>
                  <a:pt x="11046" y="13370"/>
                  <a:pt x="11030" y="13394"/>
                  <a:pt x="11013" y="134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49800" y="4633920"/>
            <a:ext cx="189000" cy="117360"/>
          </a:xfrm>
          <a:custGeom>
            <a:avLst/>
            <a:gdLst/>
            <a:ahLst/>
            <a:rect l="l" t="t" r="r" b="b"/>
            <a:pathLst>
              <a:path w="522" h="323">
                <a:moveTo>
                  <a:pt x="11832" y="12923"/>
                </a:moveTo>
                <a:cubicBezTo>
                  <a:pt x="11824" y="12923"/>
                  <a:pt x="11815" y="12923"/>
                  <a:pt x="11807" y="12923"/>
                </a:cubicBezTo>
                <a:cubicBezTo>
                  <a:pt x="11824" y="12897"/>
                  <a:pt x="11930" y="12880"/>
                  <a:pt x="11981" y="12874"/>
                </a:cubicBezTo>
                <a:cubicBezTo>
                  <a:pt x="12045" y="12867"/>
                  <a:pt x="12115" y="12874"/>
                  <a:pt x="12179" y="12874"/>
                </a:cubicBezTo>
              </a:path>
              <a:path w="522" h="323">
                <a:moveTo>
                  <a:pt x="11881" y="13146"/>
                </a:moveTo>
                <a:cubicBezTo>
                  <a:pt x="11932" y="13223"/>
                  <a:pt x="11962" y="13200"/>
                  <a:pt x="12055" y="13171"/>
                </a:cubicBezTo>
                <a:cubicBezTo>
                  <a:pt x="12148" y="13142"/>
                  <a:pt x="12239" y="13112"/>
                  <a:pt x="12328" y="130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53000" y="4500720"/>
            <a:ext cx="561960" cy="312480"/>
          </a:xfrm>
          <a:custGeom>
            <a:avLst/>
            <a:gdLst/>
            <a:ahLst/>
            <a:rect l="l" t="t" r="r" b="b"/>
            <a:pathLst>
              <a:path w="1564" h="869">
                <a:moveTo>
                  <a:pt x="13047" y="12526"/>
                </a:moveTo>
                <a:cubicBezTo>
                  <a:pt x="12996" y="12539"/>
                  <a:pt x="12970" y="12574"/>
                  <a:pt x="12948" y="12626"/>
                </a:cubicBezTo>
                <a:cubicBezTo>
                  <a:pt x="12918" y="12699"/>
                  <a:pt x="12900" y="12804"/>
                  <a:pt x="12948" y="12874"/>
                </a:cubicBezTo>
                <a:cubicBezTo>
                  <a:pt x="12999" y="12947"/>
                  <a:pt x="13136" y="12986"/>
                  <a:pt x="13221" y="12973"/>
                </a:cubicBezTo>
                <a:cubicBezTo>
                  <a:pt x="13304" y="12961"/>
                  <a:pt x="13374" y="12914"/>
                  <a:pt x="13444" y="12874"/>
                </a:cubicBezTo>
              </a:path>
              <a:path w="1564" h="869">
                <a:moveTo>
                  <a:pt x="13643" y="12551"/>
                </a:moveTo>
                <a:cubicBezTo>
                  <a:pt x="13519" y="12596"/>
                  <a:pt x="13493" y="12639"/>
                  <a:pt x="13419" y="12750"/>
                </a:cubicBezTo>
                <a:cubicBezTo>
                  <a:pt x="13338" y="12872"/>
                  <a:pt x="13306" y="12982"/>
                  <a:pt x="13271" y="13122"/>
                </a:cubicBezTo>
                <a:cubicBezTo>
                  <a:pt x="13252" y="13199"/>
                  <a:pt x="13230" y="13268"/>
                  <a:pt x="13221" y="13345"/>
                </a:cubicBezTo>
              </a:path>
              <a:path w="1564" h="869">
                <a:moveTo>
                  <a:pt x="14064" y="12973"/>
                </a:moveTo>
                <a:cubicBezTo>
                  <a:pt x="14049" y="12942"/>
                  <a:pt x="13997" y="13006"/>
                  <a:pt x="13965" y="13047"/>
                </a:cubicBezTo>
                <a:cubicBezTo>
                  <a:pt x="13903" y="13127"/>
                  <a:pt x="13854" y="13252"/>
                  <a:pt x="13791" y="13320"/>
                </a:cubicBezTo>
                <a:cubicBezTo>
                  <a:pt x="13775" y="13328"/>
                  <a:pt x="13758" y="13337"/>
                  <a:pt x="13742" y="13345"/>
                </a:cubicBezTo>
              </a:path>
              <a:path w="1564" h="869">
                <a:moveTo>
                  <a:pt x="13791" y="13097"/>
                </a:moveTo>
                <a:cubicBezTo>
                  <a:pt x="13812" y="13055"/>
                  <a:pt x="13845" y="13132"/>
                  <a:pt x="13866" y="13171"/>
                </a:cubicBezTo>
                <a:cubicBezTo>
                  <a:pt x="13912" y="13257"/>
                  <a:pt x="13940" y="13286"/>
                  <a:pt x="14015" y="13345"/>
                </a:cubicBezTo>
                <a:cubicBezTo>
                  <a:pt x="14043" y="13374"/>
                  <a:pt x="14056" y="13382"/>
                  <a:pt x="14089" y="13370"/>
                </a:cubicBezTo>
              </a:path>
              <a:path w="1564" h="869">
                <a:moveTo>
                  <a:pt x="14337" y="12551"/>
                </a:moveTo>
                <a:cubicBezTo>
                  <a:pt x="14337" y="12535"/>
                  <a:pt x="14337" y="12518"/>
                  <a:pt x="14337" y="12502"/>
                </a:cubicBezTo>
                <a:cubicBezTo>
                  <a:pt x="14373" y="12502"/>
                  <a:pt x="14441" y="12486"/>
                  <a:pt x="14461" y="12526"/>
                </a:cubicBezTo>
                <a:cubicBezTo>
                  <a:pt x="14478" y="12560"/>
                  <a:pt x="14456" y="12604"/>
                  <a:pt x="14436" y="12626"/>
                </a:cubicBezTo>
                <a:cubicBezTo>
                  <a:pt x="14389" y="12680"/>
                  <a:pt x="14365" y="12673"/>
                  <a:pt x="14312" y="12700"/>
                </a:cubicBezTo>
                <a:cubicBezTo>
                  <a:pt x="14304" y="12708"/>
                  <a:pt x="14296" y="12717"/>
                  <a:pt x="14288" y="12725"/>
                </a:cubicBezTo>
                <a:cubicBezTo>
                  <a:pt x="14299" y="12770"/>
                  <a:pt x="14335" y="12790"/>
                  <a:pt x="14387" y="12799"/>
                </a:cubicBezTo>
                <a:cubicBezTo>
                  <a:pt x="14411" y="12803"/>
                  <a:pt x="14512" y="12817"/>
                  <a:pt x="14486" y="12874"/>
                </a:cubicBezTo>
                <a:cubicBezTo>
                  <a:pt x="14459" y="12934"/>
                  <a:pt x="14364" y="12969"/>
                  <a:pt x="14312" y="129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91080" y="4633920"/>
            <a:ext cx="216000" cy="98280"/>
          </a:xfrm>
          <a:custGeom>
            <a:avLst/>
            <a:gdLst/>
            <a:ahLst/>
            <a:rect l="l" t="t" r="r" b="b"/>
            <a:pathLst>
              <a:path w="596" h="273">
                <a:moveTo>
                  <a:pt x="15255" y="12923"/>
                </a:moveTo>
                <a:cubicBezTo>
                  <a:pt x="15310" y="12915"/>
                  <a:pt x="15373" y="12913"/>
                  <a:pt x="15429" y="12898"/>
                </a:cubicBezTo>
                <a:cubicBezTo>
                  <a:pt x="15508" y="12877"/>
                  <a:pt x="15535" y="12876"/>
                  <a:pt x="15602" y="12898"/>
                </a:cubicBezTo>
                <a:cubicBezTo>
                  <a:pt x="15627" y="12898"/>
                  <a:pt x="15635" y="12898"/>
                  <a:pt x="15627" y="12923"/>
                </a:cubicBezTo>
              </a:path>
              <a:path w="596" h="273">
                <a:moveTo>
                  <a:pt x="15304" y="13122"/>
                </a:moveTo>
                <a:cubicBezTo>
                  <a:pt x="15356" y="13159"/>
                  <a:pt x="15411" y="13146"/>
                  <a:pt x="15478" y="13146"/>
                </a:cubicBezTo>
                <a:cubicBezTo>
                  <a:pt x="15583" y="13146"/>
                  <a:pt x="15702" y="13133"/>
                  <a:pt x="15801" y="13097"/>
                </a:cubicBezTo>
                <a:cubicBezTo>
                  <a:pt x="15817" y="13089"/>
                  <a:pt x="15834" y="13080"/>
                  <a:pt x="15850" y="130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56200" y="4527720"/>
            <a:ext cx="830520" cy="276120"/>
          </a:xfrm>
          <a:custGeom>
            <a:avLst/>
            <a:gdLst/>
            <a:ahLst/>
            <a:rect l="l" t="t" r="r" b="b"/>
            <a:pathLst>
              <a:path w="2308" h="770">
                <a:moveTo>
                  <a:pt x="16545" y="12601"/>
                </a:moveTo>
                <a:cubicBezTo>
                  <a:pt x="16624" y="12594"/>
                  <a:pt x="16687" y="12576"/>
                  <a:pt x="16768" y="12576"/>
                </a:cubicBezTo>
                <a:cubicBezTo>
                  <a:pt x="16809" y="12576"/>
                  <a:pt x="16897" y="12622"/>
                  <a:pt x="16892" y="12675"/>
                </a:cubicBezTo>
                <a:cubicBezTo>
                  <a:pt x="16886" y="12733"/>
                  <a:pt x="16789" y="12798"/>
                  <a:pt x="16743" y="12824"/>
                </a:cubicBezTo>
                <a:cubicBezTo>
                  <a:pt x="16700" y="12846"/>
                  <a:pt x="16688" y="12850"/>
                  <a:pt x="16669" y="12874"/>
                </a:cubicBezTo>
                <a:cubicBezTo>
                  <a:pt x="16689" y="12904"/>
                  <a:pt x="16765" y="12904"/>
                  <a:pt x="16818" y="12923"/>
                </a:cubicBezTo>
                <a:cubicBezTo>
                  <a:pt x="16878" y="12944"/>
                  <a:pt x="16986" y="12959"/>
                  <a:pt x="16966" y="13047"/>
                </a:cubicBezTo>
                <a:cubicBezTo>
                  <a:pt x="16945" y="13138"/>
                  <a:pt x="16831" y="13192"/>
                  <a:pt x="16768" y="13246"/>
                </a:cubicBezTo>
                <a:cubicBezTo>
                  <a:pt x="16726" y="13282"/>
                  <a:pt x="16686" y="13311"/>
                  <a:pt x="16644" y="13345"/>
                </a:cubicBezTo>
              </a:path>
              <a:path w="2308" h="770">
                <a:moveTo>
                  <a:pt x="17363" y="12948"/>
                </a:moveTo>
                <a:cubicBezTo>
                  <a:pt x="17363" y="13076"/>
                  <a:pt x="17368" y="13200"/>
                  <a:pt x="17338" y="13320"/>
                </a:cubicBezTo>
                <a:cubicBezTo>
                  <a:pt x="17338" y="13328"/>
                  <a:pt x="17338" y="13337"/>
                  <a:pt x="17338" y="13345"/>
                </a:cubicBezTo>
              </a:path>
              <a:path w="2308" h="770">
                <a:moveTo>
                  <a:pt x="17909" y="12998"/>
                </a:moveTo>
                <a:cubicBezTo>
                  <a:pt x="17832" y="13058"/>
                  <a:pt x="17805" y="13056"/>
                  <a:pt x="17760" y="13146"/>
                </a:cubicBezTo>
                <a:cubicBezTo>
                  <a:pt x="17711" y="13244"/>
                  <a:pt x="17772" y="13268"/>
                  <a:pt x="17859" y="13271"/>
                </a:cubicBezTo>
                <a:cubicBezTo>
                  <a:pt x="17956" y="13275"/>
                  <a:pt x="18068" y="13248"/>
                  <a:pt x="18132" y="13171"/>
                </a:cubicBezTo>
                <a:cubicBezTo>
                  <a:pt x="18184" y="13108"/>
                  <a:pt x="18154" y="13048"/>
                  <a:pt x="18107" y="12998"/>
                </a:cubicBezTo>
                <a:cubicBezTo>
                  <a:pt x="18055" y="12942"/>
                  <a:pt x="18004" y="12933"/>
                  <a:pt x="17934" y="12923"/>
                </a:cubicBezTo>
              </a:path>
              <a:path w="2308" h="770">
                <a:moveTo>
                  <a:pt x="18430" y="12998"/>
                </a:moveTo>
                <a:cubicBezTo>
                  <a:pt x="18449" y="13063"/>
                  <a:pt x="18430" y="13072"/>
                  <a:pt x="18430" y="13146"/>
                </a:cubicBezTo>
                <a:cubicBezTo>
                  <a:pt x="18430" y="13188"/>
                  <a:pt x="18430" y="13196"/>
                  <a:pt x="18430" y="13221"/>
                </a:cubicBezTo>
                <a:cubicBezTo>
                  <a:pt x="18489" y="13206"/>
                  <a:pt x="18526" y="13157"/>
                  <a:pt x="18579" y="13122"/>
                </a:cubicBezTo>
                <a:cubicBezTo>
                  <a:pt x="18635" y="13085"/>
                  <a:pt x="18687" y="13019"/>
                  <a:pt x="18752" y="12998"/>
                </a:cubicBezTo>
                <a:cubicBezTo>
                  <a:pt x="18799" y="12983"/>
                  <a:pt x="18816" y="13047"/>
                  <a:pt x="18827" y="13072"/>
                </a:cubicBezTo>
                <a:cubicBezTo>
                  <a:pt x="18854" y="13135"/>
                  <a:pt x="18852" y="13178"/>
                  <a:pt x="18852" y="13246"/>
                </a:cubicBezTo>
                <a:cubicBezTo>
                  <a:pt x="18852" y="13254"/>
                  <a:pt x="18852" y="13263"/>
                  <a:pt x="18852" y="13271"/>
                </a:cubicBezTo>
              </a:path>
              <a:path w="2308" h="770">
                <a:moveTo>
                  <a:pt x="17363" y="12601"/>
                </a:moveTo>
                <a:cubicBezTo>
                  <a:pt x="17355" y="12609"/>
                  <a:pt x="17346" y="12618"/>
                  <a:pt x="17338" y="12626"/>
                </a:cubicBezTo>
                <a:cubicBezTo>
                  <a:pt x="17418" y="12626"/>
                  <a:pt x="17485" y="12610"/>
                  <a:pt x="17562" y="12601"/>
                </a:cubicBezTo>
                <a:cubicBezTo>
                  <a:pt x="17587" y="12601"/>
                  <a:pt x="17611" y="12601"/>
                  <a:pt x="17636" y="126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6920" y="4643280"/>
            <a:ext cx="117360" cy="160560"/>
          </a:xfrm>
          <a:custGeom>
            <a:avLst/>
            <a:gdLst/>
            <a:ahLst/>
            <a:rect l="l" t="t" r="r" b="b"/>
            <a:pathLst>
              <a:path w="324" h="448">
                <a:moveTo>
                  <a:pt x="19596" y="12898"/>
                </a:moveTo>
                <a:cubicBezTo>
                  <a:pt x="19527" y="12898"/>
                  <a:pt x="19487" y="12908"/>
                  <a:pt x="19422" y="12923"/>
                </a:cubicBezTo>
                <a:cubicBezTo>
                  <a:pt x="19394" y="12923"/>
                  <a:pt x="19383" y="12925"/>
                  <a:pt x="19372" y="12948"/>
                </a:cubicBezTo>
                <a:cubicBezTo>
                  <a:pt x="19386" y="13017"/>
                  <a:pt x="19436" y="13057"/>
                  <a:pt x="19496" y="13097"/>
                </a:cubicBezTo>
                <a:cubicBezTo>
                  <a:pt x="19534" y="13123"/>
                  <a:pt x="19651" y="13146"/>
                  <a:pt x="19621" y="13221"/>
                </a:cubicBezTo>
                <a:cubicBezTo>
                  <a:pt x="19597" y="13280"/>
                  <a:pt x="19448" y="13306"/>
                  <a:pt x="19397" y="13320"/>
                </a:cubicBezTo>
                <a:cubicBezTo>
                  <a:pt x="19364" y="13328"/>
                  <a:pt x="19331" y="13337"/>
                  <a:pt x="19298" y="133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86200" y="4919760"/>
            <a:ext cx="312840" cy="250560"/>
          </a:xfrm>
          <a:custGeom>
            <a:avLst/>
            <a:gdLst/>
            <a:ahLst/>
            <a:rect l="l" t="t" r="r" b="b"/>
            <a:pathLst>
              <a:path w="869" h="696">
                <a:moveTo>
                  <a:pt x="13295" y="13742"/>
                </a:moveTo>
                <a:cubicBezTo>
                  <a:pt x="13403" y="13703"/>
                  <a:pt x="13501" y="13675"/>
                  <a:pt x="13618" y="13667"/>
                </a:cubicBezTo>
                <a:cubicBezTo>
                  <a:pt x="13786" y="13655"/>
                  <a:pt x="14005" y="13639"/>
                  <a:pt x="14163" y="13692"/>
                </a:cubicBezTo>
              </a:path>
              <a:path w="869" h="696">
                <a:moveTo>
                  <a:pt x="13320" y="14064"/>
                </a:moveTo>
                <a:cubicBezTo>
                  <a:pt x="13464" y="14086"/>
                  <a:pt x="13593" y="14042"/>
                  <a:pt x="13742" y="14015"/>
                </a:cubicBezTo>
                <a:cubicBezTo>
                  <a:pt x="13876" y="13991"/>
                  <a:pt x="14008" y="13964"/>
                  <a:pt x="14139" y="13940"/>
                </a:cubicBezTo>
                <a:cubicBezTo>
                  <a:pt x="14163" y="13940"/>
                  <a:pt x="14171" y="13940"/>
                  <a:pt x="14163" y="13965"/>
                </a:cubicBezTo>
              </a:path>
              <a:path w="869" h="696">
                <a:moveTo>
                  <a:pt x="13444" y="14337"/>
                </a:moveTo>
                <a:cubicBezTo>
                  <a:pt x="13542" y="14349"/>
                  <a:pt x="13637" y="14377"/>
                  <a:pt x="13742" y="14362"/>
                </a:cubicBezTo>
                <a:cubicBezTo>
                  <a:pt x="13861" y="14345"/>
                  <a:pt x="13968" y="14337"/>
                  <a:pt x="14089" y="143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24080" y="5180040"/>
            <a:ext cx="865080" cy="588960"/>
          </a:xfrm>
          <a:custGeom>
            <a:avLst/>
            <a:gdLst/>
            <a:ahLst/>
            <a:rect l="l" t="t" r="r" b="b"/>
            <a:pathLst>
              <a:path w="2407" h="1638">
                <a:moveTo>
                  <a:pt x="6226" y="14387"/>
                </a:moveTo>
                <a:cubicBezTo>
                  <a:pt x="6226" y="14699"/>
                  <a:pt x="6205" y="15027"/>
                  <a:pt x="6251" y="15329"/>
                </a:cubicBezTo>
                <a:cubicBezTo>
                  <a:pt x="6251" y="15346"/>
                  <a:pt x="6251" y="15362"/>
                  <a:pt x="6251" y="15379"/>
                </a:cubicBezTo>
              </a:path>
              <a:path w="2407" h="1638">
                <a:moveTo>
                  <a:pt x="6697" y="14759"/>
                </a:moveTo>
                <a:cubicBezTo>
                  <a:pt x="6593" y="14863"/>
                  <a:pt x="6484" y="14958"/>
                  <a:pt x="6375" y="15056"/>
                </a:cubicBezTo>
                <a:cubicBezTo>
                  <a:pt x="6288" y="15135"/>
                  <a:pt x="6193" y="15212"/>
                  <a:pt x="6176" y="15329"/>
                </a:cubicBezTo>
                <a:cubicBezTo>
                  <a:pt x="6164" y="15414"/>
                  <a:pt x="6378" y="15403"/>
                  <a:pt x="6424" y="15404"/>
                </a:cubicBezTo>
                <a:cubicBezTo>
                  <a:pt x="6540" y="15407"/>
                  <a:pt x="6656" y="15404"/>
                  <a:pt x="6772" y="15404"/>
                </a:cubicBezTo>
              </a:path>
              <a:path w="2407" h="1638">
                <a:moveTo>
                  <a:pt x="7218" y="15156"/>
                </a:moveTo>
                <a:cubicBezTo>
                  <a:pt x="7129" y="15200"/>
                  <a:pt x="6978" y="15244"/>
                  <a:pt x="6921" y="15329"/>
                </a:cubicBezTo>
                <a:cubicBezTo>
                  <a:pt x="6921" y="15337"/>
                  <a:pt x="6921" y="15346"/>
                  <a:pt x="6921" y="15354"/>
                </a:cubicBezTo>
                <a:cubicBezTo>
                  <a:pt x="6978" y="15366"/>
                  <a:pt x="7025" y="15390"/>
                  <a:pt x="7069" y="15429"/>
                </a:cubicBezTo>
                <a:cubicBezTo>
                  <a:pt x="7116" y="15471"/>
                  <a:pt x="7136" y="15540"/>
                  <a:pt x="7119" y="15602"/>
                </a:cubicBezTo>
                <a:cubicBezTo>
                  <a:pt x="7097" y="15646"/>
                  <a:pt x="7094" y="15658"/>
                  <a:pt x="7069" y="15677"/>
                </a:cubicBezTo>
              </a:path>
              <a:path w="2407" h="1638">
                <a:moveTo>
                  <a:pt x="7293" y="15280"/>
                </a:moveTo>
                <a:lnTo>
                  <a:pt x="7342" y="15304"/>
                </a:lnTo>
                <a:lnTo>
                  <a:pt x="7367" y="15354"/>
                </a:lnTo>
                <a:lnTo>
                  <a:pt x="7367" y="15404"/>
                </a:lnTo>
                <a:lnTo>
                  <a:pt x="7367" y="15503"/>
                </a:lnTo>
                <a:lnTo>
                  <a:pt x="7392" y="15577"/>
                </a:lnTo>
                <a:lnTo>
                  <a:pt x="7392" y="15701"/>
                </a:lnTo>
                <a:lnTo>
                  <a:pt x="7392" y="15801"/>
                </a:lnTo>
                <a:lnTo>
                  <a:pt x="7392" y="15925"/>
                </a:lnTo>
                <a:lnTo>
                  <a:pt x="7417" y="15999"/>
                </a:lnTo>
                <a:lnTo>
                  <a:pt x="7417" y="16024"/>
                </a:lnTo>
                <a:lnTo>
                  <a:pt x="7417" y="16024"/>
                </a:lnTo>
                <a:lnTo>
                  <a:pt x="7417" y="16024"/>
                </a:lnTo>
                <a:lnTo>
                  <a:pt x="7417" y="15949"/>
                </a:lnTo>
                <a:lnTo>
                  <a:pt x="7417" y="15875"/>
                </a:lnTo>
                <a:lnTo>
                  <a:pt x="7417" y="15776"/>
                </a:lnTo>
                <a:lnTo>
                  <a:pt x="7441" y="15677"/>
                </a:lnTo>
                <a:lnTo>
                  <a:pt x="7466" y="15577"/>
                </a:lnTo>
                <a:lnTo>
                  <a:pt x="7516" y="15453"/>
                </a:lnTo>
                <a:lnTo>
                  <a:pt x="7590" y="15379"/>
                </a:lnTo>
                <a:lnTo>
                  <a:pt x="7665" y="15304"/>
                </a:lnTo>
                <a:lnTo>
                  <a:pt x="7764" y="15255"/>
                </a:lnTo>
                <a:lnTo>
                  <a:pt x="7813" y="15230"/>
                </a:lnTo>
                <a:lnTo>
                  <a:pt x="7863" y="15230"/>
                </a:lnTo>
                <a:lnTo>
                  <a:pt x="7888" y="15230"/>
                </a:lnTo>
                <a:lnTo>
                  <a:pt x="7888" y="15255"/>
                </a:lnTo>
                <a:lnTo>
                  <a:pt x="7863" y="15304"/>
                </a:lnTo>
                <a:lnTo>
                  <a:pt x="7813" y="15379"/>
                </a:lnTo>
                <a:lnTo>
                  <a:pt x="7764" y="15429"/>
                </a:lnTo>
                <a:lnTo>
                  <a:pt x="7689" y="15478"/>
                </a:lnTo>
                <a:lnTo>
                  <a:pt x="7640" y="15503"/>
                </a:lnTo>
                <a:lnTo>
                  <a:pt x="7615" y="15503"/>
                </a:lnTo>
                <a:lnTo>
                  <a:pt x="7615" y="15503"/>
                </a:lnTo>
              </a:path>
              <a:path w="2407" h="1638">
                <a:moveTo>
                  <a:pt x="8161" y="14908"/>
                </a:moveTo>
                <a:cubicBezTo>
                  <a:pt x="8221" y="14916"/>
                  <a:pt x="8250" y="14946"/>
                  <a:pt x="8310" y="14957"/>
                </a:cubicBezTo>
                <a:cubicBezTo>
                  <a:pt x="8372" y="14968"/>
                  <a:pt x="8444" y="14957"/>
                  <a:pt x="8508" y="14957"/>
                </a:cubicBezTo>
              </a:path>
              <a:path w="2407" h="1638">
                <a:moveTo>
                  <a:pt x="8285" y="15230"/>
                </a:moveTo>
                <a:cubicBezTo>
                  <a:pt x="8268" y="15255"/>
                  <a:pt x="8252" y="15279"/>
                  <a:pt x="8235" y="15304"/>
                </a:cubicBezTo>
                <a:cubicBezTo>
                  <a:pt x="8309" y="15304"/>
                  <a:pt x="8341" y="15270"/>
                  <a:pt x="8409" y="15255"/>
                </a:cubicBezTo>
                <a:cubicBezTo>
                  <a:pt x="8471" y="15241"/>
                  <a:pt x="8522" y="15232"/>
                  <a:pt x="8582" y="152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75000" y="5286240"/>
            <a:ext cx="117360" cy="285840"/>
          </a:xfrm>
          <a:custGeom>
            <a:avLst/>
            <a:gdLst/>
            <a:ahLst/>
            <a:rect l="l" t="t" r="r" b="b"/>
            <a:pathLst>
              <a:path w="324" h="795">
                <a:moveTo>
                  <a:pt x="9525" y="14759"/>
                </a:moveTo>
                <a:cubicBezTo>
                  <a:pt x="9525" y="14742"/>
                  <a:pt x="9525" y="14726"/>
                  <a:pt x="9525" y="14709"/>
                </a:cubicBezTo>
                <a:cubicBezTo>
                  <a:pt x="9525" y="14646"/>
                  <a:pt x="9501" y="14847"/>
                  <a:pt x="9500" y="14858"/>
                </a:cubicBezTo>
                <a:cubicBezTo>
                  <a:pt x="9486" y="15003"/>
                  <a:pt x="9467" y="15139"/>
                  <a:pt x="9426" y="15280"/>
                </a:cubicBezTo>
                <a:cubicBezTo>
                  <a:pt x="9406" y="15347"/>
                  <a:pt x="9389" y="15412"/>
                  <a:pt x="9376" y="15478"/>
                </a:cubicBezTo>
              </a:path>
              <a:path w="324" h="795">
                <a:moveTo>
                  <a:pt x="9699" y="15304"/>
                </a:moveTo>
                <a:cubicBezTo>
                  <a:pt x="9699" y="15296"/>
                  <a:pt x="9699" y="15288"/>
                  <a:pt x="9699" y="15280"/>
                </a:cubicBezTo>
                <a:cubicBezTo>
                  <a:pt x="9699" y="15322"/>
                  <a:pt x="9709" y="15317"/>
                  <a:pt x="9674" y="15329"/>
                </a:cubicBezTo>
                <a:cubicBezTo>
                  <a:pt x="9674" y="15354"/>
                  <a:pt x="9674" y="15362"/>
                  <a:pt x="9674" y="153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60840" y="5313240"/>
            <a:ext cx="1000080" cy="322560"/>
          </a:xfrm>
          <a:custGeom>
            <a:avLst/>
            <a:gdLst/>
            <a:ahLst/>
            <a:rect l="l" t="t" r="r" b="b"/>
            <a:pathLst>
              <a:path w="2779" h="894">
                <a:moveTo>
                  <a:pt x="10492" y="14759"/>
                </a:moveTo>
                <a:cubicBezTo>
                  <a:pt x="10418" y="14789"/>
                  <a:pt x="10334" y="14883"/>
                  <a:pt x="10294" y="14957"/>
                </a:cubicBezTo>
                <a:cubicBezTo>
                  <a:pt x="10225" y="15085"/>
                  <a:pt x="10131" y="15285"/>
                  <a:pt x="10195" y="15429"/>
                </a:cubicBezTo>
                <a:cubicBezTo>
                  <a:pt x="10243" y="15538"/>
                  <a:pt x="10392" y="15499"/>
                  <a:pt x="10468" y="15453"/>
                </a:cubicBezTo>
                <a:cubicBezTo>
                  <a:pt x="10523" y="15420"/>
                  <a:pt x="10626" y="15294"/>
                  <a:pt x="10616" y="15230"/>
                </a:cubicBezTo>
                <a:cubicBezTo>
                  <a:pt x="10608" y="15213"/>
                  <a:pt x="10600" y="15197"/>
                  <a:pt x="10592" y="15180"/>
                </a:cubicBezTo>
                <a:cubicBezTo>
                  <a:pt x="10496" y="15192"/>
                  <a:pt x="10401" y="15242"/>
                  <a:pt x="10344" y="15329"/>
                </a:cubicBezTo>
                <a:cubicBezTo>
                  <a:pt x="10298" y="15399"/>
                  <a:pt x="10304" y="15459"/>
                  <a:pt x="10319" y="15528"/>
                </a:cubicBezTo>
              </a:path>
              <a:path w="2779" h="894">
                <a:moveTo>
                  <a:pt x="10988" y="14833"/>
                </a:moveTo>
                <a:cubicBezTo>
                  <a:pt x="11054" y="14833"/>
                  <a:pt x="11099" y="14844"/>
                  <a:pt x="11162" y="14858"/>
                </a:cubicBezTo>
                <a:cubicBezTo>
                  <a:pt x="11190" y="14858"/>
                  <a:pt x="11201" y="14860"/>
                  <a:pt x="11212" y="14883"/>
                </a:cubicBezTo>
                <a:cubicBezTo>
                  <a:pt x="11196" y="14962"/>
                  <a:pt x="11144" y="15000"/>
                  <a:pt x="11088" y="15056"/>
                </a:cubicBezTo>
                <a:cubicBezTo>
                  <a:pt x="11060" y="15084"/>
                  <a:pt x="10984" y="15152"/>
                  <a:pt x="11013" y="15205"/>
                </a:cubicBezTo>
                <a:cubicBezTo>
                  <a:pt x="11036" y="15247"/>
                  <a:pt x="11115" y="15222"/>
                  <a:pt x="11137" y="15255"/>
                </a:cubicBezTo>
                <a:cubicBezTo>
                  <a:pt x="11184" y="15327"/>
                  <a:pt x="11071" y="15409"/>
                  <a:pt x="11038" y="15453"/>
                </a:cubicBezTo>
                <a:cubicBezTo>
                  <a:pt x="10992" y="15514"/>
                  <a:pt x="10934" y="15611"/>
                  <a:pt x="10864" y="15652"/>
                </a:cubicBezTo>
                <a:cubicBezTo>
                  <a:pt x="10856" y="15652"/>
                  <a:pt x="10848" y="15652"/>
                  <a:pt x="10840" y="15652"/>
                </a:cubicBezTo>
              </a:path>
              <a:path w="2779" h="894">
                <a:moveTo>
                  <a:pt x="11757" y="15230"/>
                </a:moveTo>
                <a:cubicBezTo>
                  <a:pt x="11707" y="15295"/>
                  <a:pt x="11653" y="15358"/>
                  <a:pt x="11609" y="15429"/>
                </a:cubicBezTo>
                <a:cubicBezTo>
                  <a:pt x="11574" y="15485"/>
                  <a:pt x="11557" y="15531"/>
                  <a:pt x="11509" y="15577"/>
                </a:cubicBezTo>
              </a:path>
              <a:path w="2779" h="894">
                <a:moveTo>
                  <a:pt x="11534" y="15205"/>
                </a:moveTo>
                <a:cubicBezTo>
                  <a:pt x="11534" y="15298"/>
                  <a:pt x="11556" y="15329"/>
                  <a:pt x="11609" y="15404"/>
                </a:cubicBezTo>
                <a:cubicBezTo>
                  <a:pt x="11662" y="15478"/>
                  <a:pt x="11736" y="15556"/>
                  <a:pt x="11832" y="15577"/>
                </a:cubicBezTo>
                <a:cubicBezTo>
                  <a:pt x="11848" y="15577"/>
                  <a:pt x="11865" y="15577"/>
                  <a:pt x="11881" y="15577"/>
                </a:cubicBezTo>
              </a:path>
              <a:path w="2779" h="894">
                <a:moveTo>
                  <a:pt x="12378" y="14957"/>
                </a:moveTo>
                <a:cubicBezTo>
                  <a:pt x="12364" y="15028"/>
                  <a:pt x="12333" y="15112"/>
                  <a:pt x="12303" y="15180"/>
                </a:cubicBezTo>
                <a:cubicBezTo>
                  <a:pt x="12248" y="15306"/>
                  <a:pt x="12200" y="15439"/>
                  <a:pt x="12179" y="15577"/>
                </a:cubicBezTo>
                <a:cubicBezTo>
                  <a:pt x="12179" y="15594"/>
                  <a:pt x="12179" y="15610"/>
                  <a:pt x="12179" y="15627"/>
                </a:cubicBezTo>
              </a:path>
              <a:path w="2779" h="894">
                <a:moveTo>
                  <a:pt x="12477" y="15255"/>
                </a:moveTo>
                <a:cubicBezTo>
                  <a:pt x="12444" y="15343"/>
                  <a:pt x="12404" y="15430"/>
                  <a:pt x="12427" y="15528"/>
                </a:cubicBezTo>
                <a:cubicBezTo>
                  <a:pt x="12448" y="15617"/>
                  <a:pt x="12602" y="15646"/>
                  <a:pt x="12675" y="15627"/>
                </a:cubicBezTo>
                <a:cubicBezTo>
                  <a:pt x="12766" y="15603"/>
                  <a:pt x="12916" y="15525"/>
                  <a:pt x="12948" y="15429"/>
                </a:cubicBezTo>
                <a:cubicBezTo>
                  <a:pt x="12976" y="15346"/>
                  <a:pt x="12911" y="15230"/>
                  <a:pt x="12849" y="15180"/>
                </a:cubicBezTo>
                <a:cubicBezTo>
                  <a:pt x="12776" y="15121"/>
                  <a:pt x="12735" y="15131"/>
                  <a:pt x="12650" y="151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95920" y="5348160"/>
            <a:ext cx="285840" cy="196920"/>
          </a:xfrm>
          <a:custGeom>
            <a:avLst/>
            <a:gdLst/>
            <a:ahLst/>
            <a:rect l="l" t="t" r="r" b="b"/>
            <a:pathLst>
              <a:path w="795" h="547">
                <a:moveTo>
                  <a:pt x="13345" y="15056"/>
                </a:moveTo>
                <a:cubicBezTo>
                  <a:pt x="13337" y="15064"/>
                  <a:pt x="13328" y="15073"/>
                  <a:pt x="13320" y="15081"/>
                </a:cubicBezTo>
                <a:cubicBezTo>
                  <a:pt x="13394" y="15081"/>
                  <a:pt x="13469" y="15081"/>
                  <a:pt x="13543" y="15081"/>
                </a:cubicBezTo>
              </a:path>
              <a:path w="795" h="547">
                <a:moveTo>
                  <a:pt x="13841" y="14883"/>
                </a:moveTo>
                <a:cubicBezTo>
                  <a:pt x="13867" y="14872"/>
                  <a:pt x="13931" y="14839"/>
                  <a:pt x="13965" y="14858"/>
                </a:cubicBezTo>
                <a:cubicBezTo>
                  <a:pt x="13999" y="14877"/>
                  <a:pt x="14035" y="14922"/>
                  <a:pt x="14039" y="14957"/>
                </a:cubicBezTo>
                <a:cubicBezTo>
                  <a:pt x="14044" y="15006"/>
                  <a:pt x="13994" y="15007"/>
                  <a:pt x="13965" y="15032"/>
                </a:cubicBezTo>
                <a:cubicBezTo>
                  <a:pt x="13957" y="15040"/>
                  <a:pt x="13948" y="15048"/>
                  <a:pt x="13940" y="15056"/>
                </a:cubicBezTo>
                <a:cubicBezTo>
                  <a:pt x="13975" y="15082"/>
                  <a:pt x="14019" y="15116"/>
                  <a:pt x="14064" y="15131"/>
                </a:cubicBezTo>
                <a:cubicBezTo>
                  <a:pt x="14104" y="15145"/>
                  <a:pt x="14142" y="15175"/>
                  <a:pt x="14114" y="15230"/>
                </a:cubicBezTo>
                <a:cubicBezTo>
                  <a:pt x="14088" y="15282"/>
                  <a:pt x="13987" y="15348"/>
                  <a:pt x="13940" y="15379"/>
                </a:cubicBezTo>
                <a:cubicBezTo>
                  <a:pt x="13893" y="15411"/>
                  <a:pt x="13870" y="15404"/>
                  <a:pt x="13816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lculating Solubil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lubility is determined by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an equilibrium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olubility of Sr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ith a Ksp of 3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28840" y="4170240"/>
            <a:ext cx="3473280" cy="588960"/>
          </a:xfrm>
          <a:custGeom>
            <a:avLst/>
            <a:gdLst/>
            <a:ahLst/>
            <a:rect l="l" t="t" r="r" b="b"/>
            <a:pathLst>
              <a:path w="9650" h="1638">
                <a:moveTo>
                  <a:pt x="4043" y="11807"/>
                </a:moveTo>
                <a:cubicBezTo>
                  <a:pt x="4051" y="11790"/>
                  <a:pt x="4060" y="11774"/>
                  <a:pt x="4068" y="11757"/>
                </a:cubicBezTo>
                <a:cubicBezTo>
                  <a:pt x="4068" y="11884"/>
                  <a:pt x="4052" y="12004"/>
                  <a:pt x="4043" y="12129"/>
                </a:cubicBezTo>
                <a:cubicBezTo>
                  <a:pt x="4034" y="12265"/>
                  <a:pt x="4028" y="12419"/>
                  <a:pt x="3994" y="12551"/>
                </a:cubicBezTo>
                <a:cubicBezTo>
                  <a:pt x="3986" y="12568"/>
                  <a:pt x="3977" y="12584"/>
                  <a:pt x="3969" y="12601"/>
                </a:cubicBezTo>
              </a:path>
              <a:path w="9650" h="1638">
                <a:moveTo>
                  <a:pt x="4316" y="12055"/>
                </a:moveTo>
                <a:cubicBezTo>
                  <a:pt x="4333" y="12038"/>
                  <a:pt x="4349" y="12022"/>
                  <a:pt x="4366" y="12005"/>
                </a:cubicBezTo>
                <a:cubicBezTo>
                  <a:pt x="4347" y="12082"/>
                  <a:pt x="4293" y="12095"/>
                  <a:pt x="4242" y="12154"/>
                </a:cubicBezTo>
                <a:cubicBezTo>
                  <a:pt x="4178" y="12228"/>
                  <a:pt x="4047" y="12334"/>
                  <a:pt x="4018" y="12427"/>
                </a:cubicBezTo>
                <a:cubicBezTo>
                  <a:pt x="3987" y="12525"/>
                  <a:pt x="4040" y="12548"/>
                  <a:pt x="4118" y="12576"/>
                </a:cubicBezTo>
                <a:cubicBezTo>
                  <a:pt x="4230" y="12617"/>
                  <a:pt x="4304" y="12591"/>
                  <a:pt x="4415" y="12576"/>
                </a:cubicBezTo>
                <a:cubicBezTo>
                  <a:pt x="4432" y="12576"/>
                  <a:pt x="4448" y="12576"/>
                  <a:pt x="4465" y="12576"/>
                </a:cubicBezTo>
              </a:path>
              <a:path w="9650" h="1638">
                <a:moveTo>
                  <a:pt x="4887" y="12353"/>
                </a:moveTo>
                <a:cubicBezTo>
                  <a:pt x="4816" y="12353"/>
                  <a:pt x="4800" y="12369"/>
                  <a:pt x="4738" y="12402"/>
                </a:cubicBezTo>
                <a:cubicBezTo>
                  <a:pt x="4687" y="12429"/>
                  <a:pt x="4621" y="12440"/>
                  <a:pt x="4614" y="12502"/>
                </a:cubicBezTo>
                <a:cubicBezTo>
                  <a:pt x="4614" y="12510"/>
                  <a:pt x="4614" y="12518"/>
                  <a:pt x="4614" y="12526"/>
                </a:cubicBezTo>
                <a:cubicBezTo>
                  <a:pt x="4667" y="12526"/>
                  <a:pt x="4742" y="12530"/>
                  <a:pt x="4787" y="12551"/>
                </a:cubicBezTo>
                <a:cubicBezTo>
                  <a:pt x="4837" y="12574"/>
                  <a:pt x="4856" y="12652"/>
                  <a:pt x="4837" y="12700"/>
                </a:cubicBezTo>
                <a:cubicBezTo>
                  <a:pt x="4825" y="12732"/>
                  <a:pt x="4753" y="12815"/>
                  <a:pt x="4738" y="12824"/>
                </a:cubicBezTo>
                <a:cubicBezTo>
                  <a:pt x="4730" y="12824"/>
                  <a:pt x="4721" y="12824"/>
                  <a:pt x="4713" y="12824"/>
                </a:cubicBezTo>
              </a:path>
              <a:path w="9650" h="1638">
                <a:moveTo>
                  <a:pt x="5060" y="12526"/>
                </a:moveTo>
                <a:cubicBezTo>
                  <a:pt x="5070" y="12609"/>
                  <a:pt x="5099" y="12685"/>
                  <a:pt x="5085" y="12774"/>
                </a:cubicBezTo>
                <a:cubicBezTo>
                  <a:pt x="5066" y="12898"/>
                  <a:pt x="5051" y="13023"/>
                  <a:pt x="5035" y="13146"/>
                </a:cubicBezTo>
                <a:cubicBezTo>
                  <a:pt x="5035" y="13188"/>
                  <a:pt x="5035" y="13196"/>
                  <a:pt x="5035" y="13221"/>
                </a:cubicBezTo>
                <a:cubicBezTo>
                  <a:pt x="5046" y="13130"/>
                  <a:pt x="5064" y="13041"/>
                  <a:pt x="5085" y="12948"/>
                </a:cubicBezTo>
                <a:cubicBezTo>
                  <a:pt x="5110" y="12839"/>
                  <a:pt x="5151" y="12676"/>
                  <a:pt x="5234" y="12601"/>
                </a:cubicBezTo>
                <a:cubicBezTo>
                  <a:pt x="5286" y="12553"/>
                  <a:pt x="5407" y="12481"/>
                  <a:pt x="5482" y="12502"/>
                </a:cubicBezTo>
                <a:cubicBezTo>
                  <a:pt x="5490" y="12510"/>
                  <a:pt x="5499" y="12518"/>
                  <a:pt x="5507" y="12526"/>
                </a:cubicBezTo>
                <a:cubicBezTo>
                  <a:pt x="5493" y="12635"/>
                  <a:pt x="5448" y="12685"/>
                  <a:pt x="5358" y="12750"/>
                </a:cubicBezTo>
                <a:cubicBezTo>
                  <a:pt x="5269" y="12814"/>
                  <a:pt x="5236" y="12875"/>
                  <a:pt x="5135" y="12849"/>
                </a:cubicBezTo>
              </a:path>
              <a:path w="9650" h="1638">
                <a:moveTo>
                  <a:pt x="5730" y="12204"/>
                </a:moveTo>
                <a:cubicBezTo>
                  <a:pt x="5887" y="12204"/>
                  <a:pt x="6044" y="12204"/>
                  <a:pt x="6201" y="12204"/>
                </a:cubicBezTo>
              </a:path>
              <a:path w="9650" h="1638">
                <a:moveTo>
                  <a:pt x="5879" y="12551"/>
                </a:moveTo>
                <a:cubicBezTo>
                  <a:pt x="5951" y="12551"/>
                  <a:pt x="6007" y="12536"/>
                  <a:pt x="6077" y="12526"/>
                </a:cubicBezTo>
                <a:cubicBezTo>
                  <a:pt x="6129" y="12526"/>
                  <a:pt x="6147" y="12525"/>
                  <a:pt x="6176" y="12502"/>
                </a:cubicBezTo>
              </a:path>
              <a:path w="9650" h="1638">
                <a:moveTo>
                  <a:pt x="7193" y="11757"/>
                </a:moveTo>
                <a:cubicBezTo>
                  <a:pt x="7161" y="11744"/>
                  <a:pt x="7127" y="11745"/>
                  <a:pt x="7094" y="11733"/>
                </a:cubicBezTo>
                <a:cubicBezTo>
                  <a:pt x="7005" y="11701"/>
                  <a:pt x="6982" y="11714"/>
                  <a:pt x="6896" y="11757"/>
                </a:cubicBezTo>
                <a:cubicBezTo>
                  <a:pt x="6832" y="11789"/>
                  <a:pt x="6810" y="11810"/>
                  <a:pt x="6796" y="11881"/>
                </a:cubicBezTo>
                <a:cubicBezTo>
                  <a:pt x="6780" y="11959"/>
                  <a:pt x="6818" y="12029"/>
                  <a:pt x="6821" y="12105"/>
                </a:cubicBezTo>
                <a:cubicBezTo>
                  <a:pt x="6826" y="12229"/>
                  <a:pt x="6799" y="12315"/>
                  <a:pt x="6747" y="12427"/>
                </a:cubicBezTo>
                <a:cubicBezTo>
                  <a:pt x="6707" y="12514"/>
                  <a:pt x="6619" y="12606"/>
                  <a:pt x="6598" y="12700"/>
                </a:cubicBezTo>
                <a:cubicBezTo>
                  <a:pt x="6598" y="12717"/>
                  <a:pt x="6598" y="12733"/>
                  <a:pt x="6598" y="12750"/>
                </a:cubicBezTo>
                <a:cubicBezTo>
                  <a:pt x="6686" y="12750"/>
                  <a:pt x="6760" y="12747"/>
                  <a:pt x="6846" y="12725"/>
                </a:cubicBezTo>
                <a:cubicBezTo>
                  <a:pt x="6938" y="12702"/>
                  <a:pt x="7028" y="12678"/>
                  <a:pt x="7119" y="12650"/>
                </a:cubicBezTo>
              </a:path>
              <a:path w="9650" h="1638">
                <a:moveTo>
                  <a:pt x="7813" y="12030"/>
                </a:moveTo>
                <a:cubicBezTo>
                  <a:pt x="7722" y="12030"/>
                  <a:pt x="7621" y="12029"/>
                  <a:pt x="7541" y="12080"/>
                </a:cubicBezTo>
                <a:cubicBezTo>
                  <a:pt x="7481" y="12118"/>
                  <a:pt x="7419" y="12152"/>
                  <a:pt x="7367" y="12204"/>
                </a:cubicBezTo>
                <a:cubicBezTo>
                  <a:pt x="7443" y="12265"/>
                  <a:pt x="7474" y="12237"/>
                  <a:pt x="7565" y="12254"/>
                </a:cubicBezTo>
                <a:cubicBezTo>
                  <a:pt x="7616" y="12263"/>
                  <a:pt x="7731" y="12300"/>
                  <a:pt x="7739" y="12353"/>
                </a:cubicBezTo>
                <a:cubicBezTo>
                  <a:pt x="7751" y="12435"/>
                  <a:pt x="7666" y="12520"/>
                  <a:pt x="7615" y="12576"/>
                </a:cubicBezTo>
                <a:cubicBezTo>
                  <a:pt x="7607" y="12584"/>
                  <a:pt x="7598" y="12593"/>
                  <a:pt x="7590" y="12601"/>
                </a:cubicBezTo>
              </a:path>
              <a:path w="9650" h="1638">
                <a:moveTo>
                  <a:pt x="8012" y="12353"/>
                </a:moveTo>
                <a:cubicBezTo>
                  <a:pt x="8043" y="12434"/>
                  <a:pt x="8034" y="12473"/>
                  <a:pt x="7987" y="12551"/>
                </a:cubicBezTo>
                <a:cubicBezTo>
                  <a:pt x="7965" y="12587"/>
                  <a:pt x="7947" y="12607"/>
                  <a:pt x="7938" y="12650"/>
                </a:cubicBezTo>
                <a:cubicBezTo>
                  <a:pt x="7956" y="12576"/>
                  <a:pt x="8009" y="12493"/>
                  <a:pt x="8062" y="12427"/>
                </a:cubicBezTo>
                <a:cubicBezTo>
                  <a:pt x="8111" y="12367"/>
                  <a:pt x="8180" y="12316"/>
                  <a:pt x="8235" y="12278"/>
                </a:cubicBezTo>
                <a:cubicBezTo>
                  <a:pt x="8274" y="12252"/>
                  <a:pt x="8286" y="12254"/>
                  <a:pt x="8334" y="12254"/>
                </a:cubicBezTo>
              </a:path>
              <a:path w="9650" h="1638">
                <a:moveTo>
                  <a:pt x="8533" y="11881"/>
                </a:moveTo>
                <a:cubicBezTo>
                  <a:pt x="8593" y="11881"/>
                  <a:pt x="8740" y="11902"/>
                  <a:pt x="8756" y="11857"/>
                </a:cubicBezTo>
              </a:path>
              <a:path w="9650" h="1638">
                <a:moveTo>
                  <a:pt x="8682" y="11733"/>
                </a:moveTo>
                <a:cubicBezTo>
                  <a:pt x="8648" y="11777"/>
                  <a:pt x="8635" y="11822"/>
                  <a:pt x="8632" y="11881"/>
                </a:cubicBezTo>
                <a:cubicBezTo>
                  <a:pt x="8628" y="11945"/>
                  <a:pt x="8620" y="12006"/>
                  <a:pt x="8657" y="12055"/>
                </a:cubicBezTo>
              </a:path>
              <a:path w="9650" h="1638">
                <a:moveTo>
                  <a:pt x="9079" y="11757"/>
                </a:moveTo>
                <a:cubicBezTo>
                  <a:pt x="9027" y="11757"/>
                  <a:pt x="9112" y="11749"/>
                  <a:pt x="9128" y="11782"/>
                </a:cubicBezTo>
                <a:cubicBezTo>
                  <a:pt x="9147" y="11821"/>
                  <a:pt x="9128" y="11878"/>
                  <a:pt x="9103" y="11906"/>
                </a:cubicBezTo>
                <a:cubicBezTo>
                  <a:pt x="9072" y="11940"/>
                  <a:pt x="9037" y="11973"/>
                  <a:pt x="9004" y="12005"/>
                </a:cubicBezTo>
                <a:cubicBezTo>
                  <a:pt x="9087" y="12005"/>
                  <a:pt x="9169" y="12005"/>
                  <a:pt x="9252" y="12005"/>
                </a:cubicBezTo>
              </a:path>
              <a:path w="9650" h="1638">
                <a:moveTo>
                  <a:pt x="9426" y="11708"/>
                </a:moveTo>
                <a:cubicBezTo>
                  <a:pt x="9475" y="11702"/>
                  <a:pt x="9530" y="11698"/>
                  <a:pt x="9575" y="11683"/>
                </a:cubicBezTo>
                <a:cubicBezTo>
                  <a:pt x="9631" y="11664"/>
                  <a:pt x="9676" y="11657"/>
                  <a:pt x="9723" y="11633"/>
                </a:cubicBezTo>
                <a:cubicBezTo>
                  <a:pt x="9761" y="11697"/>
                  <a:pt x="9758" y="11803"/>
                  <a:pt x="9748" y="11881"/>
                </a:cubicBezTo>
                <a:cubicBezTo>
                  <a:pt x="9727" y="12045"/>
                  <a:pt x="9698" y="12216"/>
                  <a:pt x="9674" y="12378"/>
                </a:cubicBezTo>
                <a:cubicBezTo>
                  <a:pt x="9660" y="12471"/>
                  <a:pt x="9634" y="12591"/>
                  <a:pt x="9599" y="12675"/>
                </a:cubicBezTo>
                <a:cubicBezTo>
                  <a:pt x="9572" y="12742"/>
                  <a:pt x="9465" y="12794"/>
                  <a:pt x="9401" y="12824"/>
                </a:cubicBezTo>
                <a:cubicBezTo>
                  <a:pt x="9318" y="12863"/>
                  <a:pt x="9193" y="12870"/>
                  <a:pt x="9103" y="12874"/>
                </a:cubicBezTo>
                <a:cubicBezTo>
                  <a:pt x="9039" y="12877"/>
                  <a:pt x="9002" y="12857"/>
                  <a:pt x="8979" y="12849"/>
                </a:cubicBezTo>
              </a:path>
              <a:path w="9650" h="1638">
                <a:moveTo>
                  <a:pt x="10666" y="11683"/>
                </a:moveTo>
                <a:cubicBezTo>
                  <a:pt x="10619" y="11678"/>
                  <a:pt x="10586" y="11665"/>
                  <a:pt x="10542" y="11658"/>
                </a:cubicBezTo>
                <a:cubicBezTo>
                  <a:pt x="10495" y="11650"/>
                  <a:pt x="10453" y="11655"/>
                  <a:pt x="10418" y="11683"/>
                </a:cubicBezTo>
                <a:cubicBezTo>
                  <a:pt x="10393" y="11703"/>
                  <a:pt x="10329" y="11720"/>
                  <a:pt x="10319" y="11757"/>
                </a:cubicBezTo>
                <a:cubicBezTo>
                  <a:pt x="10298" y="11829"/>
                  <a:pt x="10289" y="11905"/>
                  <a:pt x="10269" y="11981"/>
                </a:cubicBezTo>
                <a:cubicBezTo>
                  <a:pt x="10234" y="12114"/>
                  <a:pt x="10190" y="12233"/>
                  <a:pt x="10120" y="12353"/>
                </a:cubicBezTo>
                <a:cubicBezTo>
                  <a:pt x="10073" y="12435"/>
                  <a:pt x="9995" y="12562"/>
                  <a:pt x="9971" y="12650"/>
                </a:cubicBezTo>
                <a:cubicBezTo>
                  <a:pt x="9952" y="12721"/>
                  <a:pt x="10041" y="12723"/>
                  <a:pt x="10096" y="12725"/>
                </a:cubicBezTo>
                <a:cubicBezTo>
                  <a:pt x="10209" y="12730"/>
                  <a:pt x="10307" y="12704"/>
                  <a:pt x="10418" y="12700"/>
                </a:cubicBezTo>
                <a:cubicBezTo>
                  <a:pt x="10484" y="12698"/>
                  <a:pt x="10550" y="12700"/>
                  <a:pt x="10616" y="12700"/>
                </a:cubicBezTo>
              </a:path>
              <a:path w="9650" h="1638">
                <a:moveTo>
                  <a:pt x="11063" y="12005"/>
                </a:moveTo>
                <a:cubicBezTo>
                  <a:pt x="10994" y="11965"/>
                  <a:pt x="10940" y="11997"/>
                  <a:pt x="10864" y="12030"/>
                </a:cubicBezTo>
                <a:cubicBezTo>
                  <a:pt x="10810" y="12053"/>
                  <a:pt x="10697" y="12073"/>
                  <a:pt x="10666" y="12129"/>
                </a:cubicBezTo>
                <a:cubicBezTo>
                  <a:pt x="10666" y="12137"/>
                  <a:pt x="10666" y="12146"/>
                  <a:pt x="10666" y="12154"/>
                </a:cubicBezTo>
                <a:cubicBezTo>
                  <a:pt x="10732" y="12194"/>
                  <a:pt x="10786" y="12164"/>
                  <a:pt x="10864" y="12179"/>
                </a:cubicBezTo>
                <a:cubicBezTo>
                  <a:pt x="10906" y="12187"/>
                  <a:pt x="11044" y="12201"/>
                  <a:pt x="11063" y="12254"/>
                </a:cubicBezTo>
                <a:cubicBezTo>
                  <a:pt x="11084" y="12312"/>
                  <a:pt x="10981" y="12403"/>
                  <a:pt x="10939" y="12427"/>
                </a:cubicBezTo>
                <a:cubicBezTo>
                  <a:pt x="10907" y="12445"/>
                  <a:pt x="10849" y="12468"/>
                  <a:pt x="10815" y="12477"/>
                </a:cubicBezTo>
              </a:path>
              <a:path w="9650" h="1638">
                <a:moveTo>
                  <a:pt x="11311" y="12080"/>
                </a:moveTo>
                <a:cubicBezTo>
                  <a:pt x="11389" y="12131"/>
                  <a:pt x="11350" y="12164"/>
                  <a:pt x="11311" y="12254"/>
                </a:cubicBezTo>
                <a:cubicBezTo>
                  <a:pt x="11281" y="12324"/>
                  <a:pt x="11266" y="12399"/>
                  <a:pt x="11361" y="12427"/>
                </a:cubicBezTo>
                <a:cubicBezTo>
                  <a:pt x="11457" y="12455"/>
                  <a:pt x="11527" y="12360"/>
                  <a:pt x="11584" y="12303"/>
                </a:cubicBezTo>
                <a:cubicBezTo>
                  <a:pt x="11676" y="12211"/>
                  <a:pt x="11666" y="12174"/>
                  <a:pt x="11609" y="12080"/>
                </a:cubicBezTo>
                <a:cubicBezTo>
                  <a:pt x="11572" y="12019"/>
                  <a:pt x="11488" y="11975"/>
                  <a:pt x="11410" y="12005"/>
                </a:cubicBezTo>
                <a:cubicBezTo>
                  <a:pt x="11363" y="12023"/>
                  <a:pt x="11366" y="12067"/>
                  <a:pt x="11361" y="12105"/>
                </a:cubicBezTo>
              </a:path>
              <a:path w="9650" h="1638">
                <a:moveTo>
                  <a:pt x="11757" y="12378"/>
                </a:moveTo>
                <a:cubicBezTo>
                  <a:pt x="11757" y="12429"/>
                  <a:pt x="11748" y="12464"/>
                  <a:pt x="11782" y="12502"/>
                </a:cubicBezTo>
                <a:cubicBezTo>
                  <a:pt x="11814" y="12537"/>
                  <a:pt x="11910" y="12538"/>
                  <a:pt x="11956" y="12526"/>
                </a:cubicBezTo>
                <a:cubicBezTo>
                  <a:pt x="12006" y="12512"/>
                  <a:pt x="12085" y="12425"/>
                  <a:pt x="12105" y="12378"/>
                </a:cubicBezTo>
                <a:cubicBezTo>
                  <a:pt x="12112" y="12361"/>
                  <a:pt x="12105" y="12321"/>
                  <a:pt x="12105" y="12303"/>
                </a:cubicBezTo>
                <a:cubicBezTo>
                  <a:pt x="12072" y="12320"/>
                  <a:pt x="12003" y="12409"/>
                  <a:pt x="11981" y="12452"/>
                </a:cubicBezTo>
                <a:cubicBezTo>
                  <a:pt x="11925" y="12559"/>
                  <a:pt x="11906" y="12629"/>
                  <a:pt x="11906" y="12750"/>
                </a:cubicBezTo>
                <a:cubicBezTo>
                  <a:pt x="11906" y="12801"/>
                  <a:pt x="11908" y="12819"/>
                  <a:pt x="11956" y="12824"/>
                </a:cubicBezTo>
              </a:path>
              <a:path w="9650" h="1638">
                <a:moveTo>
                  <a:pt x="12278" y="11981"/>
                </a:moveTo>
                <a:cubicBezTo>
                  <a:pt x="12361" y="11981"/>
                  <a:pt x="12443" y="11981"/>
                  <a:pt x="12526" y="11981"/>
                </a:cubicBezTo>
              </a:path>
              <a:path w="9650" h="1638">
                <a:moveTo>
                  <a:pt x="12675" y="11782"/>
                </a:moveTo>
                <a:cubicBezTo>
                  <a:pt x="12758" y="11782"/>
                  <a:pt x="12735" y="11814"/>
                  <a:pt x="12799" y="11832"/>
                </a:cubicBezTo>
                <a:cubicBezTo>
                  <a:pt x="12816" y="11832"/>
                  <a:pt x="12832" y="11832"/>
                  <a:pt x="12849" y="11832"/>
                </a:cubicBezTo>
                <a:cubicBezTo>
                  <a:pt x="12849" y="11885"/>
                  <a:pt x="12859" y="11917"/>
                  <a:pt x="12824" y="11956"/>
                </a:cubicBezTo>
                <a:cubicBezTo>
                  <a:pt x="12798" y="11985"/>
                  <a:pt x="12741" y="12019"/>
                  <a:pt x="12725" y="12055"/>
                </a:cubicBezTo>
                <a:cubicBezTo>
                  <a:pt x="12725" y="12063"/>
                  <a:pt x="12725" y="12072"/>
                  <a:pt x="12725" y="12080"/>
                </a:cubicBezTo>
                <a:cubicBezTo>
                  <a:pt x="12807" y="12080"/>
                  <a:pt x="12872" y="12084"/>
                  <a:pt x="12948" y="12055"/>
                </a:cubicBezTo>
              </a:path>
              <a:path w="9650" h="1638">
                <a:moveTo>
                  <a:pt x="13221" y="11584"/>
                </a:moveTo>
                <a:cubicBezTo>
                  <a:pt x="13251" y="11599"/>
                  <a:pt x="13252" y="11609"/>
                  <a:pt x="13320" y="11609"/>
                </a:cubicBezTo>
                <a:cubicBezTo>
                  <a:pt x="13401" y="11609"/>
                  <a:pt x="13466" y="11629"/>
                  <a:pt x="13543" y="11633"/>
                </a:cubicBezTo>
                <a:cubicBezTo>
                  <a:pt x="13635" y="11638"/>
                  <a:pt x="13618" y="11675"/>
                  <a:pt x="13618" y="11757"/>
                </a:cubicBezTo>
                <a:cubicBezTo>
                  <a:pt x="13618" y="11871"/>
                  <a:pt x="13557" y="12018"/>
                  <a:pt x="13519" y="12129"/>
                </a:cubicBezTo>
                <a:cubicBezTo>
                  <a:pt x="13474" y="12261"/>
                  <a:pt x="13432" y="12388"/>
                  <a:pt x="13419" y="12526"/>
                </a:cubicBezTo>
                <a:cubicBezTo>
                  <a:pt x="13410" y="12619"/>
                  <a:pt x="13424" y="12711"/>
                  <a:pt x="13395" y="12799"/>
                </a:cubicBezTo>
                <a:cubicBezTo>
                  <a:pt x="13372" y="12868"/>
                  <a:pt x="13336" y="12888"/>
                  <a:pt x="13295" y="12923"/>
                </a:cubicBezTo>
                <a:cubicBezTo>
                  <a:pt x="13257" y="12955"/>
                  <a:pt x="13174" y="12963"/>
                  <a:pt x="13122" y="12948"/>
                </a:cubicBezTo>
                <a:cubicBezTo>
                  <a:pt x="13073" y="12934"/>
                  <a:pt x="13049" y="12928"/>
                  <a:pt x="12998" y="129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75200" y="4125960"/>
            <a:ext cx="598680" cy="366840"/>
          </a:xfrm>
          <a:custGeom>
            <a:avLst/>
            <a:gdLst/>
            <a:ahLst/>
            <a:rect l="l" t="t" r="r" b="b"/>
            <a:pathLst>
              <a:path w="1663" h="1018">
                <a:moveTo>
                  <a:pt x="16718" y="11857"/>
                </a:moveTo>
                <a:cubicBezTo>
                  <a:pt x="16706" y="11819"/>
                  <a:pt x="16689" y="11832"/>
                  <a:pt x="16644" y="11832"/>
                </a:cubicBezTo>
                <a:cubicBezTo>
                  <a:pt x="16554" y="11832"/>
                  <a:pt x="16481" y="11847"/>
                  <a:pt x="16396" y="11881"/>
                </a:cubicBezTo>
                <a:cubicBezTo>
                  <a:pt x="16344" y="11902"/>
                  <a:pt x="16333" y="11895"/>
                  <a:pt x="16321" y="11931"/>
                </a:cubicBezTo>
                <a:cubicBezTo>
                  <a:pt x="16391" y="11966"/>
                  <a:pt x="16484" y="11984"/>
                  <a:pt x="16545" y="12030"/>
                </a:cubicBezTo>
                <a:cubicBezTo>
                  <a:pt x="16601" y="12072"/>
                  <a:pt x="16687" y="12150"/>
                  <a:pt x="16669" y="12229"/>
                </a:cubicBezTo>
                <a:cubicBezTo>
                  <a:pt x="16647" y="12327"/>
                  <a:pt x="16546" y="12346"/>
                  <a:pt x="16470" y="12378"/>
                </a:cubicBezTo>
                <a:cubicBezTo>
                  <a:pt x="16414" y="12402"/>
                  <a:pt x="16399" y="12419"/>
                  <a:pt x="16371" y="12378"/>
                </a:cubicBezTo>
              </a:path>
              <a:path w="1663" h="1018">
                <a:moveTo>
                  <a:pt x="16818" y="12254"/>
                </a:moveTo>
                <a:cubicBezTo>
                  <a:pt x="16834" y="12339"/>
                  <a:pt x="16818" y="12344"/>
                  <a:pt x="16818" y="12427"/>
                </a:cubicBezTo>
                <a:cubicBezTo>
                  <a:pt x="16818" y="12435"/>
                  <a:pt x="16818" y="12444"/>
                  <a:pt x="16818" y="12452"/>
                </a:cubicBezTo>
                <a:cubicBezTo>
                  <a:pt x="16818" y="12520"/>
                  <a:pt x="16836" y="12365"/>
                  <a:pt x="16842" y="12353"/>
                </a:cubicBezTo>
                <a:cubicBezTo>
                  <a:pt x="16856" y="12325"/>
                  <a:pt x="16906" y="12239"/>
                  <a:pt x="16942" y="12229"/>
                </a:cubicBezTo>
                <a:cubicBezTo>
                  <a:pt x="16985" y="12217"/>
                  <a:pt x="17026" y="12214"/>
                  <a:pt x="17066" y="12204"/>
                </a:cubicBezTo>
              </a:path>
              <a:path w="1663" h="1018">
                <a:moveTo>
                  <a:pt x="17537" y="12005"/>
                </a:moveTo>
                <a:cubicBezTo>
                  <a:pt x="17666" y="12005"/>
                  <a:pt x="17787" y="12000"/>
                  <a:pt x="17909" y="11981"/>
                </a:cubicBezTo>
                <a:cubicBezTo>
                  <a:pt x="17926" y="11981"/>
                  <a:pt x="17942" y="11981"/>
                  <a:pt x="17959" y="11981"/>
                </a:cubicBezTo>
              </a:path>
              <a:path w="1663" h="1018">
                <a:moveTo>
                  <a:pt x="17562" y="12254"/>
                </a:moveTo>
                <a:cubicBezTo>
                  <a:pt x="17596" y="12279"/>
                  <a:pt x="17624" y="12287"/>
                  <a:pt x="17661" y="12303"/>
                </a:cubicBezTo>
                <a:cubicBezTo>
                  <a:pt x="17744" y="12339"/>
                  <a:pt x="17800" y="12332"/>
                  <a:pt x="17884" y="12303"/>
                </a:cubicBezTo>
              </a:path>
              <a:path w="1663" h="1018">
                <a:moveTo>
                  <a:pt x="16917" y="11609"/>
                </a:moveTo>
                <a:cubicBezTo>
                  <a:pt x="17008" y="11609"/>
                  <a:pt x="17080" y="11604"/>
                  <a:pt x="17165" y="11584"/>
                </a:cubicBezTo>
                <a:cubicBezTo>
                  <a:pt x="17198" y="11584"/>
                  <a:pt x="17214" y="11584"/>
                  <a:pt x="17239" y="11584"/>
                </a:cubicBezTo>
              </a:path>
              <a:path w="1663" h="1018">
                <a:moveTo>
                  <a:pt x="17090" y="11460"/>
                </a:moveTo>
                <a:cubicBezTo>
                  <a:pt x="17062" y="11499"/>
                  <a:pt x="17052" y="11557"/>
                  <a:pt x="17066" y="11609"/>
                </a:cubicBezTo>
                <a:cubicBezTo>
                  <a:pt x="17082" y="11667"/>
                  <a:pt x="17125" y="11738"/>
                  <a:pt x="17165" y="11782"/>
                </a:cubicBezTo>
                <a:cubicBezTo>
                  <a:pt x="17173" y="11790"/>
                  <a:pt x="17182" y="11799"/>
                  <a:pt x="17190" y="11807"/>
                </a:cubicBezTo>
              </a:path>
              <a:path w="1663" h="1018">
                <a:moveTo>
                  <a:pt x="17512" y="11485"/>
                </a:moveTo>
                <a:cubicBezTo>
                  <a:pt x="17574" y="11485"/>
                  <a:pt x="17609" y="11492"/>
                  <a:pt x="17661" y="11509"/>
                </a:cubicBezTo>
                <a:cubicBezTo>
                  <a:pt x="17716" y="11527"/>
                  <a:pt x="17674" y="11545"/>
                  <a:pt x="17661" y="11584"/>
                </a:cubicBezTo>
                <a:cubicBezTo>
                  <a:pt x="17661" y="11592"/>
                  <a:pt x="17661" y="11601"/>
                  <a:pt x="17661" y="11609"/>
                </a:cubicBezTo>
                <a:cubicBezTo>
                  <a:pt x="17733" y="11609"/>
                  <a:pt x="17788" y="11605"/>
                  <a:pt x="17859" y="11584"/>
                </a:cubicBezTo>
                <a:cubicBezTo>
                  <a:pt x="17926" y="11562"/>
                  <a:pt x="17944" y="11557"/>
                  <a:pt x="17983" y="115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53160" y="4197240"/>
            <a:ext cx="919080" cy="411120"/>
          </a:xfrm>
          <a:custGeom>
            <a:avLst/>
            <a:gdLst/>
            <a:ahLst/>
            <a:rect l="l" t="t" r="r" b="b"/>
            <a:pathLst>
              <a:path w="2556" h="1142">
                <a:moveTo>
                  <a:pt x="18876" y="11757"/>
                </a:moveTo>
                <a:cubicBezTo>
                  <a:pt x="18808" y="11732"/>
                  <a:pt x="18728" y="11719"/>
                  <a:pt x="18653" y="11733"/>
                </a:cubicBezTo>
                <a:cubicBezTo>
                  <a:pt x="18566" y="11749"/>
                  <a:pt x="18493" y="11745"/>
                  <a:pt x="18479" y="11832"/>
                </a:cubicBezTo>
                <a:cubicBezTo>
                  <a:pt x="18465" y="11918"/>
                  <a:pt x="18579" y="11963"/>
                  <a:pt x="18628" y="12005"/>
                </a:cubicBezTo>
                <a:cubicBezTo>
                  <a:pt x="18698" y="12065"/>
                  <a:pt x="18747" y="12112"/>
                  <a:pt x="18752" y="12204"/>
                </a:cubicBezTo>
                <a:cubicBezTo>
                  <a:pt x="18757" y="12305"/>
                  <a:pt x="18655" y="12342"/>
                  <a:pt x="18579" y="12378"/>
                </a:cubicBezTo>
                <a:cubicBezTo>
                  <a:pt x="18532" y="12400"/>
                  <a:pt x="18525" y="12402"/>
                  <a:pt x="18479" y="12402"/>
                </a:cubicBezTo>
              </a:path>
              <a:path w="2556" h="1142">
                <a:moveTo>
                  <a:pt x="19323" y="11981"/>
                </a:moveTo>
                <a:cubicBezTo>
                  <a:pt x="19256" y="11981"/>
                  <a:pt x="19214" y="12025"/>
                  <a:pt x="19174" y="12080"/>
                </a:cubicBezTo>
                <a:cubicBezTo>
                  <a:pt x="19142" y="12124"/>
                  <a:pt x="19081" y="12304"/>
                  <a:pt x="19124" y="12353"/>
                </a:cubicBezTo>
                <a:cubicBezTo>
                  <a:pt x="19199" y="12438"/>
                  <a:pt x="19324" y="12389"/>
                  <a:pt x="19397" y="12353"/>
                </a:cubicBezTo>
                <a:cubicBezTo>
                  <a:pt x="19493" y="12305"/>
                  <a:pt x="19517" y="12228"/>
                  <a:pt x="19521" y="12129"/>
                </a:cubicBezTo>
                <a:cubicBezTo>
                  <a:pt x="19524" y="12057"/>
                  <a:pt x="19493" y="11919"/>
                  <a:pt x="19422" y="11881"/>
                </a:cubicBezTo>
                <a:cubicBezTo>
                  <a:pt x="19376" y="11856"/>
                  <a:pt x="19356" y="11882"/>
                  <a:pt x="19348" y="11906"/>
                </a:cubicBezTo>
              </a:path>
              <a:path w="2556" h="1142">
                <a:moveTo>
                  <a:pt x="19695" y="12328"/>
                </a:moveTo>
                <a:cubicBezTo>
                  <a:pt x="19664" y="12370"/>
                  <a:pt x="19658" y="12385"/>
                  <a:pt x="19695" y="12427"/>
                </a:cubicBezTo>
                <a:cubicBezTo>
                  <a:pt x="19749" y="12488"/>
                  <a:pt x="19817" y="12498"/>
                  <a:pt x="19893" y="12502"/>
                </a:cubicBezTo>
                <a:cubicBezTo>
                  <a:pt x="19961" y="12505"/>
                  <a:pt x="20018" y="12471"/>
                  <a:pt x="20067" y="12427"/>
                </a:cubicBezTo>
                <a:cubicBezTo>
                  <a:pt x="20092" y="12402"/>
                  <a:pt x="20100" y="12394"/>
                  <a:pt x="20117" y="12378"/>
                </a:cubicBezTo>
                <a:cubicBezTo>
                  <a:pt x="20080" y="12378"/>
                  <a:pt x="20015" y="12392"/>
                  <a:pt x="19993" y="12427"/>
                </a:cubicBezTo>
                <a:cubicBezTo>
                  <a:pt x="19952" y="12492"/>
                  <a:pt x="19904" y="12624"/>
                  <a:pt x="19918" y="12700"/>
                </a:cubicBezTo>
                <a:cubicBezTo>
                  <a:pt x="19943" y="12750"/>
                  <a:pt x="19951" y="12766"/>
                  <a:pt x="19968" y="12799"/>
                </a:cubicBezTo>
              </a:path>
              <a:path w="2556" h="1142">
                <a:moveTo>
                  <a:pt x="20067" y="11757"/>
                </a:moveTo>
                <a:cubicBezTo>
                  <a:pt x="20026" y="11757"/>
                  <a:pt x="20101" y="11745"/>
                  <a:pt x="20141" y="11757"/>
                </a:cubicBezTo>
                <a:cubicBezTo>
                  <a:pt x="20205" y="11776"/>
                  <a:pt x="20246" y="11782"/>
                  <a:pt x="20315" y="11782"/>
                </a:cubicBezTo>
                <a:cubicBezTo>
                  <a:pt x="20332" y="11782"/>
                  <a:pt x="20348" y="11782"/>
                  <a:pt x="20365" y="11782"/>
                </a:cubicBezTo>
              </a:path>
              <a:path w="2556" h="1142">
                <a:moveTo>
                  <a:pt x="20662" y="11658"/>
                </a:moveTo>
                <a:cubicBezTo>
                  <a:pt x="20708" y="11658"/>
                  <a:pt x="20727" y="11651"/>
                  <a:pt x="20762" y="11683"/>
                </a:cubicBezTo>
                <a:cubicBezTo>
                  <a:pt x="20804" y="11721"/>
                  <a:pt x="20841" y="11712"/>
                  <a:pt x="20886" y="11757"/>
                </a:cubicBezTo>
                <a:cubicBezTo>
                  <a:pt x="20935" y="11806"/>
                  <a:pt x="20873" y="11844"/>
                  <a:pt x="20836" y="11881"/>
                </a:cubicBezTo>
                <a:cubicBezTo>
                  <a:pt x="20786" y="11930"/>
                  <a:pt x="20762" y="11940"/>
                  <a:pt x="20762" y="12005"/>
                </a:cubicBezTo>
                <a:cubicBezTo>
                  <a:pt x="20834" y="12005"/>
                  <a:pt x="20888" y="12041"/>
                  <a:pt x="20960" y="12030"/>
                </a:cubicBezTo>
                <a:cubicBezTo>
                  <a:pt x="20985" y="12022"/>
                  <a:pt x="21009" y="12013"/>
                  <a:pt x="21034" y="120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89040" y="4813200"/>
            <a:ext cx="590760" cy="517680"/>
          </a:xfrm>
          <a:custGeom>
            <a:avLst/>
            <a:gdLst/>
            <a:ahLst/>
            <a:rect l="l" t="t" r="r" b="b"/>
            <a:pathLst>
              <a:path w="1638" h="1439">
                <a:moveTo>
                  <a:pt x="4514" y="13370"/>
                </a:moveTo>
                <a:cubicBezTo>
                  <a:pt x="4562" y="13449"/>
                  <a:pt x="4509" y="13551"/>
                  <a:pt x="4490" y="13643"/>
                </a:cubicBezTo>
                <a:cubicBezTo>
                  <a:pt x="4458" y="13798"/>
                  <a:pt x="4430" y="13958"/>
                  <a:pt x="4415" y="14114"/>
                </a:cubicBezTo>
                <a:cubicBezTo>
                  <a:pt x="4410" y="14162"/>
                  <a:pt x="4415" y="14214"/>
                  <a:pt x="4415" y="14263"/>
                </a:cubicBezTo>
              </a:path>
              <a:path w="1638" h="1439">
                <a:moveTo>
                  <a:pt x="4862" y="13767"/>
                </a:moveTo>
                <a:cubicBezTo>
                  <a:pt x="4876" y="13780"/>
                  <a:pt x="4813" y="13831"/>
                  <a:pt x="4762" y="13866"/>
                </a:cubicBezTo>
                <a:cubicBezTo>
                  <a:pt x="4711" y="13901"/>
                  <a:pt x="4567" y="14012"/>
                  <a:pt x="4539" y="14064"/>
                </a:cubicBezTo>
                <a:cubicBezTo>
                  <a:pt x="4505" y="14127"/>
                  <a:pt x="4568" y="14169"/>
                  <a:pt x="4614" y="14188"/>
                </a:cubicBezTo>
                <a:cubicBezTo>
                  <a:pt x="4694" y="14221"/>
                  <a:pt x="4783" y="14213"/>
                  <a:pt x="4862" y="14238"/>
                </a:cubicBezTo>
                <a:cubicBezTo>
                  <a:pt x="4878" y="14246"/>
                  <a:pt x="4895" y="14255"/>
                  <a:pt x="4911" y="14263"/>
                </a:cubicBezTo>
              </a:path>
              <a:path w="1638" h="1439">
                <a:moveTo>
                  <a:pt x="5407" y="14039"/>
                </a:moveTo>
                <a:cubicBezTo>
                  <a:pt x="5348" y="14051"/>
                  <a:pt x="5290" y="14064"/>
                  <a:pt x="5234" y="14089"/>
                </a:cubicBezTo>
                <a:cubicBezTo>
                  <a:pt x="5183" y="14112"/>
                  <a:pt x="5171" y="14116"/>
                  <a:pt x="5159" y="14163"/>
                </a:cubicBezTo>
                <a:cubicBezTo>
                  <a:pt x="5217" y="14163"/>
                  <a:pt x="5263" y="14152"/>
                  <a:pt x="5308" y="14188"/>
                </a:cubicBezTo>
                <a:cubicBezTo>
                  <a:pt x="5370" y="14238"/>
                  <a:pt x="5364" y="14267"/>
                  <a:pt x="5333" y="14337"/>
                </a:cubicBezTo>
                <a:cubicBezTo>
                  <a:pt x="5313" y="14383"/>
                  <a:pt x="5293" y="14402"/>
                  <a:pt x="5259" y="14436"/>
                </a:cubicBezTo>
              </a:path>
              <a:path w="1638" h="1439">
                <a:moveTo>
                  <a:pt x="5680" y="14139"/>
                </a:moveTo>
                <a:cubicBezTo>
                  <a:pt x="5696" y="14235"/>
                  <a:pt x="5680" y="14310"/>
                  <a:pt x="5680" y="14412"/>
                </a:cubicBezTo>
                <a:cubicBezTo>
                  <a:pt x="5680" y="14521"/>
                  <a:pt x="5655" y="14622"/>
                  <a:pt x="5655" y="14734"/>
                </a:cubicBezTo>
                <a:cubicBezTo>
                  <a:pt x="5655" y="14767"/>
                  <a:pt x="5655" y="14817"/>
                  <a:pt x="5655" y="14784"/>
                </a:cubicBezTo>
                <a:cubicBezTo>
                  <a:pt x="5641" y="14710"/>
                  <a:pt x="5619" y="14641"/>
                  <a:pt x="5631" y="14560"/>
                </a:cubicBezTo>
                <a:cubicBezTo>
                  <a:pt x="5650" y="14434"/>
                  <a:pt x="5725" y="14288"/>
                  <a:pt x="5804" y="14188"/>
                </a:cubicBezTo>
                <a:cubicBezTo>
                  <a:pt x="5842" y="14140"/>
                  <a:pt x="5962" y="14068"/>
                  <a:pt x="6028" y="14089"/>
                </a:cubicBezTo>
                <a:cubicBezTo>
                  <a:pt x="6036" y="14097"/>
                  <a:pt x="6044" y="14106"/>
                  <a:pt x="6052" y="14114"/>
                </a:cubicBezTo>
                <a:cubicBezTo>
                  <a:pt x="6052" y="14175"/>
                  <a:pt x="6044" y="14214"/>
                  <a:pt x="6003" y="14263"/>
                </a:cubicBezTo>
                <a:cubicBezTo>
                  <a:pt x="5934" y="14346"/>
                  <a:pt x="5853" y="14337"/>
                  <a:pt x="5755" y="14337"/>
                </a:cubicBezTo>
                <a:cubicBezTo>
                  <a:pt x="5747" y="14337"/>
                  <a:pt x="5738" y="14337"/>
                  <a:pt x="5730" y="143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01920" y="4956120"/>
            <a:ext cx="162000" cy="13500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6672" y="13767"/>
                </a:moveTo>
                <a:cubicBezTo>
                  <a:pt x="6755" y="13767"/>
                  <a:pt x="6838" y="13767"/>
                  <a:pt x="6921" y="13767"/>
                </a:cubicBezTo>
              </a:path>
              <a:path w="448" h="373">
                <a:moveTo>
                  <a:pt x="6747" y="14064"/>
                </a:moveTo>
                <a:cubicBezTo>
                  <a:pt x="6755" y="14112"/>
                  <a:pt x="6761" y="14136"/>
                  <a:pt x="6821" y="14139"/>
                </a:cubicBezTo>
                <a:cubicBezTo>
                  <a:pt x="6933" y="14145"/>
                  <a:pt x="7014" y="14124"/>
                  <a:pt x="7119" y="140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3680" y="4813200"/>
            <a:ext cx="376200" cy="295200"/>
          </a:xfrm>
          <a:custGeom>
            <a:avLst/>
            <a:gdLst/>
            <a:ahLst/>
            <a:rect l="l" t="t" r="r" b="b"/>
            <a:pathLst>
              <a:path w="1042" h="819">
                <a:moveTo>
                  <a:pt x="8235" y="13717"/>
                </a:moveTo>
                <a:cubicBezTo>
                  <a:pt x="8189" y="13717"/>
                  <a:pt x="8171" y="13710"/>
                  <a:pt x="8136" y="13742"/>
                </a:cubicBezTo>
                <a:cubicBezTo>
                  <a:pt x="8055" y="13816"/>
                  <a:pt x="7980" y="13905"/>
                  <a:pt x="7913" y="13990"/>
                </a:cubicBezTo>
                <a:cubicBezTo>
                  <a:pt x="7864" y="14053"/>
                  <a:pt x="7804" y="14111"/>
                  <a:pt x="7789" y="14188"/>
                </a:cubicBezTo>
              </a:path>
              <a:path w="1042" h="819">
                <a:moveTo>
                  <a:pt x="7888" y="13816"/>
                </a:moveTo>
                <a:cubicBezTo>
                  <a:pt x="7935" y="13839"/>
                  <a:pt x="7977" y="13914"/>
                  <a:pt x="8012" y="13965"/>
                </a:cubicBezTo>
                <a:cubicBezTo>
                  <a:pt x="8063" y="14039"/>
                  <a:pt x="8122" y="14130"/>
                  <a:pt x="8210" y="14163"/>
                </a:cubicBezTo>
                <a:cubicBezTo>
                  <a:pt x="8218" y="14163"/>
                  <a:pt x="8227" y="14163"/>
                  <a:pt x="8235" y="14163"/>
                </a:cubicBezTo>
              </a:path>
              <a:path w="1042" h="819">
                <a:moveTo>
                  <a:pt x="8434" y="13395"/>
                </a:moveTo>
                <a:cubicBezTo>
                  <a:pt x="8488" y="13371"/>
                  <a:pt x="8545" y="13356"/>
                  <a:pt x="8607" y="13370"/>
                </a:cubicBezTo>
                <a:cubicBezTo>
                  <a:pt x="8666" y="13383"/>
                  <a:pt x="8749" y="13418"/>
                  <a:pt x="8731" y="13494"/>
                </a:cubicBezTo>
                <a:cubicBezTo>
                  <a:pt x="8710" y="13581"/>
                  <a:pt x="8600" y="13642"/>
                  <a:pt x="8558" y="13717"/>
                </a:cubicBezTo>
                <a:cubicBezTo>
                  <a:pt x="8558" y="13742"/>
                  <a:pt x="8558" y="13750"/>
                  <a:pt x="8558" y="13767"/>
                </a:cubicBezTo>
                <a:cubicBezTo>
                  <a:pt x="8657" y="13767"/>
                  <a:pt x="8734" y="13743"/>
                  <a:pt x="8830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73120" y="5295960"/>
            <a:ext cx="5214960" cy="579240"/>
          </a:xfrm>
          <a:custGeom>
            <a:avLst/>
            <a:gdLst/>
            <a:ahLst/>
            <a:rect l="l" t="t" r="r" b="b"/>
            <a:pathLst>
              <a:path w="14487" h="1613">
                <a:moveTo>
                  <a:pt x="4762" y="15304"/>
                </a:moveTo>
                <a:cubicBezTo>
                  <a:pt x="4762" y="15250"/>
                  <a:pt x="4783" y="15209"/>
                  <a:pt x="4837" y="15180"/>
                </a:cubicBezTo>
                <a:cubicBezTo>
                  <a:pt x="4914" y="15138"/>
                  <a:pt x="5000" y="15131"/>
                  <a:pt x="5085" y="15131"/>
                </a:cubicBezTo>
                <a:cubicBezTo>
                  <a:pt x="5128" y="15258"/>
                  <a:pt x="5079" y="15336"/>
                  <a:pt x="5011" y="15453"/>
                </a:cubicBezTo>
                <a:cubicBezTo>
                  <a:pt x="4968" y="15527"/>
                  <a:pt x="4890" y="15579"/>
                  <a:pt x="4862" y="15652"/>
                </a:cubicBezTo>
                <a:cubicBezTo>
                  <a:pt x="4924" y="15602"/>
                  <a:pt x="4980" y="15581"/>
                  <a:pt x="5060" y="15577"/>
                </a:cubicBezTo>
                <a:cubicBezTo>
                  <a:pt x="5117" y="15574"/>
                  <a:pt x="5139" y="15575"/>
                  <a:pt x="5184" y="15602"/>
                </a:cubicBezTo>
                <a:cubicBezTo>
                  <a:pt x="5172" y="15694"/>
                  <a:pt x="5122" y="15752"/>
                  <a:pt x="5060" y="15825"/>
                </a:cubicBezTo>
                <a:cubicBezTo>
                  <a:pt x="5019" y="15873"/>
                  <a:pt x="4956" y="15952"/>
                  <a:pt x="4911" y="15974"/>
                </a:cubicBezTo>
              </a:path>
              <a:path w="14487" h="1613">
                <a:moveTo>
                  <a:pt x="5383" y="15751"/>
                </a:moveTo>
                <a:cubicBezTo>
                  <a:pt x="5376" y="15829"/>
                  <a:pt x="5348" y="15876"/>
                  <a:pt x="5333" y="15949"/>
                </a:cubicBezTo>
              </a:path>
              <a:path w="14487" h="1613">
                <a:moveTo>
                  <a:pt x="5904" y="15354"/>
                </a:moveTo>
                <a:cubicBezTo>
                  <a:pt x="5911" y="15332"/>
                  <a:pt x="5942" y="15309"/>
                  <a:pt x="5978" y="15329"/>
                </a:cubicBezTo>
                <a:cubicBezTo>
                  <a:pt x="6046" y="15367"/>
                  <a:pt x="6028" y="15437"/>
                  <a:pt x="6028" y="15503"/>
                </a:cubicBezTo>
                <a:cubicBezTo>
                  <a:pt x="6028" y="15601"/>
                  <a:pt x="5970" y="15686"/>
                  <a:pt x="5928" y="15776"/>
                </a:cubicBezTo>
                <a:cubicBezTo>
                  <a:pt x="5902" y="15831"/>
                  <a:pt x="5886" y="15878"/>
                  <a:pt x="5928" y="15925"/>
                </a:cubicBezTo>
                <a:cubicBezTo>
                  <a:pt x="5964" y="15965"/>
                  <a:pt x="6027" y="15949"/>
                  <a:pt x="6077" y="15949"/>
                </a:cubicBezTo>
                <a:cubicBezTo>
                  <a:pt x="6110" y="15949"/>
                  <a:pt x="6143" y="15949"/>
                  <a:pt x="6176" y="15949"/>
                </a:cubicBezTo>
              </a:path>
              <a:path w="14487" h="1613">
                <a:moveTo>
                  <a:pt x="6524" y="15677"/>
                </a:moveTo>
                <a:cubicBezTo>
                  <a:pt x="6562" y="15728"/>
                  <a:pt x="6530" y="15741"/>
                  <a:pt x="6548" y="15801"/>
                </a:cubicBezTo>
                <a:cubicBezTo>
                  <a:pt x="6559" y="15838"/>
                  <a:pt x="6609" y="15960"/>
                  <a:pt x="6648" y="15974"/>
                </a:cubicBezTo>
                <a:cubicBezTo>
                  <a:pt x="6719" y="16000"/>
                  <a:pt x="6780" y="15916"/>
                  <a:pt x="6821" y="15875"/>
                </a:cubicBezTo>
              </a:path>
              <a:path w="14487" h="1613">
                <a:moveTo>
                  <a:pt x="6598" y="15751"/>
                </a:moveTo>
                <a:cubicBezTo>
                  <a:pt x="6515" y="15787"/>
                  <a:pt x="6517" y="15789"/>
                  <a:pt x="6598" y="15751"/>
                </a:cubicBezTo>
                <a:cubicBezTo>
                  <a:pt x="6666" y="15719"/>
                  <a:pt x="6713" y="15697"/>
                  <a:pt x="6772" y="15652"/>
                </a:cubicBezTo>
              </a:path>
              <a:path w="14487" h="1613">
                <a:moveTo>
                  <a:pt x="6648" y="15478"/>
                </a:moveTo>
                <a:cubicBezTo>
                  <a:pt x="6596" y="15478"/>
                  <a:pt x="6696" y="15440"/>
                  <a:pt x="6722" y="15429"/>
                </a:cubicBezTo>
                <a:cubicBezTo>
                  <a:pt x="6809" y="15394"/>
                  <a:pt x="6881" y="15359"/>
                  <a:pt x="6970" y="15329"/>
                </a:cubicBezTo>
              </a:path>
              <a:path w="14487" h="1613">
                <a:moveTo>
                  <a:pt x="7169" y="15726"/>
                </a:moveTo>
                <a:cubicBezTo>
                  <a:pt x="7206" y="15755"/>
                  <a:pt x="7220" y="15751"/>
                  <a:pt x="7268" y="15751"/>
                </a:cubicBezTo>
                <a:cubicBezTo>
                  <a:pt x="7328" y="15751"/>
                  <a:pt x="7414" y="15732"/>
                  <a:pt x="7466" y="15701"/>
                </a:cubicBezTo>
                <a:cubicBezTo>
                  <a:pt x="7474" y="15693"/>
                  <a:pt x="7483" y="15685"/>
                  <a:pt x="7491" y="15677"/>
                </a:cubicBezTo>
              </a:path>
              <a:path w="14487" h="1613">
                <a:moveTo>
                  <a:pt x="7590" y="15329"/>
                </a:moveTo>
                <a:cubicBezTo>
                  <a:pt x="7623" y="15354"/>
                  <a:pt x="7667" y="15368"/>
                  <a:pt x="7714" y="15354"/>
                </a:cubicBezTo>
                <a:cubicBezTo>
                  <a:pt x="7815" y="15324"/>
                  <a:pt x="7907" y="15263"/>
                  <a:pt x="8012" y="15255"/>
                </a:cubicBezTo>
                <a:cubicBezTo>
                  <a:pt x="8020" y="15255"/>
                  <a:pt x="8029" y="15255"/>
                  <a:pt x="8037" y="15255"/>
                </a:cubicBezTo>
                <a:cubicBezTo>
                  <a:pt x="8037" y="15342"/>
                  <a:pt x="8020" y="15420"/>
                  <a:pt x="8012" y="15503"/>
                </a:cubicBezTo>
                <a:cubicBezTo>
                  <a:pt x="7999" y="15637"/>
                  <a:pt x="7967" y="15766"/>
                  <a:pt x="7962" y="15900"/>
                </a:cubicBezTo>
                <a:cubicBezTo>
                  <a:pt x="7960" y="15941"/>
                  <a:pt x="7962" y="15983"/>
                  <a:pt x="7962" y="16024"/>
                </a:cubicBezTo>
              </a:path>
              <a:path w="14487" h="1613">
                <a:moveTo>
                  <a:pt x="4093" y="15900"/>
                </a:moveTo>
                <a:cubicBezTo>
                  <a:pt x="4106" y="15997"/>
                  <a:pt x="4093" y="16190"/>
                  <a:pt x="4167" y="16272"/>
                </a:cubicBezTo>
                <a:cubicBezTo>
                  <a:pt x="4231" y="16343"/>
                  <a:pt x="4312" y="16334"/>
                  <a:pt x="4366" y="16247"/>
                </a:cubicBezTo>
                <a:cubicBezTo>
                  <a:pt x="4425" y="16151"/>
                  <a:pt x="4430" y="15983"/>
                  <a:pt x="4415" y="15875"/>
                </a:cubicBezTo>
                <a:cubicBezTo>
                  <a:pt x="4398" y="15751"/>
                  <a:pt x="4330" y="15608"/>
                  <a:pt x="4266" y="15503"/>
                </a:cubicBezTo>
                <a:cubicBezTo>
                  <a:pt x="4249" y="15476"/>
                  <a:pt x="4141" y="15336"/>
                  <a:pt x="4142" y="15304"/>
                </a:cubicBezTo>
                <a:cubicBezTo>
                  <a:pt x="4144" y="15223"/>
                  <a:pt x="4158" y="15216"/>
                  <a:pt x="4217" y="15156"/>
                </a:cubicBezTo>
                <a:cubicBezTo>
                  <a:pt x="4308" y="15065"/>
                  <a:pt x="4444" y="15018"/>
                  <a:pt x="4564" y="14982"/>
                </a:cubicBezTo>
                <a:cubicBezTo>
                  <a:pt x="4679" y="14947"/>
                  <a:pt x="4796" y="14918"/>
                  <a:pt x="4911" y="14883"/>
                </a:cubicBezTo>
                <a:cubicBezTo>
                  <a:pt x="5052" y="14840"/>
                  <a:pt x="5187" y="14799"/>
                  <a:pt x="5333" y="14784"/>
                </a:cubicBezTo>
                <a:cubicBezTo>
                  <a:pt x="5656" y="14752"/>
                  <a:pt x="6006" y="14783"/>
                  <a:pt x="6325" y="14808"/>
                </a:cubicBezTo>
                <a:cubicBezTo>
                  <a:pt x="6474" y="14820"/>
                  <a:pt x="6624" y="14847"/>
                  <a:pt x="6772" y="14858"/>
                </a:cubicBezTo>
                <a:cubicBezTo>
                  <a:pt x="6960" y="14872"/>
                  <a:pt x="7152" y="14900"/>
                  <a:pt x="7342" y="14883"/>
                </a:cubicBezTo>
                <a:cubicBezTo>
                  <a:pt x="7662" y="14855"/>
                  <a:pt x="8023" y="14806"/>
                  <a:pt x="8334" y="14734"/>
                </a:cubicBezTo>
                <a:cubicBezTo>
                  <a:pt x="8376" y="14734"/>
                  <a:pt x="8392" y="14742"/>
                  <a:pt x="8384" y="14709"/>
                </a:cubicBezTo>
              </a:path>
              <a:path w="14487" h="1613">
                <a:moveTo>
                  <a:pt x="8830" y="15354"/>
                </a:moveTo>
                <a:cubicBezTo>
                  <a:pt x="8877" y="15389"/>
                  <a:pt x="8917" y="15379"/>
                  <a:pt x="8979" y="15379"/>
                </a:cubicBezTo>
                <a:cubicBezTo>
                  <a:pt x="9066" y="15379"/>
                  <a:pt x="9139" y="15354"/>
                  <a:pt x="9227" y="15354"/>
                </a:cubicBezTo>
              </a:path>
              <a:path w="14487" h="1613">
                <a:moveTo>
                  <a:pt x="8830" y="15726"/>
                </a:moveTo>
                <a:cubicBezTo>
                  <a:pt x="8951" y="15726"/>
                  <a:pt x="9060" y="15713"/>
                  <a:pt x="9178" y="15701"/>
                </a:cubicBezTo>
                <a:cubicBezTo>
                  <a:pt x="9264" y="15701"/>
                  <a:pt x="9300" y="15696"/>
                  <a:pt x="9351" y="15652"/>
                </a:cubicBezTo>
              </a:path>
              <a:path w="14487" h="1613">
                <a:moveTo>
                  <a:pt x="10492" y="15329"/>
                </a:moveTo>
                <a:cubicBezTo>
                  <a:pt x="10457" y="15393"/>
                  <a:pt x="10397" y="15480"/>
                  <a:pt x="10344" y="15528"/>
                </a:cubicBezTo>
                <a:cubicBezTo>
                  <a:pt x="10273" y="15592"/>
                  <a:pt x="10214" y="15657"/>
                  <a:pt x="10145" y="15726"/>
                </a:cubicBezTo>
              </a:path>
              <a:path w="14487" h="1613">
                <a:moveTo>
                  <a:pt x="10096" y="15280"/>
                </a:moveTo>
                <a:cubicBezTo>
                  <a:pt x="10106" y="15400"/>
                  <a:pt x="10139" y="15482"/>
                  <a:pt x="10220" y="15577"/>
                </a:cubicBezTo>
                <a:cubicBezTo>
                  <a:pt x="10290" y="15659"/>
                  <a:pt x="10408" y="15756"/>
                  <a:pt x="10517" y="15776"/>
                </a:cubicBezTo>
                <a:cubicBezTo>
                  <a:pt x="10592" y="15776"/>
                  <a:pt x="10616" y="15776"/>
                  <a:pt x="10666" y="15776"/>
                </a:cubicBezTo>
              </a:path>
              <a:path w="14487" h="1613">
                <a:moveTo>
                  <a:pt x="11038" y="15503"/>
                </a:moveTo>
                <a:cubicBezTo>
                  <a:pt x="11135" y="15539"/>
                  <a:pt x="11231" y="15528"/>
                  <a:pt x="11336" y="15528"/>
                </a:cubicBezTo>
                <a:cubicBezTo>
                  <a:pt x="11452" y="15528"/>
                  <a:pt x="11485" y="15528"/>
                  <a:pt x="11559" y="15528"/>
                </a:cubicBezTo>
              </a:path>
              <a:path w="14487" h="1613">
                <a:moveTo>
                  <a:pt x="11385" y="15825"/>
                </a:moveTo>
                <a:cubicBezTo>
                  <a:pt x="11529" y="15825"/>
                  <a:pt x="11665" y="15812"/>
                  <a:pt x="11807" y="15801"/>
                </a:cubicBezTo>
                <a:cubicBezTo>
                  <a:pt x="11906" y="15801"/>
                  <a:pt x="11939" y="15801"/>
                  <a:pt x="12005" y="15801"/>
                </a:cubicBezTo>
              </a:path>
              <a:path w="14487" h="1613">
                <a:moveTo>
                  <a:pt x="13221" y="15131"/>
                </a:moveTo>
                <a:cubicBezTo>
                  <a:pt x="13249" y="15140"/>
                  <a:pt x="13279" y="15174"/>
                  <a:pt x="13320" y="15180"/>
                </a:cubicBezTo>
                <a:cubicBezTo>
                  <a:pt x="13431" y="15196"/>
                  <a:pt x="13555" y="15180"/>
                  <a:pt x="13667" y="15180"/>
                </a:cubicBezTo>
              </a:path>
              <a:path w="14487" h="1613">
                <a:moveTo>
                  <a:pt x="13295" y="15180"/>
                </a:moveTo>
                <a:cubicBezTo>
                  <a:pt x="13182" y="15227"/>
                  <a:pt x="13119" y="15243"/>
                  <a:pt x="13047" y="15329"/>
                </a:cubicBezTo>
                <a:cubicBezTo>
                  <a:pt x="13023" y="15358"/>
                  <a:pt x="13004" y="15436"/>
                  <a:pt x="13022" y="15478"/>
                </a:cubicBezTo>
                <a:cubicBezTo>
                  <a:pt x="13046" y="15535"/>
                  <a:pt x="13124" y="15532"/>
                  <a:pt x="13171" y="15553"/>
                </a:cubicBezTo>
                <a:cubicBezTo>
                  <a:pt x="13218" y="15574"/>
                  <a:pt x="13284" y="15575"/>
                  <a:pt x="13295" y="15627"/>
                </a:cubicBezTo>
                <a:cubicBezTo>
                  <a:pt x="13309" y="15691"/>
                  <a:pt x="13205" y="15711"/>
                  <a:pt x="13171" y="15726"/>
                </a:cubicBezTo>
                <a:cubicBezTo>
                  <a:pt x="13091" y="15762"/>
                  <a:pt x="13035" y="15776"/>
                  <a:pt x="12948" y="15776"/>
                </a:cubicBezTo>
              </a:path>
              <a:path w="14487" h="1613">
                <a:moveTo>
                  <a:pt x="13618" y="15726"/>
                </a:moveTo>
                <a:cubicBezTo>
                  <a:pt x="13618" y="15782"/>
                  <a:pt x="13633" y="15788"/>
                  <a:pt x="13593" y="15801"/>
                </a:cubicBezTo>
              </a:path>
              <a:path w="14487" h="1613">
                <a:moveTo>
                  <a:pt x="14337" y="15280"/>
                </a:moveTo>
                <a:cubicBezTo>
                  <a:pt x="14273" y="15312"/>
                  <a:pt x="14266" y="15406"/>
                  <a:pt x="14238" y="15478"/>
                </a:cubicBezTo>
                <a:cubicBezTo>
                  <a:pt x="14210" y="15552"/>
                  <a:pt x="14137" y="15764"/>
                  <a:pt x="14188" y="15850"/>
                </a:cubicBezTo>
                <a:cubicBezTo>
                  <a:pt x="14228" y="15917"/>
                  <a:pt x="14334" y="15899"/>
                  <a:pt x="14387" y="15875"/>
                </a:cubicBezTo>
                <a:cubicBezTo>
                  <a:pt x="14435" y="15853"/>
                  <a:pt x="14493" y="15815"/>
                  <a:pt x="14461" y="15751"/>
                </a:cubicBezTo>
                <a:cubicBezTo>
                  <a:pt x="14434" y="15697"/>
                  <a:pt x="14325" y="15724"/>
                  <a:pt x="14288" y="15751"/>
                </a:cubicBezTo>
                <a:cubicBezTo>
                  <a:pt x="14281" y="15756"/>
                  <a:pt x="14148" y="15878"/>
                  <a:pt x="14188" y="15900"/>
                </a:cubicBezTo>
                <a:cubicBezTo>
                  <a:pt x="14205" y="15900"/>
                  <a:pt x="14221" y="15900"/>
                  <a:pt x="14238" y="15900"/>
                </a:cubicBezTo>
              </a:path>
              <a:path w="14487" h="1613">
                <a:moveTo>
                  <a:pt x="14833" y="15354"/>
                </a:moveTo>
                <a:cubicBezTo>
                  <a:pt x="14847" y="15396"/>
                  <a:pt x="14910" y="15370"/>
                  <a:pt x="14957" y="15354"/>
                </a:cubicBezTo>
                <a:cubicBezTo>
                  <a:pt x="14991" y="15342"/>
                  <a:pt x="15111" y="15289"/>
                  <a:pt x="15131" y="15354"/>
                </a:cubicBezTo>
                <a:cubicBezTo>
                  <a:pt x="15160" y="15448"/>
                  <a:pt x="15096" y="15527"/>
                  <a:pt x="15056" y="15602"/>
                </a:cubicBezTo>
                <a:cubicBezTo>
                  <a:pt x="15008" y="15692"/>
                  <a:pt x="14960" y="15802"/>
                  <a:pt x="14932" y="15900"/>
                </a:cubicBezTo>
                <a:cubicBezTo>
                  <a:pt x="14932" y="15928"/>
                  <a:pt x="14934" y="15939"/>
                  <a:pt x="14957" y="15949"/>
                </a:cubicBezTo>
              </a:path>
              <a:path w="14487" h="1613">
                <a:moveTo>
                  <a:pt x="15528" y="15553"/>
                </a:moveTo>
                <a:cubicBezTo>
                  <a:pt x="15493" y="15598"/>
                  <a:pt x="15381" y="15701"/>
                  <a:pt x="15404" y="15776"/>
                </a:cubicBezTo>
                <a:cubicBezTo>
                  <a:pt x="15431" y="15864"/>
                  <a:pt x="15534" y="15850"/>
                  <a:pt x="15602" y="15850"/>
                </a:cubicBezTo>
                <a:cubicBezTo>
                  <a:pt x="15670" y="15850"/>
                  <a:pt x="15689" y="15853"/>
                  <a:pt x="15726" y="15825"/>
                </a:cubicBezTo>
              </a:path>
              <a:path w="14487" h="1613">
                <a:moveTo>
                  <a:pt x="15503" y="15701"/>
                </a:moveTo>
                <a:cubicBezTo>
                  <a:pt x="15478" y="15701"/>
                  <a:pt x="15454" y="15701"/>
                  <a:pt x="15429" y="15701"/>
                </a:cubicBezTo>
                <a:cubicBezTo>
                  <a:pt x="15502" y="15687"/>
                  <a:pt x="15579" y="15652"/>
                  <a:pt x="15652" y="15627"/>
                </a:cubicBezTo>
                <a:cubicBezTo>
                  <a:pt x="15677" y="15619"/>
                  <a:pt x="15701" y="15610"/>
                  <a:pt x="15726" y="15602"/>
                </a:cubicBezTo>
              </a:path>
              <a:path w="14487" h="1613">
                <a:moveTo>
                  <a:pt x="15577" y="15429"/>
                </a:moveTo>
                <a:cubicBezTo>
                  <a:pt x="15561" y="15437"/>
                  <a:pt x="15544" y="15445"/>
                  <a:pt x="15528" y="15453"/>
                </a:cubicBezTo>
                <a:cubicBezTo>
                  <a:pt x="15591" y="15453"/>
                  <a:pt x="15666" y="15442"/>
                  <a:pt x="15726" y="15429"/>
                </a:cubicBezTo>
                <a:cubicBezTo>
                  <a:pt x="15803" y="15412"/>
                  <a:pt x="15873" y="15398"/>
                  <a:pt x="15949" y="15379"/>
                </a:cubicBezTo>
              </a:path>
              <a:path w="14487" h="1613">
                <a:moveTo>
                  <a:pt x="16173" y="15652"/>
                </a:moveTo>
                <a:cubicBezTo>
                  <a:pt x="16305" y="15652"/>
                  <a:pt x="16438" y="15652"/>
                  <a:pt x="16570" y="15652"/>
                </a:cubicBezTo>
              </a:path>
              <a:path w="14487" h="1613">
                <a:moveTo>
                  <a:pt x="16991" y="15354"/>
                </a:moveTo>
                <a:cubicBezTo>
                  <a:pt x="16957" y="15365"/>
                  <a:pt x="16940" y="15409"/>
                  <a:pt x="16917" y="15453"/>
                </a:cubicBezTo>
                <a:cubicBezTo>
                  <a:pt x="16887" y="15509"/>
                  <a:pt x="16876" y="15551"/>
                  <a:pt x="16917" y="15602"/>
                </a:cubicBezTo>
                <a:cubicBezTo>
                  <a:pt x="16973" y="15672"/>
                  <a:pt x="17060" y="15652"/>
                  <a:pt x="17140" y="15652"/>
                </a:cubicBezTo>
                <a:cubicBezTo>
                  <a:pt x="17216" y="15652"/>
                  <a:pt x="17242" y="15651"/>
                  <a:pt x="17289" y="15627"/>
                </a:cubicBezTo>
              </a:path>
              <a:path w="14487" h="1613">
                <a:moveTo>
                  <a:pt x="17388" y="15304"/>
                </a:moveTo>
                <a:cubicBezTo>
                  <a:pt x="17330" y="15345"/>
                  <a:pt x="17243" y="15410"/>
                  <a:pt x="17214" y="15478"/>
                </a:cubicBezTo>
                <a:cubicBezTo>
                  <a:pt x="17169" y="15582"/>
                  <a:pt x="17130" y="15738"/>
                  <a:pt x="17115" y="15850"/>
                </a:cubicBezTo>
                <a:cubicBezTo>
                  <a:pt x="17115" y="15918"/>
                  <a:pt x="17112" y="15937"/>
                  <a:pt x="17140" y="15974"/>
                </a:cubicBezTo>
              </a:path>
              <a:path w="14487" h="1613">
                <a:moveTo>
                  <a:pt x="17983" y="15404"/>
                </a:moveTo>
                <a:cubicBezTo>
                  <a:pt x="17940" y="15480"/>
                  <a:pt x="17906" y="15552"/>
                  <a:pt x="17859" y="15627"/>
                </a:cubicBezTo>
                <a:cubicBezTo>
                  <a:pt x="17813" y="15700"/>
                  <a:pt x="17761" y="15791"/>
                  <a:pt x="17735" y="15875"/>
                </a:cubicBezTo>
                <a:cubicBezTo>
                  <a:pt x="17735" y="15883"/>
                  <a:pt x="17735" y="15892"/>
                  <a:pt x="17735" y="15900"/>
                </a:cubicBezTo>
                <a:cubicBezTo>
                  <a:pt x="17815" y="15880"/>
                  <a:pt x="17821" y="15817"/>
                  <a:pt x="17859" y="15751"/>
                </a:cubicBezTo>
                <a:cubicBezTo>
                  <a:pt x="17918" y="15650"/>
                  <a:pt x="17977" y="15555"/>
                  <a:pt x="18033" y="15453"/>
                </a:cubicBezTo>
                <a:cubicBezTo>
                  <a:pt x="18060" y="15403"/>
                  <a:pt x="18058" y="15392"/>
                  <a:pt x="18107" y="15379"/>
                </a:cubicBezTo>
                <a:cubicBezTo>
                  <a:pt x="18107" y="15486"/>
                  <a:pt x="18072" y="15669"/>
                  <a:pt x="18132" y="15751"/>
                </a:cubicBezTo>
                <a:cubicBezTo>
                  <a:pt x="18140" y="15759"/>
                  <a:pt x="18149" y="15768"/>
                  <a:pt x="18157" y="15776"/>
                </a:cubicBezTo>
                <a:cubicBezTo>
                  <a:pt x="18242" y="15776"/>
                  <a:pt x="18266" y="15739"/>
                  <a:pt x="18331" y="15677"/>
                </a:cubicBezTo>
                <a:cubicBezTo>
                  <a:pt x="18394" y="15617"/>
                  <a:pt x="18481" y="15516"/>
                  <a:pt x="18504" y="15429"/>
                </a:cubicBezTo>
                <a:cubicBezTo>
                  <a:pt x="18512" y="15397"/>
                  <a:pt x="18504" y="15346"/>
                  <a:pt x="18504" y="15379"/>
                </a:cubicBezTo>
                <a:cubicBezTo>
                  <a:pt x="18504" y="15541"/>
                  <a:pt x="18481" y="15719"/>
                  <a:pt x="18529" y="15875"/>
                </a:cubicBezTo>
                <a:cubicBezTo>
                  <a:pt x="18554" y="15925"/>
                  <a:pt x="18562" y="15941"/>
                  <a:pt x="18579" y="159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51200" y="3490920"/>
            <a:ext cx="1330560" cy="46080"/>
          </a:xfrm>
          <a:custGeom>
            <a:avLst/>
            <a:gdLst/>
            <a:ahLst/>
            <a:rect l="l" t="t" r="r" b="b"/>
            <a:pathLst>
              <a:path w="3697" h="125">
                <a:moveTo>
                  <a:pt x="10418" y="9823"/>
                </a:moveTo>
                <a:cubicBezTo>
                  <a:pt x="10438" y="9805"/>
                  <a:pt x="10452" y="9790"/>
                  <a:pt x="10492" y="9773"/>
                </a:cubicBezTo>
                <a:cubicBezTo>
                  <a:pt x="10556" y="9747"/>
                  <a:pt x="10614" y="9750"/>
                  <a:pt x="10691" y="9748"/>
                </a:cubicBezTo>
                <a:cubicBezTo>
                  <a:pt x="11040" y="9737"/>
                  <a:pt x="11390" y="9754"/>
                  <a:pt x="11733" y="9723"/>
                </a:cubicBezTo>
                <a:cubicBezTo>
                  <a:pt x="11849" y="9712"/>
                  <a:pt x="11965" y="9710"/>
                  <a:pt x="12080" y="9699"/>
                </a:cubicBezTo>
                <a:cubicBezTo>
                  <a:pt x="12292" y="9678"/>
                  <a:pt x="12520" y="9703"/>
                  <a:pt x="12725" y="9723"/>
                </a:cubicBezTo>
                <a:cubicBezTo>
                  <a:pt x="12815" y="9732"/>
                  <a:pt x="12911" y="9741"/>
                  <a:pt x="12998" y="9748"/>
                </a:cubicBezTo>
                <a:cubicBezTo>
                  <a:pt x="13089" y="9755"/>
                  <a:pt x="13160" y="9732"/>
                  <a:pt x="13246" y="9723"/>
                </a:cubicBezTo>
                <a:cubicBezTo>
                  <a:pt x="13374" y="9710"/>
                  <a:pt x="13499" y="9737"/>
                  <a:pt x="13618" y="9748"/>
                </a:cubicBezTo>
                <a:cubicBezTo>
                  <a:pt x="13691" y="9755"/>
                  <a:pt x="13774" y="9768"/>
                  <a:pt x="13841" y="9773"/>
                </a:cubicBezTo>
                <a:cubicBezTo>
                  <a:pt x="13937" y="9781"/>
                  <a:pt x="14054" y="9780"/>
                  <a:pt x="14114" y="97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17T17:44:54Z</dcterms:created>
  <dc:creator/>
  <dc:description/>
  <cp:keywords/>
  <dc:language>en-US</dc:language>
  <cp:lastModifiedBy>FPS</cp:lastModifiedBy>
  <dcterms:modified xsi:type="dcterms:W3CDTF">2009-01-05T14:44:37Z</dcterms:modified>
  <cp:revision>15</cp:revision>
  <dc:subject/>
  <dc:title>Chapter 15</dc:title>
</cp:coreProperties>
</file>